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23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27.jpeg" ContentType="image/jpeg"/>
  <Override PartName="/ppt/media/image26.jpeg" ContentType="image/jpeg"/>
  <Override PartName="/ppt/media/image24.jpeg" ContentType="image/jpeg"/>
  <Override PartName="/ppt/media/image21.jpeg" ContentType="image/jpeg"/>
  <Override PartName="/ppt/media/image19.png" ContentType="image/png"/>
  <Override PartName="/ppt/media/image20.jpeg" ContentType="image/jpeg"/>
  <Override PartName="/ppt/media/image28.jpeg" ContentType="image/jpeg"/>
  <Override PartName="/ppt/media/image18.png" ContentType="image/png"/>
  <Override PartName="/ppt/media/image16.jpeg" ContentType="image/jpeg"/>
  <Override PartName="/ppt/media/image12.png" ContentType="image/png"/>
  <Override PartName="/ppt/media/image5.png" ContentType="image/png"/>
  <Override PartName="/ppt/media/image29.jpeg" ContentType="image/jpeg"/>
  <Override PartName="/ppt/media/image11.jpeg" ContentType="image/jpeg"/>
  <Override PartName="/ppt/media/image8.jpeg" ContentType="image/jpeg"/>
  <Override PartName="/ppt/media/image38.png" ContentType="image/png"/>
  <Override PartName="/ppt/media/image36.jpeg" ContentType="image/jpeg"/>
  <Override PartName="/ppt/media/image30.jpeg" ContentType="image/jpeg"/>
  <Override PartName="/ppt/media/image31.jpeg" ContentType="image/jpeg"/>
  <Override PartName="/ppt/media/image2.png" ContentType="image/png"/>
  <Override PartName="/ppt/media/image25.png" ContentType="image/png"/>
  <Override PartName="/ppt/media/image32.jpeg" ContentType="image/jpeg"/>
  <Override PartName="/ppt/media/image33.jpeg" ContentType="image/jpeg"/>
  <Override PartName="/ppt/media/image37.jpeg" ContentType="image/jpeg"/>
  <Override PartName="/ppt/media/image34.jpeg" ContentType="image/jpeg"/>
  <Override PartName="/ppt/media/image7.png" ContentType="image/png"/>
  <Override PartName="/ppt/media/image35.jpeg" ContentType="image/jpeg"/>
  <Override PartName="/ppt/media/image1.jpeg" ContentType="image/jpeg"/>
  <Override PartName="/ppt/media/image22.jpeg" ContentType="image/jpeg"/>
  <Override PartName="/ppt/media/image9.png" ContentType="image/png"/>
  <Override PartName="/ppt/media/image6.png" ContentType="image/png"/>
  <Override PartName="/ppt/media/image13.jpeg" ContentType="image/jpeg"/>
  <Override PartName="/ppt/media/image23.png" ContentType="image/png"/>
  <Override PartName="/ppt/media/image4.png" ContentType="image/png"/>
  <Override PartName="/ppt/media/image3.png" ContentType="image/png"/>
  <Override PartName="/ppt/media/image17.jpeg" ContentType="image/jpeg"/>
  <Override PartName="/ppt/media/image10.jpeg" ContentType="image/jpeg"/>
  <Override PartName="/ppt/media/image14.png" ContentType="image/png"/>
  <Override PartName="/ppt/media/image1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move the slide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42ACE-A23B-4B56-9B7E-1DE59BE7CD8E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EA8A9-5742-4434-9AA6-F565DDBF7A3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DAB5C-F248-4741-9995-36C088BB409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A9C73-96DC-4CE7-847E-41E1E3BCA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70EBB-B4EF-41B2-A3B2-C0E894F89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CBE5D-0608-4A6A-B645-7A478771C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A52DB-44A9-41FE-8949-A27B364CC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A6A0B-71A3-42B7-935B-EF1B888DB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81A77-69D5-4A9B-BB76-333A1FB0E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A9567-C76A-4993-B9F1-3083491F2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B857D-B854-4491-BAE1-68B760652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218A9-E042-4B7C-B394-918B35337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1A2A0-7937-4565-969E-DE3870713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6BFC1-CEC5-4AA2-9E6D-BFF451B0E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888BA-B2B8-40A8-AAEF-FF74C75C1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E93F3-DF2D-4AD3-845B-50CCEC5B3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C1834-F814-4996-BB6B-A9CA87389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0533E-E2D1-4AC6-A98D-F4581705A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F2B0F-6AC4-4C6C-A3AB-7B340B4D3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5BACD-B8B9-4CE4-9479-4CDD2A9B8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1D8268-A368-4978-85ED-AE173F254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2049DB-5504-42BB-A7F8-C4B1BE538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8C2A8D-D4FB-418E-B926-DC6569A43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08244E-F011-491E-9E28-6BA875C15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442D74-4A99-4605-AD60-729B14C47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B5B1A-9DD4-4084-B090-92B4C699D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18B78F-1D9F-4876-AD27-307BB5386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CCAB77-AE95-4389-B981-BB32D3C12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4E6702-A1BB-429A-860E-4B4F862ED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BBCCC3-5BCB-44FD-A338-FC96C5495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6F4264-8522-46D3-BCF1-B51E9DD43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950C69-CB7A-4925-A202-5658F2003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652A9C-A1D8-404C-9373-64BA54A0B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0D8E5C-1763-4E6F-9A81-54D94D4D4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5F4600-C4B0-45D1-AD6F-D3B43BCA7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698F42-D844-4E9C-8085-8C0216652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F3FA7-F38C-433B-B02F-73E695158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089106-80B4-406F-9AB1-719DE274F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60C5AE-FE25-4AC1-BD19-15DC6F564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58EAE4-D153-4D27-B9C1-AF199F57E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EAD43F-1304-4163-B0D3-11ECF0A79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FAB288-C77E-4798-A508-FDF59A41D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5BBDBD-49BE-4210-B019-0D350B251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1458CE-0583-4B24-90F2-4294BB801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9C84EE-D028-49EC-813C-B49E8CA80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E8CFE2-55CE-4CAD-9E9D-4E48DC1B5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D6E682-F0FB-47D5-8F1F-F0398E6C4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ED0CE-59DA-4525-A2B9-906A2808C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923977-BA31-4BBE-9E27-892E7F596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7629A8-A4E0-4175-830E-7885CF2AC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94D6A0-FD45-483E-8DDD-54C72D77E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EA1D82-6B35-4331-82C4-D0A50976B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CF3890-1235-4460-9758-D471231AF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823357-B2A3-4A30-A9B1-56F34BD7A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F7B136-D4D8-493A-B007-87AFBC6EE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A4C2DF-7880-4FD6-A546-6A1BC7252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999CDF-ECBE-48F4-A4EF-A0A5BDF92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8EC92B-CB57-4D60-B7E5-8C013954F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26242-C992-4CDC-BF15-3A6B6E586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8B01E6-C1BA-48E4-BEBB-EEA01F75C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79273D-364D-440F-BDD7-1686D31CA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009301-4FDC-410F-9A6C-390ADC012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FEA2FA-5264-49A1-98A7-D78FBC9E9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212CF5-D61A-401F-8599-563C93B50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1A93AB-B592-4B9A-A346-3592DD31F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607A87-C2FC-40B0-9BB3-B74538FF5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52733F-F7B8-409B-983A-FA2D97856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2FBD17-0CDC-4BB7-B916-91B5422CF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301473-1B54-4DF1-BC73-7679B173A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8E8CC-69F8-41EE-9F31-95C0AE769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980E55-D541-4AE2-94C8-60AF92C19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714DCE-1644-49AE-AD69-586D3C90D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412429-0E33-48A8-BDEB-7BABB062F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C63805-0D3A-4FFB-A70C-B1AD02916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A6206A-BD5B-4823-85DD-D1BA527B6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D000C3-3790-49AB-8E56-B14B6C2D2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A11CF8-2FED-4ED9-9269-09EFA4786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95639B-24C5-451E-BD8E-DCB0CBD86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B56B19-FBA1-422F-83B4-2B64E93B4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FC0132-9DB3-4EBB-AF92-32770346E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B06AE-4911-4CD1-A7CB-AAED62CF5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D6E584-3BB5-46FF-B14B-28CD5AB61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BBCF5C-FDE9-475E-A76E-0663F301A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A7CE16-DAE1-4388-B061-6F6470856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BDD321-527A-48B2-B1CF-9EE367C65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1E37AB-7918-4D53-A460-0DCDFEB1C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3CABA-5375-4BF5-93A8-0514928B2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9AEC9-86B7-41CB-B5D5-F9F269C31C72}" type="slidenum">
              <a: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Rounded Rectangle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Rectangle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Rectangle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7B4E6-EB08-4F4F-862B-2DE9FBB1FB68}" type="slidenum">
              <a: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0" name="Rounded Rectangle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Rounded Rectangle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93" name="Rectangle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Rectangle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14278-6446-4680-9311-B25D1460AA5A}" type="slidenum">
              <a: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Rounded Rectangle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F87C8-F6CB-408D-9411-3B40AAA112C2}" type="slidenum">
              <a: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Rectangle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Rectangle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Rectangle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E2A82-4710-402E-9CF9-E778580AFCC8}" type="slidenum">
              <a: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 type="sldNum" idx="18"/>
          </p:nvPr>
        </p:nvSpPr>
        <p:spPr>
          <a:xfrm>
            <a:off x="6865200" y="6310440"/>
            <a:ext cx="150876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20FBB-9C44-46C1-B56D-ACCE60FC9C91}" type="slidenum">
              <a: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1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sldNum" idx="21"/>
          </p:nvPr>
        </p:nvSpPr>
        <p:spPr>
          <a:xfrm>
            <a:off x="6865200" y="6310440"/>
            <a:ext cx="150876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1D0E6-DD6B-4F8D-80E7-C7661FB16C54}" type="slidenum">
              <a: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6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6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6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7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7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6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1" name="Title 1"/>
          <p:cNvGrpSpPr/>
          <p:nvPr/>
        </p:nvGrpSpPr>
        <p:grpSpPr>
          <a:xfrm>
            <a:off x="450720" y="268200"/>
            <a:ext cx="8242560" cy="2737080"/>
            <a:chOff x="450720" y="268200"/>
            <a:chExt cx="8242560" cy="2737080"/>
          </a:xfrm>
        </p:grpSpPr>
        <p:pic>
          <p:nvPicPr>
            <p:cNvPr id="322" name="Title 1" descr=""/>
            <p:cNvPicPr/>
            <p:nvPr/>
          </p:nvPicPr>
          <p:blipFill>
            <a:blip r:embed="rId1"/>
            <a:stretch/>
          </p:blipFill>
          <p:spPr>
            <a:xfrm>
              <a:off x="450720" y="268200"/>
              <a:ext cx="8242560" cy="273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457200" y="274680"/>
              <a:ext cx="8229600" cy="272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9144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ARTERIES  AND VEINS </a:t>
              </a:r>
              <a:br>
                <a:rPr sz="4000"/>
              </a:br>
              <a:r>
                <a:rPr b="1" i="1" lang="en-US" sz="40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OF </a:t>
              </a:r>
              <a:br>
                <a:rPr sz="4000"/>
              </a:br>
              <a:r>
                <a:rPr b="1" i="1" lang="en-US" sz="40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THE LOWER LIMB</a:t>
              </a:r>
              <a:endParaRPr b="0" lang="en-US" sz="4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24" name="TextBox 5"/>
          <p:cNvGrpSpPr/>
          <p:nvPr/>
        </p:nvGrpSpPr>
        <p:grpSpPr>
          <a:xfrm>
            <a:off x="847800" y="3578400"/>
            <a:ext cx="3565440" cy="609480"/>
            <a:chOff x="847800" y="3578400"/>
            <a:chExt cx="3565440" cy="609480"/>
          </a:xfrm>
        </p:grpSpPr>
        <p:pic>
          <p:nvPicPr>
            <p:cNvPr id="325" name="TextBox 5" descr=""/>
            <p:cNvPicPr/>
            <p:nvPr/>
          </p:nvPicPr>
          <p:blipFill>
            <a:blip r:embed="rId2"/>
            <a:stretch/>
          </p:blipFill>
          <p:spPr>
            <a:xfrm>
              <a:off x="847800" y="3578400"/>
              <a:ext cx="356544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6" name=""/>
            <p:cNvSpPr/>
            <p:nvPr/>
          </p:nvSpPr>
          <p:spPr>
            <a:xfrm>
              <a:off x="900000" y="3645000"/>
              <a:ext cx="345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Perpetua"/>
                </a:rPr>
                <a:t>Dr.  JAMILA ELMEDANY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27" name="TextBox 6"/>
          <p:cNvGrpSpPr/>
          <p:nvPr/>
        </p:nvGrpSpPr>
        <p:grpSpPr>
          <a:xfrm>
            <a:off x="5022720" y="3578400"/>
            <a:ext cx="3273480" cy="609480"/>
            <a:chOff x="5022720" y="3578400"/>
            <a:chExt cx="3273480" cy="609480"/>
          </a:xfrm>
        </p:grpSpPr>
        <p:pic>
          <p:nvPicPr>
            <p:cNvPr id="328" name="TextBox 6" descr=""/>
            <p:cNvPicPr/>
            <p:nvPr/>
          </p:nvPicPr>
          <p:blipFill>
            <a:blip r:embed="rId3"/>
            <a:stretch/>
          </p:blipFill>
          <p:spPr>
            <a:xfrm>
              <a:off x="5022720" y="3578400"/>
              <a:ext cx="327348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9" name=""/>
            <p:cNvSpPr/>
            <p:nvPr/>
          </p:nvSpPr>
          <p:spPr>
            <a:xfrm>
              <a:off x="5076720" y="3645000"/>
              <a:ext cx="316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Perpetua"/>
                </a:rPr>
                <a:t>Dr.  ESSAM SALAMA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Picture 2" descr="C:\Documents and Settings\Jamila\Desktop\20121130093506_50824.jpg"/>
          <p:cNvPicPr/>
          <p:nvPr/>
        </p:nvPicPr>
        <p:blipFill>
          <a:blip r:embed="rId1"/>
          <a:srcRect l="0" t="0" r="0" b="3116"/>
          <a:stretch/>
        </p:blipFill>
        <p:spPr>
          <a:xfrm>
            <a:off x="0" y="549360"/>
            <a:ext cx="4776840" cy="5365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362" name="TextBox 4"/>
          <p:cNvGrpSpPr/>
          <p:nvPr/>
        </p:nvGrpSpPr>
        <p:grpSpPr>
          <a:xfrm>
            <a:off x="4797360" y="841320"/>
            <a:ext cx="4303800" cy="2455920"/>
            <a:chOff x="4797360" y="841320"/>
            <a:chExt cx="4303800" cy="2455920"/>
          </a:xfrm>
        </p:grpSpPr>
        <p:pic>
          <p:nvPicPr>
            <p:cNvPr id="363" name="TextBox 4" descr=""/>
            <p:cNvPicPr/>
            <p:nvPr/>
          </p:nvPicPr>
          <p:blipFill>
            <a:blip r:embed="rId2"/>
            <a:stretch/>
          </p:blipFill>
          <p:spPr>
            <a:xfrm>
              <a:off x="4797360" y="841320"/>
              <a:ext cx="4303800" cy="245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"/>
            <p:cNvSpPr/>
            <p:nvPr/>
          </p:nvSpPr>
          <p:spPr>
            <a:xfrm>
              <a:off x="4932360" y="907920"/>
              <a:ext cx="403236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 u="sng">
                  <a:solidFill>
                    <a:srgbClr val="0000ff"/>
                  </a:solidFill>
                  <a:uFillTx/>
                  <a:latin typeface="Times New Roman"/>
                  <a:ea typeface="Times New Roman"/>
                </a:rPr>
                <a:t>Trochanteric Anastomosis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  <a:p>
              <a:pPr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ormed from anastomosis of branches of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Medial &amp; Lateral circumflex femoral arteries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  <a:p>
              <a:pPr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ts main function is to supply the head &amp; neck of femur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65" name="Rectangle 1"/>
          <p:cNvSpPr/>
          <p:nvPr/>
        </p:nvSpPr>
        <p:spPr>
          <a:xfrm>
            <a:off x="3780000" y="2492280"/>
            <a:ext cx="1008000" cy="289080"/>
          </a:xfrm>
          <a:prstGeom prst="rect">
            <a:avLst/>
          </a:prstGeom>
          <a:noFill/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6" name="Rectangle 2"/>
          <p:cNvSpPr/>
          <p:nvPr/>
        </p:nvSpPr>
        <p:spPr>
          <a:xfrm>
            <a:off x="3780000" y="2781360"/>
            <a:ext cx="1008000" cy="287280"/>
          </a:xfrm>
          <a:prstGeom prst="rect">
            <a:avLst/>
          </a:pr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4906800" cy="1162080"/>
          </a:xfrm>
          <a:prstGeom prst="rect">
            <a:avLst/>
          </a:prstGeom>
          <a:solidFill>
            <a:srgbClr val="e9e5dc"/>
          </a:solidFill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annulation of FA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grpSp>
        <p:nvGrpSpPr>
          <p:cNvPr id="368" name="Text Placeholder 2"/>
          <p:cNvGrpSpPr/>
          <p:nvPr/>
        </p:nvGrpSpPr>
        <p:grpSpPr>
          <a:xfrm>
            <a:off x="457200" y="1590840"/>
            <a:ext cx="3121200" cy="4943160"/>
            <a:chOff x="457200" y="1590840"/>
            <a:chExt cx="3121200" cy="4943160"/>
          </a:xfrm>
        </p:grpSpPr>
        <p:pic>
          <p:nvPicPr>
            <p:cNvPr id="369" name="Text Placeholder 2" descr=""/>
            <p:cNvPicPr/>
            <p:nvPr/>
          </p:nvPicPr>
          <p:blipFill>
            <a:blip r:embed="rId1"/>
            <a:stretch/>
          </p:blipFill>
          <p:spPr>
            <a:xfrm>
              <a:off x="457200" y="1590840"/>
              <a:ext cx="3121200" cy="494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0" name=""/>
            <p:cNvSpPr/>
            <p:nvPr/>
          </p:nvSpPr>
          <p:spPr>
            <a:xfrm>
              <a:off x="468360" y="1600200"/>
              <a:ext cx="3095640" cy="492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ecause of the superficial position of the femoral artery, it is used for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eft cardiac angiography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 long catheter is  inserted percutaneously into the artery and passed up the external iliac artery, common iliac artery , aorta to the left ventricle.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371" name="Picture 9" descr="C:\Users\galmadani\Desktop\images (1).jpg"/>
          <p:cNvPicPr/>
          <p:nvPr/>
        </p:nvPicPr>
        <p:blipFill>
          <a:blip r:embed="rId2"/>
          <a:srcRect l="0" t="0" r="6023" b="4494"/>
          <a:stretch/>
        </p:blipFill>
        <p:spPr>
          <a:xfrm>
            <a:off x="4211640" y="1413000"/>
            <a:ext cx="4753080" cy="5111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914400" y="272520"/>
            <a:ext cx="7772400" cy="1143000"/>
          </a:xfrm>
          <a:prstGeom prst="rect">
            <a:avLst/>
          </a:prstGeom>
          <a:solidFill>
            <a:srgbClr val="e9e5dc"/>
          </a:solidFill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FEMORAL PULSE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6840" y="1523520"/>
            <a:ext cx="3970440" cy="5000760"/>
          </a:xfrm>
          <a:prstGeom prst="rect">
            <a:avLst/>
          </a:prstGeom>
          <a:solidFill>
            <a:srgbClr val="fad9cd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can be palpated just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ferior to the Midinguinal point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How to Stop bleeding from the femoral artery?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 pressing the artery directly posterior against the superior pubic ramus and the femoral head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374" name="Picture 3" descr="C:\Documents and Settings\lib\My Documents\My Pictures\Picture2.jpg"/>
          <p:cNvPicPr/>
          <p:nvPr/>
        </p:nvPicPr>
        <p:blipFill>
          <a:blip r:embed="rId1"/>
          <a:srcRect l="1137" t="9066" r="62398" b="56366"/>
          <a:stretch/>
        </p:blipFill>
        <p:spPr>
          <a:xfrm>
            <a:off x="4716360" y="1484280"/>
            <a:ext cx="379584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solidFill>
            <a:srgbClr val="e9e5dc"/>
          </a:solidFill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OPLITEAL ARTERY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148000" y="1599840"/>
            <a:ext cx="3538440" cy="4530600"/>
          </a:xfrm>
          <a:prstGeom prst="rect">
            <a:avLst/>
          </a:prstGeom>
          <a:solidFill>
            <a:srgbClr val="fad9cd"/>
          </a:solidFill>
          <a:ln w="9360">
            <a:solidFill>
              <a:srgbClr val="bdb5b6"/>
            </a:solidFill>
            <a:miter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The continuation of 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the femoral artery.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It is the deepest structure in the Popliteal Fossa (posterior to the Popliteal Vein &amp; Tibial Nerve), it runs close to the capsule of the knee joint.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 u="sng">
                <a:solidFill>
                  <a:srgbClr val="0000ff"/>
                </a:solidFill>
                <a:uFillTx/>
                <a:latin typeface="Times New Roman"/>
              </a:rPr>
              <a:t>It Ends</a:t>
            </a:r>
            <a:r>
              <a:rPr b="1" i="1" lang="en-US" sz="22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at the lower border of popliteus muscle by dividing into 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Anterior</a:t>
            </a:r>
            <a:r>
              <a:rPr b="1" i="1" lang="en-U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and 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Posterior</a:t>
            </a:r>
            <a:r>
              <a:rPr b="1" i="1" lang="en-U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Tibial Arterie.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377" name="Picture 2" descr="F:\New Folder\scan0020.jpg"/>
          <p:cNvPicPr/>
          <p:nvPr/>
        </p:nvPicPr>
        <p:blipFill>
          <a:blip r:embed="rId1"/>
          <a:stretch/>
        </p:blipFill>
        <p:spPr>
          <a:xfrm>
            <a:off x="826920" y="4525920"/>
            <a:ext cx="2487960" cy="23320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378" name="Picture 6" descr="C:\Users\galmadani\Desktop\part06_ch16_fig11.gif"/>
          <p:cNvPicPr/>
          <p:nvPr/>
        </p:nvPicPr>
        <p:blipFill>
          <a:blip r:embed="rId2"/>
          <a:stretch/>
        </p:blipFill>
        <p:spPr>
          <a:xfrm>
            <a:off x="826920" y="1352520"/>
            <a:ext cx="4032360" cy="3095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2" descr="L:\Student Gray\6. Lower limb\F66122-006-f076.jpg"/>
          <p:cNvPicPr/>
          <p:nvPr/>
        </p:nvPicPr>
        <p:blipFill>
          <a:blip r:embed="rId1"/>
          <a:srcRect l="13549" t="0" r="13156" b="4008"/>
          <a:stretch/>
        </p:blipFill>
        <p:spPr>
          <a:xfrm>
            <a:off x="14400" y="1695600"/>
            <a:ext cx="4773600" cy="5162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380" name="Title 7"/>
          <p:cNvGrpSpPr/>
          <p:nvPr/>
        </p:nvGrpSpPr>
        <p:grpSpPr>
          <a:xfrm>
            <a:off x="450720" y="274680"/>
            <a:ext cx="8242560" cy="1152360"/>
            <a:chOff x="450720" y="274680"/>
            <a:chExt cx="8242560" cy="1152360"/>
          </a:xfrm>
        </p:grpSpPr>
        <p:pic>
          <p:nvPicPr>
            <p:cNvPr id="381" name="Title 7" descr=""/>
            <p:cNvPicPr/>
            <p:nvPr/>
          </p:nvPicPr>
          <p:blipFill>
            <a:blip r:embed="rId2"/>
            <a:stretch/>
          </p:blipFill>
          <p:spPr>
            <a:xfrm>
              <a:off x="450720" y="274680"/>
              <a:ext cx="8242560" cy="115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2" name=""/>
            <p:cNvSpPr/>
            <p:nvPr/>
          </p:nvSpPr>
          <p:spPr>
            <a:xfrm>
              <a:off x="457200" y="277920"/>
              <a:ext cx="8229600" cy="11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9144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Branches  of Popliteal  Artery</a:t>
              </a: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83" name="PlaceHolder 1"/>
          <p:cNvSpPr>
            <a:spLocks noGrp="1"/>
          </p:cNvSpPr>
          <p:nvPr>
            <p:ph/>
          </p:nvPr>
        </p:nvSpPr>
        <p:spPr>
          <a:xfrm>
            <a:off x="4932000" y="1599840"/>
            <a:ext cx="4211640" cy="4530600"/>
          </a:xfrm>
          <a:prstGeom prst="rect">
            <a:avLst/>
          </a:prstGeom>
          <a:solidFill>
            <a:srgbClr val="fad9cd"/>
          </a:solidFill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Muscular 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Five  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Genicular branches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to the articular capsule and ligaments of the knee joint 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. </a:t>
            </a:r>
            <a:r>
              <a:rPr b="1" i="1" lang="en-US" sz="2800" spc="-1" strike="noStrike" u="sng">
                <a:solidFill>
                  <a:srgbClr val="c00000"/>
                </a:solidFill>
                <a:uFillTx/>
                <a:latin typeface="Times New Roman"/>
              </a:rPr>
              <a:t>Genicular Anastomosis: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It is an important anastomosis</a:t>
            </a:r>
            <a:r>
              <a:rPr b="1" i="1" lang="en-US" sz="2200" spc="-1" strike="noStrike" u="sng">
                <a:solidFill>
                  <a:srgbClr val="c00000"/>
                </a:solidFill>
                <a:uFillTx/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around the knee. It compensates for the narrowing of the Popliteal artery during prolonged flexion of the knee.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Formed from the genicular branches of the popliteal artery.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914400" y="272520"/>
            <a:ext cx="7772400" cy="1143000"/>
          </a:xfrm>
          <a:prstGeom prst="rect">
            <a:avLst/>
          </a:prstGeom>
          <a:solidFill>
            <a:srgbClr val="e9e5dc"/>
          </a:solidFill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Popliteal Pulse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755640" y="1600200"/>
            <a:ext cx="3384720" cy="4495680"/>
          </a:xfrm>
          <a:prstGeom prst="rect">
            <a:avLst/>
          </a:prstGeom>
          <a:solidFill>
            <a:srgbClr val="fad9cd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of the deep position of the artery, its pulsations are best felt in 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ferior part of the popliteal fossa ( her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rtery is related to the tibia)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620a4"/>
                </a:solidFill>
                <a:latin typeface="Times New Roman"/>
              </a:rPr>
              <a:t>Weakening or loss of the popliteal pulse is a sign of femoral artery obstruction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386" name="Picture 3" descr="C:\Documents and Settings\lib\My Documents\My Pictures\Picture2.jpg"/>
          <p:cNvPicPr/>
          <p:nvPr/>
        </p:nvPicPr>
        <p:blipFill>
          <a:blip r:embed="rId1"/>
          <a:srcRect l="70503" t="8663" r="1500" b="56977"/>
          <a:stretch/>
        </p:blipFill>
        <p:spPr>
          <a:xfrm>
            <a:off x="5651640" y="1484280"/>
            <a:ext cx="3151080" cy="51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solidFill>
            <a:srgbClr val="e9e5dc"/>
          </a:solidFill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ANTERIOR TIBIAL ARTERY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932000" y="1600200"/>
            <a:ext cx="3816360" cy="5068800"/>
          </a:xfrm>
          <a:prstGeom prst="rect">
            <a:avLst/>
          </a:prstGeom>
          <a:solidFill>
            <a:srgbClr val="fad9cd"/>
          </a:solidFill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t is the smaller terminal branch of the popliteal arter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t enters the anterior compartment of the leg in company with the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Deep Peroneal nerve. 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It supplies structures in the </a:t>
            </a:r>
            <a:r>
              <a:rPr b="1" i="1" lang="en-US" sz="2000" spc="-1" strike="noStrike">
                <a:solidFill>
                  <a:srgbClr val="0000ff"/>
                </a:solidFill>
                <a:latin typeface="Times New Roman"/>
              </a:rPr>
              <a:t>Anterior Compartment of the Leg &amp; Dorsum of foot</a:t>
            </a:r>
            <a:r>
              <a:rPr b="0" i="1" lang="en-US" sz="2000" spc="-1" strike="noStrike">
                <a:solidFill>
                  <a:srgbClr val="0000ff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 u="sng">
                <a:solidFill>
                  <a:srgbClr val="ff0000"/>
                </a:solidFill>
                <a:uFillTx/>
                <a:latin typeface="Times New Roman"/>
              </a:rPr>
              <a:t>It ends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t the ankle joint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idway between the malleoli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where it becomes the </a:t>
            </a:r>
            <a:r>
              <a:rPr b="1" i="1" lang="en-US" sz="2600" spc="-1" strike="noStrike" u="sng">
                <a:solidFill>
                  <a:srgbClr val="c00000"/>
                </a:solidFill>
                <a:uFillTx/>
                <a:latin typeface="Times New Roman"/>
              </a:rPr>
              <a:t>Dorsalis Pedi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artery (dorsal artery of the foot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389" name="Picture 6" descr="C:\Users\galmadani\Documents\Student Gray\6. Lower limb\F66122-006-f089.jpg"/>
          <p:cNvPicPr/>
          <p:nvPr/>
        </p:nvPicPr>
        <p:blipFill>
          <a:blip r:embed="rId1"/>
          <a:srcRect l="12866" t="0" r="14425" b="2330"/>
          <a:stretch/>
        </p:blipFill>
        <p:spPr>
          <a:xfrm>
            <a:off x="1187280" y="1557360"/>
            <a:ext cx="3529080" cy="5010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90" name="Rectangle 2"/>
          <p:cNvSpPr/>
          <p:nvPr/>
        </p:nvSpPr>
        <p:spPr>
          <a:xfrm>
            <a:off x="2843280" y="2708280"/>
            <a:ext cx="1441440" cy="289080"/>
          </a:xfrm>
          <a:prstGeom prst="rect">
            <a:avLst/>
          </a:prstGeom>
          <a:noFill/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1" name="Oval 5"/>
          <p:cNvSpPr/>
          <p:nvPr/>
        </p:nvSpPr>
        <p:spPr>
          <a:xfrm>
            <a:off x="3132000" y="5084640"/>
            <a:ext cx="1079640" cy="289080"/>
          </a:xfrm>
          <a:prstGeom prst="ellipse">
            <a:avLst/>
          </a:prstGeom>
          <a:noFill/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solidFill>
            <a:srgbClr val="e9e5dc"/>
          </a:solidFill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ORSALIS PEDIS ARTERY</a:t>
            </a:r>
            <a:br>
              <a:rPr sz="3600"/>
            </a:b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5219280" y="1571760"/>
            <a:ext cx="3924360" cy="5286240"/>
          </a:xfrm>
          <a:prstGeom prst="rect">
            <a:avLst/>
          </a:prstGeom>
          <a:solidFill>
            <a:srgbClr val="fad9cd"/>
          </a:solidFill>
          <a:ln w="2844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It is the main source of blood supply to the toes.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Begins in front of ankle joint as the direct continuation of the </a:t>
            </a:r>
            <a:r>
              <a:rPr b="1" i="1" lang="en-US" sz="2000" spc="-1" strike="noStrike">
                <a:solidFill>
                  <a:srgbClr val="cc0066"/>
                </a:solidFill>
                <a:latin typeface="Times New Roman"/>
              </a:rPr>
              <a:t>Anterior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cc0066"/>
                </a:solidFill>
                <a:latin typeface="Times New Roman"/>
              </a:rPr>
              <a:t>Tibial artery. 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It is superficial in position. 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It passes to the 1</a:t>
            </a:r>
            <a:r>
              <a:rPr b="1" i="1" lang="en-US" sz="20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interosseous space where it divides into a deep plantar artery (to the sole  to join the plantar arch) and the first  dorsal metatarsal artery.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394" name="Picture 15" descr="C:\Documents and Settings\Jamila\Desktop\560fig21334194535521.jpeg"/>
          <p:cNvPicPr/>
          <p:nvPr/>
        </p:nvPicPr>
        <p:blipFill>
          <a:blip r:embed="rId1"/>
          <a:stretch/>
        </p:blipFill>
        <p:spPr>
          <a:xfrm>
            <a:off x="179280" y="1628640"/>
            <a:ext cx="4753080" cy="5113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95" name="Rectangle 18"/>
          <p:cNvSpPr/>
          <p:nvPr/>
        </p:nvSpPr>
        <p:spPr>
          <a:xfrm>
            <a:off x="3419640" y="4221000"/>
            <a:ext cx="1081080" cy="21600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371600" y="333000"/>
            <a:ext cx="7772400" cy="1143000"/>
          </a:xfrm>
          <a:prstGeom prst="rect">
            <a:avLst/>
          </a:prstGeom>
          <a:solidFill>
            <a:srgbClr val="e9e5dc"/>
          </a:solidFill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P Pulse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10920" y="1523880"/>
            <a:ext cx="3816360" cy="5145120"/>
          </a:xfrm>
          <a:prstGeom prst="rect">
            <a:avLst/>
          </a:prstGeom>
          <a:solidFill>
            <a:srgbClr val="fad9cd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It is easy to be felt being subcutaneous, over the tarsal bones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between the tendons of Extensor halluci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longu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and Extensor   digitorum longus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Some people have congenitally non palpable DP pulse, the  anomaly is usually bilateral. 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ff"/>
                </a:solidFill>
                <a:latin typeface="Times New Roman"/>
              </a:rPr>
              <a:t>A diminished or absent dorsalis pedis pulse usually suggests vascular insufficiency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resulting from arterial diseas</a:t>
            </a:r>
            <a:r>
              <a:rPr b="0" i="1" lang="en-US" sz="1900" spc="-1" strike="noStrike">
                <a:solidFill>
                  <a:srgbClr val="000000"/>
                </a:solidFill>
                <a:latin typeface="Times New Roman"/>
              </a:rPr>
              <a:t>e.</a:t>
            </a:r>
            <a:endParaRPr b="0" lang="en-US" sz="19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398" name="Picture 5" descr="C:\Users\galmadani\Documents\Student Gray\6. Lower limb\F66122-006-f129.jpg"/>
          <p:cNvPicPr/>
          <p:nvPr/>
        </p:nvPicPr>
        <p:blipFill>
          <a:blip r:embed="rId1"/>
          <a:srcRect l="19811" t="0" r="15797" b="4121"/>
          <a:stretch/>
        </p:blipFill>
        <p:spPr>
          <a:xfrm>
            <a:off x="5219640" y="1413000"/>
            <a:ext cx="3598920" cy="4790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solidFill>
            <a:srgbClr val="e9e5dc"/>
          </a:solidFill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POSTERIOR TIBIAL ARTERY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284720" y="1557360"/>
            <a:ext cx="4680000" cy="5300640"/>
          </a:xfrm>
          <a:prstGeom prst="rect">
            <a:avLst/>
          </a:prstGeom>
          <a:solidFill>
            <a:srgbClr val="fad9cd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t is the larger terminal branch of the popliteal artery and provides the main blood supply to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i="1" lang="en-US" sz="2000" spc="-1" strike="noStrike">
                <a:solidFill>
                  <a:srgbClr val="0000ff"/>
                </a:solidFill>
                <a:latin typeface="Times New Roman"/>
              </a:rPr>
              <a:t>Posterior compartment of the Leg &amp; Sole of the Foot.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Its lower part is covered  by skin &amp; fascia only. 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It </a:t>
            </a:r>
            <a:r>
              <a:rPr b="1" i="1" lang="en-US" sz="2000" spc="-1" strike="noStrike" u="sng">
                <a:solidFill>
                  <a:srgbClr val="0000ff"/>
                </a:solidFill>
                <a:uFillTx/>
                <a:latin typeface="Times New Roman"/>
              </a:rPr>
              <a:t>Terminates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by dividing into: 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Medial &amp; Lateral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plantar arteri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ff"/>
                </a:solidFill>
                <a:uFillTx/>
                <a:latin typeface="Times New Roman"/>
              </a:rPr>
              <a:t>Branches: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00" spc="-1" strike="noStrike">
                <a:solidFill>
                  <a:srgbClr val="c00000"/>
                </a:solidFill>
                <a:latin typeface="Times New Roman"/>
              </a:rPr>
              <a:t>1. </a:t>
            </a:r>
            <a:r>
              <a:rPr b="1" i="1" lang="en-US" sz="2000" spc="-1" strike="noStrike">
                <a:solidFill>
                  <a:srgbClr val="c00000"/>
                </a:solidFill>
                <a:latin typeface="Times New Roman"/>
              </a:rPr>
              <a:t>Nutrient artery to the tibia (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the  largest nutrient artery of the body). 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00000"/>
                </a:solidFill>
                <a:latin typeface="Times New Roman"/>
              </a:rPr>
              <a:t>2. Calcaneal arteries: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supply the Heel.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00" spc="-1" strike="noStrike">
                <a:solidFill>
                  <a:srgbClr val="c00000"/>
                </a:solidFill>
                <a:latin typeface="Times New Roman"/>
              </a:rPr>
              <a:t>3. </a:t>
            </a:r>
            <a:r>
              <a:rPr b="1" i="1" lang="en-US" sz="2200" spc="-1" strike="noStrike" u="sng">
                <a:solidFill>
                  <a:srgbClr val="c00000"/>
                </a:solidFill>
                <a:uFillTx/>
                <a:latin typeface="Times New Roman"/>
              </a:rPr>
              <a:t>Peroneal (Fibular) artery: 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The largest  and most important branch.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It supplies a nutrient artery to the fibula &amp; Muscular branches to the muscles of the lateral and posterior compartments of the leg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000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401" name="Picture 10" descr="C:\Documents and Settings\Jamila\My Documents\My Pictures\Picture50.jpg"/>
          <p:cNvPicPr/>
          <p:nvPr/>
        </p:nvPicPr>
        <p:blipFill>
          <a:blip r:embed="rId1"/>
          <a:stretch/>
        </p:blipFill>
        <p:spPr>
          <a:xfrm>
            <a:off x="179280" y="1484280"/>
            <a:ext cx="4105440" cy="5373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02" name="Rectangle 5"/>
          <p:cNvSpPr/>
          <p:nvPr/>
        </p:nvSpPr>
        <p:spPr>
          <a:xfrm>
            <a:off x="611280" y="3429000"/>
            <a:ext cx="792000" cy="360360"/>
          </a:xfrm>
          <a:prstGeom prst="rect">
            <a:avLst/>
          </a:prstGeom>
          <a:noFill/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Down Arrow 7"/>
          <p:cNvSpPr/>
          <p:nvPr/>
        </p:nvSpPr>
        <p:spPr>
          <a:xfrm>
            <a:off x="3129120" y="3990960"/>
            <a:ext cx="288720" cy="360360"/>
          </a:xfrm>
          <a:prstGeom prst="downArrow">
            <a:avLst>
              <a:gd name="adj1" fmla="val 50000"/>
              <a:gd name="adj2" fmla="val 50035"/>
            </a:avLst>
          </a:prstGeom>
          <a:solidFill>
            <a:srgbClr val="c00000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0" name="Title 1"/>
          <p:cNvGrpSpPr/>
          <p:nvPr/>
        </p:nvGrpSpPr>
        <p:grpSpPr>
          <a:xfrm>
            <a:off x="858960" y="244440"/>
            <a:ext cx="7883280" cy="1255680"/>
            <a:chOff x="858960" y="244440"/>
            <a:chExt cx="7883280" cy="1255680"/>
          </a:xfrm>
        </p:grpSpPr>
        <p:pic>
          <p:nvPicPr>
            <p:cNvPr id="331" name="Title 1" descr=""/>
            <p:cNvPicPr/>
            <p:nvPr/>
          </p:nvPicPr>
          <p:blipFill>
            <a:blip r:embed="rId1"/>
            <a:stretch/>
          </p:blipFill>
          <p:spPr>
            <a:xfrm>
              <a:off x="858960" y="244440"/>
              <a:ext cx="7883280" cy="125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2" name=""/>
            <p:cNvSpPr/>
            <p:nvPr/>
          </p:nvSpPr>
          <p:spPr>
            <a:xfrm>
              <a:off x="914400" y="274680"/>
              <a:ext cx="77724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9144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c00000"/>
                  </a:solidFill>
                  <a:latin typeface="Perpetua"/>
                </a:rPr>
                <a:t>Objectives</a:t>
              </a:r>
              <a:endParaRPr b="0" lang="en-US" sz="4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33" name="Content Placeholder 2"/>
          <p:cNvGrpSpPr/>
          <p:nvPr/>
        </p:nvGrpSpPr>
        <p:grpSpPr>
          <a:xfrm>
            <a:off x="804960" y="1371600"/>
            <a:ext cx="8057880" cy="4730760"/>
            <a:chOff x="804960" y="1371600"/>
            <a:chExt cx="8057880" cy="4730760"/>
          </a:xfrm>
        </p:grpSpPr>
        <p:pic>
          <p:nvPicPr>
            <p:cNvPr id="334" name="Content Placeholder 2" descr=""/>
            <p:cNvPicPr/>
            <p:nvPr/>
          </p:nvPicPr>
          <p:blipFill>
            <a:blip r:embed="rId2"/>
            <a:stretch/>
          </p:blipFill>
          <p:spPr>
            <a:xfrm>
              <a:off x="804960" y="1371600"/>
              <a:ext cx="8057880" cy="473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5" name=""/>
            <p:cNvSpPr/>
            <p:nvPr/>
          </p:nvSpPr>
          <p:spPr>
            <a:xfrm>
              <a:off x="914400" y="1447920"/>
              <a:ext cx="77724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72880" indent="-272880">
                <a:lnSpc>
                  <a:spcPct val="100000"/>
                </a:lnSpc>
                <a:spcBef>
                  <a:spcPts val="575"/>
                </a:spcBef>
                <a:buClr>
                  <a:srgbClr val="d34817"/>
                </a:buClr>
                <a:buSzPct val="85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7c6b4d"/>
                  </a:solidFill>
                  <a:latin typeface="Perpetua"/>
                </a:rPr>
                <a:t>At the end of the lecture, students should be able to: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575"/>
                </a:spcBef>
                <a:buClr>
                  <a:srgbClr val="d34817"/>
                </a:buClr>
                <a:buSzPct val="85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70c0"/>
                  </a:solidFill>
                  <a:latin typeface="Perpetua"/>
                </a:rPr>
                <a:t>List the main arteries of the lower limb.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575"/>
                </a:spcBef>
                <a:buClr>
                  <a:srgbClr val="d34817"/>
                </a:buClr>
                <a:buSzPct val="85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70c0"/>
                  </a:solidFill>
                  <a:latin typeface="Perpetua"/>
                </a:rPr>
                <a:t> </a:t>
              </a:r>
              <a:r>
                <a:rPr b="1" lang="en-US" sz="2600" spc="-1" strike="noStrike">
                  <a:solidFill>
                    <a:srgbClr val="0070c0"/>
                  </a:solidFill>
                  <a:latin typeface="Perpetua"/>
                </a:rPr>
                <a:t>Describe their origin, course distribution &amp; branches.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575"/>
                </a:spcBef>
                <a:buClr>
                  <a:srgbClr val="d34817"/>
                </a:buClr>
                <a:buSzPct val="85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70c0"/>
                  </a:solidFill>
                  <a:latin typeface="Perpetua"/>
                </a:rPr>
                <a:t>List the main arterial anastomosis.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575"/>
                </a:spcBef>
                <a:buClr>
                  <a:srgbClr val="d34817"/>
                </a:buClr>
                <a:buSzPct val="85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70c0"/>
                  </a:solidFill>
                  <a:latin typeface="Perpetua"/>
                </a:rPr>
                <a:t>List the sites where you feel the arterial pulse.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575"/>
                </a:spcBef>
                <a:buClr>
                  <a:srgbClr val="d34817"/>
                </a:buClr>
                <a:buSzPct val="85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70c0"/>
                  </a:solidFill>
                  <a:latin typeface="Perpetua"/>
                </a:rPr>
                <a:t>Differentiate the veins of LL into superficial &amp; deep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575"/>
                </a:spcBef>
                <a:buClr>
                  <a:srgbClr val="d34817"/>
                </a:buClr>
                <a:buSzPct val="85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70c0"/>
                  </a:solidFill>
                  <a:latin typeface="Perpetua"/>
                </a:rPr>
                <a:t>Describe their origin, course &amp; termination and tributaries 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575"/>
                </a:spcBef>
                <a:buClr>
                  <a:srgbClr val="d34817"/>
                </a:buClr>
                <a:buSzPct val="85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914400" y="272520"/>
            <a:ext cx="7772400" cy="1143000"/>
          </a:xfrm>
          <a:prstGeom prst="rect">
            <a:avLst/>
          </a:prstGeom>
          <a:solidFill>
            <a:srgbClr val="e9e5dc"/>
          </a:solidFill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POSTERIOR TIBIAL PULSE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250560" y="1523880"/>
            <a:ext cx="3214440" cy="5145120"/>
          </a:xfrm>
          <a:prstGeom prst="rect">
            <a:avLst/>
          </a:prstGeom>
          <a:solidFill>
            <a:srgbClr val="fad9cd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aken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ostero inferior to the medial malleolu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in the groove between the  malleolus and the heel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flexor retinaculum must be relaxed by inverting the foot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alpation of PT pulse is essential for examining patients with </a:t>
            </a:r>
            <a:r>
              <a:rPr b="1" i="1" lang="en-US" sz="2400" spc="-1" strike="noStrike">
                <a:solidFill>
                  <a:srgbClr val="c00000"/>
                </a:solidFill>
                <a:latin typeface="Times New Roman"/>
              </a:rPr>
              <a:t>occlusive peripheral arterial diseases</a:t>
            </a:r>
            <a:r>
              <a:rPr b="0" i="1" lang="en-US" sz="2400" spc="-1" strike="noStrike">
                <a:solidFill>
                  <a:srgbClr val="c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406" name="Picture 3" descr="C:\Documents and Settings\lib\My Documents\My Pictures\Picture2.jpg"/>
          <p:cNvPicPr/>
          <p:nvPr/>
        </p:nvPicPr>
        <p:blipFill>
          <a:blip r:embed="rId1"/>
          <a:srcRect l="1347" t="52533" r="63944" b="10084"/>
          <a:stretch/>
        </p:blipFill>
        <p:spPr>
          <a:xfrm>
            <a:off x="4427640" y="1962000"/>
            <a:ext cx="431964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gradFill rotWithShape="0">
            <a:gsLst>
              <a:gs pos="0">
                <a:srgbClr val="d8d1d1"/>
              </a:gs>
              <a:gs pos="100000">
                <a:srgbClr val="f2f0f0"/>
              </a:gs>
            </a:gsLst>
            <a:lin ang="10800000"/>
          </a:gradFill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LANTAR ARTERIES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3931920" y="1700280"/>
            <a:ext cx="4887720" cy="4897440"/>
          </a:xfrm>
          <a:prstGeom prst="rect">
            <a:avLst/>
          </a:prstGeom>
          <a:solidFill>
            <a:srgbClr val="fad9cd"/>
          </a:solidFill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ff"/>
                </a:solidFill>
                <a:uFillTx/>
                <a:latin typeface="Times New Roman"/>
              </a:rPr>
              <a:t>Medial plantar: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The smaller terminal branch of the posterior tibial  artery.</a:t>
            </a:r>
            <a:endParaRPr b="0" lang="en-US" sz="19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It supplies mainly the muscles of the great toe, and gives most of plantar digital arteries. </a:t>
            </a:r>
            <a:endParaRPr b="0" lang="en-US" sz="19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Its superficial branch supplies the skin of the medial side of the sole. </a:t>
            </a:r>
            <a:endParaRPr b="0" lang="en-US" sz="19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 u="sng">
                <a:solidFill>
                  <a:srgbClr val="0000ff"/>
                </a:solidFill>
                <a:uFillTx/>
                <a:latin typeface="Times New Roman"/>
              </a:rPr>
              <a:t>Lateral plantar: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8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The larger branch.</a:t>
            </a:r>
            <a:endParaRPr b="0" lang="en-US" sz="19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At the base of the 5</a:t>
            </a:r>
            <a:r>
              <a:rPr b="1" i="1" lang="en-US" sz="19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metatarsal bone, it curves medially to form </a:t>
            </a:r>
            <a:endParaRPr b="0" lang="en-US" sz="19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 u="sng">
                <a:solidFill>
                  <a:srgbClr val="cc3300"/>
                </a:solidFill>
                <a:uFillTx/>
                <a:latin typeface="Times New Roman"/>
              </a:rPr>
              <a:t>Plantar Arch : </a:t>
            </a: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completed by the medial plantar artery and branch from DP artery. </a:t>
            </a:r>
            <a:endParaRPr b="0" lang="en-US" sz="19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The arch supplies the skin, fascia and muscles in the sole and plantar digital arteries to the adjacent digits .</a:t>
            </a:r>
            <a:endParaRPr b="0" lang="en-US" sz="1900" spc="-1" strike="noStrike">
              <a:solidFill>
                <a:srgbClr val="000000"/>
              </a:solidFill>
              <a:latin typeface="Perpetua"/>
            </a:endParaRPr>
          </a:p>
          <a:p>
            <a:pPr marL="2728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409" name="Picture 5" descr="C:\Users\galmadani\Documents\Student Gray\6. Lower limb\F66122-006-f130.jpg"/>
          <p:cNvPicPr/>
          <p:nvPr/>
        </p:nvPicPr>
        <p:blipFill>
          <a:blip r:embed="rId1"/>
          <a:srcRect l="14502" t="0" r="14302" b="3514"/>
          <a:stretch/>
        </p:blipFill>
        <p:spPr>
          <a:xfrm>
            <a:off x="395280" y="1673280"/>
            <a:ext cx="3537000" cy="5184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solidFill>
            <a:srgbClr val="e9e5dc"/>
          </a:solidFill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EINS OF THE L.L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427640" y="1557360"/>
            <a:ext cx="4465440" cy="5300640"/>
          </a:xfrm>
          <a:prstGeom prst="rect">
            <a:avLst/>
          </a:prstGeom>
          <a:solidFill>
            <a:srgbClr val="fad9cd"/>
          </a:solidFill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SzPct val="8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The veins of the lower limb are classified into: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547560" indent="-41112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SzPct val="8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ff"/>
                </a:solidFill>
                <a:uFillTx/>
                <a:latin typeface="Times New Roman"/>
              </a:rPr>
              <a:t>Superficial veins :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lie in the subcutaneous tissue ( </a:t>
            </a:r>
            <a:r>
              <a:rPr b="1" i="1" lang="en-US" sz="2000" spc="-1" strike="noStrike" u="sng">
                <a:solidFill>
                  <a:srgbClr val="0000ff"/>
                </a:solidFill>
                <a:uFillTx/>
                <a:latin typeface="Times New Roman"/>
              </a:rPr>
              <a:t>GSV &amp; SSV)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5475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ff"/>
                </a:solidFill>
                <a:uFillTx/>
                <a:latin typeface="Times New Roman"/>
              </a:rPr>
              <a:t>Deep veins:</a:t>
            </a:r>
            <a:r>
              <a:rPr b="1" i="1" lang="en-US" sz="20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deep to the deep fascia and accompany all major arteries (Femoral, Popliteal veins).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5475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superficial &amp; deep veins have valves which are  more numerous in the deep veins.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5475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 blood passes from the superficial to the deep veins.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412" name="Picture 5" descr="C:\Users\galmadani\Desktop\figure_19_30_labeled.jpg"/>
          <p:cNvPicPr/>
          <p:nvPr/>
        </p:nvPicPr>
        <p:blipFill>
          <a:blip r:embed="rId1"/>
          <a:srcRect l="47570" t="0" r="0" b="0"/>
          <a:stretch/>
        </p:blipFill>
        <p:spPr>
          <a:xfrm>
            <a:off x="179280" y="1314360"/>
            <a:ext cx="3888000" cy="5614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solidFill>
            <a:srgbClr val="e9e5dc"/>
          </a:solidFill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GREAT SAPHENOUS VEIN</a:t>
            </a:r>
            <a:br>
              <a:rPr sz="3200"/>
            </a:b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3995640" y="1557360"/>
            <a:ext cx="4897440" cy="5300640"/>
          </a:xfrm>
          <a:prstGeom prst="rect">
            <a:avLst/>
          </a:prstGeom>
          <a:solidFill>
            <a:srgbClr val="fad9cd"/>
          </a:solidFill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8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Longest Superficial vein of the body.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marL="547560" indent="-41112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8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Begins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 from the medial end of the dorsal  venous arch (as the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1800" spc="-1" strike="noStrike" u="sng">
                <a:solidFill>
                  <a:srgbClr val="0000ff"/>
                </a:solidFill>
                <a:uFillTx/>
                <a:latin typeface="Times New Roman"/>
              </a:rPr>
              <a:t>medial marginal vein).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marL="547560" indent="-41112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8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Ascends: 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marL="547560" indent="-41112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8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A. In front of the </a:t>
            </a:r>
            <a:r>
              <a:rPr b="1" i="1" lang="en-US" sz="1800" spc="-1" strike="noStrike">
                <a:solidFill>
                  <a:srgbClr val="ff0000"/>
                </a:solidFill>
                <a:latin typeface="Times New Roman"/>
              </a:rPr>
              <a:t>Medial Malleolus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accompanied by the </a:t>
            </a:r>
            <a:r>
              <a:rPr b="1" i="1" lang="ar-SA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(Saphenous nerve).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marL="547560" indent="-41112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8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B. Posterior the </a:t>
            </a:r>
            <a:r>
              <a:rPr b="1" i="1" lang="en-US" sz="1800" spc="-1" strike="noStrike">
                <a:solidFill>
                  <a:srgbClr val="ff0000"/>
                </a:solidFill>
                <a:latin typeface="Times New Roman"/>
              </a:rPr>
              <a:t>Medial Condyle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of the femur.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marL="547560" indent="-41112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SzPct val="8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C. Passes through the </a:t>
            </a:r>
            <a:r>
              <a:rPr b="1" i="1" lang="en-US" sz="1800" spc="-1" strike="noStrike">
                <a:solidFill>
                  <a:srgbClr val="ff0000"/>
                </a:solidFill>
                <a:latin typeface="Times New Roman"/>
              </a:rPr>
              <a:t>Saphenous Opening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(2.5-3.25) cm below and lateral to the pubic tubercle.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marL="547560" indent="-41112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SzPct val="8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Terminates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1" i="1" lang="en-US" sz="1800" spc="-1" strike="noStrike">
                <a:solidFill>
                  <a:srgbClr val="0000ff"/>
                </a:solidFill>
                <a:latin typeface="Times New Roman"/>
              </a:rPr>
              <a:t>Femoral Vein.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marL="547560" indent="-41112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SzPct val="8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Because of its constant position in front of the medial malleolus, it is used for sapohenous cutdown especially in infants, obese and shocked patients.  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marL="54756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54756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415" name="Picture 6" descr="C:\Users\galmadani\Desktop\CHAP23FIG2.jpg"/>
          <p:cNvPicPr/>
          <p:nvPr/>
        </p:nvPicPr>
        <p:blipFill>
          <a:blip r:embed="rId1"/>
          <a:stretch/>
        </p:blipFill>
        <p:spPr>
          <a:xfrm>
            <a:off x="179280" y="1341360"/>
            <a:ext cx="351648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/>
          </p:nvPr>
        </p:nvSpPr>
        <p:spPr>
          <a:xfrm>
            <a:off x="4427280" y="833400"/>
            <a:ext cx="4608360" cy="5688000"/>
          </a:xfrm>
          <a:prstGeom prst="rect">
            <a:avLst/>
          </a:prstGeom>
          <a:solidFill>
            <a:srgbClr val="fad9cd"/>
          </a:solidFill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8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ff"/>
                </a:solidFill>
                <a:uFillTx/>
                <a:latin typeface="Times New Roman"/>
              </a:rPr>
              <a:t>SMALL</a:t>
            </a:r>
            <a:r>
              <a:rPr b="1" i="1" lang="en-US" sz="2000" spc="-1" strike="noStrike" u="sng">
                <a:solidFill>
                  <a:srgbClr val="0000ff"/>
                </a:solidFill>
                <a:uFillTx/>
                <a:latin typeface="Times New Roman"/>
              </a:rPr>
              <a:t> </a:t>
            </a:r>
            <a:r>
              <a:rPr b="1" i="1" lang="en-US" sz="2400" spc="-1" strike="noStrike" u="sng">
                <a:solidFill>
                  <a:srgbClr val="0000ff"/>
                </a:solidFill>
                <a:uFillTx/>
                <a:latin typeface="Times New Roman"/>
              </a:rPr>
              <a:t>SAPHENOUS VEIN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547560" indent="-41112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8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riginates from the lateral end of the dorsal venous arch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547560" indent="-41112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8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scends: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547560" indent="-41112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8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ehind the </a:t>
            </a:r>
            <a:r>
              <a:rPr b="1" i="1" lang="en-US" sz="2400" spc="-1" strike="noStrike">
                <a:solidFill>
                  <a:srgbClr val="c00000"/>
                </a:solidFill>
                <a:latin typeface="Times New Roman"/>
              </a:rPr>
              <a:t>lateral Malleolu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long the middle of the back leg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547560" indent="-41112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8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Terminates in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547560" indent="-41112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8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 Popliteal vein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547560" indent="-41112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8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2. It may join the Great Saphenous vein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547560" indent="-41112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8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3. Or Bifurcates: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547560" indent="-41112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8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ne branch joins the </a:t>
            </a:r>
            <a:r>
              <a:rPr b="1" i="1" lang="en-US" sz="2400" spc="-1" strike="noStrike">
                <a:solidFill>
                  <a:srgbClr val="7030a0"/>
                </a:solidFill>
                <a:latin typeface="Times New Roman"/>
              </a:rPr>
              <a:t>Great saphenous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nd the other joins the P</a:t>
            </a: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opliteal vein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417" name="Picture 5" descr="C:\Users\galmadani\Desktop\figure_19_30_labeled.jpg"/>
          <p:cNvPicPr/>
          <p:nvPr/>
        </p:nvPicPr>
        <p:blipFill>
          <a:blip r:embed="rId1"/>
          <a:srcRect l="47570" t="0" r="0" b="0"/>
          <a:stretch/>
        </p:blipFill>
        <p:spPr>
          <a:xfrm>
            <a:off x="163440" y="333360"/>
            <a:ext cx="4121280" cy="6408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" dur="2000"/>
                                        <p:tgtEl>
                                          <p:spTgt spid="4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" dur="2000"/>
                                        <p:tgtEl>
                                          <p:spTgt spid="4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" dur="2000"/>
                                        <p:tgtEl>
                                          <p:spTgt spid="4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" dur="2000"/>
                                        <p:tgtEl>
                                          <p:spTgt spid="4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" dur="2000"/>
                                        <p:tgtEl>
                                          <p:spTgt spid="4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0" dur="2000"/>
                                        <p:tgtEl>
                                          <p:spTgt spid="4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5" dur="2000"/>
                                        <p:tgtEl>
                                          <p:spTgt spid="4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solidFill>
            <a:srgbClr val="e9e5dc"/>
          </a:solidFill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VENAE COMITANTE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419" name="Picture 4" descr="17B11B48"/>
          <p:cNvPicPr/>
          <p:nvPr/>
        </p:nvPicPr>
        <p:blipFill>
          <a:blip r:embed="rId1"/>
          <a:srcRect l="2615" t="62655" r="57273" b="6326"/>
          <a:stretch/>
        </p:blipFill>
        <p:spPr>
          <a:xfrm>
            <a:off x="468360" y="1916280"/>
            <a:ext cx="4390920" cy="432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148360" y="1600200"/>
            <a:ext cx="3566880" cy="4997520"/>
          </a:xfrm>
          <a:prstGeom prst="rect">
            <a:avLst/>
          </a:prstGeom>
          <a:solidFill>
            <a:srgbClr val="fad9cd"/>
          </a:solidFill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Perpetua"/>
              </a:rPr>
              <a:t>Deep veins ,usually they are paired and accompany  arteries.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Perpetua"/>
              </a:rPr>
              <a:t>They are contained within the vascular sheath of the arteries, so the arterial pulsations help to compress and move blood in the veins especially during exercise.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Perpetu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solidFill>
            <a:srgbClr val="e9e5dc"/>
          </a:solidFill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ERFORATING VEINS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5148000" y="1600200"/>
            <a:ext cx="3816360" cy="5068800"/>
          </a:xfrm>
          <a:prstGeom prst="rect">
            <a:avLst/>
          </a:prstGeom>
          <a:solidFill>
            <a:srgbClr val="fad9cd"/>
          </a:solidFill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8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Penetrate the deep fascia close to their origin from the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superficial veins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They contain valves which normally allow the blood to flow from the superficial to the deep veins.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547560" indent="-41112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8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The perforating veins pass through the deep fascia at an oblique angle so during muscular contraction , they are compressed. This also prevents blood flowing from the deep to the  superficial veins.</a:t>
            </a:r>
            <a:r>
              <a:rPr b="0" i="1" lang="en-US" sz="2200" spc="-1" strike="noStrike">
                <a:solidFill>
                  <a:srgbClr val="000000"/>
                </a:solidFill>
                <a:latin typeface="Perpetu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423" name="Picture 5" descr="4B04C12B"/>
          <p:cNvPicPr/>
          <p:nvPr/>
        </p:nvPicPr>
        <p:blipFill>
          <a:blip r:embed="rId1"/>
          <a:srcRect l="36404" t="67212" r="33618" b="3265"/>
          <a:stretch/>
        </p:blipFill>
        <p:spPr>
          <a:xfrm>
            <a:off x="1116000" y="1700280"/>
            <a:ext cx="3527280" cy="4753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solidFill>
            <a:srgbClr val="e9e5dc"/>
          </a:solidFill>
          <a:ln w="9360">
            <a:solidFill>
              <a:srgbClr val="ff0000"/>
            </a:solidFill>
            <a:miter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ff"/>
                </a:solidFill>
                <a:latin typeface="Franklin Gothic Book"/>
                <a:ea typeface="Arial"/>
              </a:rPr>
              <a:t>V</a:t>
            </a:r>
            <a:r>
              <a:rPr b="1" i="1" lang="en-US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ARICOSE VEIN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148000" y="1628280"/>
            <a:ext cx="3995640" cy="5069160"/>
          </a:xfrm>
          <a:prstGeom prst="rect">
            <a:avLst/>
          </a:prstGeom>
          <a:solidFill>
            <a:srgbClr val="fad9cd"/>
          </a:solidFill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8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It is Dilatation and Degeneration of the superficial veins that may be complicated by ulcers.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547560" indent="-41112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8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More common in the postero medial part of the lower limb.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547560" indent="-41112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SzPct val="8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Results because of incompetence of the valves in the perforating veins,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547560" indent="-41112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SzPct val="8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Or valves within the great saphenous itself. 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547560" indent="-41112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SzPct val="8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This allows the passage of high pressure blood from the deep to the superficial veins</a:t>
            </a:r>
            <a:r>
              <a:rPr b="1" i="1" lang="en-US" sz="2200" spc="-1" strike="noStrike">
                <a:solidFill>
                  <a:srgbClr val="000000"/>
                </a:solidFill>
                <a:latin typeface="Perpetu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426" name="Picture 5" descr="2148FE3"/>
          <p:cNvPicPr/>
          <p:nvPr/>
        </p:nvPicPr>
        <p:blipFill>
          <a:blip r:embed="rId1"/>
          <a:srcRect l="1554" t="2867" r="0" b="11305"/>
          <a:stretch/>
        </p:blipFill>
        <p:spPr>
          <a:xfrm>
            <a:off x="826920" y="1557360"/>
            <a:ext cx="3168720" cy="53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solidFill>
            <a:srgbClr val="ece8e1"/>
          </a:solidFill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Deep Vein Thrombosis (DVT)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4933800" y="1447920"/>
            <a:ext cx="3749760" cy="5076720"/>
          </a:xfrm>
          <a:prstGeom prst="rect">
            <a:avLst/>
          </a:prstGeom>
          <a:solidFill>
            <a:srgbClr val="fad9cd"/>
          </a:solidFill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veins of the lower limb are subject to venous thrombosis after a bone fracture.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nous stasis is the main cause by pressure on the veins from the bedding during prolonged hospital stay and aggravated by muscular inactivity.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rombophlebitis  may develop around the vein.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lmonary thromboembolism  may occur when a thrombus breaks free from the lower limb vein and passes to the lungs. 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429" name="Picture 2" descr="C:\Documents and Settings\Jamila\Desktop\download (1).jpg"/>
          <p:cNvPicPr/>
          <p:nvPr/>
        </p:nvPicPr>
        <p:blipFill>
          <a:blip r:embed="rId1"/>
          <a:stretch/>
        </p:blipFill>
        <p:spPr>
          <a:xfrm>
            <a:off x="395280" y="1557360"/>
            <a:ext cx="4248000" cy="2376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30" name="Picture 3" descr="C:\Documents and Settings\Jamila\Desktop\download.jpg"/>
          <p:cNvPicPr/>
          <p:nvPr/>
        </p:nvPicPr>
        <p:blipFill>
          <a:blip r:embed="rId2"/>
          <a:stretch/>
        </p:blipFill>
        <p:spPr>
          <a:xfrm>
            <a:off x="1258920" y="4005360"/>
            <a:ext cx="2160720" cy="27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1" name="Rectangle 2"/>
          <p:cNvGrpSpPr/>
          <p:nvPr/>
        </p:nvGrpSpPr>
        <p:grpSpPr>
          <a:xfrm>
            <a:off x="755640" y="2584440"/>
            <a:ext cx="7785000" cy="1158840"/>
            <a:chOff x="755640" y="2584440"/>
            <a:chExt cx="7785000" cy="1158840"/>
          </a:xfrm>
        </p:grpSpPr>
        <p:pic>
          <p:nvPicPr>
            <p:cNvPr id="432" name="Rectangle 2" descr=""/>
            <p:cNvPicPr/>
            <p:nvPr/>
          </p:nvPicPr>
          <p:blipFill>
            <a:blip r:embed="rId1"/>
            <a:stretch/>
          </p:blipFill>
          <p:spPr>
            <a:xfrm>
              <a:off x="755640" y="2584440"/>
              <a:ext cx="7785000" cy="115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3" name=""/>
            <p:cNvSpPr/>
            <p:nvPr/>
          </p:nvSpPr>
          <p:spPr>
            <a:xfrm>
              <a:off x="762120" y="2590920"/>
              <a:ext cx="77724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9144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Thank You</a:t>
              </a:r>
              <a:endParaRPr b="0" lang="en-US" sz="5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solidFill>
            <a:srgbClr val="ebdfdb"/>
          </a:solidFill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RTERIES OF LOWER LIMB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337" name="Picture 2" descr="C:\Users\galmadani\Desktop\download.jpg"/>
          <p:cNvPicPr/>
          <p:nvPr/>
        </p:nvPicPr>
        <p:blipFill>
          <a:blip r:embed="rId1"/>
          <a:srcRect l="4582" t="2152" r="5983" b="0"/>
          <a:stretch/>
        </p:blipFill>
        <p:spPr>
          <a:xfrm>
            <a:off x="1692360" y="1536840"/>
            <a:ext cx="6408720" cy="53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1301760"/>
          </a:xfrm>
          <a:prstGeom prst="rect">
            <a:avLst/>
          </a:prstGeom>
          <a:solidFill>
            <a:srgbClr val="e9e6e7"/>
          </a:solidFill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EMORAL ARTERY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00720" y="1412640"/>
            <a:ext cx="4643280" cy="5445000"/>
          </a:xfrm>
          <a:prstGeom prst="rect">
            <a:avLst/>
          </a:prstGeom>
          <a:solidFill>
            <a:srgbClr val="fad9cd"/>
          </a:solidFill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d0d0d"/>
                </a:solidFill>
                <a:latin typeface="Times New Roman"/>
              </a:rPr>
              <a:t>Is the main arterial supply to the lower limb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d0d0d"/>
                </a:solidFill>
                <a:latin typeface="Times New Roman"/>
              </a:rPr>
              <a:t>It is the continuation of the </a:t>
            </a:r>
            <a:r>
              <a:rPr b="1" i="1" lang="en-US" sz="2400" spc="-1" strike="noStrike">
                <a:solidFill>
                  <a:srgbClr val="c00000"/>
                </a:solidFill>
                <a:latin typeface="Times New Roman"/>
              </a:rPr>
              <a:t>External Iliac artery</a:t>
            </a:r>
            <a:r>
              <a:rPr b="1" i="1" lang="en-US" sz="2400" spc="-1" strike="noStrike">
                <a:solidFill>
                  <a:srgbClr val="0d0d0d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d0d0d"/>
                </a:solidFill>
                <a:uFillTx/>
                <a:latin typeface="Times New Roman"/>
              </a:rPr>
              <a:t>BEGINNING</a:t>
            </a:r>
            <a:r>
              <a:rPr b="0" i="1" lang="en-US" sz="2400" spc="-1" strike="noStrike">
                <a:solidFill>
                  <a:srgbClr val="0d0d0d"/>
                </a:solidFill>
                <a:latin typeface="Times New Roman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Times New Roman"/>
              </a:rPr>
              <a:t>It enters the thigh behind the </a:t>
            </a:r>
            <a:r>
              <a:rPr b="1" i="1" lang="en-US" sz="2400" spc="-1" strike="noStrike">
                <a:solidFill>
                  <a:srgbClr val="0d0d0d"/>
                </a:solidFill>
                <a:latin typeface="Times New Roman"/>
              </a:rPr>
              <a:t>inguinal ligament </a:t>
            </a:r>
            <a:r>
              <a:rPr b="0" i="1" lang="en-US" sz="2400" spc="-1" strike="noStrike">
                <a:solidFill>
                  <a:srgbClr val="0d0d0d"/>
                </a:solidFill>
                <a:latin typeface="Times New Roman"/>
              </a:rPr>
              <a:t>at the </a:t>
            </a:r>
            <a:r>
              <a:rPr b="1" i="1" lang="en-US" sz="2400" spc="-1" strike="noStrike">
                <a:solidFill>
                  <a:srgbClr val="0d0d0d"/>
                </a:solidFill>
                <a:latin typeface="Times New Roman"/>
              </a:rPr>
              <a:t>Mid Inguinal  Point  (</a:t>
            </a:r>
            <a:r>
              <a:rPr b="0" i="1" lang="en-US" sz="2400" spc="-1" strike="noStrike">
                <a:solidFill>
                  <a:srgbClr val="0d0d0d"/>
                </a:solidFill>
                <a:latin typeface="Times New Roman"/>
              </a:rPr>
              <a:t>midway between the anterior superior iliac spine and the symphysis pubis)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340" name="Picture 8" descr="C:\Users\galmadani\Desktop\qi6N-PGxrvgnL8NDC9zjcw_m.png"/>
          <p:cNvPicPr/>
          <p:nvPr/>
        </p:nvPicPr>
        <p:blipFill>
          <a:blip r:embed="rId1"/>
          <a:stretch/>
        </p:blipFill>
        <p:spPr>
          <a:xfrm>
            <a:off x="0" y="1700280"/>
            <a:ext cx="4356000" cy="468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/>
          </p:nvPr>
        </p:nvSpPr>
        <p:spPr>
          <a:xfrm>
            <a:off x="5292720" y="475920"/>
            <a:ext cx="3851280" cy="6095880"/>
          </a:xfrm>
          <a:prstGeom prst="rect">
            <a:avLst/>
          </a:prstGeom>
          <a:solidFill>
            <a:srgbClr val="fad9cd"/>
          </a:solidFill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Relations: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n the femoral triangle the artery is superficial covered only by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kin &amp; fascia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osterior: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Hip joint  , separated from it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y Psoas muscl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edial: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emoral vein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ateral :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emoral nerve and its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342" name="Picture 6" descr="C:\Users\galmadani\Desktop\fem_anatomy.jpg"/>
          <p:cNvPicPr/>
          <p:nvPr/>
        </p:nvPicPr>
        <p:blipFill>
          <a:blip r:embed="rId1"/>
          <a:stretch/>
        </p:blipFill>
        <p:spPr>
          <a:xfrm>
            <a:off x="17640" y="189000"/>
            <a:ext cx="5275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4787640" y="475920"/>
            <a:ext cx="3895560" cy="5977080"/>
          </a:xfrm>
          <a:prstGeom prst="rect">
            <a:avLst/>
          </a:prstGeom>
          <a:solidFill>
            <a:srgbClr val="fad9cd"/>
          </a:solidFill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00000"/>
                </a:solidFill>
                <a:uFillTx/>
                <a:latin typeface="Times New Roman"/>
              </a:rPr>
              <a:t>Termination: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rtery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erminat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passing through 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dductor Canal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ep to sartorius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exits the canal by passing through 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dductor Hiatu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becomes the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opliteal artery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344" name="Picture 4" descr="C:\Users\galmadani\Documents\Student Gray\6. Lower limb\F66122-006-f042.jpg"/>
          <p:cNvPicPr/>
          <p:nvPr/>
        </p:nvPicPr>
        <p:blipFill>
          <a:blip r:embed="rId1"/>
          <a:srcRect l="10791" t="0" r="14180" b="3380"/>
          <a:stretch/>
        </p:blipFill>
        <p:spPr>
          <a:xfrm>
            <a:off x="250920" y="0"/>
            <a:ext cx="4321080" cy="65977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345" name="Oval 3"/>
          <p:cNvSpPr/>
          <p:nvPr/>
        </p:nvSpPr>
        <p:spPr>
          <a:xfrm>
            <a:off x="2771640" y="4724280"/>
            <a:ext cx="432000" cy="2174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Rectangle 4"/>
          <p:cNvSpPr/>
          <p:nvPr/>
        </p:nvSpPr>
        <p:spPr>
          <a:xfrm>
            <a:off x="900000" y="5516640"/>
            <a:ext cx="1008000" cy="431640"/>
          </a:xfrm>
          <a:prstGeom prst="rect">
            <a:avLst/>
          </a:prstGeom>
          <a:noFill/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7" name="Title 6"/>
          <p:cNvGrpSpPr/>
          <p:nvPr/>
        </p:nvGrpSpPr>
        <p:grpSpPr>
          <a:xfrm>
            <a:off x="450720" y="274680"/>
            <a:ext cx="8242560" cy="1152360"/>
            <a:chOff x="450720" y="274680"/>
            <a:chExt cx="8242560" cy="1152360"/>
          </a:xfrm>
        </p:grpSpPr>
        <p:pic>
          <p:nvPicPr>
            <p:cNvPr id="348" name="Title 6" descr=""/>
            <p:cNvPicPr/>
            <p:nvPr/>
          </p:nvPicPr>
          <p:blipFill>
            <a:blip r:embed="rId1"/>
            <a:stretch/>
          </p:blipFill>
          <p:spPr>
            <a:xfrm>
              <a:off x="450720" y="274680"/>
              <a:ext cx="8242560" cy="115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9" name=""/>
            <p:cNvSpPr/>
            <p:nvPr/>
          </p:nvSpPr>
          <p:spPr>
            <a:xfrm>
              <a:off x="457200" y="277920"/>
              <a:ext cx="8229600" cy="11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9144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Branches</a:t>
              </a:r>
              <a:endParaRPr b="0" lang="en-US" sz="4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50" name="PlaceHolder 1"/>
          <p:cNvSpPr>
            <a:spLocks noGrp="1"/>
          </p:cNvSpPr>
          <p:nvPr>
            <p:ph/>
          </p:nvPr>
        </p:nvSpPr>
        <p:spPr>
          <a:xfrm>
            <a:off x="5292720" y="1600200"/>
            <a:ext cx="3851280" cy="5068800"/>
          </a:xfrm>
          <a:prstGeom prst="rect">
            <a:avLst/>
          </a:prstGeom>
          <a:solidFill>
            <a:srgbClr val="f4cec9"/>
          </a:solidFill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Perpetua"/>
              </a:rPr>
              <a:t>The femoral artery supplies: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Lower abdominal wall, Thigh &amp; External Genitalia </a:t>
            </a:r>
            <a:r>
              <a:rPr b="1" i="1" lang="en-US" sz="2400" spc="-1" strike="noStrike">
                <a:solidFill>
                  <a:srgbClr val="000000"/>
                </a:solidFill>
                <a:latin typeface="Perpetua"/>
              </a:rPr>
              <a:t>through the following branches: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1.Superficial Epigastric.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2.Superficial Circumflex Iliac.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3.Superficial External Pudendal.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4. Deep External Pudendal.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7030a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c00000"/>
                </a:solidFill>
                <a:latin typeface="Times New Roman"/>
              </a:rPr>
              <a:t>5.Profunda Femoris (Deep Artery of Thigh)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351" name="Picture 12" descr="C:\Users\galmadani\Desktop\TcIa6xJnpuVxh-2-3Y_rRA_m.jpg"/>
          <p:cNvPicPr/>
          <p:nvPr/>
        </p:nvPicPr>
        <p:blipFill>
          <a:blip r:embed="rId2"/>
          <a:stretch/>
        </p:blipFill>
        <p:spPr>
          <a:xfrm>
            <a:off x="250920" y="1628640"/>
            <a:ext cx="4897440" cy="5040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2" name="Title 1"/>
          <p:cNvGrpSpPr/>
          <p:nvPr/>
        </p:nvGrpSpPr>
        <p:grpSpPr>
          <a:xfrm>
            <a:off x="450720" y="274680"/>
            <a:ext cx="8242560" cy="1152360"/>
            <a:chOff x="450720" y="274680"/>
            <a:chExt cx="8242560" cy="1152360"/>
          </a:xfrm>
        </p:grpSpPr>
        <p:pic>
          <p:nvPicPr>
            <p:cNvPr id="353" name="Title 1" descr=""/>
            <p:cNvPicPr/>
            <p:nvPr/>
          </p:nvPicPr>
          <p:blipFill>
            <a:blip r:embed="rId1"/>
            <a:stretch/>
          </p:blipFill>
          <p:spPr>
            <a:xfrm>
              <a:off x="450720" y="274680"/>
              <a:ext cx="8242560" cy="115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4" name=""/>
            <p:cNvSpPr/>
            <p:nvPr/>
          </p:nvSpPr>
          <p:spPr>
            <a:xfrm>
              <a:off x="457200" y="277920"/>
              <a:ext cx="8229600" cy="11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9144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Profunda Femoris Artery</a:t>
              </a: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55" name="PlaceHolder 1"/>
          <p:cNvSpPr>
            <a:spLocks noGrp="1"/>
          </p:cNvSpPr>
          <p:nvPr>
            <p:ph/>
          </p:nvPr>
        </p:nvSpPr>
        <p:spPr>
          <a:xfrm>
            <a:off x="5364000" y="1600200"/>
            <a:ext cx="3322800" cy="4997520"/>
          </a:xfrm>
          <a:prstGeom prst="rect">
            <a:avLst/>
          </a:prstGeom>
          <a:solidFill>
            <a:srgbClr val="fad9cd"/>
          </a:solidFill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It is the  main arterial supply to the thigh.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It arises from the lateral side of the femoral artery &amp;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Passes medially behind th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emoral vessels.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gives: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Medial &amp; lateral circumflex femoral arteries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Three perforating arteries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t ends by becoming the </a:t>
            </a:r>
            <a:r>
              <a:rPr b="1" i="1" lang="en-US" sz="2400" spc="-1" strike="noStrike">
                <a:solidFill>
                  <a:srgbClr val="c00000"/>
                </a:solidFill>
                <a:latin typeface="Times New Roman"/>
              </a:rPr>
              <a:t>4</a:t>
            </a:r>
            <a:r>
              <a:rPr b="1" i="1" lang="en-US" sz="2400" spc="-1" strike="noStrike" baseline="30000">
                <a:solidFill>
                  <a:srgbClr val="c00000"/>
                </a:solidFill>
                <a:latin typeface="Times New Roman"/>
              </a:rPr>
              <a:t>th</a:t>
            </a:r>
            <a:r>
              <a:rPr b="1" i="1" lang="en-US" sz="2400" spc="-1" strike="noStrike">
                <a:solidFill>
                  <a:srgbClr val="c00000"/>
                </a:solidFill>
                <a:latin typeface="Times New Roman"/>
              </a:rPr>
              <a:t> perforating artery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356" name="Picture 8" descr="C:\Users\galmadani\Desktop\Femoral_Artery.JPG"/>
          <p:cNvPicPr/>
          <p:nvPr/>
        </p:nvPicPr>
        <p:blipFill>
          <a:blip r:embed="rId2"/>
          <a:stretch/>
        </p:blipFill>
        <p:spPr>
          <a:xfrm>
            <a:off x="108000" y="1623960"/>
            <a:ext cx="4824360" cy="4838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solidFill>
            <a:srgbClr val="d3cece"/>
          </a:solidFill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ARTERIALANASTOMOSIS IN THE GLUTEAL REGION</a:t>
            </a: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427640" y="1483920"/>
            <a:ext cx="3744720" cy="4969080"/>
          </a:xfrm>
          <a:prstGeom prst="rect">
            <a:avLst/>
          </a:prstGeom>
          <a:solidFill>
            <a:srgbClr val="fad9cd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CRUCIATE ANASTOMOSI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It supplies blood to the lower limb in case of ligation of the femoral artery.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66"/>
                </a:solidFill>
                <a:latin typeface="Times New Roman"/>
              </a:rPr>
              <a:t>It is formed by  the union of 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Medial &amp; Lateral  circumflex femoral arteries + the Inferior gluteal artery + the First perforating artery.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It forms anastomosis between branches of External&amp; Internal iliac arteries.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359" name="Picture 2" descr="L:\Student Gray\6. Lower limb\F66122-006-f063.jpg"/>
          <p:cNvPicPr/>
          <p:nvPr/>
        </p:nvPicPr>
        <p:blipFill>
          <a:blip r:embed="rId1"/>
          <a:srcRect l="49529" t="0" r="0" b="3340"/>
          <a:stretch/>
        </p:blipFill>
        <p:spPr>
          <a:xfrm>
            <a:off x="179280" y="1628640"/>
            <a:ext cx="3961080" cy="5256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60" name="Oval 3"/>
          <p:cNvSpPr/>
          <p:nvPr/>
        </p:nvSpPr>
        <p:spPr>
          <a:xfrm>
            <a:off x="2268360" y="2852640"/>
            <a:ext cx="1656000" cy="36036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3T09:29:36Z</dcterms:created>
  <dc:creator>DTK</dc:creator>
  <dc:description/>
  <dc:language>en-US</dc:language>
  <cp:lastModifiedBy>Jamila hafizelmedany</cp:lastModifiedBy>
  <dcterms:modified xsi:type="dcterms:W3CDTF">2015-12-07T08:22:26Z</dcterms:modified>
  <cp:revision>310</cp:revision>
  <dc:subject/>
  <dc:title>Slide 1</dc:title>
</cp:coreProperties>
</file>