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6.jpeg" ContentType="image/jpeg"/>
  <Override PartName="/ppt/media/image12.png" ContentType="image/png"/>
  <Override PartName="/ppt/media/image5.png" ContentType="image/png"/>
  <Override PartName="/ppt/media/image29.jpeg" ContentType="image/jpeg"/>
  <Override PartName="/ppt/media/image11.jpeg" ContentType="image/jpeg"/>
  <Override PartName="/ppt/media/image8.jpeg" ContentType="image/jpeg"/>
  <Override PartName="/ppt/media/image38.png" ContentType="image/pn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33.jpeg" ContentType="image/jpeg"/>
  <Override PartName="/ppt/media/image37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37AB-9034-4951-8FCD-729C631C9C0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390C-72A1-40C6-8DE4-7EBEA2D4ACD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1D25-6173-477F-BF92-7C7BFCBBB60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5D8-2492-47AB-AD5D-941CBE6C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1FED-1CCE-4FAF-84D8-1C48D009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23FE-703F-4340-86B7-BAC73F3AF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FFC7-8C42-4658-87BE-327F01F5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7537-62BB-4DA0-8EEA-58A22D3E3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7215-3AFC-4BF2-81C4-809F7F0B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951C-5A54-4F21-9B71-C1381EEF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C7B4-0E5C-4942-92D3-5171DB50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9BA9-85F2-46FA-90BB-55A38752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AE51-F6CA-4C69-920B-8A712C68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1990-1A15-4FA4-A5C3-29637261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156A-0605-4A1D-8C59-A4E21A98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B5F20-BFCC-4F9F-B277-FA03DFAF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B9FF-D43F-4D17-95AB-406443B2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E0C3-B98D-4AC4-9965-88FB4600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6F098-585E-40EC-88F8-C129FF02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92BD-6D76-4418-983D-68CD747DF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C44F1-B6BE-4500-9EEB-C8C90880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D5C6C-19AB-488A-B525-F5790223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5EFF1-8266-4635-A78D-8B8BE4F4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38E09-19A7-4736-8642-0C75F233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8742A-7E50-4CEB-BAC0-290DD586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51B3-4340-450D-8A23-E071C94F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63D43-0DD8-4A6F-AB00-6BF25164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926EB-6263-4B5F-8B02-E30C73D6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4FA95-B906-4F46-8136-CF2CF7D3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A9C6D-BD6B-4773-828D-38E579BE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189E5-720C-4A0A-A137-624BD536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98DC6-E9BC-426E-BE73-1B514026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1C530-EB14-4DA1-A985-3A880728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04172-9531-49D3-8F27-D0EB57E1C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87827-89F5-4514-91C1-451E5CBC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20430-1DDB-45F5-A071-5F4B2FC8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72EA-043B-4271-BB5F-7A22D89B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CFA01-809F-40C2-99AD-33B1D178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3CC44-371C-4D1B-9415-F67968E3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AE1EC-B930-4C51-A88C-57B16C68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3646B-F8A0-42F2-916B-ABA2625B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0E633-09FF-462E-AF24-824947C0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955B5-7B69-4F9F-9AA9-73DFF87F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6BAE0-1E20-4601-867B-8B6AF1D1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7C1E3-FE1F-4961-8ACA-7FA44E21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B48B1-C2C7-42D1-A7F0-C6E5430AA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B2F17-3FE7-46C4-991C-6CFA766B8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F207-4158-46BE-A251-433E285B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6AB59-B00D-4C91-9F97-B6FB92A3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981E2-57EF-4221-981F-D0EF9110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694F9-FA85-4454-83E4-BED2EE93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1857D-7326-49D7-ABB0-56207835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01818-E567-4536-A911-3A0F3B38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A4651-D8EA-48BC-AB7E-BE817AD6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2C74B-5B26-4327-9002-E465C4B5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A5DDB-B35E-4017-A16C-9C5E54BE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69266-FEC5-47D5-8737-DA753247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F3095-D615-4C78-B756-C4BAEDCEC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8988-9ACF-4B60-A6F3-52CC8FD3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5485B-CEE8-4466-86AF-516E1C9FE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E8444-DDD6-4EC4-B5E2-CC48EBCB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7EC39-C9D4-4C03-8490-CBD303ACF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DF594-92C8-404B-8D31-3796F515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FB71C-8759-4AE4-9CF4-CB57485B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E34D8-FE4B-478B-BE4E-1D816DD2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3DE57-C27D-4109-A367-7F8ACA12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4F26F-D2AE-44FB-A605-C1200AFB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CAC82-355A-4874-A774-8E627E81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39960-3D4D-4388-8E6F-683D5CCA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88ED-3CDF-4F36-87F1-F52F46FF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87404-EA6F-40D2-9042-AEE3CFDF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18904-CBCF-468E-9765-47A90BC4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E0B1D-B8C8-45BC-BF54-4F648B42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4FD90-F87B-44AC-ABFF-E87266AD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FA4A8-5E06-49A4-B564-9B09B20B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3FCB0-8E52-41DC-AA6B-24DB8703E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4EDDA-8E14-4C7F-A32F-03AE9C25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F0CB7-E41F-4445-88AD-F5A183BE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9715A-4BE5-48DC-82F0-72FEAF94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98F8F2-130D-419C-BE0C-48E6C79E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D4EA-2096-473C-9613-0B34D2FD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A2B01-89EB-40B7-A5DA-A5D75FD1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9A2DE-5023-4BF6-997D-EBD20A13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1C246-99AB-4331-8338-A2F9A995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6E8A2-64C3-42FF-B652-030521EB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27306-128A-47D9-96C0-7DA2CDCE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943B-CD61-469A-8309-E425B979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FDD6-4E8E-48AF-9EE9-B50E0707C45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82DC-6665-42B1-B112-128477E7EC8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28D1-69D1-4AF4-8F8F-AB17E0828931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F854-C584-4B77-BA18-7847ECFA5D1A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6818-FD2C-487A-8F2C-4FAC0FCC4CB9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0440"/>
            <a:ext cx="15087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1541-DBF0-48A0-9A01-22C65656793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6865200" y="6310440"/>
            <a:ext cx="150876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36A0-5C95-446A-B79D-B3F173AF408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Title 1"/>
          <p:cNvGrpSpPr/>
          <p:nvPr/>
        </p:nvGrpSpPr>
        <p:grpSpPr>
          <a:xfrm>
            <a:off x="450720" y="268200"/>
            <a:ext cx="8242560" cy="2737080"/>
            <a:chOff x="450720" y="268200"/>
            <a:chExt cx="8242560" cy="2737080"/>
          </a:xfrm>
        </p:grpSpPr>
        <p:pic>
          <p:nvPicPr>
            <p:cNvPr id="322" name="Title 1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2560" cy="273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457200" y="274680"/>
              <a:ext cx="8229600" cy="272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ARTERIES  AND VEINS </a:t>
              </a:r>
              <a:br>
                <a:rPr sz="4000"/>
              </a:br>
              <a:r>
                <a:rPr b="1" i="1" lang="en-US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OF </a:t>
              </a:r>
              <a:br>
                <a:rPr sz="4000"/>
              </a:br>
              <a:r>
                <a:rPr b="1" i="1" lang="en-US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THE LOWER LIMB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4" name="TextBox 5"/>
          <p:cNvGrpSpPr/>
          <p:nvPr/>
        </p:nvGrpSpPr>
        <p:grpSpPr>
          <a:xfrm>
            <a:off x="847800" y="3578400"/>
            <a:ext cx="3565440" cy="609480"/>
            <a:chOff x="847800" y="3578400"/>
            <a:chExt cx="3565440" cy="609480"/>
          </a:xfrm>
        </p:grpSpPr>
        <p:pic>
          <p:nvPicPr>
            <p:cNvPr id="325" name="TextBox 5" descr=""/>
            <p:cNvPicPr/>
            <p:nvPr/>
          </p:nvPicPr>
          <p:blipFill>
            <a:blip r:embed="rId2"/>
            <a:stretch/>
          </p:blipFill>
          <p:spPr>
            <a:xfrm>
              <a:off x="847800" y="3578400"/>
              <a:ext cx="35654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900000" y="3645000"/>
              <a:ext cx="34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Perpetua"/>
                </a:rPr>
                <a:t>Dr.  JAMILA ELMEDAN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27" name="TextBox 6"/>
          <p:cNvGrpSpPr/>
          <p:nvPr/>
        </p:nvGrpSpPr>
        <p:grpSpPr>
          <a:xfrm>
            <a:off x="5022720" y="3578400"/>
            <a:ext cx="3273480" cy="609480"/>
            <a:chOff x="5022720" y="3578400"/>
            <a:chExt cx="3273480" cy="609480"/>
          </a:xfrm>
        </p:grpSpPr>
        <p:pic>
          <p:nvPicPr>
            <p:cNvPr id="328" name="TextBox 6" descr=""/>
            <p:cNvPicPr/>
            <p:nvPr/>
          </p:nvPicPr>
          <p:blipFill>
            <a:blip r:embed="rId3"/>
            <a:stretch/>
          </p:blipFill>
          <p:spPr>
            <a:xfrm>
              <a:off x="5022720" y="3578400"/>
              <a:ext cx="327348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076720" y="3645000"/>
              <a:ext cx="316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Perpetua"/>
                </a:rPr>
                <a:t>Dr.  ESSAM SALAMA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C:\Documents and Settings\Jamila\Desktop\20121130093506_50824.jpg"/>
          <p:cNvPicPr/>
          <p:nvPr/>
        </p:nvPicPr>
        <p:blipFill>
          <a:blip r:embed="rId1"/>
          <a:srcRect l="0" t="0" r="0" b="3116"/>
          <a:stretch/>
        </p:blipFill>
        <p:spPr>
          <a:xfrm>
            <a:off x="0" y="549360"/>
            <a:ext cx="4776840" cy="536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62" name="TextBox 4"/>
          <p:cNvGrpSpPr/>
          <p:nvPr/>
        </p:nvGrpSpPr>
        <p:grpSpPr>
          <a:xfrm>
            <a:off x="4797360" y="841320"/>
            <a:ext cx="4303800" cy="2455920"/>
            <a:chOff x="4797360" y="841320"/>
            <a:chExt cx="4303800" cy="2455920"/>
          </a:xfrm>
        </p:grpSpPr>
        <p:pic>
          <p:nvPicPr>
            <p:cNvPr id="363" name="TextBox 4" descr=""/>
            <p:cNvPicPr/>
            <p:nvPr/>
          </p:nvPicPr>
          <p:blipFill>
            <a:blip r:embed="rId2"/>
            <a:stretch/>
          </p:blipFill>
          <p:spPr>
            <a:xfrm>
              <a:off x="4797360" y="841320"/>
              <a:ext cx="4303800" cy="24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4932360" y="907920"/>
              <a:ext cx="40323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Trochanteric Anastomosi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ormed from anastomosis of branches of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Medial &amp; Lateral circumflex femoral arteries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ts main function is to supply the head &amp; neck of femur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5" name="Rectangle 1"/>
          <p:cNvSpPr/>
          <p:nvPr/>
        </p:nvSpPr>
        <p:spPr>
          <a:xfrm>
            <a:off x="3780000" y="2492280"/>
            <a:ext cx="1008000" cy="289080"/>
          </a:xfrm>
          <a:prstGeom prst="rect">
            <a:avLst/>
          </a:prstGeom>
          <a:noFill/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Rectangle 2"/>
          <p:cNvSpPr/>
          <p:nvPr/>
        </p:nvSpPr>
        <p:spPr>
          <a:xfrm>
            <a:off x="3780000" y="2781360"/>
            <a:ext cx="1008000" cy="2872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4906800" cy="116208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nnulation of FA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grpSp>
        <p:nvGrpSpPr>
          <p:cNvPr id="368" name="Text Placeholder 2"/>
          <p:cNvGrpSpPr/>
          <p:nvPr/>
        </p:nvGrpSpPr>
        <p:grpSpPr>
          <a:xfrm>
            <a:off x="457200" y="1590840"/>
            <a:ext cx="3121200" cy="4943160"/>
            <a:chOff x="457200" y="1590840"/>
            <a:chExt cx="3121200" cy="4943160"/>
          </a:xfrm>
        </p:grpSpPr>
        <p:pic>
          <p:nvPicPr>
            <p:cNvPr id="369" name="Text Placeholder 2" descr=""/>
            <p:cNvPicPr/>
            <p:nvPr/>
          </p:nvPicPr>
          <p:blipFill>
            <a:blip r:embed="rId1"/>
            <a:stretch/>
          </p:blipFill>
          <p:spPr>
            <a:xfrm>
              <a:off x="457200" y="1590840"/>
              <a:ext cx="3121200" cy="49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468360" y="1600200"/>
              <a:ext cx="3095640" cy="49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cause of the superficial position of the femoral artery, it is used for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ft cardiac angiograph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 long catheter is  inserted percutaneously into the artery and passed up the external iliac artery, common iliac artery , aorta to the left ventricle.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71" name="Picture 9" descr="C:\Users\galmadani\Desktop\images (1).jpg"/>
          <p:cNvPicPr/>
          <p:nvPr/>
        </p:nvPicPr>
        <p:blipFill>
          <a:blip r:embed="rId2"/>
          <a:srcRect l="0" t="0" r="6023" b="4494"/>
          <a:stretch/>
        </p:blipFill>
        <p:spPr>
          <a:xfrm>
            <a:off x="4211640" y="1413000"/>
            <a:ext cx="4753080" cy="51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EMORAL PULS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970440" cy="500076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an be palpated ju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erior to the Midinguinal poin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How to Stop bleeding from the femoral artery?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 pressing the artery directly posterior against the superior pubic ramus and the femoral head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4" name="Picture 3" descr="C:\Documents and Settings\lib\My Documents\My Pictures\Picture2.jpg"/>
          <p:cNvPicPr/>
          <p:nvPr/>
        </p:nvPicPr>
        <p:blipFill>
          <a:blip r:embed="rId1"/>
          <a:srcRect l="1137" t="9066" r="62398" b="56366"/>
          <a:stretch/>
        </p:blipFill>
        <p:spPr>
          <a:xfrm>
            <a:off x="4716360" y="1484280"/>
            <a:ext cx="37958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PLITEAL ARTER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148000" y="1599840"/>
            <a:ext cx="3538440" cy="4530600"/>
          </a:xfrm>
          <a:prstGeom prst="rect">
            <a:avLst/>
          </a:prstGeom>
          <a:solidFill>
            <a:srgbClr val="fad9cd"/>
          </a:solidFill>
          <a:ln w="9360">
            <a:solidFill>
              <a:srgbClr val="bdb5b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he continuation of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he femoral artery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It is the deepest structure in the Popliteal Fossa (posterior to the Popliteal Vein &amp; Tibial Nerve), it runs close to the capsule of the knee joint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ff"/>
                </a:solidFill>
                <a:uFillTx/>
                <a:latin typeface="Times New Roman"/>
              </a:rPr>
              <a:t>It Ends</a:t>
            </a:r>
            <a:r>
              <a:rPr b="1" i="1" lang="en-US" sz="2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t the lower border of popliteus muscle by dividing into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Anterior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Posterior</a:t>
            </a:r>
            <a:r>
              <a:rPr b="1" i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ibial Arterie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77" name="Picture 2" descr="F:\New Folder\scan0020.jpg"/>
          <p:cNvPicPr/>
          <p:nvPr/>
        </p:nvPicPr>
        <p:blipFill>
          <a:blip r:embed="rId1"/>
          <a:stretch/>
        </p:blipFill>
        <p:spPr>
          <a:xfrm>
            <a:off x="826920" y="4525920"/>
            <a:ext cx="2487960" cy="2332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78" name="Picture 6" descr="C:\Users\galmadani\Desktop\part06_ch16_fig11.gif"/>
          <p:cNvPicPr/>
          <p:nvPr/>
        </p:nvPicPr>
        <p:blipFill>
          <a:blip r:embed="rId2"/>
          <a:stretch/>
        </p:blipFill>
        <p:spPr>
          <a:xfrm>
            <a:off x="826920" y="1352520"/>
            <a:ext cx="403236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L:\Student Gray\6. Lower limb\F66122-006-f076.jpg"/>
          <p:cNvPicPr/>
          <p:nvPr/>
        </p:nvPicPr>
        <p:blipFill>
          <a:blip r:embed="rId1"/>
          <a:srcRect l="13549" t="0" r="13156" b="4008"/>
          <a:stretch/>
        </p:blipFill>
        <p:spPr>
          <a:xfrm>
            <a:off x="14400" y="1695600"/>
            <a:ext cx="4773600" cy="5162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80" name="Title 7"/>
          <p:cNvGrpSpPr/>
          <p:nvPr/>
        </p:nvGrpSpPr>
        <p:grpSpPr>
          <a:xfrm>
            <a:off x="450720" y="274680"/>
            <a:ext cx="8242560" cy="1152360"/>
            <a:chOff x="450720" y="274680"/>
            <a:chExt cx="8242560" cy="1152360"/>
          </a:xfrm>
        </p:grpSpPr>
        <p:pic>
          <p:nvPicPr>
            <p:cNvPr id="381" name="Title 7" descr=""/>
            <p:cNvPicPr/>
            <p:nvPr/>
          </p:nvPicPr>
          <p:blipFill>
            <a:blip r:embed="rId2"/>
            <a:stretch/>
          </p:blipFill>
          <p:spPr>
            <a:xfrm>
              <a:off x="450720" y="274680"/>
              <a:ext cx="82425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457200" y="277920"/>
              <a:ext cx="82296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Branches  of Popliteal  Artery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932000" y="1599840"/>
            <a:ext cx="4211640" cy="453060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Muscular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ive 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</a:rPr>
              <a:t>Genicular branches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o the articular capsule and ligaments of the knee joint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. </a:t>
            </a: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Times New Roman"/>
              </a:rPr>
              <a:t>Genicular Anastomosis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It is an important anastomosis</a:t>
            </a:r>
            <a:r>
              <a:rPr b="1" i="1" lang="en-US" sz="2200" spc="-1" strike="noStrike" u="sng">
                <a:solidFill>
                  <a:srgbClr val="c00000"/>
                </a:solidFill>
                <a:uFillTx/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round the knee. It compensates for the narrowing of the Popliteal artery during prolonged flexion of the knee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Formed from the genicular branches of the popliteal artery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pliteal Puls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3384720" cy="449568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of the deep position of the artery, its pulsations are best felt i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erior part of the popliteal fossa ( he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tery is related to the tibia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20a4"/>
                </a:solidFill>
                <a:latin typeface="Times New Roman"/>
              </a:rPr>
              <a:t>Weakening or loss of the popliteal pulse is a sign of femoral artery obstructio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86" name="Picture 3" descr="C:\Documents and Settings\lib\My Documents\My Pictures\Picture2.jpg"/>
          <p:cNvPicPr/>
          <p:nvPr/>
        </p:nvPicPr>
        <p:blipFill>
          <a:blip r:embed="rId1"/>
          <a:srcRect l="70503" t="8663" r="1500" b="56977"/>
          <a:stretch/>
        </p:blipFill>
        <p:spPr>
          <a:xfrm>
            <a:off x="5651640" y="1484280"/>
            <a:ext cx="31510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ANTERIOR TIBIAL ARTER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32000" y="1600200"/>
            <a:ext cx="3816360" cy="506880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t is the smaller terminal branch of the popliteal arte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t enters the anterior compartment of the leg in company with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ep Peroneal nerve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t supplies structures in the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Anterior Compartment of the Leg &amp; Dorsum of foot</a:t>
            </a: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ff0000"/>
                </a:solidFill>
                <a:uFillTx/>
                <a:latin typeface="Times New Roman"/>
              </a:rPr>
              <a:t>It end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t the ankle joint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dway between the malleoli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here it becomes the </a:t>
            </a:r>
            <a:r>
              <a:rPr b="1" i="1" lang="en-US" sz="2600" spc="-1" strike="noStrike" u="sng">
                <a:solidFill>
                  <a:srgbClr val="c00000"/>
                </a:solidFill>
                <a:uFillTx/>
                <a:latin typeface="Times New Roman"/>
              </a:rPr>
              <a:t>Dorsalis Pedi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rtery (dorsal artery of the foot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89" name="Picture 6" descr="C:\Users\galmadani\Documents\Student Gray\6. Lower limb\F66122-006-f089.jpg"/>
          <p:cNvPicPr/>
          <p:nvPr/>
        </p:nvPicPr>
        <p:blipFill>
          <a:blip r:embed="rId1"/>
          <a:srcRect l="12866" t="0" r="14425" b="2330"/>
          <a:stretch/>
        </p:blipFill>
        <p:spPr>
          <a:xfrm>
            <a:off x="1187280" y="1557360"/>
            <a:ext cx="3529080" cy="501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0" name="Rectangle 2"/>
          <p:cNvSpPr/>
          <p:nvPr/>
        </p:nvSpPr>
        <p:spPr>
          <a:xfrm>
            <a:off x="2843280" y="2708280"/>
            <a:ext cx="1441440" cy="289080"/>
          </a:xfrm>
          <a:prstGeom prst="rect">
            <a:avLst/>
          </a:prstGeom>
          <a:noFill/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Oval 5"/>
          <p:cNvSpPr/>
          <p:nvPr/>
        </p:nvSpPr>
        <p:spPr>
          <a:xfrm>
            <a:off x="3132000" y="5084640"/>
            <a:ext cx="1079640" cy="289080"/>
          </a:xfrm>
          <a:prstGeom prst="ellipse">
            <a:avLst/>
          </a:prstGeom>
          <a:noFill/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RSALIS PEDIS ARTERY</a:t>
            </a:r>
            <a:br>
              <a:rPr sz="3600"/>
            </a:b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219280" y="1571760"/>
            <a:ext cx="3924360" cy="5286240"/>
          </a:xfrm>
          <a:prstGeom prst="rect">
            <a:avLst/>
          </a:prstGeom>
          <a:solidFill>
            <a:srgbClr val="fad9cd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t is the main source of blood supply to the to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egins in front of ankle joint as the direct continuation of the </a:t>
            </a:r>
            <a:r>
              <a:rPr b="1" i="1" lang="en-US" sz="2000" spc="-1" strike="noStrike">
                <a:solidFill>
                  <a:srgbClr val="cc0066"/>
                </a:solidFill>
                <a:latin typeface="Times New Roman"/>
              </a:rPr>
              <a:t>Anterior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cc0066"/>
                </a:solidFill>
                <a:latin typeface="Times New Roman"/>
              </a:rPr>
              <a:t>Tibial artery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t is superficial in position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t passes to the 1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interosseous space where it divides into a deep plantar artery (to the sole  to join the plantar arch) and the first  dorsal metatarsal artery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94" name="Picture 15" descr="C:\Documents and Settings\Jamila\Desktop\560fig21334194535521.jpeg"/>
          <p:cNvPicPr/>
          <p:nvPr/>
        </p:nvPicPr>
        <p:blipFill>
          <a:blip r:embed="rId1"/>
          <a:stretch/>
        </p:blipFill>
        <p:spPr>
          <a:xfrm>
            <a:off x="179280" y="1628640"/>
            <a:ext cx="4753080" cy="511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95" name="Rectangle 18"/>
          <p:cNvSpPr/>
          <p:nvPr/>
        </p:nvSpPr>
        <p:spPr>
          <a:xfrm>
            <a:off x="3419640" y="4221000"/>
            <a:ext cx="1081080" cy="216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1600" y="333000"/>
            <a:ext cx="7772400" cy="114300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P Puls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10920" y="1523880"/>
            <a:ext cx="3816360" cy="514512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t is easy to be felt being subcutaneous, over the tarsal bones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between the tendons of Extensor halluci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longus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and Extensor   digitorum longus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ome people have congenitally non palpable DP pulse, the  anomaly is usually bilateral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ff"/>
                </a:solidFill>
                <a:latin typeface="Times New Roman"/>
              </a:rPr>
              <a:t>A diminished or absent dorsalis pedis pulse usually suggests vascular insufficienc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esulting from arterial diseas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e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98" name="Picture 5" descr="C:\Users\galmadani\Documents\Student Gray\6. Lower limb\F66122-006-f129.jpg"/>
          <p:cNvPicPr/>
          <p:nvPr/>
        </p:nvPicPr>
        <p:blipFill>
          <a:blip r:embed="rId1"/>
          <a:srcRect l="19811" t="0" r="15797" b="4121"/>
          <a:stretch/>
        </p:blipFill>
        <p:spPr>
          <a:xfrm>
            <a:off x="5219640" y="1413000"/>
            <a:ext cx="3598920" cy="47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POSTERIOR TIBIAL ARTER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284720" y="1557360"/>
            <a:ext cx="4680000" cy="5300640"/>
          </a:xfrm>
          <a:prstGeom prst="rect">
            <a:avLst/>
          </a:prstGeom>
          <a:solidFill>
            <a:srgbClr val="fad9c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 is the larger terminal branch of the popliteal artery and provides the main blood supply to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Posterior compartment of the Leg &amp; Sole of the Foot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ts lower part is covered  by skin &amp; fascia only.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t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Terminates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by dividing into: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Medial &amp; Lateral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lantar arter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Branches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c00000"/>
                </a:solidFill>
                <a:latin typeface="Times New Roman"/>
              </a:rPr>
              <a:t>1.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Nutrient artery to the tibia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he  largest nutrient artery of the body)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2. Calcaneal arteries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upply the Heel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c00000"/>
                </a:solidFill>
                <a:latin typeface="Times New Roman"/>
              </a:rPr>
              <a:t>3. </a:t>
            </a:r>
            <a:r>
              <a:rPr b="1" i="1" lang="en-US" sz="2200" spc="-1" strike="noStrike" u="sng">
                <a:solidFill>
                  <a:srgbClr val="c00000"/>
                </a:solidFill>
                <a:uFillTx/>
                <a:latin typeface="Times New Roman"/>
              </a:rPr>
              <a:t>Peroneal (Fibular) artery: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he largest  and most important branch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t supplies a nutrient artery to the fibula &amp; Muscular branches to the muscles of the lateral and posterior compartments of the leg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000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01" name="Picture 10" descr="C:\Documents and Settings\Jamila\My Documents\My Pictures\Picture50.jpg"/>
          <p:cNvPicPr/>
          <p:nvPr/>
        </p:nvPicPr>
        <p:blipFill>
          <a:blip r:embed="rId1"/>
          <a:stretch/>
        </p:blipFill>
        <p:spPr>
          <a:xfrm>
            <a:off x="179280" y="1484280"/>
            <a:ext cx="4105440" cy="537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2" name="Rectangle 5"/>
          <p:cNvSpPr/>
          <p:nvPr/>
        </p:nvSpPr>
        <p:spPr>
          <a:xfrm>
            <a:off x="611280" y="3429000"/>
            <a:ext cx="792000" cy="360360"/>
          </a:xfrm>
          <a:prstGeom prst="rect">
            <a:avLst/>
          </a:prstGeom>
          <a:noFill/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Down Arrow 7"/>
          <p:cNvSpPr/>
          <p:nvPr/>
        </p:nvSpPr>
        <p:spPr>
          <a:xfrm>
            <a:off x="3129120" y="3990960"/>
            <a:ext cx="288720" cy="36036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c00000"/>
          </a:solidFill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Title 1"/>
          <p:cNvGrpSpPr/>
          <p:nvPr/>
        </p:nvGrpSpPr>
        <p:grpSpPr>
          <a:xfrm>
            <a:off x="858960" y="244440"/>
            <a:ext cx="7883280" cy="1255680"/>
            <a:chOff x="858960" y="244440"/>
            <a:chExt cx="7883280" cy="1255680"/>
          </a:xfrm>
        </p:grpSpPr>
        <p:pic>
          <p:nvPicPr>
            <p:cNvPr id="331" name="Title 1" descr=""/>
            <p:cNvPicPr/>
            <p:nvPr/>
          </p:nvPicPr>
          <p:blipFill>
            <a:blip r:embed="rId1"/>
            <a:stretch/>
          </p:blipFill>
          <p:spPr>
            <a:xfrm>
              <a:off x="858960" y="244440"/>
              <a:ext cx="78832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914400" y="2746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c00000"/>
                  </a:solidFill>
                  <a:latin typeface="Perpetua"/>
                </a:rPr>
                <a:t>Objectives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33" name="Content Placeholder 2"/>
          <p:cNvGrpSpPr/>
          <p:nvPr/>
        </p:nvGrpSpPr>
        <p:grpSpPr>
          <a:xfrm>
            <a:off x="804960" y="1371600"/>
            <a:ext cx="8057880" cy="4730760"/>
            <a:chOff x="804960" y="1371600"/>
            <a:chExt cx="8057880" cy="4730760"/>
          </a:xfrm>
        </p:grpSpPr>
        <p:pic>
          <p:nvPicPr>
            <p:cNvPr id="334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804960" y="1371600"/>
              <a:ext cx="8057880" cy="47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914400" y="1447920"/>
              <a:ext cx="77724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7c6b4d"/>
                  </a:solidFill>
                  <a:latin typeface="Perpetua"/>
                </a:rPr>
                <a:t>At the end of the lecture, students should be able to: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70c0"/>
                  </a:solidFill>
                  <a:latin typeface="Perpetua"/>
                </a:rPr>
                <a:t>List the main arteries of the lower limb.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70c0"/>
                  </a:solidFill>
                  <a:latin typeface="Perpetua"/>
                </a:rPr>
                <a:t> </a:t>
              </a:r>
              <a:r>
                <a:rPr b="1" lang="en-US" sz="2600" spc="-1" strike="noStrike">
                  <a:solidFill>
                    <a:srgbClr val="0070c0"/>
                  </a:solidFill>
                  <a:latin typeface="Perpetua"/>
                </a:rPr>
                <a:t>Describe their origin, course distribution &amp; branches.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70c0"/>
                  </a:solidFill>
                  <a:latin typeface="Perpetua"/>
                </a:rPr>
                <a:t>List the main arterial anastomosis.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70c0"/>
                  </a:solidFill>
                  <a:latin typeface="Perpetua"/>
                </a:rPr>
                <a:t>List the sites where you feel the arterial pulse.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70c0"/>
                  </a:solidFill>
                  <a:latin typeface="Perpetua"/>
                </a:rPr>
                <a:t>Differentiate the veins of LL into superficial &amp; deep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70c0"/>
                  </a:solidFill>
                  <a:latin typeface="Perpetua"/>
                </a:rPr>
                <a:t>Describe their origin, course &amp; termination and tributaries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marL="272880" indent="-272880">
                <a:lnSpc>
                  <a:spcPct val="100000"/>
                </a:lnSpc>
                <a:spcBef>
                  <a:spcPts val="575"/>
                </a:spcBef>
                <a:buClr>
                  <a:srgbClr val="d34817"/>
                </a:buClr>
                <a:buSzPct val="8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272520"/>
            <a:ext cx="7772400" cy="114300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OSTERIOR TIBIAL PULS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50560" y="1523880"/>
            <a:ext cx="3214440" cy="514512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stero inferior to the medial malleolu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in the groove between the  malleolus and the heel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lexor retinaculum must be relaxed by inverting the foot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lpation of PT pulse is essential for examining patients with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occlusive peripheral arterial diseases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06" name="Picture 3" descr="C:\Documents and Settings\lib\My Documents\My Pictures\Picture2.jpg"/>
          <p:cNvPicPr/>
          <p:nvPr/>
        </p:nvPicPr>
        <p:blipFill>
          <a:blip r:embed="rId1"/>
          <a:srcRect l="1347" t="52533" r="63944" b="10084"/>
          <a:stretch/>
        </p:blipFill>
        <p:spPr>
          <a:xfrm>
            <a:off x="4427640" y="1962000"/>
            <a:ext cx="4319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d8d1d1"/>
              </a:gs>
              <a:gs pos="100000">
                <a:srgbClr val="f2f0f0"/>
              </a:gs>
            </a:gsLst>
            <a:lin ang="10800000"/>
          </a:gra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LANTAR ARTERIE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931920" y="1700280"/>
            <a:ext cx="4887720" cy="489744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Medial plantar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The smaller terminal branch of the posterior tibial  artery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It supplies mainly the muscles of the great toe, and gives most of plantar digital arteries. 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Its superficial branch supplies the skin of the medial side of the sole. 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ff"/>
                </a:solidFill>
                <a:uFillTx/>
                <a:latin typeface="Times New Roman"/>
              </a:rPr>
              <a:t>Lateral plantar: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8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The larger branch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At the base of the 5</a:t>
            </a:r>
            <a:r>
              <a:rPr b="1" i="1" lang="en-US" sz="19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metatarsal bone, it curves medially to form 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cc3300"/>
                </a:solidFill>
                <a:uFillTx/>
                <a:latin typeface="Times New Roman"/>
              </a:rPr>
              <a:t>Plantar Arch : </a:t>
            </a: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completed by the medial plantar artery and branch from DP artery. 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The arch supplies the skin, fascia and muscles in the sole and plantar digital arteries to the adjacent digits .</a:t>
            </a: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09" name="Picture 5" descr="C:\Users\galmadani\Documents\Student Gray\6. Lower limb\F66122-006-f130.jpg"/>
          <p:cNvPicPr/>
          <p:nvPr/>
        </p:nvPicPr>
        <p:blipFill>
          <a:blip r:embed="rId1"/>
          <a:srcRect l="14502" t="0" r="14302" b="3514"/>
          <a:stretch/>
        </p:blipFill>
        <p:spPr>
          <a:xfrm>
            <a:off x="395280" y="1673280"/>
            <a:ext cx="3537000" cy="51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EINS OF THE L.L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427640" y="1557360"/>
            <a:ext cx="4465440" cy="530064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he veins of the lower limb are classified into: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Superficial veins 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lie in the subcutaneous tissue ( 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GSV &amp; SSV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47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Deep veins:</a:t>
            </a:r>
            <a:r>
              <a:rPr b="1" i="1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ep to the deep fascia and accompany all major arteries (Femoral, Popliteal veins)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47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uperficial &amp; deep veins have valves which are  more numerous in the deep veins.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547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lood passes from the superficial to the deep vein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2" name="Picture 5" descr="C:\Users\galmadani\Desktop\figure_19_30_labeled.jpg"/>
          <p:cNvPicPr/>
          <p:nvPr/>
        </p:nvPicPr>
        <p:blipFill>
          <a:blip r:embed="rId1"/>
          <a:srcRect l="47570" t="0" r="0" b="0"/>
          <a:stretch/>
        </p:blipFill>
        <p:spPr>
          <a:xfrm>
            <a:off x="179280" y="1314360"/>
            <a:ext cx="3888000" cy="561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EAT SAPHENOUS VEIN</a:t>
            </a:r>
            <a:br>
              <a:rPr sz="3200"/>
            </a:b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995640" y="1557360"/>
            <a:ext cx="4897440" cy="530064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Longest Superficial vein of the body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Begins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from the medial end of the dorsal  venous arch (as the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medial marginal vein)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scends: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. In front of the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Medial Malleolus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ccompanied by the </a:t>
            </a:r>
            <a:r>
              <a:rPr b="1" i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Saphenous nerve)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. Posterior the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Medial Condyle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f the femur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. Passes through the 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Saphenous Opening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(2.5-3.25) cm below and lateral to the pubic tubercle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erminates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</a:rPr>
              <a:t>Femoral Vein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ecause of its constant position in front of the medial malleolus, it is used for sapohenous cutdown especially in infants, obese and shocked patients. 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marL="5475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5475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5" name="Picture 6" descr="C:\Users\galmadani\Desktop\CHAP23FIG2.jpg"/>
          <p:cNvPicPr/>
          <p:nvPr/>
        </p:nvPicPr>
        <p:blipFill>
          <a:blip r:embed="rId1"/>
          <a:stretch/>
        </p:blipFill>
        <p:spPr>
          <a:xfrm>
            <a:off x="179280" y="1341360"/>
            <a:ext cx="35164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4427280" y="833400"/>
            <a:ext cx="4608360" cy="568800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SMALL</a:t>
            </a:r>
            <a:r>
              <a:rPr b="1" i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SAPHENOUS VEI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iginates from the lateral end of the dorsal venous arch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cends: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ehind the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lateral Malleolu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ong the middle of the back leg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Terminates i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Popliteal vei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It may join the Great Saphenous vei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Or Bifurcates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e branch joins the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</a:rPr>
              <a:t>Great saphenous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d the other joins the P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opliteal vein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17" name="Picture 5" descr="C:\Users\galmadani\Desktop\figure_19_30_labeled.jpg"/>
          <p:cNvPicPr/>
          <p:nvPr/>
        </p:nvPicPr>
        <p:blipFill>
          <a:blip r:embed="rId1"/>
          <a:srcRect l="47570" t="0" r="0" b="0"/>
          <a:stretch/>
        </p:blipFill>
        <p:spPr>
          <a:xfrm>
            <a:off x="163440" y="333360"/>
            <a:ext cx="4121280" cy="640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ENAE COMITANTE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419" name="Picture 4" descr="17B11B48"/>
          <p:cNvPicPr/>
          <p:nvPr/>
        </p:nvPicPr>
        <p:blipFill>
          <a:blip r:embed="rId1"/>
          <a:srcRect l="2615" t="62655" r="57273" b="6326"/>
          <a:stretch/>
        </p:blipFill>
        <p:spPr>
          <a:xfrm>
            <a:off x="468360" y="1916280"/>
            <a:ext cx="4390920" cy="43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148360" y="1600200"/>
            <a:ext cx="3566880" cy="499752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Deep veins ,usually they are paired and accompany  arterie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They are contained within the vascular sheath of the arteries, so the arterial pulsations help to compress and move blood in the veins especially during exercis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FORATING VEINS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148000" y="1600200"/>
            <a:ext cx="3816360" cy="506880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enetrate the deep fascia close to their origin from the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superficial veins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hey contain valves which normally allow the blood to flow from the superficial to the deep vein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he perforating veins pass through the deep fascia at an oblique angle so during muscular contraction , they are compressed. This also prevents blood flowing from the deep to the  superficial veins.</a:t>
            </a:r>
            <a:r>
              <a:rPr b="0" i="1" lang="en-US" sz="2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23" name="Picture 5" descr="4B04C12B"/>
          <p:cNvPicPr/>
          <p:nvPr/>
        </p:nvPicPr>
        <p:blipFill>
          <a:blip r:embed="rId1"/>
          <a:srcRect l="36404" t="67212" r="33618" b="3265"/>
          <a:stretch/>
        </p:blipFill>
        <p:spPr>
          <a:xfrm>
            <a:off x="1116000" y="1700280"/>
            <a:ext cx="3527280" cy="475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e9e5dc"/>
          </a:solidFill>
          <a:ln w="9360">
            <a:solidFill>
              <a:srgbClr val="ff0000"/>
            </a:solidFill>
            <a:miter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Franklin Gothic Book"/>
                <a:ea typeface="Arial"/>
              </a:rPr>
              <a:t>V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ICOSE VEIN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148000" y="1628280"/>
            <a:ext cx="3995640" cy="506916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It is Dilatation and Degeneration of the superficial veins that may be complicated by ulcers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More common in the postero medial part of the lower limb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esults because of incompetence of the valves in the perforating veins,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Or valves within the great saphenous itself. 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547560" indent="-41112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SzPct val="8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This allows the passage of high pressure blood from the deep to the superficial veins</a:t>
            </a:r>
            <a:r>
              <a:rPr b="1" i="1" lang="en-US" sz="2200" spc="-1" strike="noStrike">
                <a:solidFill>
                  <a:srgbClr val="000000"/>
                </a:solidFill>
                <a:latin typeface="Perpetu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26" name="Picture 5" descr="2148FE3"/>
          <p:cNvPicPr/>
          <p:nvPr/>
        </p:nvPicPr>
        <p:blipFill>
          <a:blip r:embed="rId1"/>
          <a:srcRect l="1554" t="2867" r="0" b="11305"/>
          <a:stretch/>
        </p:blipFill>
        <p:spPr>
          <a:xfrm>
            <a:off x="826920" y="1557360"/>
            <a:ext cx="3168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solidFill>
            <a:srgbClr val="ece8e1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ep Vein Thrombosis (DVT)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933800" y="1447920"/>
            <a:ext cx="3749760" cy="507672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eins of the lower limb are subject to venous thrombosis after a bone fracture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nous stasis is the main cause by pressure on the veins from the bedding during prolonged hospital stay and aggravated by muscular inactivity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mbophlebitis  may develop around the vei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lmonary thromboembolism  may occur when a thrombus breaks free from the lower limb vein and passes to the lungs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429" name="Picture 2" descr="C:\Documents and Settings\Jamila\Desktop\download (1).jpg"/>
          <p:cNvPicPr/>
          <p:nvPr/>
        </p:nvPicPr>
        <p:blipFill>
          <a:blip r:embed="rId1"/>
          <a:stretch/>
        </p:blipFill>
        <p:spPr>
          <a:xfrm>
            <a:off x="395280" y="1557360"/>
            <a:ext cx="4248000" cy="237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0" name="Picture 3" descr="C:\Documents and Settings\Jamila\Desktop\download.jpg"/>
          <p:cNvPicPr/>
          <p:nvPr/>
        </p:nvPicPr>
        <p:blipFill>
          <a:blip r:embed="rId2"/>
          <a:stretch/>
        </p:blipFill>
        <p:spPr>
          <a:xfrm>
            <a:off x="1258920" y="4005360"/>
            <a:ext cx="21607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Rectangle 2"/>
          <p:cNvGrpSpPr/>
          <p:nvPr/>
        </p:nvGrpSpPr>
        <p:grpSpPr>
          <a:xfrm>
            <a:off x="755640" y="2584440"/>
            <a:ext cx="7785000" cy="1158840"/>
            <a:chOff x="755640" y="2584440"/>
            <a:chExt cx="7785000" cy="1158840"/>
          </a:xfrm>
        </p:grpSpPr>
        <p:pic>
          <p:nvPicPr>
            <p:cNvPr id="432" name="Rectangle 2" descr=""/>
            <p:cNvPicPr/>
            <p:nvPr/>
          </p:nvPicPr>
          <p:blipFill>
            <a:blip r:embed="rId1"/>
            <a:stretch/>
          </p:blipFill>
          <p:spPr>
            <a:xfrm>
              <a:off x="755640" y="2584440"/>
              <a:ext cx="778500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762120" y="259092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Thank You</a:t>
              </a:r>
              <a:endParaRPr b="0" lang="en-US" sz="5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solidFill>
            <a:srgbClr val="ebdfdb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TERIES OF LOWER LIMB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337" name="Picture 2" descr="C:\Users\galmadani\Desktop\download.jpg"/>
          <p:cNvPicPr/>
          <p:nvPr/>
        </p:nvPicPr>
        <p:blipFill>
          <a:blip r:embed="rId1"/>
          <a:srcRect l="4582" t="2152" r="5983" b="0"/>
          <a:stretch/>
        </p:blipFill>
        <p:spPr>
          <a:xfrm>
            <a:off x="1692360" y="1536840"/>
            <a:ext cx="640872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solidFill>
            <a:srgbClr val="e9e6e7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EMORAL ARTERY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00720" y="1412640"/>
            <a:ext cx="4643280" cy="544500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d0d0d"/>
                </a:solidFill>
                <a:latin typeface="Times New Roman"/>
              </a:rPr>
              <a:t>Is the main arterial supply to the lower limb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d0d0d"/>
                </a:solidFill>
                <a:latin typeface="Times New Roman"/>
              </a:rPr>
              <a:t>It is the continuation of the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External Iliac artery</a:t>
            </a:r>
            <a:r>
              <a:rPr b="1" i="1" lang="en-US" sz="2400" spc="-1" strike="noStrike">
                <a:solidFill>
                  <a:srgbClr val="0d0d0d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d0d0d"/>
                </a:solidFill>
                <a:uFillTx/>
                <a:latin typeface="Times New Roman"/>
              </a:rPr>
              <a:t>BEGINNING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d0d0d"/>
                </a:solidFill>
                <a:latin typeface="Times New Roman"/>
              </a:rPr>
              <a:t>It enters the thigh behind the </a:t>
            </a:r>
            <a:r>
              <a:rPr b="1" i="1" lang="en-US" sz="2400" spc="-1" strike="noStrike">
                <a:solidFill>
                  <a:srgbClr val="0d0d0d"/>
                </a:solidFill>
                <a:latin typeface="Times New Roman"/>
              </a:rPr>
              <a:t>inguinal ligament 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</a:rPr>
              <a:t>at the </a:t>
            </a:r>
            <a:r>
              <a:rPr b="1" i="1" lang="en-US" sz="2400" spc="-1" strike="noStrike">
                <a:solidFill>
                  <a:srgbClr val="0d0d0d"/>
                </a:solidFill>
                <a:latin typeface="Times New Roman"/>
              </a:rPr>
              <a:t>Mid Inguinal  Point  (</a:t>
            </a:r>
            <a:r>
              <a:rPr b="0" i="1" lang="en-US" sz="2400" spc="-1" strike="noStrike">
                <a:solidFill>
                  <a:srgbClr val="0d0d0d"/>
                </a:solidFill>
                <a:latin typeface="Times New Roman"/>
              </a:rPr>
              <a:t>midway between the anterior superior iliac spine and the symphysis pubis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0" name="Picture 8" descr="C:\Users\galmadani\Desktop\qi6N-PGxrvgnL8NDC9zjcw_m.png"/>
          <p:cNvPicPr/>
          <p:nvPr/>
        </p:nvPicPr>
        <p:blipFill>
          <a:blip r:embed="rId1"/>
          <a:stretch/>
        </p:blipFill>
        <p:spPr>
          <a:xfrm>
            <a:off x="0" y="1700280"/>
            <a:ext cx="4356000" cy="46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5292720" y="475920"/>
            <a:ext cx="3851280" cy="609588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Relations: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 the femoral triangle the artery is superficial covered only b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kin &amp; fascia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sterior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ip joint  , separated from it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y Psoas muscl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dial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emoral vein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teral 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emoral nerve and it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2" name="Picture 6" descr="C:\Users\galmadani\Desktop\fem_anatomy.jpg"/>
          <p:cNvPicPr/>
          <p:nvPr/>
        </p:nvPicPr>
        <p:blipFill>
          <a:blip r:embed="rId1"/>
          <a:stretch/>
        </p:blipFill>
        <p:spPr>
          <a:xfrm>
            <a:off x="17640" y="189000"/>
            <a:ext cx="5275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787640" y="475920"/>
            <a:ext cx="3895560" cy="597708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Times New Roman"/>
              </a:rPr>
              <a:t>Termination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ter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ina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passing through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uctor Canal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ep to sartoriu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exits the canal by passing through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uctor Hiatu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becomes th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pliteal artery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4" name="Picture 4" descr="C:\Users\galmadani\Documents\Student Gray\6. Lower limb\F66122-006-f042.jpg"/>
          <p:cNvPicPr/>
          <p:nvPr/>
        </p:nvPicPr>
        <p:blipFill>
          <a:blip r:embed="rId1"/>
          <a:srcRect l="10791" t="0" r="14180" b="3380"/>
          <a:stretch/>
        </p:blipFill>
        <p:spPr>
          <a:xfrm>
            <a:off x="250920" y="0"/>
            <a:ext cx="4321080" cy="6597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45" name="Oval 3"/>
          <p:cNvSpPr/>
          <p:nvPr/>
        </p:nvSpPr>
        <p:spPr>
          <a:xfrm>
            <a:off x="2771640" y="4724280"/>
            <a:ext cx="432000" cy="217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900000" y="5516640"/>
            <a:ext cx="1008000" cy="431640"/>
          </a:xfrm>
          <a:prstGeom prst="rect">
            <a:avLst/>
          </a:prstGeom>
          <a:noFill/>
          <a:ln w="12600">
            <a:solidFill>
              <a:srgbClr val="9b32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Title 6"/>
          <p:cNvGrpSpPr/>
          <p:nvPr/>
        </p:nvGrpSpPr>
        <p:grpSpPr>
          <a:xfrm>
            <a:off x="450720" y="274680"/>
            <a:ext cx="8242560" cy="1152360"/>
            <a:chOff x="450720" y="274680"/>
            <a:chExt cx="8242560" cy="1152360"/>
          </a:xfrm>
        </p:grpSpPr>
        <p:pic>
          <p:nvPicPr>
            <p:cNvPr id="348" name="Title 6" descr=""/>
            <p:cNvPicPr/>
            <p:nvPr/>
          </p:nvPicPr>
          <p:blipFill>
            <a:blip r:embed="rId1"/>
            <a:stretch/>
          </p:blipFill>
          <p:spPr>
            <a:xfrm>
              <a:off x="450720" y="274680"/>
              <a:ext cx="82425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457200" y="277920"/>
              <a:ext cx="82296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Branches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5292720" y="1600200"/>
            <a:ext cx="3851280" cy="5068800"/>
          </a:xfrm>
          <a:prstGeom prst="rect">
            <a:avLst/>
          </a:prstGeom>
          <a:solidFill>
            <a:srgbClr val="f4cec9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The femoral artery supplies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wer abdominal wall, Thigh &amp; External Genitalia 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through the following branch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1.Superficial Epigastric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2.Superficial Circumflex Iliac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3.Superficial External Pudendal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4. Deep External Pudendal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c00000"/>
                </a:solidFill>
                <a:latin typeface="Times New Roman"/>
              </a:rPr>
              <a:t>5.Profunda Femoris (Deep Artery of Thigh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1" name="Picture 12" descr="C:\Users\galmadani\Desktop\TcIa6xJnpuVxh-2-3Y_rRA_m.jpg"/>
          <p:cNvPicPr/>
          <p:nvPr/>
        </p:nvPicPr>
        <p:blipFill>
          <a:blip r:embed="rId2"/>
          <a:stretch/>
        </p:blipFill>
        <p:spPr>
          <a:xfrm>
            <a:off x="250920" y="1628640"/>
            <a:ext cx="4897440" cy="504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Title 1"/>
          <p:cNvGrpSpPr/>
          <p:nvPr/>
        </p:nvGrpSpPr>
        <p:grpSpPr>
          <a:xfrm>
            <a:off x="450720" y="274680"/>
            <a:ext cx="8242560" cy="1152360"/>
            <a:chOff x="450720" y="274680"/>
            <a:chExt cx="8242560" cy="1152360"/>
          </a:xfrm>
        </p:grpSpPr>
        <p:pic>
          <p:nvPicPr>
            <p:cNvPr id="353" name="Title 1" descr=""/>
            <p:cNvPicPr/>
            <p:nvPr/>
          </p:nvPicPr>
          <p:blipFill>
            <a:blip r:embed="rId1"/>
            <a:stretch/>
          </p:blipFill>
          <p:spPr>
            <a:xfrm>
              <a:off x="450720" y="274680"/>
              <a:ext cx="824256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457200" y="277920"/>
              <a:ext cx="822960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9144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Profunda Femoris Artery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5364000" y="1600200"/>
            <a:ext cx="3322800" cy="4997520"/>
          </a:xfrm>
          <a:prstGeom prst="rect">
            <a:avLst/>
          </a:prstGeom>
          <a:solidFill>
            <a:srgbClr val="fad9cd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t is the  main arterial supply to the thigh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t arises from the lateral side of the femoral artery &amp;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asses medially behind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emoral vessel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giv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Medial &amp; lateral circumflex femoral arteri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Three perforating arteries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t ends by becoming the 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4</a:t>
            </a:r>
            <a:r>
              <a:rPr b="1" i="1" lang="en-US" sz="2400" spc="-1" strike="noStrike" baseline="30000">
                <a:solidFill>
                  <a:srgbClr val="c00000"/>
                </a:solidFill>
                <a:latin typeface="Times New Roman"/>
              </a:rPr>
              <a:t>th</a:t>
            </a:r>
            <a:r>
              <a:rPr b="1" i="1" lang="en-US" sz="2400" spc="-1" strike="noStrike">
                <a:solidFill>
                  <a:srgbClr val="c00000"/>
                </a:solidFill>
                <a:latin typeface="Times New Roman"/>
              </a:rPr>
              <a:t> perforating artery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6" name="Picture 8" descr="C:\Users\galmadani\Desktop\Femoral_Artery.JPG"/>
          <p:cNvPicPr/>
          <p:nvPr/>
        </p:nvPicPr>
        <p:blipFill>
          <a:blip r:embed="rId2"/>
          <a:stretch/>
        </p:blipFill>
        <p:spPr>
          <a:xfrm>
            <a:off x="108000" y="1623960"/>
            <a:ext cx="4824360" cy="483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d3cece"/>
          </a:solidFill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TERIALANASTOMOSIS IN THE GLUTEAL REGION</a:t>
            </a:r>
            <a:endParaRPr b="0" lang="en-US" sz="32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427640" y="1483920"/>
            <a:ext cx="3744720" cy="4969080"/>
          </a:xfrm>
          <a:prstGeom prst="rect">
            <a:avLst/>
          </a:prstGeom>
          <a:solidFill>
            <a:srgbClr val="fad9cd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CRUCIATE ANASTOMOSI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t supplies blood to the lower limb in case of ligation of the femoral artery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0066"/>
                </a:solidFill>
                <a:latin typeface="Times New Roman"/>
              </a:rPr>
              <a:t>It is formed by  the union of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edial &amp; Lateral  circumflex femoral arteries + the Inferior gluteal artery + the First perforating artery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t forms anastomosis between branches of External&amp; Internal iliac arteries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59" name="Picture 2" descr="L:\Student Gray\6. Lower limb\F66122-006-f063.jpg"/>
          <p:cNvPicPr/>
          <p:nvPr/>
        </p:nvPicPr>
        <p:blipFill>
          <a:blip r:embed="rId1"/>
          <a:srcRect l="49529" t="0" r="0" b="3340"/>
          <a:stretch/>
        </p:blipFill>
        <p:spPr>
          <a:xfrm>
            <a:off x="179280" y="1628640"/>
            <a:ext cx="3961080" cy="525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0" name="Oval 3"/>
          <p:cNvSpPr/>
          <p:nvPr/>
        </p:nvSpPr>
        <p:spPr>
          <a:xfrm>
            <a:off x="2268360" y="2852640"/>
            <a:ext cx="1656000" cy="360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09:29:36Z</dcterms:created>
  <dc:creator>DTK</dc:creator>
  <dc:description/>
  <dc:language>en-US</dc:language>
  <cp:lastModifiedBy>Jamila hafizelmedany</cp:lastModifiedBy>
  <dcterms:modified xsi:type="dcterms:W3CDTF">2015-12-07T08:22:26Z</dcterms:modified>
  <cp:revision>310</cp:revision>
  <dc:subject/>
  <dc:title>Slide 1</dc:title>
</cp:coreProperties>
</file>