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A5C0-363F-4A99-818C-A0D212F6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DAD5-5BDD-4BDC-BB61-C6551D4F5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06BA-8D10-40BA-A7F6-9D17819AA5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8607-E13F-4032-AB7E-AD5A886DE5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086-B65F-45DF-96EC-A66BFB0082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6D0-696D-474D-822E-81B04FF57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D8D-0014-4D83-9303-7D16C524AD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E82-2481-4D83-9440-2EFF9B490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3161-180A-46E6-BEEE-1DB88DD08B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990-4AED-4D35-93EE-7629E67F2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2883-B0C1-432B-8973-832DDD03C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C7B-4F84-40E6-9E03-6F8965A24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D053-36DC-4E49-AB02-4CE2CC42F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AADD-B5C8-4CA4-9184-FF9989EF3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D4A-5F89-4F8A-AD3E-CA55E42E13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163-5A3D-4E75-8401-0CA1EC5F0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2D25-C504-464A-9D15-AA1991B8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7DC6-A487-4F44-97B9-E213F84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33F5-0A75-4434-9A5D-5BF976EF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8380-8D38-498F-82C2-CA6280A0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7366-1354-4B52-B1B9-10B8D9A6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9A5-FC67-4843-85E1-53A0AA0B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6BB-6088-4CDC-94DD-BEE6FDB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780A-2846-4180-9E33-B748354D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D937-3DD7-4109-A35A-257C71D8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2CF-2206-4E08-9FEB-6A005CB8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2030-71B0-48FB-A881-57C9577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90C4-55EC-4F74-B2FD-4AD391AD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EE6E-77E5-4DBB-98D2-7F56526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438B-DAC3-4ADF-A831-76AB200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7689-910B-48A6-B80B-4D8978AC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F0CF-11CD-42E6-9277-D5C2254D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20EF-BD3E-4E7F-8DFE-71AB45CC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224AB-B54A-4DF6-B5E1-13B4DCA460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47D3C-9DC8-4F2B-A370-43409EB34A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241F4-D723-4BE0-83B2-D5BD3A457D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7C7C1-6217-4B90-B032-F2D4594A23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AEF52-5635-46E2-9C2B-3B2DB3B13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DE8C-8A1A-41FF-9526-6457729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E297D-5158-473B-BCA1-BD6DD66274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3EC6B-30D9-4385-906C-6E227113E5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398D9-4D56-4F84-A404-D265E9FDF7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CAA0F-EFDD-4A14-87D6-7824960BEA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206F7-4BE1-42E7-BE7A-9ABFCA2334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8478D-88A5-40D2-B999-752E00009E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A6A9C-311F-461F-AFB2-79B87F28D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C0D2-22D9-4509-A7BD-6618A6AA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44F0-2DC9-427C-84FF-42428262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735B-1044-453D-8A4C-DA8BB6EF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A9C4-9235-45D4-A071-9958250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8B31-EAB0-41C7-810B-528A98D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E06B-523B-47FD-9689-B83DBB7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2F6-6EBC-4CFA-BBCC-A3F17A0CA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 &amp; Dr. Sanaa Al- Shaarawy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 &amp; Dr. Sanaa Al- Shaarawy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B00-6D2C-46AA-8514-67317B4F1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7"/>
          </p:nvPr>
        </p:nvSpPr>
        <p:spPr>
          <a:xfrm>
            <a:off x="5568840" y="646704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 &amp; Dr. Sanaa Al- Shaarawy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8665920" y="64670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2C19-6455-471F-9DF1-ED8F769DC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hgJf77TzA-lv9M&amp;tbnid=Dbvp1UlaiNwk6M:&amp;ved=0CAUQjRw&amp;url=http%3A%2F%2Fwww.picstopin.com%2F596%2Ftypical-vertebrae-of-a-frog-help-for-skeletal-system-science-%26-math%2Fhttp%3A%257C%257Cwww*transtutors*com%257CUploadfile%257CCMS_Images%257C6250_Vertebra*JPG%2F&amp;ei=oTegUuaIIInB0QX3uYH4CA&amp;psig=AFQjCNHstnFLNa80anJlk9FllESFINufiw&amp;ust=138631781337565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m.sa/url?sa=i&amp;rct=j&amp;q=&amp;esrc=s&amp;frm=1&amp;source=images&amp;cd=&amp;cad=rja&amp;docid=yuJyqx8Nys1siM&amp;tbnid=9qFZ0ZP3VNZpUM:&amp;ved=0CAUQjRw&amp;url=http%3A%2F%2Fdc317.4shared.com%2Fdoc%2FE9OI8RS6%2Fpreview.html&amp;ei=5S2gUsTBD-OM0AXG3IDwBQ&amp;psig=AFQjCNGYLeG-_FBm3-fdEVrmlw5QzTL0og&amp;ust=1386315401049974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google.com.sa/url?sa=i&amp;rct=j&amp;q=&amp;esrc=s&amp;source=images&amp;cd=&amp;cad=rja&amp;uact=8&amp;ved=0CAcQjRw&amp;url=http%3A%2F%2Fittcs.wordpress.com%2F2010%2F06%2F21%2Fanatomy-and-physiology-the-spinal-ligaments-holding-all-the-parts-together%2F&amp;ei=s1l4VO2LAcH3aMGDgpAH&amp;psig=AFQjCNEehgdgnlhtsx66e-kR50ypjzND3g&amp;ust=1417259821843889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.sa/url?sa=i&amp;rct=j&amp;q=&amp;esrc=s&amp;frm=1&amp;source=images&amp;cd=&amp;cad=rja&amp;docid=hgJf77TzA-lv9M&amp;tbnid=Dbvp1UlaiNwk6M:&amp;ved=0CAUQjRw&amp;url=http%3A%2F%2Fwww.picstopin.com%2F596%2Ftypical-vertebrae-of-a-frog-help-for-skeletal-system-science-%26-math%2Fhttp%3A%257C%257Cwww*transtutors*com%257CUploadfile%257CCMS_Images%257C6250_Vertebra*JPG%2F&amp;ei=oTegUuaIIInB0QX3uYH4CA&amp;psig=AFQjCNHstnFLNa80anJlk9FllESFINufiw&amp;ust=138631781337565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4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5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sa/url?sa=i&amp;rct=j&amp;q=&amp;esrc=s&amp;frm=1&amp;source=images&amp;cd=&amp;cad=rja&amp;docid=pKLBHvic63V3VM&amp;tbnid=B0S0VYIAEBwgDM:&amp;ved=0CAUQjRw&amp;url=http%3A%2F%2Fpaigemckinney.com%2Fcategory%2Fmovement-quality%2F&amp;ei=Fh6gUoewG6Sa0AWkyYDYBQ&amp;psig=AFQjCNFl_lfDqFQWe9OeRRJe4U-D58VtIg&amp;ust=1386311417758589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rOI7F8JghyzTuM&amp;tbnid=nI9KrxU8-y05MM:&amp;ved=0CAUQjRw&amp;url=http%3A%2F%2Fwww.macroevolution.net%2Fhybrid-hypothesis-section-2.html&amp;ei=jSKgUq3THOnL0QWBh4GACA&amp;psig=AFQjCNE9QaGSf3gOOD3ldycYW89H7UbAew&amp;ust=138631255469661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728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Garamond"/>
              </a:rPr>
              <a:t>CERVICAL SP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DEPARTMENT OF ANATOM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R.SANAA AL-SHAARAW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http://tmjc.com.ne.kr/tmj/info/drinfo/images/tm7-9.jpg">
            <a:hlinkClick r:id="rId1"/>
          </p:cNvPr>
          <p:cNvPicPr/>
          <p:nvPr/>
        </p:nvPicPr>
        <p:blipFill>
          <a:blip r:embed="rId2"/>
          <a:srcRect l="9008" t="0" r="4000" b="16655"/>
          <a:stretch/>
        </p:blipFill>
        <p:spPr>
          <a:xfrm>
            <a:off x="571680" y="3929040"/>
            <a:ext cx="5500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032000" cy="863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oints of Cervical Vertebra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560" y="928440"/>
            <a:ext cx="4321080" cy="157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e0ff"/>
                </a:solidFill>
                <a:latin typeface="Garamond"/>
              </a:rPr>
              <a:t>Synovia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ts betwee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ccipital condy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skull  and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upper facets on the lateral mass of the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5674-0936-41FF-A85B-C2E9A2AD4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2" descr="E:\dad\Student Gray\8. Head and neck\F66122-008-f023.jpg"/>
          <p:cNvPicPr/>
          <p:nvPr/>
        </p:nvPicPr>
        <p:blipFill>
          <a:blip r:embed="rId1"/>
          <a:srcRect l="4957" t="4527" r="17131" b="9075"/>
          <a:stretch/>
        </p:blipFill>
        <p:spPr>
          <a:xfrm>
            <a:off x="4762440" y="1125360"/>
            <a:ext cx="4130640" cy="50007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4859280" y="5300640"/>
            <a:ext cx="792360" cy="28908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2" descr="E:\dad\Student Gray\8. Head and neck\F66122-008-f008.jpg"/>
          <p:cNvPicPr/>
          <p:nvPr/>
        </p:nvPicPr>
        <p:blipFill>
          <a:blip r:embed="rId2"/>
          <a:srcRect l="44373" t="55549" r="2923" b="2894"/>
          <a:stretch/>
        </p:blipFill>
        <p:spPr>
          <a:xfrm>
            <a:off x="357120" y="2538360"/>
            <a:ext cx="4248360" cy="4319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8"/>
          <p:cNvSpPr/>
          <p:nvPr/>
        </p:nvSpPr>
        <p:spPr>
          <a:xfrm>
            <a:off x="142920" y="285840"/>
            <a:ext cx="4429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tlanto-Occipital Joint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5-Point Star 8"/>
          <p:cNvSpPr/>
          <p:nvPr/>
        </p:nvSpPr>
        <p:spPr>
          <a:xfrm>
            <a:off x="2000160" y="4500720"/>
            <a:ext cx="142920" cy="142560"/>
          </a:xfrm>
          <a:custGeom>
            <a:avLst/>
            <a:gdLst>
              <a:gd name="textAreaLeft" fmla="*/ 43920 w 142920"/>
              <a:gd name="textAreaRight" fmla="*/ 99000 w 14292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2875" h="142875">
                <a:moveTo>
                  <a:pt x="0" y="54573"/>
                </a:moveTo>
                <a:lnTo>
                  <a:pt x="54574" y="54574"/>
                </a:lnTo>
                <a:lnTo>
                  <a:pt x="71438" y="0"/>
                </a:lnTo>
                <a:lnTo>
                  <a:pt x="88301" y="54574"/>
                </a:lnTo>
                <a:lnTo>
                  <a:pt x="142875" y="54573"/>
                </a:lnTo>
                <a:lnTo>
                  <a:pt x="98724" y="88301"/>
                </a:lnTo>
                <a:lnTo>
                  <a:pt x="115588" y="142875"/>
                </a:lnTo>
                <a:lnTo>
                  <a:pt x="71438" y="109146"/>
                </a:lnTo>
                <a:lnTo>
                  <a:pt x="27287" y="142875"/>
                </a:lnTo>
                <a:lnTo>
                  <a:pt x="44151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5-Point Star 9"/>
          <p:cNvSpPr/>
          <p:nvPr/>
        </p:nvSpPr>
        <p:spPr>
          <a:xfrm>
            <a:off x="3571920" y="4429080"/>
            <a:ext cx="142920" cy="142920"/>
          </a:xfrm>
          <a:custGeom>
            <a:avLst/>
            <a:gdLst>
              <a:gd name="textAreaLeft" fmla="*/ 43920 w 142920"/>
              <a:gd name="textAreaRight" fmla="*/ 99000 w 1429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2875" h="142875">
                <a:moveTo>
                  <a:pt x="0" y="54573"/>
                </a:moveTo>
                <a:lnTo>
                  <a:pt x="54574" y="54574"/>
                </a:lnTo>
                <a:lnTo>
                  <a:pt x="71438" y="0"/>
                </a:lnTo>
                <a:lnTo>
                  <a:pt x="88301" y="54574"/>
                </a:lnTo>
                <a:lnTo>
                  <a:pt x="142875" y="54573"/>
                </a:lnTo>
                <a:lnTo>
                  <a:pt x="98724" y="88301"/>
                </a:lnTo>
                <a:lnTo>
                  <a:pt x="115588" y="142875"/>
                </a:lnTo>
                <a:lnTo>
                  <a:pt x="71438" y="109146"/>
                </a:lnTo>
                <a:lnTo>
                  <a:pt x="27287" y="142875"/>
                </a:lnTo>
                <a:lnTo>
                  <a:pt x="44151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5-Point Star 11"/>
          <p:cNvSpPr/>
          <p:nvPr/>
        </p:nvSpPr>
        <p:spPr>
          <a:xfrm flipH="1">
            <a:off x="6714360" y="4143240"/>
            <a:ext cx="71640" cy="71640"/>
          </a:xfrm>
          <a:custGeom>
            <a:avLst/>
            <a:gdLst>
              <a:gd name="textAreaLeft" fmla="*/ 21960 w 71640"/>
              <a:gd name="textAreaRight" fmla="*/ 49680 w 7164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71438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7"/>
                </a:lnTo>
                <a:lnTo>
                  <a:pt x="49362" y="44151"/>
                </a:lnTo>
                <a:lnTo>
                  <a:pt x="57795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6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928880" y="49291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000160" y="571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1C80-613A-42C8-A5B1-A2F5F4E964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2" descr="Untitled-1 copy"/>
          <p:cNvPicPr/>
          <p:nvPr/>
        </p:nvPicPr>
        <p:blipFill>
          <a:blip r:embed="rId1"/>
          <a:srcRect l="16416" t="2751" r="13655" b="2751"/>
          <a:stretch/>
        </p:blipFill>
        <p:spPr>
          <a:xfrm>
            <a:off x="250920" y="378000"/>
            <a:ext cx="5473440" cy="6480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3"/>
          <p:cNvSpPr/>
          <p:nvPr/>
        </p:nvSpPr>
        <p:spPr>
          <a:xfrm>
            <a:off x="6012000" y="189000"/>
            <a:ext cx="2989080" cy="3750840"/>
          </a:xfrm>
          <a:prstGeom prst="wedgeRectCallout">
            <a:avLst>
              <a:gd name="adj1" fmla="val -130861"/>
              <a:gd name="adj2" fmla="val 52550"/>
            </a:avLst>
          </a:prstGeom>
          <a:solidFill>
            <a:srgbClr val="7030a0"/>
          </a:solidFill>
          <a:ln w="12600">
            <a:solidFill>
              <a:srgbClr val="ffffff"/>
            </a:solidFill>
            <a:miter/>
          </a:ln>
          <a:effectLst>
            <a:outerShdw dist="117181" dir="783836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 join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e </a:t>
            </a:r>
            <a:r>
              <a:rPr b="1" lang="en-US" sz="2400" spc="-1" strike="noStrike">
                <a:solidFill>
                  <a:srgbClr val="85e0ff"/>
                </a:solidFill>
                <a:latin typeface="Garamond"/>
              </a:rPr>
              <a:t>synovia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ts between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occipital condyles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uperior  face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ateral masses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s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low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 rot="20208000">
            <a:off x="3112560" y="3708360"/>
            <a:ext cx="30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tla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7"/>
          <p:cNvSpPr/>
          <p:nvPr/>
        </p:nvSpPr>
        <p:spPr>
          <a:xfrm rot="20208000">
            <a:off x="1977840" y="4154400"/>
            <a:ext cx="42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axi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7439760" y="5792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8295120" y="5794200"/>
            <a:ext cx="3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7903800" y="61246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M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7656480" y="541188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63CC-9178-4ED6-BF80-17EAE73B6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4105080" cy="120024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OVEMENTS IN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ATLANTO-OCCIPITAL JOIN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000" y="1714320"/>
            <a:ext cx="4103640" cy="29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The joints are capable of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exion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ion,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teral flexion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66ff"/>
                </a:solidFill>
                <a:uFillTx/>
                <a:latin typeface="Garamond"/>
              </a:rPr>
              <a:t>They do not rot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Picture 4" descr="Untitled-37a"/>
          <p:cNvPicPr/>
          <p:nvPr/>
        </p:nvPicPr>
        <p:blipFill>
          <a:blip r:embed="rId1"/>
          <a:stretch/>
        </p:blipFill>
        <p:spPr>
          <a:xfrm>
            <a:off x="5076720" y="260280"/>
            <a:ext cx="309564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Untitled-3"/>
          <p:cNvPicPr/>
          <p:nvPr/>
        </p:nvPicPr>
        <p:blipFill>
          <a:blip r:embed="rId2"/>
          <a:stretch/>
        </p:blipFill>
        <p:spPr>
          <a:xfrm>
            <a:off x="5076720" y="3645000"/>
            <a:ext cx="316872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F9FF-8BDD-424A-BEF5-C246087F9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4360" y="4292280"/>
            <a:ext cx="7775280" cy="208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Atlanto-axial joints are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ree Synovial Join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One media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betwee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the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nterior arch of the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other tw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e betwee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ferior facet of lateral masses of the atla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uperior facets of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5" name="Picture 3" descr="Untitled-4"/>
          <p:cNvPicPr/>
          <p:nvPr/>
        </p:nvPicPr>
        <p:blipFill>
          <a:blip r:embed="rId1"/>
          <a:stretch/>
        </p:blipFill>
        <p:spPr>
          <a:xfrm>
            <a:off x="638280" y="1052640"/>
            <a:ext cx="7867440" cy="32400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4"/>
          <p:cNvSpPr/>
          <p:nvPr/>
        </p:nvSpPr>
        <p:spPr>
          <a:xfrm>
            <a:off x="5630760" y="1197000"/>
            <a:ext cx="925560" cy="36036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5624640" y="1557360"/>
            <a:ext cx="925560" cy="35892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908000" y="260280"/>
            <a:ext cx="568836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TLANTO-AXIAL JOINT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5-Point Star 7"/>
          <p:cNvSpPr/>
          <p:nvPr/>
        </p:nvSpPr>
        <p:spPr>
          <a:xfrm>
            <a:off x="4786200" y="2928960"/>
            <a:ext cx="71640" cy="46080"/>
          </a:xfrm>
          <a:custGeom>
            <a:avLst/>
            <a:gdLst>
              <a:gd name="textAreaLeft" fmla="*/ 21960 w 71640"/>
              <a:gd name="textAreaRight" fmla="*/ 49680 w 71640"/>
              <a:gd name="textAreaTop" fmla="*/ 17640 h 46080"/>
              <a:gd name="textAreaBottom" fmla="*/ 35280 h 46080"/>
            </a:gdLst>
            <a:ahLst/>
            <a:rect l="textAreaLeft" t="textAreaTop" r="textAreaRight" b="textAreaBottom"/>
            <a:pathLst>
              <a:path w="71437" h="46037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0" y="17585"/>
                </a:lnTo>
                <a:lnTo>
                  <a:pt x="71437" y="17585"/>
                </a:lnTo>
                <a:lnTo>
                  <a:pt x="49362" y="28452"/>
                </a:lnTo>
                <a:lnTo>
                  <a:pt x="57794" y="46037"/>
                </a:lnTo>
                <a:lnTo>
                  <a:pt x="35719" y="35169"/>
                </a:lnTo>
                <a:lnTo>
                  <a:pt x="13643" y="46037"/>
                </a:lnTo>
                <a:lnTo>
                  <a:pt x="22075" y="28452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5-Point Star 8"/>
          <p:cNvSpPr/>
          <p:nvPr/>
        </p:nvSpPr>
        <p:spPr>
          <a:xfrm flipV="1">
            <a:off x="3286080" y="2928960"/>
            <a:ext cx="71640" cy="46080"/>
          </a:xfrm>
          <a:custGeom>
            <a:avLst/>
            <a:gdLst>
              <a:gd name="textAreaLeft" fmla="*/ 21960 w 71640"/>
              <a:gd name="textAreaRight" fmla="*/ 49680 w 71640"/>
              <a:gd name="textAreaTop" fmla="*/ 18000 h 46080"/>
              <a:gd name="textAreaBottom" fmla="*/ 35640 h 46080"/>
            </a:gdLst>
            <a:ahLst/>
            <a:rect l="textAreaLeft" t="textAreaTop" r="textAreaRight" b="textAreaBottom"/>
            <a:pathLst>
              <a:path w="71438" h="46037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1" y="17585"/>
                </a:lnTo>
                <a:lnTo>
                  <a:pt x="71438" y="17585"/>
                </a:lnTo>
                <a:lnTo>
                  <a:pt x="49362" y="28452"/>
                </a:lnTo>
                <a:lnTo>
                  <a:pt x="57795" y="46037"/>
                </a:lnTo>
                <a:lnTo>
                  <a:pt x="35719" y="35169"/>
                </a:lnTo>
                <a:lnTo>
                  <a:pt x="13643" y="46037"/>
                </a:lnTo>
                <a:lnTo>
                  <a:pt x="22076" y="28452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5-Point Star 9"/>
          <p:cNvSpPr/>
          <p:nvPr/>
        </p:nvSpPr>
        <p:spPr>
          <a:xfrm>
            <a:off x="4000680" y="2357280"/>
            <a:ext cx="71280" cy="142920"/>
          </a:xfrm>
          <a:custGeom>
            <a:avLst/>
            <a:gdLst>
              <a:gd name="textAreaLeft" fmla="*/ 21960 w 71280"/>
              <a:gd name="textAreaRight" fmla="*/ 49320 w 7128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71438" h="142875">
                <a:moveTo>
                  <a:pt x="0" y="54573"/>
                </a:moveTo>
                <a:lnTo>
                  <a:pt x="27287" y="54574"/>
                </a:lnTo>
                <a:lnTo>
                  <a:pt x="35719" y="0"/>
                </a:lnTo>
                <a:lnTo>
                  <a:pt x="44151" y="54574"/>
                </a:lnTo>
                <a:lnTo>
                  <a:pt x="71438" y="54573"/>
                </a:lnTo>
                <a:lnTo>
                  <a:pt x="49362" y="88301"/>
                </a:lnTo>
                <a:lnTo>
                  <a:pt x="57795" y="142875"/>
                </a:lnTo>
                <a:lnTo>
                  <a:pt x="35719" y="109146"/>
                </a:lnTo>
                <a:lnTo>
                  <a:pt x="13643" y="142875"/>
                </a:lnTo>
                <a:lnTo>
                  <a:pt x="22076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2017-0338-4EBC-A8E4-C7804611F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3602160" cy="22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can b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xtensive rotation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atl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sku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nd thus of the head on the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ax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4" descr="Untitled-38"/>
          <p:cNvPicPr/>
          <p:nvPr/>
        </p:nvPicPr>
        <p:blipFill>
          <a:blip r:embed="rId1"/>
          <a:stretch/>
        </p:blipFill>
        <p:spPr>
          <a:xfrm>
            <a:off x="4140360" y="620640"/>
            <a:ext cx="4752720" cy="4753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500040" y="5286240"/>
            <a:ext cx="3357720" cy="161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Garamond"/>
              </a:rPr>
              <a:t>N.B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Atlanto-axial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joint allows you to “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ay No “ lateral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rotation of the face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357120" y="274680"/>
            <a:ext cx="3786120" cy="119124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OVEMENTS IN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ATLANTO-AXI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JOIN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258444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JOINTS OF THE VERTEBRAL COLUMN </a:t>
            </a:r>
            <a:r>
              <a:rPr b="1" lang="en-US" sz="5400" spc="-1" strike="noStrike">
                <a:solidFill>
                  <a:srgbClr val="66ff33"/>
                </a:solidFill>
                <a:latin typeface="Garamond"/>
              </a:rPr>
              <a:t>BELOW THE AXI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95280" y="3573360"/>
            <a:ext cx="8137440" cy="2562840"/>
          </a:xfrm>
          <a:prstGeom prst="rect">
            <a:avLst/>
          </a:prstGeom>
          <a:solidFill>
            <a:srgbClr val="0000f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JOINTS BETWEEN 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TWO VERTEBRAL </a:t>
            </a:r>
            <a:r>
              <a:rPr b="1" lang="en-US" sz="5400" spc="-1" strike="noStrike">
                <a:solidFill>
                  <a:srgbClr val="66ff33"/>
                </a:solidFill>
                <a:latin typeface="Garamond"/>
              </a:rPr>
              <a:t>BODIE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EB45-7A05-4BBA-A920-A09EC6546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Untitled-7"/>
          <p:cNvPicPr/>
          <p:nvPr/>
        </p:nvPicPr>
        <p:blipFill>
          <a:blip r:embed="rId1"/>
          <a:srcRect l="0" t="0" r="0" b="3865"/>
          <a:stretch/>
        </p:blipFill>
        <p:spPr>
          <a:xfrm>
            <a:off x="1206360" y="328680"/>
            <a:ext cx="6686640" cy="4829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42560" y="5300640"/>
            <a:ext cx="900108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xception of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irst two cervical vertebra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the other  cervical vertebra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rticulate with each other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by means of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5794200" y="357120"/>
            <a:ext cx="3349800" cy="1373040"/>
          </a:xfrm>
          <a:prstGeom prst="wedgeRectCallout">
            <a:avLst>
              <a:gd name="adj1" fmla="val -55824"/>
              <a:gd name="adj2" fmla="val 198282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- Cartilaginous joints between their bodies 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428760" y="142920"/>
            <a:ext cx="2911320" cy="1556280"/>
          </a:xfrm>
          <a:prstGeom prst="wedgeRectCallout">
            <a:avLst>
              <a:gd name="adj1" fmla="val 110990"/>
              <a:gd name="adj2" fmla="val 145231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I- Synovial join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between their articular processe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D4F-71B4-4F07-974F-7697FE5C1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928800"/>
            <a:ext cx="3744720" cy="509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upper and lower surfac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bodies of 2 adjacent vertebra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re covered by thin plates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yaline cartil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the plates of hyaline cartilage is an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tervertebral disc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</a:t>
            </a:r>
            <a:r>
              <a:rPr b="1" i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fibrocartil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collagen fibers of the dis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rongly connect the bodies of the two vertebr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6" name="Picture 5" descr="F71683-045-f038"/>
          <p:cNvPicPr/>
          <p:nvPr/>
        </p:nvPicPr>
        <p:blipFill>
          <a:blip r:embed="rId1"/>
          <a:srcRect l="0" t="0" r="0" b="2161"/>
          <a:stretch/>
        </p:blipFill>
        <p:spPr>
          <a:xfrm>
            <a:off x="4287960" y="907920"/>
            <a:ext cx="4566960" cy="528192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7"/>
          <p:cNvSpPr/>
          <p:nvPr/>
        </p:nvSpPr>
        <p:spPr>
          <a:xfrm>
            <a:off x="3419640" y="3789360"/>
            <a:ext cx="2089080" cy="46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88" h="105">
                <a:moveTo>
                  <a:pt x="0" y="105"/>
                </a:moveTo>
                <a:cubicBezTo>
                  <a:pt x="666" y="66"/>
                  <a:pt x="1332" y="28"/>
                  <a:pt x="15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sm"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4427640" y="189000"/>
            <a:ext cx="40320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I- Intervertebral disc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80920"/>
            <a:ext cx="7772400" cy="1446480"/>
          </a:xfrm>
          <a:prstGeom prst="rect">
            <a:avLst/>
          </a:prstGeom>
          <a:solidFill>
            <a:srgbClr val="0000f2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INTS BETWEEN TWO VERTEBRAL AR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80" name="Picture 2" descr="E:\dad\Student Gray\2. Back\F66122-002-f032.jpg"/>
          <p:cNvPicPr/>
          <p:nvPr/>
        </p:nvPicPr>
        <p:blipFill>
          <a:blip r:embed="rId1"/>
          <a:srcRect l="18529" t="0" r="16100" b="83110"/>
          <a:stretch/>
        </p:blipFill>
        <p:spPr>
          <a:xfrm>
            <a:off x="1763640" y="3213000"/>
            <a:ext cx="5832720" cy="3311640"/>
          </a:xfrm>
          <a:prstGeom prst="rect">
            <a:avLst/>
          </a:prstGeom>
          <a:ln w="0">
            <a:noFill/>
          </a:ln>
        </p:spPr>
      </p:pic>
      <p:sp>
        <p:nvSpPr>
          <p:cNvPr id="281" name="Frame 3"/>
          <p:cNvSpPr/>
          <p:nvPr/>
        </p:nvSpPr>
        <p:spPr>
          <a:xfrm>
            <a:off x="5357880" y="4572000"/>
            <a:ext cx="2143080" cy="5000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43125" h="500063">
                <a:moveTo>
                  <a:pt x="0" y="0"/>
                </a:moveTo>
                <a:lnTo>
                  <a:pt x="2143125" y="0"/>
                </a:lnTo>
                <a:lnTo>
                  <a:pt x="2143125" y="500063"/>
                </a:lnTo>
                <a:lnTo>
                  <a:pt x="0" y="500063"/>
                </a:lnTo>
                <a:close/>
                <a:moveTo>
                  <a:pt x="0" y="0"/>
                </a:moveTo>
                <a:lnTo>
                  <a:pt x="0" y="500063"/>
                </a:lnTo>
                <a:lnTo>
                  <a:pt x="2143125" y="500063"/>
                </a:lnTo>
                <a:lnTo>
                  <a:pt x="2143125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Frame 4"/>
          <p:cNvSpPr/>
          <p:nvPr/>
        </p:nvSpPr>
        <p:spPr>
          <a:xfrm>
            <a:off x="5357880" y="3214800"/>
            <a:ext cx="1143000" cy="285480"/>
          </a:xfrm>
          <a:custGeom>
            <a:avLst/>
            <a:gdLst>
              <a:gd name="textAreaLeft" fmla="*/ 35640 w 1143000"/>
              <a:gd name="textAreaRight" fmla="*/ 1107360 w 1143000"/>
              <a:gd name="textAreaTop" fmla="*/ 35640 h 285480"/>
              <a:gd name="textAreaBottom" fmla="*/ 249840 h 285480"/>
            </a:gdLst>
            <a:ahLst/>
            <a:rect l="textAreaLeft" t="textAreaTop" r="textAreaRight" b="textAreaBottom"/>
            <a:pathLst>
              <a:path w="1143000" h="285750">
                <a:moveTo>
                  <a:pt x="0" y="0"/>
                </a:moveTo>
                <a:lnTo>
                  <a:pt x="1143000" y="0"/>
                </a:lnTo>
                <a:lnTo>
                  <a:pt x="1143000" y="285750"/>
                </a:lnTo>
                <a:lnTo>
                  <a:pt x="0" y="28575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1107281" y="250031"/>
                </a:lnTo>
                <a:lnTo>
                  <a:pt x="1107281" y="35719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Frame 5"/>
          <p:cNvSpPr/>
          <p:nvPr/>
        </p:nvSpPr>
        <p:spPr>
          <a:xfrm>
            <a:off x="5429160" y="3714840"/>
            <a:ext cx="2143080" cy="7142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43125" h="714375">
                <a:moveTo>
                  <a:pt x="0" y="0"/>
                </a:moveTo>
                <a:lnTo>
                  <a:pt x="2143125" y="0"/>
                </a:lnTo>
                <a:lnTo>
                  <a:pt x="2143125" y="714375"/>
                </a:lnTo>
                <a:lnTo>
                  <a:pt x="0" y="714375"/>
                </a:lnTo>
                <a:close/>
                <a:moveTo>
                  <a:pt x="0" y="0"/>
                </a:moveTo>
                <a:lnTo>
                  <a:pt x="0" y="714375"/>
                </a:lnTo>
                <a:lnTo>
                  <a:pt x="2143125" y="714375"/>
                </a:lnTo>
                <a:lnTo>
                  <a:pt x="2143125" y="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EFFC-5D1E-4D8D-8B46-2F36D90ED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23640" y="4005360"/>
            <a:ext cx="3384360" cy="2232000"/>
          </a:xfrm>
          <a:prstGeom prst="rect">
            <a:avLst/>
          </a:prstGeom>
          <a:solidFill>
            <a:srgbClr val="0000f2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ticular facets are covered with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yaline cartilag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the joints are surrounded by a </a:t>
            </a: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capsu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Picture 5" descr="F71683-045-f038"/>
          <p:cNvPicPr/>
          <p:nvPr/>
        </p:nvPicPr>
        <p:blipFill>
          <a:blip r:embed="rId1"/>
          <a:srcRect l="0" t="0" r="0" b="2253"/>
          <a:stretch/>
        </p:blipFill>
        <p:spPr>
          <a:xfrm>
            <a:off x="4070520" y="482760"/>
            <a:ext cx="4832280" cy="585468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500040" y="214200"/>
            <a:ext cx="3311640" cy="5212440"/>
          </a:xfrm>
          <a:prstGeom prst="wedgeRectCallout">
            <a:avLst>
              <a:gd name="adj1" fmla="val 114462"/>
              <a:gd name="adj2" fmla="val 23064"/>
            </a:avLst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joints between two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vertebral arche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 of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novial join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etwee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io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inferior articular process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adjacent vertebrae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ERVICAL SP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267920"/>
            <a:ext cx="8424720" cy="558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y the end of this lecture the student should be ab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7 cervical vertebra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(typical &amp; atypical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oin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tween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ove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which occur in the region of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st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ructur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which connect 2 adjacent vertebrae toge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0ACB-3064-4990-90E8-4B05CEDD7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14D8-2A5F-44F5-B9E1-D5848E282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95640" y="188640"/>
            <a:ext cx="720720" cy="452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G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4714560"/>
            <a:ext cx="9144000" cy="2143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anterior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osterior longitudinal ligament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un as continuous bands along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erior &amp; posterior surfac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vertebral bod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ligamen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old the vertebrae firmly together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t at the same tim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ermit a small amount of movement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take pla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1" name="Picture 5" descr="Untitled-8a"/>
          <p:cNvPicPr/>
          <p:nvPr/>
        </p:nvPicPr>
        <p:blipFill>
          <a:blip r:embed="rId1"/>
          <a:srcRect l="5258" t="7010" r="3576" b="5381"/>
          <a:stretch/>
        </p:blipFill>
        <p:spPr>
          <a:xfrm>
            <a:off x="4859280" y="189000"/>
            <a:ext cx="3960720" cy="4319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Untitled-2a"/>
          <p:cNvPicPr/>
          <p:nvPr/>
        </p:nvPicPr>
        <p:blipFill>
          <a:blip r:embed="rId2"/>
          <a:srcRect l="5886" t="3437" r="5897" b="3569"/>
          <a:stretch/>
        </p:blipFill>
        <p:spPr>
          <a:xfrm>
            <a:off x="324000" y="189000"/>
            <a:ext cx="3527280" cy="4319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http://dc317.4shared.com/doc/E9OI8RS6/preview_html_22786f1e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714840" cy="42865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4" descr="56453F25"/>
          <p:cNvPicPr/>
          <p:nvPr/>
        </p:nvPicPr>
        <p:blipFill>
          <a:blip r:embed="rId1"/>
          <a:srcRect l="0" t="13330" r="25149" b="26919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F999617B"/>
          <p:cNvPicPr/>
          <p:nvPr/>
        </p:nvPicPr>
        <p:blipFill>
          <a:blip r:embed="rId2"/>
          <a:srcRect l="21356" t="6632" r="17274" b="11219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755640" y="645336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514"/>
                </a:solidFill>
                <a:uFillTx/>
                <a:latin typeface="Garamond"/>
              </a:rPr>
              <a:t>Anterior Longitudinal Ligamen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292720" y="64533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514"/>
                </a:solidFill>
                <a:uFillTx/>
                <a:latin typeface="Garamond"/>
              </a:rPr>
              <a:t>Posterior Longitudinal Ligamen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270000"/>
            <a:ext cx="6264360" cy="3163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4200" y="3573360"/>
            <a:ext cx="8715600" cy="3284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pical ligament 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edian ligament connects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apex of odontoid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ces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oramen magn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(it is undercover of cruciate ligament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lar ligamen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 these lie on each side of apical ligament and connect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odontoid proces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medial side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ccipital condy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uciate ligament 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consists of a transverse part &amp; a vertical part/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vertica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betwee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ody of axi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oramen magn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/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ransvers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bind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nterior arch of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atla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2" name="Picture 4" descr="454AF441"/>
          <p:cNvPicPr/>
          <p:nvPr/>
        </p:nvPicPr>
        <p:blipFill>
          <a:blip r:embed="rId1"/>
          <a:srcRect l="13335" t="6217" r="11058" b="64187"/>
          <a:stretch/>
        </p:blipFill>
        <p:spPr>
          <a:xfrm>
            <a:off x="1332000" y="189000"/>
            <a:ext cx="6408720" cy="3311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03" name="TextBox 5"/>
          <p:cNvSpPr/>
          <p:nvPr/>
        </p:nvSpPr>
        <p:spPr>
          <a:xfrm>
            <a:off x="4429080" y="142884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Garamond"/>
              </a:rPr>
              <a:t>1</a:t>
            </a:r>
            <a:endParaRPr b="1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4786200" y="1571760"/>
            <a:ext cx="7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Garamond"/>
              </a:rPr>
              <a:t>2</a:t>
            </a:r>
            <a:endParaRPr b="1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4357800" y="1928880"/>
            <a:ext cx="35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99"/>
                </a:solidFill>
                <a:latin typeface="Garamond"/>
              </a:rPr>
              <a:t>3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3714840" y="2000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3714840" y="2571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9A8E-27D3-4A79-A747-6B47C604E3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825800" cy="646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THER LIGAM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10" name="Picture 5" descr="Untitled-9"/>
          <p:cNvPicPr/>
          <p:nvPr/>
        </p:nvPicPr>
        <p:blipFill>
          <a:blip r:embed="rId1"/>
          <a:srcRect l="0" t="5453" r="15123" b="2662"/>
          <a:stretch/>
        </p:blipFill>
        <p:spPr>
          <a:xfrm>
            <a:off x="4356000" y="1125360"/>
            <a:ext cx="4530960" cy="52549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6"/>
          <p:cNvSpPr/>
          <p:nvPr/>
        </p:nvSpPr>
        <p:spPr>
          <a:xfrm>
            <a:off x="179280" y="765000"/>
            <a:ext cx="4033800" cy="1754280"/>
          </a:xfrm>
          <a:prstGeom prst="wedgeRectCallout">
            <a:avLst>
              <a:gd name="adj1" fmla="val 70407"/>
              <a:gd name="adj2" fmla="val 2104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raspinous ligament: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run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etwee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he </a:t>
            </a:r>
            <a:r>
              <a:rPr b="1" lang="en-US" sz="2400" spc="-1" strike="noStrike">
                <a:solidFill>
                  <a:srgbClr val="ff66ff"/>
                </a:solidFill>
                <a:latin typeface="Garamond"/>
              </a:rPr>
              <a:t>tip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66ff"/>
                </a:solidFill>
                <a:latin typeface="Garamond"/>
              </a:rPr>
              <a:t>adjacent spine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14200" y="2857680"/>
            <a:ext cx="3818160" cy="1888560"/>
          </a:xfrm>
          <a:prstGeom prst="wedgeRectCallout">
            <a:avLst>
              <a:gd name="adj1" fmla="val 86245"/>
              <a:gd name="adj2" fmla="val -974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Interspinous ligament: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nec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adjacent spi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214200" y="4572000"/>
            <a:ext cx="3673440" cy="2741760"/>
          </a:xfrm>
          <a:prstGeom prst="wedgeRectCallout">
            <a:avLst>
              <a:gd name="adj1" fmla="val 124175"/>
              <a:gd name="adj2" fmla="val -47587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Ligamentum flavum: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nec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lamina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adjacent vertebrae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6429240" y="364320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94d"/>
                </a:solidFill>
                <a:latin typeface="Garamond"/>
              </a:rPr>
              <a:t>Lamina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6227640" y="5084640"/>
            <a:ext cx="64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94d"/>
                </a:solidFill>
                <a:latin typeface="Garamond"/>
              </a:rPr>
              <a:t>Lamina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B2B9-BF68-4BFD-80AF-54BEA86242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Picture 7" descr="Untitled-10"/>
          <p:cNvPicPr/>
          <p:nvPr/>
        </p:nvPicPr>
        <p:blipFill>
          <a:blip r:embed="rId1"/>
          <a:srcRect l="10528" t="4913" r="11345" b="4438"/>
          <a:stretch/>
        </p:blipFill>
        <p:spPr>
          <a:xfrm>
            <a:off x="4356000" y="260280"/>
            <a:ext cx="4464000" cy="583272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8"/>
          <p:cNvSpPr/>
          <p:nvPr/>
        </p:nvSpPr>
        <p:spPr>
          <a:xfrm>
            <a:off x="179280" y="189000"/>
            <a:ext cx="4032360" cy="2226960"/>
          </a:xfrm>
          <a:prstGeom prst="wedgeRectCallout">
            <a:avLst>
              <a:gd name="adj1" fmla="val 85444"/>
              <a:gd name="adj2" fmla="val 4888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Intertransverse ligaments: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r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etwe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jacent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transvers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processes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5-Point Star 6"/>
          <p:cNvSpPr/>
          <p:nvPr/>
        </p:nvSpPr>
        <p:spPr>
          <a:xfrm>
            <a:off x="5643720" y="1857240"/>
            <a:ext cx="71280" cy="7164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AutoShape 8">
            <a:hlinkClick r:id="rId2"/>
          </p:cNvPr>
          <p:cNvSpPr/>
          <p:nvPr/>
        </p:nvSpPr>
        <p:spPr>
          <a:xfrm>
            <a:off x="54000" y="-1812960"/>
            <a:ext cx="41529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54000" y="-1812960"/>
            <a:ext cx="41529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54000" y="-1812960"/>
            <a:ext cx="41529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3" name="Picture 14" descr="http://ittcs.files.wordpress.com/2010/06/img_0233.jpg?w=300&amp;h=273"/>
          <p:cNvPicPr/>
          <p:nvPr/>
        </p:nvPicPr>
        <p:blipFill>
          <a:blip r:embed="rId3"/>
          <a:stretch/>
        </p:blipFill>
        <p:spPr>
          <a:xfrm>
            <a:off x="4357800" y="3500280"/>
            <a:ext cx="450036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5295-4372-46F2-AAB8-C0CC4781E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708120"/>
          </a:xfrm>
          <a:prstGeom prst="rect">
            <a:avLst/>
          </a:prstGeom>
          <a:solidFill>
            <a:srgbClr val="0a47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GAMENTUM NUCHA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60" y="1000080"/>
            <a:ext cx="5072040" cy="545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n the cervical reg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the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Garamond"/>
              </a:rPr>
              <a:t>Supraspinou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Garamond"/>
              </a:rPr>
              <a:t>Interspinous ligaments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re greatly thickened to form the strong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igamentum nucha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It extend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the spine of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eventh cervical verte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xternal occipital protuberance of the skull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with it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nterior bord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eing strongly attached 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ervical sp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7" name="Picture 5" descr="F66122-002-f036"/>
          <p:cNvPicPr/>
          <p:nvPr/>
        </p:nvPicPr>
        <p:blipFill>
          <a:blip r:embed="rId1"/>
          <a:srcRect l="7023" t="0" r="0" b="0"/>
          <a:stretch/>
        </p:blipFill>
        <p:spPr>
          <a:xfrm>
            <a:off x="5076720" y="1246320"/>
            <a:ext cx="3670560" cy="49910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6"/>
          <p:cNvSpPr/>
          <p:nvPr/>
        </p:nvSpPr>
        <p:spPr>
          <a:xfrm>
            <a:off x="7047000" y="2306520"/>
            <a:ext cx="1384200" cy="31140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Garamond"/>
              </a:rPr>
              <a:t>THANK YOU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9AA7-9806-4E1C-928B-34EB62ABC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539640" y="189000"/>
            <a:ext cx="2664000" cy="947160"/>
          </a:xfrm>
          <a:prstGeom prst="rect">
            <a:avLst/>
          </a:prstGeom>
          <a:solidFill>
            <a:srgbClr val="0000f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VICA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RTEBRAE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0" y="1484280"/>
            <a:ext cx="3500280" cy="527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y a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in number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l  characterized by presence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oramen transversarium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 the transverse proces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y are classified in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ypic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 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&amp; 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typic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5" descr="File0344"/>
          <p:cNvPicPr/>
          <p:nvPr/>
        </p:nvPicPr>
        <p:blipFill>
          <a:blip r:embed="rId1"/>
          <a:srcRect l="53007" t="0" r="136" b="77160"/>
          <a:stretch/>
        </p:blipFill>
        <p:spPr>
          <a:xfrm>
            <a:off x="3929040" y="1844640"/>
            <a:ext cx="503568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E:\dad\Student Gray\8. Head and neck\F66122-008-f179.jpg"/>
          <p:cNvPicPr/>
          <p:nvPr/>
        </p:nvPicPr>
        <p:blipFill>
          <a:blip r:embed="rId2"/>
          <a:srcRect l="3755" t="4555" r="55" b="4555"/>
          <a:stretch/>
        </p:blipFill>
        <p:spPr>
          <a:xfrm>
            <a:off x="3643200" y="214200"/>
            <a:ext cx="5286600" cy="5832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67" name="Right Arrow 7"/>
          <p:cNvSpPr/>
          <p:nvPr/>
        </p:nvSpPr>
        <p:spPr>
          <a:xfrm>
            <a:off x="5214960" y="1239840"/>
            <a:ext cx="428760" cy="11736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28B-822C-4705-8FE8-8DB749F49D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79280" y="189000"/>
            <a:ext cx="3321000" cy="558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66ff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he body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mal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longer horizontally than antero-posterior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s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pinous process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hort bifid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transverse processes has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foramen transversarium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rough which allow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ssage of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vertebral arteries &amp; vein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924360" y="189000"/>
            <a:ext cx="4824360" cy="1511280"/>
          </a:xfrm>
          <a:prstGeom prst="rect">
            <a:avLst/>
          </a:prstGeom>
          <a:solidFill>
            <a:srgbClr val="0000f2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ICAL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ERVICAL VERTEBRAE C3, C4, C5 &amp;C 6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5" descr="File0344"/>
          <p:cNvPicPr/>
          <p:nvPr/>
        </p:nvPicPr>
        <p:blipFill>
          <a:blip r:embed="rId1"/>
          <a:srcRect l="53007" t="0" r="136" b="77160"/>
          <a:stretch/>
        </p:blipFill>
        <p:spPr>
          <a:xfrm>
            <a:off x="3564000" y="184464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0"/>
          <p:cNvSpPr/>
          <p:nvPr/>
        </p:nvSpPr>
        <p:spPr>
          <a:xfrm>
            <a:off x="3780000" y="400536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3708360" y="5084640"/>
            <a:ext cx="5256360" cy="94716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vertebral foramen is large and triangular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74" name="Straight Arrow Connector 12"/>
          <p:cNvCxnSpPr/>
          <p:nvPr/>
        </p:nvCxnSpPr>
        <p:spPr>
          <a:xfrm>
            <a:off x="5796000" y="3860280"/>
            <a:ext cx="1008720" cy="252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75" name="Straight Arrow Connector 16"/>
          <p:cNvCxnSpPr/>
          <p:nvPr/>
        </p:nvCxnSpPr>
        <p:spPr>
          <a:xfrm flipH="1">
            <a:off x="6298920" y="3573000"/>
            <a:ext cx="2160" cy="64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Rectangle 11"/>
          <p:cNvSpPr/>
          <p:nvPr/>
        </p:nvSpPr>
        <p:spPr>
          <a:xfrm>
            <a:off x="7596360" y="2349360"/>
            <a:ext cx="1079280" cy="792360"/>
          </a:xfrm>
          <a:prstGeom prst="rect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5" descr="http://tmjc.com.ne.kr/tmj/info/drinfo/images/tm7-9.jpg">
            <a:hlinkClick r:id="rId2"/>
          </p:cNvPr>
          <p:cNvPicPr/>
          <p:nvPr/>
        </p:nvPicPr>
        <p:blipFill>
          <a:blip r:embed="rId3"/>
          <a:srcRect l="10504" t="0" r="4000" b="20020"/>
          <a:stretch/>
        </p:blipFill>
        <p:spPr>
          <a:xfrm>
            <a:off x="3571920" y="1857240"/>
            <a:ext cx="5357880" cy="3071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63640" y="272520"/>
            <a:ext cx="5329080" cy="87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ICAL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CERVICAL VERTABRA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3097440" cy="5952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superior articular proces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have  smal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ac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at fac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upw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back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inferior articular  processe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ha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ac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ac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downw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for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transverse proces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2 tubercl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front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o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ehi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e transverse foram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87B5-DE63-4CEE-BF51-9BFDDD781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2" descr="E:\dad\Student Gray\8. Head and neck\F66122-008-f008.jpg"/>
          <p:cNvPicPr/>
          <p:nvPr/>
        </p:nvPicPr>
        <p:blipFill>
          <a:blip r:embed="rId1"/>
          <a:srcRect l="9777" t="0" r="13326" b="73558"/>
          <a:stretch/>
        </p:blipFill>
        <p:spPr>
          <a:xfrm>
            <a:off x="3419640" y="1214280"/>
            <a:ext cx="5473440" cy="3714840"/>
          </a:xfrm>
          <a:prstGeom prst="rect">
            <a:avLst/>
          </a:prstGeom>
          <a:ln w="0">
            <a:noFill/>
          </a:ln>
        </p:spPr>
      </p:pic>
      <p:sp>
        <p:nvSpPr>
          <p:cNvPr id="182" name="Frame 5"/>
          <p:cNvSpPr/>
          <p:nvPr/>
        </p:nvSpPr>
        <p:spPr>
          <a:xfrm>
            <a:off x="5500800" y="4500720"/>
            <a:ext cx="1071360" cy="357120"/>
          </a:xfrm>
          <a:custGeom>
            <a:avLst/>
            <a:gdLst>
              <a:gd name="textAreaLeft" fmla="*/ 44640 w 1071360"/>
              <a:gd name="textAreaRight" fmla="*/ 1026720 w 107136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71562" h="357187">
                <a:moveTo>
                  <a:pt x="0" y="0"/>
                </a:moveTo>
                <a:lnTo>
                  <a:pt x="1071562" y="0"/>
                </a:lnTo>
                <a:lnTo>
                  <a:pt x="1071562" y="357187"/>
                </a:lnTo>
                <a:lnTo>
                  <a:pt x="0" y="357187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1026914" y="312539"/>
                </a:lnTo>
                <a:lnTo>
                  <a:pt x="1026914" y="44648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Frame 6"/>
          <p:cNvSpPr/>
          <p:nvPr/>
        </p:nvSpPr>
        <p:spPr>
          <a:xfrm>
            <a:off x="7358040" y="3571920"/>
            <a:ext cx="1071720" cy="357120"/>
          </a:xfrm>
          <a:custGeom>
            <a:avLst/>
            <a:gdLst>
              <a:gd name="textAreaLeft" fmla="*/ 44640 w 1071720"/>
              <a:gd name="textAreaRight" fmla="*/ 1027080 w 107172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71562" h="357188">
                <a:moveTo>
                  <a:pt x="0" y="0"/>
                </a:moveTo>
                <a:lnTo>
                  <a:pt x="1071562" y="0"/>
                </a:lnTo>
                <a:lnTo>
                  <a:pt x="1071562" y="357188"/>
                </a:lnTo>
                <a:lnTo>
                  <a:pt x="0" y="357188"/>
                </a:lnTo>
                <a:close/>
                <a:moveTo>
                  <a:pt x="44649" y="44649"/>
                </a:moveTo>
                <a:lnTo>
                  <a:pt x="44649" y="312540"/>
                </a:lnTo>
                <a:lnTo>
                  <a:pt x="1026914" y="312540"/>
                </a:lnTo>
                <a:lnTo>
                  <a:pt x="1026914" y="44649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5-Point Star 7"/>
          <p:cNvSpPr/>
          <p:nvPr/>
        </p:nvSpPr>
        <p:spPr>
          <a:xfrm flipV="1">
            <a:off x="6500880" y="38577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-Point Star 8"/>
          <p:cNvSpPr/>
          <p:nvPr/>
        </p:nvSpPr>
        <p:spPr>
          <a:xfrm flipH="1" flipV="1">
            <a:off x="7097760" y="3714840"/>
            <a:ext cx="46080" cy="71280"/>
          </a:xfrm>
          <a:custGeom>
            <a:avLst/>
            <a:gdLst>
              <a:gd name="textAreaLeft" fmla="*/ 14040 w 46080"/>
              <a:gd name="textAreaRight" fmla="*/ 32040 w 460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46037" h="71438">
                <a:moveTo>
                  <a:pt x="0" y="27287"/>
                </a:moveTo>
                <a:lnTo>
                  <a:pt x="17585" y="27287"/>
                </a:lnTo>
                <a:lnTo>
                  <a:pt x="23019" y="0"/>
                </a:lnTo>
                <a:lnTo>
                  <a:pt x="28452" y="27287"/>
                </a:lnTo>
                <a:lnTo>
                  <a:pt x="46037" y="27287"/>
                </a:lnTo>
                <a:lnTo>
                  <a:pt x="31811" y="44151"/>
                </a:lnTo>
                <a:lnTo>
                  <a:pt x="37245" y="71438"/>
                </a:lnTo>
                <a:lnTo>
                  <a:pt x="23019" y="54573"/>
                </a:lnTo>
                <a:lnTo>
                  <a:pt x="8792" y="71438"/>
                </a:lnTo>
                <a:lnTo>
                  <a:pt x="14226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AutoShape 11">
            <a:hlinkClick r:id="rId2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13">
            <a:hlinkClick r:id="rId3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15">
            <a:hlinkClick r:id="rId4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17">
            <a:hlinkClick r:id="rId5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19" descr="http://upload.wikimedia.org/wikipedia/commons/3/3c/Gray84.png"/>
          <p:cNvPicPr/>
          <p:nvPr/>
        </p:nvPicPr>
        <p:blipFill>
          <a:blip r:embed="rId6"/>
          <a:stretch/>
        </p:blipFill>
        <p:spPr>
          <a:xfrm>
            <a:off x="3786120" y="5000760"/>
            <a:ext cx="4762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4B2C-3665-4C99-8C36-63DE0799D9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2" descr="E:\dad\Student Gray\8. Head and neck\F66122-008-f008.jpg"/>
          <p:cNvPicPr/>
          <p:nvPr/>
        </p:nvPicPr>
        <p:blipFill>
          <a:blip r:embed="rId1"/>
          <a:srcRect l="1575" t="26446" r="46453" b="49190"/>
          <a:stretch/>
        </p:blipFill>
        <p:spPr>
          <a:xfrm>
            <a:off x="3924360" y="47628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50920" y="1125360"/>
            <a:ext cx="3673440" cy="3751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a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N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spine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ateral mass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ed together by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mall anterior arch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long posterior arch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ateral mass 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rticular surfa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i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upp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lowe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pect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755640" y="260280"/>
            <a:ext cx="2521080" cy="581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LAS- C1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435640" y="476280"/>
            <a:ext cx="1297080" cy="28872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995640" y="3645000"/>
            <a:ext cx="5148360" cy="3141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The superior articular surface :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iculates with the </a:t>
            </a: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occipital condyles of the skull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forms the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joint allows you to no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say Yes”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9" descr="http://paigemckinney.files.wordpress.com/2011/03/atlanto-occipital-joint.jpg">
            <a:hlinkClick r:id="rId2"/>
          </p:cNvPr>
          <p:cNvPicPr/>
          <p:nvPr/>
        </p:nvPicPr>
        <p:blipFill>
          <a:blip r:embed="rId3"/>
          <a:srcRect l="28114" t="28126" r="37752" b="31087"/>
          <a:stretch/>
        </p:blipFill>
        <p:spPr>
          <a:xfrm>
            <a:off x="642960" y="42861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D50C-DE86-443A-994B-3140E6F5A3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9" name="Picture 2" descr="E:\dad\Student Gray\8. Head and neck\F66122-008-f008.jpg"/>
          <p:cNvPicPr/>
          <p:nvPr/>
        </p:nvPicPr>
        <p:blipFill>
          <a:blip r:embed="rId1"/>
          <a:srcRect l="55831" t="32296" r="16218" b="48665"/>
          <a:stretch/>
        </p:blipFill>
        <p:spPr>
          <a:xfrm>
            <a:off x="4859280" y="189000"/>
            <a:ext cx="4033800" cy="3456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50920" y="189000"/>
            <a:ext cx="4465440" cy="3506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he inferior articular surface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of the atlas is circular and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rticulates with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the axi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. It forms the  2 lateral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Atlanto-Axial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his joint </a:t>
            </a:r>
            <a:r>
              <a:rPr b="1" lang="en-US" sz="2200" spc="-1" strike="noStrike">
                <a:solidFill>
                  <a:srgbClr val="ffc000"/>
                </a:solidFill>
                <a:latin typeface="Garamond"/>
              </a:rPr>
              <a:t>together with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he joint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etween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dens of axi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nd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anterior small arch of atla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y allow you to “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Say No “ lateral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rotation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of the face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2" descr="E:\dad\Student Gray\8. Head and neck\F66122-008-f008.jpg"/>
          <p:cNvPicPr/>
          <p:nvPr/>
        </p:nvPicPr>
        <p:blipFill>
          <a:blip r:embed="rId2"/>
          <a:srcRect l="0" t="54490" r="48818" b="14304"/>
          <a:stretch/>
        </p:blipFill>
        <p:spPr>
          <a:xfrm>
            <a:off x="214200" y="3357720"/>
            <a:ext cx="4608720" cy="331128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7"/>
          <p:cNvCxnSpPr/>
          <p:nvPr/>
        </p:nvCxnSpPr>
        <p:spPr>
          <a:xfrm flipH="1">
            <a:off x="7956000" y="1284840"/>
            <a:ext cx="402120" cy="1278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203" name="Straight Arrow Connector 10"/>
          <p:cNvCxnSpPr/>
          <p:nvPr/>
        </p:nvCxnSpPr>
        <p:spPr>
          <a:xfrm>
            <a:off x="5148360" y="476280"/>
            <a:ext cx="576360" cy="10087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204" name="Straight Arrow Connector 14"/>
          <p:cNvCxnSpPr/>
          <p:nvPr/>
        </p:nvCxnSpPr>
        <p:spPr>
          <a:xfrm flipH="1">
            <a:off x="2857320" y="3857760"/>
            <a:ext cx="1072080" cy="187560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</p:cxnSp>
      <p:sp>
        <p:nvSpPr>
          <p:cNvPr id="205" name="TextBox 19"/>
          <p:cNvSpPr/>
          <p:nvPr/>
        </p:nvSpPr>
        <p:spPr>
          <a:xfrm>
            <a:off x="6084720" y="1773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XI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5-Point Star 11"/>
          <p:cNvSpPr/>
          <p:nvPr/>
        </p:nvSpPr>
        <p:spPr>
          <a:xfrm>
            <a:off x="1428840" y="5286240"/>
            <a:ext cx="71280" cy="7164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71438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7"/>
                </a:lnTo>
                <a:lnTo>
                  <a:pt x="49362" y="44151"/>
                </a:lnTo>
                <a:lnTo>
                  <a:pt x="57795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6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5-Point Star 12"/>
          <p:cNvSpPr/>
          <p:nvPr/>
        </p:nvSpPr>
        <p:spPr>
          <a:xfrm flipV="1">
            <a:off x="2857680" y="5715000"/>
            <a:ext cx="71280" cy="46080"/>
          </a:xfrm>
          <a:custGeom>
            <a:avLst/>
            <a:gdLst>
              <a:gd name="textAreaLeft" fmla="*/ 21960 w 71280"/>
              <a:gd name="textAreaRight" fmla="*/ 49320 w 71280"/>
              <a:gd name="textAreaTop" fmla="*/ 18000 h 46080"/>
              <a:gd name="textAreaBottom" fmla="*/ 35640 h 46080"/>
            </a:gdLst>
            <a:ahLst/>
            <a:rect l="textAreaLeft" t="textAreaTop" r="textAreaRight" b="textAreaBottom"/>
            <a:pathLst>
              <a:path w="71438" h="46038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1" y="17585"/>
                </a:lnTo>
                <a:lnTo>
                  <a:pt x="71438" y="17585"/>
                </a:lnTo>
                <a:lnTo>
                  <a:pt x="49362" y="28453"/>
                </a:lnTo>
                <a:lnTo>
                  <a:pt x="57795" y="46038"/>
                </a:lnTo>
                <a:lnTo>
                  <a:pt x="35719" y="35170"/>
                </a:lnTo>
                <a:lnTo>
                  <a:pt x="13643" y="46038"/>
                </a:lnTo>
                <a:lnTo>
                  <a:pt x="22076" y="28453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3786120" y="34290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Garamond"/>
              </a:rPr>
              <a:t>Atlanto-axial joint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Frame 17"/>
          <p:cNvSpPr/>
          <p:nvPr/>
        </p:nvSpPr>
        <p:spPr>
          <a:xfrm>
            <a:off x="3714840" y="3429000"/>
            <a:ext cx="785880" cy="428760"/>
          </a:xfrm>
          <a:custGeom>
            <a:avLst/>
            <a:gdLst>
              <a:gd name="textAreaLeft" fmla="*/ 53280 w 785880"/>
              <a:gd name="textAreaRight" fmla="*/ 732600 w 785880"/>
              <a:gd name="textAreaTop" fmla="*/ 53280 h 428760"/>
              <a:gd name="textAreaBottom" fmla="*/ 375480 h 428760"/>
            </a:gdLst>
            <a:ahLst/>
            <a:rect l="textAreaLeft" t="textAreaTop" r="textAreaRight" b="textAreaBottom"/>
            <a:pathLst>
              <a:path w="785813" h="428625">
                <a:moveTo>
                  <a:pt x="0" y="0"/>
                </a:moveTo>
                <a:lnTo>
                  <a:pt x="785813" y="0"/>
                </a:lnTo>
                <a:lnTo>
                  <a:pt x="785813" y="428625"/>
                </a:lnTo>
                <a:lnTo>
                  <a:pt x="0" y="428625"/>
                </a:lnTo>
                <a:close/>
                <a:moveTo>
                  <a:pt x="53578" y="53578"/>
                </a:moveTo>
                <a:lnTo>
                  <a:pt x="53578" y="375047"/>
                </a:lnTo>
                <a:lnTo>
                  <a:pt x="732235" y="375047"/>
                </a:lnTo>
                <a:lnTo>
                  <a:pt x="732235" y="53578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5-Point Star 18"/>
          <p:cNvSpPr/>
          <p:nvPr/>
        </p:nvSpPr>
        <p:spPr>
          <a:xfrm>
            <a:off x="2214720" y="4857840"/>
            <a:ext cx="71280" cy="46080"/>
          </a:xfrm>
          <a:custGeom>
            <a:avLst/>
            <a:gdLst>
              <a:gd name="textAreaLeft" fmla="*/ 21960 w 71280"/>
              <a:gd name="textAreaRight" fmla="*/ 49320 w 71280"/>
              <a:gd name="textAreaTop" fmla="*/ 17640 h 46080"/>
              <a:gd name="textAreaBottom" fmla="*/ 35280 h 46080"/>
            </a:gdLst>
            <a:ahLst/>
            <a:rect l="textAreaLeft" t="textAreaTop" r="textAreaRight" b="textAreaBottom"/>
            <a:pathLst>
              <a:path w="71437" h="46038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0" y="17585"/>
                </a:lnTo>
                <a:lnTo>
                  <a:pt x="71437" y="17585"/>
                </a:lnTo>
                <a:lnTo>
                  <a:pt x="49362" y="28453"/>
                </a:lnTo>
                <a:lnTo>
                  <a:pt x="57794" y="46038"/>
                </a:lnTo>
                <a:lnTo>
                  <a:pt x="35719" y="35170"/>
                </a:lnTo>
                <a:lnTo>
                  <a:pt x="13643" y="46038"/>
                </a:lnTo>
                <a:lnTo>
                  <a:pt x="22075" y="28453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5-Point Star 19"/>
          <p:cNvSpPr/>
          <p:nvPr/>
        </p:nvSpPr>
        <p:spPr>
          <a:xfrm>
            <a:off x="6786720" y="714240"/>
            <a:ext cx="142560" cy="142920"/>
          </a:xfrm>
          <a:custGeom>
            <a:avLst/>
            <a:gdLst>
              <a:gd name="textAreaLeft" fmla="*/ 43920 w 142560"/>
              <a:gd name="textAreaRight" fmla="*/ 98640 w 1425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2875" h="142875">
                <a:moveTo>
                  <a:pt x="0" y="54573"/>
                </a:moveTo>
                <a:lnTo>
                  <a:pt x="54574" y="54574"/>
                </a:lnTo>
                <a:lnTo>
                  <a:pt x="71438" y="0"/>
                </a:lnTo>
                <a:lnTo>
                  <a:pt x="88301" y="54574"/>
                </a:lnTo>
                <a:lnTo>
                  <a:pt x="142875" y="54573"/>
                </a:lnTo>
                <a:lnTo>
                  <a:pt x="98724" y="88301"/>
                </a:lnTo>
                <a:lnTo>
                  <a:pt x="115588" y="142875"/>
                </a:lnTo>
                <a:lnTo>
                  <a:pt x="71438" y="109146"/>
                </a:lnTo>
                <a:lnTo>
                  <a:pt x="27287" y="142875"/>
                </a:lnTo>
                <a:lnTo>
                  <a:pt x="44151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5-Point Star 20"/>
          <p:cNvSpPr/>
          <p:nvPr/>
        </p:nvSpPr>
        <p:spPr>
          <a:xfrm>
            <a:off x="5786280" y="1571760"/>
            <a:ext cx="142920" cy="71280"/>
          </a:xfrm>
          <a:custGeom>
            <a:avLst/>
            <a:gdLst>
              <a:gd name="textAreaLeft" fmla="*/ 43920 w 142920"/>
              <a:gd name="textAreaRight" fmla="*/ 99000 w 14292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142875" h="71438">
                <a:moveTo>
                  <a:pt x="0" y="27287"/>
                </a:moveTo>
                <a:lnTo>
                  <a:pt x="54574" y="27287"/>
                </a:lnTo>
                <a:lnTo>
                  <a:pt x="71438" y="0"/>
                </a:lnTo>
                <a:lnTo>
                  <a:pt x="88301" y="27287"/>
                </a:lnTo>
                <a:lnTo>
                  <a:pt x="142875" y="27287"/>
                </a:lnTo>
                <a:lnTo>
                  <a:pt x="98724" y="44151"/>
                </a:lnTo>
                <a:lnTo>
                  <a:pt x="115588" y="71438"/>
                </a:lnTo>
                <a:lnTo>
                  <a:pt x="71438" y="54573"/>
                </a:lnTo>
                <a:lnTo>
                  <a:pt x="27287" y="71438"/>
                </a:lnTo>
                <a:lnTo>
                  <a:pt x="44151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5-Point Star 21"/>
          <p:cNvSpPr/>
          <p:nvPr/>
        </p:nvSpPr>
        <p:spPr>
          <a:xfrm>
            <a:off x="7929720" y="1571760"/>
            <a:ext cx="71280" cy="142920"/>
          </a:xfrm>
          <a:custGeom>
            <a:avLst/>
            <a:gdLst>
              <a:gd name="textAreaLeft" fmla="*/ 21960 w 71280"/>
              <a:gd name="textAreaRight" fmla="*/ 49320 w 7128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71437" h="142875">
                <a:moveTo>
                  <a:pt x="0" y="54573"/>
                </a:moveTo>
                <a:lnTo>
                  <a:pt x="27287" y="54574"/>
                </a:lnTo>
                <a:lnTo>
                  <a:pt x="35719" y="0"/>
                </a:lnTo>
                <a:lnTo>
                  <a:pt x="44150" y="54574"/>
                </a:lnTo>
                <a:lnTo>
                  <a:pt x="71437" y="54573"/>
                </a:lnTo>
                <a:lnTo>
                  <a:pt x="49362" y="88301"/>
                </a:lnTo>
                <a:lnTo>
                  <a:pt x="57794" y="142875"/>
                </a:lnTo>
                <a:lnTo>
                  <a:pt x="35719" y="109146"/>
                </a:lnTo>
                <a:lnTo>
                  <a:pt x="13643" y="142875"/>
                </a:lnTo>
                <a:lnTo>
                  <a:pt x="22075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42920" y="4221000"/>
            <a:ext cx="8858160" cy="265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acts 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 pivot for the rotation of the atlas (and the skull)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ove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has a large upright peg-like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or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den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which projects upward from the superior surface of the body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tually it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presen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body of the atla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t has fused with the axi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5" descr="File0344a"/>
          <p:cNvPicPr/>
          <p:nvPr/>
        </p:nvPicPr>
        <p:blipFill>
          <a:blip r:embed="rId1"/>
          <a:srcRect l="2434" t="7861" r="8529" b="5794"/>
          <a:stretch/>
        </p:blipFill>
        <p:spPr>
          <a:xfrm>
            <a:off x="324000" y="189000"/>
            <a:ext cx="5256000" cy="38876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6084720" y="189000"/>
            <a:ext cx="244800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AXIS- C 2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324000" y="3284640"/>
            <a:ext cx="2303280" cy="865080"/>
          </a:xfrm>
          <a:prstGeom prst="ellipse">
            <a:avLst/>
          </a:prstGeom>
          <a:solidFill>
            <a:srgbClr val="ff99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Picture 2" descr="E:\dad\Student Gray\2. Back\F66122-002-f021b.jpg"/>
          <p:cNvPicPr/>
          <p:nvPr/>
        </p:nvPicPr>
        <p:blipFill>
          <a:blip r:embed="rId2"/>
          <a:srcRect l="56352" t="0" r="0" b="56611"/>
          <a:stretch/>
        </p:blipFill>
        <p:spPr>
          <a:xfrm>
            <a:off x="5724360" y="907920"/>
            <a:ext cx="3240360" cy="3097440"/>
          </a:xfrm>
          <a:prstGeom prst="rect">
            <a:avLst/>
          </a:prstGeom>
          <a:ln w="0">
            <a:noFill/>
          </a:ln>
        </p:spPr>
      </p:pic>
      <p:sp>
        <p:nvSpPr>
          <p:cNvPr id="219" name="5-Point Star 6"/>
          <p:cNvSpPr/>
          <p:nvPr/>
        </p:nvSpPr>
        <p:spPr>
          <a:xfrm flipH="1">
            <a:off x="3071160" y="2143080"/>
            <a:ext cx="142920" cy="71640"/>
          </a:xfrm>
          <a:custGeom>
            <a:avLst/>
            <a:gdLst>
              <a:gd name="textAreaLeft" fmla="*/ 43920 w 142920"/>
              <a:gd name="textAreaRight" fmla="*/ 99000 w 14292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142875" h="71438">
                <a:moveTo>
                  <a:pt x="0" y="27287"/>
                </a:moveTo>
                <a:lnTo>
                  <a:pt x="54574" y="27287"/>
                </a:lnTo>
                <a:lnTo>
                  <a:pt x="71438" y="0"/>
                </a:lnTo>
                <a:lnTo>
                  <a:pt x="88301" y="27287"/>
                </a:lnTo>
                <a:lnTo>
                  <a:pt x="142875" y="27287"/>
                </a:lnTo>
                <a:lnTo>
                  <a:pt x="98724" y="44151"/>
                </a:lnTo>
                <a:lnTo>
                  <a:pt x="115588" y="71438"/>
                </a:lnTo>
                <a:lnTo>
                  <a:pt x="71438" y="54573"/>
                </a:lnTo>
                <a:lnTo>
                  <a:pt x="27287" y="71438"/>
                </a:lnTo>
                <a:lnTo>
                  <a:pt x="44151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5-Point Star 7"/>
          <p:cNvSpPr/>
          <p:nvPr/>
        </p:nvSpPr>
        <p:spPr>
          <a:xfrm>
            <a:off x="3071880" y="27147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816360" cy="1800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7th 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CERVICAL VERTEBRA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R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ervica Promine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4033800" cy="410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has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onges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pinous proces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ich 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t bifi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first spin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be felt 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subcutaneously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in the root of back of nec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ransverse proces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large while its </a:t>
            </a: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foramen transversaium</a:t>
            </a: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small and may be absent, and 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does not transmit the vertebral arter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436-38A5-4910-BC31-D83C50D95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732720" y="2133720"/>
            <a:ext cx="1655640" cy="43164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5" name="Picture 8" descr="http://www.macroevolution.net/images/transverse-foramina336-321-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1857240"/>
            <a:ext cx="3200400" cy="305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E:\dad\Student Gray\2. Back\F66122-002-f036.jpg"/>
          <p:cNvPicPr/>
          <p:nvPr/>
        </p:nvPicPr>
        <p:blipFill>
          <a:blip r:embed="rId3"/>
          <a:srcRect l="19076" t="0" r="17788" b="4026"/>
          <a:stretch/>
        </p:blipFill>
        <p:spPr>
          <a:xfrm>
            <a:off x="4367160" y="189000"/>
            <a:ext cx="4452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1:50:04Z</dcterms:created>
  <dc:creator>Prof. Saeed Abuel Makarem</dc:creator>
  <dc:description/>
  <dc:language>en-US</dc:language>
  <cp:lastModifiedBy>SANA</cp:lastModifiedBy>
  <dcterms:modified xsi:type="dcterms:W3CDTF">2015-11-25T06:13:36Z</dcterms:modified>
  <cp:revision>277</cp:revision>
  <dc:subject/>
  <dc:title>THE LANGUAGE OF ANATOMY CLASSIFICATION OF B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Vertbrae">
    <vt:lpwstr>Prof. Saeed Abuel Makarem</vt:lpwstr>
  </property>
</Properties>
</file>