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BAB9-4AE3-4043-B875-1F6D941FC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05AC-4A0A-456E-AF58-84F915E1A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0C10-CD2B-47C9-A6C0-8ED7A3E6B5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53BA-15CC-4391-90C7-56C4A4577B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174-355E-4330-A930-EE57DE384E5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94D6-2EF0-41BC-B734-A7AB75294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D6C2-2FD2-47B4-BC7B-044FD92A22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1EE4-999B-4C10-A5D4-A08E84239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16A1-4B01-426C-9C98-7BD9EA031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F5F7-5192-47C3-BCD3-1C61AAADBC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5423-F1FA-49AA-B184-71ABBD6FBE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3FCB-393E-4EBD-AC19-2EC1924435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8A95-2575-4EFE-A90F-81ECEAE4F7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D160-2FA2-429A-9D25-2FA5F0CA56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62CF-026E-45CB-B883-E816A726AA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9F67-0FEE-439F-A450-C87E2256BC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6F15-6D3E-4DDA-AFD2-4478D3E60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2400D-B33A-467B-A190-DAE9DBE1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67C9F-C6BB-4E50-AAD4-391F151F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ED72-ACEC-4A1D-885D-741B6FEE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5519-713A-4B61-9E24-6291F0F4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DF48-CB93-4515-B951-8A2A46376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C9F3-3C35-4C3F-9394-F0D1AC1A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61D-A4D2-4135-B6C6-5C030405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7005-9DD5-4D12-A57B-211C2471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7691-B136-424B-B836-B8A66DA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3C526-1D46-48A8-929D-1470CB8C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E46D-282F-447D-B674-40CF2B7F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5488-DBEA-4E13-BB7B-0FB6E222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F69D-10E5-440E-A7D8-CD7BEF1A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B138-8FAD-4CDD-B639-F00BDE20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C8AC-0BBC-4378-B185-8872DB4E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3AAC-D8EA-4B8F-9C87-B82EE553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E82B7-39DB-4AAC-9674-8696719050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E0D247-2E62-4564-B9D1-8999ED8B41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C233C-4A15-4DFD-B0A9-1C3E20680A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6F6A3-BC98-49AB-B216-18316612C6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3FBC5F-3FA6-44CF-B13B-C1AC97FCB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2EE67-13AA-46CF-B1E6-6D94DE25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0207C-5BAC-490E-8827-9A095F83C1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2ABB3-751A-4389-BACF-3A43E4419F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FB9463-6DFF-4088-9D3D-A77708FF5F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90D21-E5BA-4200-972F-AD47427888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93A17-1155-41B7-9236-E8747AB1D38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52BF2-1E05-4295-BA77-07DDE5D217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CCA968-51AD-41DB-B0E8-FF413F395A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E9C4F-9D54-4D7C-AF75-C14CDCE8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978EB-2668-4D57-9E30-18554647B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B4681-027A-452D-8736-7E6EB6FB9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E2F29-DCE8-423D-9EE2-E47EFEEB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1017-BB1E-49DE-8A8A-AC9B21D8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FC3F-D2AA-483B-A1B5-52AA8A0B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1C8B-B7A6-4C2A-8820-F73B0A7C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8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19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20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21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22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23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24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25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26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1A6-350E-4062-A332-7426E8B5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Group 1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5" name="Freeform 8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6" name="Freeform 9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07" name="Freeform 10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" name="Freeform 3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5568840" y="646704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. Saeed Abuel Makarem &amp; Dr. Sanaa Al- Shaarawy</a:t>
            </a:r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8665920" y="64670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640-28AF-49F2-871A-E5BB64FE8C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hgJf77TzA-lv9M&amp;tbnid=Dbvp1UlaiNwk6M:&amp;ved=0CAUQjRw&amp;url=http%3A%2F%2Fwww.picstopin.com%2F596%2Ftypical-vertebrae-of-a-frog-help-for-skeletal-system-science-%26-math%2Fhttp%3A%257C%257Cwww*transtutors*com%257CUploadfile%257CCMS_Images%257C6250_Vertebra*JPG%2F&amp;ei=oTegUuaIIInB0QX3uYH4CA&amp;psig=AFQjCNHstnFLNa80anJlk9FllESFINufiw&amp;ust=138631781337565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hyperlink" Target="http://www.google.com.sa/url?sa=i&amp;rct=j&amp;q=&amp;esrc=s&amp;frm=1&amp;source=images&amp;cd=&amp;cad=rja&amp;docid=yuJyqx8Nys1siM&amp;tbnid=9qFZ0ZP3VNZpUM:&amp;ved=0CAUQjRw&amp;url=http%3A%2F%2Fdc317.4shared.com%2Fdoc%2FE9OI8RS6%2Fpreview.html&amp;ei=5S2gUsTBD-OM0AXG3IDwBQ&amp;psig=AFQjCNGYLeG-_FBm3-fdEVrmlw5QzTL0og&amp;ust=1386315401049974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google.com.sa/url?sa=i&amp;rct=j&amp;q=&amp;esrc=s&amp;source=images&amp;cd=&amp;cad=rja&amp;uact=8&amp;ved=0CAcQjRw&amp;url=http%3A%2F%2Fittcs.wordpress.com%2F2010%2F06%2F21%2Fanatomy-and-physiology-the-spinal-ligaments-holding-all-the-parts-together%2F&amp;ei=s1l4VO2LAcH3aMGDgpAH&amp;psig=AFQjCNEehgdgnlhtsx66e-kR50ypjzND3g&amp;ust=1417259821843889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oogle.com.sa/url?sa=i&amp;rct=j&amp;q=&amp;esrc=s&amp;frm=1&amp;source=images&amp;cd=&amp;cad=rja&amp;docid=hgJf77TzA-lv9M&amp;tbnid=Dbvp1UlaiNwk6M:&amp;ved=0CAUQjRw&amp;url=http%3A%2F%2Fwww.picstopin.com%2F596%2Ftypical-vertebrae-of-a-frog-help-for-skeletal-system-science-%26-math%2Fhttp%3A%257C%257Cwww*transtutors*com%257CUploadfile%257CCMS_Images%257C6250_Vertebra*JPG%2F&amp;ei=oTegUuaIIInB0QX3uYH4CA&amp;psig=AFQjCNHstnFLNa80anJlk9FllESFINufiw&amp;ust=1386317813375653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3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en.wikipedia.org%2Fwiki%2FCervical_vertebrae&amp;ei=X1B4VJLSNNHjaMe3gJgD&amp;psig=AFQjCNGoV7F7-BnJvwJ7GfQeUc7Y5GiA6w&amp;ust=1417257425034830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google.com.sa/url?sa=i&amp;rct=j&amp;q=&amp;esrc=s&amp;frm=1&amp;source=images&amp;cd=&amp;cad=rja&amp;docid=pKLBHvic63V3VM&amp;tbnid=B0S0VYIAEBwgDM:&amp;ved=0CAUQjRw&amp;url=http%3A%2F%2Fpaigemckinney.com%2Fcategory%2Fmovement-quality%2F&amp;ei=Fh6gUoewG6Sa0AWkyYDYBQ&amp;psig=AFQjCNFl_lfDqFQWe9OeRRJe4U-D58VtIg&amp;ust=1386311417758589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rOI7F8JghyzTuM&amp;tbnid=nI9KrxU8-y05MM:&amp;ved=0CAUQjRw&amp;url=http%3A%2F%2Fwww.macroevolution.net%2Fhybrid-hypothesis-section-2.html&amp;ei=jSKgUq3THOnL0QWBh4GACA&amp;psig=AFQjCNE9QaGSf3gOOD3ldycYW89H7UbAew&amp;ust=1386312554696611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728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Garamond"/>
              </a:rPr>
              <a:t>CERVICAL SPIN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Garamond"/>
              </a:rPr>
              <a:t>DEPARTMENT OF ANATOM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DR.SANAA AL-SHAARAW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5" descr="http://tmjc.com.ne.kr/tmj/info/drinfo/images/tm7-9.jpg">
            <a:hlinkClick r:id="rId1"/>
          </p:cNvPr>
          <p:cNvPicPr/>
          <p:nvPr/>
        </p:nvPicPr>
        <p:blipFill>
          <a:blip r:embed="rId2"/>
          <a:srcRect l="9008" t="0" r="4000" b="16655"/>
          <a:stretch/>
        </p:blipFill>
        <p:spPr>
          <a:xfrm>
            <a:off x="571680" y="3929040"/>
            <a:ext cx="550044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88000" y="188640"/>
            <a:ext cx="4032000" cy="863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Garamond"/>
              </a:rPr>
              <a:t>Joints of Cervical Vertebra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560" y="928440"/>
            <a:ext cx="4321080" cy="1571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5e0ff"/>
                </a:solidFill>
                <a:latin typeface="Garamond"/>
              </a:rPr>
              <a:t>Synovi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ts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ccipital condyle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skull  and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pper facets on the lateral mass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CCA-874F-47BA-9245-DB3C4628A0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2" descr="E:\dad\Student Gray\8. Head and neck\F66122-008-f023.jpg"/>
          <p:cNvPicPr/>
          <p:nvPr/>
        </p:nvPicPr>
        <p:blipFill>
          <a:blip r:embed="rId1"/>
          <a:srcRect l="4957" t="4527" r="17131" b="9075"/>
          <a:stretch/>
        </p:blipFill>
        <p:spPr>
          <a:xfrm>
            <a:off x="4762440" y="1125360"/>
            <a:ext cx="4130640" cy="500076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7"/>
          <p:cNvSpPr/>
          <p:nvPr/>
        </p:nvSpPr>
        <p:spPr>
          <a:xfrm>
            <a:off x="4859280" y="5300640"/>
            <a:ext cx="792360" cy="28908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2" descr="E:\dad\Student Gray\8. Head and neck\F66122-008-f008.jpg"/>
          <p:cNvPicPr/>
          <p:nvPr/>
        </p:nvPicPr>
        <p:blipFill>
          <a:blip r:embed="rId2"/>
          <a:srcRect l="44373" t="55549" r="2923" b="2894"/>
          <a:stretch/>
        </p:blipFill>
        <p:spPr>
          <a:xfrm>
            <a:off x="357120" y="2538360"/>
            <a:ext cx="4248360" cy="43196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8"/>
          <p:cNvSpPr/>
          <p:nvPr/>
        </p:nvSpPr>
        <p:spPr>
          <a:xfrm>
            <a:off x="142920" y="285840"/>
            <a:ext cx="442908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Atlanto-Occipital Joints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5-Point Star 8"/>
          <p:cNvSpPr/>
          <p:nvPr/>
        </p:nvSpPr>
        <p:spPr>
          <a:xfrm>
            <a:off x="2000160" y="4500720"/>
            <a:ext cx="142920" cy="142560"/>
          </a:xfrm>
          <a:custGeom>
            <a:avLst/>
            <a:gdLst>
              <a:gd name="textAreaLeft" fmla="*/ 43920 w 142920"/>
              <a:gd name="textAreaRight" fmla="*/ 99000 w 14292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5-Point Star 9"/>
          <p:cNvSpPr/>
          <p:nvPr/>
        </p:nvSpPr>
        <p:spPr>
          <a:xfrm>
            <a:off x="3571920" y="4429080"/>
            <a:ext cx="142920" cy="142920"/>
          </a:xfrm>
          <a:custGeom>
            <a:avLst/>
            <a:gdLst>
              <a:gd name="textAreaLeft" fmla="*/ 43920 w 142920"/>
              <a:gd name="textAreaRight" fmla="*/ 99000 w 14292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5-Point Star 11"/>
          <p:cNvSpPr/>
          <p:nvPr/>
        </p:nvSpPr>
        <p:spPr>
          <a:xfrm flipH="1">
            <a:off x="6714360" y="4143240"/>
            <a:ext cx="71640" cy="71640"/>
          </a:xfrm>
          <a:custGeom>
            <a:avLst/>
            <a:gdLst>
              <a:gd name="textAreaLeft" fmla="*/ 21960 w 71640"/>
              <a:gd name="textAreaRight" fmla="*/ 49680 w 7164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TextBox 12"/>
          <p:cNvSpPr/>
          <p:nvPr/>
        </p:nvSpPr>
        <p:spPr>
          <a:xfrm>
            <a:off x="1928880" y="492912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TextBox 13"/>
          <p:cNvSpPr/>
          <p:nvPr/>
        </p:nvSpPr>
        <p:spPr>
          <a:xfrm>
            <a:off x="2000160" y="57150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E016-F85F-47CB-8DC1-891C1BABB0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0" name="Picture 2" descr="Untitled-1 copy"/>
          <p:cNvPicPr/>
          <p:nvPr/>
        </p:nvPicPr>
        <p:blipFill>
          <a:blip r:embed="rId1"/>
          <a:srcRect l="16416" t="2751" r="13655" b="2751"/>
          <a:stretch/>
        </p:blipFill>
        <p:spPr>
          <a:xfrm>
            <a:off x="250920" y="378000"/>
            <a:ext cx="5473440" cy="64800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3"/>
          <p:cNvSpPr/>
          <p:nvPr/>
        </p:nvSpPr>
        <p:spPr>
          <a:xfrm>
            <a:off x="6012000" y="189000"/>
            <a:ext cx="2989080" cy="3750840"/>
          </a:xfrm>
          <a:prstGeom prst="wedgeRectCallout">
            <a:avLst>
              <a:gd name="adj1" fmla="val -130861"/>
              <a:gd name="adj2" fmla="val 52550"/>
            </a:avLst>
          </a:prstGeom>
          <a:solidFill>
            <a:srgbClr val="7030a0"/>
          </a:solidFill>
          <a:ln w="12600">
            <a:solidFill>
              <a:srgbClr val="ffffff"/>
            </a:solidFill>
            <a:miter/>
          </a:ln>
          <a:effectLst>
            <a:outerShdw dist="117181" dir="783836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 joi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</a:t>
            </a:r>
            <a:r>
              <a:rPr b="1" lang="en-US" sz="2400" spc="-1" strike="noStrike">
                <a:solidFill>
                  <a:srgbClr val="85e0ff"/>
                </a:solidFill>
                <a:latin typeface="Garamond"/>
              </a:rPr>
              <a:t>synovi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oints betwee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ccipital condyles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uperior  face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ateral masses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s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low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6"/>
          <p:cNvSpPr/>
          <p:nvPr/>
        </p:nvSpPr>
        <p:spPr>
          <a:xfrm rot="20208000">
            <a:off x="3112560" y="3708360"/>
            <a:ext cx="306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Garamond"/>
              </a:rPr>
              <a:t>atla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7"/>
          <p:cNvSpPr/>
          <p:nvPr/>
        </p:nvSpPr>
        <p:spPr>
          <a:xfrm rot="20208000">
            <a:off x="1977840" y="4154400"/>
            <a:ext cx="42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axis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7439760" y="579276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P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8295120" y="5794200"/>
            <a:ext cx="30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A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7903800" y="6124680"/>
            <a:ext cx="34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M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7656480" y="5411880"/>
            <a:ext cx="29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Garamond"/>
              </a:rPr>
              <a:t>L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0D57-8107-4A5B-B9BF-3B971391ED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274680"/>
            <a:ext cx="4105080" cy="12002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ATLANTO-OCCIPITAL JOINT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000" y="1714320"/>
            <a:ext cx="4103640" cy="2928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The joints are capable of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lexion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xtension, and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teral flexion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66ff"/>
                </a:solidFill>
                <a:uFillTx/>
                <a:latin typeface="Garamond"/>
              </a:rPr>
              <a:t>They do not rota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1" name="Picture 4" descr="Untitled-37a"/>
          <p:cNvPicPr/>
          <p:nvPr/>
        </p:nvPicPr>
        <p:blipFill>
          <a:blip r:embed="rId1"/>
          <a:stretch/>
        </p:blipFill>
        <p:spPr>
          <a:xfrm>
            <a:off x="5076720" y="260280"/>
            <a:ext cx="3095640" cy="3240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Untitled-3"/>
          <p:cNvPicPr/>
          <p:nvPr/>
        </p:nvPicPr>
        <p:blipFill>
          <a:blip r:embed="rId2"/>
          <a:stretch/>
        </p:blipFill>
        <p:spPr>
          <a:xfrm>
            <a:off x="5076720" y="3645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7236-3517-4257-81C4-911D66E692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4360" y="4292280"/>
            <a:ext cx="7775280" cy="2089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Atlanto-axial joints are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ree Synovial Joint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ne media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the         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nterior arch of the atla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other two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re betwee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ferior facet of lateral masses of the atla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superior facets of the axi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5" name="Picture 3" descr="Untitled-4"/>
          <p:cNvPicPr/>
          <p:nvPr/>
        </p:nvPicPr>
        <p:blipFill>
          <a:blip r:embed="rId1"/>
          <a:stretch/>
        </p:blipFill>
        <p:spPr>
          <a:xfrm>
            <a:off x="638280" y="1052640"/>
            <a:ext cx="7867440" cy="3240000"/>
          </a:xfrm>
          <a:prstGeom prst="rect">
            <a:avLst/>
          </a:prstGeom>
          <a:ln w="0">
            <a:noFill/>
          </a:ln>
        </p:spPr>
      </p:pic>
      <p:sp>
        <p:nvSpPr>
          <p:cNvPr id="256" name="AutoShape 4"/>
          <p:cNvSpPr/>
          <p:nvPr/>
        </p:nvSpPr>
        <p:spPr>
          <a:xfrm>
            <a:off x="5630760" y="1197000"/>
            <a:ext cx="925560" cy="36036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5624640" y="1557360"/>
            <a:ext cx="925560" cy="35892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1908000" y="260280"/>
            <a:ext cx="568836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TLANTO-AXIAL JOINT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5-Point Star 7"/>
          <p:cNvSpPr/>
          <p:nvPr/>
        </p:nvSpPr>
        <p:spPr>
          <a:xfrm>
            <a:off x="4786200" y="2928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7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0" y="17585"/>
                </a:lnTo>
                <a:lnTo>
                  <a:pt x="71437" y="17585"/>
                </a:lnTo>
                <a:lnTo>
                  <a:pt x="49362" y="28452"/>
                </a:lnTo>
                <a:lnTo>
                  <a:pt x="57794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5" y="28452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5-Point Star 8"/>
          <p:cNvSpPr/>
          <p:nvPr/>
        </p:nvSpPr>
        <p:spPr>
          <a:xfrm flipV="1">
            <a:off x="3286080" y="2928960"/>
            <a:ext cx="71640" cy="46080"/>
          </a:xfrm>
          <a:custGeom>
            <a:avLst/>
            <a:gdLst>
              <a:gd name="textAreaLeft" fmla="*/ 21960 w 71640"/>
              <a:gd name="textAreaRight" fmla="*/ 49680 w 71640"/>
              <a:gd name="textAreaTop" fmla="*/ 18000 h 46080"/>
              <a:gd name="textAreaBottom" fmla="*/ 35640 h 46080"/>
            </a:gdLst>
            <a:ahLst/>
            <a:rect l="textAreaLeft" t="textAreaTop" r="textAreaRight" b="textAreaBottom"/>
            <a:pathLst>
              <a:path w="71438" h="46037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2"/>
                </a:lnTo>
                <a:lnTo>
                  <a:pt x="57795" y="46037"/>
                </a:lnTo>
                <a:lnTo>
                  <a:pt x="35719" y="35169"/>
                </a:lnTo>
                <a:lnTo>
                  <a:pt x="13643" y="46037"/>
                </a:lnTo>
                <a:lnTo>
                  <a:pt x="22076" y="28452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5-Point Star 9"/>
          <p:cNvSpPr/>
          <p:nvPr/>
        </p:nvSpPr>
        <p:spPr>
          <a:xfrm>
            <a:off x="4000680" y="2357280"/>
            <a:ext cx="71280" cy="142920"/>
          </a:xfrm>
          <a:custGeom>
            <a:avLst/>
            <a:gdLst>
              <a:gd name="textAreaLeft" fmla="*/ 21960 w 71280"/>
              <a:gd name="textAreaRight" fmla="*/ 49320 w 7128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71438" h="142875">
                <a:moveTo>
                  <a:pt x="0" y="54573"/>
                </a:moveTo>
                <a:lnTo>
                  <a:pt x="27287" y="54574"/>
                </a:lnTo>
                <a:lnTo>
                  <a:pt x="35719" y="0"/>
                </a:lnTo>
                <a:lnTo>
                  <a:pt x="44151" y="54574"/>
                </a:lnTo>
                <a:lnTo>
                  <a:pt x="71438" y="54573"/>
                </a:lnTo>
                <a:lnTo>
                  <a:pt x="49362" y="88301"/>
                </a:lnTo>
                <a:lnTo>
                  <a:pt x="57795" y="142875"/>
                </a:lnTo>
                <a:lnTo>
                  <a:pt x="35719" y="109146"/>
                </a:lnTo>
                <a:lnTo>
                  <a:pt x="13643" y="142875"/>
                </a:lnTo>
                <a:lnTo>
                  <a:pt x="22076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0466-7087-4D74-94C6-D4E75A18A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3602160" cy="222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re can be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tensive rotation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atla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skull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and thus of the head on the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axi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64" name="Picture 4" descr="Untitled-38"/>
          <p:cNvPicPr/>
          <p:nvPr/>
        </p:nvPicPr>
        <p:blipFill>
          <a:blip r:embed="rId1"/>
          <a:stretch/>
        </p:blipFill>
        <p:spPr>
          <a:xfrm>
            <a:off x="4140360" y="620640"/>
            <a:ext cx="4752720" cy="4753080"/>
          </a:xfrm>
          <a:prstGeom prst="rect">
            <a:avLst/>
          </a:prstGeom>
          <a:ln w="0">
            <a:noFill/>
          </a:ln>
        </p:spPr>
      </p:pic>
      <p:sp>
        <p:nvSpPr>
          <p:cNvPr id="265" name="TextBox 9"/>
          <p:cNvSpPr/>
          <p:nvPr/>
        </p:nvSpPr>
        <p:spPr>
          <a:xfrm>
            <a:off x="500040" y="5286240"/>
            <a:ext cx="3357720" cy="1618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Garamond"/>
              </a:rPr>
              <a:t>N.B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Atlanto-axial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joint allows you to “</a:t>
            </a:r>
            <a:r>
              <a:rPr b="1" lang="en-US" sz="20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Garamond"/>
              </a:rPr>
              <a:t>rotation of the fac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357120" y="274680"/>
            <a:ext cx="3786120" cy="11912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MOVEMENTS IN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ATLANTO-AXI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JOINT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258444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JOINTS OF THE VERTEBRAL COLUMN </a:t>
            </a:r>
            <a:r>
              <a:rPr b="1" lang="en-US" sz="5400" spc="-1" strike="noStrike">
                <a:solidFill>
                  <a:srgbClr val="66ff33"/>
                </a:solidFill>
                <a:latin typeface="Garamond"/>
              </a:rPr>
              <a:t>BELOW THE AXIS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395280" y="3573360"/>
            <a:ext cx="8137440" cy="256284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JOINTS BETWEEN 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TWO VERTEBRAL </a:t>
            </a:r>
            <a:r>
              <a:rPr b="1" lang="en-US" sz="5400" spc="-1" strike="noStrike">
                <a:solidFill>
                  <a:srgbClr val="66ff33"/>
                </a:solidFill>
                <a:latin typeface="Garamond"/>
              </a:rPr>
              <a:t>BODIES</a:t>
            </a:r>
            <a:endParaRPr b="1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D62D-3DF9-426A-AD9E-58AC12C1593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0" name="Picture 5" descr="Untitled-7"/>
          <p:cNvPicPr/>
          <p:nvPr/>
        </p:nvPicPr>
        <p:blipFill>
          <a:blip r:embed="rId1"/>
          <a:srcRect l="0" t="0" r="0" b="3865"/>
          <a:stretch/>
        </p:blipFill>
        <p:spPr>
          <a:xfrm>
            <a:off x="1206360" y="328680"/>
            <a:ext cx="6686640" cy="482904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142560" y="5300640"/>
            <a:ext cx="900108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81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ith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exception of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first two cervical vertebra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the other  cervical vertebra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rticulate with each other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by means of 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5794200" y="357120"/>
            <a:ext cx="3349800" cy="1373040"/>
          </a:xfrm>
          <a:prstGeom prst="wedgeRectCallout">
            <a:avLst>
              <a:gd name="adj1" fmla="val -55824"/>
              <a:gd name="adj2" fmla="val 198282"/>
            </a:avLst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  <a:effectLst>
            <a:outerShdw dist="7632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- Cartilaginous joints between their bodies 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3" name="AutoShape 7"/>
          <p:cNvSpPr/>
          <p:nvPr/>
        </p:nvSpPr>
        <p:spPr>
          <a:xfrm>
            <a:off x="428760" y="142920"/>
            <a:ext cx="2911320" cy="1556280"/>
          </a:xfrm>
          <a:prstGeom prst="wedgeRectCallout">
            <a:avLst>
              <a:gd name="adj1" fmla="val 110990"/>
              <a:gd name="adj2" fmla="val 145231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I- Synovial join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between their articular processe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C906-9F13-4569-AD96-D8F638055C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50920" y="928800"/>
            <a:ext cx="3744720" cy="5092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upper and lower surfaces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bodies of 2 adjacent vertebrae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re covered by thin plates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hyaline cartil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etween the plates of hyaline cartilage is an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intervertebral disc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</a:t>
            </a:r>
            <a:r>
              <a:rPr b="1" i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fibrocartilag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 collagen fibers of the disc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strongly connect the bodies of the two vertebra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76" name="Picture 5" descr="F71683-045-f038"/>
          <p:cNvPicPr/>
          <p:nvPr/>
        </p:nvPicPr>
        <p:blipFill>
          <a:blip r:embed="rId1"/>
          <a:srcRect l="0" t="0" r="0" b="2161"/>
          <a:stretch/>
        </p:blipFill>
        <p:spPr>
          <a:xfrm>
            <a:off x="4287960" y="907920"/>
            <a:ext cx="4566960" cy="5281920"/>
          </a:xfrm>
          <a:prstGeom prst="rect">
            <a:avLst/>
          </a:prstGeom>
          <a:ln w="0">
            <a:noFill/>
          </a:ln>
        </p:spPr>
      </p:pic>
      <p:sp>
        <p:nvSpPr>
          <p:cNvPr id="277" name="Freeform 7"/>
          <p:cNvSpPr/>
          <p:nvPr/>
        </p:nvSpPr>
        <p:spPr>
          <a:xfrm>
            <a:off x="3419640" y="3789360"/>
            <a:ext cx="2089080" cy="4608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1588" h="105">
                <a:moveTo>
                  <a:pt x="0" y="105"/>
                </a:moveTo>
                <a:cubicBezTo>
                  <a:pt x="666" y="66"/>
                  <a:pt x="1332" y="28"/>
                  <a:pt x="1588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sm"/>
          </a:ln>
          <a:effectLst>
            <a:outerShdw dist="2556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4427640" y="189000"/>
            <a:ext cx="4032000" cy="10688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99"/>
                </a:solidFill>
                <a:latin typeface="Garamond"/>
              </a:rPr>
              <a:t>I- Intervertebral disc 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880920"/>
            <a:ext cx="7772400" cy="1446480"/>
          </a:xfrm>
          <a:prstGeom prst="rect">
            <a:avLst/>
          </a:prstGeom>
          <a:solidFill>
            <a:srgbClr val="0000f2"/>
          </a:solidFill>
          <a:ln w="381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INTS BETWEEN TWO VERTEBRAL ARCH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80" name="Picture 2" descr="E:\dad\Student Gray\2. Back\F66122-002-f032.jpg"/>
          <p:cNvPicPr/>
          <p:nvPr/>
        </p:nvPicPr>
        <p:blipFill>
          <a:blip r:embed="rId1"/>
          <a:srcRect l="18529" t="0" r="16100" b="83110"/>
          <a:stretch/>
        </p:blipFill>
        <p:spPr>
          <a:xfrm>
            <a:off x="1763640" y="3213000"/>
            <a:ext cx="5832720" cy="3311640"/>
          </a:xfrm>
          <a:prstGeom prst="rect">
            <a:avLst/>
          </a:prstGeom>
          <a:ln w="0">
            <a:noFill/>
          </a:ln>
        </p:spPr>
      </p:pic>
      <p:sp>
        <p:nvSpPr>
          <p:cNvPr id="281" name="Frame 3"/>
          <p:cNvSpPr/>
          <p:nvPr/>
        </p:nvSpPr>
        <p:spPr>
          <a:xfrm>
            <a:off x="5357880" y="4572000"/>
            <a:ext cx="2143080" cy="500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500040"/>
              <a:gd name="textAreaBottom" fmla="*/ 500400 h 500040"/>
            </a:gdLst>
            <a:ahLst/>
            <a:rect l="textAreaLeft" t="textAreaTop" r="textAreaRight" b="textAreaBottom"/>
            <a:pathLst>
              <a:path w="2143125" h="500063">
                <a:moveTo>
                  <a:pt x="0" y="0"/>
                </a:moveTo>
                <a:lnTo>
                  <a:pt x="2143125" y="0"/>
                </a:lnTo>
                <a:lnTo>
                  <a:pt x="2143125" y="500063"/>
                </a:lnTo>
                <a:lnTo>
                  <a:pt x="0" y="500063"/>
                </a:lnTo>
                <a:close/>
                <a:moveTo>
                  <a:pt x="0" y="0"/>
                </a:moveTo>
                <a:lnTo>
                  <a:pt x="0" y="500063"/>
                </a:lnTo>
                <a:lnTo>
                  <a:pt x="2143125" y="500063"/>
                </a:lnTo>
                <a:lnTo>
                  <a:pt x="2143125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Frame 4"/>
          <p:cNvSpPr/>
          <p:nvPr/>
        </p:nvSpPr>
        <p:spPr>
          <a:xfrm>
            <a:off x="5357880" y="3214800"/>
            <a:ext cx="1143000" cy="285480"/>
          </a:xfrm>
          <a:custGeom>
            <a:avLst/>
            <a:gdLst>
              <a:gd name="textAreaLeft" fmla="*/ 35640 w 1143000"/>
              <a:gd name="textAreaRight" fmla="*/ 1107360 w 1143000"/>
              <a:gd name="textAreaTop" fmla="*/ 35640 h 285480"/>
              <a:gd name="textAreaBottom" fmla="*/ 249840 h 285480"/>
            </a:gdLst>
            <a:ahLst/>
            <a:rect l="textAreaLeft" t="textAreaTop" r="textAreaRight" b="textAreaBottom"/>
            <a:pathLst>
              <a:path w="1143000" h="285750">
                <a:moveTo>
                  <a:pt x="0" y="0"/>
                </a:moveTo>
                <a:lnTo>
                  <a:pt x="1143000" y="0"/>
                </a:lnTo>
                <a:lnTo>
                  <a:pt x="1143000" y="285750"/>
                </a:lnTo>
                <a:lnTo>
                  <a:pt x="0" y="285750"/>
                </a:lnTo>
                <a:close/>
                <a:moveTo>
                  <a:pt x="35719" y="35719"/>
                </a:moveTo>
                <a:lnTo>
                  <a:pt x="35719" y="250031"/>
                </a:lnTo>
                <a:lnTo>
                  <a:pt x="1107281" y="250031"/>
                </a:lnTo>
                <a:lnTo>
                  <a:pt x="1107281" y="35719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Frame 5"/>
          <p:cNvSpPr/>
          <p:nvPr/>
        </p:nvSpPr>
        <p:spPr>
          <a:xfrm>
            <a:off x="5429160" y="3714840"/>
            <a:ext cx="2143080" cy="7142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143125" h="714375">
                <a:moveTo>
                  <a:pt x="0" y="0"/>
                </a:moveTo>
                <a:lnTo>
                  <a:pt x="2143125" y="0"/>
                </a:lnTo>
                <a:lnTo>
                  <a:pt x="2143125" y="714375"/>
                </a:lnTo>
                <a:lnTo>
                  <a:pt x="0" y="714375"/>
                </a:lnTo>
                <a:close/>
                <a:moveTo>
                  <a:pt x="0" y="0"/>
                </a:moveTo>
                <a:lnTo>
                  <a:pt x="0" y="714375"/>
                </a:lnTo>
                <a:lnTo>
                  <a:pt x="2143125" y="714375"/>
                </a:lnTo>
                <a:lnTo>
                  <a:pt x="2143125" y="0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976-70FA-432F-B829-94A888315E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23640" y="4005360"/>
            <a:ext cx="3384360" cy="2232000"/>
          </a:xfrm>
          <a:prstGeom prst="rect">
            <a:avLst/>
          </a:prstGeom>
          <a:solidFill>
            <a:srgbClr val="0000f2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3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articular facets are covered with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hyaline cartilag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d the joints are surrounded by a </a:t>
            </a: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capsul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6" name="Picture 5" descr="F71683-045-f038"/>
          <p:cNvPicPr/>
          <p:nvPr/>
        </p:nvPicPr>
        <p:blipFill>
          <a:blip r:embed="rId1"/>
          <a:srcRect l="0" t="0" r="0" b="2253"/>
          <a:stretch/>
        </p:blipFill>
        <p:spPr>
          <a:xfrm>
            <a:off x="4070520" y="482760"/>
            <a:ext cx="4832280" cy="585468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500040" y="214200"/>
            <a:ext cx="3311640" cy="5212440"/>
          </a:xfrm>
          <a:prstGeom prst="wedgeRectCallout">
            <a:avLst>
              <a:gd name="adj1" fmla="val 114462"/>
              <a:gd name="adj2" fmla="val 23064"/>
            </a:avLst>
          </a:prstGeom>
          <a:solidFill>
            <a:srgbClr val="0099cc"/>
          </a:solidFill>
          <a:ln w="12600">
            <a:solidFill>
              <a:srgbClr val="ffff00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joints between two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vertebral arche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ist of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ynovial join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etween the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superio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Garamond"/>
              </a:rPr>
              <a:t>inferior articular process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adjacent vertebrae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ERVICAL SPI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8360" y="1267920"/>
            <a:ext cx="8424720" cy="558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aramond"/>
              </a:rPr>
              <a:t>By the end of this lecture the student should be able t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7 cervical vertebra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(typical &amp; atypical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join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etween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scrib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ove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which occur in the region of the cervical vertebra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ist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tructur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which connect 2 adjacent vertebrae toge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95D2-95E3-49F5-A95A-D2DFD0739B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4F9-C44A-47DB-B488-242C533B9D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95640" y="188640"/>
            <a:ext cx="720720" cy="4524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L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I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G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A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E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N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T</a:t>
            </a:r>
            <a:br>
              <a:rPr sz="32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4714560"/>
            <a:ext cx="9144000" cy="21430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The anterior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osterior longitudinal ligaments</a:t>
            </a: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run as continuous bands along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nterior &amp; posterior surfac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of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vertebral bodi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se ligamen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old the vertebrae firmly together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but at the same tim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permit a small amount of movement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take pla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1" name="Picture 5" descr="Untitled-8a"/>
          <p:cNvPicPr/>
          <p:nvPr/>
        </p:nvPicPr>
        <p:blipFill>
          <a:blip r:embed="rId1"/>
          <a:srcRect l="5258" t="7010" r="3576" b="5381"/>
          <a:stretch/>
        </p:blipFill>
        <p:spPr>
          <a:xfrm>
            <a:off x="4859280" y="189000"/>
            <a:ext cx="3960720" cy="43196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Untitled-2a"/>
          <p:cNvPicPr/>
          <p:nvPr/>
        </p:nvPicPr>
        <p:blipFill>
          <a:blip r:embed="rId2"/>
          <a:srcRect l="5886" t="3437" r="5897" b="3569"/>
          <a:stretch/>
        </p:blipFill>
        <p:spPr>
          <a:xfrm>
            <a:off x="324000" y="189000"/>
            <a:ext cx="3527280" cy="43196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9" descr="http://dc317.4shared.com/doc/E9OI8RS6/preview_html_22786f1e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14200"/>
            <a:ext cx="3714840" cy="428652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6" name="Picture 4" descr="56453F25"/>
          <p:cNvPicPr/>
          <p:nvPr/>
        </p:nvPicPr>
        <p:blipFill>
          <a:blip r:embed="rId1"/>
          <a:srcRect l="0" t="13330" r="25149" b="26919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F999617B"/>
          <p:cNvPicPr/>
          <p:nvPr/>
        </p:nvPicPr>
        <p:blipFill>
          <a:blip r:embed="rId2"/>
          <a:srcRect l="21356" t="6632" r="17274" b="11219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6"/>
          <p:cNvSpPr/>
          <p:nvPr/>
        </p:nvSpPr>
        <p:spPr>
          <a:xfrm>
            <a:off x="755640" y="645336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514"/>
                </a:solidFill>
                <a:uFillTx/>
                <a:latin typeface="Garamond"/>
              </a:rPr>
              <a:t>Anterior Longitudinal Ligamen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5292720" y="64533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514"/>
                </a:solidFill>
                <a:uFillTx/>
                <a:latin typeface="Garamond"/>
              </a:rPr>
              <a:t>Posterior Longitudinal Ligament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270000"/>
            <a:ext cx="6264360" cy="31636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4200" y="3573360"/>
            <a:ext cx="8715600" cy="32846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pical ligament 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median ligament connects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apex of odontoid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roces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oramen magn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(it is undercover of cruciate ligament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lar ligament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: these lie on each side of apical ligament and connect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odontoid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medial side of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ccipital condyl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Cruciate ligament 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consists of a transverse part &amp; a vertical part/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vertical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betwee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ody of axi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oramen magnum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/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ransvers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bind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anterior arch of </a:t>
            </a:r>
            <a:r>
              <a:rPr b="1" lang="en-US" sz="2400" spc="-1" strike="noStrike" u="sng">
                <a:solidFill>
                  <a:srgbClr val="66ff33"/>
                </a:solidFill>
                <a:uFillTx/>
                <a:latin typeface="Garamond"/>
              </a:rPr>
              <a:t>atla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2" name="Picture 4" descr="454AF441"/>
          <p:cNvPicPr/>
          <p:nvPr/>
        </p:nvPicPr>
        <p:blipFill>
          <a:blip r:embed="rId1"/>
          <a:srcRect l="13335" t="6217" r="11058" b="64187"/>
          <a:stretch/>
        </p:blipFill>
        <p:spPr>
          <a:xfrm>
            <a:off x="1332000" y="189000"/>
            <a:ext cx="6408720" cy="33112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03" name="TextBox 5"/>
          <p:cNvSpPr/>
          <p:nvPr/>
        </p:nvSpPr>
        <p:spPr>
          <a:xfrm>
            <a:off x="4429080" y="1428840"/>
            <a:ext cx="21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4786200" y="1571760"/>
            <a:ext cx="7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9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4357800" y="1928880"/>
            <a:ext cx="357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3399"/>
                </a:solidFill>
                <a:latin typeface="Garamond"/>
              </a:rPr>
              <a:t>3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TextBox 7"/>
          <p:cNvSpPr/>
          <p:nvPr/>
        </p:nvSpPr>
        <p:spPr>
          <a:xfrm>
            <a:off x="3714840" y="200016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1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TextBox 8"/>
          <p:cNvSpPr/>
          <p:nvPr/>
        </p:nvSpPr>
        <p:spPr>
          <a:xfrm>
            <a:off x="3714840" y="2571840"/>
            <a:ext cx="2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Garamond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82E-D41B-481C-B995-1C28BA65E9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6920" y="188640"/>
            <a:ext cx="4825800" cy="646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OTHER LIGAMENT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10" name="Picture 5" descr="Untitled-9"/>
          <p:cNvPicPr/>
          <p:nvPr/>
        </p:nvPicPr>
        <p:blipFill>
          <a:blip r:embed="rId1"/>
          <a:srcRect l="0" t="5453" r="15123" b="2662"/>
          <a:stretch/>
        </p:blipFill>
        <p:spPr>
          <a:xfrm>
            <a:off x="4356000" y="1125360"/>
            <a:ext cx="4530960" cy="52549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6"/>
          <p:cNvSpPr/>
          <p:nvPr/>
        </p:nvSpPr>
        <p:spPr>
          <a:xfrm>
            <a:off x="179280" y="765000"/>
            <a:ext cx="4033800" cy="1754280"/>
          </a:xfrm>
          <a:prstGeom prst="wedgeRectCallout">
            <a:avLst>
              <a:gd name="adj1" fmla="val 70407"/>
              <a:gd name="adj2" fmla="val 21046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Supraspinous ligament: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run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etween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the </a:t>
            </a:r>
            <a:r>
              <a:rPr b="1" lang="en-US" sz="2400" spc="-1" strike="noStrike">
                <a:solidFill>
                  <a:srgbClr val="ff66ff"/>
                </a:solidFill>
                <a:latin typeface="Garamond"/>
              </a:rPr>
              <a:t>tip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of </a:t>
            </a:r>
            <a:r>
              <a:rPr b="1" lang="en-US" sz="2400" spc="-1" strike="noStrike">
                <a:solidFill>
                  <a:srgbClr val="ff66ff"/>
                </a:solidFill>
                <a:latin typeface="Garamond"/>
              </a:rPr>
              <a:t>adjacent spine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214200" y="2857680"/>
            <a:ext cx="3818160" cy="1888560"/>
          </a:xfrm>
          <a:prstGeom prst="wedgeRectCallout">
            <a:avLst>
              <a:gd name="adj1" fmla="val 86245"/>
              <a:gd name="adj2" fmla="val -9749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Interspinous ligament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nec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adjacent spin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AutoShape 8"/>
          <p:cNvSpPr/>
          <p:nvPr/>
        </p:nvSpPr>
        <p:spPr>
          <a:xfrm>
            <a:off x="214200" y="4572000"/>
            <a:ext cx="3673440" cy="2741760"/>
          </a:xfrm>
          <a:prstGeom prst="wedgeRectCallout">
            <a:avLst>
              <a:gd name="adj1" fmla="val 124175"/>
              <a:gd name="adj2" fmla="val -47587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Ligamentum flavum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onnect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he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lamina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of adjacent vertebrae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6429240" y="3643200"/>
            <a:ext cx="64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94d"/>
                </a:solidFill>
                <a:latin typeface="Garamond"/>
              </a:rPr>
              <a:t>Lamina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6227640" y="5084640"/>
            <a:ext cx="648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194d"/>
                </a:solidFill>
                <a:latin typeface="Garamond"/>
              </a:rPr>
              <a:t>Lamina</a:t>
            </a:r>
            <a:endParaRPr b="1" lang="en-US" sz="1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5603-9633-4728-BA72-558ECEF5DD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7" name="Picture 7" descr="Untitled-10"/>
          <p:cNvPicPr/>
          <p:nvPr/>
        </p:nvPicPr>
        <p:blipFill>
          <a:blip r:embed="rId1"/>
          <a:srcRect l="10528" t="4913" r="11345" b="4438"/>
          <a:stretch/>
        </p:blipFill>
        <p:spPr>
          <a:xfrm>
            <a:off x="4356000" y="260280"/>
            <a:ext cx="4464000" cy="5832720"/>
          </a:xfrm>
          <a:prstGeom prst="rect">
            <a:avLst/>
          </a:prstGeom>
          <a:ln w="0">
            <a:noFill/>
          </a:ln>
        </p:spPr>
      </p:pic>
      <p:sp>
        <p:nvSpPr>
          <p:cNvPr id="318" name="AutoShape 8"/>
          <p:cNvSpPr/>
          <p:nvPr/>
        </p:nvSpPr>
        <p:spPr>
          <a:xfrm>
            <a:off x="179280" y="189000"/>
            <a:ext cx="4032360" cy="2226960"/>
          </a:xfrm>
          <a:prstGeom prst="wedgeRectCallout">
            <a:avLst>
              <a:gd name="adj1" fmla="val 85444"/>
              <a:gd name="adj2" fmla="val 48884"/>
            </a:avLst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  <a:effectLst>
            <a:outerShdw dist="77353" dir="483752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Intertransverse ligaments: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run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etwee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jacent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transvers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processes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5-Point Star 6"/>
          <p:cNvSpPr/>
          <p:nvPr/>
        </p:nvSpPr>
        <p:spPr>
          <a:xfrm>
            <a:off x="5643720" y="1857240"/>
            <a:ext cx="71280" cy="7164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AutoShape 8">
            <a:hlinkClick r:id="rId2"/>
          </p:cNvPr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AutoShape 12"/>
          <p:cNvSpPr/>
          <p:nvPr/>
        </p:nvSpPr>
        <p:spPr>
          <a:xfrm>
            <a:off x="54000" y="-1812960"/>
            <a:ext cx="415296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3" name="Picture 14" descr="http://ittcs.files.wordpress.com/2010/06/img_0233.jpg?w=300&amp;h=273"/>
          <p:cNvPicPr/>
          <p:nvPr/>
        </p:nvPicPr>
        <p:blipFill>
          <a:blip r:embed="rId3"/>
          <a:stretch/>
        </p:blipFill>
        <p:spPr>
          <a:xfrm>
            <a:off x="4357800" y="3500280"/>
            <a:ext cx="4500360" cy="3171960"/>
          </a:xfrm>
          <a:prstGeom prst="rect">
            <a:avLst/>
          </a:prstGeom>
          <a:ln w="0">
            <a:noFill/>
          </a:ln>
        </p:spPr>
      </p:pic>
    </p:spTree>
  </p:cSld>
  <p:transition spd="slow">
    <p:cut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5"/>
          <p:cNvSpPr/>
          <p:nvPr/>
        </p:nvSpPr>
        <p:spPr>
          <a:xfrm>
            <a:off x="8666280" y="6467400"/>
            <a:ext cx="36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F100-7FA0-4D0A-B3E7-0DEB7CB74E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71640" y="274320"/>
            <a:ext cx="7129440" cy="708120"/>
          </a:xfrm>
          <a:prstGeom prst="rect">
            <a:avLst/>
          </a:prstGeom>
          <a:solidFill>
            <a:srgbClr val="0a47ff"/>
          </a:solidFill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LIGAMENTUM NUCHA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-360" y="1000080"/>
            <a:ext cx="5072040" cy="5453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In the cervical reg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, the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Garamond"/>
              </a:rPr>
              <a:t>Supraspinou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Garamond"/>
              </a:rPr>
              <a:t>Interspinous ligaments</a:t>
            </a: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re greatly thickened to form the strong </a:t>
            </a: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igamentum nucha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It extends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rom the spine of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eventh cervical vertebra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external occipital protuberance of the skull,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with it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nterior bord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being strongly attached to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cervical spin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27" name="Picture 5" descr="F66122-002-f036"/>
          <p:cNvPicPr/>
          <p:nvPr/>
        </p:nvPicPr>
        <p:blipFill>
          <a:blip r:embed="rId1"/>
          <a:srcRect l="7023" t="0" r="0" b="0"/>
          <a:stretch/>
        </p:blipFill>
        <p:spPr>
          <a:xfrm>
            <a:off x="5076720" y="1246320"/>
            <a:ext cx="3670560" cy="499104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6"/>
          <p:cNvSpPr/>
          <p:nvPr/>
        </p:nvSpPr>
        <p:spPr>
          <a:xfrm>
            <a:off x="7047000" y="2306520"/>
            <a:ext cx="1384200" cy="311400"/>
          </a:xfrm>
          <a:prstGeom prst="roundRect">
            <a:avLst>
              <a:gd name="adj" fmla="val 16667"/>
            </a:avLst>
          </a:prstGeom>
          <a:solidFill>
            <a:srgbClr val="0099cc">
              <a:alpha val="15000"/>
            </a:srgbClr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Garamond"/>
              </a:rPr>
              <a:t>THANK YOU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144-5609-4AE2-B0E8-72DE12D728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539640" y="189000"/>
            <a:ext cx="2664000" cy="947160"/>
          </a:xfrm>
          <a:prstGeom prst="rect">
            <a:avLst/>
          </a:prstGeom>
          <a:solidFill>
            <a:srgbClr val="0000f2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ERVICA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RTEBRAE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0" y="1484280"/>
            <a:ext cx="3500280" cy="5275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y ar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n number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l  characterized by presence of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foramen transversarium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n the transverse proces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They are classified into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yp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r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 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,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&amp; 6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Atypica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7</a:t>
            </a:r>
            <a:r>
              <a:rPr b="1" lang="en-US" sz="2400" spc="-1" strike="noStrike" baseline="30000">
                <a:solidFill>
                  <a:srgbClr val="ffffff"/>
                </a:solidFill>
                <a:latin typeface="Garamond"/>
              </a:rPr>
              <a:t>th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Picture 5" descr="File0344"/>
          <p:cNvPicPr/>
          <p:nvPr/>
        </p:nvPicPr>
        <p:blipFill>
          <a:blip r:embed="rId1"/>
          <a:srcRect l="53007" t="0" r="136" b="77160"/>
          <a:stretch/>
        </p:blipFill>
        <p:spPr>
          <a:xfrm>
            <a:off x="3929040" y="1844640"/>
            <a:ext cx="5035680" cy="3097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dad\Student Gray\8. Head and neck\F66122-008-f179.jpg"/>
          <p:cNvPicPr/>
          <p:nvPr/>
        </p:nvPicPr>
        <p:blipFill>
          <a:blip r:embed="rId2"/>
          <a:srcRect l="3755" t="4555" r="55" b="4555"/>
          <a:stretch/>
        </p:blipFill>
        <p:spPr>
          <a:xfrm>
            <a:off x="3643200" y="214200"/>
            <a:ext cx="5286600" cy="5832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167" name="Right Arrow 7"/>
          <p:cNvSpPr/>
          <p:nvPr/>
        </p:nvSpPr>
        <p:spPr>
          <a:xfrm>
            <a:off x="5214960" y="1239840"/>
            <a:ext cx="428760" cy="117360"/>
          </a:xfrm>
          <a:prstGeom prst="rightArrow">
            <a:avLst>
              <a:gd name="adj1" fmla="val 50000"/>
              <a:gd name="adj2" fmla="val 50065"/>
            </a:avLst>
          </a:prstGeom>
          <a:solidFill>
            <a:srgbClr val="0099cc"/>
          </a:solidFill>
          <a:ln w="25560">
            <a:solidFill>
              <a:srgbClr val="297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F34-F720-44E4-A37C-A705273AE6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179280" y="189000"/>
            <a:ext cx="3321000" cy="5580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buClr>
                <a:srgbClr val="66ff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he bod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mall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and longer horizontally than antero-posterior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s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pinous processe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short bifid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1800" indent="-361800"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transverse processes has 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foramen transversarium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rough which allow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passage of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vertebral arteries &amp; vein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24360" y="189000"/>
            <a:ext cx="4824360" cy="1511280"/>
          </a:xfrm>
          <a:prstGeom prst="rect">
            <a:avLst/>
          </a:prstGeom>
          <a:solidFill>
            <a:srgbClr val="0000f2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ERVICAL VERTEBRAE C3, C4, C5 &amp;C 6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5" descr="File0344"/>
          <p:cNvPicPr/>
          <p:nvPr/>
        </p:nvPicPr>
        <p:blipFill>
          <a:blip r:embed="rId1"/>
          <a:srcRect l="53007" t="0" r="136" b="77160"/>
          <a:stretch/>
        </p:blipFill>
        <p:spPr>
          <a:xfrm>
            <a:off x="3564000" y="1844640"/>
            <a:ext cx="5400720" cy="30970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0"/>
          <p:cNvSpPr/>
          <p:nvPr/>
        </p:nvSpPr>
        <p:spPr>
          <a:xfrm>
            <a:off x="3780000" y="400536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3708360" y="5084640"/>
            <a:ext cx="5256360" cy="947160"/>
          </a:xfrm>
          <a:prstGeom prst="rect">
            <a:avLst/>
          </a:prstGeom>
          <a:solidFill>
            <a:srgbClr val="753fce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vertebral foramen is large and triangular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74" name="Straight Arrow Connector 12"/>
          <p:cNvCxnSpPr/>
          <p:nvPr/>
        </p:nvCxnSpPr>
        <p:spPr>
          <a:xfrm>
            <a:off x="5796000" y="3860280"/>
            <a:ext cx="1008720" cy="252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arrow" w="med"/>
          </a:ln>
        </p:spPr>
      </p:cxnSp>
      <p:cxnSp>
        <p:nvCxnSpPr>
          <p:cNvPr id="175" name="Straight Arrow Connector 16"/>
          <p:cNvCxnSpPr/>
          <p:nvPr/>
        </p:nvCxnSpPr>
        <p:spPr>
          <a:xfrm flipH="1">
            <a:off x="6298920" y="3573000"/>
            <a:ext cx="2160" cy="648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76" name="Rectangle 11"/>
          <p:cNvSpPr/>
          <p:nvPr/>
        </p:nvSpPr>
        <p:spPr>
          <a:xfrm>
            <a:off x="7596360" y="2349360"/>
            <a:ext cx="1079280" cy="792360"/>
          </a:xfrm>
          <a:prstGeom prst="rect">
            <a:avLst/>
          </a:prstGeom>
          <a:noFill/>
          <a:ln w="2844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5" descr="http://tmjc.com.ne.kr/tmj/info/drinfo/images/tm7-9.jpg">
            <a:hlinkClick r:id="rId2"/>
          </p:cNvPr>
          <p:cNvPicPr/>
          <p:nvPr/>
        </p:nvPicPr>
        <p:blipFill>
          <a:blip r:embed="rId3"/>
          <a:srcRect l="10504" t="0" r="4000" b="20020"/>
          <a:stretch/>
        </p:blipFill>
        <p:spPr>
          <a:xfrm>
            <a:off x="3571920" y="1857240"/>
            <a:ext cx="5357880" cy="30718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63640" y="272520"/>
            <a:ext cx="5329080" cy="8701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TYPICAL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 CERVICAL VERTABRAE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476280"/>
            <a:ext cx="3097440" cy="5952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superior articular processe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have  smal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ac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at fac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upw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back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inferior articular  processe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ich hav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facet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at,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fac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downwar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forwar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The transverse proces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as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2 tubercl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infront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nd on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behind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he transverse forame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481-9324-4D8D-A4BC-A344FBC8C3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2" descr="E:\dad\Student Gray\8. Head and neck\F66122-008-f008.jpg"/>
          <p:cNvPicPr/>
          <p:nvPr/>
        </p:nvPicPr>
        <p:blipFill>
          <a:blip r:embed="rId1"/>
          <a:srcRect l="9777" t="0" r="13326" b="73558"/>
          <a:stretch/>
        </p:blipFill>
        <p:spPr>
          <a:xfrm>
            <a:off x="3419640" y="1214280"/>
            <a:ext cx="5473440" cy="3714840"/>
          </a:xfrm>
          <a:prstGeom prst="rect">
            <a:avLst/>
          </a:prstGeom>
          <a:ln w="0">
            <a:noFill/>
          </a:ln>
        </p:spPr>
      </p:pic>
      <p:sp>
        <p:nvSpPr>
          <p:cNvPr id="182" name="Frame 5"/>
          <p:cNvSpPr/>
          <p:nvPr/>
        </p:nvSpPr>
        <p:spPr>
          <a:xfrm>
            <a:off x="5500800" y="4500720"/>
            <a:ext cx="1071360" cy="357120"/>
          </a:xfrm>
          <a:custGeom>
            <a:avLst/>
            <a:gdLst>
              <a:gd name="textAreaLeft" fmla="*/ 44640 w 1071360"/>
              <a:gd name="textAreaRight" fmla="*/ 1026720 w 107136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71562" h="357187">
                <a:moveTo>
                  <a:pt x="0" y="0"/>
                </a:moveTo>
                <a:lnTo>
                  <a:pt x="1071562" y="0"/>
                </a:lnTo>
                <a:lnTo>
                  <a:pt x="1071562" y="357187"/>
                </a:lnTo>
                <a:lnTo>
                  <a:pt x="0" y="357187"/>
                </a:lnTo>
                <a:close/>
                <a:moveTo>
                  <a:pt x="44648" y="44648"/>
                </a:moveTo>
                <a:lnTo>
                  <a:pt x="44648" y="312539"/>
                </a:lnTo>
                <a:lnTo>
                  <a:pt x="1026914" y="312539"/>
                </a:lnTo>
                <a:lnTo>
                  <a:pt x="1026914" y="44648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Frame 6"/>
          <p:cNvSpPr/>
          <p:nvPr/>
        </p:nvSpPr>
        <p:spPr>
          <a:xfrm>
            <a:off x="7358040" y="3571920"/>
            <a:ext cx="1071720" cy="357120"/>
          </a:xfrm>
          <a:custGeom>
            <a:avLst/>
            <a:gdLst>
              <a:gd name="textAreaLeft" fmla="*/ 44640 w 1071720"/>
              <a:gd name="textAreaRight" fmla="*/ 1027080 w 1071720"/>
              <a:gd name="textAreaTop" fmla="*/ 44640 h 357120"/>
              <a:gd name="textAreaBottom" fmla="*/ 312480 h 357120"/>
            </a:gdLst>
            <a:ahLst/>
            <a:rect l="textAreaLeft" t="textAreaTop" r="textAreaRight" b="textAreaBottom"/>
            <a:pathLst>
              <a:path w="1071562" h="357188">
                <a:moveTo>
                  <a:pt x="0" y="0"/>
                </a:moveTo>
                <a:lnTo>
                  <a:pt x="1071562" y="0"/>
                </a:lnTo>
                <a:lnTo>
                  <a:pt x="1071562" y="357188"/>
                </a:lnTo>
                <a:lnTo>
                  <a:pt x="0" y="357188"/>
                </a:lnTo>
                <a:close/>
                <a:moveTo>
                  <a:pt x="44649" y="44649"/>
                </a:moveTo>
                <a:lnTo>
                  <a:pt x="44649" y="312540"/>
                </a:lnTo>
                <a:lnTo>
                  <a:pt x="1026914" y="312540"/>
                </a:lnTo>
                <a:lnTo>
                  <a:pt x="1026914" y="44649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5-Point Star 7"/>
          <p:cNvSpPr/>
          <p:nvPr/>
        </p:nvSpPr>
        <p:spPr>
          <a:xfrm flipV="1">
            <a:off x="6500880" y="38577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5-Point Star 8"/>
          <p:cNvSpPr/>
          <p:nvPr/>
        </p:nvSpPr>
        <p:spPr>
          <a:xfrm flipH="1" flipV="1">
            <a:off x="7097760" y="3714840"/>
            <a:ext cx="46080" cy="71280"/>
          </a:xfrm>
          <a:custGeom>
            <a:avLst/>
            <a:gdLst>
              <a:gd name="textAreaLeft" fmla="*/ 14040 w 46080"/>
              <a:gd name="textAreaRight" fmla="*/ 32040 w 460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46037" h="71438">
                <a:moveTo>
                  <a:pt x="0" y="27287"/>
                </a:moveTo>
                <a:lnTo>
                  <a:pt x="17585" y="27287"/>
                </a:lnTo>
                <a:lnTo>
                  <a:pt x="23019" y="0"/>
                </a:lnTo>
                <a:lnTo>
                  <a:pt x="28452" y="27287"/>
                </a:lnTo>
                <a:lnTo>
                  <a:pt x="46037" y="27287"/>
                </a:lnTo>
                <a:lnTo>
                  <a:pt x="31811" y="44151"/>
                </a:lnTo>
                <a:lnTo>
                  <a:pt x="37245" y="71438"/>
                </a:lnTo>
                <a:lnTo>
                  <a:pt x="23019" y="54573"/>
                </a:lnTo>
                <a:lnTo>
                  <a:pt x="8792" y="71438"/>
                </a:lnTo>
                <a:lnTo>
                  <a:pt x="1422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AutoShape 11">
            <a:hlinkClick r:id="rId2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AutoShape 13">
            <a:hlinkClick r:id="rId3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AutoShape 15">
            <a:hlinkClick r:id="rId4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AutoShape 17">
            <a:hlinkClick r:id="rId5"/>
          </p:cNvPr>
          <p:cNvSpPr/>
          <p:nvPr/>
        </p:nvSpPr>
        <p:spPr>
          <a:xfrm>
            <a:off x="54000" y="-1150920"/>
            <a:ext cx="476244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Picture 19" descr="http://upload.wikimedia.org/wikipedia/commons/3/3c/Gray84.png"/>
          <p:cNvPicPr/>
          <p:nvPr/>
        </p:nvPicPr>
        <p:blipFill>
          <a:blip r:embed="rId6"/>
          <a:stretch/>
        </p:blipFill>
        <p:spPr>
          <a:xfrm>
            <a:off x="3786120" y="5000760"/>
            <a:ext cx="4762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B404-63F0-4888-8321-891AEE53EB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2" descr="E:\dad\Student Gray\8. Head and neck\F66122-008-f008.jpg"/>
          <p:cNvPicPr/>
          <p:nvPr/>
        </p:nvPicPr>
        <p:blipFill>
          <a:blip r:embed="rId1"/>
          <a:srcRect l="1575" t="26446" r="46453" b="49190"/>
          <a:stretch/>
        </p:blipFill>
        <p:spPr>
          <a:xfrm>
            <a:off x="3924360" y="476280"/>
            <a:ext cx="5040360" cy="3024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250920" y="1125360"/>
            <a:ext cx="3673440" cy="3751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has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N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 body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spine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ateral masses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nnected together by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mall anterior arch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&amp;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long posterior arch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ach lateral mass h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rticular surface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n it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upper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lower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spect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755640" y="260280"/>
            <a:ext cx="2521080" cy="581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TLAS- C1</a:t>
            </a:r>
            <a:endParaRPr b="1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435640" y="476280"/>
            <a:ext cx="1297080" cy="28872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3995640" y="3645000"/>
            <a:ext cx="5148360" cy="3141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Garamond"/>
              </a:rPr>
              <a:t>The superior articular surface :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ticulates with the 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occipital condyles of the skull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It forms the 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tlanto-Occipit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s joint allows you to nod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“say Yes”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7" name="Picture 9" descr="http://paigemckinney.files.wordpress.com/2011/03/atlanto-occipital-joint.jpg">
            <a:hlinkClick r:id="rId2"/>
          </p:cNvPr>
          <p:cNvPicPr/>
          <p:nvPr/>
        </p:nvPicPr>
        <p:blipFill>
          <a:blip r:embed="rId3"/>
          <a:srcRect l="28114" t="28126" r="37752" b="31087"/>
          <a:stretch/>
        </p:blipFill>
        <p:spPr>
          <a:xfrm>
            <a:off x="642960" y="4286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1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0D5F-2178-4371-B436-883EFF9779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9" name="Picture 2" descr="E:\dad\Student Gray\8. Head and neck\F66122-008-f008.jpg"/>
          <p:cNvPicPr/>
          <p:nvPr/>
        </p:nvPicPr>
        <p:blipFill>
          <a:blip r:embed="rId1"/>
          <a:srcRect l="55831" t="32296" r="16218" b="48665"/>
          <a:stretch/>
        </p:blipFill>
        <p:spPr>
          <a:xfrm>
            <a:off x="4859280" y="189000"/>
            <a:ext cx="4033800" cy="34560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250920" y="189000"/>
            <a:ext cx="4465440" cy="3506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ff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he inferior articular surface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of the atlas is circular and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rticulates with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the axis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. It forms the  2 lateral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Atlanto-Axial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joints. 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is joint </a:t>
            </a:r>
            <a:r>
              <a:rPr b="1" lang="en-US" sz="2200" spc="-1" strike="noStrike">
                <a:solidFill>
                  <a:srgbClr val="ffc000"/>
                </a:solidFill>
                <a:latin typeface="Garamond"/>
              </a:rPr>
              <a:t>together with 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the joint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between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dens of axi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and the </a:t>
            </a:r>
            <a:r>
              <a:rPr b="1" lang="en-US" sz="2200" spc="-1" strike="noStrike" u="sng">
                <a:solidFill>
                  <a:srgbClr val="ffffff"/>
                </a:solidFill>
                <a:uFillTx/>
                <a:latin typeface="Garamond"/>
              </a:rPr>
              <a:t>anterior small arch of atlas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they allow you to “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Say No “ lateral</a:t>
            </a: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Garamond"/>
              </a:rPr>
              <a:t>rotation</a:t>
            </a:r>
            <a:r>
              <a:rPr b="1" lang="en-US" sz="2200" spc="-1" strike="noStrike">
                <a:solidFill>
                  <a:srgbClr val="ffffff"/>
                </a:solidFill>
                <a:latin typeface="Garamond"/>
              </a:rPr>
              <a:t> of the face.</a:t>
            </a:r>
            <a:endParaRPr b="1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Picture 2" descr="E:\dad\Student Gray\8. Head and neck\F66122-008-f008.jpg"/>
          <p:cNvPicPr/>
          <p:nvPr/>
        </p:nvPicPr>
        <p:blipFill>
          <a:blip r:embed="rId2"/>
          <a:srcRect l="0" t="54490" r="48818" b="14304"/>
          <a:stretch/>
        </p:blipFill>
        <p:spPr>
          <a:xfrm>
            <a:off x="214200" y="3357720"/>
            <a:ext cx="4608720" cy="3311280"/>
          </a:xfrm>
          <a:prstGeom prst="rect">
            <a:avLst/>
          </a:prstGeom>
          <a:ln w="0">
            <a:noFill/>
          </a:ln>
        </p:spPr>
      </p:pic>
      <p:cxnSp>
        <p:nvCxnSpPr>
          <p:cNvPr id="202" name="Straight Arrow Connector 7"/>
          <p:cNvCxnSpPr/>
          <p:nvPr/>
        </p:nvCxnSpPr>
        <p:spPr>
          <a:xfrm flipH="1">
            <a:off x="7956000" y="1284840"/>
            <a:ext cx="402120" cy="12780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03" name="Straight Arrow Connector 10"/>
          <p:cNvCxnSpPr/>
          <p:nvPr/>
        </p:nvCxnSpPr>
        <p:spPr>
          <a:xfrm>
            <a:off x="5148360" y="476280"/>
            <a:ext cx="576360" cy="1008720"/>
          </a:xfrm>
          <a:prstGeom prst="straightConnector1">
            <a:avLst/>
          </a:prstGeom>
          <a:ln w="9360">
            <a:solidFill>
              <a:srgbClr val="0098cc"/>
            </a:solidFill>
            <a:miter/>
            <a:tailEnd len="med" type="arrow" w="med"/>
          </a:ln>
        </p:spPr>
      </p:cxnSp>
      <p:cxnSp>
        <p:nvCxnSpPr>
          <p:cNvPr id="204" name="Straight Arrow Connector 14"/>
          <p:cNvCxnSpPr/>
          <p:nvPr/>
        </p:nvCxnSpPr>
        <p:spPr>
          <a:xfrm flipH="1">
            <a:off x="2857320" y="3857760"/>
            <a:ext cx="1072080" cy="1875600"/>
          </a:xfrm>
          <a:prstGeom prst="straightConnector1">
            <a:avLst/>
          </a:prstGeom>
          <a:ln w="38160">
            <a:solidFill>
              <a:srgbClr val="000514"/>
            </a:solidFill>
            <a:miter/>
            <a:tailEnd len="med" type="triangle" w="med"/>
          </a:ln>
        </p:spPr>
      </p:cxnSp>
      <p:sp>
        <p:nvSpPr>
          <p:cNvPr id="205" name="TextBox 19"/>
          <p:cNvSpPr/>
          <p:nvPr/>
        </p:nvSpPr>
        <p:spPr>
          <a:xfrm>
            <a:off x="6084720" y="17733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Garamond"/>
              </a:rPr>
              <a:t>AXI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5-Point Star 11"/>
          <p:cNvSpPr/>
          <p:nvPr/>
        </p:nvSpPr>
        <p:spPr>
          <a:xfrm>
            <a:off x="1428840" y="5286240"/>
            <a:ext cx="71280" cy="7164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71438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1" y="27287"/>
                </a:lnTo>
                <a:lnTo>
                  <a:pt x="71438" y="27287"/>
                </a:lnTo>
                <a:lnTo>
                  <a:pt x="49362" y="44151"/>
                </a:lnTo>
                <a:lnTo>
                  <a:pt x="57795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6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5-Point Star 12"/>
          <p:cNvSpPr/>
          <p:nvPr/>
        </p:nvSpPr>
        <p:spPr>
          <a:xfrm flipV="1">
            <a:off x="2857680" y="5715000"/>
            <a:ext cx="71280" cy="46080"/>
          </a:xfrm>
          <a:custGeom>
            <a:avLst/>
            <a:gdLst>
              <a:gd name="textAreaLeft" fmla="*/ 21960 w 71280"/>
              <a:gd name="textAreaRight" fmla="*/ 49320 w 71280"/>
              <a:gd name="textAreaTop" fmla="*/ 18000 h 46080"/>
              <a:gd name="textAreaBottom" fmla="*/ 35640 h 46080"/>
            </a:gdLst>
            <a:ahLst/>
            <a:rect l="textAreaLeft" t="textAreaTop" r="textAreaRight" b="textAreaBottom"/>
            <a:pathLst>
              <a:path w="71438" h="46038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1" y="17585"/>
                </a:lnTo>
                <a:lnTo>
                  <a:pt x="71438" y="17585"/>
                </a:lnTo>
                <a:lnTo>
                  <a:pt x="49362" y="28453"/>
                </a:lnTo>
                <a:lnTo>
                  <a:pt x="57795" y="46038"/>
                </a:lnTo>
                <a:lnTo>
                  <a:pt x="35719" y="35170"/>
                </a:lnTo>
                <a:lnTo>
                  <a:pt x="13643" y="46038"/>
                </a:lnTo>
                <a:lnTo>
                  <a:pt x="22076" y="28453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TextBox 13"/>
          <p:cNvSpPr/>
          <p:nvPr/>
        </p:nvSpPr>
        <p:spPr>
          <a:xfrm>
            <a:off x="3786120" y="3429000"/>
            <a:ext cx="78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Garamond"/>
              </a:rPr>
              <a:t>Atlanto-axial joint</a:t>
            </a:r>
            <a:endParaRPr b="1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Frame 17"/>
          <p:cNvSpPr/>
          <p:nvPr/>
        </p:nvSpPr>
        <p:spPr>
          <a:xfrm>
            <a:off x="3714840" y="3429000"/>
            <a:ext cx="785880" cy="428760"/>
          </a:xfrm>
          <a:custGeom>
            <a:avLst/>
            <a:gdLst>
              <a:gd name="textAreaLeft" fmla="*/ 53280 w 785880"/>
              <a:gd name="textAreaRight" fmla="*/ 732600 w 785880"/>
              <a:gd name="textAreaTop" fmla="*/ 53280 h 428760"/>
              <a:gd name="textAreaBottom" fmla="*/ 375480 h 428760"/>
            </a:gdLst>
            <a:ahLst/>
            <a:rect l="textAreaLeft" t="textAreaTop" r="textAreaRight" b="textAreaBottom"/>
            <a:pathLst>
              <a:path w="785813" h="428625">
                <a:moveTo>
                  <a:pt x="0" y="0"/>
                </a:moveTo>
                <a:lnTo>
                  <a:pt x="785813" y="0"/>
                </a:lnTo>
                <a:lnTo>
                  <a:pt x="785813" y="428625"/>
                </a:lnTo>
                <a:lnTo>
                  <a:pt x="0" y="428625"/>
                </a:lnTo>
                <a:close/>
                <a:moveTo>
                  <a:pt x="53578" y="53578"/>
                </a:moveTo>
                <a:lnTo>
                  <a:pt x="53578" y="375047"/>
                </a:lnTo>
                <a:lnTo>
                  <a:pt x="732235" y="375047"/>
                </a:lnTo>
                <a:lnTo>
                  <a:pt x="732235" y="53578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006f9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5-Point Star 18"/>
          <p:cNvSpPr/>
          <p:nvPr/>
        </p:nvSpPr>
        <p:spPr>
          <a:xfrm>
            <a:off x="2214720" y="4857840"/>
            <a:ext cx="71280" cy="46080"/>
          </a:xfrm>
          <a:custGeom>
            <a:avLst/>
            <a:gdLst>
              <a:gd name="textAreaLeft" fmla="*/ 21960 w 71280"/>
              <a:gd name="textAreaRight" fmla="*/ 49320 w 71280"/>
              <a:gd name="textAreaTop" fmla="*/ 17640 h 46080"/>
              <a:gd name="textAreaBottom" fmla="*/ 35280 h 46080"/>
            </a:gdLst>
            <a:ahLst/>
            <a:rect l="textAreaLeft" t="textAreaTop" r="textAreaRight" b="textAreaBottom"/>
            <a:pathLst>
              <a:path w="71437" h="46038">
                <a:moveTo>
                  <a:pt x="0" y="17585"/>
                </a:moveTo>
                <a:lnTo>
                  <a:pt x="27287" y="17585"/>
                </a:lnTo>
                <a:lnTo>
                  <a:pt x="35719" y="0"/>
                </a:lnTo>
                <a:lnTo>
                  <a:pt x="44150" y="17585"/>
                </a:lnTo>
                <a:lnTo>
                  <a:pt x="71437" y="17585"/>
                </a:lnTo>
                <a:lnTo>
                  <a:pt x="49362" y="28453"/>
                </a:lnTo>
                <a:lnTo>
                  <a:pt x="57794" y="46038"/>
                </a:lnTo>
                <a:lnTo>
                  <a:pt x="35719" y="35170"/>
                </a:lnTo>
                <a:lnTo>
                  <a:pt x="13643" y="46038"/>
                </a:lnTo>
                <a:lnTo>
                  <a:pt x="22075" y="28453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5-Point Star 19"/>
          <p:cNvSpPr/>
          <p:nvPr/>
        </p:nvSpPr>
        <p:spPr>
          <a:xfrm>
            <a:off x="6786720" y="714240"/>
            <a:ext cx="142560" cy="142920"/>
          </a:xfrm>
          <a:custGeom>
            <a:avLst/>
            <a:gdLst>
              <a:gd name="textAreaLeft" fmla="*/ 43920 w 142560"/>
              <a:gd name="textAreaRight" fmla="*/ 98640 w 14256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142875" h="142875">
                <a:moveTo>
                  <a:pt x="0" y="54573"/>
                </a:moveTo>
                <a:lnTo>
                  <a:pt x="54574" y="54574"/>
                </a:lnTo>
                <a:lnTo>
                  <a:pt x="71438" y="0"/>
                </a:lnTo>
                <a:lnTo>
                  <a:pt x="88301" y="54574"/>
                </a:lnTo>
                <a:lnTo>
                  <a:pt x="142875" y="54573"/>
                </a:lnTo>
                <a:lnTo>
                  <a:pt x="98724" y="88301"/>
                </a:lnTo>
                <a:lnTo>
                  <a:pt x="115588" y="142875"/>
                </a:lnTo>
                <a:lnTo>
                  <a:pt x="71438" y="109146"/>
                </a:lnTo>
                <a:lnTo>
                  <a:pt x="27287" y="142875"/>
                </a:lnTo>
                <a:lnTo>
                  <a:pt x="44151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5-Point Star 20"/>
          <p:cNvSpPr/>
          <p:nvPr/>
        </p:nvSpPr>
        <p:spPr>
          <a:xfrm>
            <a:off x="5786280" y="1571760"/>
            <a:ext cx="142920" cy="71280"/>
          </a:xfrm>
          <a:custGeom>
            <a:avLst/>
            <a:gdLst>
              <a:gd name="textAreaLeft" fmla="*/ 43920 w 142920"/>
              <a:gd name="textAreaRight" fmla="*/ 99000 w 14292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5-Point Star 21"/>
          <p:cNvSpPr/>
          <p:nvPr/>
        </p:nvSpPr>
        <p:spPr>
          <a:xfrm>
            <a:off x="7929720" y="1571760"/>
            <a:ext cx="71280" cy="142920"/>
          </a:xfrm>
          <a:custGeom>
            <a:avLst/>
            <a:gdLst>
              <a:gd name="textAreaLeft" fmla="*/ 21960 w 71280"/>
              <a:gd name="textAreaRight" fmla="*/ 49320 w 7128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71437" h="142875">
                <a:moveTo>
                  <a:pt x="0" y="54573"/>
                </a:moveTo>
                <a:lnTo>
                  <a:pt x="27287" y="54574"/>
                </a:lnTo>
                <a:lnTo>
                  <a:pt x="35719" y="0"/>
                </a:lnTo>
                <a:lnTo>
                  <a:pt x="44150" y="54574"/>
                </a:lnTo>
                <a:lnTo>
                  <a:pt x="71437" y="54573"/>
                </a:lnTo>
                <a:lnTo>
                  <a:pt x="49362" y="88301"/>
                </a:lnTo>
                <a:lnTo>
                  <a:pt x="57794" y="142875"/>
                </a:lnTo>
                <a:lnTo>
                  <a:pt x="35719" y="109146"/>
                </a:lnTo>
                <a:lnTo>
                  <a:pt x="13643" y="142875"/>
                </a:lnTo>
                <a:lnTo>
                  <a:pt x="22075" y="8830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142920" y="4221000"/>
            <a:ext cx="8858160" cy="2654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acts a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a pivot for the rotation of the atlas (and the skull)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bove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has a large upright peg-like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odontoid proces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or </a:t>
            </a: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dens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, which projects upward from the superior surface of the body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tually it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represent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body of the atla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at has fused with the axis.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5" descr="File0344a"/>
          <p:cNvPicPr/>
          <p:nvPr/>
        </p:nvPicPr>
        <p:blipFill>
          <a:blip r:embed="rId1"/>
          <a:srcRect l="2434" t="7861" r="8529" b="5794"/>
          <a:stretch/>
        </p:blipFill>
        <p:spPr>
          <a:xfrm>
            <a:off x="324000" y="189000"/>
            <a:ext cx="5256000" cy="388764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6"/>
          <p:cNvSpPr/>
          <p:nvPr/>
        </p:nvSpPr>
        <p:spPr>
          <a:xfrm>
            <a:off x="6084720" y="189000"/>
            <a:ext cx="2448000" cy="6476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AXIS- C 2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324000" y="3284640"/>
            <a:ext cx="2303280" cy="865080"/>
          </a:xfrm>
          <a:prstGeom prst="ellipse">
            <a:avLst/>
          </a:prstGeom>
          <a:solidFill>
            <a:srgbClr val="ff9900">
              <a:alpha val="20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Picture 2" descr="E:\dad\Student Gray\2. Back\F66122-002-f021b.jpg"/>
          <p:cNvPicPr/>
          <p:nvPr/>
        </p:nvPicPr>
        <p:blipFill>
          <a:blip r:embed="rId2"/>
          <a:srcRect l="56352" t="0" r="0" b="56611"/>
          <a:stretch/>
        </p:blipFill>
        <p:spPr>
          <a:xfrm>
            <a:off x="5724360" y="907920"/>
            <a:ext cx="3240360" cy="3097440"/>
          </a:xfrm>
          <a:prstGeom prst="rect">
            <a:avLst/>
          </a:prstGeom>
          <a:ln w="0">
            <a:noFill/>
          </a:ln>
        </p:spPr>
      </p:pic>
      <p:sp>
        <p:nvSpPr>
          <p:cNvPr id="219" name="5-Point Star 6"/>
          <p:cNvSpPr/>
          <p:nvPr/>
        </p:nvSpPr>
        <p:spPr>
          <a:xfrm flipH="1">
            <a:off x="3071160" y="2143080"/>
            <a:ext cx="142920" cy="71640"/>
          </a:xfrm>
          <a:custGeom>
            <a:avLst/>
            <a:gdLst>
              <a:gd name="textAreaLeft" fmla="*/ 43920 w 142920"/>
              <a:gd name="textAreaRight" fmla="*/ 99000 w 142920"/>
              <a:gd name="textAreaTop" fmla="*/ 27360 h 71640"/>
              <a:gd name="textAreaBottom" fmla="*/ 54720 h 71640"/>
            </a:gdLst>
            <a:ahLst/>
            <a:rect l="textAreaLeft" t="textAreaTop" r="textAreaRight" b="textAreaBottom"/>
            <a:pathLst>
              <a:path w="142875" h="71438">
                <a:moveTo>
                  <a:pt x="0" y="27287"/>
                </a:moveTo>
                <a:lnTo>
                  <a:pt x="54574" y="27287"/>
                </a:lnTo>
                <a:lnTo>
                  <a:pt x="71438" y="0"/>
                </a:lnTo>
                <a:lnTo>
                  <a:pt x="88301" y="27287"/>
                </a:lnTo>
                <a:lnTo>
                  <a:pt x="142875" y="27287"/>
                </a:lnTo>
                <a:lnTo>
                  <a:pt x="98724" y="44151"/>
                </a:lnTo>
                <a:lnTo>
                  <a:pt x="115588" y="71438"/>
                </a:lnTo>
                <a:lnTo>
                  <a:pt x="71438" y="54573"/>
                </a:lnTo>
                <a:lnTo>
                  <a:pt x="27287" y="71438"/>
                </a:lnTo>
                <a:lnTo>
                  <a:pt x="44151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5-Point Star 7"/>
          <p:cNvSpPr/>
          <p:nvPr/>
        </p:nvSpPr>
        <p:spPr>
          <a:xfrm>
            <a:off x="3071880" y="2714760"/>
            <a:ext cx="71280" cy="71280"/>
          </a:xfrm>
          <a:custGeom>
            <a:avLst/>
            <a:gdLst>
              <a:gd name="textAreaLeft" fmla="*/ 21960 w 71280"/>
              <a:gd name="textAreaRight" fmla="*/ 49320 w 71280"/>
              <a:gd name="textAreaTop" fmla="*/ 27360 h 71280"/>
              <a:gd name="textAreaBottom" fmla="*/ 54720 h 71280"/>
            </a:gdLst>
            <a:ahLst/>
            <a:rect l="textAreaLeft" t="textAreaTop" r="textAreaRight" b="textAreaBottom"/>
            <a:pathLst>
              <a:path w="71437" h="71438">
                <a:moveTo>
                  <a:pt x="0" y="27287"/>
                </a:moveTo>
                <a:lnTo>
                  <a:pt x="27287" y="27287"/>
                </a:lnTo>
                <a:lnTo>
                  <a:pt x="35719" y="0"/>
                </a:lnTo>
                <a:lnTo>
                  <a:pt x="44150" y="27287"/>
                </a:lnTo>
                <a:lnTo>
                  <a:pt x="71437" y="27287"/>
                </a:lnTo>
                <a:lnTo>
                  <a:pt x="49362" y="44151"/>
                </a:lnTo>
                <a:lnTo>
                  <a:pt x="57794" y="71438"/>
                </a:lnTo>
                <a:lnTo>
                  <a:pt x="35719" y="54573"/>
                </a:lnTo>
                <a:lnTo>
                  <a:pt x="13643" y="71438"/>
                </a:lnTo>
                <a:lnTo>
                  <a:pt x="22075" y="44151"/>
                </a:lnTo>
                <a:close/>
              </a:path>
            </a:pathLst>
          </a:custGeom>
          <a:solidFill>
            <a:srgbClr val="0099cc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3816360" cy="18000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7th </a:t>
            </a:r>
            <a:br>
              <a:rPr sz="2400"/>
            </a:br>
            <a:r>
              <a:rPr b="1" lang="en-US" sz="2400" spc="-1" strike="noStrike">
                <a:solidFill>
                  <a:srgbClr val="e5e5ff"/>
                </a:solidFill>
                <a:latin typeface="Garamond"/>
              </a:rPr>
              <a:t> CERVICAL VERTEBRA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OR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Cervica Promine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4033800" cy="41036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has the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l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ongest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spinous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which is </a:t>
            </a:r>
            <a:r>
              <a:rPr b="1" lang="en-US" sz="2400" spc="-1" strike="noStrike">
                <a:solidFill>
                  <a:srgbClr val="ffff00"/>
                </a:solidFill>
                <a:latin typeface="Garamond"/>
              </a:rPr>
              <a:t>not bifid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t is th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Garamond"/>
              </a:rPr>
              <a:t>first spine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o be felt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subcutaneously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in the root of back of neck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lang="en-US" sz="2400" spc="-1" strike="noStrike">
                <a:solidFill>
                  <a:srgbClr val="66ff33"/>
                </a:solidFill>
                <a:latin typeface="Garamond"/>
              </a:rPr>
              <a:t>transverse process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large while its 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foramen transversaium</a:t>
            </a:r>
            <a:r>
              <a:rPr b="1" lang="en-US" sz="2400" spc="-1" strike="noStrike">
                <a:solidFill>
                  <a:srgbClr val="ffc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 small and may be absent, and </a:t>
            </a:r>
            <a:r>
              <a:rPr b="1" lang="en-US" sz="2400" spc="-1" strike="noStrike">
                <a:solidFill>
                  <a:srgbClr val="ffff66"/>
                </a:solidFill>
                <a:latin typeface="Garamond"/>
              </a:rPr>
              <a:t>does not transmit the vertebral arter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9D39-8A47-42FF-BC59-23A086C997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6732720" y="2133720"/>
            <a:ext cx="1655640" cy="431640"/>
          </a:xfrm>
          <a:prstGeom prst="rect">
            <a:avLst/>
          </a:prstGeom>
          <a:noFill/>
          <a:ln w="25560">
            <a:solidFill>
              <a:srgbClr val="006f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Picture 8" descr="http://www.macroevolution.net/images/transverse-foramina336-321-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1857240"/>
            <a:ext cx="3200400" cy="3057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E:\dad\Student Gray\2. Back\F66122-002-f036.jpg"/>
          <p:cNvPicPr/>
          <p:nvPr/>
        </p:nvPicPr>
        <p:blipFill>
          <a:blip r:embed="rId3"/>
          <a:srcRect l="19076" t="0" r="17788" b="4026"/>
          <a:stretch/>
        </p:blipFill>
        <p:spPr>
          <a:xfrm>
            <a:off x="4367160" y="189000"/>
            <a:ext cx="4452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9T11:50:04Z</dcterms:created>
  <dc:creator>Prof. Saeed Abuel Makarem</dc:creator>
  <dc:description/>
  <dc:language>en-US</dc:language>
  <cp:lastModifiedBy>SANA</cp:lastModifiedBy>
  <dcterms:modified xsi:type="dcterms:W3CDTF">2015-11-25T06:13:36Z</dcterms:modified>
  <cp:revision>277</cp:revision>
  <dc:subject/>
  <dc:title>THE LANGUAGE OF ANATOMY CLASSIFICATION OF BO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  <property fmtid="{D5CDD505-2E9C-101B-9397-08002B2CF9AE}" pid="3" name="Vertbrae">
    <vt:lpwstr>Prof. Saeed Abuel Makarem</vt:lpwstr>
  </property>
</Properties>
</file>