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5FF-07E0-413F-8F9A-31B3201E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A64-F3CD-4FC0-9BFB-0F71183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62E-51E6-48F2-92AB-5199C2A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48F-00A2-413A-806D-5EDF1217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9A6-42B8-464B-8996-E146493A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FFB-E350-47AA-BCCE-CDEF52B8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1DC-0F77-443C-8485-322BB412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05F-F8A6-4378-B763-12BAE0C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031-ACE7-498B-97BD-A213A38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37A-B8C8-42BC-916D-6180E20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4C7-B26D-4143-9F15-E8E5A8F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B4F-17CE-489F-8003-D06A44C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B675-713D-49E1-B597-558EBE4F01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Vohra &amp; Dr. S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C3AA-F62A-4E03-86C6-C4C1BEB33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oogle.com.sa/url?sa=i&amp;rct=j&amp;q=&amp;esrc=s&amp;source=images&amp;cd=&amp;cad=rja&amp;uact=8&amp;ved=0CAcQjRw&amp;url=http://www.srs.org/patient_and_family/&amp;ei=2EN_VM3tCY_haricgGA&amp;psig=AFQjCNFXOj6S_9SI9tcKGD47YfA0lhX19A&amp;ust=1417712757284823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google.com.sa/url?sa=i&amp;rct=j&amp;q=&amp;esrc=s&amp;source=images&amp;cd=&amp;cad=rja&amp;uact=8&amp;ved=0CAcQjRw&amp;url=http://orthoinfo.aaos.org/topic.cfm?topic=a00053&amp;ei=X0R_VMTAMcboaJ_JgeAE&amp;psig=AFQjCNFXOj6S_9SI9tcKGD47YfA0lhX19A&amp;ust=1417712757284823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MZjuqwWVvD1nmM&amp;tbnid=EzZRqtjyC5CQ_M:&amp;ved=0CAUQjRw&amp;url=http://www.hbf.com.au/health-insurance/media-releases/back-pain-pregnancy.html&amp;ei=yH6TUrGSEI2Y1AWpxIDgBA&amp;psig=AFQjCNGyLd645UU5yh1UNZ_tdm2yEOc6Lw&amp;ust=1385484072338208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hyperlink" Target="http://www.google.com.sa/url?sa=i&amp;rct=j&amp;q=&amp;esrc=s&amp;frm=1&amp;source=images&amp;cd=&amp;cad=rja&amp;docid=SA0dRvrbOb6XLM&amp;tbnid=q2w4oSBh2nFo3M:&amp;ved=0CAUQjRw&amp;url=http://www.spineuniverse.com/conditions/scoliosis/scoliosis-adults&amp;ei=Y4OTUsOkGqep0AXtpIGgBA&amp;psig=AFQjCNGyLd645UU5yh1UNZ_tdm2yEOc6Lw&amp;ust=1385484072338208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google.com.sa/url?sa=i&amp;rct=j&amp;q=&amp;esrc=s&amp;source=images&amp;cd=&amp;cad=rja&amp;uact=8&amp;ved=0CAcQjRw&amp;url=http://biology-forums.com/index.php?action=gallery;sa=view;id=19037&amp;ei=noSAVKORIszzas2vgIAD&amp;psig=AFQjCNHck3qye7yHtrHcLNDFuuEGkPCapw&amp;ust=1417795079018542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www.google.com.sa/url?sa=i&amp;rct=j&amp;q=&amp;esrc=s&amp;source=images&amp;cd=&amp;cad=rja&amp;uact=8&amp;ved=0CAcQjRw&amp;url=http%3A%2F%2Fhealthool.com%2Fkyphosis%2F&amp;ei=AJGEVLzTOMP_UoDdgvgG&amp;psig=AFQjCNECIiZ3GZto5RqNT3vD1cSitvH1Zw&amp;ust=1418060397841353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www.google.com.sa/url?sa=i&amp;rct=j&amp;q=&amp;esrc=s&amp;source=images&amp;cd=&amp;cad=rja&amp;uact=8&amp;ved=0CAcQjRw&amp;url=http%3A%2F%2Fwww.balanceorlando.com%2Fwe-specialize-in-resolving-chronic-pain%2Fsymptomsandsyndromes%2Flordosis%2F%3FPHPSESSID%3D35fdbe5d3a77bc7b38a6d5f38a0c8897&amp;ei=w5GEVK-nGsX_ULqihNAP&amp;psig=AFQjCNGGK1WC7cQl7TqqEw61HlGsHzQ1zQ&amp;ust=1418060577756896" TargetMode="External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://searchpp.com/typical-vertebra/&amp;ei=Kf5_VKaJA4n0PPOXgagB&amp;psig=AFQjCNHs2NM5UGMUAeDaSOyoZPT9fBu6yg&amp;ust=1417760473772353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://medicalfreakz.blogspot.com/2014/07/osteology-of-vertebrae.html&amp;ei=n_x_VJaOIIPrOLz8gegF&amp;psig=AFQjCNGjx5bVPrOl-dYZRGZGuvJwHMo2jQ&amp;ust=1417760140030345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://medicalfreakz.blogspot.com/2014/07/osteology-of-vertebrae.html&amp;ei=n_x_VJaOIIPrOLz8gegF&amp;psig=AFQjCNGjx5bVPrOl-dYZRGZGuvJwHMo2jQ&amp;ust=1417760140030345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YuR9VIvEII7raOzTgaAO&amp;psig=AFQjCNGFgKXkVI2CGtM9QeRNOPql0I3uqQ&amp;ust=1417623002976998" TargetMode="External"/><Relationship Id="rId2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YuR9VIvEII7raOzTgaAO&amp;psig=AFQjCNGFgKXkVI2CGtM9QeRNOPql0I3uqQ&amp;ust=1417623002976998" TargetMode="External"/><Relationship Id="rId3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YuR9VIvEII7raOzTgaAO&amp;psig=AFQjCNGFgKXkVI2CGtM9QeRNOPql0I3uqQ&amp;ust=1417623002976998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l-R9VOvqLM3yaofVgMAD&amp;psig=AFQjCNGFgKXkVI2CGtM9QeRNOPql0I3uqQ&amp;ust=141762300297699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HP\My Documents\My Pictures\untitled.bmp"/>
          <p:cNvPicPr/>
          <p:nvPr/>
        </p:nvPicPr>
        <p:blipFill>
          <a:blip r:embed="rId1"/>
          <a:stretch/>
        </p:blipFill>
        <p:spPr>
          <a:xfrm>
            <a:off x="590400" y="1736640"/>
            <a:ext cx="79441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2560" y="914040"/>
            <a:ext cx="5419800" cy="563868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intervertebral discs are responsible for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one fourth of the length of the vertebral colum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thickes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ervical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lumb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gions, where the movements of the vertebral column are greates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Each disc consists of 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eripheral par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ulus fibros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omposed of fibrocartilag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entral par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ucleus pulpos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mass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latinous materi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ing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amount of wate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mall number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llagen fi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a fe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tilage cell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53735"/>
                </a:solidFill>
                <a:latin typeface="Calibri"/>
              </a:rPr>
              <a:t>No discs </a:t>
            </a:r>
            <a:r>
              <a:rPr b="0" lang="en-US" sz="2300" spc="-1" strike="noStrike">
                <a:solidFill>
                  <a:srgbClr val="953735"/>
                </a:solidFill>
                <a:latin typeface="Calibri"/>
              </a:rPr>
              <a:t>are found between the first &amp; second cervical vertebrae or in the sacrum or coccyx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user\Pictures\C12FF5.png"/>
          <p:cNvPicPr/>
          <p:nvPr/>
        </p:nvPicPr>
        <p:blipFill>
          <a:blip r:embed="rId1"/>
          <a:srcRect l="56662" t="12279" r="0" b="50197"/>
          <a:stretch/>
        </p:blipFill>
        <p:spPr>
          <a:xfrm>
            <a:off x="5638680" y="914400"/>
            <a:ext cx="3214800" cy="27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2" name="Picture 2" descr="C:\Users\user\Pictures\C12FF5.png"/>
          <p:cNvPicPr/>
          <p:nvPr/>
        </p:nvPicPr>
        <p:blipFill>
          <a:blip r:embed="rId2"/>
          <a:srcRect l="49058" t="54892" r="0" b="3462"/>
          <a:stretch/>
        </p:blipFill>
        <p:spPr>
          <a:xfrm>
            <a:off x="5638680" y="3886200"/>
            <a:ext cx="3311640" cy="26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3" name="Rectangle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ERVERTEBRAL   DIS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1066680"/>
            <a:ext cx="8382240" cy="190512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o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vertebra to rock forward or backward on another, as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exion and extension of the vertebral colum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rve as shock absorb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load on the vertebral column is suddenly increased, a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one is jumping from a h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4"/>
          <p:cNvSpPr/>
          <p:nvPr/>
        </p:nvSpPr>
        <p:spPr>
          <a:xfrm>
            <a:off x="380880" y="3429000"/>
            <a:ext cx="4648320" cy="274320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,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nulus fibrosu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ptures,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llowing the nucleus pulposus to herniate and protrude into the vertebral ca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ere it may press on the spinal nerve roots, the spinal nerve, or even the spinal co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dartmouth.edu/sport-trial/graphics/IDH_ADAM.gif"/>
          <p:cNvPicPr/>
          <p:nvPr/>
        </p:nvPicPr>
        <p:blipFill>
          <a:blip r:embed="rId1"/>
          <a:stretch/>
        </p:blipFill>
        <p:spPr>
          <a:xfrm>
            <a:off x="5181480" y="3124080"/>
            <a:ext cx="3610080" cy="312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TextBox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 OF THE INTERVERTEBRAL DI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8400" y="1600200"/>
            <a:ext cx="3609720" cy="320040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sist of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synovial join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tween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io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ferior articular process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jacent vertebra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Users\user\Pictures\rrrr.png"/>
          <p:cNvPicPr/>
          <p:nvPr/>
        </p:nvPicPr>
        <p:blipFill>
          <a:blip r:embed="rId1"/>
          <a:stretch/>
        </p:blipFill>
        <p:spPr>
          <a:xfrm>
            <a:off x="4419720" y="1219320"/>
            <a:ext cx="334008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10" name="Straight Arrow Connector 9"/>
          <p:cNvCxnSpPr/>
          <p:nvPr/>
        </p:nvCxnSpPr>
        <p:spPr>
          <a:xfrm flipV="1">
            <a:off x="4038120" y="2209320"/>
            <a:ext cx="1600920" cy="5342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11" name="Straight Arrow Connector 10"/>
          <p:cNvCxnSpPr/>
          <p:nvPr/>
        </p:nvCxnSpPr>
        <p:spPr>
          <a:xfrm>
            <a:off x="4038480" y="2743200"/>
            <a:ext cx="1905840" cy="1753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12" name="TextBox 6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INTS BETWEEN TWO VERTEBRAL AR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240" y="990720"/>
            <a:ext cx="4343400" cy="441936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anterior and posterior longitudinal ligamen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 as continuous bands dow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eri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erior surfac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vertebral colum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the skull to the sac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nterior longitudinal liga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ong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tached to the front and sides of the vertebral bodies and to the intervertebral disc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osterior longitudinal liga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a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is attached to the posterior borders of the dis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user\Pictures\C12FF5.png"/>
          <p:cNvPicPr/>
          <p:nvPr/>
        </p:nvPicPr>
        <p:blipFill>
          <a:blip r:embed="rId1"/>
          <a:srcRect l="49058" t="52498" r="0" b="3467"/>
          <a:stretch/>
        </p:blipFill>
        <p:spPr>
          <a:xfrm>
            <a:off x="4648320" y="990720"/>
            <a:ext cx="4319640" cy="44193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15" name="Rounded Rectangle 5"/>
          <p:cNvSpPr/>
          <p:nvPr/>
        </p:nvSpPr>
        <p:spPr>
          <a:xfrm>
            <a:off x="7848720" y="3200400"/>
            <a:ext cx="914400" cy="609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6"/>
          <p:cNvSpPr/>
          <p:nvPr/>
        </p:nvSpPr>
        <p:spPr>
          <a:xfrm>
            <a:off x="7543800" y="1600200"/>
            <a:ext cx="144792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GA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304920" y="5638680"/>
            <a:ext cx="8686800" cy="7038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iga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d the vertebrae firmly toge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t the same time permit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amount of mov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ake place betwee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6400800" cy="335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0" name="TextBox 17"/>
          <p:cNvSpPr/>
          <p:nvPr/>
        </p:nvSpPr>
        <p:spPr>
          <a:xfrm>
            <a:off x="0" y="285840"/>
            <a:ext cx="9144000" cy="825120"/>
          </a:xfrm>
          <a:prstGeom prst="rect">
            <a:avLst/>
          </a:prstGeom>
          <a:solidFill>
            <a:srgbClr val="ffff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GA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2280" y="4648320"/>
            <a:ext cx="2286000" cy="13136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upraspinous liga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between the tips of adjacent s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267080" y="4800600"/>
            <a:ext cx="2819520" cy="13136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ntertransverse liga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between adjacent transvers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52280" y="1523880"/>
            <a:ext cx="2286000" cy="161856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igamentum flavu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the laminae of adjacent verteb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52280" y="3048120"/>
            <a:ext cx="2286000" cy="13136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nterspinous ligament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adjacent s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9"/>
          <p:cNvCxnSpPr/>
          <p:nvPr/>
        </p:nvCxnSpPr>
        <p:spPr>
          <a:xfrm>
            <a:off x="2971800" y="2438280"/>
            <a:ext cx="1448640" cy="1548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6" name="Straight Arrow Connector 20"/>
          <p:cNvCxnSpPr/>
          <p:nvPr/>
        </p:nvCxnSpPr>
        <p:spPr>
          <a:xfrm flipV="1">
            <a:off x="6248520" y="2895120"/>
            <a:ext cx="381600" cy="19058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7" name="Straight Arrow Connector 21"/>
          <p:cNvCxnSpPr/>
          <p:nvPr/>
        </p:nvCxnSpPr>
        <p:spPr>
          <a:xfrm flipV="1">
            <a:off x="2895120" y="3276360"/>
            <a:ext cx="1296360" cy="381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8" name="Straight Arrow Connector 26"/>
          <p:cNvCxnSpPr/>
          <p:nvPr/>
        </p:nvCxnSpPr>
        <p:spPr>
          <a:xfrm flipV="1">
            <a:off x="2437920" y="4419000"/>
            <a:ext cx="1296360" cy="610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9" name="Straight Arrow Connector 40"/>
          <p:cNvCxnSpPr>
            <a:stCxn id="124" idx="3"/>
          </p:cNvCxnSpPr>
          <p:nvPr/>
        </p:nvCxnSpPr>
        <p:spPr>
          <a:xfrm flipV="1">
            <a:off x="2437920" y="3581280"/>
            <a:ext cx="1753560" cy="1292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30" name="Straight Arrow Connector 41"/>
          <p:cNvCxnSpPr/>
          <p:nvPr/>
        </p:nvCxnSpPr>
        <p:spPr>
          <a:xfrm>
            <a:off x="2438280" y="2285640"/>
            <a:ext cx="1982160" cy="610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solidFill>
            <a:srgbClr val="e6e0ec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ovements are possible on the spine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ex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teral flexion, rotation, and circum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type and range of move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le in each reg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tebral colum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end 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ness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vertebral disc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pe and direction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r proces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thoracic reg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al cartilag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rnu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 the range of mo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Flexion, extension and lateral flex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ensi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th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umbar reg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ed in the thoracic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Rotation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ast extens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umbar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VEMENTS OF THE THORACOLUMBAR S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634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SCLES PRODUCING MO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90720"/>
            <a:ext cx="8472600" cy="129528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thoracic reg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duced 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mispinal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tator musc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ssisted 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lique muscl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erolateral abdominal w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152280" y="2362320"/>
            <a:ext cx="8839440" cy="426708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Calibri"/>
              </a:rPr>
              <a:t>lumbar region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lexion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ctus abdomini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soas mus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Extension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stvertebral mus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Lateral flex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stvertebral muscl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adratus lumboru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blique muscl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nterolateral abdominal wall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soa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also play a part in this movem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Rota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tator muscl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blique muscl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nterolateral abdomina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42560" y="2071440"/>
            <a:ext cx="5800680" cy="478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arg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all movable vertebra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distinguished by i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siv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ck transverse proces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carries the weig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whole upper bod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5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largely responsible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umbosacral ang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the long axis of the lumbar region of the vertebral column and that of the sac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dy weig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5 vert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b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c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ormed by the superior surface of S1 verte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fth lumbar vert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by far the mos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ommon sit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spondylolysis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ect in the pars interarticularis of the vertebral arc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pondylolisthesis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he forward displacement of a vertebr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000840" y="0"/>
            <a:ext cx="2928960" cy="642600"/>
          </a:xfrm>
          <a:prstGeom prst="rect">
            <a:avLst/>
          </a:prstGeom>
          <a:solidFill>
            <a:srgbClr val="c3d69b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tebra L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:\Documents and Settings\Free User\My Documents\My Pictures\174px-Gray_111_-_Vertebral_column-coloured.png"/>
          <p:cNvPicPr/>
          <p:nvPr/>
        </p:nvPicPr>
        <p:blipFill>
          <a:blip r:embed="rId1"/>
          <a:stretch/>
        </p:blipFill>
        <p:spPr>
          <a:xfrm>
            <a:off x="6143760" y="3429000"/>
            <a:ext cx="928440" cy="3143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9" name="Picture 7" descr="https://encrypted-tbn0.gstatic.com/images?q=tbn:ANd9GcQ4F-mvHaHnazdvdPv0K2sYlblvSKGboaXRacFxAe-gU5Aroim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3840" y="3929040"/>
            <a:ext cx="1809720" cy="2000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0" name="Picture 13" descr="https://encrypted-tbn3.gstatic.com/images?q=tbn:ANd9GcT5oAXtnZ5awnyPJQLh1LGrtQ1K_6VGBHvDk_PLaB7E-AWoINxw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680" y="0"/>
            <a:ext cx="5286240" cy="2000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1" name="Picture 2" descr="File:Gray94.png"/>
          <p:cNvPicPr/>
          <p:nvPr/>
        </p:nvPicPr>
        <p:blipFill>
          <a:blip r:embed="rId6"/>
          <a:stretch/>
        </p:blipFill>
        <p:spPr>
          <a:xfrm>
            <a:off x="6072120" y="785880"/>
            <a:ext cx="2800440" cy="2523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2" name="Picture 2" descr="Spondylolysis"/>
          <p:cNvPicPr/>
          <p:nvPr/>
        </p:nvPicPr>
        <p:blipFill>
          <a:blip r:embed="rId7"/>
          <a:srcRect l="0" t="50498" r="40189" b="3465"/>
          <a:stretch/>
        </p:blipFill>
        <p:spPr>
          <a:xfrm>
            <a:off x="6000840" y="785880"/>
            <a:ext cx="3143160" cy="2500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ttp://www.hbf.com.au/Images/spine-curves-te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80880"/>
            <a:ext cx="2086200" cy="2857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4" name="Picture 8" descr="C:\Users\Zeenat\Pictures\sacx.jpg"/>
          <p:cNvPicPr/>
          <p:nvPr/>
        </p:nvPicPr>
        <p:blipFill>
          <a:blip r:embed="rId3"/>
          <a:stretch/>
        </p:blipFill>
        <p:spPr>
          <a:xfrm>
            <a:off x="6324480" y="3657600"/>
            <a:ext cx="2271960" cy="2832120"/>
          </a:xfrm>
          <a:prstGeom prst="rect">
            <a:avLst/>
          </a:prstGeom>
          <a:ln w="0">
            <a:noFill/>
          </a:ln>
        </p:spPr>
      </p:pic>
      <p:sp>
        <p:nvSpPr>
          <p:cNvPr id="145" name="Content Placeholder 4"/>
          <p:cNvSpPr/>
          <p:nvPr/>
        </p:nvSpPr>
        <p:spPr>
          <a:xfrm>
            <a:off x="685800" y="533520"/>
            <a:ext cx="5029200" cy="167616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mal Curvatures in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(Thoracic &amp; Pelvi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(Cervical &amp; Lum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http://www.spineuniverse.com/sites/default/files/legacy-images/scoliosis_curve-B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3581280"/>
            <a:ext cx="1133640" cy="1791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5"/>
          <p:cNvSpPr/>
          <p:nvPr/>
        </p:nvSpPr>
        <p:spPr>
          <a:xfrm>
            <a:off x="500040" y="2332080"/>
            <a:ext cx="3767040" cy="41688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normal Curvatures of spin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ggerat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orac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vatures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Kyph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ggerat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umb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vature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Lord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al curvature of spine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Scoli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5186880" y="51814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coli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https://encrypted-tbn2.gstatic.com/images?q=tbn:ANd9GcSFMXf_j6tDCOCVsVE47pIrbZo-8yTACtUSa3LuIr7mF8fHKhKS">
            <a:hlinkClick r:id="rId6"/>
          </p:cNvPr>
          <p:cNvPicPr/>
          <p:nvPr/>
        </p:nvPicPr>
        <p:blipFill>
          <a:blip r:embed="rId7"/>
          <a:srcRect l="0" t="0" r="0" b="10201"/>
          <a:stretch/>
        </p:blipFill>
        <p:spPr>
          <a:xfrm>
            <a:off x="4786200" y="3357720"/>
            <a:ext cx="3743280" cy="3143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0" name="Picture 10" descr="https://encrypted-tbn3.gstatic.com/images?q=tbn:ANd9GcQQ7rpOJuZduoTk0kLy1asPt51yDxMndQ0jDHDnDi7KPVSksmL3ZA">
            <a:hlinkClick r:id="rId8"/>
          </p:cNvPr>
          <p:cNvPicPr/>
          <p:nvPr/>
        </p:nvPicPr>
        <p:blipFill>
          <a:blip r:embed="rId9"/>
          <a:srcRect l="0" t="3761" r="0" b="3891"/>
          <a:stretch/>
        </p:blipFill>
        <p:spPr>
          <a:xfrm>
            <a:off x="4500720" y="3357720"/>
            <a:ext cx="421956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12" descr="https://encrypted-tbn2.gstatic.com/images?q=tbn:ANd9GcQ3ATloAaGBM1tVWW_scnvF7m93z9TtQ7xh5Hfb5PZp3rJP9YWRT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29200" y="357120"/>
            <a:ext cx="2095560" cy="28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itle 1"/>
          <p:cNvGrpSpPr/>
          <p:nvPr/>
        </p:nvGrpSpPr>
        <p:grpSpPr>
          <a:xfrm>
            <a:off x="-60480" y="2773440"/>
            <a:ext cx="9259920" cy="1298520"/>
            <a:chOff x="-60480" y="2773440"/>
            <a:chExt cx="9259920" cy="1298520"/>
          </a:xfrm>
        </p:grpSpPr>
        <p:pic>
          <p:nvPicPr>
            <p:cNvPr id="153" name="Title 1" descr=""/>
            <p:cNvPicPr/>
            <p:nvPr/>
          </p:nvPicPr>
          <p:blipFill>
            <a:blip r:embed="rId1"/>
            <a:stretch/>
          </p:blipFill>
          <p:spPr>
            <a:xfrm>
              <a:off x="-60480" y="2773440"/>
              <a:ext cx="9259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285768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Broadway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itle 1"/>
          <p:cNvGrpSpPr/>
          <p:nvPr/>
        </p:nvGrpSpPr>
        <p:grpSpPr>
          <a:xfrm>
            <a:off x="-60480" y="1852560"/>
            <a:ext cx="9259920" cy="1596960"/>
            <a:chOff x="-60480" y="1852560"/>
            <a:chExt cx="9259920" cy="1596960"/>
          </a:xfrm>
        </p:grpSpPr>
        <p:pic>
          <p:nvPicPr>
            <p:cNvPr id="43" name="Title 1" descr=""/>
            <p:cNvPicPr/>
            <p:nvPr/>
          </p:nvPicPr>
          <p:blipFill>
            <a:blip r:embed="rId1"/>
            <a:stretch/>
          </p:blipFill>
          <p:spPr>
            <a:xfrm>
              <a:off x="-60480" y="1852560"/>
              <a:ext cx="92599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1905120"/>
              <a:ext cx="91440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Calibri"/>
                </a:rPr>
                <a:t>Thoracolumbar Spin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Subtitle 2"/>
          <p:cNvGrpSpPr/>
          <p:nvPr/>
        </p:nvGrpSpPr>
        <p:grpSpPr>
          <a:xfrm>
            <a:off x="-60480" y="4059360"/>
            <a:ext cx="9259920" cy="1347840"/>
            <a:chOff x="-60480" y="4059360"/>
            <a:chExt cx="9259920" cy="1347840"/>
          </a:xfrm>
        </p:grpSpPr>
        <p:pic>
          <p:nvPicPr>
            <p:cNvPr id="46" name="Subtitle 2" descr=""/>
            <p:cNvPicPr/>
            <p:nvPr/>
          </p:nvPicPr>
          <p:blipFill>
            <a:blip r:embed="rId2"/>
            <a:stretch/>
          </p:blipFill>
          <p:spPr>
            <a:xfrm>
              <a:off x="-60480" y="4059360"/>
              <a:ext cx="92599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419112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libri"/>
                </a:rPr>
                <a:t>By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libri"/>
                </a:rPr>
                <a:t>Dr. Sanaa&amp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libri"/>
                </a:rPr>
                <a:t>Dr.Vohr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28760" y="171468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one of the following contributes in lordosis of the sp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ed cervical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eated thoracic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ed lumbar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al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 Arrow 4"/>
          <p:cNvSpPr/>
          <p:nvPr/>
        </p:nvSpPr>
        <p:spPr>
          <a:xfrm>
            <a:off x="6572160" y="3929040"/>
            <a:ext cx="135756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85840" y="178596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ich one of the following  ligaments connects the laminae of adjacent vertebra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pi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trans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mentum flav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eft Arrow 6"/>
          <p:cNvSpPr/>
          <p:nvPr/>
        </p:nvSpPr>
        <p:spPr>
          <a:xfrm>
            <a:off x="4714920" y="4500720"/>
            <a:ext cx="1643040" cy="142560"/>
          </a:xfrm>
          <a:prstGeom prst="leftArrow">
            <a:avLst>
              <a:gd name="adj1" fmla="val 50000"/>
              <a:gd name="adj2" fmla="val 501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57120" y="1571760"/>
            <a:ext cx="85726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one of the following muscles specifically contributes in lateral  flexion of lumbar sp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spina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us lumbo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as ma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s abdomi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 Arrow 4"/>
          <p:cNvSpPr/>
          <p:nvPr/>
        </p:nvSpPr>
        <p:spPr>
          <a:xfrm>
            <a:off x="4786200" y="3357720"/>
            <a:ext cx="1285920" cy="71280"/>
          </a:xfrm>
          <a:prstGeom prst="leftArrow">
            <a:avLst>
              <a:gd name="adj1" fmla="val 50000"/>
              <a:gd name="adj2" fmla="val 501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s://encrypted-tbn3.gstatic.com/images?q=tbn:ANd9GcQDzizwwHeyiMqL7VySz1S9VofoVTvlhM4YDA2_1rpx1HSyha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86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5" name="TextBox 2"/>
          <p:cNvSpPr/>
          <p:nvPr/>
        </p:nvSpPr>
        <p:spPr>
          <a:xfrm>
            <a:off x="2857680" y="714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/>
          </p:cNvPr>
          <p:cNvSpPr/>
          <p:nvPr/>
        </p:nvSpPr>
        <p:spPr>
          <a:xfrm>
            <a:off x="54000" y="-1417680"/>
            <a:ext cx="3209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rId2"/>
          </p:cNvPr>
          <p:cNvSpPr/>
          <p:nvPr/>
        </p:nvSpPr>
        <p:spPr>
          <a:xfrm>
            <a:off x="54000" y="-1417680"/>
            <a:ext cx="3209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54000" y="-1417680"/>
            <a:ext cx="3209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https://encrypted-tbn2.gstatic.com/images?q=tbn:ANd9GcQIUQscvkXICZ1QbiJ5pU3dlIseWZS4hrmTt0M87VvSo-DsXRXE"/>
          <p:cNvPicPr/>
          <p:nvPr/>
        </p:nvPicPr>
        <p:blipFill>
          <a:blip r:embed="rId3"/>
          <a:srcRect l="0" t="0" r="0" b="5784"/>
          <a:stretch/>
        </p:blipFill>
        <p:spPr>
          <a:xfrm>
            <a:off x="1214280" y="928800"/>
            <a:ext cx="6357960" cy="4214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70" name="TextBox 5"/>
          <p:cNvSpPr/>
          <p:nvPr/>
        </p:nvSpPr>
        <p:spPr>
          <a:xfrm>
            <a:off x="3143160" y="3571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er\Desktop\sana.jpg"/>
          <p:cNvPicPr/>
          <p:nvPr/>
        </p:nvPicPr>
        <p:blipFill>
          <a:blip r:embed="rId1"/>
          <a:stretch/>
        </p:blipFill>
        <p:spPr>
          <a:xfrm>
            <a:off x="1214280" y="1214280"/>
            <a:ext cx="6286680" cy="450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72" name="TextBox 2"/>
          <p:cNvSpPr/>
          <p:nvPr/>
        </p:nvSpPr>
        <p:spPr>
          <a:xfrm>
            <a:off x="3500280" y="642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143000"/>
            <a:ext cx="8458200" cy="4929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At the end of the lecture, students should be able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Distinguish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thoracic and lumbar vertebrae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from each other and from vertebrae of the cervical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characteristic features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of a thoracic and a lumbar verteb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joints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between the vertebral bodies and the vertebral ar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Compare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movements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occurring in thoracic and lumbar reg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List and identify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ligaments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of the intervertebral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7">
            <a:hlinkClick r:id="rId1"/>
          </p:cNvPr>
          <p:cNvSpPr/>
          <p:nvPr/>
        </p:nvSpPr>
        <p:spPr>
          <a:xfrm>
            <a:off x="54000" y="-1614600"/>
            <a:ext cx="70009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/>
          </p:cNvPr>
          <p:cNvSpPr/>
          <p:nvPr/>
        </p:nvSpPr>
        <p:spPr>
          <a:xfrm>
            <a:off x="54000" y="-1614600"/>
            <a:ext cx="70009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>
            <a:hlinkClick r:id="rId3"/>
          </p:cNvPr>
          <p:cNvSpPr/>
          <p:nvPr/>
        </p:nvSpPr>
        <p:spPr>
          <a:xfrm>
            <a:off x="54000" y="-1614600"/>
            <a:ext cx="70009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42920" y="714240"/>
            <a:ext cx="2786040" cy="36914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curvatures i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horac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mb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urves of vertebral column can be divided in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imary curves :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acic &amp; pelv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ary curves :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vical &amp; lum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https://encrypted-tbn2.gstatic.com/images?q=tbn:ANd9GcQyJpIDKFKSTOSFyPLTvSjF7nIwN87NwCV8x4P66EawMpciJbdr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1143000"/>
            <a:ext cx="5500440" cy="3371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3143160" y="357120"/>
            <a:ext cx="5715000" cy="6072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383040"/>
            <a:ext cx="9144000" cy="70344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THORACIC VERTEBR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4524120" cy="3029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457200" y="4143240"/>
            <a:ext cx="3614760" cy="22885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horacic vertebra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v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od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ertebr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uscular and articular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Free User\My Documents\My Pictures\Picture2.png"/>
          <p:cNvPicPr/>
          <p:nvPr/>
        </p:nvPicPr>
        <p:blipFill>
          <a:blip r:embed="rId2"/>
          <a:stretch/>
        </p:blipFill>
        <p:spPr>
          <a:xfrm>
            <a:off x="228600" y="1066680"/>
            <a:ext cx="4110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C:\Documents and Settings\Free User\My Documents\My Pictures\Picture1.png"/>
          <p:cNvPicPr/>
          <p:nvPr/>
        </p:nvPicPr>
        <p:blipFill>
          <a:blip r:embed="rId1"/>
          <a:stretch/>
        </p:blipFill>
        <p:spPr>
          <a:xfrm>
            <a:off x="3657600" y="2514600"/>
            <a:ext cx="2720880" cy="1990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6477120" y="3886200"/>
            <a:ext cx="25146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edium size and heart 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705720" y="2438280"/>
            <a:ext cx="2043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bral fora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and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410080" y="1066680"/>
            <a:ext cx="25909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long and inclined down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5800" y="3352680"/>
            <a:ext cx="2438280" cy="146556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al fac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present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des of the bodi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rticulation with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880" y="1143000"/>
            <a:ext cx="2895840" cy="20142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al fac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rticulation with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uber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ibs (T11 and 12 have no facets on the transverse proces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14200" y="5105520"/>
            <a:ext cx="871560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sup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 facets that 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as the facets o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ll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th verteb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 do those of the lumbar vertebr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 TYPICAL THORACIC VERT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3"/>
          <p:cNvCxnSpPr/>
          <p:nvPr/>
        </p:nvCxnSpPr>
        <p:spPr>
          <a:xfrm>
            <a:off x="3276360" y="2971440"/>
            <a:ext cx="61020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9" name="Straight Arrow Connector 15"/>
          <p:cNvCxnSpPr>
            <a:stCxn id="61" idx="1"/>
          </p:cNvCxnSpPr>
          <p:nvPr/>
        </p:nvCxnSpPr>
        <p:spPr>
          <a:xfrm flipH="1" flipV="1">
            <a:off x="5562360" y="3962160"/>
            <a:ext cx="915120" cy="2484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0" name="Straight Arrow Connector 12"/>
          <p:cNvCxnSpPr/>
          <p:nvPr/>
        </p:nvCxnSpPr>
        <p:spPr>
          <a:xfrm flipH="1">
            <a:off x="5028840" y="1752480"/>
            <a:ext cx="838800" cy="9151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1" name="Straight Arrow Connector 16"/>
          <p:cNvCxnSpPr>
            <a:stCxn id="64" idx="3"/>
          </p:cNvCxnSpPr>
          <p:nvPr/>
        </p:nvCxnSpPr>
        <p:spPr>
          <a:xfrm flipV="1">
            <a:off x="3124080" y="3733560"/>
            <a:ext cx="1372320" cy="3578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2" name="Straight Arrow Connector 14"/>
          <p:cNvCxnSpPr/>
          <p:nvPr/>
        </p:nvCxnSpPr>
        <p:spPr>
          <a:xfrm flipH="1">
            <a:off x="5104800" y="3124080"/>
            <a:ext cx="1600920" cy="300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user\Pictures\fff.png"/>
          <p:cNvPicPr/>
          <p:nvPr/>
        </p:nvPicPr>
        <p:blipFill>
          <a:blip r:embed="rId1"/>
          <a:srcRect l="10137" t="9723" r="5556" b="8332"/>
          <a:stretch/>
        </p:blipFill>
        <p:spPr>
          <a:xfrm>
            <a:off x="2971800" y="2133720"/>
            <a:ext cx="3276720" cy="261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TYPICAL LUMBAR VERT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4114800"/>
            <a:ext cx="2286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arge and kidney 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629400" y="4191120"/>
            <a:ext cx="2286000" cy="91692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di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trong and directed back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743080" y="1523880"/>
            <a:ext cx="2478960" cy="36828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min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57200" y="2895480"/>
            <a:ext cx="16765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bral forami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riang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629400" y="2743200"/>
            <a:ext cx="2209680" cy="91692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verse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long and sl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09480" y="1143000"/>
            <a:ext cx="43434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ous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hort, flat, &amp; quadrangular and project back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533520" y="5257800"/>
            <a:ext cx="8381880" cy="642600"/>
          </a:xfrm>
          <a:prstGeom prst="rect">
            <a:avLst/>
          </a:prstGeom>
          <a:solidFill>
            <a:srgbClr val="fcd5b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ticular surfaces of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p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l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ose of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3"/>
          <p:cNvCxnSpPr/>
          <p:nvPr/>
        </p:nvCxnSpPr>
        <p:spPr>
          <a:xfrm flipH="1">
            <a:off x="4800240" y="1828800"/>
            <a:ext cx="915120" cy="1296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Straight Arrow Connector 14"/>
          <p:cNvCxnSpPr>
            <a:stCxn id="75" idx="3"/>
          </p:cNvCxnSpPr>
          <p:nvPr/>
        </p:nvCxnSpPr>
        <p:spPr>
          <a:xfrm flipV="1">
            <a:off x="2743200" y="4114440"/>
            <a:ext cx="1372320" cy="3247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Straight Arrow Connector 15"/>
          <p:cNvCxnSpPr>
            <a:stCxn id="78" idx="3"/>
          </p:cNvCxnSpPr>
          <p:nvPr/>
        </p:nvCxnSpPr>
        <p:spPr>
          <a:xfrm>
            <a:off x="2133720" y="3357720"/>
            <a:ext cx="2210400" cy="148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Straight Arrow Connector 16"/>
          <p:cNvCxnSpPr>
            <a:stCxn id="79" idx="1"/>
          </p:cNvCxnSpPr>
          <p:nvPr/>
        </p:nvCxnSpPr>
        <p:spPr>
          <a:xfrm flipH="1" flipV="1">
            <a:off x="6019200" y="3123720"/>
            <a:ext cx="610200" cy="81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6" name="Straight Arrow Connector 17"/>
          <p:cNvCxnSpPr/>
          <p:nvPr/>
        </p:nvCxnSpPr>
        <p:spPr>
          <a:xfrm flipH="1" flipV="1">
            <a:off x="5181120" y="3504600"/>
            <a:ext cx="1448640" cy="99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7" name="Straight Arrow Connector 23"/>
          <p:cNvCxnSpPr/>
          <p:nvPr/>
        </p:nvCxnSpPr>
        <p:spPr>
          <a:xfrm>
            <a:off x="4190040" y="1828800"/>
            <a:ext cx="229320" cy="5342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er\Pictures\C4-FF2.png"/>
          <p:cNvPicPr/>
          <p:nvPr/>
        </p:nvPicPr>
        <p:blipFill>
          <a:blip r:embed="rId1"/>
          <a:srcRect l="0" t="50203" r="48004" b="0"/>
          <a:stretch/>
        </p:blipFill>
        <p:spPr>
          <a:xfrm>
            <a:off x="533520" y="533520"/>
            <a:ext cx="3962160" cy="2570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9" name="Picture 2" descr="C:\Users\user\Pictures\C4-FF2.png"/>
          <p:cNvPicPr/>
          <p:nvPr/>
        </p:nvPicPr>
        <p:blipFill>
          <a:blip r:embed="rId2"/>
          <a:srcRect l="53766" t="3176" r="0" b="52375"/>
          <a:stretch/>
        </p:blipFill>
        <p:spPr>
          <a:xfrm>
            <a:off x="533520" y="3200400"/>
            <a:ext cx="3962160" cy="2971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990960" cy="29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Picture 8" descr="C:\Documents and Settings\Free User\My Documents\My Pictures\Picture2.png"/>
          <p:cNvPicPr/>
          <p:nvPr/>
        </p:nvPicPr>
        <p:blipFill>
          <a:blip r:embed="rId4"/>
          <a:stretch/>
        </p:blipFill>
        <p:spPr>
          <a:xfrm>
            <a:off x="4648320" y="533520"/>
            <a:ext cx="3985920" cy="2590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571680" y="2928960"/>
            <a:ext cx="12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mbar vert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ame 8"/>
          <p:cNvSpPr/>
          <p:nvPr/>
        </p:nvSpPr>
        <p:spPr>
          <a:xfrm>
            <a:off x="571680" y="2928960"/>
            <a:ext cx="121428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71680" y="592920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mbar vertebra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714920" y="285768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oracic vert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4714920" y="600084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oracic vert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295280"/>
            <a:ext cx="4267080" cy="51818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rtilagenou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ppe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w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rfaces of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odi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adjacent vertebrae are covered b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in plat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hyaline cartilag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ndwiched between the plates of hyaline cartilage is an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intervertebral disc of fibrocartil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llagen fiber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the disc strongly unite the bodies of the two vertebra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Users\user\Pictures\rrrr.png"/>
          <p:cNvPicPr/>
          <p:nvPr/>
        </p:nvPicPr>
        <p:blipFill>
          <a:blip r:embed="rId1"/>
          <a:stretch/>
        </p:blipFill>
        <p:spPr>
          <a:xfrm>
            <a:off x="4800600" y="1295280"/>
            <a:ext cx="382428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INTS BETWEEN TWO VERTEBRAL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07:15:46Z</dcterms:created>
  <dc:creator>Vohra</dc:creator>
  <dc:description/>
  <dc:language>en-US</dc:language>
  <cp:lastModifiedBy>user</cp:lastModifiedBy>
  <dcterms:modified xsi:type="dcterms:W3CDTF">2015-11-27T09:39:54Z</dcterms:modified>
  <cp:revision>147</cp:revision>
  <dc:subject/>
  <dc:title>Thoracolumbar Spine</dc:title>
</cp:coreProperties>
</file>