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8.jpeg" ContentType="image/jpeg"/>
  <Override PartName="/ppt/media/image18.png" ContentType="image/png"/>
  <Override PartName="/ppt/media/image15.png" ContentType="image/png"/>
  <Override PartName="/ppt/media/image24.jpeg" ContentType="image/jpeg"/>
  <Override PartName="/ppt/media/image14.png" ContentType="image/png"/>
  <Override PartName="/ppt/media/image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51C7-94C1-4389-85E6-699E5798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3D00-C1E4-47F3-81D5-588138C1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C7E7-AE62-4681-93AD-1F2CF5801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7863-0E10-452F-B904-C9E30A54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3C5F-B91F-42B3-890E-779A8E44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BCDB-FA0A-4C5F-B8FA-C148AD62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D434-A391-4665-8602-C3C04DB3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C85-73DA-4025-95E1-CF4D51CF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77B1-5B8A-41A0-B637-ECA2B18E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B770-9467-46AC-8F35-CCDD66B3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B53C-1602-45AF-9CD8-A68D0208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A683-C9EA-4EBE-85B2-F363C999C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AE2DB-DDE4-432A-94AE-6EB6BE3C11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r. Vohra &amp; Dr. S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FB4C-B13A-46A8-990B-2F73FA427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google.com.sa/url?sa=i&amp;rct=j&amp;q=&amp;esrc=s&amp;source=images&amp;cd=&amp;cad=rja&amp;uact=8&amp;ved=0CAcQjRw&amp;url=http://www.srs.org/patient_and_family/&amp;ei=2EN_VM3tCY_haricgGA&amp;psig=AFQjCNFXOj6S_9SI9tcKGD47YfA0lhX19A&amp;ust=1417712757284823" TargetMode="External"/><Relationship Id="rId3" Type="http://schemas.openxmlformats.org/officeDocument/2006/relationships/image" Target="../media/image16.jpeg"/><Relationship Id="rId4" Type="http://schemas.openxmlformats.org/officeDocument/2006/relationships/hyperlink" Target="http://www.google.com.sa/url?sa=i&amp;rct=j&amp;q=&amp;esrc=s&amp;source=images&amp;cd=&amp;cad=rja&amp;uact=8&amp;ved=0CAcQjRw&amp;url=http://orthoinfo.aaos.org/topic.cfm?topic=a00053&amp;ei=X0R_VMTAMcboaJ_JgeAE&amp;psig=AFQjCNFXOj6S_9SI9tcKGD47YfA0lhX19A&amp;ust=1417712757284823" TargetMode="External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frm=1&amp;source=images&amp;cd=&amp;cad=rja&amp;docid=MZjuqwWVvD1nmM&amp;tbnid=EzZRqtjyC5CQ_M:&amp;ved=0CAUQjRw&amp;url=http://www.hbf.com.au/health-insurance/media-releases/back-pain-pregnancy.html&amp;ei=yH6TUrGSEI2Y1AWpxIDgBA&amp;psig=AFQjCNGyLd645UU5yh1UNZ_tdm2yEOc6Lw&amp;ust=1385484072338208" TargetMode="External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hyperlink" Target="http://www.google.com.sa/url?sa=i&amp;rct=j&amp;q=&amp;esrc=s&amp;frm=1&amp;source=images&amp;cd=&amp;cad=rja&amp;docid=SA0dRvrbOb6XLM&amp;tbnid=q2w4oSBh2nFo3M:&amp;ved=0CAUQjRw&amp;url=http://www.spineuniverse.com/conditions/scoliosis/scoliosis-adults&amp;ei=Y4OTUsOkGqep0AXtpIGgBA&amp;psig=AFQjCNGyLd645UU5yh1UNZ_tdm2yEOc6Lw&amp;ust=1385484072338208" TargetMode="External"/><Relationship Id="rId5" Type="http://schemas.openxmlformats.org/officeDocument/2006/relationships/image" Target="../media/image22.jpeg"/><Relationship Id="rId6" Type="http://schemas.openxmlformats.org/officeDocument/2006/relationships/hyperlink" Target="http://www.google.com.sa/url?sa=i&amp;rct=j&amp;q=&amp;esrc=s&amp;source=images&amp;cd=&amp;cad=rja&amp;uact=8&amp;ved=0CAcQjRw&amp;url=http://biology-forums.com/index.php?action=gallery;sa=view;id=19037&amp;ei=noSAVKORIszzas2vgIAD&amp;psig=AFQjCNHck3qye7yHtrHcLNDFuuEGkPCapw&amp;ust=1417795079018542" TargetMode="External"/><Relationship Id="rId7" Type="http://schemas.openxmlformats.org/officeDocument/2006/relationships/image" Target="../media/image23.jpeg"/><Relationship Id="rId8" Type="http://schemas.openxmlformats.org/officeDocument/2006/relationships/hyperlink" Target="http://www.google.com.sa/url?sa=i&amp;rct=j&amp;q=&amp;esrc=s&amp;source=images&amp;cd=&amp;cad=rja&amp;uact=8&amp;ved=0CAcQjRw&amp;url=http%3A%2F%2Fhealthool.com%2Fkyphosis%2F&amp;ei=AJGEVLzTOMP_UoDdgvgG&amp;psig=AFQjCNECIiZ3GZto5RqNT3vD1cSitvH1Zw&amp;ust=1418060397841353" TargetMode="External"/><Relationship Id="rId9" Type="http://schemas.openxmlformats.org/officeDocument/2006/relationships/image" Target="../media/image24.jpeg"/><Relationship Id="rId10" Type="http://schemas.openxmlformats.org/officeDocument/2006/relationships/hyperlink" Target="http://www.google.com.sa/url?sa=i&amp;rct=j&amp;q=&amp;esrc=s&amp;source=images&amp;cd=&amp;cad=rja&amp;uact=8&amp;ved=0CAcQjRw&amp;url=http%3A%2F%2Fwww.balanceorlando.com%2Fwe-specialize-in-resolving-chronic-pain%2Fsymptomsandsyndromes%2Flordosis%2F%3FPHPSESSID%3D35fdbe5d3a77bc7b38a6d5f38a0c8897&amp;ei=w5GEVK-nGsX_ULqihNAP&amp;psig=AFQjCNGGK1WC7cQl7TqqEw61HlGsHzQ1zQ&amp;ust=1418060577756896" TargetMode="External"/><Relationship Id="rId11" Type="http://schemas.openxmlformats.org/officeDocument/2006/relationships/image" Target="../media/image25.jpe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CAcQjRw&amp;url=http://searchpp.com/typical-vertebra/&amp;ei=Kf5_VKaJA4n0PPOXgagB&amp;psig=AFQjCNHs2NM5UGMUAeDaSOyoZPT9fBu6yg&amp;ust=1417760473772353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source=images&amp;cd=&amp;cad=rja&amp;uact=8&amp;ved=0CAcQjRw&amp;url=http://medicalfreakz.blogspot.com/2014/07/osteology-of-vertebrae.html&amp;ei=n_x_VJaOIIPrOLz8gegF&amp;psig=AFQjCNGjx5bVPrOl-dYZRGZGuvJwHMo2jQ&amp;ust=1417760140030345" TargetMode="External"/><Relationship Id="rId2" Type="http://schemas.openxmlformats.org/officeDocument/2006/relationships/hyperlink" Target="http://www.google.com.sa/url?sa=i&amp;rct=j&amp;q=&amp;esrc=s&amp;source=images&amp;cd=&amp;cad=rja&amp;uact=8&amp;ved=0CAcQjRw&amp;url=http://medicalfreakz.blogspot.com/2014/07/osteology-of-vertebrae.html&amp;ei=n_x_VJaOIIPrOLz8gegF&amp;psig=AFQjCNGjx5bVPrOl-dYZRGZGuvJwHMo2jQ&amp;ust=1417760140030345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google.com.sa/url?sa=i&amp;rct=j&amp;q=&amp;esrc=s&amp;source=images&amp;cd=&amp;cad=rja&amp;uact=8&amp;ved=0CAcQjRw&amp;url=https://whatmissinglink.wordpress.com/2014/03/28/upright-walking-a-long-standing-debate-pt-iv/&amp;ei=YuR9VIvEII7raOzTgaAO&amp;psig=AFQjCNGFgKXkVI2CGtM9QeRNOPql0I3uqQ&amp;ust=1417623002976998" TargetMode="External"/><Relationship Id="rId2" Type="http://schemas.openxmlformats.org/officeDocument/2006/relationships/hyperlink" Target="https://www.google.com.sa/url?sa=i&amp;rct=j&amp;q=&amp;esrc=s&amp;source=images&amp;cd=&amp;cad=rja&amp;uact=8&amp;ved=0CAcQjRw&amp;url=https://whatmissinglink.wordpress.com/2014/03/28/upright-walking-a-long-standing-debate-pt-iv/&amp;ei=YuR9VIvEII7raOzTgaAO&amp;psig=AFQjCNGFgKXkVI2CGtM9QeRNOPql0I3uqQ&amp;ust=1417623002976998" TargetMode="External"/><Relationship Id="rId3" Type="http://schemas.openxmlformats.org/officeDocument/2006/relationships/hyperlink" Target="https://www.google.com.sa/url?sa=i&amp;rct=j&amp;q=&amp;esrc=s&amp;source=images&amp;cd=&amp;cad=rja&amp;uact=8&amp;ved=0CAcQjRw&amp;url=https://whatmissinglink.wordpress.com/2014/03/28/upright-walking-a-long-standing-debate-pt-iv/&amp;ei=YuR9VIvEII7raOzTgaAO&amp;psig=AFQjCNGFgKXkVI2CGtM9QeRNOPql0I3uqQ&amp;ust=1417623002976998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google.com.sa/url?sa=i&amp;rct=j&amp;q=&amp;esrc=s&amp;source=images&amp;cd=&amp;cad=rja&amp;uact=8&amp;ved=0CAcQjRw&amp;url=https://whatmissinglink.wordpress.com/2014/03/28/upright-walking-a-long-standing-debate-pt-iv/&amp;ei=l-R9VOvqLM3yaofVgMAD&amp;psig=AFQjCNGFgKXkVI2CGtM9QeRNOPql0I3uqQ&amp;ust=1417623002976998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HP\My Documents\My Pictures\untitled.bmp"/>
          <p:cNvPicPr/>
          <p:nvPr/>
        </p:nvPicPr>
        <p:blipFill>
          <a:blip r:embed="rId1"/>
          <a:stretch/>
        </p:blipFill>
        <p:spPr>
          <a:xfrm>
            <a:off x="590400" y="1736640"/>
            <a:ext cx="794412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42560" y="914040"/>
            <a:ext cx="5419800" cy="5638680"/>
          </a:xfrm>
          <a:prstGeom prst="rect">
            <a:avLst/>
          </a:prstGeom>
          <a:solidFill>
            <a:srgbClr val="ebf1de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 intervertebral discs are responsible for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one fourth of the length of the vertebral colum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ey are </a:t>
            </a:r>
            <a:r>
              <a:rPr b="1" lang="en-US" sz="2300" spc="-1" strike="noStrike">
                <a:solidFill>
                  <a:srgbClr val="c00000"/>
                </a:solidFill>
                <a:latin typeface="Calibri"/>
              </a:rPr>
              <a:t>thickest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in the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cervical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lumbar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regions, where the movements of the vertebral column are greatest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00000"/>
                </a:solidFill>
                <a:latin typeface="Calibri"/>
              </a:rPr>
              <a:t>Each disc consists of a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eripheral part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nulus fibros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omposed of fibrocartilag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Central part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nucleus pulpos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 mass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latinous materia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ing 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rge amount of water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mall number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llagen fib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a few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rtilage cell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53735"/>
                </a:solidFill>
                <a:latin typeface="Calibri"/>
              </a:rPr>
              <a:t>No discs </a:t>
            </a:r>
            <a:r>
              <a:rPr b="0" lang="en-US" sz="2300" spc="-1" strike="noStrike">
                <a:solidFill>
                  <a:srgbClr val="953735"/>
                </a:solidFill>
                <a:latin typeface="Calibri"/>
              </a:rPr>
              <a:t>are found between the first &amp; second cervical vertebrae or in the sacrum or coccyx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Users\user\Pictures\C12FF5.png"/>
          <p:cNvPicPr/>
          <p:nvPr/>
        </p:nvPicPr>
        <p:blipFill>
          <a:blip r:embed="rId1"/>
          <a:srcRect l="56662" t="12279" r="0" b="50197"/>
          <a:stretch/>
        </p:blipFill>
        <p:spPr>
          <a:xfrm>
            <a:off x="5638680" y="914400"/>
            <a:ext cx="3214800" cy="2743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02" name="Picture 2" descr="C:\Users\user\Pictures\C12FF5.png"/>
          <p:cNvPicPr/>
          <p:nvPr/>
        </p:nvPicPr>
        <p:blipFill>
          <a:blip r:embed="rId2"/>
          <a:srcRect l="49058" t="54892" r="0" b="3462"/>
          <a:stretch/>
        </p:blipFill>
        <p:spPr>
          <a:xfrm>
            <a:off x="5638680" y="3886200"/>
            <a:ext cx="3311640" cy="2666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3" name="Rectangle 6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solidFill>
            <a:srgbClr val="ffc000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TERVERTEBRAL   DIS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80880" y="1066680"/>
            <a:ext cx="8382240" cy="1905120"/>
          </a:xfrm>
          <a:prstGeom prst="rect">
            <a:avLst/>
          </a:prstGeom>
          <a:solidFill>
            <a:srgbClr val="fdeada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llow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vertebra to rock forward or backward on another, as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exion and extension of the vertebral colum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rve as shock absorber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he load on the vertebral column is suddenly increased, a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n one is jumping from a heig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Content Placeholder 4"/>
          <p:cNvSpPr/>
          <p:nvPr/>
        </p:nvSpPr>
        <p:spPr>
          <a:xfrm>
            <a:off x="380880" y="3429000"/>
            <a:ext cx="4648320" cy="2743200"/>
          </a:xfrm>
          <a:prstGeom prst="rect">
            <a:avLst/>
          </a:prstGeom>
          <a:solidFill>
            <a:srgbClr val="fdeada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times,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nulus fibrosu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uptures,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allowing the nucleus pulposus to herniate and protrude into the vertebral can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here it may press on the spinal nerve roots, the spinal nerve, or even the spinal cor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http://www.dartmouth.edu/sport-trial/graphics/IDH_ADAM.gif"/>
          <p:cNvPicPr/>
          <p:nvPr/>
        </p:nvPicPr>
        <p:blipFill>
          <a:blip r:embed="rId1"/>
          <a:stretch/>
        </p:blipFill>
        <p:spPr>
          <a:xfrm>
            <a:off x="5181480" y="3124080"/>
            <a:ext cx="3610080" cy="3124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7" name="TextBox 5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solidFill>
            <a:srgbClr val="ffc000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UNCTION OF THE INTERVERTEBRAL DIS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28400" y="1600200"/>
            <a:ext cx="3609720" cy="3200400"/>
          </a:xfrm>
          <a:prstGeom prst="rect">
            <a:avLst/>
          </a:prstGeom>
          <a:solidFill>
            <a:srgbClr val="fdeada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nsist of</a:t>
            </a:r>
            <a:r>
              <a:rPr b="1" lang="en-US" sz="3000" spc="-1" strike="noStrike">
                <a:solidFill>
                  <a:srgbClr val="0000ff"/>
                </a:solidFill>
                <a:latin typeface="Calibri"/>
              </a:rPr>
              <a:t> synovial joint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tween th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uperior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nferior articular processe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jacent vertebra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" descr="C:\Users\user\Pictures\rrrr.png"/>
          <p:cNvPicPr/>
          <p:nvPr/>
        </p:nvPicPr>
        <p:blipFill>
          <a:blip r:embed="rId1"/>
          <a:stretch/>
        </p:blipFill>
        <p:spPr>
          <a:xfrm>
            <a:off x="4419720" y="1219320"/>
            <a:ext cx="3340080" cy="4525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110" name="Straight Arrow Connector 9"/>
          <p:cNvCxnSpPr/>
          <p:nvPr/>
        </p:nvCxnSpPr>
        <p:spPr>
          <a:xfrm flipV="1">
            <a:off x="4038120" y="2209320"/>
            <a:ext cx="1600920" cy="53424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11" name="Straight Arrow Connector 10"/>
          <p:cNvCxnSpPr/>
          <p:nvPr/>
        </p:nvCxnSpPr>
        <p:spPr>
          <a:xfrm>
            <a:off x="4038480" y="2743200"/>
            <a:ext cx="1905840" cy="17532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12" name="TextBox 6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solidFill>
            <a:srgbClr val="ffc000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JOINTS BETWEEN TWO VERTEBRAL AR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28240" y="990720"/>
            <a:ext cx="4343400" cy="4419360"/>
          </a:xfrm>
          <a:prstGeom prst="rect">
            <a:avLst/>
          </a:prstGeom>
          <a:solidFill>
            <a:srgbClr val="fdeada"/>
          </a:solidFill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The anterior and posterior longitudinal ligament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n as continuous bands down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teri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sterior surfac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vertebral colum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rom the skull to the sacr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anterior longitudinal ligamen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d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i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rongl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ttached to the front and sides of the vertebral bodies and to the intervertebral disc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2000" spc="-1" strike="noStrike">
                <a:solidFill>
                  <a:srgbClr val="c00000"/>
                </a:solidFill>
                <a:latin typeface="Calibri"/>
              </a:rPr>
              <a:t>posterior longitudinal ligamen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ea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arrow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is attached to the posterior borders of the disc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user\Pictures\C12FF5.png"/>
          <p:cNvPicPr/>
          <p:nvPr/>
        </p:nvPicPr>
        <p:blipFill>
          <a:blip r:embed="rId1"/>
          <a:srcRect l="49058" t="52498" r="0" b="3467"/>
          <a:stretch/>
        </p:blipFill>
        <p:spPr>
          <a:xfrm>
            <a:off x="4648320" y="990720"/>
            <a:ext cx="4319640" cy="4419360"/>
          </a:xfrm>
          <a:prstGeom prst="rect">
            <a:avLst/>
          </a:prstGeom>
          <a:ln w="9360">
            <a:solidFill>
              <a:srgbClr val="c0504d"/>
            </a:solidFill>
            <a:miter/>
          </a:ln>
        </p:spPr>
      </p:pic>
      <p:sp>
        <p:nvSpPr>
          <p:cNvPr id="115" name="Rounded Rectangle 5"/>
          <p:cNvSpPr/>
          <p:nvPr/>
        </p:nvSpPr>
        <p:spPr>
          <a:xfrm>
            <a:off x="7848720" y="3200400"/>
            <a:ext cx="914400" cy="609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ounded Rectangle 6"/>
          <p:cNvSpPr/>
          <p:nvPr/>
        </p:nvSpPr>
        <p:spPr>
          <a:xfrm>
            <a:off x="7543800" y="1600200"/>
            <a:ext cx="1447920" cy="380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solidFill>
            <a:srgbClr val="ffff00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LIGA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304920" y="5638680"/>
            <a:ext cx="8686800" cy="70380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ligamen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ld the vertebrae firmly togeth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at the same time permit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amount of move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ake place between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6400800" cy="3355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0" name="TextBox 17"/>
          <p:cNvSpPr/>
          <p:nvPr/>
        </p:nvSpPr>
        <p:spPr>
          <a:xfrm>
            <a:off x="0" y="285840"/>
            <a:ext cx="9144000" cy="825120"/>
          </a:xfrm>
          <a:prstGeom prst="rect">
            <a:avLst/>
          </a:prstGeom>
          <a:solidFill>
            <a:srgbClr val="ffff00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LIGA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52280" y="4648320"/>
            <a:ext cx="2286000" cy="1313640"/>
          </a:xfrm>
          <a:prstGeom prst="rect">
            <a:avLst/>
          </a:prstGeom>
          <a:solidFill>
            <a:srgbClr val="dbeef4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Supraspinous ligament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between the tips of adjacent sp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4267080" y="4800600"/>
            <a:ext cx="2819520" cy="1313640"/>
          </a:xfrm>
          <a:prstGeom prst="rect">
            <a:avLst/>
          </a:prstGeom>
          <a:solidFill>
            <a:srgbClr val="dbeef4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Intertransverse ligament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between adjacent transvers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152280" y="1523880"/>
            <a:ext cx="2286000" cy="1618560"/>
          </a:xfrm>
          <a:prstGeom prst="rect">
            <a:avLst/>
          </a:prstGeom>
          <a:solidFill>
            <a:srgbClr val="dbeef4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Ligamentum flavum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s the laminae of adjacent vertebr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152280" y="3048120"/>
            <a:ext cx="2286000" cy="1313640"/>
          </a:xfrm>
          <a:prstGeom prst="rect">
            <a:avLst/>
          </a:prstGeom>
          <a:solidFill>
            <a:srgbClr val="dbeef4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Interspinous ligament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s adjacent sp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Straight Arrow Connector 19"/>
          <p:cNvCxnSpPr/>
          <p:nvPr/>
        </p:nvCxnSpPr>
        <p:spPr>
          <a:xfrm>
            <a:off x="2971800" y="2438280"/>
            <a:ext cx="1448640" cy="1548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26" name="Straight Arrow Connector 20"/>
          <p:cNvCxnSpPr/>
          <p:nvPr/>
        </p:nvCxnSpPr>
        <p:spPr>
          <a:xfrm flipV="1">
            <a:off x="6248520" y="2895120"/>
            <a:ext cx="381600" cy="190584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27" name="Straight Arrow Connector 21"/>
          <p:cNvCxnSpPr/>
          <p:nvPr/>
        </p:nvCxnSpPr>
        <p:spPr>
          <a:xfrm flipV="1">
            <a:off x="2895120" y="3276360"/>
            <a:ext cx="1296360" cy="3816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28" name="Straight Arrow Connector 26"/>
          <p:cNvCxnSpPr/>
          <p:nvPr/>
        </p:nvCxnSpPr>
        <p:spPr>
          <a:xfrm flipV="1">
            <a:off x="2437920" y="4419000"/>
            <a:ext cx="1296360" cy="6102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29" name="Straight Arrow Connector 40"/>
          <p:cNvCxnSpPr>
            <a:stCxn id="124" idx="3"/>
          </p:cNvCxnSpPr>
          <p:nvPr/>
        </p:nvCxnSpPr>
        <p:spPr>
          <a:xfrm flipV="1">
            <a:off x="2437920" y="3581280"/>
            <a:ext cx="1753560" cy="12924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30" name="Straight Arrow Connector 41"/>
          <p:cNvCxnSpPr/>
          <p:nvPr/>
        </p:nvCxnSpPr>
        <p:spPr>
          <a:xfrm>
            <a:off x="2438280" y="2285640"/>
            <a:ext cx="1982160" cy="6102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1142640"/>
            <a:ext cx="8229600" cy="4876920"/>
          </a:xfrm>
          <a:prstGeom prst="rect">
            <a:avLst/>
          </a:prstGeom>
          <a:solidFill>
            <a:srgbClr val="e6e0ec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movements are possible on the spine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lex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tens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teral flexion, rotation, and circumduc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type and range of movement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sible in each regio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ertebral colum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rgel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pend 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ckness of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vertebral discs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h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pe and direction of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ticular process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thoracic reg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ib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stal cartilag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and th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ternum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rel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trict the range of mov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Flexion, extension and lateral flex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extensiv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in the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umbar reg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u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tricted in the thoracic reg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Rotation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east extensiv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umbar reg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3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solidFill>
            <a:srgbClr val="fc04bb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VEMENTS OF THE THORACOLUMBAR SP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563400"/>
          </a:xfrm>
          <a:prstGeom prst="rect">
            <a:avLst/>
          </a:prstGeom>
          <a:solidFill>
            <a:srgbClr val="fc04bb"/>
          </a:solidFill>
          <a:ln w="25560">
            <a:solidFill>
              <a:srgbClr val="71893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USCLES PRODUCING MOV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6840" y="990720"/>
            <a:ext cx="8472600" cy="1295280"/>
          </a:xfrm>
          <a:prstGeom prst="rect">
            <a:avLst/>
          </a:prstGeom>
          <a:solidFill>
            <a:srgbClr val="dbeef4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thoracic reg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t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produced b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mispinali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tator muscl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ssisted b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blique muscl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terolateral abdominal wa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Content Placeholder 2"/>
          <p:cNvSpPr/>
          <p:nvPr/>
        </p:nvSpPr>
        <p:spPr>
          <a:xfrm>
            <a:off x="152280" y="2362320"/>
            <a:ext cx="8839440" cy="4267080"/>
          </a:xfrm>
          <a:prstGeom prst="rect">
            <a:avLst/>
          </a:prstGeom>
          <a:solidFill>
            <a:srgbClr val="fdeada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the 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Calibri"/>
              </a:rPr>
              <a:t>lumbar region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Flexion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produced by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ectus abdomini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soas musc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Extension</a:t>
            </a:r>
            <a:r>
              <a:rPr b="0" lang="en-US" sz="26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produced by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ostvertebral musc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Lateral flexion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produced by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ostvertebral muscl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quadratus lumboru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nd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oblique muscle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nterolateral abdominal wall.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soa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y also play a part in this movemen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Rotation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 produced by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otator muscle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oblique muscle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nterolateral abdominal wa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42560" y="2071440"/>
            <a:ext cx="5800680" cy="4786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large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all movable vertebra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distinguished by it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ssive bod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ck transverse process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carries the weigh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the whole upper body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L5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od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largely responsible for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lumbosacral ang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tween the long axis of the lumbar region of the vertebral column and that of the sacr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dy weigh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mit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r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L5 verteb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e base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cr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ormed by the superior surface of S1 verteb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ifth lumbar verteb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by far the most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common sit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Arial"/>
              </a:rPr>
              <a:t>spondylolysis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fect in the pars interarticularis of the vertebral arch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Spondylolisthesis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he forward displacement of a vertebra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6000840" y="0"/>
            <a:ext cx="2928960" cy="642600"/>
          </a:xfrm>
          <a:prstGeom prst="rect">
            <a:avLst/>
          </a:prstGeom>
          <a:solidFill>
            <a:srgbClr val="c3d69b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tebra L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C:\Documents and Settings\Free User\My Documents\My Pictures\174px-Gray_111_-_Vertebral_column-coloured.png"/>
          <p:cNvPicPr/>
          <p:nvPr/>
        </p:nvPicPr>
        <p:blipFill>
          <a:blip r:embed="rId1"/>
          <a:stretch/>
        </p:blipFill>
        <p:spPr>
          <a:xfrm>
            <a:off x="6143760" y="3429000"/>
            <a:ext cx="928440" cy="31431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39" name="Picture 7" descr="https://encrypted-tbn0.gstatic.com/images?q=tbn:ANd9GcQ4F-mvHaHnazdvdPv0K2sYlblvSKGboaXRacFxAe-gU5Aroim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43840" y="3929040"/>
            <a:ext cx="1809720" cy="20001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40" name="Picture 13" descr="https://encrypted-tbn3.gstatic.com/images?q=tbn:ANd9GcT5oAXtnZ5awnyPJQLh1LGrtQ1K_6VGBHvDk_PLaB7E-AWoINxwVA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1680" y="0"/>
            <a:ext cx="5286240" cy="20001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41" name="Picture 2" descr="File:Gray94.png"/>
          <p:cNvPicPr/>
          <p:nvPr/>
        </p:nvPicPr>
        <p:blipFill>
          <a:blip r:embed="rId6"/>
          <a:stretch/>
        </p:blipFill>
        <p:spPr>
          <a:xfrm>
            <a:off x="6072120" y="785880"/>
            <a:ext cx="2800440" cy="2523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42" name="Picture 2" descr="Spondylolysis"/>
          <p:cNvPicPr/>
          <p:nvPr/>
        </p:nvPicPr>
        <p:blipFill>
          <a:blip r:embed="rId7"/>
          <a:srcRect l="0" t="50498" r="40189" b="3465"/>
          <a:stretch/>
        </p:blipFill>
        <p:spPr>
          <a:xfrm>
            <a:off x="6000840" y="785880"/>
            <a:ext cx="3143160" cy="25002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http://www.hbf.com.au/Images/spine-curves-tes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380880"/>
            <a:ext cx="2086200" cy="28576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44" name="Picture 8" descr="C:\Users\Zeenat\Pictures\sacx.jpg"/>
          <p:cNvPicPr/>
          <p:nvPr/>
        </p:nvPicPr>
        <p:blipFill>
          <a:blip r:embed="rId3"/>
          <a:stretch/>
        </p:blipFill>
        <p:spPr>
          <a:xfrm>
            <a:off x="6324480" y="3657600"/>
            <a:ext cx="2271960" cy="2832120"/>
          </a:xfrm>
          <a:prstGeom prst="rect">
            <a:avLst/>
          </a:prstGeom>
          <a:ln w="0">
            <a:noFill/>
          </a:ln>
        </p:spPr>
      </p:pic>
      <p:sp>
        <p:nvSpPr>
          <p:cNvPr id="145" name="Content Placeholder 4"/>
          <p:cNvSpPr/>
          <p:nvPr/>
        </p:nvSpPr>
        <p:spPr>
          <a:xfrm>
            <a:off x="685800" y="533520"/>
            <a:ext cx="5029200" cy="1676160"/>
          </a:xfrm>
          <a:prstGeom prst="rect">
            <a:avLst/>
          </a:prstGeom>
          <a:solidFill>
            <a:srgbClr val="fdeada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ormal Curvatures in S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mary (Thoracic &amp; Pelvi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ary (Cervical &amp; Lumb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http://www.spineuniverse.com/sites/default/files/legacy-images/scoliosis_curve-BB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29200" y="3581280"/>
            <a:ext cx="1133640" cy="1791000"/>
          </a:xfrm>
          <a:prstGeom prst="rect">
            <a:avLst/>
          </a:prstGeom>
          <a:ln w="0">
            <a:noFill/>
          </a:ln>
        </p:spPr>
      </p:pic>
      <p:sp>
        <p:nvSpPr>
          <p:cNvPr id="147" name="Content Placeholder 5"/>
          <p:cNvSpPr/>
          <p:nvPr/>
        </p:nvSpPr>
        <p:spPr>
          <a:xfrm>
            <a:off x="500040" y="2332080"/>
            <a:ext cx="3767040" cy="4168800"/>
          </a:xfrm>
          <a:prstGeom prst="rect">
            <a:avLst/>
          </a:prstGeom>
          <a:solidFill>
            <a:srgbClr val="dbeef4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bnormal Curvatures of spin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ggerate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orac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urvatures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(Kyph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ggerate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umbar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vature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(Lord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eral curvature of spine.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(Scoli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5186880" y="5181480"/>
            <a:ext cx="80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colio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https://encrypted-tbn2.gstatic.com/images?q=tbn:ANd9GcSFMXf_j6tDCOCVsVE47pIrbZo-8yTACtUSa3LuIr7mF8fHKhKS">
            <a:hlinkClick r:id="rId6"/>
          </p:cNvPr>
          <p:cNvPicPr/>
          <p:nvPr/>
        </p:nvPicPr>
        <p:blipFill>
          <a:blip r:embed="rId7"/>
          <a:srcRect l="0" t="0" r="0" b="10201"/>
          <a:stretch/>
        </p:blipFill>
        <p:spPr>
          <a:xfrm>
            <a:off x="4786200" y="3357720"/>
            <a:ext cx="3743280" cy="31431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150" name="Picture 10" descr="https://encrypted-tbn3.gstatic.com/images?q=tbn:ANd9GcQQ7rpOJuZduoTk0kLy1asPt51yDxMndQ0jDHDnDi7KPVSksmL3ZA">
            <a:hlinkClick r:id="rId8"/>
          </p:cNvPr>
          <p:cNvPicPr/>
          <p:nvPr/>
        </p:nvPicPr>
        <p:blipFill>
          <a:blip r:embed="rId9"/>
          <a:srcRect l="0" t="3761" r="0" b="3891"/>
          <a:stretch/>
        </p:blipFill>
        <p:spPr>
          <a:xfrm>
            <a:off x="4500720" y="3357720"/>
            <a:ext cx="4219560" cy="328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1" name="Picture 12" descr="https://encrypted-tbn2.gstatic.com/images?q=tbn:ANd9GcQ3ATloAaGBM1tVWW_scnvF7m93z9TtQ7xh5Hfb5PZp3rJP9YWRTA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929200" y="357120"/>
            <a:ext cx="2095560" cy="286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Title 1"/>
          <p:cNvGrpSpPr/>
          <p:nvPr/>
        </p:nvGrpSpPr>
        <p:grpSpPr>
          <a:xfrm>
            <a:off x="-60480" y="2773440"/>
            <a:ext cx="9259920" cy="1298520"/>
            <a:chOff x="-60480" y="2773440"/>
            <a:chExt cx="9259920" cy="1298520"/>
          </a:xfrm>
        </p:grpSpPr>
        <p:pic>
          <p:nvPicPr>
            <p:cNvPr id="153" name="Title 1" descr=""/>
            <p:cNvPicPr/>
            <p:nvPr/>
          </p:nvPicPr>
          <p:blipFill>
            <a:blip r:embed="rId1"/>
            <a:stretch/>
          </p:blipFill>
          <p:spPr>
            <a:xfrm>
              <a:off x="-60480" y="2773440"/>
              <a:ext cx="9259920" cy="12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0" y="285768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Broadway"/>
                </a:rPr>
                <a:t>Thank You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Title 1"/>
          <p:cNvGrpSpPr/>
          <p:nvPr/>
        </p:nvGrpSpPr>
        <p:grpSpPr>
          <a:xfrm>
            <a:off x="-60480" y="1852560"/>
            <a:ext cx="9259920" cy="1596960"/>
            <a:chOff x="-60480" y="1852560"/>
            <a:chExt cx="9259920" cy="1596960"/>
          </a:xfrm>
        </p:grpSpPr>
        <p:pic>
          <p:nvPicPr>
            <p:cNvPr id="43" name="Title 1" descr=""/>
            <p:cNvPicPr/>
            <p:nvPr/>
          </p:nvPicPr>
          <p:blipFill>
            <a:blip r:embed="rId1"/>
            <a:stretch/>
          </p:blipFill>
          <p:spPr>
            <a:xfrm>
              <a:off x="-60480" y="1852560"/>
              <a:ext cx="925992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0" y="1905120"/>
              <a:ext cx="91440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ff"/>
                  </a:solidFill>
                  <a:latin typeface="Calibri"/>
                </a:rPr>
                <a:t>Thoracolumbar Spine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Subtitle 2"/>
          <p:cNvGrpSpPr/>
          <p:nvPr/>
        </p:nvGrpSpPr>
        <p:grpSpPr>
          <a:xfrm>
            <a:off x="-60480" y="4059360"/>
            <a:ext cx="9259920" cy="1347840"/>
            <a:chOff x="-60480" y="4059360"/>
            <a:chExt cx="9259920" cy="1347840"/>
          </a:xfrm>
        </p:grpSpPr>
        <p:pic>
          <p:nvPicPr>
            <p:cNvPr id="46" name="Subtitle 2" descr=""/>
            <p:cNvPicPr/>
            <p:nvPr/>
          </p:nvPicPr>
          <p:blipFill>
            <a:blip r:embed="rId2"/>
            <a:stretch/>
          </p:blipFill>
          <p:spPr>
            <a:xfrm>
              <a:off x="-60480" y="4059360"/>
              <a:ext cx="925992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0" y="4191120"/>
              <a:ext cx="91440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Calibri"/>
                </a:rPr>
                <a:t>By 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Calibri"/>
                </a:rPr>
                <a:t>Dr. Sanaa&amp;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Calibri"/>
                </a:rPr>
                <a:t>Dr.Vohr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428760" y="1714680"/>
            <a:ext cx="8143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one of the following contributes in lordosis of the spin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ggerated cervical curv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ggereated thoracic curv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ggerated lumbar curv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ral curv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eft Arrow 4"/>
          <p:cNvSpPr/>
          <p:nvPr/>
        </p:nvSpPr>
        <p:spPr>
          <a:xfrm>
            <a:off x="6572160" y="3929040"/>
            <a:ext cx="1357560" cy="1429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4"/>
          <p:cNvSpPr/>
          <p:nvPr/>
        </p:nvSpPr>
        <p:spPr>
          <a:xfrm>
            <a:off x="285840" y="1785960"/>
            <a:ext cx="86439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ich one of the following  ligaments connects the laminae of adjacent vertebra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raspin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spin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trans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amentum flav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eft Arrow 6"/>
          <p:cNvSpPr/>
          <p:nvPr/>
        </p:nvSpPr>
        <p:spPr>
          <a:xfrm>
            <a:off x="4714920" y="4500720"/>
            <a:ext cx="1643040" cy="142560"/>
          </a:xfrm>
          <a:prstGeom prst="leftArrow">
            <a:avLst>
              <a:gd name="adj1" fmla="val 50000"/>
              <a:gd name="adj2" fmla="val 501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3"/>
          <p:cNvSpPr/>
          <p:nvPr/>
        </p:nvSpPr>
        <p:spPr>
          <a:xfrm>
            <a:off x="357120" y="1571760"/>
            <a:ext cx="857268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Which one of the following muscles specifically contributes in lateral  flexion of lumbar spin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spinal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dratus lumbor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oas maj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us abdomin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eft Arrow 4"/>
          <p:cNvSpPr/>
          <p:nvPr/>
        </p:nvSpPr>
        <p:spPr>
          <a:xfrm>
            <a:off x="4786200" y="3357720"/>
            <a:ext cx="1285920" cy="71280"/>
          </a:xfrm>
          <a:prstGeom prst="leftArrow">
            <a:avLst>
              <a:gd name="adj1" fmla="val 50000"/>
              <a:gd name="adj2" fmla="val 501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https://encrypted-tbn3.gstatic.com/images?q=tbn:ANd9GcQDzizwwHeyiMqL7VySz1S9VofoVTvlhM4YDA2_1rpx1HSyha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71760" y="1357200"/>
            <a:ext cx="6072120" cy="42865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65" name="TextBox 2"/>
          <p:cNvSpPr/>
          <p:nvPr/>
        </p:nvSpPr>
        <p:spPr>
          <a:xfrm>
            <a:off x="2857680" y="71424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v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>
            <a:hlinkClick r:id="rId1"/>
          </p:cNvPr>
          <p:cNvSpPr/>
          <p:nvPr/>
        </p:nvSpPr>
        <p:spPr>
          <a:xfrm>
            <a:off x="54000" y="-1417680"/>
            <a:ext cx="3209760" cy="29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>
            <a:hlinkClick r:id="rId2"/>
          </p:cNvPr>
          <p:cNvSpPr/>
          <p:nvPr/>
        </p:nvSpPr>
        <p:spPr>
          <a:xfrm>
            <a:off x="54000" y="-1417680"/>
            <a:ext cx="3209760" cy="29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54000" y="-1417680"/>
            <a:ext cx="3209760" cy="29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https://encrypted-tbn2.gstatic.com/images?q=tbn:ANd9GcQIUQscvkXICZ1QbiJ5pU3dlIseWZS4hrmTt0M87VvSo-DsXRXE"/>
          <p:cNvPicPr/>
          <p:nvPr/>
        </p:nvPicPr>
        <p:blipFill>
          <a:blip r:embed="rId3"/>
          <a:srcRect l="0" t="0" r="0" b="5784"/>
          <a:stretch/>
        </p:blipFill>
        <p:spPr>
          <a:xfrm>
            <a:off x="1214280" y="928800"/>
            <a:ext cx="6357960" cy="421488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70" name="TextBox 5"/>
          <p:cNvSpPr/>
          <p:nvPr/>
        </p:nvSpPr>
        <p:spPr>
          <a:xfrm>
            <a:off x="3143160" y="35712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rac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Users\user\Desktop\sana.jpg"/>
          <p:cNvPicPr/>
          <p:nvPr/>
        </p:nvPicPr>
        <p:blipFill>
          <a:blip r:embed="rId1"/>
          <a:stretch/>
        </p:blipFill>
        <p:spPr>
          <a:xfrm>
            <a:off x="1214280" y="1214280"/>
            <a:ext cx="6286680" cy="450072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172" name="TextBox 2"/>
          <p:cNvSpPr/>
          <p:nvPr/>
        </p:nvSpPr>
        <p:spPr>
          <a:xfrm>
            <a:off x="3500280" y="64296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um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143000"/>
            <a:ext cx="8458200" cy="49291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7933c"/>
                </a:solidFill>
                <a:latin typeface="Calibri"/>
              </a:rPr>
              <a:t>At the end of the lecture, students should be able t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Distinguish the </a:t>
            </a:r>
            <a:r>
              <a:rPr b="1" i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thoracic and lumbar vertebrae 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from each other and from vertebrae of the cervical reg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Describe the </a:t>
            </a:r>
            <a:r>
              <a:rPr b="1" i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characteristic features 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of a thoracic and a lumbar verteb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Describe the </a:t>
            </a:r>
            <a:r>
              <a:rPr b="1" i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joints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 between the vertebral bodies and the vertebral arch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Compare the </a:t>
            </a:r>
            <a:r>
              <a:rPr b="1" i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movements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 occurring in thoracic and lumbar reg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List and identify the </a:t>
            </a:r>
            <a:r>
              <a:rPr b="1" i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ligaments</a:t>
            </a:r>
            <a:r>
              <a:rPr b="1" i="1" lang="en-US" sz="2800" spc="-1" strike="noStrike">
                <a:solidFill>
                  <a:srgbClr val="0070c0"/>
                </a:solidFill>
                <a:latin typeface="Calibri"/>
              </a:rPr>
              <a:t> of the intervertebral jo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7">
            <a:hlinkClick r:id="rId1"/>
          </p:cNvPr>
          <p:cNvSpPr/>
          <p:nvPr/>
        </p:nvSpPr>
        <p:spPr>
          <a:xfrm>
            <a:off x="54000" y="-1614600"/>
            <a:ext cx="7000920" cy="33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>
            <a:hlinkClick r:id="rId2"/>
          </p:cNvPr>
          <p:cNvSpPr/>
          <p:nvPr/>
        </p:nvSpPr>
        <p:spPr>
          <a:xfrm>
            <a:off x="54000" y="-1614600"/>
            <a:ext cx="7000920" cy="33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>
            <a:hlinkClick r:id="rId3"/>
          </p:cNvPr>
          <p:cNvSpPr/>
          <p:nvPr/>
        </p:nvSpPr>
        <p:spPr>
          <a:xfrm>
            <a:off x="54000" y="-1614600"/>
            <a:ext cx="7000920" cy="33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142920" y="714240"/>
            <a:ext cx="2786040" cy="3691440"/>
          </a:xfrm>
          <a:prstGeom prst="rect">
            <a:avLst/>
          </a:prstGeom>
          <a:solidFill>
            <a:srgbClr val="dbeef4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e curvatures in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thoraci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lumb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p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Curves of vertebral column can be divided into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Primary curves : 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racic &amp; pelv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econdary curves : 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vical &amp; lumb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3" descr="https://encrypted-tbn2.gstatic.com/images?q=tbn:ANd9GcQyJpIDKFKSTOSFyPLTvSjF7nIwN87NwCV8x4P66EawMpciJbdrL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7720" y="1143000"/>
            <a:ext cx="5500440" cy="337176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55" name="Picture 3" descr=""/>
          <p:cNvPicPr/>
          <p:nvPr/>
        </p:nvPicPr>
        <p:blipFill>
          <a:blip r:embed="rId3"/>
          <a:stretch/>
        </p:blipFill>
        <p:spPr>
          <a:xfrm>
            <a:off x="3143160" y="357120"/>
            <a:ext cx="5715000" cy="6072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0" y="383040"/>
            <a:ext cx="9144000" cy="703440"/>
          </a:xfrm>
          <a:prstGeom prst="rect">
            <a:avLst/>
          </a:prstGeom>
          <a:solidFill>
            <a:srgbClr val="fc04bb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Calibri"/>
                <a:ea typeface="Times New Roman"/>
              </a:rPr>
              <a:t>THORACIC VERTEBRA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4419720" y="3124080"/>
            <a:ext cx="4524120" cy="302904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sp>
        <p:nvSpPr>
          <p:cNvPr id="58" name="TextBox 5"/>
          <p:cNvSpPr/>
          <p:nvPr/>
        </p:nvSpPr>
        <p:spPr>
          <a:xfrm>
            <a:off x="457200" y="4143240"/>
            <a:ext cx="3614760" cy="22885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thoracic vertebrae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yp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av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bod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ertebral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r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ven proce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muscular and articular conn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C:\Documents and Settings\Free User\My Documents\My Pictures\Picture2.png"/>
          <p:cNvPicPr/>
          <p:nvPr/>
        </p:nvPicPr>
        <p:blipFill>
          <a:blip r:embed="rId2"/>
          <a:stretch/>
        </p:blipFill>
        <p:spPr>
          <a:xfrm>
            <a:off x="228600" y="1066680"/>
            <a:ext cx="4110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7" descr="C:\Documents and Settings\Free User\My Documents\My Pictures\Picture1.png"/>
          <p:cNvPicPr/>
          <p:nvPr/>
        </p:nvPicPr>
        <p:blipFill>
          <a:blip r:embed="rId1"/>
          <a:stretch/>
        </p:blipFill>
        <p:spPr>
          <a:xfrm>
            <a:off x="3657600" y="2514600"/>
            <a:ext cx="2720880" cy="19908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6477120" y="3886200"/>
            <a:ext cx="251460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medium size and heart sha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6705720" y="2438280"/>
            <a:ext cx="204300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tebral foram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mall and cir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5410080" y="1066680"/>
            <a:ext cx="259092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long and inclined downw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685800" y="3352680"/>
            <a:ext cx="2438280" cy="1465560"/>
          </a:xfrm>
          <a:prstGeom prst="rect">
            <a:avLst/>
          </a:prstGeom>
          <a:solidFill>
            <a:srgbClr val="dbeef4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al face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present on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des of the bodie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rticulation with th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hea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ri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380880" y="1143000"/>
            <a:ext cx="2895840" cy="2014200"/>
          </a:xfrm>
          <a:prstGeom prst="rect">
            <a:avLst/>
          </a:prstGeom>
          <a:solidFill>
            <a:srgbClr val="dbeef4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al face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presen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 th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transvers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rticulation with th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uberc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ribs (T11 and 12 have no facets on the transverse proces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214200" y="5105520"/>
            <a:ext cx="8715600" cy="1191240"/>
          </a:xfrm>
          <a:prstGeom prst="rect">
            <a:avLst/>
          </a:prstGeom>
          <a:solidFill>
            <a:srgbClr val="fdeada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superior articular proces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r facets that fa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era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ereas the facets on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ferior articular proces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lly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rior articular proces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th verteb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era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s do those of the lumbar vertebra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solidFill>
            <a:srgbClr val="fc04bb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ACTERISTICS OF  TYPICAL THORACIC VERTE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3"/>
          <p:cNvCxnSpPr/>
          <p:nvPr/>
        </p:nvCxnSpPr>
        <p:spPr>
          <a:xfrm>
            <a:off x="3276360" y="2971440"/>
            <a:ext cx="610200" cy="10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9" name="Straight Arrow Connector 15"/>
          <p:cNvCxnSpPr>
            <a:stCxn id="61" idx="1"/>
          </p:cNvCxnSpPr>
          <p:nvPr/>
        </p:nvCxnSpPr>
        <p:spPr>
          <a:xfrm flipH="1" flipV="1">
            <a:off x="5562360" y="3962160"/>
            <a:ext cx="915120" cy="2484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0" name="Straight Arrow Connector 12"/>
          <p:cNvCxnSpPr/>
          <p:nvPr/>
        </p:nvCxnSpPr>
        <p:spPr>
          <a:xfrm flipH="1">
            <a:off x="5028840" y="1752480"/>
            <a:ext cx="838800" cy="9151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1" name="Straight Arrow Connector 16"/>
          <p:cNvCxnSpPr>
            <a:stCxn id="64" idx="3"/>
          </p:cNvCxnSpPr>
          <p:nvPr/>
        </p:nvCxnSpPr>
        <p:spPr>
          <a:xfrm flipV="1">
            <a:off x="3124080" y="3733560"/>
            <a:ext cx="1372320" cy="35784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72" name="Straight Arrow Connector 14"/>
          <p:cNvCxnSpPr/>
          <p:nvPr/>
        </p:nvCxnSpPr>
        <p:spPr>
          <a:xfrm flipH="1">
            <a:off x="5104800" y="3124080"/>
            <a:ext cx="1600920" cy="3006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user\Pictures\fff.png"/>
          <p:cNvPicPr/>
          <p:nvPr/>
        </p:nvPicPr>
        <p:blipFill>
          <a:blip r:embed="rId1"/>
          <a:srcRect l="10137" t="9723" r="5556" b="8332"/>
          <a:stretch/>
        </p:blipFill>
        <p:spPr>
          <a:xfrm>
            <a:off x="2971800" y="2133720"/>
            <a:ext cx="3276720" cy="2612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solidFill>
            <a:srgbClr val="fc04bb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ARACTERISTICS OF TYPICAL LUMBAR VERTE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457200" y="4114800"/>
            <a:ext cx="228600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large and kidney shap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6629400" y="4191120"/>
            <a:ext cx="2286000" cy="916920"/>
          </a:xfrm>
          <a:prstGeom prst="rect">
            <a:avLst/>
          </a:prstGeom>
          <a:solidFill>
            <a:srgbClr val="dbeef4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dic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strong and directed backw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5743080" y="1523880"/>
            <a:ext cx="2478960" cy="368280"/>
          </a:xfrm>
          <a:prstGeom prst="rect">
            <a:avLst/>
          </a:prstGeom>
          <a:solidFill>
            <a:srgbClr val="dbeef4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mina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thi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457200" y="2895480"/>
            <a:ext cx="167652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tebral foramin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riang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6629400" y="2743200"/>
            <a:ext cx="2209680" cy="916920"/>
          </a:xfrm>
          <a:prstGeom prst="rect">
            <a:avLst/>
          </a:prstGeom>
          <a:solidFill>
            <a:srgbClr val="dbeef4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verse proces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long and slen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609480" y="1143000"/>
            <a:ext cx="434340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nous proces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short, flat, &amp; quadrangular and project backw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2"/>
          <p:cNvSpPr/>
          <p:nvPr/>
        </p:nvSpPr>
        <p:spPr>
          <a:xfrm>
            <a:off x="533520" y="5257800"/>
            <a:ext cx="8381880" cy="642600"/>
          </a:xfrm>
          <a:prstGeom prst="rect">
            <a:avLst/>
          </a:prstGeom>
          <a:solidFill>
            <a:srgbClr val="fcd5b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rticular surfaces of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uperior articular proces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ll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ose of th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ferior articular process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ter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traight Arrow Connector 13"/>
          <p:cNvCxnSpPr/>
          <p:nvPr/>
        </p:nvCxnSpPr>
        <p:spPr>
          <a:xfrm flipH="1">
            <a:off x="4800240" y="1828800"/>
            <a:ext cx="915120" cy="129600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3" name="Straight Arrow Connector 14"/>
          <p:cNvCxnSpPr>
            <a:stCxn id="75" idx="3"/>
          </p:cNvCxnSpPr>
          <p:nvPr/>
        </p:nvCxnSpPr>
        <p:spPr>
          <a:xfrm flipV="1">
            <a:off x="2743200" y="4114440"/>
            <a:ext cx="1372320" cy="3247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4" name="Straight Arrow Connector 15"/>
          <p:cNvCxnSpPr>
            <a:stCxn id="78" idx="3"/>
          </p:cNvCxnSpPr>
          <p:nvPr/>
        </p:nvCxnSpPr>
        <p:spPr>
          <a:xfrm>
            <a:off x="2133720" y="3357720"/>
            <a:ext cx="2210400" cy="1483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5" name="Straight Arrow Connector 16"/>
          <p:cNvCxnSpPr>
            <a:stCxn id="79" idx="1"/>
          </p:cNvCxnSpPr>
          <p:nvPr/>
        </p:nvCxnSpPr>
        <p:spPr>
          <a:xfrm flipH="1" flipV="1">
            <a:off x="6019200" y="3123720"/>
            <a:ext cx="610200" cy="8136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6" name="Straight Arrow Connector 17"/>
          <p:cNvCxnSpPr/>
          <p:nvPr/>
        </p:nvCxnSpPr>
        <p:spPr>
          <a:xfrm flipH="1" flipV="1">
            <a:off x="5181120" y="3504600"/>
            <a:ext cx="1448640" cy="9910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87" name="Straight Arrow Connector 23"/>
          <p:cNvCxnSpPr/>
          <p:nvPr/>
        </p:nvCxnSpPr>
        <p:spPr>
          <a:xfrm>
            <a:off x="4190040" y="1828800"/>
            <a:ext cx="229320" cy="53424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user\Pictures\C4-FF2.png"/>
          <p:cNvPicPr/>
          <p:nvPr/>
        </p:nvPicPr>
        <p:blipFill>
          <a:blip r:embed="rId1"/>
          <a:srcRect l="0" t="50203" r="48004" b="0"/>
          <a:stretch/>
        </p:blipFill>
        <p:spPr>
          <a:xfrm>
            <a:off x="533520" y="533520"/>
            <a:ext cx="3962160" cy="2570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9" name="Picture 2" descr="C:\Users\user\Pictures\C4-FF2.png"/>
          <p:cNvPicPr/>
          <p:nvPr/>
        </p:nvPicPr>
        <p:blipFill>
          <a:blip r:embed="rId2"/>
          <a:srcRect l="53766" t="3176" r="0" b="52375"/>
          <a:stretch/>
        </p:blipFill>
        <p:spPr>
          <a:xfrm>
            <a:off x="533520" y="3200400"/>
            <a:ext cx="3962160" cy="2971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4648320" y="3200400"/>
            <a:ext cx="3990960" cy="2971800"/>
          </a:xfrm>
          <a:prstGeom prst="rect">
            <a:avLst/>
          </a:prstGeom>
          <a:ln w="9360">
            <a:solidFill>
              <a:srgbClr val="4f81bd"/>
            </a:solidFill>
            <a:miter/>
          </a:ln>
        </p:spPr>
      </p:pic>
      <p:pic>
        <p:nvPicPr>
          <p:cNvPr id="91" name="Picture 8" descr="C:\Documents and Settings\Free User\My Documents\My Pictures\Picture2.png"/>
          <p:cNvPicPr/>
          <p:nvPr/>
        </p:nvPicPr>
        <p:blipFill>
          <a:blip r:embed="rId4"/>
          <a:stretch/>
        </p:blipFill>
        <p:spPr>
          <a:xfrm>
            <a:off x="4648320" y="533520"/>
            <a:ext cx="3985920" cy="2590560"/>
          </a:xfrm>
          <a:prstGeom prst="rect">
            <a:avLst/>
          </a:prstGeom>
          <a:ln w="0">
            <a:noFill/>
          </a:ln>
        </p:spPr>
      </p:pic>
      <p:sp>
        <p:nvSpPr>
          <p:cNvPr id="92" name="TextBox 7"/>
          <p:cNvSpPr/>
          <p:nvPr/>
        </p:nvSpPr>
        <p:spPr>
          <a:xfrm>
            <a:off x="571680" y="2928960"/>
            <a:ext cx="128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umbar verteb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ame 8"/>
          <p:cNvSpPr/>
          <p:nvPr/>
        </p:nvSpPr>
        <p:spPr>
          <a:xfrm>
            <a:off x="571680" y="2928960"/>
            <a:ext cx="1214280" cy="71280"/>
          </a:xfrm>
          <a:prstGeom prst="pie">
            <a:avLst/>
          </a:prstGeom>
          <a:solidFill>
            <a:srgbClr val="4f81b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571680" y="592920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umbar vertebra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4714920" y="2857680"/>
            <a:ext cx="128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oracic verteb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4714920" y="6000840"/>
            <a:ext cx="13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oracic verteb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6840" y="1295280"/>
            <a:ext cx="4267080" cy="518184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t is a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artilagenou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joi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upper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lower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surfaces of 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bodie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 adjacent vertebrae are covered by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hin plate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1" lang="en-US" sz="2600" spc="-1" strike="noStrike">
                <a:solidFill>
                  <a:srgbClr val="00b050"/>
                </a:solidFill>
                <a:latin typeface="Calibri"/>
              </a:rPr>
              <a:t>hyaline cartilag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ndwiched between the plates of hyaline cartilage is an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intervertebral disc of fibrocartila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collagen fibers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f the disc strongly unite the bodies of the two vertebra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" descr="C:\Users\user\Pictures\rrrr.png"/>
          <p:cNvPicPr/>
          <p:nvPr/>
        </p:nvPicPr>
        <p:blipFill>
          <a:blip r:embed="rId1"/>
          <a:stretch/>
        </p:blipFill>
        <p:spPr>
          <a:xfrm>
            <a:off x="4800600" y="1295280"/>
            <a:ext cx="3824280" cy="518184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0" y="457200"/>
            <a:ext cx="9144000" cy="581400"/>
          </a:xfrm>
          <a:prstGeom prst="rect">
            <a:avLst/>
          </a:prstGeom>
          <a:solidFill>
            <a:srgbClr val="ffc000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OINTS BETWEEN TWO VERTEBRAL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6T07:15:46Z</dcterms:created>
  <dc:creator>Vohra</dc:creator>
  <dc:description/>
  <dc:language>en-US</dc:language>
  <cp:lastModifiedBy>user</cp:lastModifiedBy>
  <dcterms:modified xsi:type="dcterms:W3CDTF">2015-11-27T09:39:54Z</dcterms:modified>
  <cp:revision>147</cp:revision>
  <dc:subject/>
  <dc:title>Thoracolumbar Spine</dc:title>
</cp:coreProperties>
</file>