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A991-CFC9-402F-9327-16E287ED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A601-0511-4936-81BC-4462EE48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F5B7-8800-46A3-8B35-F8448B3B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C119-E178-4EB5-9279-0E75D0B2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0025-97C9-4412-8C20-5A07FEFB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40A7-D567-424C-9DF3-159ADC3D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A44D-4D7C-4F27-B1B3-0EC1E6BC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632B-613A-4984-8054-685B7C71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B228-F502-4099-B197-4A4434B0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7D84-9ED7-4B65-A1FD-20C8A4F0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420F-39D4-43CC-9D5B-AC282781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0DD9-9E6A-4AD0-9131-7FAF1838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E4B8-F972-4EED-B129-5D5CD5AC5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google.com.sa/url?sa=i&amp;rct=j&amp;q=&amp;esrc=s&amp;source=images&amp;cd=&amp;cad=rja&amp;uact=8&amp;ved=0CAcQjRw&amp;url=http%3A%2F%2Fwww.ijabmr.org%2Farticle.asp%3Fissn%3D2229-516X%3Byear%3D2011%3Bvolume%3D1%3Bissue%3D1%3Bspage%3D60%3Bepage%3D62%3Baulast%3DPachani&amp;ei=B2uBVL6XO8TEPLXmgbAF&amp;psig=AFQjCNG3Idupf1elWh6Q0mh1NWuhCyjHYg&amp;ust=1417854037103641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46200" y="-407880"/>
            <a:ext cx="89676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Subtitle 2"/>
          <p:cNvSpPr/>
          <p:nvPr/>
        </p:nvSpPr>
        <p:spPr>
          <a:xfrm>
            <a:off x="0" y="4572000"/>
            <a:ext cx="487692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70c0"/>
                </a:solidFill>
                <a:latin typeface="Calibri"/>
              </a:rPr>
              <a:t>By 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Prof. Ahmed Fath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Dr.Sanaa Alshaara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9880" y="152280"/>
            <a:ext cx="5181840" cy="9144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Calibri"/>
              </a:rPr>
              <a:t>MUSCULAR TRIANGLES OF BACK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581640" cy="5105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uscultatory Triangle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ff"/>
                </a:solidFill>
                <a:latin typeface="Calibri"/>
              </a:rPr>
              <a:t>Boundaries:</a:t>
            </a:r>
            <a:r>
              <a:rPr b="1" lang="en-US" sz="2000" spc="-1" strike="noStrike">
                <a:solidFill>
                  <a:srgbClr val="cc00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latissimus dorsi, trapezius, and medial border of scapul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Calibri"/>
              </a:rPr>
              <a:t>Site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where 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breath sounds are most easily heard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with a stethoscop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Lumbar Triangle: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Triangle of Petit) </a:t>
            </a: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ff"/>
                </a:solidFill>
                <a:latin typeface="Calibri"/>
              </a:rPr>
              <a:t>Boundaries 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latissimus dorsi, posterior border of external oblique muscle of the abdomen, and iliac cre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Calibri"/>
              </a:rPr>
              <a:t>Site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f an abdominal hernia;  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where 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pus may emerge from the abdominal wall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C:\Documents and Settings\Free User\My Documents\My Pictures\back-muscles.jpg"/>
          <p:cNvPicPr/>
          <p:nvPr/>
        </p:nvPicPr>
        <p:blipFill>
          <a:blip r:embed="rId1"/>
          <a:srcRect l="0" t="9948" r="5552" b="0"/>
          <a:stretch/>
        </p:blipFill>
        <p:spPr>
          <a:xfrm>
            <a:off x="3733920" y="1066680"/>
            <a:ext cx="5410080" cy="4648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9" name="Isosceles Triangle 12"/>
          <p:cNvSpPr/>
          <p:nvPr/>
        </p:nvSpPr>
        <p:spPr>
          <a:xfrm>
            <a:off x="6019920" y="32004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Isosceles Triangle 17"/>
          <p:cNvSpPr/>
          <p:nvPr/>
        </p:nvSpPr>
        <p:spPr>
          <a:xfrm>
            <a:off x="5867280" y="45720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Isosceles Triangle 6"/>
          <p:cNvSpPr/>
          <p:nvPr/>
        </p:nvSpPr>
        <p:spPr>
          <a:xfrm>
            <a:off x="3200400" y="9144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sosceles Triangle 7"/>
          <p:cNvSpPr/>
          <p:nvPr/>
        </p:nvSpPr>
        <p:spPr>
          <a:xfrm>
            <a:off x="3124080" y="29718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" descr="https://encrypted-tbn3.gstatic.com/images?q=tbn:ANd9GcRHLlVrcKTKPGXqK_uBhAfqoLo33XDU1SYz6zy0O8Nn5vwXRT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29400" y="3828960"/>
            <a:ext cx="25146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BACK MUSC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030a0"/>
                </a:solidFill>
                <a:uFillTx/>
                <a:latin typeface="Calibri"/>
              </a:rPr>
              <a:t>Deep group</a:t>
            </a:r>
            <a:r>
              <a:rPr b="1" i="1" lang="en-US" sz="2400" spc="-1" strike="noStrike">
                <a:solidFill>
                  <a:srgbClr val="7030a0"/>
                </a:solidFill>
                <a:latin typeface="Calibri"/>
              </a:rPr>
              <a:t>: </a:t>
            </a: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attached to &amp;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oves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vertebral column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, supplied by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posterior rami of spinal nerv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030a0"/>
                </a:solidFill>
                <a:uFillTx/>
                <a:latin typeface="Calibri"/>
              </a:rPr>
              <a:t>Intermediate group</a:t>
            </a:r>
            <a:r>
              <a:rPr b="1" i="1" lang="en-US" sz="2400" spc="-1" strike="noStrike">
                <a:solidFill>
                  <a:srgbClr val="7030a0"/>
                </a:solidFill>
                <a:latin typeface="Calibri"/>
              </a:rPr>
              <a:t>: </a:t>
            </a: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attached to &amp;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oves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ibs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, supplied by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anterior rami of spinal nerv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030a0"/>
                </a:solidFill>
                <a:uFillTx/>
                <a:latin typeface="Calibri"/>
              </a:rPr>
              <a:t>Superficial group</a:t>
            </a:r>
            <a:r>
              <a:rPr b="1" i="1" lang="en-US" sz="2400" spc="-1" strike="noStrike">
                <a:solidFill>
                  <a:srgbClr val="7030a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-</a:t>
            </a:r>
            <a:r>
              <a:rPr b="1" i="1" lang="en-US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Calibri"/>
              </a:rPr>
              <a:t>Origin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: vertebral colum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-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Calibri"/>
              </a:rPr>
              <a:t>Insertion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: scapula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Calibri"/>
              </a:rPr>
              <a:t>EXCEP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latissimus dorsi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: humeru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-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Calibri"/>
              </a:rPr>
              <a:t>Action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: moves scapula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Calibri"/>
              </a:rPr>
              <a:t>EXCEP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latissimus dorsi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: moves humeru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-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Calibri"/>
              </a:rPr>
              <a:t>Nerve supply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: anterior rami of spinal nerves through brachial plexus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Calibri"/>
              </a:rPr>
              <a:t>EXCEP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rapezius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: 11</a:t>
            </a:r>
            <a:r>
              <a:rPr b="1" lang="en-US" sz="2400" spc="-1" strike="noStrike" baseline="30000">
                <a:solidFill>
                  <a:srgbClr val="0070c0"/>
                </a:solidFill>
                <a:latin typeface="Calibri"/>
              </a:rPr>
              <a:t>th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cranial nerv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C:\Program Files\Microsoft Office\MEDIA\CAGCAT10\j0281904.wmf"/>
          <p:cNvPicPr/>
          <p:nvPr/>
        </p:nvPicPr>
        <p:blipFill>
          <a:blip r:embed="rId1"/>
          <a:stretch/>
        </p:blipFill>
        <p:spPr>
          <a:xfrm>
            <a:off x="225360" y="122400"/>
            <a:ext cx="8693280" cy="66927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1"/>
          <p:cNvSpPr/>
          <p:nvPr/>
        </p:nvSpPr>
        <p:spPr>
          <a:xfrm>
            <a:off x="1447920" y="2514600"/>
            <a:ext cx="647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b0f0"/>
                </a:solidFill>
                <a:latin typeface="comic"/>
                <a:ea typeface="Times New Roman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Which one of the following muscles of back that </a:t>
            </a:r>
            <a:r>
              <a:rPr b="1" lang="en-US" sz="3200" spc="-1" strike="noStrike" u="sng">
                <a:solidFill>
                  <a:srgbClr val="e46c0a"/>
                </a:solidFill>
                <a:uFillTx/>
                <a:latin typeface="Calibri"/>
              </a:rPr>
              <a:t>rotates the humerus medially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rapezi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Latissimus dors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Rhomboid maj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Serratus posterior superi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eft Arrow 3"/>
          <p:cNvSpPr/>
          <p:nvPr/>
        </p:nvSpPr>
        <p:spPr>
          <a:xfrm>
            <a:off x="4724280" y="3505320"/>
            <a:ext cx="609840" cy="22860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Regarding </a:t>
            </a:r>
            <a:r>
              <a:rPr b="1" lang="en-US" sz="3200" spc="-1" strike="noStrike" u="sng">
                <a:solidFill>
                  <a:srgbClr val="e46c0a"/>
                </a:solidFill>
                <a:uFillTx/>
                <a:latin typeface="Calibri"/>
              </a:rPr>
              <a:t>back muscles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, which one of the following statements is </a:t>
            </a:r>
            <a:r>
              <a:rPr b="1" lang="en-US" sz="3200" spc="-1" strike="noStrike" u="sng">
                <a:solidFill>
                  <a:srgbClr val="e46c0a"/>
                </a:solidFill>
                <a:uFillTx/>
                <a:latin typeface="Calibri"/>
              </a:rPr>
              <a:t>correct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All back muscles are supplied by posterior rami of spinal ner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Muscles of intermediate group move vertebral colum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Muscles of superficial group are involved in upper limb move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Muscles of deep group serve respiratory fun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eft Arrow 3"/>
          <p:cNvSpPr/>
          <p:nvPr/>
        </p:nvSpPr>
        <p:spPr>
          <a:xfrm>
            <a:off x="5638680" y="4952880"/>
            <a:ext cx="762120" cy="22860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OBJECTIV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libri"/>
              </a:rPr>
              <a:t>At the end of the lecture, students should be abl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Distinguish between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the different groups of back musc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Compare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 between </a:t>
            </a: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groups of back muscles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as regard their </a:t>
            </a:r>
            <a:r>
              <a:rPr b="1" i="1" lang="en-US" sz="3000" spc="-1" strike="noStrike" u="sng">
                <a:solidFill>
                  <a:srgbClr val="0070c0"/>
                </a:solidFill>
                <a:uFillTx/>
                <a:latin typeface="Calibri"/>
              </a:rPr>
              <a:t>nerve suppl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y and </a:t>
            </a:r>
            <a:r>
              <a:rPr b="1" i="1" lang="en-US" sz="3000" spc="-1" strike="noStrike" u="sng">
                <a:solidFill>
                  <a:srgbClr val="0070c0"/>
                </a:solidFill>
                <a:uFillTx/>
                <a:latin typeface="Calibri"/>
              </a:rPr>
              <a:t>a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List the back muscles of each grou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Describe the </a:t>
            </a:r>
            <a:r>
              <a:rPr b="1" i="1" lang="en-US" sz="3000" spc="-1" strike="noStrike" u="sng">
                <a:solidFill>
                  <a:srgbClr val="0070c0"/>
                </a:solidFill>
                <a:uFillTx/>
                <a:latin typeface="Calibri"/>
              </a:rPr>
              <a:t>attachment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s of each muscle of the </a:t>
            </a: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superficial group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, as well as, its </a:t>
            </a:r>
            <a:r>
              <a:rPr b="1" i="1" lang="en-US" sz="3000" spc="-1" strike="noStrike" u="sng">
                <a:solidFill>
                  <a:srgbClr val="0070c0"/>
                </a:solidFill>
                <a:uFillTx/>
                <a:latin typeface="Calibri"/>
              </a:rPr>
              <a:t>nerve supply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and </a:t>
            </a:r>
            <a:r>
              <a:rPr b="1" i="1" lang="en-US" sz="3000" spc="-1" strike="noStrike" u="sng">
                <a:solidFill>
                  <a:srgbClr val="0070c0"/>
                </a:solidFill>
                <a:uFillTx/>
                <a:latin typeface="Calibri"/>
              </a:rPr>
              <a:t>action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Describe the </a:t>
            </a: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triangles of back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and their clinical significa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BACK MUSC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6" descr=""/>
          <p:cNvPicPr/>
          <p:nvPr/>
        </p:nvPicPr>
        <p:blipFill>
          <a:blip r:embed="rId1"/>
          <a:stretch/>
        </p:blipFill>
        <p:spPr>
          <a:xfrm>
            <a:off x="414360" y="1060560"/>
            <a:ext cx="3627360" cy="5499000"/>
          </a:xfrm>
          <a:prstGeom prst="rect">
            <a:avLst/>
          </a:prstGeom>
          <a:ln w="0">
            <a:noFill/>
          </a:ln>
        </p:spPr>
      </p:pic>
      <p:sp>
        <p:nvSpPr>
          <p:cNvPr id="47" name="Content Placeholder 2"/>
          <p:cNvSpPr/>
          <p:nvPr/>
        </p:nvSpPr>
        <p:spPr>
          <a:xfrm>
            <a:off x="4876920" y="1600200"/>
            <a:ext cx="3733560" cy="20574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030a0"/>
                </a:solidFill>
                <a:uFillTx/>
                <a:latin typeface="Calibri"/>
              </a:rPr>
              <a:t>Intrinsic muscles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evelop in the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upplied by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posterior rami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of spinal n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4876920" y="4191120"/>
            <a:ext cx="3733560" cy="20574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030a0"/>
                </a:solidFill>
                <a:uFillTx/>
                <a:latin typeface="Calibri"/>
              </a:rPr>
              <a:t>Extrinsic musc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ot developed in the 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upplied by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anterior rami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of spinal ner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ight Bracket 10"/>
          <p:cNvSpPr/>
          <p:nvPr/>
        </p:nvSpPr>
        <p:spPr>
          <a:xfrm>
            <a:off x="3886200" y="3809880"/>
            <a:ext cx="152280" cy="2590920"/>
          </a:xfrm>
          <a:custGeom>
            <a:avLst/>
            <a:gdLst>
              <a:gd name="textAreaLeft" fmla="*/ 0 w 152280"/>
              <a:gd name="textAreaRight" fmla="*/ 106920 w 152280"/>
              <a:gd name="textAreaTop" fmla="*/ 6120 h 2590920"/>
              <a:gd name="textAreaBottom" fmla="*/ 25848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3"/>
                  <a:pt x="21600" y="106"/>
                </a:cubicBezTo>
                <a:lnTo>
                  <a:pt x="21600" y="21494"/>
                </a:lnTo>
                <a:cubicBezTo>
                  <a:pt x="21600" y="21547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ight Bracket 11"/>
          <p:cNvSpPr/>
          <p:nvPr/>
        </p:nvSpPr>
        <p:spPr>
          <a:xfrm>
            <a:off x="3886200" y="1981080"/>
            <a:ext cx="122400" cy="1371600"/>
          </a:xfrm>
          <a:custGeom>
            <a:avLst/>
            <a:gdLst>
              <a:gd name="textAreaLeft" fmla="*/ 0 w 122400"/>
              <a:gd name="textAreaRight" fmla="*/ 86040 w 122400"/>
              <a:gd name="textAreaTop" fmla="*/ 5040 h 1371600"/>
              <a:gd name="textAreaBottom" fmla="*/ 13665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80"/>
                  <a:pt x="21600" y="160"/>
                </a:cubicBezTo>
                <a:lnTo>
                  <a:pt x="21600" y="21440"/>
                </a:lnTo>
                <a:cubicBezTo>
                  <a:pt x="21600" y="2152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Arrow 12"/>
          <p:cNvSpPr/>
          <p:nvPr/>
        </p:nvSpPr>
        <p:spPr>
          <a:xfrm>
            <a:off x="4114800" y="2514600"/>
            <a:ext cx="609480" cy="2286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ight Arrow 13"/>
          <p:cNvSpPr/>
          <p:nvPr/>
        </p:nvSpPr>
        <p:spPr>
          <a:xfrm>
            <a:off x="4114800" y="5029200"/>
            <a:ext cx="609480" cy="2286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DEEP GROUP OF BACK MUSC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1295280"/>
            <a:ext cx="4572000" cy="4724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y 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extend from sacrum to skul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y include 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extensors and rotators of head &amp; vertebral colum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ir tone is responsible for 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maintenance of normal curvature of  vertebral colum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largest muscle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of this group is </a:t>
            </a: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“erector spinae”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which is formed of 3 vertical columns (</a:t>
            </a:r>
            <a:r>
              <a:rPr b="1" i="1" lang="en-US" sz="2000" spc="-1" strike="noStrike">
                <a:solidFill>
                  <a:srgbClr val="0070c0"/>
                </a:solidFill>
                <a:latin typeface="Calibri"/>
              </a:rPr>
              <a:t>from lateral to medial: </a:t>
            </a:r>
            <a:r>
              <a:rPr b="1" i="1" lang="en-US" sz="2000" spc="-1" strike="noStrike">
                <a:solidFill>
                  <a:srgbClr val="c00000"/>
                </a:solidFill>
                <a:latin typeface="Calibri"/>
              </a:rPr>
              <a:t>iliocostalis</a:t>
            </a:r>
            <a:r>
              <a:rPr b="1" i="1" lang="en-US" sz="20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longissimus </a:t>
            </a:r>
            <a:r>
              <a:rPr b="1" i="1" lang="en-US" sz="2000" spc="-1" strike="noStrike">
                <a:solidFill>
                  <a:srgbClr val="0070c0"/>
                </a:solidFill>
                <a:latin typeface="Calibri"/>
              </a:rPr>
              <a:t>&amp; </a:t>
            </a:r>
            <a:r>
              <a:rPr b="1" i="1" lang="en-US" sz="2000" spc="-1" strike="noStrike">
                <a:solidFill>
                  <a:srgbClr val="00b050"/>
                </a:solidFill>
                <a:latin typeface="Calibri"/>
              </a:rPr>
              <a:t>spinalis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4" descr="F66122-002-f048.jpg"/>
          <p:cNvPicPr/>
          <p:nvPr/>
        </p:nvPicPr>
        <p:blipFill>
          <a:blip r:embed="rId1"/>
          <a:stretch/>
        </p:blipFill>
        <p:spPr>
          <a:xfrm>
            <a:off x="4952880" y="1371600"/>
            <a:ext cx="3888000" cy="5181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6" name="Oval 5"/>
          <p:cNvSpPr/>
          <p:nvPr/>
        </p:nvSpPr>
        <p:spPr>
          <a:xfrm>
            <a:off x="6705720" y="3581280"/>
            <a:ext cx="75960" cy="7632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6"/>
          <p:cNvSpPr/>
          <p:nvPr/>
        </p:nvSpPr>
        <p:spPr>
          <a:xfrm>
            <a:off x="6400800" y="4038480"/>
            <a:ext cx="76320" cy="763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7"/>
          <p:cNvSpPr/>
          <p:nvPr/>
        </p:nvSpPr>
        <p:spPr>
          <a:xfrm>
            <a:off x="6553080" y="3733920"/>
            <a:ext cx="76320" cy="75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33520" y="5181480"/>
            <a:ext cx="403848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(Note the length and attachment of the muscle fib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INTERMEDIATE GROUP OF BACK MUSC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440" y="1752480"/>
            <a:ext cx="3962520" cy="3810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It is separated from the deep group by </a:t>
            </a:r>
            <a:r>
              <a:rPr b="1" lang="en-US" sz="2200" spc="-1" strike="noStrike" u="sng">
                <a:solidFill>
                  <a:srgbClr val="0070c0"/>
                </a:solidFill>
                <a:uFillTx/>
                <a:latin typeface="Calibri"/>
              </a:rPr>
              <a:t>thoracolumbar fascia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It includ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Serratus posterior superior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en-US" sz="2200" spc="-1" strike="noStrike">
                <a:solidFill>
                  <a:srgbClr val="0070c0"/>
                </a:solidFill>
                <a:latin typeface="Calibri"/>
              </a:rPr>
              <a:t>(rib elevator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Serratus posterior inferior </a:t>
            </a:r>
            <a:r>
              <a:rPr b="1" i="1" lang="en-US" sz="2200" spc="-1" strike="noStrike">
                <a:solidFill>
                  <a:srgbClr val="0070c0"/>
                </a:solidFill>
                <a:latin typeface="Calibri"/>
              </a:rPr>
              <a:t>(rib depressor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Calibri"/>
              </a:rPr>
              <a:t>Nerve supply: 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anterior rami of thoracic spinal nerv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4" descr="F66122-002-f045.jpg"/>
          <p:cNvPicPr/>
          <p:nvPr/>
        </p:nvPicPr>
        <p:blipFill>
          <a:blip r:embed="rId1"/>
          <a:stretch/>
        </p:blipFill>
        <p:spPr>
          <a:xfrm>
            <a:off x="4876920" y="1600200"/>
            <a:ext cx="3646440" cy="4876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3" name="Oval 5"/>
          <p:cNvSpPr/>
          <p:nvPr/>
        </p:nvSpPr>
        <p:spPr>
          <a:xfrm>
            <a:off x="6629400" y="4572000"/>
            <a:ext cx="763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6"/>
          <p:cNvSpPr/>
          <p:nvPr/>
        </p:nvSpPr>
        <p:spPr>
          <a:xfrm>
            <a:off x="6553080" y="3276720"/>
            <a:ext cx="76320" cy="7596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SUPRERFICIAL GROUP OF BACK MUSC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3160" y="1676160"/>
            <a:ext cx="4343400" cy="4647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Includes two sets of muscl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Muscles connecting 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vertebral column </a:t>
            </a: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to 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scapula</a:t>
            </a: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 (move scapula through shoulder girdle joints) &amp; inclu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70c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Calibri"/>
              </a:rPr>
              <a:t>Trapeziu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70c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Calibri"/>
              </a:rPr>
              <a:t>Levator scapula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70c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Calibri"/>
              </a:rPr>
              <a:t>Rhomboid min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70c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Calibri"/>
              </a:rPr>
              <a:t>Rhomboid maj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Muscle connecting 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vertebral column </a:t>
            </a: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to 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humerus </a:t>
            </a: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(move humerus through shoulder joint), &amp; inclu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Calibri"/>
              </a:rPr>
              <a:t>Latissimus dors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4" descr="F66122-002-f043.jpg"/>
          <p:cNvPicPr/>
          <p:nvPr/>
        </p:nvPicPr>
        <p:blipFill>
          <a:blip r:embed="rId1"/>
          <a:stretch/>
        </p:blipFill>
        <p:spPr>
          <a:xfrm>
            <a:off x="5029200" y="1676520"/>
            <a:ext cx="3890880" cy="4800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8" name="TextBox 5"/>
          <p:cNvSpPr/>
          <p:nvPr/>
        </p:nvSpPr>
        <p:spPr>
          <a:xfrm>
            <a:off x="7394400" y="3048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6632280" y="2819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6708600" y="3200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6708600" y="3581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4"/>
          <p:cNvSpPr/>
          <p:nvPr/>
        </p:nvSpPr>
        <p:spPr>
          <a:xfrm>
            <a:off x="7620120" y="4267080"/>
            <a:ext cx="75960" cy="763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9446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TRAPEZIU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3160" y="1523520"/>
            <a:ext cx="4190760" cy="487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Origin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Spines of cervical &amp; thoracic vertebra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Insertion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lateral 1/3 of clavicle + acromion &amp; spine of scapul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Action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rotation of scapula during </a:t>
            </a:r>
            <a:r>
              <a:rPr b="1" lang="en-US" sz="2000" spc="-1" strike="noStrike">
                <a:solidFill>
                  <a:srgbClr val="cc00ff"/>
                </a:solidFill>
                <a:latin typeface="Calibri"/>
              </a:rPr>
              <a:t>abduction of humerus</a:t>
            </a:r>
            <a:r>
              <a:rPr b="1" lang="en-US" sz="20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alibri"/>
              </a:rPr>
              <a:t>above horizont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ff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Upper fibers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levate scapul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b05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Calibri"/>
              </a:rPr>
              <a:t>Middle fibers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retract scapu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7030a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Calibri"/>
              </a:rPr>
              <a:t>Lower fibers: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depress scapul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Nerve supply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Spinal part of accessory (11</a:t>
            </a:r>
            <a:r>
              <a:rPr b="1" lang="en-US" sz="2000" spc="-1" strike="noStrike" baseline="30000">
                <a:solidFill>
                  <a:srgbClr val="0070c0"/>
                </a:solidFill>
                <a:latin typeface="Calibri"/>
              </a:rPr>
              <a:t>th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cranial) ner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4" descr="F66122-002-f041.jpg"/>
          <p:cNvPicPr/>
          <p:nvPr/>
        </p:nvPicPr>
        <p:blipFill>
          <a:blip r:embed="rId1"/>
          <a:stretch/>
        </p:blipFill>
        <p:spPr>
          <a:xfrm>
            <a:off x="4784760" y="1584360"/>
            <a:ext cx="4121280" cy="4835520"/>
          </a:xfrm>
          <a:prstGeom prst="rect">
            <a:avLst/>
          </a:prstGeom>
          <a:ln w="0">
            <a:noFill/>
          </a:ln>
        </p:spPr>
      </p:pic>
      <p:cxnSp>
        <p:nvCxnSpPr>
          <p:cNvPr id="76" name="Straight Arrow Connector 9"/>
          <p:cNvCxnSpPr/>
          <p:nvPr/>
        </p:nvCxnSpPr>
        <p:spPr>
          <a:xfrm>
            <a:off x="6476040" y="3657600"/>
            <a:ext cx="229320" cy="45792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77" name="Straight Arrow Connector 11"/>
          <p:cNvCxnSpPr/>
          <p:nvPr/>
        </p:nvCxnSpPr>
        <p:spPr>
          <a:xfrm>
            <a:off x="6248160" y="3429000"/>
            <a:ext cx="533880" cy="216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8" name="Straight Arrow Connector 13"/>
          <p:cNvCxnSpPr/>
          <p:nvPr/>
        </p:nvCxnSpPr>
        <p:spPr>
          <a:xfrm flipV="1">
            <a:off x="6095520" y="3200400"/>
            <a:ext cx="381960" cy="76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9" name="Straight Arrow Connector 12"/>
          <p:cNvCxnSpPr/>
          <p:nvPr/>
        </p:nvCxnSpPr>
        <p:spPr>
          <a:xfrm flipH="1">
            <a:off x="6856200" y="2592360"/>
            <a:ext cx="3600" cy="2286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Straight Arrow Connector 30"/>
          <p:cNvCxnSpPr/>
          <p:nvPr/>
        </p:nvCxnSpPr>
        <p:spPr>
          <a:xfrm flipH="1">
            <a:off x="7619760" y="3047040"/>
            <a:ext cx="457920" cy="1530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Straight Arrow Connector 32"/>
          <p:cNvCxnSpPr/>
          <p:nvPr/>
        </p:nvCxnSpPr>
        <p:spPr>
          <a:xfrm flipH="1" flipV="1">
            <a:off x="7619400" y="3428640"/>
            <a:ext cx="610200" cy="3816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Straight Connector 34"/>
          <p:cNvSpPr/>
          <p:nvPr/>
        </p:nvSpPr>
        <p:spPr>
          <a:xfrm>
            <a:off x="8076600" y="3048120"/>
            <a:ext cx="152280" cy="7617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5"/>
          <p:cNvSpPr/>
          <p:nvPr/>
        </p:nvSpPr>
        <p:spPr>
          <a:xfrm>
            <a:off x="6863040" y="3733920"/>
            <a:ext cx="694440" cy="3373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ri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6"/>
          <p:cNvSpPr/>
          <p:nvPr/>
        </p:nvSpPr>
        <p:spPr>
          <a:xfrm>
            <a:off x="8008920" y="3200400"/>
            <a:ext cx="933480" cy="3373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ser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7"/>
          <p:cNvSpPr/>
          <p:nvPr/>
        </p:nvSpPr>
        <p:spPr>
          <a:xfrm>
            <a:off x="5263560" y="3276720"/>
            <a:ext cx="726480" cy="3373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12193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LEVATOR SCAPULAE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RHOMBOID MINOR &amp; MAJ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752120"/>
            <a:ext cx="4267080" cy="4953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Origi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Calibri"/>
              </a:rPr>
              <a:t>Levator scapulae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cervical transverse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Calibri"/>
              </a:rPr>
              <a:t>Rhomboid minor &amp; major:</a:t>
            </a: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oracic sp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Insertion: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medial border of scapul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Nerve supply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dorsal scapular ner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Act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Calibri"/>
              </a:rPr>
              <a:t>Levator scapulae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levates scapul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Calibri"/>
              </a:rPr>
              <a:t>Rhomboid minor &amp; major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retract scapul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4" descr="F66122-002-f043.jpg"/>
          <p:cNvPicPr/>
          <p:nvPr/>
        </p:nvPicPr>
        <p:blipFill>
          <a:blip r:embed="rId1"/>
          <a:stretch/>
        </p:blipFill>
        <p:spPr>
          <a:xfrm>
            <a:off x="4800600" y="1828800"/>
            <a:ext cx="4114800" cy="4876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9" name="Down Arrow 5"/>
          <p:cNvSpPr/>
          <p:nvPr/>
        </p:nvSpPr>
        <p:spPr>
          <a:xfrm>
            <a:off x="5029200" y="3352680"/>
            <a:ext cx="76320" cy="152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Down Arrow 6"/>
          <p:cNvSpPr/>
          <p:nvPr/>
        </p:nvSpPr>
        <p:spPr>
          <a:xfrm>
            <a:off x="5105520" y="3733920"/>
            <a:ext cx="75960" cy="152280"/>
          </a:xfrm>
          <a:prstGeom prst="downArrow">
            <a:avLst>
              <a:gd name="adj1" fmla="val 50000"/>
              <a:gd name="adj2" fmla="val 5011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Arrow 7"/>
          <p:cNvSpPr/>
          <p:nvPr/>
        </p:nvSpPr>
        <p:spPr>
          <a:xfrm>
            <a:off x="5257800" y="3124080"/>
            <a:ext cx="228600" cy="7632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Straight Arrow Connector 10"/>
          <p:cNvCxnSpPr/>
          <p:nvPr/>
        </p:nvCxnSpPr>
        <p:spPr>
          <a:xfrm flipH="1">
            <a:off x="6476400" y="3276360"/>
            <a:ext cx="153000" cy="229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3" name="Straight Arrow Connector 12"/>
          <p:cNvCxnSpPr/>
          <p:nvPr/>
        </p:nvCxnSpPr>
        <p:spPr>
          <a:xfrm flipH="1">
            <a:off x="6628680" y="3504960"/>
            <a:ext cx="153000" cy="153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4" name="Straight Arrow Connector 14"/>
          <p:cNvCxnSpPr/>
          <p:nvPr/>
        </p:nvCxnSpPr>
        <p:spPr>
          <a:xfrm flipH="1">
            <a:off x="6552360" y="3885120"/>
            <a:ext cx="229320" cy="153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5" name="Straight Connector 16"/>
          <p:cNvSpPr/>
          <p:nvPr/>
        </p:nvSpPr>
        <p:spPr>
          <a:xfrm>
            <a:off x="6628680" y="3276720"/>
            <a:ext cx="15228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8"/>
          <p:cNvSpPr/>
          <p:nvPr/>
        </p:nvSpPr>
        <p:spPr>
          <a:xfrm>
            <a:off x="6781680" y="34290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0"/>
          <p:cNvSpPr/>
          <p:nvPr/>
        </p:nvSpPr>
        <p:spPr>
          <a:xfrm>
            <a:off x="6942240" y="3352680"/>
            <a:ext cx="933480" cy="3373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ser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LATISSIMUS DOR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120" y="2286000"/>
            <a:ext cx="3962520" cy="3124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Origin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spines of thoracic vertebra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Insertion: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bicipital groove of humeru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Nerve supply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oracodorsal ner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Actions: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70c0"/>
                </a:solidFill>
                <a:latin typeface="Calibri"/>
              </a:rPr>
              <a:t>extension, adduction &amp; medial rotation</a:t>
            </a:r>
            <a:r>
              <a:rPr b="1" i="1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of humerus (arm, shoulder join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Content Placeholder 4" descr="F66122-002-f041.jpg"/>
          <p:cNvPicPr/>
          <p:nvPr/>
        </p:nvPicPr>
        <p:blipFill>
          <a:blip r:embed="rId1"/>
          <a:stretch/>
        </p:blipFill>
        <p:spPr>
          <a:xfrm>
            <a:off x="4699080" y="1600200"/>
            <a:ext cx="4216320" cy="4876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1" name="Right Arrow 5"/>
          <p:cNvSpPr/>
          <p:nvPr/>
        </p:nvSpPr>
        <p:spPr>
          <a:xfrm>
            <a:off x="5029200" y="617220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9"/>
          <p:cNvCxnSpPr/>
          <p:nvPr/>
        </p:nvCxnSpPr>
        <p:spPr>
          <a:xfrm flipH="1">
            <a:off x="6856200" y="4420800"/>
            <a:ext cx="3600" cy="1600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11"/>
          <p:cNvSpPr/>
          <p:nvPr/>
        </p:nvSpPr>
        <p:spPr>
          <a:xfrm>
            <a:off x="6863040" y="4800600"/>
            <a:ext cx="694440" cy="3373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ri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13"/>
          <p:cNvCxnSpPr/>
          <p:nvPr/>
        </p:nvCxnSpPr>
        <p:spPr>
          <a:xfrm flipH="1" flipV="1">
            <a:off x="5943240" y="4114440"/>
            <a:ext cx="457920" cy="4579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5" name="TextBox 14"/>
          <p:cNvSpPr/>
          <p:nvPr/>
        </p:nvSpPr>
        <p:spPr>
          <a:xfrm>
            <a:off x="5189400" y="4343400"/>
            <a:ext cx="933480" cy="3373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ser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08:25:16Z</dcterms:created>
  <dc:creator>Dr. Zeenat Zaidi</dc:creator>
  <dc:description/>
  <dc:language>en-US</dc:language>
  <cp:lastModifiedBy>user</cp:lastModifiedBy>
  <dcterms:modified xsi:type="dcterms:W3CDTF">2015-11-27T10:06:25Z</dcterms:modified>
  <cp:revision>249</cp:revision>
  <dc:subject/>
  <dc:title>MUSCLES OF BACK2011</dc:title>
</cp:coreProperties>
</file>