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4FB-6D5A-498E-9DFD-DDC04EB3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E77-C26E-4572-843A-78359D29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131-EAF1-44B5-8025-371E5364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AA7-BC56-49ED-A118-B5269E61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8B7A-0ED7-4588-8F35-0A71C120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2A56-201C-4AF2-A671-664A03EB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ED0A-CFE8-423E-B91B-00BD660E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FBB-30B8-4AD0-B2AB-FEFFC414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62E-FE7D-4CFB-BCA3-1A9A3B4E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F56-1534-4827-B776-E19E53AA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F14F-2827-4B4B-90AB-FF05F8A2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901-08F0-43BB-A097-066755E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464C-806C-440E-B416-4C2D47064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google.com.sa/url?sa=i&amp;rct=j&amp;q=&amp;esrc=s&amp;source=images&amp;cd=&amp;cad=rja&amp;uact=8&amp;ved=0CAcQjRw&amp;url=http%3A%2F%2Fwww.ijabmr.org%2Farticle.asp%3Fissn%3D2229-516X%3Byear%3D2011%3Bvolume%3D1%3Bissue%3D1%3Bspage%3D60%3Bepage%3D62%3Baulast%3DPachani&amp;ei=B2uBVL6XO8TEPLXmgbAF&amp;psig=AFQjCNG3Idupf1elWh6Q0mh1NWuhCyjHYg&amp;ust=1417854037103641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46200" y="-407880"/>
            <a:ext cx="89676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Subtitle 2"/>
          <p:cNvSpPr/>
          <p:nvPr/>
        </p:nvSpPr>
        <p:spPr>
          <a:xfrm>
            <a:off x="0" y="4572000"/>
            <a:ext cx="4876920" cy="1676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70c0"/>
                </a:solidFill>
                <a:latin typeface="Calibri"/>
              </a:rPr>
              <a:t>By 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Prof. Ahmed Fatha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Dr.Sanaa Alshaar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9880" y="152280"/>
            <a:ext cx="518184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c00000"/>
                </a:solidFill>
                <a:latin typeface="Calibri"/>
              </a:rPr>
              <a:t>MUSCULAR TRIANGLES OF BAC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3581640" cy="510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Auscultatory Triangl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ff"/>
                </a:solidFill>
                <a:latin typeface="Calibri"/>
              </a:rPr>
              <a:t>Boundaries:</a:t>
            </a:r>
            <a:r>
              <a:rPr b="1" lang="en-US" sz="2000" spc="-1" strike="noStrike">
                <a:solidFill>
                  <a:srgbClr val="cc00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atissimus dorsi, trapezius, and medial border of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Calibri"/>
              </a:rPr>
              <a:t>Site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 where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breath sounds are most easily heard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with a stethoscop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Lumbar Triangl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Triangle of Petit)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ff"/>
                </a:solidFill>
                <a:latin typeface="Calibri"/>
              </a:rPr>
              <a:t>Boundaries 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atissimus dorsi, posterior border of external oblique muscle of the abdomen, and iliac cres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Calibri"/>
              </a:rPr>
              <a:t>Site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f an abdominal hernia;  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where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pus may emerge from the abdominal wall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C:\Documents and Settings\Free User\My Documents\My Pictures\back-muscles.jpg"/>
          <p:cNvPicPr/>
          <p:nvPr/>
        </p:nvPicPr>
        <p:blipFill>
          <a:blip r:embed="rId1"/>
          <a:srcRect l="0" t="9948" r="5552" b="0"/>
          <a:stretch/>
        </p:blipFill>
        <p:spPr>
          <a:xfrm>
            <a:off x="3733920" y="1066680"/>
            <a:ext cx="5410080" cy="4648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9" name="Isosceles Triangle 12"/>
          <p:cNvSpPr/>
          <p:nvPr/>
        </p:nvSpPr>
        <p:spPr>
          <a:xfrm>
            <a:off x="6019920" y="32004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Isosceles Triangle 17"/>
          <p:cNvSpPr/>
          <p:nvPr/>
        </p:nvSpPr>
        <p:spPr>
          <a:xfrm>
            <a:off x="5867280" y="4572000"/>
            <a:ext cx="7632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Isosceles Triangle 6"/>
          <p:cNvSpPr/>
          <p:nvPr/>
        </p:nvSpPr>
        <p:spPr>
          <a:xfrm>
            <a:off x="3200400" y="9144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Isosceles Triangle 7"/>
          <p:cNvSpPr/>
          <p:nvPr/>
        </p:nvSpPr>
        <p:spPr>
          <a:xfrm>
            <a:off x="3124080" y="29718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https://encrypted-tbn3.gstatic.com/images?q=tbn:ANd9GcRHLlVrcKTKPGXqK_uBhAfqoLo33XDU1SYz6zy0O8Nn5vwXR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29400" y="3828960"/>
            <a:ext cx="2514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9360">
            <a:solidFill>
              <a:srgbClr val="7030a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BACK MUS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Deep group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: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attached to &amp;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ove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ertebral column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, supplied b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posterior rami of spinal ner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Intermediate group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: 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attached to &amp;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oves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bs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, supplied b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</a:rPr>
              <a:t>anterior rami of spinal ner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Superficial group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1" i="1" lang="en-US" sz="2400" spc="-1" strike="noStrike">
                <a:solidFill>
                  <a:srgbClr val="0070c0"/>
                </a:solidFill>
                <a:latin typeface="Calibri"/>
              </a:rPr>
              <a:t>-</a:t>
            </a:r>
            <a:r>
              <a:rPr b="1" i="1" lang="en-U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Origin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vertebral colum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Insertion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scapula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EXCEP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atissimus dorsi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humeru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Action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moves scapula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EXCEP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atissimus dorsi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moves humeru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-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Nerve supply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anterior rami of spinal nerves through brachial plexus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Calibri"/>
              </a:rPr>
              <a:t>EXCEPT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rapezius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: 11</a:t>
            </a:r>
            <a:r>
              <a:rPr b="1" lang="en-US" sz="24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cranial nerv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225360" y="122400"/>
            <a:ext cx="8693280" cy="66927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1447920" y="2514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Which one of the following muscles of back that </a:t>
            </a:r>
            <a:r>
              <a:rPr b="1" lang="en-US" sz="3200" spc="-1" strike="noStrike" u="sng">
                <a:solidFill>
                  <a:srgbClr val="e46c0a"/>
                </a:solidFill>
                <a:uFillTx/>
                <a:latin typeface="Calibri"/>
              </a:rPr>
              <a:t>rotates the humerus medially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Trapezi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Latissimus dor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homboid maj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Serratus posterior superi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eft Arrow 3"/>
          <p:cNvSpPr/>
          <p:nvPr/>
        </p:nvSpPr>
        <p:spPr>
          <a:xfrm>
            <a:off x="4724280" y="3505320"/>
            <a:ext cx="609840" cy="22860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Regarding </a:t>
            </a:r>
            <a:r>
              <a:rPr b="1" lang="en-US" sz="3200" spc="-1" strike="noStrike" u="sng">
                <a:solidFill>
                  <a:srgbClr val="e46c0a"/>
                </a:solidFill>
                <a:uFillTx/>
                <a:latin typeface="Calibri"/>
              </a:rPr>
              <a:t>back muscles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, which one of the following statements is </a:t>
            </a:r>
            <a:r>
              <a:rPr b="1" lang="en-US" sz="3200" spc="-1" strike="noStrike" u="sng">
                <a:solidFill>
                  <a:srgbClr val="e46c0a"/>
                </a:solidFill>
                <a:uFillTx/>
                <a:latin typeface="Calibri"/>
              </a:rPr>
              <a:t>correct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ll back muscles are supplied by posterior rami of spinal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of intermediate group move vertebral colum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of superficial group are involved in upper limb movem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of deep group serve respiratory fun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eft Arrow 3"/>
          <p:cNvSpPr/>
          <p:nvPr/>
        </p:nvSpPr>
        <p:spPr>
          <a:xfrm>
            <a:off x="5638680" y="4952880"/>
            <a:ext cx="762120" cy="22860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933c"/>
                </a:solidFill>
                <a:latin typeface="Calibri"/>
              </a:rPr>
              <a:t>At the end of the lecture, students should be abl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istinguish between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the different groups of back musc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Compare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between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groups of back muscles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s regard their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nerve suppl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y and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ac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List the back muscles of each gro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attachment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s of each muscle of the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superficial group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, as well as, its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nerve supply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action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c00000"/>
                </a:solidFill>
                <a:latin typeface="Calibri"/>
              </a:rPr>
              <a:t>triangles of back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their clinical significa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ACK MUS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"/>
          <p:cNvPicPr/>
          <p:nvPr/>
        </p:nvPicPr>
        <p:blipFill>
          <a:blip r:embed="rId1"/>
          <a:stretch/>
        </p:blipFill>
        <p:spPr>
          <a:xfrm>
            <a:off x="414360" y="1060560"/>
            <a:ext cx="3627360" cy="5499000"/>
          </a:xfrm>
          <a:prstGeom prst="rect">
            <a:avLst/>
          </a:prstGeom>
          <a:ln w="0">
            <a:noFill/>
          </a:ln>
        </p:spPr>
      </p:pic>
      <p:sp>
        <p:nvSpPr>
          <p:cNvPr id="47" name="Content Placeholder 2"/>
          <p:cNvSpPr/>
          <p:nvPr/>
        </p:nvSpPr>
        <p:spPr>
          <a:xfrm>
            <a:off x="4876920" y="1600200"/>
            <a:ext cx="3733560" cy="2057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Intrinsic muscles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 in the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lied b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posterior rami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f spinal n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ontent Placeholder 2"/>
          <p:cNvSpPr/>
          <p:nvPr/>
        </p:nvSpPr>
        <p:spPr>
          <a:xfrm>
            <a:off x="4876920" y="4191120"/>
            <a:ext cx="3733560" cy="2057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0a0"/>
                </a:solidFill>
                <a:uFillTx/>
                <a:latin typeface="Calibri"/>
              </a:rPr>
              <a:t>Extrinsic musc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t developed in th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lied by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anterior rami 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Arial"/>
              </a:rPr>
              <a:t>of spinal nerv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ight Bracket 10"/>
          <p:cNvSpPr/>
          <p:nvPr/>
        </p:nvSpPr>
        <p:spPr>
          <a:xfrm>
            <a:off x="3886200" y="3809880"/>
            <a:ext cx="152280" cy="2590920"/>
          </a:xfrm>
          <a:custGeom>
            <a:avLst/>
            <a:gdLst>
              <a:gd name="textAreaLeft" fmla="*/ 0 w 152280"/>
              <a:gd name="textAreaRight" fmla="*/ 106920 w 152280"/>
              <a:gd name="textAreaTop" fmla="*/ 6120 h 2590920"/>
              <a:gd name="textAreaBottom" fmla="*/ 25848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3"/>
                  <a:pt x="21600" y="106"/>
                </a:cubicBezTo>
                <a:lnTo>
                  <a:pt x="21600" y="21494"/>
                </a:lnTo>
                <a:cubicBezTo>
                  <a:pt x="21600" y="21547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ight Bracket 11"/>
          <p:cNvSpPr/>
          <p:nvPr/>
        </p:nvSpPr>
        <p:spPr>
          <a:xfrm>
            <a:off x="3886200" y="1981080"/>
            <a:ext cx="122400" cy="1371600"/>
          </a:xfrm>
          <a:custGeom>
            <a:avLst/>
            <a:gdLst>
              <a:gd name="textAreaLeft" fmla="*/ 0 w 122400"/>
              <a:gd name="textAreaRight" fmla="*/ 86040 w 122400"/>
              <a:gd name="textAreaTop" fmla="*/ 5040 h 1371600"/>
              <a:gd name="textAreaBottom" fmla="*/ 13665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80"/>
                  <a:pt x="21600" y="160"/>
                </a:cubicBezTo>
                <a:lnTo>
                  <a:pt x="21600" y="21440"/>
                </a:lnTo>
                <a:cubicBezTo>
                  <a:pt x="21600" y="2152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Arrow 12"/>
          <p:cNvSpPr/>
          <p:nvPr/>
        </p:nvSpPr>
        <p:spPr>
          <a:xfrm>
            <a:off x="4114800" y="251460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ight Arrow 13"/>
          <p:cNvSpPr/>
          <p:nvPr/>
        </p:nvSpPr>
        <p:spPr>
          <a:xfrm>
            <a:off x="4114800" y="5029200"/>
            <a:ext cx="609480" cy="2286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DEEP GROUP OF BACK MUS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295280"/>
            <a:ext cx="4572000" cy="4724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y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extend from sacrum to skul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y include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extensors and rotators of head &amp; vertebral colum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ir tone is responsible for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maintenance of normal curvature of  vertebral colum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e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largest muscle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f this group is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“erector spinae”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which is formed of 3 vertical columns (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from lateral to medial: </a:t>
            </a:r>
            <a:r>
              <a:rPr b="1" i="1" lang="en-US" sz="2000" spc="-1" strike="noStrike">
                <a:solidFill>
                  <a:srgbClr val="c00000"/>
                </a:solidFill>
                <a:latin typeface="Calibri"/>
              </a:rPr>
              <a:t>iliocostalis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, </a:t>
            </a: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longissimus 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&amp; </a:t>
            </a:r>
            <a:r>
              <a:rPr b="1" i="1" lang="en-US" sz="2000" spc="-1" strike="noStrike">
                <a:solidFill>
                  <a:srgbClr val="00b050"/>
                </a:solidFill>
                <a:latin typeface="Calibri"/>
              </a:rPr>
              <a:t>spinalis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4" descr="F66122-002-f048.jpg"/>
          <p:cNvPicPr/>
          <p:nvPr/>
        </p:nvPicPr>
        <p:blipFill>
          <a:blip r:embed="rId1"/>
          <a:stretch/>
        </p:blipFill>
        <p:spPr>
          <a:xfrm>
            <a:off x="4952880" y="1371600"/>
            <a:ext cx="3888000" cy="5181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" name="Oval 5"/>
          <p:cNvSpPr/>
          <p:nvPr/>
        </p:nvSpPr>
        <p:spPr>
          <a:xfrm>
            <a:off x="6705720" y="3581280"/>
            <a:ext cx="75960" cy="763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6400800" y="4038480"/>
            <a:ext cx="7632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7"/>
          <p:cNvSpPr/>
          <p:nvPr/>
        </p:nvSpPr>
        <p:spPr>
          <a:xfrm>
            <a:off x="6553080" y="3733920"/>
            <a:ext cx="76320" cy="75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33520" y="5181480"/>
            <a:ext cx="4038480" cy="6426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(Note the length and attachment of the muscle fib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INTERMEDIATE GROUP OF BACK MUS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440" y="1752480"/>
            <a:ext cx="3962520" cy="381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It is separated from the deep group by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Calibri"/>
              </a:rPr>
              <a:t>thoracolumbar fascia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It includ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buClr>
                <a:srgbClr val="7030a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030a0"/>
                </a:solidFill>
                <a:latin typeface="Calibri"/>
              </a:rPr>
              <a:t>Serratus posterior superior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US" sz="2200" spc="-1" strike="noStrike">
                <a:solidFill>
                  <a:srgbClr val="0070c0"/>
                </a:solidFill>
                <a:latin typeface="Calibri"/>
              </a:rPr>
              <a:t>(rib elevato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Serratus posterior inferior </a:t>
            </a:r>
            <a:r>
              <a:rPr b="1" i="1" lang="en-US" sz="2200" spc="-1" strike="noStrike">
                <a:solidFill>
                  <a:srgbClr val="0070c0"/>
                </a:solidFill>
                <a:latin typeface="Calibri"/>
              </a:rPr>
              <a:t>(rib depressor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anterior rami of thoracic spinal nerv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4" descr="F66122-002-f045.jpg"/>
          <p:cNvPicPr/>
          <p:nvPr/>
        </p:nvPicPr>
        <p:blipFill>
          <a:blip r:embed="rId1"/>
          <a:stretch/>
        </p:blipFill>
        <p:spPr>
          <a:xfrm>
            <a:off x="4876920" y="1600200"/>
            <a:ext cx="3646440" cy="487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3" name="Oval 5"/>
          <p:cNvSpPr/>
          <p:nvPr/>
        </p:nvSpPr>
        <p:spPr>
          <a:xfrm>
            <a:off x="6629400" y="4572000"/>
            <a:ext cx="76320" cy="76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6"/>
          <p:cNvSpPr/>
          <p:nvPr/>
        </p:nvSpPr>
        <p:spPr>
          <a:xfrm>
            <a:off x="6553080" y="3276720"/>
            <a:ext cx="76320" cy="759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UPRERFICIAL GROUP OF BACK MUS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3160" y="1676160"/>
            <a:ext cx="4343400" cy="4647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Includes two sets of muscle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Muscles connecting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vertebral column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to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scapula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 (move scapula through shoulder girdle joints) &amp;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Trapezi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Levator scapula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Rhomboid min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Rhomboid majo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Muscle connecting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vertebral column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to </a:t>
            </a: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humerus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(move humerus through shoulder joint), &amp;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Latissimus dor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4" descr="F66122-002-f043.jpg"/>
          <p:cNvPicPr/>
          <p:nvPr/>
        </p:nvPicPr>
        <p:blipFill>
          <a:blip r:embed="rId1"/>
          <a:stretch/>
        </p:blipFill>
        <p:spPr>
          <a:xfrm>
            <a:off x="5029200" y="1676520"/>
            <a:ext cx="3890880" cy="48006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8" name="TextBox 5"/>
          <p:cNvSpPr/>
          <p:nvPr/>
        </p:nvSpPr>
        <p:spPr>
          <a:xfrm>
            <a:off x="7394400" y="3048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6632280" y="2819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6708600" y="3200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6708600" y="35812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7620120" y="4267080"/>
            <a:ext cx="75960" cy="76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74680"/>
            <a:ext cx="8153280" cy="9446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TRAPEZIU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160" y="1523520"/>
            <a:ext cx="4190760" cy="487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Origi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pines of cervical &amp; thoracic vertebra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Inser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ateral 1/3 of clavicle + acromion &amp; spine of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A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rotation of scapula during </a:t>
            </a:r>
            <a:r>
              <a:rPr b="1" lang="en-US" sz="2000" spc="-1" strike="noStrike">
                <a:solidFill>
                  <a:srgbClr val="cc00ff"/>
                </a:solidFill>
                <a:latin typeface="Calibri"/>
              </a:rPr>
              <a:t>abduction of humerus</a:t>
            </a:r>
            <a:r>
              <a:rPr b="1" lang="en-US" sz="2000" spc="-1" strike="noStrike">
                <a:solidFill>
                  <a:srgbClr val="660033"/>
                </a:solidFill>
                <a:latin typeface="Calibri"/>
              </a:rPr>
              <a:t>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Calibri"/>
              </a:rPr>
              <a:t>above horizont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ff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Upper fibers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levate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00b05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Calibri"/>
              </a:rPr>
              <a:t>Middle fibers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retract scapu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Lower fibers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depress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pinal part of accessory (11</a:t>
            </a:r>
            <a:r>
              <a:rPr b="1" lang="en-US" sz="20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cranial) ne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4" descr="F66122-002-f041.jpg"/>
          <p:cNvPicPr/>
          <p:nvPr/>
        </p:nvPicPr>
        <p:blipFill>
          <a:blip r:embed="rId1"/>
          <a:stretch/>
        </p:blipFill>
        <p:spPr>
          <a:xfrm>
            <a:off x="4784760" y="1584360"/>
            <a:ext cx="4121280" cy="4835520"/>
          </a:xfrm>
          <a:prstGeom prst="rect">
            <a:avLst/>
          </a:prstGeom>
          <a:ln w="0">
            <a:noFill/>
          </a:ln>
        </p:spPr>
      </p:pic>
      <p:cxnSp>
        <p:nvCxnSpPr>
          <p:cNvPr id="76" name="Straight Arrow Connector 9"/>
          <p:cNvCxnSpPr/>
          <p:nvPr/>
        </p:nvCxnSpPr>
        <p:spPr>
          <a:xfrm>
            <a:off x="6476040" y="3657600"/>
            <a:ext cx="229320" cy="45792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77" name="Straight Arrow Connector 11"/>
          <p:cNvCxnSpPr/>
          <p:nvPr/>
        </p:nvCxnSpPr>
        <p:spPr>
          <a:xfrm>
            <a:off x="6248160" y="3429000"/>
            <a:ext cx="533880" cy="216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78" name="Straight Arrow Connector 13"/>
          <p:cNvCxnSpPr/>
          <p:nvPr/>
        </p:nvCxnSpPr>
        <p:spPr>
          <a:xfrm flipV="1">
            <a:off x="6095520" y="3200400"/>
            <a:ext cx="381960" cy="76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9" name="Straight Arrow Connector 12"/>
          <p:cNvCxnSpPr/>
          <p:nvPr/>
        </p:nvCxnSpPr>
        <p:spPr>
          <a:xfrm flipH="1">
            <a:off x="6856200" y="2592360"/>
            <a:ext cx="3600" cy="2286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80" name="Straight Arrow Connector 30"/>
          <p:cNvCxnSpPr/>
          <p:nvPr/>
        </p:nvCxnSpPr>
        <p:spPr>
          <a:xfrm flipH="1">
            <a:off x="7619760" y="3047040"/>
            <a:ext cx="457920" cy="153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Straight Arrow Connector 32"/>
          <p:cNvCxnSpPr/>
          <p:nvPr/>
        </p:nvCxnSpPr>
        <p:spPr>
          <a:xfrm flipH="1" flipV="1">
            <a:off x="7619400" y="3428640"/>
            <a:ext cx="610200" cy="381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2" name="Straight Connector 34"/>
          <p:cNvSpPr/>
          <p:nvPr/>
        </p:nvSpPr>
        <p:spPr>
          <a:xfrm>
            <a:off x="8076600" y="3048120"/>
            <a:ext cx="152280" cy="7617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6863040" y="3733920"/>
            <a:ext cx="69444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6"/>
          <p:cNvSpPr/>
          <p:nvPr/>
        </p:nvSpPr>
        <p:spPr>
          <a:xfrm>
            <a:off x="8008920" y="3200400"/>
            <a:ext cx="93348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7"/>
          <p:cNvSpPr/>
          <p:nvPr/>
        </p:nvSpPr>
        <p:spPr>
          <a:xfrm>
            <a:off x="5263560" y="3276720"/>
            <a:ext cx="72648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1219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LEVATOR SCAPULAE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RHOMBOID MINOR &amp; MAJ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752120"/>
            <a:ext cx="4267080" cy="495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Origi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Levator scapulae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cervical transverse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Rhomboid minor &amp; major: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oracic sp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medial border of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orsal scapular ne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Action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Levator scapulae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elevates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Calibri"/>
              </a:rPr>
              <a:t>Rhomboid minor &amp; major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retract scapul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4" descr="F66122-002-f043.jpg"/>
          <p:cNvPicPr/>
          <p:nvPr/>
        </p:nvPicPr>
        <p:blipFill>
          <a:blip r:embed="rId1"/>
          <a:stretch/>
        </p:blipFill>
        <p:spPr>
          <a:xfrm>
            <a:off x="4800600" y="1828800"/>
            <a:ext cx="4114800" cy="487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9" name="Down Arrow 5"/>
          <p:cNvSpPr/>
          <p:nvPr/>
        </p:nvSpPr>
        <p:spPr>
          <a:xfrm>
            <a:off x="5029200" y="3352680"/>
            <a:ext cx="76320" cy="152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6"/>
          <p:cNvSpPr/>
          <p:nvPr/>
        </p:nvSpPr>
        <p:spPr>
          <a:xfrm>
            <a:off x="5105520" y="3733920"/>
            <a:ext cx="75960" cy="152280"/>
          </a:xfrm>
          <a:prstGeom prst="downArrow">
            <a:avLst>
              <a:gd name="adj1" fmla="val 50000"/>
              <a:gd name="adj2" fmla="val 5011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7"/>
          <p:cNvSpPr/>
          <p:nvPr/>
        </p:nvSpPr>
        <p:spPr>
          <a:xfrm>
            <a:off x="5257800" y="3124080"/>
            <a:ext cx="228600" cy="7632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Straight Arrow Connector 10"/>
          <p:cNvCxnSpPr/>
          <p:nvPr/>
        </p:nvCxnSpPr>
        <p:spPr>
          <a:xfrm flipH="1">
            <a:off x="6476400" y="3276360"/>
            <a:ext cx="153000" cy="2293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 flipH="1">
            <a:off x="6628680" y="3504960"/>
            <a:ext cx="153000" cy="153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4" name="Straight Arrow Connector 14"/>
          <p:cNvCxnSpPr/>
          <p:nvPr/>
        </p:nvCxnSpPr>
        <p:spPr>
          <a:xfrm flipH="1">
            <a:off x="6552360" y="3885120"/>
            <a:ext cx="229320" cy="1530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5" name="Straight Connector 16"/>
          <p:cNvSpPr/>
          <p:nvPr/>
        </p:nvSpPr>
        <p:spPr>
          <a:xfrm>
            <a:off x="6628680" y="3276720"/>
            <a:ext cx="15228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8"/>
          <p:cNvSpPr/>
          <p:nvPr/>
        </p:nvSpPr>
        <p:spPr>
          <a:xfrm>
            <a:off x="6781680" y="34290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6942240" y="3352680"/>
            <a:ext cx="933480" cy="3373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LATISSIMUS DOR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120" y="2286000"/>
            <a:ext cx="3962520" cy="3124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Origi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spines of thoracic vertebra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bicipital groove of humer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thoracodorsal ner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Actions: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extension, adduction &amp; medial rotation</a:t>
            </a:r>
            <a:r>
              <a:rPr b="1" i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of humerus (arm, shoulder joint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4" descr="F66122-002-f041.jpg"/>
          <p:cNvPicPr/>
          <p:nvPr/>
        </p:nvPicPr>
        <p:blipFill>
          <a:blip r:embed="rId1"/>
          <a:stretch/>
        </p:blipFill>
        <p:spPr>
          <a:xfrm>
            <a:off x="4699080" y="1600200"/>
            <a:ext cx="4216320" cy="4876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1" name="Right Arrow 5"/>
          <p:cNvSpPr/>
          <p:nvPr/>
        </p:nvSpPr>
        <p:spPr>
          <a:xfrm>
            <a:off x="5029200" y="617220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9"/>
          <p:cNvCxnSpPr/>
          <p:nvPr/>
        </p:nvCxnSpPr>
        <p:spPr>
          <a:xfrm flipH="1">
            <a:off x="6856200" y="4420800"/>
            <a:ext cx="3600" cy="16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TextBox 11"/>
          <p:cNvSpPr/>
          <p:nvPr/>
        </p:nvSpPr>
        <p:spPr>
          <a:xfrm>
            <a:off x="6863040" y="4800600"/>
            <a:ext cx="69444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ri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H="1" flipV="1">
            <a:off x="5943240" y="4114440"/>
            <a:ext cx="457920" cy="4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14"/>
          <p:cNvSpPr/>
          <p:nvPr/>
        </p:nvSpPr>
        <p:spPr>
          <a:xfrm>
            <a:off x="5189400" y="4343400"/>
            <a:ext cx="933480" cy="3373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nse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Dr. Zeenat Zaidi</dc:creator>
  <dc:description/>
  <dc:language>en-US</dc:language>
  <cp:lastModifiedBy>user</cp:lastModifiedBy>
  <dcterms:modified xsi:type="dcterms:W3CDTF">2015-11-27T10:06:25Z</dcterms:modified>
  <cp:revision>249</cp:revision>
  <dc:subject/>
  <dc:title>MUSCLES OF BACK2011</dc:title>
</cp:coreProperties>
</file>