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15B7-746C-4696-B127-D28E9BA88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76CD-412E-40EB-B6CF-87BAF6362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7346-B87E-42C4-ACD5-46D068DAF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7AE7-7785-4AED-959D-CFC20C5D7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57D5-804A-4FAA-AD32-6D194EDD4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D8AE-2863-43EB-971E-A7550B5F2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8820-4773-4845-9BDF-EC29FB131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266D-8AE3-46F1-B702-1C1092913F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58B-E2E7-44C9-B171-07EABED8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2290-5202-4925-851A-A2CFC3B7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CCC-4297-4CE9-A3CA-08FD9C9D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5D77-A0BE-4265-A8DC-82F125AD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4696-6224-4375-A31F-29FB5C3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E302-1163-4103-BBB7-2315E951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36F9-AC77-47A9-B06A-A8641A7E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2A16-401B-4D1D-A7CA-1C46C670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F696-19AB-4FEA-B14B-E607781B4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CBD-2E58-43D6-B060-09B3B07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B5F-724D-4624-80D8-F4B351C4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7205-F6ED-43A3-BFBC-CB2FA01C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8167-C56F-46AF-84E4-FEA2AA5E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537080" cy="1728720"/>
          </a:xfrm>
          <a:prstGeom prst="rect">
            <a:avLst/>
          </a:prstGeom>
          <a:solidFill>
            <a:srgbClr val="cc66ff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PECTORAL REG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  <a:ea typeface="Arabic Transparent"/>
              </a:rPr>
              <a:t>AND  AX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5013360"/>
            <a:ext cx="4105080" cy="122400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f.Saeed Abulmaka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R.Snaa AL-Shaaraw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胸大肌1"/>
          <p:cNvPicPr/>
          <p:nvPr/>
        </p:nvPicPr>
        <p:blipFill>
          <a:blip r:embed="rId1"/>
          <a:srcRect l="5230" t="0" r="0" b="0"/>
          <a:stretch/>
        </p:blipFill>
        <p:spPr>
          <a:xfrm>
            <a:off x="4859280" y="1557360"/>
            <a:ext cx="4105440" cy="489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-360" y="333360"/>
            <a:ext cx="4071960" cy="616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Base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skin</a:t>
            </a:r>
            <a:r>
              <a:rPr b="0" lang="en-US" sz="2200" spc="-1" strike="noStrike">
                <a:solidFill>
                  <a:srgbClr val="7030a0"/>
                </a:solidFill>
                <a:latin typeface="Arial"/>
                <a:ea typeface="宋体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tretching</a:t>
            </a:r>
            <a:r>
              <a:rPr b="1" lang="en-US" sz="2200" spc="-1" strike="noStrike">
                <a:solidFill>
                  <a:srgbClr val="cc66ff"/>
                </a:solidFill>
                <a:latin typeface="Arial"/>
                <a:ea typeface="宋体"/>
              </a:rPr>
              <a:t>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between the anterior and posterior wal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is bound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In front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terior axillary fo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med by the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ower border of Pectoralis major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Behi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erior axillary fo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formed by  tendons of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latissimus dorsi and teres 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US" sz="2200" spc="-1" strike="noStrike">
                <a:solidFill>
                  <a:srgbClr val="ff00ff"/>
                </a:solidFill>
                <a:latin typeface="Arial"/>
              </a:rPr>
              <a:t>upper 4 to 5 ribs &amp; the chest wal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H:\dad\Student Gray\7. Upper limb\F66122-007-f039a.jpg"/>
          <p:cNvPicPr/>
          <p:nvPr/>
        </p:nvPicPr>
        <p:blipFill>
          <a:blip r:embed="rId1"/>
          <a:srcRect l="4690" t="4958" r="0" b="5824"/>
          <a:stretch/>
        </p:blipFill>
        <p:spPr>
          <a:xfrm>
            <a:off x="4286160" y="333360"/>
            <a:ext cx="4643640" cy="597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Gray1215.png"/>
          <p:cNvPicPr/>
          <p:nvPr/>
        </p:nvPicPr>
        <p:blipFill>
          <a:blip r:embed="rId2"/>
          <a:stretch/>
        </p:blipFill>
        <p:spPr>
          <a:xfrm>
            <a:off x="4286160" y="285840"/>
            <a:ext cx="4429080" cy="60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5" descr="腋窝9"/>
          <p:cNvPicPr/>
          <p:nvPr/>
        </p:nvPicPr>
        <p:blipFill>
          <a:blip r:embed="rId3"/>
          <a:srcRect l="7571" t="0" r="0" b="0"/>
          <a:stretch/>
        </p:blipFill>
        <p:spPr>
          <a:xfrm>
            <a:off x="4286160" y="285840"/>
            <a:ext cx="4429080" cy="607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锁胸筋膜4"/>
          <p:cNvPicPr/>
          <p:nvPr/>
        </p:nvPicPr>
        <p:blipFill>
          <a:blip r:embed="rId1"/>
          <a:stretch/>
        </p:blipFill>
        <p:spPr>
          <a:xfrm>
            <a:off x="3851280" y="404640"/>
            <a:ext cx="3780000" cy="61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3343320" cy="31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Anterior w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ectoralis maj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ectoralis min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Subclavi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lavipectoral fas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851280" y="472428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ctoralis maj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543800" y="2895480"/>
            <a:ext cx="142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ctoralis min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6804000" y="60948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lavipectoral fas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12"/>
          <p:cNvCxnSpPr/>
          <p:nvPr/>
        </p:nvCxnSpPr>
        <p:spPr>
          <a:xfrm flipV="1">
            <a:off x="4284720" y="2420280"/>
            <a:ext cx="219600" cy="86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Straight Arrow Connector 14"/>
          <p:cNvCxnSpPr/>
          <p:nvPr/>
        </p:nvCxnSpPr>
        <p:spPr>
          <a:xfrm flipH="1">
            <a:off x="5723640" y="3284280"/>
            <a:ext cx="2088360" cy="64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Straight Arrow Connector 18"/>
          <p:cNvCxnSpPr>
            <a:stCxn id="105" idx="1"/>
          </p:cNvCxnSpPr>
          <p:nvPr/>
        </p:nvCxnSpPr>
        <p:spPr>
          <a:xfrm flipH="1">
            <a:off x="5147640" y="794880"/>
            <a:ext cx="1656360" cy="227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Straight Arrow Connector 16"/>
          <p:cNvCxnSpPr>
            <a:stCxn id="105" idx="1"/>
          </p:cNvCxnSpPr>
          <p:nvPr/>
        </p:nvCxnSpPr>
        <p:spPr>
          <a:xfrm flipH="1">
            <a:off x="6300360" y="794880"/>
            <a:ext cx="504000" cy="3498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2920" y="620280"/>
            <a:ext cx="3286080" cy="309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Posterior w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bscapular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tissimus dors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res major musc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H:\dad\Student Gray\7. Upper limb\F66122-007-f044.jpg"/>
          <p:cNvPicPr/>
          <p:nvPr/>
        </p:nvPicPr>
        <p:blipFill>
          <a:blip r:embed="rId1"/>
          <a:srcRect l="14288" t="0" r="6494" b="8150"/>
          <a:stretch/>
        </p:blipFill>
        <p:spPr>
          <a:xfrm>
            <a:off x="3571920" y="333360"/>
            <a:ext cx="5321160" cy="6264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0"/>
          <p:cNvSpPr/>
          <p:nvPr/>
        </p:nvSpPr>
        <p:spPr>
          <a:xfrm>
            <a:off x="7667640" y="1844640"/>
            <a:ext cx="1081080" cy="43200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7667640" y="2781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0"/>
          <p:cNvSpPr/>
          <p:nvPr/>
        </p:nvSpPr>
        <p:spPr>
          <a:xfrm>
            <a:off x="7740720" y="4941720"/>
            <a:ext cx="1152360" cy="28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5-Point Star 8"/>
          <p:cNvSpPr/>
          <p:nvPr/>
        </p:nvSpPr>
        <p:spPr>
          <a:xfrm>
            <a:off x="6715080" y="1928880"/>
            <a:ext cx="214200" cy="214200"/>
          </a:xfrm>
          <a:prstGeom prst="pi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5-Point Star 9"/>
          <p:cNvSpPr/>
          <p:nvPr/>
        </p:nvSpPr>
        <p:spPr>
          <a:xfrm>
            <a:off x="6000840" y="2857680"/>
            <a:ext cx="142920" cy="142560"/>
          </a:xfrm>
          <a:prstGeom prst="pie">
            <a:avLst/>
          </a:prstGeom>
          <a:solidFill>
            <a:srgbClr val="3333ff"/>
          </a:solidFill>
          <a:ln w="93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5-Point Star 10"/>
          <p:cNvSpPr/>
          <p:nvPr/>
        </p:nvSpPr>
        <p:spPr>
          <a:xfrm>
            <a:off x="6572160" y="5000760"/>
            <a:ext cx="142920" cy="214200"/>
          </a:xfrm>
          <a:prstGeom prst="pie">
            <a:avLst/>
          </a:prstGeom>
          <a:solidFill>
            <a:srgbClr val="3333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692280"/>
            <a:ext cx="3249720" cy="502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The medial wall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is wide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erratu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Upper 4-5 ribs &amp; Intercostal muscle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The lateral wall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t is narrow and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form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oracobrachi-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iceps brachi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Bicepital groove of the hume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5940360" y="2224080"/>
            <a:ext cx="15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919840" y="2641680"/>
            <a:ext cx="641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C:\Documents and Settings\Free User\My Documents\My Pictures\C9FF14.png"/>
          <p:cNvPicPr/>
          <p:nvPr/>
        </p:nvPicPr>
        <p:blipFill>
          <a:blip r:embed="rId1"/>
          <a:srcRect l="46620" t="47192" r="2003" b="14990"/>
          <a:stretch/>
        </p:blipFill>
        <p:spPr>
          <a:xfrm>
            <a:off x="3500280" y="260280"/>
            <a:ext cx="5429520" cy="633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952720" cy="934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s of The Axi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33433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Cord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brach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of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  <a:ea typeface="宋体"/>
              </a:rPr>
              <a:t>brachial plex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66"/>
                </a:solidFill>
                <a:uFillTx/>
                <a:latin typeface="Arial"/>
                <a:ea typeface="宋体"/>
              </a:rPr>
              <a:t>Axillary</a:t>
            </a:r>
            <a:r>
              <a:rPr b="1" lang="en-US" sz="2200" spc="-1" strike="noStrike">
                <a:solidFill>
                  <a:srgbClr val="ff0066"/>
                </a:solidFill>
                <a:latin typeface="Arial"/>
                <a:ea typeface="宋体"/>
              </a:rPr>
              <a:t> artery and its branch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Arial"/>
                <a:ea typeface="宋体"/>
              </a:rPr>
              <a:t>Axillary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  <a:ea typeface="宋体"/>
              </a:rPr>
              <a:t> vein and its  tributa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xillar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lymph no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Axillar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fa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Loo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 connective tissu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179280" y="5805360"/>
            <a:ext cx="8785440" cy="88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e neurovascular bundle is enclosed in connective tissue sheath, called 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axillary shea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腋窝1"/>
          <p:cNvPicPr/>
          <p:nvPr/>
        </p:nvPicPr>
        <p:blipFill>
          <a:blip r:embed="rId1"/>
          <a:stretch/>
        </p:blipFill>
        <p:spPr>
          <a:xfrm>
            <a:off x="3492360" y="260280"/>
            <a:ext cx="5256360" cy="54723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3"/>
          <p:cNvSpPr/>
          <p:nvPr/>
        </p:nvSpPr>
        <p:spPr>
          <a:xfrm>
            <a:off x="3708360" y="260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illary a. &amp; v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4"/>
          <p:cNvSpPr/>
          <p:nvPr/>
        </p:nvSpPr>
        <p:spPr>
          <a:xfrm>
            <a:off x="3833640" y="394956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chial plex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16"/>
          <p:cNvCxnSpPr/>
          <p:nvPr/>
        </p:nvCxnSpPr>
        <p:spPr>
          <a:xfrm flipV="1">
            <a:off x="4932000" y="1557000"/>
            <a:ext cx="2377080" cy="2520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Straight Arrow Connector 19"/>
          <p:cNvCxnSpPr>
            <a:stCxn id="126" idx="2"/>
          </p:cNvCxnSpPr>
          <p:nvPr/>
        </p:nvCxnSpPr>
        <p:spPr>
          <a:xfrm>
            <a:off x="4608000" y="630000"/>
            <a:ext cx="2628360" cy="999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25"/>
          <p:cNvCxnSpPr/>
          <p:nvPr/>
        </p:nvCxnSpPr>
        <p:spPr>
          <a:xfrm flipH="1" flipV="1">
            <a:off x="6552360" y="3428280"/>
            <a:ext cx="97236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360" y="2204640"/>
            <a:ext cx="5472000" cy="5763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1488b"/>
                </a:solidFill>
                <a:latin typeface="Arial"/>
              </a:rPr>
              <a:t>Location &amp; Format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9280" y="2997000"/>
            <a:ext cx="8785440" cy="1944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achial Plex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esent i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osterior triang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xil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formed by the union of the anterior Rami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nd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oracic spinal nerve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547640" y="260280"/>
            <a:ext cx="568836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Calibri"/>
              </a:rPr>
              <a:t>What is a Brachial Plex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04920" y="1052640"/>
            <a:ext cx="8305560" cy="94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chial Plexus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etwork of nerves tha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s formed at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oot of the neck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o enter the upper limb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971640" y="5084640"/>
            <a:ext cx="7488000" cy="137376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5 &amp; C6 unite to form----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per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 of C7 continuous as the--------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dle trun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 of C8 &amp; T1 unite to form----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wer trunk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7E4F-7368-412B-9B95-E6AC819B7B1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E:\dad\Student Gray\7. Upper limb\F66122-007-f052.jpg"/>
          <p:cNvPicPr/>
          <p:nvPr/>
        </p:nvPicPr>
        <p:blipFill>
          <a:blip r:embed="rId1"/>
          <a:srcRect l="2411" t="0" r="35852" b="56733"/>
          <a:stretch/>
        </p:blipFill>
        <p:spPr>
          <a:xfrm>
            <a:off x="228600" y="152280"/>
            <a:ext cx="868680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Rectangle 4"/>
          <p:cNvSpPr/>
          <p:nvPr/>
        </p:nvSpPr>
        <p:spPr>
          <a:xfrm>
            <a:off x="250920" y="3860640"/>
            <a:ext cx="8642160" cy="28670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he Plexus can be divided into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5 stage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ot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 the posterior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unk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n the posterior∆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ivi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hind the clavicle (in cervico-axillary cana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ds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ranch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in the axill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d6009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The first 2 st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posterior triangl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the last 2 sage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ie</a:t>
            </a:r>
            <a:r>
              <a:rPr b="1" lang="en-US" sz="1800" spc="-1" strike="noStrike">
                <a:solidFill>
                  <a:srgbClr val="d60093"/>
                </a:solidFill>
                <a:latin typeface="Calibri"/>
              </a:rPr>
              <a:t> in the axil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A94F-DA7B-4453-9B7D-E0C78EDBF0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71320" y="4500360"/>
            <a:ext cx="8143560" cy="221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nterior division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f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upper and middle trunk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uni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form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Later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anterior division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f the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lower trunk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tinu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the          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 </a:t>
            </a:r>
            <a:r>
              <a:rPr b="0" i="1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posterior division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2200" spc="-1" strike="noStrike">
                <a:solidFill>
                  <a:srgbClr val="3333ff"/>
                </a:solidFill>
                <a:latin typeface="Arial"/>
              </a:rPr>
              <a:t>three trunk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in to form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Posterior co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Brachial001"/>
          <p:cNvPicPr/>
          <p:nvPr/>
        </p:nvPicPr>
        <p:blipFill>
          <a:blip r:embed="rId1"/>
          <a:srcRect l="2751" t="0" r="3642" b="0"/>
          <a:stretch/>
        </p:blipFill>
        <p:spPr>
          <a:xfrm>
            <a:off x="324000" y="0"/>
            <a:ext cx="8496000" cy="4437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FDE6-640C-4F4A-A251-3BC4EAF5DC3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44000" y="189000"/>
            <a:ext cx="720720" cy="5976720"/>
          </a:xfrm>
          <a:prstGeom prst="rect">
            <a:avLst/>
          </a:prstGeom>
          <a:solidFill>
            <a:srgbClr val="72bfc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NCHE 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24000" y="189000"/>
          <a:ext cx="7777080" cy="4938480"/>
        </p:xfrm>
        <a:graphic>
          <a:graphicData uri="http://schemas.openxmlformats.org/drawingml/2006/table">
            <a:tbl>
              <a:tblPr/>
              <a:tblGrid>
                <a:gridCol w="2738160"/>
                <a:gridCol w="2740320"/>
                <a:gridCol w="22986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cord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ord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erior cord-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d2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eral pector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pectoral nerve.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9cd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xillary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culocutaneous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lnar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nerve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later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nerve (medial root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 &amp; lower subscapular nerves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l cutaneous nerve of arm &amp; forearm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racodorsal or N. to latissimus dorsi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8" name="Picture 2" descr="Brachial001"/>
          <p:cNvPicPr/>
          <p:nvPr/>
        </p:nvPicPr>
        <p:blipFill>
          <a:blip r:embed="rId1"/>
          <a:srcRect l="2675" t="0" r="3713" b="0"/>
          <a:stretch/>
        </p:blipFill>
        <p:spPr>
          <a:xfrm>
            <a:off x="324000" y="2637000"/>
            <a:ext cx="7777080" cy="3887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9" name="AutoShape 10"/>
          <p:cNvSpPr/>
          <p:nvPr/>
        </p:nvSpPr>
        <p:spPr>
          <a:xfrm>
            <a:off x="5715000" y="3000240"/>
            <a:ext cx="1152360" cy="28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572160" y="5429160"/>
            <a:ext cx="115272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4214880" y="3214800"/>
            <a:ext cx="115236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0"/>
          <p:cNvSpPr/>
          <p:nvPr/>
        </p:nvSpPr>
        <p:spPr>
          <a:xfrm>
            <a:off x="4429080" y="3500280"/>
            <a:ext cx="1152720" cy="2876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1500120" y="4143240"/>
            <a:ext cx="1152720" cy="2145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a6e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285840" y="4643280"/>
            <a:ext cx="1081080" cy="1429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a6e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214200" y="5429160"/>
            <a:ext cx="1224000" cy="2145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a6e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214200" y="5643720"/>
            <a:ext cx="1152720" cy="2854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"/>
          <p:cNvSpPr/>
          <p:nvPr/>
        </p:nvSpPr>
        <p:spPr>
          <a:xfrm>
            <a:off x="214200" y="5072040"/>
            <a:ext cx="1152720" cy="35712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2" descr="rc 017"/>
          <p:cNvPicPr/>
          <p:nvPr/>
        </p:nvPicPr>
        <p:blipFill>
          <a:blip r:embed="rId1"/>
          <a:srcRect l="4286" t="4854" r="5707" b="2754"/>
          <a:stretch/>
        </p:blipFill>
        <p:spPr>
          <a:xfrm>
            <a:off x="0" y="285840"/>
            <a:ext cx="4643280" cy="6383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9" name="Picture 4" descr="nerves002"/>
          <p:cNvPicPr/>
          <p:nvPr/>
        </p:nvPicPr>
        <p:blipFill>
          <a:blip r:embed="rId2"/>
          <a:srcRect l="0" t="3799" r="4124" b="2752"/>
          <a:stretch/>
        </p:blipFill>
        <p:spPr>
          <a:xfrm>
            <a:off x="4788000" y="189000"/>
            <a:ext cx="4356000" cy="6480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5286240" y="428760"/>
            <a:ext cx="3286440" cy="146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ion of Long thoracic nerve 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lysis of Serratus anterior muscle……Winging of scapu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"/>
          <p:cNvSpPr/>
          <p:nvPr/>
        </p:nvSpPr>
        <p:spPr>
          <a:xfrm>
            <a:off x="785880" y="581040"/>
            <a:ext cx="34290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location of shoulder joint…….Winging of Scapul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492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362800" cy="53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the end of the lecture the students should be able to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dentify and describe the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uscles of the pectoral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aj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ectoralis min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clav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rratus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and demonstrat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undar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en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xi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rm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rachial plex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an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357200"/>
            <a:ext cx="8229600" cy="2214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508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28760" y="981000"/>
            <a:ext cx="8215200" cy="5688000"/>
          </a:xfrm>
          <a:prstGeom prst="rect">
            <a:avLst/>
          </a:prstGeom>
          <a:solidFill>
            <a:srgbClr val="defd23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Muscles of the pectoral region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re connecting the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upper limb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ith </a:t>
            </a: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nterior and lateral thoracic wall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toralis maj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ctoralis mi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clavi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ratus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 pyramidal space situated between the upper part of arm and the side of the chest, it has 4 walls (anterior, posterior, medial and lateral), base, and ap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axill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an important space as it transmits the neurovascular bundle from the neck and thorax to the upper lim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contai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llary vess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ds and branches of the brachial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llary lymph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403236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ectorali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219280" y="260280"/>
            <a:ext cx="3745080" cy="640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Origin 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head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lavicular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rom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l ½ of the front of the clavi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ernocostal hea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Fr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6 costal cartil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oneurosis of the external oblique mus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Insertio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lip of bicipital gro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Nerve supply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l &amp; lateral pectoral 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Action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dduction and medial rotation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of the a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Clavicular head helps in f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lexion of arm (shoulder)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H:\dad\Student Gray\7. Upper limb\F66122-007-f040.jpg"/>
          <p:cNvPicPr/>
          <p:nvPr/>
        </p:nvPicPr>
        <p:blipFill>
          <a:blip r:embed="rId1"/>
          <a:srcRect l="0" t="0" r="0" b="3857"/>
          <a:stretch/>
        </p:blipFill>
        <p:spPr>
          <a:xfrm>
            <a:off x="179280" y="1341360"/>
            <a:ext cx="4897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3889440" cy="561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ectoralis Mi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35280" y="620280"/>
            <a:ext cx="3529080" cy="554508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&amp;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s close to their costal 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acoid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l pectoral ner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ression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u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b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ward and outwards during deep inspi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H:\dad\Student Gray\7. Upper limb\F66122-007-f048.jpg"/>
          <p:cNvPicPr/>
          <p:nvPr/>
        </p:nvPicPr>
        <p:blipFill>
          <a:blip r:embed="rId1"/>
          <a:srcRect l="11428" t="0" r="0" b="3607"/>
          <a:stretch/>
        </p:blipFill>
        <p:spPr>
          <a:xfrm>
            <a:off x="250920" y="981000"/>
            <a:ext cx="5041800" cy="568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0"/>
          <p:cNvSpPr/>
          <p:nvPr/>
        </p:nvSpPr>
        <p:spPr>
          <a:xfrm>
            <a:off x="3492360" y="306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27672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3203640" y="4005360"/>
            <a:ext cx="1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179280" y="4005360"/>
            <a:ext cx="851040" cy="2872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3600720" cy="86364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bclavi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35280" y="404640"/>
            <a:ext cx="3529080" cy="590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Origi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b at its   costal cartil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Insertion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vian groove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ddle 1/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inferior surfac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vi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rve to subclavius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pper trun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achial plex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ff"/>
                </a:solidFill>
                <a:uFillTx/>
                <a:latin typeface="Arial"/>
              </a:rPr>
              <a:t>Action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x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vi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movement of shoulder j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:\dad\Student Gray\7. Upper limb\F66122-007-f049.jpg"/>
          <p:cNvPicPr/>
          <p:nvPr/>
        </p:nvPicPr>
        <p:blipFill>
          <a:blip r:embed="rId1"/>
          <a:srcRect l="23288" t="0" r="3250" b="21307"/>
          <a:stretch/>
        </p:blipFill>
        <p:spPr>
          <a:xfrm>
            <a:off x="395280" y="1341360"/>
            <a:ext cx="4824360" cy="50403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0"/>
          <p:cNvSpPr/>
          <p:nvPr/>
        </p:nvSpPr>
        <p:spPr>
          <a:xfrm>
            <a:off x="3132000" y="1268280"/>
            <a:ext cx="648000" cy="28908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https://upload.wikimedia.org/wikipedia/commons/2/2f/Subclavius_muscle_frontal.png"/>
          <p:cNvPicPr/>
          <p:nvPr/>
        </p:nvPicPr>
        <p:blipFill>
          <a:blip r:embed="rId2"/>
          <a:stretch/>
        </p:blipFill>
        <p:spPr>
          <a:xfrm>
            <a:off x="357120" y="1143000"/>
            <a:ext cx="4929120" cy="52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608360" cy="71892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vipectoral Fas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8000" y="188640"/>
            <a:ext cx="3816360" cy="3095640"/>
          </a:xfrm>
          <a:prstGeom prst="rect">
            <a:avLst/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cken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mbrane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ep fasc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ween th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subclaviu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 pectoralis min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3333ff"/>
                </a:solidFill>
                <a:uFillTx/>
                <a:latin typeface="Arial"/>
              </a:rPr>
              <a:t>It is pierced by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teral pectoral nerve</a:t>
            </a:r>
            <a:r>
              <a:rPr b="0" lang="en-US" sz="2200" spc="-1" strike="noStrike">
                <a:solidFill>
                  <a:srgbClr val="33cc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oraco- acromial art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ff"/>
                </a:solidFill>
                <a:latin typeface="Arial"/>
              </a:rPr>
              <a:t>Cephalic ve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ew lymp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锁胸筋膜4"/>
          <p:cNvPicPr/>
          <p:nvPr/>
        </p:nvPicPr>
        <p:blipFill>
          <a:blip r:embed="rId1"/>
          <a:srcRect l="3010" t="0" r="2261" b="2620"/>
          <a:stretch/>
        </p:blipFill>
        <p:spPr>
          <a:xfrm>
            <a:off x="179280" y="1052640"/>
            <a:ext cx="4824360" cy="5616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1" name="Picture 3" descr="C:\Documents and Settings\Free User\My Documents\My Pictures\C9FF14.png"/>
          <p:cNvPicPr/>
          <p:nvPr/>
        </p:nvPicPr>
        <p:blipFill>
          <a:blip r:embed="rId2"/>
          <a:srcRect l="-718" t="0" r="57165" b="61280"/>
          <a:stretch/>
        </p:blipFill>
        <p:spPr>
          <a:xfrm>
            <a:off x="5572080" y="3546360"/>
            <a:ext cx="324000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AutoShape 10"/>
          <p:cNvSpPr/>
          <p:nvPr/>
        </p:nvSpPr>
        <p:spPr>
          <a:xfrm>
            <a:off x="7358040" y="4286160"/>
            <a:ext cx="1357200" cy="28584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79280" y="188640"/>
            <a:ext cx="3097440" cy="6026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Origi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er eight ri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Inser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terior aspect of the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edial borde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ferior ang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apu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Nerve supply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ng thoracic nerv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rom roots of brachial plexus,C5,6,7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A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aws the scapula forward in boxing, (protrusion or protraction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boxer's muscle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tates scapula outwards in raising the arm above 90 degre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4356000" y="189000"/>
            <a:ext cx="374508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宋体"/>
              </a:rPr>
              <a:t>Serratus anterior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H:\dad\Student Gray\7. Upper limb\F66122-007-f042.jpg"/>
          <p:cNvPicPr/>
          <p:nvPr/>
        </p:nvPicPr>
        <p:blipFill>
          <a:blip r:embed="rId1"/>
          <a:srcRect l="0" t="0" r="0" b="6494"/>
          <a:stretch/>
        </p:blipFill>
        <p:spPr>
          <a:xfrm>
            <a:off x="3564000" y="907920"/>
            <a:ext cx="5184720" cy="5689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802B21B9"/>
          <p:cNvPicPr/>
          <p:nvPr/>
        </p:nvPicPr>
        <p:blipFill>
          <a:blip r:embed="rId2"/>
          <a:srcRect l="33268" t="7549" r="10996" b="60905"/>
          <a:stretch/>
        </p:blipFill>
        <p:spPr>
          <a:xfrm>
            <a:off x="3348000" y="4149720"/>
            <a:ext cx="244800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AutoShape 10"/>
          <p:cNvSpPr/>
          <p:nvPr/>
        </p:nvSpPr>
        <p:spPr>
          <a:xfrm>
            <a:off x="3492360" y="3789360"/>
            <a:ext cx="1224000" cy="360360"/>
          </a:xfrm>
          <a:prstGeom prst="roundRect">
            <a:avLst>
              <a:gd name="adj" fmla="val 16667"/>
            </a:avLst>
          </a:prstGeom>
          <a:solidFill>
            <a:srgbClr val="ff9900">
              <a:alpha val="19000"/>
            </a:srgbClr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7920"/>
            <a:ext cx="3095640" cy="712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AXI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3456000" cy="468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pyramid-shap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space betwee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pper pa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de of the chest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  <a:ea typeface="宋体"/>
              </a:rPr>
              <a:t>through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j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neurovascul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ructures pass between neck &amp;  thorax and upper lim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xilla has a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apex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four w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腋窝6"/>
          <p:cNvPicPr/>
          <p:nvPr/>
        </p:nvPicPr>
        <p:blipFill>
          <a:blip r:embed="rId1">
            <a:lum contrast="12000"/>
          </a:blip>
          <a:srcRect l="9355" t="1837" r="4120" b="2791"/>
          <a:stretch/>
        </p:blipFill>
        <p:spPr>
          <a:xfrm>
            <a:off x="5796000" y="260280"/>
            <a:ext cx="3097080" cy="4608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腋窝3"/>
          <p:cNvPicPr/>
          <p:nvPr/>
        </p:nvPicPr>
        <p:blipFill>
          <a:blip r:embed="rId2"/>
          <a:srcRect l="10147" t="0" r="0" b="0"/>
          <a:stretch/>
        </p:blipFill>
        <p:spPr>
          <a:xfrm>
            <a:off x="3564000" y="2997360"/>
            <a:ext cx="30240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384720" cy="865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undaries of the Ax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3456000" cy="540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ff"/>
                </a:solidFill>
                <a:uFillTx/>
                <a:latin typeface="Arial"/>
                <a:ea typeface="宋体"/>
              </a:rPr>
              <a:t>Apex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  <a:ea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directed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pwards &amp; mediall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the root of the ne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call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Cervicoaxillary ca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ff"/>
                </a:solidFill>
                <a:uFillTx/>
                <a:latin typeface="Arial"/>
              </a:rPr>
              <a:t>It is boun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by 3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ne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vic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nterior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per border of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pul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osteriorl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er border of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rst rib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medi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腋窝2"/>
          <p:cNvPicPr/>
          <p:nvPr/>
        </p:nvPicPr>
        <p:blipFill>
          <a:blip r:embed="rId1"/>
          <a:srcRect l="0" t="3491" r="3240" b="3480"/>
          <a:stretch/>
        </p:blipFill>
        <p:spPr>
          <a:xfrm>
            <a:off x="3708360" y="260280"/>
            <a:ext cx="5111640" cy="640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5" name="TextBox 4"/>
          <p:cNvSpPr/>
          <p:nvPr/>
        </p:nvSpPr>
        <p:spPr>
          <a:xfrm>
            <a:off x="5364000" y="1484280"/>
            <a:ext cx="4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5724360" y="162864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5940360" y="1773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6659640" y="2565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7093080" y="2781360"/>
            <a:ext cx="47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7380360" y="2997360"/>
            <a:ext cx="6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7667640" y="30686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8028000" y="3141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7451640" y="1197000"/>
            <a:ext cx="144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7308720" y="17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5"/>
          <p:cNvSpPr/>
          <p:nvPr/>
        </p:nvSpPr>
        <p:spPr>
          <a:xfrm>
            <a:off x="7380360" y="206064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6"/>
          <p:cNvSpPr/>
          <p:nvPr/>
        </p:nvSpPr>
        <p:spPr>
          <a:xfrm>
            <a:off x="738036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17:16:34Z</dcterms:created>
  <dc:creator>Prof. Saeed Abuel Makarem</dc:creator>
  <dc:description/>
  <dc:language>en-US</dc:language>
  <cp:lastModifiedBy>user</cp:lastModifiedBy>
  <dcterms:modified xsi:type="dcterms:W3CDTF">2015-12-04T06:54:33Z</dcterms:modified>
  <cp:revision>22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ectoral region &amp; Axilla">
    <vt:lpwstr>Prof. Saeed Abuel Makarem</vt:lpwstr>
  </property>
</Properties>
</file>