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C17-656E-48FA-BAB5-8C6C9F3F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402-DAFA-49CD-B8AA-7BF891B3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31B2-816F-46D4-8EAB-2646D72F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C7A2-8BE5-492B-9B55-92EB5E663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375-1F61-412C-9C27-AB5AEFB7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CEBA-C571-4E6A-A236-5F74FDC05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355-2FE0-4E41-BA75-CDF6EFF3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55F2-A9ED-40F8-9F43-2856F5AC9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6AF-9A59-4B20-94F5-E8EEB794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775-3B05-45D8-8407-90C2AE20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8E1-B876-4D7B-B791-02C02DD2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7C7-6DF9-483B-9DBE-C7A949F8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FBD-AD7B-4441-B7DE-B153209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689-CEDA-44C9-BBFD-9D33C18C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8BB-452C-43E6-B2B7-2E83A04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BFE-8089-4AAC-8B3A-1824BC3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CC1-2BA6-4066-A5D4-4B9EE637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ACD-82D9-4939-9027-0EFB24A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127-86A4-4528-9BDB-A44B58C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665-0138-498B-AAD1-0E37A8A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F5E-223B-4C46-B3CD-AD89D9DB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537080" cy="1728720"/>
          </a:xfrm>
          <a:prstGeom prst="rect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PECTORAL REG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AND  AX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5013360"/>
            <a:ext cx="4105080" cy="122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f.Saeed Abulmaka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.Snaa AL-Shaaraw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胸大肌1"/>
          <p:cNvPicPr/>
          <p:nvPr/>
        </p:nvPicPr>
        <p:blipFill>
          <a:blip r:embed="rId1"/>
          <a:srcRect l="5230" t="0" r="0" b="0"/>
          <a:stretch/>
        </p:blipFill>
        <p:spPr>
          <a:xfrm>
            <a:off x="4859280" y="1557360"/>
            <a:ext cx="41054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333360"/>
            <a:ext cx="4071960" cy="616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Bas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skin</a:t>
            </a:r>
            <a:r>
              <a:rPr b="0" lang="en-US" sz="22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tretching</a:t>
            </a:r>
            <a:r>
              <a:rPr b="1" lang="en-US" sz="2200" spc="-1" strike="noStrike">
                <a:solidFill>
                  <a:srgbClr val="cc66ff"/>
                </a:solidFill>
                <a:latin typeface="Arial"/>
                <a:ea typeface="宋体"/>
              </a:rPr>
              <a:t>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etween the anterior and posterior w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s boun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front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rior axillary fo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med by the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ower border of Pectoralis major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hi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erior axillary fo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med by  tendons of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atissimus dorsi and teres 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upper 4 to 5 ribs &amp; the chest w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:\dad\Student Gray\7. Upper limb\F66122-007-f039a.jpg"/>
          <p:cNvPicPr/>
          <p:nvPr/>
        </p:nvPicPr>
        <p:blipFill>
          <a:blip r:embed="rId1"/>
          <a:srcRect l="4690" t="4958" r="0" b="5824"/>
          <a:stretch/>
        </p:blipFill>
        <p:spPr>
          <a:xfrm>
            <a:off x="4286160" y="333360"/>
            <a:ext cx="4643640" cy="597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ray1215.png"/>
          <p:cNvPicPr/>
          <p:nvPr/>
        </p:nvPicPr>
        <p:blipFill>
          <a:blip r:embed="rId2"/>
          <a:stretch/>
        </p:blipFill>
        <p:spPr>
          <a:xfrm>
            <a:off x="4286160" y="285840"/>
            <a:ext cx="442908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5" descr="腋窝9"/>
          <p:cNvPicPr/>
          <p:nvPr/>
        </p:nvPicPr>
        <p:blipFill>
          <a:blip r:embed="rId3"/>
          <a:srcRect l="7571" t="0" r="0" b="0"/>
          <a:stretch/>
        </p:blipFill>
        <p:spPr>
          <a:xfrm>
            <a:off x="4286160" y="285840"/>
            <a:ext cx="442908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锁胸筋膜4"/>
          <p:cNvPicPr/>
          <p:nvPr/>
        </p:nvPicPr>
        <p:blipFill>
          <a:blip r:embed="rId1"/>
          <a:stretch/>
        </p:blipFill>
        <p:spPr>
          <a:xfrm>
            <a:off x="3851280" y="404640"/>
            <a:ext cx="378000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33433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Anterior w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ectoralis maj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ectoralis min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ubclav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lavipectoral fas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5128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ctoralis maj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543800" y="289548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ctoralis min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804000" y="6094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avipectoral fas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2"/>
          <p:cNvCxnSpPr/>
          <p:nvPr/>
        </p:nvCxnSpPr>
        <p:spPr>
          <a:xfrm flipV="1">
            <a:off x="4284720" y="2420280"/>
            <a:ext cx="2196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4"/>
          <p:cNvCxnSpPr/>
          <p:nvPr/>
        </p:nvCxnSpPr>
        <p:spPr>
          <a:xfrm flipH="1">
            <a:off x="5723640" y="3284280"/>
            <a:ext cx="2088360" cy="64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Straight Arrow Connector 18"/>
          <p:cNvCxnSpPr>
            <a:stCxn id="105" idx="1"/>
          </p:cNvCxnSpPr>
          <p:nvPr/>
        </p:nvCxnSpPr>
        <p:spPr>
          <a:xfrm flipH="1">
            <a:off x="5147640" y="794880"/>
            <a:ext cx="1656360" cy="227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Straight Arrow Connector 16"/>
          <p:cNvCxnSpPr>
            <a:stCxn id="105" idx="1"/>
          </p:cNvCxnSpPr>
          <p:nvPr/>
        </p:nvCxnSpPr>
        <p:spPr>
          <a:xfrm flipH="1">
            <a:off x="6300360" y="794880"/>
            <a:ext cx="504000" cy="349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2920" y="620280"/>
            <a:ext cx="3286080" cy="309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Posterior w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capular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tissimus dor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es major musc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ad\Student Gray\7. Upper limb\F66122-007-f044.jpg"/>
          <p:cNvPicPr/>
          <p:nvPr/>
        </p:nvPicPr>
        <p:blipFill>
          <a:blip r:embed="rId1"/>
          <a:srcRect l="14288" t="0" r="6494" b="8150"/>
          <a:stretch/>
        </p:blipFill>
        <p:spPr>
          <a:xfrm>
            <a:off x="3571920" y="333360"/>
            <a:ext cx="5321160" cy="6264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/>
          <p:cNvSpPr/>
          <p:nvPr/>
        </p:nvSpPr>
        <p:spPr>
          <a:xfrm>
            <a:off x="7667640" y="1844640"/>
            <a:ext cx="10810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667640" y="278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740720" y="4941720"/>
            <a:ext cx="115236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-Point Star 8"/>
          <p:cNvSpPr/>
          <p:nvPr/>
        </p:nvSpPr>
        <p:spPr>
          <a:xfrm>
            <a:off x="6715080" y="1928880"/>
            <a:ext cx="214200" cy="214200"/>
          </a:xfrm>
          <a:prstGeom prst="pi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-Point Star 9"/>
          <p:cNvSpPr/>
          <p:nvPr/>
        </p:nvSpPr>
        <p:spPr>
          <a:xfrm>
            <a:off x="6000840" y="2857680"/>
            <a:ext cx="142920" cy="142560"/>
          </a:xfrm>
          <a:prstGeom prst="pi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-Point Star 10"/>
          <p:cNvSpPr/>
          <p:nvPr/>
        </p:nvSpPr>
        <p:spPr>
          <a:xfrm>
            <a:off x="6572160" y="5000760"/>
            <a:ext cx="142920" cy="214200"/>
          </a:xfrm>
          <a:prstGeom prst="pie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692280"/>
            <a:ext cx="3249720" cy="502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The medial wall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wide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per 4-5 ribs &amp; Intercostal muscl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The lateral wall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narrow and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racobrachi-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iceps brach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icepital groove of the hume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940360" y="22240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919840" y="2641680"/>
            <a:ext cx="64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Free User\My Documents\My Pictures\C9FF14.png"/>
          <p:cNvPicPr/>
          <p:nvPr/>
        </p:nvPicPr>
        <p:blipFill>
          <a:blip r:embed="rId1"/>
          <a:srcRect l="46620" t="47192" r="2003" b="14990"/>
          <a:stretch/>
        </p:blipFill>
        <p:spPr>
          <a:xfrm>
            <a:off x="3500280" y="260280"/>
            <a:ext cx="5429520" cy="633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952720" cy="934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 of The Axi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33433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Cord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rach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rachial plex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Axillary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  <a:ea typeface="宋体"/>
              </a:rPr>
              <a:t> artery and its bran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Arial"/>
                <a:ea typeface="宋体"/>
              </a:rPr>
              <a:t>Axillary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宋体"/>
              </a:rPr>
              <a:t> vein and its  tributa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xillar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lymph no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xill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f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oo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connective t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79280" y="5805360"/>
            <a:ext cx="8785440" cy="88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neurovascular bundle is enclosed in connective tissue sheath, called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xillary she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腋窝1"/>
          <p:cNvPicPr/>
          <p:nvPr/>
        </p:nvPicPr>
        <p:blipFill>
          <a:blip r:embed="rId1"/>
          <a:stretch/>
        </p:blipFill>
        <p:spPr>
          <a:xfrm>
            <a:off x="3492360" y="260280"/>
            <a:ext cx="525636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3708360" y="26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llary a. &amp; 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3833640" y="394956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plex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16"/>
          <p:cNvCxnSpPr/>
          <p:nvPr/>
        </p:nvCxnSpPr>
        <p:spPr>
          <a:xfrm flipV="1">
            <a:off x="4932000" y="1557000"/>
            <a:ext cx="2377080" cy="25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Straight Arrow Connector 19"/>
          <p:cNvCxnSpPr>
            <a:stCxn id="126" idx="2"/>
          </p:cNvCxnSpPr>
          <p:nvPr/>
        </p:nvCxnSpPr>
        <p:spPr>
          <a:xfrm>
            <a:off x="4608000" y="630000"/>
            <a:ext cx="2628360" cy="99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Straight Arrow Connector 25"/>
          <p:cNvCxnSpPr/>
          <p:nvPr/>
        </p:nvCxnSpPr>
        <p:spPr>
          <a:xfrm flipH="1" flipV="1">
            <a:off x="6552360" y="3428280"/>
            <a:ext cx="97236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360" y="2204640"/>
            <a:ext cx="5472000" cy="5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1488b"/>
                </a:solidFill>
                <a:latin typeface="Arial"/>
              </a:rPr>
              <a:t>Location &amp;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2997000"/>
            <a:ext cx="8785440" cy="19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chial Plex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sent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terior tria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ormed by the union of the anterior Rami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racic spinal nerv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47640" y="260280"/>
            <a:ext cx="5688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What is a Brachial Plex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1052640"/>
            <a:ext cx="83055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chial Plexus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work of nerves t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formed at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oot of the neck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enter the upper limb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71640" y="5084640"/>
            <a:ext cx="7488000" cy="1373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5 &amp; C6 unite to form----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per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 of C7 continuous as the-------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dle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8 &amp; T1 unite to form----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er trun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5A3-E986-45D0-B60A-7B383AFE04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dad\Student Gray\7. Upper limb\F66122-007-f052.jpg"/>
          <p:cNvPicPr/>
          <p:nvPr/>
        </p:nvPicPr>
        <p:blipFill>
          <a:blip r:embed="rId1"/>
          <a:srcRect l="2411" t="0" r="35852" b="56733"/>
          <a:stretch/>
        </p:blipFill>
        <p:spPr>
          <a:xfrm>
            <a:off x="228600" y="152280"/>
            <a:ext cx="86868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Rectangle 4"/>
          <p:cNvSpPr/>
          <p:nvPr/>
        </p:nvSpPr>
        <p:spPr>
          <a:xfrm>
            <a:off x="250920" y="3860640"/>
            <a:ext cx="8642160" cy="2867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Plexus can be divided in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 stag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posterior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u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 the posterior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vi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ind the clavicle (in cervico-axillary ca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d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d6009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The first 2 st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posterior triangl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the last 2 s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axil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22C-1878-460D-8802-A9D6F17AB2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71320" y="4500360"/>
            <a:ext cx="8143560" cy="221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nterior division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upper and middle trunk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ni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form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ter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nterior division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ower trunk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the         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0" i="1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posterior divis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three trunk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in to form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osterior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Brachial001"/>
          <p:cNvPicPr/>
          <p:nvPr/>
        </p:nvPicPr>
        <p:blipFill>
          <a:blip r:embed="rId1"/>
          <a:srcRect l="2751" t="0" r="3642" b="0"/>
          <a:stretch/>
        </p:blipFill>
        <p:spPr>
          <a:xfrm>
            <a:off x="324000" y="0"/>
            <a:ext cx="84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605-0DE2-4CF5-B7BC-A879ADDE63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44000" y="189000"/>
            <a:ext cx="720720" cy="5976720"/>
          </a:xfrm>
          <a:prstGeom prst="rect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NCHE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89000"/>
          <a:ext cx="7777080" cy="4938480"/>
        </p:xfrm>
        <a:graphic>
          <a:graphicData uri="http://schemas.openxmlformats.org/drawingml/2006/table">
            <a:tbl>
              <a:tblPr/>
              <a:tblGrid>
                <a:gridCol w="2738160"/>
                <a:gridCol w="2740320"/>
                <a:gridCol w="22986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ior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pector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pectoral nerve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llary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ulocutaneous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nar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later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medi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&amp; lower subscapular nerv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utaneous nerve of arm &amp; forear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acodorsal or N. to latissimus dorsi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2637000"/>
            <a:ext cx="777708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9" name="AutoShape 10"/>
          <p:cNvSpPr/>
          <p:nvPr/>
        </p:nvSpPr>
        <p:spPr>
          <a:xfrm>
            <a:off x="5715000" y="3000240"/>
            <a:ext cx="115236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572160" y="5429160"/>
            <a:ext cx="115272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214880" y="3214800"/>
            <a:ext cx="115236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4429080" y="3500280"/>
            <a:ext cx="115272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1500120" y="4143240"/>
            <a:ext cx="1152720" cy="2145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285840" y="4643280"/>
            <a:ext cx="1081080" cy="142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214200" y="5429160"/>
            <a:ext cx="1224000" cy="2145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14200" y="5643720"/>
            <a:ext cx="1152720" cy="2854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214200" y="5072040"/>
            <a:ext cx="1152720" cy="3571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2" descr="rc 017"/>
          <p:cNvPicPr/>
          <p:nvPr/>
        </p:nvPicPr>
        <p:blipFill>
          <a:blip r:embed="rId1"/>
          <a:srcRect l="4286" t="4854" r="5707" b="2754"/>
          <a:stretch/>
        </p:blipFill>
        <p:spPr>
          <a:xfrm>
            <a:off x="0" y="285840"/>
            <a:ext cx="4643280" cy="638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Picture 4" descr="nerves002"/>
          <p:cNvPicPr/>
          <p:nvPr/>
        </p:nvPicPr>
        <p:blipFill>
          <a:blip r:embed="rId2"/>
          <a:srcRect l="0" t="3799" r="4124" b="2752"/>
          <a:stretch/>
        </p:blipFill>
        <p:spPr>
          <a:xfrm>
            <a:off x="4788000" y="189000"/>
            <a:ext cx="4356000" cy="6480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5286240" y="428760"/>
            <a:ext cx="32864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 of Long thoracic nerve 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ysis of Serratus anterior muscle……Winging of scapu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785880" y="58104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location of shoulder joint…….Winging of Scapu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362800" cy="53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the end of the lecture the students should be able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dentify and describe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clav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ratus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emonstrat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unda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achial plex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221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50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28760" y="981000"/>
            <a:ext cx="8215200" cy="5688000"/>
          </a:xfrm>
          <a:prstGeom prst="rect">
            <a:avLst/>
          </a:prstGeom>
          <a:solidFill>
            <a:srgbClr val="defd23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re connecting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upper limb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nterior and lateral thoracic wall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torali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toralis mi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v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pyramidal space situated between the upper part of arm and the side of the chest, it has 4 walls (anterior, posterior, medial and lateral), base, and ap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 important space as it transmits the neurovascular bundle from the neck and thorax to the upper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cont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llary vess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s and branches of the brachial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llary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03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19280" y="260280"/>
            <a:ext cx="3745080" cy="64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rigin 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d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vicular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½ of the front of the clav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rnocostal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6 costal cartil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neurosis of the external obliqu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ser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lip of bicipital gro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erve suppl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&amp; lateral pectoral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Ac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duction and medial rot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the 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lavicular head helps in f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lexion of arm (shoulder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:\dad\Student Gray\7. Upper limb\F66122-007-f040.jpg"/>
          <p:cNvPicPr/>
          <p:nvPr/>
        </p:nvPicPr>
        <p:blipFill>
          <a:blip r:embed="rId1"/>
          <a:srcRect l="0" t="0" r="0" b="3857"/>
          <a:stretch/>
        </p:blipFill>
        <p:spPr>
          <a:xfrm>
            <a:off x="179280" y="1341360"/>
            <a:ext cx="4897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3889440" cy="5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ectoralis Mi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35280" y="620280"/>
            <a:ext cx="3529080" cy="55450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s close to their costal 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coi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b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and outwards during deep in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:\dad\Student Gray\7. Upper limb\F66122-007-f048.jpg"/>
          <p:cNvPicPr/>
          <p:nvPr/>
        </p:nvPicPr>
        <p:blipFill>
          <a:blip r:embed="rId1"/>
          <a:srcRect l="11428" t="0" r="0" b="3607"/>
          <a:stretch/>
        </p:blipFill>
        <p:spPr>
          <a:xfrm>
            <a:off x="250920" y="981000"/>
            <a:ext cx="5041800" cy="568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492360" y="306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76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203640" y="400536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79280" y="4005360"/>
            <a:ext cx="85104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3600720" cy="863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clav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35280" y="404640"/>
            <a:ext cx="3529080" cy="590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 at its   costal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vian groov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1/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ferior surfa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 to subclaviu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trun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achial plex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vi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movement of shoulde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:\dad\Student Gray\7. Upper limb\F66122-007-f049.jpg"/>
          <p:cNvPicPr/>
          <p:nvPr/>
        </p:nvPicPr>
        <p:blipFill>
          <a:blip r:embed="rId1"/>
          <a:srcRect l="23288" t="0" r="3250" b="21307"/>
          <a:stretch/>
        </p:blipFill>
        <p:spPr>
          <a:xfrm>
            <a:off x="395280" y="1341360"/>
            <a:ext cx="4824360" cy="50403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132000" y="1268280"/>
            <a:ext cx="648000" cy="2890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s://upload.wikimedia.org/wikipedia/commons/2/2f/Subclavius_muscle_frontal.png"/>
          <p:cNvPicPr/>
          <p:nvPr/>
        </p:nvPicPr>
        <p:blipFill>
          <a:blip r:embed="rId2"/>
          <a:stretch/>
        </p:blipFill>
        <p:spPr>
          <a:xfrm>
            <a:off x="357120" y="1143000"/>
            <a:ext cx="492912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60836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vipectoral Fa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8000" y="188640"/>
            <a:ext cx="3816360" cy="3095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cken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mbrane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ep fasc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ubclavi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pectoralis min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ff"/>
                </a:solidFill>
                <a:uFillTx/>
                <a:latin typeface="Arial"/>
              </a:rPr>
              <a:t>It is pierced b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al pectoral nerve</a:t>
            </a:r>
            <a:r>
              <a:rPr b="0" lang="en-US" sz="2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oraco- acromial ar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ephalic v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ew lymp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锁胸筋膜4"/>
          <p:cNvPicPr/>
          <p:nvPr/>
        </p:nvPicPr>
        <p:blipFill>
          <a:blip r:embed="rId1"/>
          <a:srcRect l="3010" t="0" r="2261" b="2620"/>
          <a:stretch/>
        </p:blipFill>
        <p:spPr>
          <a:xfrm>
            <a:off x="179280" y="1052640"/>
            <a:ext cx="482436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5572080" y="3546360"/>
            <a:ext cx="324000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AutoShape 10"/>
          <p:cNvSpPr/>
          <p:nvPr/>
        </p:nvSpPr>
        <p:spPr>
          <a:xfrm>
            <a:off x="7358040" y="4286160"/>
            <a:ext cx="1357200" cy="2858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9280" y="188640"/>
            <a:ext cx="3097440" cy="6026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Orig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er eight r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Inser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aspect of the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al bord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erior ang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ap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Nerve suppl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thoracic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rom roots of brachial plexus,C5,6,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s the scapula forward in boxing, (protrusion or protraction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boxer's muscl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s scapula outwards in raising the arm above 90 degre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356000" y="189000"/>
            <a:ext cx="3745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宋体"/>
              </a:rPr>
              <a:t>Serratus anteri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:\dad\Student Gray\7. Upper limb\F66122-007-f042.jpg"/>
          <p:cNvPicPr/>
          <p:nvPr/>
        </p:nvPicPr>
        <p:blipFill>
          <a:blip r:embed="rId1"/>
          <a:srcRect l="0" t="0" r="0" b="6494"/>
          <a:stretch/>
        </p:blipFill>
        <p:spPr>
          <a:xfrm>
            <a:off x="3564000" y="907920"/>
            <a:ext cx="5184720" cy="568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02B21B9"/>
          <p:cNvPicPr/>
          <p:nvPr/>
        </p:nvPicPr>
        <p:blipFill>
          <a:blip r:embed="rId2"/>
          <a:srcRect l="33268" t="7549" r="10996" b="60905"/>
          <a:stretch/>
        </p:blipFill>
        <p:spPr>
          <a:xfrm>
            <a:off x="3348000" y="4149720"/>
            <a:ext cx="24480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AutoShape 10"/>
          <p:cNvSpPr/>
          <p:nvPr/>
        </p:nvSpPr>
        <p:spPr>
          <a:xfrm>
            <a:off x="3492360" y="3789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3095640" cy="71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456000" cy="46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pyramid-sha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space betwee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per pa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de of the chest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through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j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neurovasc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uctures pass between neck &amp;  thorax and upper li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xilla ha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pe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four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腋窝6"/>
          <p:cNvPicPr/>
          <p:nvPr/>
        </p:nvPicPr>
        <p:blipFill>
          <a:blip r:embed="rId1">
            <a:lum contrast="12000"/>
          </a:blip>
          <a:srcRect l="9355" t="1837" r="4120" b="2791"/>
          <a:stretch/>
        </p:blipFill>
        <p:spPr>
          <a:xfrm>
            <a:off x="5796000" y="260280"/>
            <a:ext cx="3097080" cy="460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腋窝3"/>
          <p:cNvPicPr/>
          <p:nvPr/>
        </p:nvPicPr>
        <p:blipFill>
          <a:blip r:embed="rId2"/>
          <a:srcRect l="10147" t="0" r="0" b="0"/>
          <a:stretch/>
        </p:blipFill>
        <p:spPr>
          <a:xfrm>
            <a:off x="3564000" y="2997360"/>
            <a:ext cx="302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38472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undaries of the Ax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456000" cy="540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Apex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rec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wards &amp; mediall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he 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ervicoaxillary ca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ff"/>
                </a:solidFill>
                <a:uFillTx/>
                <a:latin typeface="Arial"/>
              </a:rPr>
              <a:t>It is boun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by 3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vic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border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p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er border of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rst rib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腋窝2"/>
          <p:cNvPicPr/>
          <p:nvPr/>
        </p:nvPicPr>
        <p:blipFill>
          <a:blip r:embed="rId1"/>
          <a:srcRect l="0" t="3491" r="3240" b="3480"/>
          <a:stretch/>
        </p:blipFill>
        <p:spPr>
          <a:xfrm>
            <a:off x="3708360" y="260280"/>
            <a:ext cx="511164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TextBox 4"/>
          <p:cNvSpPr/>
          <p:nvPr/>
        </p:nvSpPr>
        <p:spPr>
          <a:xfrm>
            <a:off x="5364000" y="148428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724360" y="162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940360" y="1773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65964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093080" y="278136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380360" y="29973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667640" y="306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8028000" y="3141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451640" y="1197000"/>
            <a:ext cx="1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30872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7380360" y="206064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7380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16:34Z</dcterms:created>
  <dc:creator>Prof. Saeed Abuel Makarem</dc:creator>
  <dc:description/>
  <dc:language>en-US</dc:language>
  <cp:lastModifiedBy>user</cp:lastModifiedBy>
  <dcterms:modified xsi:type="dcterms:W3CDTF">2015-12-04T06:54:33Z</dcterms:modified>
  <cp:revision>2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ectoral region &amp; Axilla">
    <vt:lpwstr>Prof. Saeed Abuel Makarem</vt:lpwstr>
  </property>
</Properties>
</file>