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296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748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A1B0-2F2E-4145-B18C-D3E281425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9CA2-336F-4A1C-87FD-77A25743E7B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8FD8-4F78-4D88-BC79-E381F7C92F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maintain the bone matrix,.by continuous deposition of calc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5EAE-D6BE-4986-B8DA-566A7EDAE3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E05F-B736-4953-9CF4-41770F7AE0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2B5E-C573-44B3-8655-025D36DB07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E505-6F68-4F63-83E8-A4F5E38E5B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 of perichondriu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. Nutritive function (by diffusion from its blood vessel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. Chondrogenic fun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. Gives attachment to muscles &amp; tend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7AA9-CD5E-4E4E-A430-B131FA6843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8990-740A-465F-85FA-2D4569B511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s the skeleton of the foe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ction of bony surfaces, at j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s the respiratory tract ope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FFDC-F39B-4217-A3A4-484EB85D49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95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TILAGE &amp;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68000"/>
            <a:ext cx="7727760" cy="36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end of this lecture, the student should describ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croscop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different type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1)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2) B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89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4840" y="1117080"/>
            <a:ext cx="8224920" cy="552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e is a specialized type of C.T. with a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atri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yp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mpac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n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pong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a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cellous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mponent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one Cel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4 typ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one Matrix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ard because it is calcified 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(Calcium salt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 contains </a:t>
            </a:r>
            <a:r>
              <a:rPr b="0" lang="en-GB" sz="2000" spc="-1" strike="noStrike" u="sng">
                <a:solidFill>
                  <a:srgbClr val="ffc000"/>
                </a:solidFill>
                <a:uFillTx/>
                <a:latin typeface="Arial"/>
                <a:ea typeface="Times New Roman"/>
              </a:rPr>
              <a:t>type I collagen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 forms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bone lamellae and trabeculae</a:t>
            </a:r>
            <a:r>
              <a:rPr b="0" lang="en-GB" sz="2000" spc="-1" strike="noStrike">
                <a:solidFill>
                  <a:srgbClr val="92d05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rioste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doste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dy suppo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tion of vital organs as brain &amp; bone marr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lcium st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8240" y="1285920"/>
            <a:ext cx="66895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genic Cell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periosteum &amp; endoste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give rise to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blast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periosteum &amp; endoste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osteogenic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secrete the bone matrix &amp; deposit Ca salts 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ange to oste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1" descr="F:\HISTOLOGY\Pics\MyImages\Bone\Cells.JPG"/>
          <p:cNvPicPr/>
          <p:nvPr/>
        </p:nvPicPr>
        <p:blipFill>
          <a:blip r:embed="rId1"/>
          <a:srcRect l="0" t="0" r="72457" b="31766"/>
          <a:stretch/>
        </p:blipFill>
        <p:spPr>
          <a:xfrm>
            <a:off x="6788160" y="3457440"/>
            <a:ext cx="21096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840" y="1285920"/>
            <a:ext cx="584388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cyte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nched cell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singly 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una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Their branches run 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analicul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y maintain the bon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F:\HISTOLOGY\Pics\MyImages\Bone\Cells.JPG"/>
          <p:cNvPicPr/>
          <p:nvPr/>
        </p:nvPicPr>
        <p:blipFill>
          <a:blip r:embed="rId1"/>
          <a:srcRect l="23218" t="0" r="39524" b="23578"/>
          <a:stretch/>
        </p:blipFill>
        <p:spPr>
          <a:xfrm>
            <a:off x="6051600" y="2176560"/>
            <a:ext cx="28623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520" y="1218960"/>
            <a:ext cx="6454800" cy="512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clast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rge multinucleated cells on bony surfaces, 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owship’s lacuna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have striated or ruffled b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ytoplasm is rich in lysosom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blood mon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one resor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F:\HISTOLOGY\Pics\MyImages\Bone\Cells.JPG"/>
          <p:cNvPicPr/>
          <p:nvPr/>
        </p:nvPicPr>
        <p:blipFill>
          <a:blip r:embed="rId1"/>
          <a:srcRect l="59302" t="0" r="3467" b="22706"/>
          <a:stretch/>
        </p:blipFill>
        <p:spPr>
          <a:xfrm>
            <a:off x="6359400" y="1709640"/>
            <a:ext cx="25513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9920" y="1440000"/>
            <a:ext cx="518004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found 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aphysis of long bon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erioste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uter fibrous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ner osteogenic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ste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Lamella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4-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F:\HISTOLOGY\Pics\MyImages\Bone\Compact.JPG"/>
          <p:cNvPicPr/>
          <p:nvPr/>
        </p:nvPicPr>
        <p:blipFill>
          <a:blip r:embed="rId1"/>
          <a:srcRect l="48087" t="0" r="4513" b="18319"/>
          <a:stretch/>
        </p:blipFill>
        <p:spPr>
          <a:xfrm>
            <a:off x="5532480" y="1609560"/>
            <a:ext cx="3392280" cy="4257720"/>
          </a:xfrm>
          <a:prstGeom prst="rect">
            <a:avLst/>
          </a:prstGeom>
          <a:ln w="0">
            <a:noFill/>
          </a:ln>
        </p:spPr>
      </p:pic>
      <p:sp>
        <p:nvSpPr>
          <p:cNvPr id="128" name="Line 7"/>
          <p:cNvSpPr/>
          <p:nvPr/>
        </p:nvSpPr>
        <p:spPr>
          <a:xfrm flipV="1">
            <a:off x="4632480" y="2666520"/>
            <a:ext cx="99036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 flipV="1">
            <a:off x="4160880" y="2484360"/>
            <a:ext cx="1431720" cy="1341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413160" y="5013360"/>
            <a:ext cx="2789280" cy="57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320" y="1292040"/>
            <a:ext cx="5629320" cy="55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Lamella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-  </a:t>
            </a:r>
            <a:r>
              <a:rPr b="1" lang="en-GB" sz="2200" spc="-1" strike="noStrike" u="sng">
                <a:solidFill>
                  <a:srgbClr val="ffc000"/>
                </a:solidFill>
                <a:uFillTx/>
                <a:latin typeface="Arial"/>
                <a:ea typeface="Times New Roman"/>
              </a:rPr>
              <a:t>Haversian Systems (Osteons)</a:t>
            </a:r>
            <a:r>
              <a:rPr b="1" lang="en-GB" sz="2200" spc="-1" strike="noStrike">
                <a:solidFill>
                  <a:srgbClr val="ffc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ongitudinal cylind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ach is formed of </a:t>
            </a:r>
            <a:r>
              <a:rPr b="0" lang="en-GB" sz="2200" spc="-1" strike="noStrike">
                <a:solidFill>
                  <a:srgbClr val="00ff00"/>
                </a:solidFill>
                <a:latin typeface="Arial"/>
                <a:ea typeface="Times New Roman"/>
              </a:rPr>
              <a:t>concentric bone lamella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a </a:t>
            </a:r>
            <a:r>
              <a:rPr b="0" lang="en-GB" sz="22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Haversian canal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running in the cen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Volkmann’s canals:</a:t>
            </a:r>
            <a:r>
              <a:rPr b="0" lang="en-GB" sz="2200" spc="-1" strike="noStrike">
                <a:solidFill>
                  <a:srgbClr val="00ff00"/>
                </a:solidFill>
                <a:latin typeface="Arial"/>
                <a:ea typeface="Times New Roman"/>
              </a:rPr>
              <a:t>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nect the Haversian canals together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They run obliquely or transverse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xternal Circumferen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-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rnal Circumferen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-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rsti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etween oste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:\HISTOLOGY\Pics\MyImages\Bone\Compact.JPG"/>
          <p:cNvPicPr/>
          <p:nvPr/>
        </p:nvPicPr>
        <p:blipFill>
          <a:blip r:embed="rId1"/>
          <a:srcRect l="48087" t="0" r="4513" b="18123"/>
          <a:stretch/>
        </p:blipFill>
        <p:spPr>
          <a:xfrm>
            <a:off x="5587920" y="1457280"/>
            <a:ext cx="3336840" cy="4197240"/>
          </a:xfrm>
          <a:prstGeom prst="rect">
            <a:avLst/>
          </a:prstGeom>
          <a:ln w="0">
            <a:noFill/>
          </a:ln>
        </p:spPr>
      </p:pic>
      <p:sp>
        <p:nvSpPr>
          <p:cNvPr id="134" name="Line 9"/>
          <p:cNvSpPr/>
          <p:nvPr/>
        </p:nvSpPr>
        <p:spPr>
          <a:xfrm>
            <a:off x="4784760" y="2087640"/>
            <a:ext cx="2617920" cy="6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4816440" y="2103480"/>
            <a:ext cx="988920" cy="668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830840" y="3177720"/>
            <a:ext cx="1468440" cy="17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3584520" y="3551400"/>
            <a:ext cx="2968560" cy="599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Picture 6" descr="F:\HISTOLOGY\Pics\MyImages\Bone\Compact.JPG"/>
          <p:cNvPicPr/>
          <p:nvPr/>
        </p:nvPicPr>
        <p:blipFill>
          <a:blip r:embed="rId1"/>
          <a:stretch/>
        </p:blipFill>
        <p:spPr>
          <a:xfrm>
            <a:off x="838080" y="1254240"/>
            <a:ext cx="73803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pongy (Cancellous)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252080"/>
            <a:ext cx="4554720" cy="50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flat bones &amp; epiphysis   of of long b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ists of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iost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dost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rreg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bone trabecul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rreg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bone marrow sp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n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 Haversian systems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no osteon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029" descr="F:\HISTOLOGY\Pics\MyImages\Bone\Spongy.JPG"/>
          <p:cNvPicPr/>
          <p:nvPr/>
        </p:nvPicPr>
        <p:blipFill>
          <a:blip r:embed="rId1"/>
          <a:srcRect l="3113" t="0" r="5119" b="8716"/>
          <a:stretch/>
        </p:blipFill>
        <p:spPr>
          <a:xfrm>
            <a:off x="3992400" y="1366920"/>
            <a:ext cx="48927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rowth of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3840" y="1406520"/>
            <a:ext cx="4952880" cy="44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ppositional grow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 wid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Growth in leng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epiphyseal plate of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F:\Bone New Pictures\GROWTH%20PLATE%20COMPOSITE%202[1].jpg"/>
          <p:cNvPicPr/>
          <p:nvPr/>
        </p:nvPicPr>
        <p:blipFill>
          <a:blip r:embed="rId1"/>
          <a:stretch/>
        </p:blipFill>
        <p:spPr>
          <a:xfrm>
            <a:off x="5307120" y="1568520"/>
            <a:ext cx="3510000" cy="2711520"/>
          </a:xfrm>
          <a:prstGeom prst="rect">
            <a:avLst/>
          </a:prstGeom>
          <a:ln w="0">
            <a:noFill/>
          </a:ln>
        </p:spPr>
      </p:pic>
      <p:cxnSp>
        <p:nvCxnSpPr>
          <p:cNvPr id="146" name="Straight Arrow Connector 6"/>
          <p:cNvCxnSpPr/>
          <p:nvPr/>
        </p:nvCxnSpPr>
        <p:spPr>
          <a:xfrm flipV="1">
            <a:off x="4340160" y="3222360"/>
            <a:ext cx="2075760" cy="242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ff"/>
                </a:solidFill>
                <a:latin typeface="Times New Roman"/>
              </a:rPr>
              <a:t>Thank you</a:t>
            </a:r>
            <a:br>
              <a:rPr sz="5400"/>
            </a:b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2" descr="C:\Program Files (x86)\Microsoft Office\MEDIA\CAGCAT10\j0315447.jpg"/>
          <p:cNvPicPr/>
          <p:nvPr/>
        </p:nvPicPr>
        <p:blipFill>
          <a:blip r:embed="rId1"/>
          <a:stretch/>
        </p:blipFill>
        <p:spPr>
          <a:xfrm>
            <a:off x="2865600" y="1787400"/>
            <a:ext cx="283176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8120" y="979200"/>
            <a:ext cx="7727760" cy="57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a specialized type of C.T. with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tr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vascula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avascular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Elastic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ibro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280" y="1285920"/>
            <a:ext cx="5801040" cy="51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erichondr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scular C.T. membrane formed of 2 lay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Outer fibrous lay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nse fibrous C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nner chondrogenic lay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ains chondroblasts ( no lacunae). They secrete cartilage matrix and give rise to chondr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F:\HISTOLOGY\Pics\MyImages\Cartilage\Hyaline.JPG"/>
          <p:cNvPicPr/>
          <p:nvPr/>
        </p:nvPicPr>
        <p:blipFill>
          <a:blip r:embed="rId1"/>
          <a:srcRect l="25438" t="0" r="27031" b="0"/>
          <a:stretch/>
        </p:blipFill>
        <p:spPr>
          <a:xfrm>
            <a:off x="5773680" y="1789200"/>
            <a:ext cx="3200400" cy="380052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 flipV="1">
            <a:off x="5264280" y="2423880"/>
            <a:ext cx="1209600" cy="14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 flipV="1">
            <a:off x="4516560" y="2261880"/>
            <a:ext cx="1609560" cy="788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920" y="1276200"/>
            <a:ext cx="5354640" cy="567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Cells (Chondrocytes)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und in spaces call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una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Young chondrocytes: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mall &amp; present singly in their lacun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Mature chondrocytes: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re large, and are found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sing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or in groups of 2, 4 or 6 cells in their lacunae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(</a:t>
            </a:r>
            <a:r>
              <a:rPr b="0" lang="en-GB" sz="24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cell nest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Matrix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mogeneous and basophil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tains collagen type I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F:\HISTOLOGY\Pics\MyImages\Cartilage\Hyaline.JPG"/>
          <p:cNvPicPr/>
          <p:nvPr/>
        </p:nvPicPr>
        <p:blipFill>
          <a:blip r:embed="rId1"/>
          <a:srcRect l="25438" t="0" r="27031" b="0"/>
          <a:stretch/>
        </p:blipFill>
        <p:spPr>
          <a:xfrm>
            <a:off x="5497560" y="1774800"/>
            <a:ext cx="3457440" cy="4105440"/>
          </a:xfrm>
          <a:prstGeom prst="rect">
            <a:avLst/>
          </a:prstGeom>
          <a:ln w="9360">
            <a:solidFill>
              <a:srgbClr val="f57b49"/>
            </a:solidFill>
            <a:miter/>
          </a:ln>
        </p:spPr>
      </p:pic>
      <p:sp>
        <p:nvSpPr>
          <p:cNvPr id="96" name="Line 9"/>
          <p:cNvSpPr/>
          <p:nvPr/>
        </p:nvSpPr>
        <p:spPr>
          <a:xfrm flipV="1">
            <a:off x="4470480" y="4543560"/>
            <a:ext cx="2176560" cy="52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441680" y="5065560"/>
            <a:ext cx="134964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151600" y="5138640"/>
            <a:ext cx="1785600" cy="68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Straight Arrow Connector 10"/>
          <p:cNvCxnSpPr/>
          <p:nvPr/>
        </p:nvCxnSpPr>
        <p:spPr>
          <a:xfrm flipV="1">
            <a:off x="5138280" y="3744360"/>
            <a:ext cx="986760" cy="4942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100" name="Straight Arrow Connector 19"/>
          <p:cNvCxnSpPr/>
          <p:nvPr/>
        </p:nvCxnSpPr>
        <p:spPr>
          <a:xfrm>
            <a:off x="4252680" y="2553840"/>
            <a:ext cx="1973880" cy="523080"/>
          </a:xfrm>
          <a:prstGeom prst="straightConnector1">
            <a:avLst/>
          </a:prstGeom>
          <a:ln w="38160">
            <a:solidFill>
              <a:srgbClr val="e700e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6" descr="F:\HISTOLOGY\Pics\MyImages\Cartilage\Hyaline.JPG"/>
          <p:cNvPicPr/>
          <p:nvPr/>
        </p:nvPicPr>
        <p:blipFill>
          <a:blip r:embed="rId1"/>
          <a:stretch/>
        </p:blipFill>
        <p:spPr>
          <a:xfrm>
            <a:off x="492120" y="1665360"/>
            <a:ext cx="81583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4920" y="1515600"/>
            <a:ext cx="6165720" cy="35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Sites of hyaline cartilage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etal skel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al cartil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ticular surfaces of b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se, trachea &amp; bronch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astic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9840" y="1368000"/>
            <a:ext cx="3744720" cy="398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imilar to hyaline cartilage +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lastic fibr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in the matr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ites</a:t>
            </a:r>
            <a:r>
              <a:rPr b="0" lang="en-GB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ternal 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iglot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:\HISTOLOGY\Pics\MyImages\Cartilage\Elastic.JPG"/>
          <p:cNvPicPr/>
          <p:nvPr/>
        </p:nvPicPr>
        <p:blipFill>
          <a:blip r:embed="rId1"/>
          <a:stretch/>
        </p:blipFill>
        <p:spPr>
          <a:xfrm>
            <a:off x="4246560" y="1413000"/>
            <a:ext cx="46162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bro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560" y="1368000"/>
            <a:ext cx="4165560" cy="380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 perichondri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ows of chondrocyt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lacunae separated by paralle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undles of collagen fibe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(type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ites</a:t>
            </a:r>
            <a:r>
              <a:rPr b="0" lang="en-GB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Intervertebral di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F:\HISTOLOGY\Pics\MyImages\Cartilage\Fibro.JPG"/>
          <p:cNvPicPr/>
          <p:nvPr/>
        </p:nvPicPr>
        <p:blipFill>
          <a:blip r:embed="rId1"/>
          <a:stretch/>
        </p:blipFill>
        <p:spPr>
          <a:xfrm>
            <a:off x="4359240" y="1544760"/>
            <a:ext cx="46180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Growth of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760" y="1368000"/>
            <a:ext cx="8718480" cy="49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.  Appositional growth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Chondroblasts in the inner chondrogenic la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 wid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 Interstitial growt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division and activity of mature chondr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ength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F:\HISTOLOGY\Pics\MyImages\Cartilage\Hyaline.JPG"/>
          <p:cNvPicPr/>
          <p:nvPr/>
        </p:nvPicPr>
        <p:blipFill>
          <a:blip r:embed="rId1"/>
          <a:stretch/>
        </p:blipFill>
        <p:spPr>
          <a:xfrm>
            <a:off x="5910120" y="2647800"/>
            <a:ext cx="30337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Sony</cp:lastModifiedBy>
  <dcterms:modified xsi:type="dcterms:W3CDTF">2015-11-21T10:20:36Z</dcterms:modified>
  <cp:revision>444</cp:revision>
  <dc:subject/>
  <dc:title>Cartilage</dc:title>
</cp:coreProperties>
</file>