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14D-935A-4581-9AD5-97CA64BF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1C4-D9ED-4884-A590-F98E6050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444-7217-4EBC-8F7E-BE41A99B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930-E6C6-4BF2-8EB8-AB80D40C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C3B-2515-47DD-A6D5-81268B4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753-035E-401C-8EC6-4D71CC1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A32-A144-4A9A-BE49-6831ADE3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637-9260-4221-AAC4-5E2BE5D1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081-B40B-4A50-A858-172D3C0F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3DC-ED1C-4E33-AFB8-0B81A2D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DF4-8810-4273-8132-6B8756C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BAA-2F87-4742-8CB5-709ECDF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B43-3CD9-485A-AD1B-7D032D837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74880" y="157176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Rounded MT Bold"/>
              </a:rPr>
              <a:t>Mechanisms of 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92360" y="4076640"/>
            <a:ext cx="5111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Dr. Hend Alotaibi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stant professor &amp; Consulta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ge of Medicine, King Saud Universit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rmatology Department /KKU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Email: halotaibi1@ksu.edu.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25718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Failure of Immune Toleranc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(Development of Autoimmunity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rial Rounded MT Bold"/>
              </a:rPr>
              <a:t>Induction of Autoimmunity</a:t>
            </a:r>
            <a:br>
              <a:rPr sz="4400"/>
            </a:br>
            <a:r>
              <a:rPr b="0" lang="en-US" sz="4400" spc="-1" strike="noStrike">
                <a:solidFill>
                  <a:srgbClr val="e46c0a"/>
                </a:solidFill>
                <a:latin typeface="Arial Rounded MT Bold"/>
              </a:rPr>
              <a:t>“Proposed Mechanisms!”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92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equestered anti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Molecular 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nappropriate class II MHC expression on none-antigen presenting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lyclonal B cell ac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 Rounded MT Bold"/>
              </a:rPr>
              <a:t>1. Sequestered antige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me self-antigens are sequestered (hidden) in specialized t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se are </a:t>
            </a:r>
            <a:r>
              <a:rPr b="0" lang="en-US" sz="3200" spc="-1" strike="noStrike">
                <a:solidFill>
                  <a:srgbClr val="00b0f0"/>
                </a:solidFill>
                <a:latin typeface="Arial Rounded MT Bold"/>
              </a:rPr>
              <a:t>not se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y the developing immune system – </a:t>
            </a:r>
            <a:r>
              <a:rPr b="0" lang="en-US" sz="3200" spc="-1" strike="noStrike">
                <a:solidFill>
                  <a:srgbClr val="00b0f0"/>
                </a:solidFill>
                <a:latin typeface="Arial Rounded MT Bold"/>
              </a:rPr>
              <a:t>will not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duce self-tole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posure of T cells to these normally sequestered/tissue-specific self-antigens in the periphery results in their activation.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58520" y="50004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xamples of </a:t>
            </a:r>
            <a:r>
              <a:rPr b="0" lang="en-US" sz="3600" spc="-1" strike="noStrike">
                <a:solidFill>
                  <a:srgbClr val="00b0f0"/>
                </a:solidFill>
                <a:latin typeface="Arial Rounded MT Bold"/>
              </a:rPr>
              <a:t>Sequestered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1773360"/>
            <a:ext cx="7274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Myelin basic protein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MBP), associated with Multiple Sclerosis (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Sperm-associated antigen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in some individuals following vasect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Lens and corneal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roteins of the eye following infection or trau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Heart muscle antigen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following 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2000160" y="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Sympathetic ophthal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Rounded MT Bold"/>
              </a:rPr>
              <a:t>2. Molecular Mimicry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 Rounded MT Bold"/>
              </a:rPr>
              <a:t>(Cross-reacting Antigens)</a:t>
            </a:r>
            <a:r>
              <a:rPr b="0" lang="en-US" sz="32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000" y="1643040"/>
            <a:ext cx="8351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Viruses and bacteria possess antigenic determinants that are very similar, or even identical, to normal host cell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is phenomenon, known as </a:t>
            </a:r>
            <a:r>
              <a:rPr b="0" i="1" lang="en-US" sz="2800" spc="-1" strike="noStrike">
                <a:solidFill>
                  <a:srgbClr val="ff0066"/>
                </a:solidFill>
                <a:latin typeface="Arial Rounded MT Bold"/>
              </a:rPr>
              <a:t>molecular mimicry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, occurs in a wide variety of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olecular mimicry may be the </a:t>
            </a:r>
            <a:r>
              <a:rPr b="0" lang="en-US" sz="2800" spc="-1" strike="noStrike">
                <a:solidFill>
                  <a:srgbClr val="ff0066"/>
                </a:solidFill>
                <a:latin typeface="Arial Rounded MT Bold"/>
              </a:rPr>
              <a:t>initiating step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 variety of autoimmune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099080" y="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Rounded MT Bold"/>
              </a:rPr>
              <a:t>Examples of Molecular Mimic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0" y="836640"/>
            <a:ext cx="9143280" cy="6020640"/>
            <a:chOff x="0" y="836640"/>
            <a:chExt cx="9143280" cy="6020640"/>
          </a:xfrm>
        </p:grpSpPr>
        <p:grpSp>
          <p:nvGrpSpPr>
            <p:cNvPr id="275" name="Group 4"/>
            <p:cNvGrpSpPr/>
            <p:nvPr/>
          </p:nvGrpSpPr>
          <p:grpSpPr>
            <a:xfrm>
              <a:off x="0" y="836640"/>
              <a:ext cx="9143280" cy="6020640"/>
              <a:chOff x="0" y="836640"/>
              <a:chExt cx="9143280" cy="6020640"/>
            </a:xfrm>
          </p:grpSpPr>
          <p:pic>
            <p:nvPicPr>
              <p:cNvPr id="276" name="Picture 5" descr="T20-03"/>
              <p:cNvPicPr/>
              <p:nvPr/>
            </p:nvPicPr>
            <p:blipFill>
              <a:blip r:embed="rId1"/>
              <a:srcRect l="0" t="0" r="0" b="17140"/>
              <a:stretch/>
            </p:blipFill>
            <p:spPr>
              <a:xfrm>
                <a:off x="0" y="836640"/>
                <a:ext cx="9143280" cy="6020640"/>
              </a:xfrm>
              <a:prstGeom prst="rect">
                <a:avLst/>
              </a:prstGeom>
              <a:ln w="57240">
                <a:solidFill>
                  <a:srgbClr val="33ccff"/>
                </a:solidFill>
                <a:miter/>
              </a:ln>
            </p:spPr>
          </p:pic>
          <p:pic>
            <p:nvPicPr>
              <p:cNvPr id="277" name="Picture 6" descr="T20-03"/>
              <p:cNvPicPr/>
              <p:nvPr/>
            </p:nvPicPr>
            <p:blipFill>
              <a:blip r:embed="rId2"/>
              <a:srcRect l="18752" t="1219" r="0" b="95136"/>
              <a:stretch/>
            </p:blipFill>
            <p:spPr>
              <a:xfrm>
                <a:off x="232920" y="930600"/>
                <a:ext cx="7429680" cy="264960"/>
              </a:xfrm>
              <a:prstGeom prst="rect">
                <a:avLst/>
              </a:prstGeom>
              <a:ln w="9360">
                <a:solidFill>
                  <a:srgbClr val="33ccff"/>
                </a:solidFill>
                <a:miter/>
              </a:ln>
            </p:spPr>
          </p:pic>
        </p:grpSp>
        <p:sp>
          <p:nvSpPr>
            <p:cNvPr id="278" name="Rectangle 7"/>
            <p:cNvSpPr/>
            <p:nvPr/>
          </p:nvSpPr>
          <p:spPr>
            <a:xfrm>
              <a:off x="7183440" y="924480"/>
              <a:ext cx="69408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3. Inappropriate Expression of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Class II MHC Molecule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4360" y="2060280"/>
            <a:ext cx="799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ass II MHC ordinarily expressed on </a:t>
            </a: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antigen presenting cell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such as macrophages, dendritic cells and B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bnormal expression of MHC determinants allows the recognition of these auto-antigens by self-reactive T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Rounded MT Bold"/>
              </a:rPr>
              <a:t>Inappropriate Expression of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Arial Rounded MT Bold"/>
              </a:rPr>
              <a:t>Class II MHC Molecule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s may occur due to the local production of </a:t>
            </a: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IFN-</a:t>
            </a:r>
            <a:r>
              <a:rPr b="0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which is known to increase class II MHC expression on a variety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inducer of IFN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under these circumstances could be a </a:t>
            </a: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viral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219320" y="533520"/>
            <a:ext cx="65530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Rounded MT Bold"/>
                <a:ea typeface="Arial"/>
              </a:rPr>
              <a:t>Type I Diabetes: Pancreatic </a:t>
            </a:r>
            <a:r>
              <a:rPr b="0" lang="el-GR" sz="2800" spc="-1" strike="noStrike">
                <a:solidFill>
                  <a:srgbClr val="7030a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7030a0"/>
                </a:solidFill>
                <a:latin typeface="Arial Rounded MT Bold"/>
                <a:ea typeface="Arial"/>
              </a:rPr>
              <a:t> cells express abnormally high levels of MHC I and MHC II (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Normal Pancrea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Pancreas with Insul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view"/>
          <p:cNvPicPr/>
          <p:nvPr/>
        </p:nvPicPr>
        <p:blipFill>
          <a:blip r:embed="rId1"/>
          <a:stretch/>
        </p:blipFill>
        <p:spPr>
          <a:xfrm>
            <a:off x="25560" y="2286000"/>
            <a:ext cx="4762440" cy="3306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view"/>
          <p:cNvPicPr/>
          <p:nvPr/>
        </p:nvPicPr>
        <p:blipFill>
          <a:blip r:embed="rId2"/>
          <a:stretch/>
        </p:blipFill>
        <p:spPr>
          <a:xfrm>
            <a:off x="4800600" y="2286000"/>
            <a:ext cx="4343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Arial Rounded MT Bold"/>
              </a:rPr>
              <a:t>Objectives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341000"/>
            <a:ext cx="8350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utoimmunity results from activation of immune response against self antig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o learn how immunological tolerance (central and peripheral) is induced against self antigens for maintaining normal heal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o gain understanding of various factors contributing to the breakdown of immunological tolerance and development of autoimmun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ender predilection in autoimmunity is a well known phenomenon and is briefly d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6516720" y="765000"/>
            <a:ext cx="216000" cy="368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65167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8388360" y="35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63320" y="804960"/>
            <a:ext cx="64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4. Polyclonal B Cell Ac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68360" y="1855800"/>
            <a:ext cx="835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Viruses and bacteria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an induce nonspecific polyclonal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B cell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ctivation,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ertain gram negative bac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erpes simplex vir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ytomegalo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Epstein Barr 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uman immunodeficiency virus (HIV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684360" y="907920"/>
            <a:ext cx="799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se viruses induce the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proliferation of numerous clones of B cell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o secrete IgM in the absence of a requirement for CD4 T cell hel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olyclonal activation leads to the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activation of self-reactive B cell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nd autoantibody produ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atients with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infectious mononucleosi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caused by EBV) and AIDS (HIV) have a variety of auto-antibodies.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14240" y="128592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5373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Arial Rounded MT Bold"/>
              </a:rPr>
              <a:t>Hormon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bout </a:t>
            </a: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90%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of autoimmune diseases occur in </a:t>
            </a: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wome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– cause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nimal models estrogen can induce B cells to enhance formation of anti-DNA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SLE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either appears or exacerbates during </a:t>
            </a: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rcRect l="0" t="256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Fig 1 full size"/>
          <p:cNvPicPr/>
          <p:nvPr/>
        </p:nvPicPr>
        <p:blipFill>
          <a:blip r:embed="rId1"/>
          <a:stretch/>
        </p:blipFill>
        <p:spPr>
          <a:xfrm>
            <a:off x="1143000" y="0"/>
            <a:ext cx="6864480" cy="65754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"/>
          <p:cNvSpPr/>
          <p:nvPr/>
        </p:nvSpPr>
        <p:spPr>
          <a:xfrm>
            <a:off x="3017160" y="6581880"/>
            <a:ext cx="304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Nature Immunology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 2, 777 - 780 (2001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Arial Rounded MT Bold"/>
              </a:rPr>
              <a:t>Drug Induced Lupus Erythematosu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55640" y="1714320"/>
            <a:ext cx="784872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upus erythematosus like syndrome develops inpatients receiving a variety of drug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ydralazine (used for hypertensio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ocainami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soniaz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ici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y are associated with the development of anti-nuclear antibodies (</a:t>
            </a:r>
            <a:r>
              <a:rPr b="0" lang="en-US" sz="2400" spc="-1" strike="noStrike">
                <a:solidFill>
                  <a:srgbClr val="953735"/>
                </a:solidFill>
                <a:latin typeface="Arial Rounded MT Bold"/>
              </a:rPr>
              <a:t>AN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nal and CNS involvement is un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Arial Rounded MT Bold"/>
              </a:rPr>
              <a:t>Anti-histo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ntibodies are frequently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rial Rounded MT Bold"/>
                <a:ea typeface="Arial"/>
              </a:rPr>
              <a:t>Take home messa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9640" y="1980720"/>
            <a:ext cx="7918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Normal healthy state is maintained by immunological tolerance against self antigens at central and peripher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utoimmune diseases result from the breakdown of immunological tolerance to self 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ertain autoimmune diseases exhibit strong association with female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2771640" y="134136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 Rounded MT Bold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1692360" y="2690640"/>
            <a:ext cx="640872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900000" y="2357280"/>
            <a:ext cx="74170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 condition that occurs when the immune system mistakenly attacks and destroys healthy body t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Autoantibodies: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antibodies directed at normal cellular compon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28880" y="64296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Rounded MT Bold"/>
              </a:rPr>
              <a:t>Autoimmunit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8720" y="115920"/>
            <a:ext cx="39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Autoimmun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0526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mune system has evolved to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iscriminate betw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 Rounded MT Bold"/>
                <a:ea typeface="Times New Roman"/>
              </a:rPr>
              <a:t>Self and Non-self</a:t>
            </a:r>
            <a:r>
              <a:rPr b="0" lang="en-US" sz="2400" spc="-1" strike="noStrike">
                <a:solidFill>
                  <a:srgbClr val="00b0f0"/>
                </a:solidFill>
                <a:latin typeface="Arial Rounded MT 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12000" y="357336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Tolerance to self is acquir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84360" y="4365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 Deletion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clonal dele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B)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Functional inactivation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clonal anerg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f developing lymphocytes that possess antigenic receptors with high affinity for self-antigen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900000" y="2708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ted by auto-reactive T cells and auto-reactive B cells (auto-antibod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group" descr=""/>
          <p:cNvPicPr/>
          <p:nvPr/>
        </p:nvPicPr>
        <p:blipFill>
          <a:blip r:embed="rId1"/>
          <a:stretch/>
        </p:blipFill>
        <p:spPr>
          <a:xfrm>
            <a:off x="1365120" y="1268280"/>
            <a:ext cx="718848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&#13;Picture 2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4"/>
          <p:cNvSpPr/>
          <p:nvPr/>
        </p:nvSpPr>
        <p:spPr>
          <a:xfrm>
            <a:off x="395280" y="907920"/>
            <a:ext cx="8321760" cy="3721320"/>
          </a:xfrm>
          <a:custGeom>
            <a:avLst/>
            <a:gdLst>
              <a:gd name="textAreaLeft" fmla="*/ 0 w 8321760"/>
              <a:gd name="textAreaRight" fmla="*/ 8322120 w 8321760"/>
              <a:gd name="textAreaTop" fmla="*/ 0 h 3721320"/>
              <a:gd name="textAreaBottom" fmla="*/ 3721680 h 3721320"/>
            </a:gdLst>
            <a:ahLst/>
            <a:rect l="textAreaLeft" t="textAreaTop" r="textAreaRight" b="textAreaBottom"/>
            <a:pathLst>
              <a:path w="5242" h="2344">
                <a:moveTo>
                  <a:pt x="75" y="831"/>
                </a:moveTo>
                <a:cubicBezTo>
                  <a:pt x="113" y="861"/>
                  <a:pt x="263" y="843"/>
                  <a:pt x="302" y="922"/>
                </a:cubicBezTo>
                <a:cubicBezTo>
                  <a:pt x="341" y="1001"/>
                  <a:pt x="349" y="1224"/>
                  <a:pt x="311" y="1307"/>
                </a:cubicBezTo>
                <a:cubicBezTo>
                  <a:pt x="273" y="1390"/>
                  <a:pt x="107" y="1349"/>
                  <a:pt x="75" y="1421"/>
                </a:cubicBezTo>
                <a:cubicBezTo>
                  <a:pt x="43" y="1493"/>
                  <a:pt x="52" y="1647"/>
                  <a:pt x="120" y="1738"/>
                </a:cubicBezTo>
                <a:cubicBezTo>
                  <a:pt x="188" y="1829"/>
                  <a:pt x="339" y="1942"/>
                  <a:pt x="483" y="1965"/>
                </a:cubicBezTo>
                <a:cubicBezTo>
                  <a:pt x="627" y="1988"/>
                  <a:pt x="854" y="1919"/>
                  <a:pt x="982" y="1874"/>
                </a:cubicBezTo>
                <a:cubicBezTo>
                  <a:pt x="1110" y="1829"/>
                  <a:pt x="1012" y="1768"/>
                  <a:pt x="1254" y="1693"/>
                </a:cubicBezTo>
                <a:cubicBezTo>
                  <a:pt x="1496" y="1618"/>
                  <a:pt x="1927" y="1361"/>
                  <a:pt x="2433" y="1421"/>
                </a:cubicBezTo>
                <a:cubicBezTo>
                  <a:pt x="2939" y="1481"/>
                  <a:pt x="3892" y="1905"/>
                  <a:pt x="4293" y="2056"/>
                </a:cubicBezTo>
                <a:cubicBezTo>
                  <a:pt x="4694" y="2207"/>
                  <a:pt x="4688" y="2344"/>
                  <a:pt x="4837" y="2328"/>
                </a:cubicBezTo>
                <a:cubicBezTo>
                  <a:pt x="4986" y="2312"/>
                  <a:pt x="5130" y="2105"/>
                  <a:pt x="5186" y="1958"/>
                </a:cubicBezTo>
                <a:cubicBezTo>
                  <a:pt x="5242" y="1811"/>
                  <a:pt x="5228" y="1572"/>
                  <a:pt x="5175" y="1446"/>
                </a:cubicBezTo>
                <a:cubicBezTo>
                  <a:pt x="5122" y="1320"/>
                  <a:pt x="4900" y="1297"/>
                  <a:pt x="4866" y="1201"/>
                </a:cubicBezTo>
                <a:cubicBezTo>
                  <a:pt x="4832" y="1105"/>
                  <a:pt x="4940" y="977"/>
                  <a:pt x="4973" y="870"/>
                </a:cubicBezTo>
                <a:cubicBezTo>
                  <a:pt x="5006" y="763"/>
                  <a:pt x="5064" y="657"/>
                  <a:pt x="5064" y="559"/>
                </a:cubicBezTo>
                <a:cubicBezTo>
                  <a:pt x="5064" y="461"/>
                  <a:pt x="5048" y="359"/>
                  <a:pt x="4973" y="283"/>
                </a:cubicBezTo>
                <a:cubicBezTo>
                  <a:pt x="4898" y="207"/>
                  <a:pt x="4748" y="133"/>
                  <a:pt x="4611" y="105"/>
                </a:cubicBezTo>
                <a:cubicBezTo>
                  <a:pt x="4474" y="77"/>
                  <a:pt x="4292" y="35"/>
                  <a:pt x="4151" y="113"/>
                </a:cubicBezTo>
                <a:cubicBezTo>
                  <a:pt x="4010" y="191"/>
                  <a:pt x="3978" y="474"/>
                  <a:pt x="3767" y="571"/>
                </a:cubicBezTo>
                <a:cubicBezTo>
                  <a:pt x="3556" y="668"/>
                  <a:pt x="3230" y="697"/>
                  <a:pt x="2887" y="695"/>
                </a:cubicBezTo>
                <a:cubicBezTo>
                  <a:pt x="2544" y="693"/>
                  <a:pt x="2025" y="635"/>
                  <a:pt x="1708" y="559"/>
                </a:cubicBezTo>
                <a:cubicBezTo>
                  <a:pt x="1391" y="483"/>
                  <a:pt x="1179" y="332"/>
                  <a:pt x="982" y="241"/>
                </a:cubicBezTo>
                <a:cubicBezTo>
                  <a:pt x="785" y="150"/>
                  <a:pt x="679" y="0"/>
                  <a:pt x="528" y="15"/>
                </a:cubicBezTo>
                <a:cubicBezTo>
                  <a:pt x="377" y="30"/>
                  <a:pt x="150" y="211"/>
                  <a:pt x="75" y="332"/>
                </a:cubicBezTo>
                <a:cubicBezTo>
                  <a:pt x="0" y="453"/>
                  <a:pt x="75" y="657"/>
                  <a:pt x="75" y="740"/>
                </a:cubicBezTo>
                <a:cubicBezTo>
                  <a:pt x="75" y="823"/>
                  <a:pt x="37" y="801"/>
                  <a:pt x="75" y="831"/>
                </a:cubicBezTo>
                <a:close/>
              </a:path>
            </a:pathLst>
          </a:custGeom>
          <a:noFill/>
          <a:ln w="1260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1547640" y="2637000"/>
            <a:ext cx="648000" cy="649080"/>
            <a:chOff x="1547640" y="2637000"/>
            <a:chExt cx="648000" cy="649080"/>
          </a:xfrm>
        </p:grpSpPr>
        <p:sp>
          <p:nvSpPr>
            <p:cNvPr id="56" name="Oval 5"/>
            <p:cNvSpPr/>
            <p:nvPr/>
          </p:nvSpPr>
          <p:spPr>
            <a:xfrm>
              <a:off x="1547640" y="2637000"/>
              <a:ext cx="648000" cy="649080"/>
            </a:xfrm>
            <a:prstGeom prst="ellipse">
              <a:avLst/>
            </a:prstGeom>
            <a:solidFill>
              <a:srgbClr val="00c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>
              <a:off x="1835280" y="278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33"/>
          <p:cNvGrpSpPr/>
          <p:nvPr/>
        </p:nvGrpSpPr>
        <p:grpSpPr>
          <a:xfrm>
            <a:off x="684360" y="3357720"/>
            <a:ext cx="8254800" cy="3166560"/>
            <a:chOff x="684360" y="3357720"/>
            <a:chExt cx="8254800" cy="3166560"/>
          </a:xfrm>
        </p:grpSpPr>
        <p:sp>
          <p:nvSpPr>
            <p:cNvPr id="59" name="Freeform 19"/>
            <p:cNvSpPr/>
            <p:nvPr/>
          </p:nvSpPr>
          <p:spPr>
            <a:xfrm>
              <a:off x="938160" y="4371840"/>
              <a:ext cx="1006560" cy="5137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634" h="298">
                  <a:moveTo>
                    <a:pt x="0" y="213"/>
                  </a:moveTo>
                  <a:cubicBezTo>
                    <a:pt x="98" y="245"/>
                    <a:pt x="42" y="236"/>
                    <a:pt x="171" y="224"/>
                  </a:cubicBezTo>
                  <a:cubicBezTo>
                    <a:pt x="192" y="217"/>
                    <a:pt x="214" y="209"/>
                    <a:pt x="235" y="202"/>
                  </a:cubicBezTo>
                  <a:cubicBezTo>
                    <a:pt x="288" y="184"/>
                    <a:pt x="302" y="144"/>
                    <a:pt x="352" y="128"/>
                  </a:cubicBezTo>
                  <a:cubicBezTo>
                    <a:pt x="410" y="70"/>
                    <a:pt x="333" y="140"/>
                    <a:pt x="406" y="96"/>
                  </a:cubicBezTo>
                  <a:cubicBezTo>
                    <a:pt x="415" y="91"/>
                    <a:pt x="419" y="80"/>
                    <a:pt x="427" y="74"/>
                  </a:cubicBezTo>
                  <a:cubicBezTo>
                    <a:pt x="473" y="37"/>
                    <a:pt x="443" y="66"/>
                    <a:pt x="491" y="42"/>
                  </a:cubicBezTo>
                  <a:cubicBezTo>
                    <a:pt x="502" y="36"/>
                    <a:pt x="511" y="26"/>
                    <a:pt x="523" y="21"/>
                  </a:cubicBezTo>
                  <a:cubicBezTo>
                    <a:pt x="544" y="12"/>
                    <a:pt x="587" y="0"/>
                    <a:pt x="587" y="0"/>
                  </a:cubicBezTo>
                  <a:cubicBezTo>
                    <a:pt x="598" y="7"/>
                    <a:pt x="616" y="9"/>
                    <a:pt x="619" y="21"/>
                  </a:cubicBezTo>
                  <a:cubicBezTo>
                    <a:pt x="634" y="72"/>
                    <a:pt x="591" y="95"/>
                    <a:pt x="555" y="106"/>
                  </a:cubicBezTo>
                  <a:cubicBezTo>
                    <a:pt x="503" y="160"/>
                    <a:pt x="569" y="98"/>
                    <a:pt x="502" y="138"/>
                  </a:cubicBezTo>
                  <a:cubicBezTo>
                    <a:pt x="493" y="143"/>
                    <a:pt x="489" y="155"/>
                    <a:pt x="480" y="160"/>
                  </a:cubicBezTo>
                  <a:cubicBezTo>
                    <a:pt x="460" y="170"/>
                    <a:pt x="435" y="169"/>
                    <a:pt x="416" y="181"/>
                  </a:cubicBezTo>
                  <a:cubicBezTo>
                    <a:pt x="318" y="245"/>
                    <a:pt x="438" y="163"/>
                    <a:pt x="363" y="224"/>
                  </a:cubicBezTo>
                  <a:cubicBezTo>
                    <a:pt x="319" y="260"/>
                    <a:pt x="247" y="285"/>
                    <a:pt x="192" y="298"/>
                  </a:cubicBezTo>
                  <a:cubicBezTo>
                    <a:pt x="78" y="287"/>
                    <a:pt x="74" y="287"/>
                    <a:pt x="0" y="213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955880" y="3800880"/>
              <a:ext cx="744480" cy="5724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72400"/>
                <a:gd name="textAreaBottom" fmla="*/ 572400 h 572400"/>
              </a:gdLst>
              <a:ahLst/>
              <a:rect l="textAreaLeft" t="textAreaTop" r="textAreaRight" b="textAreaBottom"/>
              <a:pathLst>
                <a:path w="469" h="332">
                  <a:moveTo>
                    <a:pt x="10" y="277"/>
                  </a:moveTo>
                  <a:cubicBezTo>
                    <a:pt x="46" y="254"/>
                    <a:pt x="66" y="206"/>
                    <a:pt x="106" y="192"/>
                  </a:cubicBezTo>
                  <a:cubicBezTo>
                    <a:pt x="163" y="172"/>
                    <a:pt x="201" y="124"/>
                    <a:pt x="255" y="107"/>
                  </a:cubicBezTo>
                  <a:cubicBezTo>
                    <a:pt x="288" y="74"/>
                    <a:pt x="331" y="50"/>
                    <a:pt x="373" y="32"/>
                  </a:cubicBezTo>
                  <a:cubicBezTo>
                    <a:pt x="394" y="23"/>
                    <a:pt x="416" y="18"/>
                    <a:pt x="437" y="11"/>
                  </a:cubicBezTo>
                  <a:cubicBezTo>
                    <a:pt x="448" y="7"/>
                    <a:pt x="469" y="0"/>
                    <a:pt x="469" y="0"/>
                  </a:cubicBezTo>
                  <a:cubicBezTo>
                    <a:pt x="465" y="28"/>
                    <a:pt x="469" y="59"/>
                    <a:pt x="458" y="85"/>
                  </a:cubicBezTo>
                  <a:cubicBezTo>
                    <a:pt x="444" y="118"/>
                    <a:pt x="408" y="129"/>
                    <a:pt x="383" y="149"/>
                  </a:cubicBezTo>
                  <a:cubicBezTo>
                    <a:pt x="375" y="155"/>
                    <a:pt x="371" y="166"/>
                    <a:pt x="362" y="171"/>
                  </a:cubicBezTo>
                  <a:cubicBezTo>
                    <a:pt x="342" y="181"/>
                    <a:pt x="319" y="185"/>
                    <a:pt x="298" y="192"/>
                  </a:cubicBezTo>
                  <a:cubicBezTo>
                    <a:pt x="181" y="231"/>
                    <a:pt x="357" y="170"/>
                    <a:pt x="234" y="224"/>
                  </a:cubicBezTo>
                  <a:cubicBezTo>
                    <a:pt x="213" y="233"/>
                    <a:pt x="170" y="245"/>
                    <a:pt x="170" y="245"/>
                  </a:cubicBezTo>
                  <a:cubicBezTo>
                    <a:pt x="140" y="276"/>
                    <a:pt x="115" y="276"/>
                    <a:pt x="74" y="288"/>
                  </a:cubicBezTo>
                  <a:cubicBezTo>
                    <a:pt x="0" y="310"/>
                    <a:pt x="10" y="332"/>
                    <a:pt x="10" y="277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2845080" y="3357720"/>
              <a:ext cx="1139760" cy="4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718" h="272">
                  <a:moveTo>
                    <a:pt x="15" y="204"/>
                  </a:moveTo>
                  <a:cubicBezTo>
                    <a:pt x="0" y="253"/>
                    <a:pt x="21" y="272"/>
                    <a:pt x="69" y="246"/>
                  </a:cubicBezTo>
                  <a:cubicBezTo>
                    <a:pt x="91" y="234"/>
                    <a:pt x="115" y="222"/>
                    <a:pt x="133" y="204"/>
                  </a:cubicBezTo>
                  <a:cubicBezTo>
                    <a:pt x="140" y="197"/>
                    <a:pt x="145" y="187"/>
                    <a:pt x="154" y="182"/>
                  </a:cubicBezTo>
                  <a:cubicBezTo>
                    <a:pt x="162" y="177"/>
                    <a:pt x="226" y="162"/>
                    <a:pt x="229" y="161"/>
                  </a:cubicBezTo>
                  <a:cubicBezTo>
                    <a:pt x="279" y="146"/>
                    <a:pt x="328" y="135"/>
                    <a:pt x="378" y="118"/>
                  </a:cubicBezTo>
                  <a:cubicBezTo>
                    <a:pt x="415" y="105"/>
                    <a:pt x="456" y="111"/>
                    <a:pt x="495" y="108"/>
                  </a:cubicBezTo>
                  <a:cubicBezTo>
                    <a:pt x="559" y="104"/>
                    <a:pt x="623" y="101"/>
                    <a:pt x="687" y="97"/>
                  </a:cubicBezTo>
                  <a:cubicBezTo>
                    <a:pt x="694" y="90"/>
                    <a:pt x="707" y="86"/>
                    <a:pt x="709" y="76"/>
                  </a:cubicBezTo>
                  <a:cubicBezTo>
                    <a:pt x="718" y="26"/>
                    <a:pt x="665" y="21"/>
                    <a:pt x="634" y="1"/>
                  </a:cubicBezTo>
                  <a:cubicBezTo>
                    <a:pt x="555" y="6"/>
                    <a:pt x="483" y="0"/>
                    <a:pt x="410" y="22"/>
                  </a:cubicBezTo>
                  <a:cubicBezTo>
                    <a:pt x="388" y="28"/>
                    <a:pt x="367" y="37"/>
                    <a:pt x="346" y="44"/>
                  </a:cubicBezTo>
                  <a:cubicBezTo>
                    <a:pt x="335" y="48"/>
                    <a:pt x="314" y="54"/>
                    <a:pt x="314" y="54"/>
                  </a:cubicBezTo>
                  <a:cubicBezTo>
                    <a:pt x="307" y="61"/>
                    <a:pt x="302" y="71"/>
                    <a:pt x="293" y="76"/>
                  </a:cubicBezTo>
                  <a:cubicBezTo>
                    <a:pt x="273" y="86"/>
                    <a:pt x="229" y="97"/>
                    <a:pt x="229" y="97"/>
                  </a:cubicBezTo>
                  <a:cubicBezTo>
                    <a:pt x="191" y="133"/>
                    <a:pt x="215" y="116"/>
                    <a:pt x="143" y="140"/>
                  </a:cubicBezTo>
                  <a:cubicBezTo>
                    <a:pt x="132" y="144"/>
                    <a:pt x="111" y="150"/>
                    <a:pt x="111" y="150"/>
                  </a:cubicBezTo>
                  <a:cubicBezTo>
                    <a:pt x="57" y="206"/>
                    <a:pt x="127" y="140"/>
                    <a:pt x="58" y="182"/>
                  </a:cubicBezTo>
                  <a:cubicBezTo>
                    <a:pt x="13" y="209"/>
                    <a:pt x="61" y="204"/>
                    <a:pt x="15" y="20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4149720" y="3378240"/>
              <a:ext cx="1190880" cy="42228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750" h="245">
                  <a:moveTo>
                    <a:pt x="4" y="0"/>
                  </a:moveTo>
                  <a:cubicBezTo>
                    <a:pt x="81" y="24"/>
                    <a:pt x="162" y="21"/>
                    <a:pt x="239" y="42"/>
                  </a:cubicBezTo>
                  <a:cubicBezTo>
                    <a:pt x="261" y="48"/>
                    <a:pt x="281" y="61"/>
                    <a:pt x="303" y="64"/>
                  </a:cubicBezTo>
                  <a:cubicBezTo>
                    <a:pt x="360" y="71"/>
                    <a:pt x="473" y="85"/>
                    <a:pt x="473" y="85"/>
                  </a:cubicBezTo>
                  <a:cubicBezTo>
                    <a:pt x="548" y="110"/>
                    <a:pt x="516" y="99"/>
                    <a:pt x="569" y="117"/>
                  </a:cubicBezTo>
                  <a:cubicBezTo>
                    <a:pt x="580" y="121"/>
                    <a:pt x="601" y="128"/>
                    <a:pt x="601" y="128"/>
                  </a:cubicBezTo>
                  <a:cubicBezTo>
                    <a:pt x="608" y="135"/>
                    <a:pt x="614" y="145"/>
                    <a:pt x="623" y="149"/>
                  </a:cubicBezTo>
                  <a:cubicBezTo>
                    <a:pt x="643" y="159"/>
                    <a:pt x="687" y="170"/>
                    <a:pt x="687" y="170"/>
                  </a:cubicBezTo>
                  <a:cubicBezTo>
                    <a:pt x="688" y="171"/>
                    <a:pt x="750" y="204"/>
                    <a:pt x="729" y="224"/>
                  </a:cubicBezTo>
                  <a:cubicBezTo>
                    <a:pt x="713" y="240"/>
                    <a:pt x="665" y="245"/>
                    <a:pt x="665" y="245"/>
                  </a:cubicBezTo>
                  <a:cubicBezTo>
                    <a:pt x="659" y="244"/>
                    <a:pt x="593" y="232"/>
                    <a:pt x="580" y="224"/>
                  </a:cubicBezTo>
                  <a:cubicBezTo>
                    <a:pt x="571" y="219"/>
                    <a:pt x="568" y="207"/>
                    <a:pt x="559" y="202"/>
                  </a:cubicBezTo>
                  <a:cubicBezTo>
                    <a:pt x="519" y="182"/>
                    <a:pt x="414" y="147"/>
                    <a:pt x="367" y="138"/>
                  </a:cubicBezTo>
                  <a:cubicBezTo>
                    <a:pt x="254" y="117"/>
                    <a:pt x="133" y="90"/>
                    <a:pt x="25" y="53"/>
                  </a:cubicBezTo>
                  <a:cubicBezTo>
                    <a:pt x="0" y="15"/>
                    <a:pt x="4" y="34"/>
                    <a:pt x="4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5494320" y="3800880"/>
              <a:ext cx="1006560" cy="49644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634" h="288">
                  <a:moveTo>
                    <a:pt x="0" y="0"/>
                  </a:moveTo>
                  <a:cubicBezTo>
                    <a:pt x="85" y="22"/>
                    <a:pt x="167" y="46"/>
                    <a:pt x="245" y="85"/>
                  </a:cubicBezTo>
                  <a:cubicBezTo>
                    <a:pt x="268" y="96"/>
                    <a:pt x="361" y="117"/>
                    <a:pt x="362" y="117"/>
                  </a:cubicBezTo>
                  <a:cubicBezTo>
                    <a:pt x="423" y="132"/>
                    <a:pt x="366" y="122"/>
                    <a:pt x="426" y="149"/>
                  </a:cubicBezTo>
                  <a:cubicBezTo>
                    <a:pt x="481" y="173"/>
                    <a:pt x="541" y="184"/>
                    <a:pt x="597" y="203"/>
                  </a:cubicBezTo>
                  <a:cubicBezTo>
                    <a:pt x="627" y="249"/>
                    <a:pt x="634" y="268"/>
                    <a:pt x="576" y="288"/>
                  </a:cubicBezTo>
                  <a:cubicBezTo>
                    <a:pt x="575" y="288"/>
                    <a:pt x="487" y="270"/>
                    <a:pt x="480" y="267"/>
                  </a:cubicBezTo>
                  <a:cubicBezTo>
                    <a:pt x="471" y="262"/>
                    <a:pt x="467" y="250"/>
                    <a:pt x="458" y="245"/>
                  </a:cubicBezTo>
                  <a:cubicBezTo>
                    <a:pt x="423" y="224"/>
                    <a:pt x="380" y="223"/>
                    <a:pt x="341" y="213"/>
                  </a:cubicBezTo>
                  <a:cubicBezTo>
                    <a:pt x="256" y="192"/>
                    <a:pt x="343" y="217"/>
                    <a:pt x="234" y="181"/>
                  </a:cubicBezTo>
                  <a:cubicBezTo>
                    <a:pt x="223" y="177"/>
                    <a:pt x="202" y="171"/>
                    <a:pt x="202" y="171"/>
                  </a:cubicBezTo>
                  <a:cubicBezTo>
                    <a:pt x="152" y="136"/>
                    <a:pt x="93" y="129"/>
                    <a:pt x="42" y="96"/>
                  </a:cubicBezTo>
                  <a:cubicBezTo>
                    <a:pt x="21" y="64"/>
                    <a:pt x="11" y="36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6729480" y="4297680"/>
              <a:ext cx="1033560" cy="615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651" h="357">
                  <a:moveTo>
                    <a:pt x="0" y="0"/>
                  </a:moveTo>
                  <a:cubicBezTo>
                    <a:pt x="50" y="17"/>
                    <a:pt x="100" y="26"/>
                    <a:pt x="150" y="43"/>
                  </a:cubicBezTo>
                  <a:cubicBezTo>
                    <a:pt x="161" y="47"/>
                    <a:pt x="182" y="53"/>
                    <a:pt x="182" y="53"/>
                  </a:cubicBezTo>
                  <a:cubicBezTo>
                    <a:pt x="215" y="87"/>
                    <a:pt x="265" y="92"/>
                    <a:pt x="310" y="107"/>
                  </a:cubicBezTo>
                  <a:cubicBezTo>
                    <a:pt x="363" y="125"/>
                    <a:pt x="377" y="165"/>
                    <a:pt x="427" y="181"/>
                  </a:cubicBezTo>
                  <a:cubicBezTo>
                    <a:pt x="479" y="235"/>
                    <a:pt x="413" y="173"/>
                    <a:pt x="480" y="213"/>
                  </a:cubicBezTo>
                  <a:cubicBezTo>
                    <a:pt x="553" y="256"/>
                    <a:pt x="445" y="217"/>
                    <a:pt x="534" y="245"/>
                  </a:cubicBezTo>
                  <a:cubicBezTo>
                    <a:pt x="566" y="279"/>
                    <a:pt x="612" y="283"/>
                    <a:pt x="651" y="309"/>
                  </a:cubicBezTo>
                  <a:cubicBezTo>
                    <a:pt x="647" y="320"/>
                    <a:pt x="651" y="338"/>
                    <a:pt x="640" y="341"/>
                  </a:cubicBezTo>
                  <a:cubicBezTo>
                    <a:pt x="572" y="357"/>
                    <a:pt x="540" y="321"/>
                    <a:pt x="491" y="288"/>
                  </a:cubicBezTo>
                  <a:cubicBezTo>
                    <a:pt x="472" y="275"/>
                    <a:pt x="448" y="274"/>
                    <a:pt x="427" y="267"/>
                  </a:cubicBezTo>
                  <a:cubicBezTo>
                    <a:pt x="416" y="263"/>
                    <a:pt x="395" y="256"/>
                    <a:pt x="395" y="256"/>
                  </a:cubicBezTo>
                  <a:cubicBezTo>
                    <a:pt x="367" y="228"/>
                    <a:pt x="336" y="208"/>
                    <a:pt x="299" y="192"/>
                  </a:cubicBezTo>
                  <a:cubicBezTo>
                    <a:pt x="278" y="183"/>
                    <a:pt x="235" y="171"/>
                    <a:pt x="235" y="171"/>
                  </a:cubicBezTo>
                  <a:cubicBezTo>
                    <a:pt x="203" y="137"/>
                    <a:pt x="161" y="132"/>
                    <a:pt x="118" y="117"/>
                  </a:cubicBezTo>
                  <a:cubicBezTo>
                    <a:pt x="95" y="109"/>
                    <a:pt x="77" y="93"/>
                    <a:pt x="54" y="85"/>
                  </a:cubicBezTo>
                  <a:cubicBezTo>
                    <a:pt x="27" y="59"/>
                    <a:pt x="21" y="31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7813800" y="4941000"/>
              <a:ext cx="1125360" cy="84168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709" h="488">
                  <a:moveTo>
                    <a:pt x="75" y="0"/>
                  </a:moveTo>
                  <a:cubicBezTo>
                    <a:pt x="106" y="33"/>
                    <a:pt x="103" y="50"/>
                    <a:pt x="149" y="64"/>
                  </a:cubicBezTo>
                  <a:cubicBezTo>
                    <a:pt x="232" y="147"/>
                    <a:pt x="359" y="159"/>
                    <a:pt x="459" y="214"/>
                  </a:cubicBezTo>
                  <a:cubicBezTo>
                    <a:pt x="495" y="234"/>
                    <a:pt x="546" y="285"/>
                    <a:pt x="587" y="299"/>
                  </a:cubicBezTo>
                  <a:cubicBezTo>
                    <a:pt x="608" y="306"/>
                    <a:pt x="651" y="320"/>
                    <a:pt x="651" y="320"/>
                  </a:cubicBezTo>
                  <a:cubicBezTo>
                    <a:pt x="677" y="347"/>
                    <a:pt x="692" y="370"/>
                    <a:pt x="704" y="406"/>
                  </a:cubicBezTo>
                  <a:cubicBezTo>
                    <a:pt x="700" y="424"/>
                    <a:pt x="709" y="450"/>
                    <a:pt x="693" y="459"/>
                  </a:cubicBezTo>
                  <a:cubicBezTo>
                    <a:pt x="641" y="488"/>
                    <a:pt x="580" y="402"/>
                    <a:pt x="544" y="384"/>
                  </a:cubicBezTo>
                  <a:cubicBezTo>
                    <a:pt x="498" y="361"/>
                    <a:pt x="427" y="360"/>
                    <a:pt x="384" y="331"/>
                  </a:cubicBezTo>
                  <a:cubicBezTo>
                    <a:pt x="311" y="282"/>
                    <a:pt x="345" y="296"/>
                    <a:pt x="288" y="278"/>
                  </a:cubicBezTo>
                  <a:cubicBezTo>
                    <a:pt x="250" y="240"/>
                    <a:pt x="231" y="220"/>
                    <a:pt x="181" y="203"/>
                  </a:cubicBezTo>
                  <a:cubicBezTo>
                    <a:pt x="170" y="192"/>
                    <a:pt x="162" y="179"/>
                    <a:pt x="149" y="171"/>
                  </a:cubicBezTo>
                  <a:cubicBezTo>
                    <a:pt x="140" y="165"/>
                    <a:pt x="126" y="167"/>
                    <a:pt x="117" y="160"/>
                  </a:cubicBezTo>
                  <a:cubicBezTo>
                    <a:pt x="51" y="107"/>
                    <a:pt x="142" y="142"/>
                    <a:pt x="64" y="118"/>
                  </a:cubicBezTo>
                  <a:cubicBezTo>
                    <a:pt x="29" y="81"/>
                    <a:pt x="18" y="105"/>
                    <a:pt x="0" y="54"/>
                  </a:cubicBezTo>
                  <a:cubicBezTo>
                    <a:pt x="51" y="3"/>
                    <a:pt x="24" y="18"/>
                    <a:pt x="75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1938600" y="5015160"/>
              <a:ext cx="950760" cy="6811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99" h="395">
                  <a:moveTo>
                    <a:pt x="0" y="384"/>
                  </a:moveTo>
                  <a:cubicBezTo>
                    <a:pt x="21" y="377"/>
                    <a:pt x="43" y="370"/>
                    <a:pt x="64" y="363"/>
                  </a:cubicBezTo>
                  <a:cubicBezTo>
                    <a:pt x="75" y="359"/>
                    <a:pt x="96" y="352"/>
                    <a:pt x="96" y="352"/>
                  </a:cubicBezTo>
                  <a:cubicBezTo>
                    <a:pt x="122" y="312"/>
                    <a:pt x="158" y="290"/>
                    <a:pt x="192" y="256"/>
                  </a:cubicBezTo>
                  <a:cubicBezTo>
                    <a:pt x="200" y="248"/>
                    <a:pt x="214" y="250"/>
                    <a:pt x="224" y="245"/>
                  </a:cubicBezTo>
                  <a:cubicBezTo>
                    <a:pt x="272" y="219"/>
                    <a:pt x="302" y="187"/>
                    <a:pt x="352" y="171"/>
                  </a:cubicBezTo>
                  <a:cubicBezTo>
                    <a:pt x="363" y="164"/>
                    <a:pt x="372" y="154"/>
                    <a:pt x="384" y="149"/>
                  </a:cubicBezTo>
                  <a:cubicBezTo>
                    <a:pt x="404" y="140"/>
                    <a:pt x="429" y="140"/>
                    <a:pt x="448" y="128"/>
                  </a:cubicBezTo>
                  <a:cubicBezTo>
                    <a:pt x="491" y="100"/>
                    <a:pt x="522" y="60"/>
                    <a:pt x="565" y="32"/>
                  </a:cubicBezTo>
                  <a:cubicBezTo>
                    <a:pt x="569" y="21"/>
                    <a:pt x="565" y="0"/>
                    <a:pt x="576" y="0"/>
                  </a:cubicBezTo>
                  <a:cubicBezTo>
                    <a:pt x="589" y="0"/>
                    <a:pt x="596" y="19"/>
                    <a:pt x="597" y="32"/>
                  </a:cubicBezTo>
                  <a:cubicBezTo>
                    <a:pt x="599" y="54"/>
                    <a:pt x="591" y="75"/>
                    <a:pt x="586" y="96"/>
                  </a:cubicBezTo>
                  <a:cubicBezTo>
                    <a:pt x="576" y="141"/>
                    <a:pt x="573" y="131"/>
                    <a:pt x="533" y="171"/>
                  </a:cubicBezTo>
                  <a:cubicBezTo>
                    <a:pt x="480" y="224"/>
                    <a:pt x="407" y="255"/>
                    <a:pt x="341" y="288"/>
                  </a:cubicBezTo>
                  <a:cubicBezTo>
                    <a:pt x="309" y="304"/>
                    <a:pt x="278" y="326"/>
                    <a:pt x="245" y="341"/>
                  </a:cubicBezTo>
                  <a:cubicBezTo>
                    <a:pt x="221" y="352"/>
                    <a:pt x="177" y="364"/>
                    <a:pt x="149" y="373"/>
                  </a:cubicBezTo>
                  <a:cubicBezTo>
                    <a:pt x="138" y="377"/>
                    <a:pt x="128" y="380"/>
                    <a:pt x="117" y="384"/>
                  </a:cubicBezTo>
                  <a:cubicBezTo>
                    <a:pt x="106" y="388"/>
                    <a:pt x="85" y="395"/>
                    <a:pt x="85" y="395"/>
                  </a:cubicBezTo>
                  <a:cubicBezTo>
                    <a:pt x="14" y="383"/>
                    <a:pt x="43" y="384"/>
                    <a:pt x="0" y="38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954520" y="4475160"/>
              <a:ext cx="1270080" cy="4849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800" h="281">
                  <a:moveTo>
                    <a:pt x="0" y="260"/>
                  </a:moveTo>
                  <a:cubicBezTo>
                    <a:pt x="24" y="223"/>
                    <a:pt x="42" y="213"/>
                    <a:pt x="74" y="185"/>
                  </a:cubicBezTo>
                  <a:cubicBezTo>
                    <a:pt x="103" y="160"/>
                    <a:pt x="114" y="136"/>
                    <a:pt x="149" y="121"/>
                  </a:cubicBezTo>
                  <a:cubicBezTo>
                    <a:pt x="214" y="93"/>
                    <a:pt x="204" y="106"/>
                    <a:pt x="266" y="89"/>
                  </a:cubicBezTo>
                  <a:cubicBezTo>
                    <a:pt x="370" y="61"/>
                    <a:pt x="471" y="28"/>
                    <a:pt x="576" y="4"/>
                  </a:cubicBezTo>
                  <a:cubicBezTo>
                    <a:pt x="647" y="7"/>
                    <a:pt x="719" y="0"/>
                    <a:pt x="789" y="14"/>
                  </a:cubicBezTo>
                  <a:cubicBezTo>
                    <a:pt x="800" y="16"/>
                    <a:pt x="786" y="38"/>
                    <a:pt x="778" y="46"/>
                  </a:cubicBezTo>
                  <a:cubicBezTo>
                    <a:pt x="750" y="74"/>
                    <a:pt x="700" y="62"/>
                    <a:pt x="661" y="68"/>
                  </a:cubicBezTo>
                  <a:cubicBezTo>
                    <a:pt x="575" y="82"/>
                    <a:pt x="487" y="115"/>
                    <a:pt x="405" y="142"/>
                  </a:cubicBezTo>
                  <a:cubicBezTo>
                    <a:pt x="349" y="160"/>
                    <a:pt x="298" y="182"/>
                    <a:pt x="245" y="206"/>
                  </a:cubicBezTo>
                  <a:cubicBezTo>
                    <a:pt x="224" y="215"/>
                    <a:pt x="181" y="228"/>
                    <a:pt x="181" y="228"/>
                  </a:cubicBezTo>
                  <a:cubicBezTo>
                    <a:pt x="170" y="239"/>
                    <a:pt x="162" y="253"/>
                    <a:pt x="149" y="260"/>
                  </a:cubicBezTo>
                  <a:cubicBezTo>
                    <a:pt x="129" y="271"/>
                    <a:pt x="85" y="281"/>
                    <a:pt x="85" y="281"/>
                  </a:cubicBezTo>
                  <a:cubicBezTo>
                    <a:pt x="67" y="277"/>
                    <a:pt x="50" y="274"/>
                    <a:pt x="32" y="270"/>
                  </a:cubicBezTo>
                  <a:cubicBezTo>
                    <a:pt x="21" y="267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4388040" y="4397760"/>
              <a:ext cx="1257120" cy="46008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92" h="267">
                  <a:moveTo>
                    <a:pt x="46" y="49"/>
                  </a:moveTo>
                  <a:cubicBezTo>
                    <a:pt x="187" y="0"/>
                    <a:pt x="358" y="28"/>
                    <a:pt x="505" y="38"/>
                  </a:cubicBezTo>
                  <a:cubicBezTo>
                    <a:pt x="539" y="61"/>
                    <a:pt x="572" y="79"/>
                    <a:pt x="611" y="91"/>
                  </a:cubicBezTo>
                  <a:cubicBezTo>
                    <a:pt x="636" y="116"/>
                    <a:pt x="672" y="129"/>
                    <a:pt x="697" y="155"/>
                  </a:cubicBezTo>
                  <a:cubicBezTo>
                    <a:pt x="760" y="221"/>
                    <a:pt x="671" y="125"/>
                    <a:pt x="739" y="209"/>
                  </a:cubicBezTo>
                  <a:cubicBezTo>
                    <a:pt x="741" y="212"/>
                    <a:pt x="792" y="256"/>
                    <a:pt x="782" y="262"/>
                  </a:cubicBezTo>
                  <a:cubicBezTo>
                    <a:pt x="775" y="267"/>
                    <a:pt x="711" y="245"/>
                    <a:pt x="697" y="241"/>
                  </a:cubicBezTo>
                  <a:cubicBezTo>
                    <a:pt x="658" y="202"/>
                    <a:pt x="599" y="194"/>
                    <a:pt x="547" y="177"/>
                  </a:cubicBezTo>
                  <a:cubicBezTo>
                    <a:pt x="443" y="143"/>
                    <a:pt x="335" y="116"/>
                    <a:pt x="227" y="102"/>
                  </a:cubicBezTo>
                  <a:cubicBezTo>
                    <a:pt x="213" y="98"/>
                    <a:pt x="199" y="94"/>
                    <a:pt x="185" y="91"/>
                  </a:cubicBezTo>
                  <a:cubicBezTo>
                    <a:pt x="52" y="67"/>
                    <a:pt x="166" y="99"/>
                    <a:pt x="46" y="59"/>
                  </a:cubicBezTo>
                  <a:cubicBezTo>
                    <a:pt x="6" y="46"/>
                    <a:pt x="0" y="49"/>
                    <a:pt x="46" y="49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738760" y="4849560"/>
              <a:ext cx="1106640" cy="81432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697" h="472">
                  <a:moveTo>
                    <a:pt x="6" y="0"/>
                  </a:moveTo>
                  <a:cubicBezTo>
                    <a:pt x="38" y="21"/>
                    <a:pt x="54" y="42"/>
                    <a:pt x="91" y="53"/>
                  </a:cubicBezTo>
                  <a:cubicBezTo>
                    <a:pt x="145" y="89"/>
                    <a:pt x="195" y="108"/>
                    <a:pt x="251" y="139"/>
                  </a:cubicBezTo>
                  <a:cubicBezTo>
                    <a:pt x="293" y="162"/>
                    <a:pt x="324" y="199"/>
                    <a:pt x="368" y="213"/>
                  </a:cubicBezTo>
                  <a:cubicBezTo>
                    <a:pt x="394" y="239"/>
                    <a:pt x="416" y="264"/>
                    <a:pt x="454" y="277"/>
                  </a:cubicBezTo>
                  <a:cubicBezTo>
                    <a:pt x="475" y="284"/>
                    <a:pt x="497" y="292"/>
                    <a:pt x="518" y="299"/>
                  </a:cubicBezTo>
                  <a:cubicBezTo>
                    <a:pt x="529" y="303"/>
                    <a:pt x="550" y="309"/>
                    <a:pt x="550" y="309"/>
                  </a:cubicBezTo>
                  <a:cubicBezTo>
                    <a:pt x="597" y="358"/>
                    <a:pt x="541" y="307"/>
                    <a:pt x="603" y="341"/>
                  </a:cubicBezTo>
                  <a:cubicBezTo>
                    <a:pt x="626" y="353"/>
                    <a:pt x="667" y="384"/>
                    <a:pt x="667" y="384"/>
                  </a:cubicBezTo>
                  <a:cubicBezTo>
                    <a:pt x="697" y="472"/>
                    <a:pt x="605" y="433"/>
                    <a:pt x="539" y="427"/>
                  </a:cubicBezTo>
                  <a:cubicBezTo>
                    <a:pt x="448" y="396"/>
                    <a:pt x="366" y="367"/>
                    <a:pt x="283" y="320"/>
                  </a:cubicBezTo>
                  <a:cubicBezTo>
                    <a:pt x="233" y="292"/>
                    <a:pt x="199" y="252"/>
                    <a:pt x="144" y="235"/>
                  </a:cubicBezTo>
                  <a:cubicBezTo>
                    <a:pt x="137" y="228"/>
                    <a:pt x="131" y="219"/>
                    <a:pt x="123" y="213"/>
                  </a:cubicBezTo>
                  <a:cubicBezTo>
                    <a:pt x="113" y="205"/>
                    <a:pt x="100" y="201"/>
                    <a:pt x="91" y="192"/>
                  </a:cubicBezTo>
                  <a:cubicBezTo>
                    <a:pt x="82" y="183"/>
                    <a:pt x="78" y="170"/>
                    <a:pt x="70" y="160"/>
                  </a:cubicBezTo>
                  <a:cubicBezTo>
                    <a:pt x="57" y="145"/>
                    <a:pt x="27" y="117"/>
                    <a:pt x="27" y="117"/>
                  </a:cubicBezTo>
                  <a:cubicBezTo>
                    <a:pt x="0" y="36"/>
                    <a:pt x="6" y="75"/>
                    <a:pt x="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967800" y="5696640"/>
              <a:ext cx="977760" cy="82764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616" h="480">
                  <a:moveTo>
                    <a:pt x="0" y="0"/>
                  </a:moveTo>
                  <a:cubicBezTo>
                    <a:pt x="55" y="17"/>
                    <a:pt x="92" y="66"/>
                    <a:pt x="149" y="85"/>
                  </a:cubicBezTo>
                  <a:cubicBezTo>
                    <a:pt x="163" y="96"/>
                    <a:pt x="177" y="108"/>
                    <a:pt x="192" y="117"/>
                  </a:cubicBezTo>
                  <a:cubicBezTo>
                    <a:pt x="205" y="125"/>
                    <a:pt x="221" y="129"/>
                    <a:pt x="234" y="138"/>
                  </a:cubicBezTo>
                  <a:cubicBezTo>
                    <a:pt x="265" y="159"/>
                    <a:pt x="282" y="179"/>
                    <a:pt x="320" y="192"/>
                  </a:cubicBezTo>
                  <a:cubicBezTo>
                    <a:pt x="371" y="270"/>
                    <a:pt x="308" y="188"/>
                    <a:pt x="373" y="234"/>
                  </a:cubicBezTo>
                  <a:cubicBezTo>
                    <a:pt x="390" y="246"/>
                    <a:pt x="399" y="266"/>
                    <a:pt x="416" y="277"/>
                  </a:cubicBezTo>
                  <a:cubicBezTo>
                    <a:pt x="471" y="314"/>
                    <a:pt x="521" y="358"/>
                    <a:pt x="576" y="394"/>
                  </a:cubicBezTo>
                  <a:cubicBezTo>
                    <a:pt x="594" y="451"/>
                    <a:pt x="616" y="424"/>
                    <a:pt x="597" y="480"/>
                  </a:cubicBezTo>
                  <a:cubicBezTo>
                    <a:pt x="504" y="466"/>
                    <a:pt x="501" y="454"/>
                    <a:pt x="426" y="405"/>
                  </a:cubicBezTo>
                  <a:cubicBezTo>
                    <a:pt x="341" y="349"/>
                    <a:pt x="447" y="419"/>
                    <a:pt x="362" y="362"/>
                  </a:cubicBezTo>
                  <a:cubicBezTo>
                    <a:pt x="351" y="355"/>
                    <a:pt x="330" y="341"/>
                    <a:pt x="330" y="341"/>
                  </a:cubicBezTo>
                  <a:cubicBezTo>
                    <a:pt x="295" y="288"/>
                    <a:pt x="227" y="270"/>
                    <a:pt x="181" y="224"/>
                  </a:cubicBezTo>
                  <a:cubicBezTo>
                    <a:pt x="105" y="148"/>
                    <a:pt x="42" y="105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84360" y="5732640"/>
              <a:ext cx="1198440" cy="6310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55" h="366">
                  <a:moveTo>
                    <a:pt x="736" y="0"/>
                  </a:moveTo>
                  <a:cubicBezTo>
                    <a:pt x="657" y="27"/>
                    <a:pt x="583" y="60"/>
                    <a:pt x="502" y="85"/>
                  </a:cubicBezTo>
                  <a:cubicBezTo>
                    <a:pt x="378" y="124"/>
                    <a:pt x="251" y="150"/>
                    <a:pt x="128" y="192"/>
                  </a:cubicBezTo>
                  <a:cubicBezTo>
                    <a:pt x="98" y="202"/>
                    <a:pt x="70" y="239"/>
                    <a:pt x="43" y="256"/>
                  </a:cubicBezTo>
                  <a:cubicBezTo>
                    <a:pt x="19" y="330"/>
                    <a:pt x="38" y="304"/>
                    <a:pt x="0" y="341"/>
                  </a:cubicBezTo>
                  <a:cubicBezTo>
                    <a:pt x="7" y="348"/>
                    <a:pt x="12" y="361"/>
                    <a:pt x="22" y="363"/>
                  </a:cubicBezTo>
                  <a:cubicBezTo>
                    <a:pt x="40" y="366"/>
                    <a:pt x="58" y="357"/>
                    <a:pt x="75" y="352"/>
                  </a:cubicBezTo>
                  <a:cubicBezTo>
                    <a:pt x="129" y="337"/>
                    <a:pt x="182" y="316"/>
                    <a:pt x="235" y="299"/>
                  </a:cubicBezTo>
                  <a:cubicBezTo>
                    <a:pt x="256" y="292"/>
                    <a:pt x="278" y="284"/>
                    <a:pt x="299" y="277"/>
                  </a:cubicBezTo>
                  <a:cubicBezTo>
                    <a:pt x="310" y="274"/>
                    <a:pt x="331" y="267"/>
                    <a:pt x="331" y="267"/>
                  </a:cubicBezTo>
                  <a:cubicBezTo>
                    <a:pt x="372" y="224"/>
                    <a:pt x="342" y="247"/>
                    <a:pt x="438" y="224"/>
                  </a:cubicBezTo>
                  <a:cubicBezTo>
                    <a:pt x="494" y="210"/>
                    <a:pt x="553" y="188"/>
                    <a:pt x="608" y="171"/>
                  </a:cubicBezTo>
                  <a:cubicBezTo>
                    <a:pt x="619" y="164"/>
                    <a:pt x="628" y="154"/>
                    <a:pt x="640" y="149"/>
                  </a:cubicBezTo>
                  <a:cubicBezTo>
                    <a:pt x="654" y="143"/>
                    <a:pt x="670" y="146"/>
                    <a:pt x="683" y="139"/>
                  </a:cubicBezTo>
                  <a:cubicBezTo>
                    <a:pt x="692" y="134"/>
                    <a:pt x="695" y="122"/>
                    <a:pt x="704" y="117"/>
                  </a:cubicBezTo>
                  <a:cubicBezTo>
                    <a:pt x="714" y="111"/>
                    <a:pt x="725" y="110"/>
                    <a:pt x="736" y="107"/>
                  </a:cubicBezTo>
                  <a:cubicBezTo>
                    <a:pt x="755" y="51"/>
                    <a:pt x="749" y="86"/>
                    <a:pt x="73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7"/>
          <p:cNvGrpSpPr/>
          <p:nvPr/>
        </p:nvGrpSpPr>
        <p:grpSpPr>
          <a:xfrm>
            <a:off x="1091160" y="1209240"/>
            <a:ext cx="1235160" cy="1147320"/>
            <a:chOff x="1091160" y="1209240"/>
            <a:chExt cx="1235160" cy="1147320"/>
          </a:xfrm>
        </p:grpSpPr>
        <p:grpSp>
          <p:nvGrpSpPr>
            <p:cNvPr id="73" name="Group 38"/>
            <p:cNvGrpSpPr/>
            <p:nvPr/>
          </p:nvGrpSpPr>
          <p:grpSpPr>
            <a:xfrm>
              <a:off x="1928160" y="2008440"/>
              <a:ext cx="319320" cy="348120"/>
              <a:chOff x="1928160" y="2008440"/>
              <a:chExt cx="319320" cy="348120"/>
            </a:xfrm>
          </p:grpSpPr>
          <p:sp>
            <p:nvSpPr>
              <p:cNvPr id="74" name="AutoShape 39"/>
              <p:cNvSpPr/>
              <p:nvPr/>
            </p:nvSpPr>
            <p:spPr>
              <a:xfrm rot="19329600">
                <a:off x="1956960" y="218520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40"/>
              <p:cNvSpPr/>
              <p:nvPr/>
            </p:nvSpPr>
            <p:spPr>
              <a:xfrm rot="19329600">
                <a:off x="2077920" y="209124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1"/>
              <p:cNvSpPr/>
              <p:nvPr/>
            </p:nvSpPr>
            <p:spPr>
              <a:xfrm flipV="1">
                <a:off x="1988640" y="2093400"/>
                <a:ext cx="16560" cy="102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2"/>
              <p:cNvSpPr/>
              <p:nvPr/>
            </p:nvSpPr>
            <p:spPr>
              <a:xfrm>
                <a:off x="2005200" y="2093040"/>
                <a:ext cx="94320" cy="17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H="1" flipV="1">
                <a:off x="1939680" y="2008440"/>
                <a:ext cx="65520" cy="84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4"/>
            <p:cNvGrpSpPr/>
            <p:nvPr/>
          </p:nvGrpSpPr>
          <p:grpSpPr>
            <a:xfrm>
              <a:off x="1964520" y="1605960"/>
              <a:ext cx="361800" cy="276840"/>
              <a:chOff x="1964520" y="1605960"/>
              <a:chExt cx="361800" cy="276840"/>
            </a:xfrm>
          </p:grpSpPr>
          <p:sp>
            <p:nvSpPr>
              <p:cNvPr id="80" name="AutoShape 45"/>
              <p:cNvSpPr/>
              <p:nvPr/>
            </p:nvSpPr>
            <p:spPr>
              <a:xfrm rot="15956400">
                <a:off x="2179440" y="17352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46"/>
              <p:cNvSpPr/>
              <p:nvPr/>
            </p:nvSpPr>
            <p:spPr>
              <a:xfrm rot="15956400">
                <a:off x="2169720" y="15966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7"/>
              <p:cNvSpPr/>
              <p:nvPr/>
            </p:nvSpPr>
            <p:spPr>
              <a:xfrm flipH="1" flipV="1">
                <a:off x="2081160" y="1749600"/>
                <a:ext cx="82800" cy="6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8"/>
              <p:cNvSpPr/>
              <p:nvPr/>
            </p:nvSpPr>
            <p:spPr>
              <a:xfrm flipV="1">
                <a:off x="2081520" y="1686240"/>
                <a:ext cx="73800" cy="63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9"/>
              <p:cNvSpPr/>
              <p:nvPr/>
            </p:nvSpPr>
            <p:spPr>
              <a:xfrm flipH="1">
                <a:off x="1964520" y="1749600"/>
                <a:ext cx="117000" cy="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50"/>
            <p:cNvGrpSpPr/>
            <p:nvPr/>
          </p:nvGrpSpPr>
          <p:grpSpPr>
            <a:xfrm>
              <a:off x="1386720" y="1209240"/>
              <a:ext cx="324000" cy="354600"/>
              <a:chOff x="1386720" y="1209240"/>
              <a:chExt cx="324000" cy="354600"/>
            </a:xfrm>
          </p:grpSpPr>
          <p:sp>
            <p:nvSpPr>
              <p:cNvPr id="86" name="AutoShape 51"/>
              <p:cNvSpPr/>
              <p:nvPr/>
            </p:nvSpPr>
            <p:spPr>
              <a:xfrm rot="9585000">
                <a:off x="1550160" y="122868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52"/>
              <p:cNvSpPr/>
              <p:nvPr/>
            </p:nvSpPr>
            <p:spPr>
              <a:xfrm rot="9585000">
                <a:off x="1406880" y="128196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53"/>
              <p:cNvSpPr/>
              <p:nvPr/>
            </p:nvSpPr>
            <p:spPr>
              <a:xfrm flipH="1">
                <a:off x="1592280" y="1369800"/>
                <a:ext cx="47160" cy="9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54"/>
              <p:cNvSpPr/>
              <p:nvPr/>
            </p:nvSpPr>
            <p:spPr>
              <a:xfrm flipH="1" flipV="1">
                <a:off x="1507680" y="1418400"/>
                <a:ext cx="84240" cy="4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55"/>
              <p:cNvSpPr/>
              <p:nvPr/>
            </p:nvSpPr>
            <p:spPr>
              <a:xfrm>
                <a:off x="1592280" y="1463400"/>
                <a:ext cx="36720" cy="10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56"/>
            <p:cNvGrpSpPr/>
            <p:nvPr/>
          </p:nvGrpSpPr>
          <p:grpSpPr>
            <a:xfrm>
              <a:off x="1091160" y="1879560"/>
              <a:ext cx="376200" cy="299160"/>
              <a:chOff x="1091160" y="1879560"/>
              <a:chExt cx="376200" cy="299160"/>
            </a:xfrm>
          </p:grpSpPr>
          <p:sp>
            <p:nvSpPr>
              <p:cNvPr id="92" name="AutoShape 57"/>
              <p:cNvSpPr/>
              <p:nvPr/>
            </p:nvSpPr>
            <p:spPr>
              <a:xfrm rot="4447800">
                <a:off x="1119960" y="188388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58"/>
              <p:cNvSpPr/>
              <p:nvPr/>
            </p:nvSpPr>
            <p:spPr>
              <a:xfrm rot="4447800">
                <a:off x="1157760" y="201780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9"/>
              <p:cNvSpPr/>
              <p:nvPr/>
            </p:nvSpPr>
            <p:spPr>
              <a:xfrm>
                <a:off x="1260720" y="1946160"/>
                <a:ext cx="94320" cy="4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0"/>
              <p:cNvSpPr/>
              <p:nvPr/>
            </p:nvSpPr>
            <p:spPr>
              <a:xfrm flipH="1">
                <a:off x="1295280" y="1991880"/>
                <a:ext cx="59400" cy="77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1"/>
              <p:cNvSpPr/>
              <p:nvPr/>
            </p:nvSpPr>
            <p:spPr>
              <a:xfrm flipV="1">
                <a:off x="1354680" y="1959840"/>
                <a:ext cx="112680" cy="32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62"/>
            <p:cNvGrpSpPr/>
            <p:nvPr/>
          </p:nvGrpSpPr>
          <p:grpSpPr>
            <a:xfrm>
              <a:off x="1274040" y="1387080"/>
              <a:ext cx="901440" cy="900360"/>
              <a:chOff x="1274040" y="1387080"/>
              <a:chExt cx="901440" cy="900360"/>
            </a:xfrm>
          </p:grpSpPr>
          <p:sp>
            <p:nvSpPr>
              <p:cNvPr id="98" name="Oval 63"/>
              <p:cNvSpPr/>
              <p:nvPr/>
            </p:nvSpPr>
            <p:spPr>
              <a:xfrm rot="19329600">
                <a:off x="1402200" y="151740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4"/>
              <p:cNvSpPr/>
              <p:nvPr/>
            </p:nvSpPr>
            <p:spPr>
              <a:xfrm rot="19329600">
                <a:off x="1490040" y="1707480"/>
                <a:ext cx="409320" cy="373680"/>
              </a:xfrm>
              <a:prstGeom prst="ellipse">
                <a:avLst/>
              </a:prstGeom>
              <a:solidFill>
                <a:srgbClr val="1f497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Freeform 66"/>
          <p:cNvSpPr/>
          <p:nvPr/>
        </p:nvSpPr>
        <p:spPr>
          <a:xfrm>
            <a:off x="3949560" y="3129120"/>
            <a:ext cx="1300320" cy="25704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819" h="162">
                <a:moveTo>
                  <a:pt x="0" y="8"/>
                </a:moveTo>
                <a:cubicBezTo>
                  <a:pt x="75" y="8"/>
                  <a:pt x="147" y="0"/>
                  <a:pt x="226" y="8"/>
                </a:cubicBezTo>
                <a:cubicBezTo>
                  <a:pt x="305" y="16"/>
                  <a:pt x="403" y="39"/>
                  <a:pt x="477" y="56"/>
                </a:cubicBezTo>
                <a:cubicBezTo>
                  <a:pt x="551" y="73"/>
                  <a:pt x="612" y="91"/>
                  <a:pt x="669" y="109"/>
                </a:cubicBezTo>
                <a:cubicBezTo>
                  <a:pt x="726" y="127"/>
                  <a:pt x="788" y="151"/>
                  <a:pt x="819" y="16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3602520" y="189000"/>
            <a:ext cx="18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b3d7"/>
                </a:solidFill>
                <a:latin typeface="Arial"/>
              </a:rPr>
              <a:t>Educated </a:t>
            </a:r>
            <a:r>
              <a:rPr b="1" lang="en-US" sz="1800" spc="-1" strike="noStrike">
                <a:solidFill>
                  <a:srgbClr val="95b3d7"/>
                </a:solidFill>
                <a:latin typeface="Arial"/>
                <a:ea typeface="Angsana New"/>
              </a:rPr>
              <a:t>T-</a:t>
            </a:r>
            <a:r>
              <a:rPr b="1" lang="en-US" sz="1800" spc="-1" strike="noStrike">
                <a:solidFill>
                  <a:srgbClr val="95b3d7"/>
                </a:solidFill>
                <a:latin typeface="Arial"/>
              </a:rPr>
              <a:t>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3351240" y="476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toreactiv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1974960" y="2133720"/>
            <a:ext cx="555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entral Toleranc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C 0.01441 0.00602 0.03125 0.00741 0.04739 0.01042 C 0.06354 0.01343 0.07812 0.02385 0.09722 0.0176 C 0.11632 0.01135 0.14045 -0.0199 0.16198 -0.02685 C 0.1835 -0.03379 0.21319 -0.02477 0.22673 -0.0243 E">
                                      <p:cBhvr>
                                        <p:cTn id="36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73 -0.0243 C 0.23298 -0.02384 0.24653 -0.025 0.26389 -0.02176 C 0.28125 -0.01852 0.30955 -0.01574 0.33055 -0.00463 C 0.35156 0.00648 0.38298 0.01898 0.38975 0.04491 C 0.39653 0.07084 0.36597 0.12385 0.37118 0.15093 C 0.37639 0.17801 0.39948 0.19098 0.42118 0.20787 C 0.44288 0.22477 0.475 0.23588 0.50087 0.25232 C 0.52673 0.26875 0.5375 0.26783 0.57673 0.30648 C 0.61597 0.34514 0.70295 0.44723 0.73611 0.48426 E">
                                      <p:cBhvr>
                                        <p:cTn id="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C 0.01181 0.01343 0.04774 0.0625 0.07136 0.08009 C 0.09497 0.09769 0.11667 0.09699 0.14167 0.10509 C 0.16667 0.1132 0.19028 0.12292 0.22136 0.1294 C 0.25243 0.13588 0.30625 0.14121 0.32865 0.14421 E">
                                      <p:cBhvr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65 0.14421 C 0.33629 0.14908 0.35764 0.16852 0.375 0.17384 C 0.39236 0.17917 0.41667 0.17963 0.43247 0.17639 C 0.44827 0.17315 0.46007 0.16181 0.47031 0.15463 C 0.48056 0.14746 0.48802 0.13982 0.49392 0.1338 E">
                                      <p:cBhvr>
                                        <p:cTn id="6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&#13;Picture 5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5"/>
          <p:cNvGrpSpPr/>
          <p:nvPr/>
        </p:nvGrpSpPr>
        <p:grpSpPr>
          <a:xfrm>
            <a:off x="3778200" y="293040"/>
            <a:ext cx="1227600" cy="1141920"/>
            <a:chOff x="3778200" y="293040"/>
            <a:chExt cx="1227600" cy="1141920"/>
          </a:xfrm>
        </p:grpSpPr>
        <p:grpSp>
          <p:nvGrpSpPr>
            <p:cNvPr id="106" name="Group 136"/>
            <p:cNvGrpSpPr/>
            <p:nvPr/>
          </p:nvGrpSpPr>
          <p:grpSpPr>
            <a:xfrm>
              <a:off x="4609440" y="1095120"/>
              <a:ext cx="322200" cy="339840"/>
              <a:chOff x="4609440" y="1095120"/>
              <a:chExt cx="322200" cy="339840"/>
            </a:xfrm>
          </p:grpSpPr>
          <p:sp>
            <p:nvSpPr>
              <p:cNvPr id="107" name="AutoShape 137"/>
              <p:cNvSpPr/>
              <p:nvPr/>
            </p:nvSpPr>
            <p:spPr>
              <a:xfrm rot="19329600">
                <a:off x="4637880" y="1263960"/>
                <a:ext cx="141480" cy="1422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2200"/>
                  <a:gd name="textAreaBottom" fmla="*/ 69840 h 142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38"/>
              <p:cNvSpPr/>
              <p:nvPr/>
            </p:nvSpPr>
            <p:spPr>
              <a:xfrm rot="19329600">
                <a:off x="4762080" y="1173960"/>
                <a:ext cx="140040" cy="14364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3640"/>
                  <a:gd name="textAreaBottom" fmla="*/ 70560 h 14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39"/>
              <p:cNvSpPr/>
              <p:nvPr/>
            </p:nvSpPr>
            <p:spPr>
              <a:xfrm flipV="1">
                <a:off x="4672440" y="1176120"/>
                <a:ext cx="13320" cy="10440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0"/>
              <p:cNvSpPr/>
              <p:nvPr/>
            </p:nvSpPr>
            <p:spPr>
              <a:xfrm>
                <a:off x="4691520" y="1175040"/>
                <a:ext cx="94680" cy="1836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41"/>
              <p:cNvSpPr/>
              <p:nvPr/>
            </p:nvSpPr>
            <p:spPr>
              <a:xfrm flipH="1" flipV="1">
                <a:off x="4621320" y="1095120"/>
                <a:ext cx="65160" cy="8388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42"/>
            <p:cNvGrpSpPr/>
            <p:nvPr/>
          </p:nvGrpSpPr>
          <p:grpSpPr>
            <a:xfrm>
              <a:off x="4649040" y="689400"/>
              <a:ext cx="356760" cy="277560"/>
              <a:chOff x="4649040" y="689400"/>
              <a:chExt cx="356760" cy="277560"/>
            </a:xfrm>
          </p:grpSpPr>
          <p:sp>
            <p:nvSpPr>
              <p:cNvPr id="113" name="AutoShape 143"/>
              <p:cNvSpPr/>
              <p:nvPr/>
            </p:nvSpPr>
            <p:spPr>
              <a:xfrm rot="15956400">
                <a:off x="4861080" y="821520"/>
                <a:ext cx="127080" cy="1530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44"/>
              <p:cNvSpPr/>
              <p:nvPr/>
            </p:nvSpPr>
            <p:spPr>
              <a:xfrm rot="15956400">
                <a:off x="4855680" y="680760"/>
                <a:ext cx="127080" cy="1548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4800"/>
                  <a:gd name="textAreaBottom" fmla="*/ 75960 h 15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45"/>
              <p:cNvSpPr/>
              <p:nvPr/>
            </p:nvSpPr>
            <p:spPr>
              <a:xfrm flipH="1" flipV="1">
                <a:off x="4764240" y="831240"/>
                <a:ext cx="83160" cy="6408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46"/>
              <p:cNvSpPr/>
              <p:nvPr/>
            </p:nvSpPr>
            <p:spPr>
              <a:xfrm flipV="1">
                <a:off x="4764240" y="765360"/>
                <a:ext cx="74160" cy="5940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47"/>
              <p:cNvSpPr/>
              <p:nvPr/>
            </p:nvSpPr>
            <p:spPr>
              <a:xfrm flipH="1">
                <a:off x="4649040" y="834120"/>
                <a:ext cx="114480" cy="792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48"/>
            <p:cNvGrpSpPr/>
            <p:nvPr/>
          </p:nvGrpSpPr>
          <p:grpSpPr>
            <a:xfrm>
              <a:off x="4070880" y="293040"/>
              <a:ext cx="325080" cy="349560"/>
              <a:chOff x="4070880" y="293040"/>
              <a:chExt cx="325080" cy="349560"/>
            </a:xfrm>
          </p:grpSpPr>
          <p:sp>
            <p:nvSpPr>
              <p:cNvPr id="119" name="AutoShape 149"/>
              <p:cNvSpPr/>
              <p:nvPr/>
            </p:nvSpPr>
            <p:spPr>
              <a:xfrm rot="9585000">
                <a:off x="4233240" y="312840"/>
                <a:ext cx="141840" cy="144000"/>
              </a:xfrm>
              <a:custGeom>
                <a:avLst/>
                <a:gdLst>
                  <a:gd name="textAreaLeft" fmla="*/ 0 w 141840"/>
                  <a:gd name="textAreaRight" fmla="*/ 141840 w 141840"/>
                  <a:gd name="textAreaTop" fmla="*/ 0 h 144000"/>
                  <a:gd name="textAreaBottom" fmla="*/ 709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50"/>
              <p:cNvSpPr/>
              <p:nvPr/>
            </p:nvSpPr>
            <p:spPr>
              <a:xfrm rot="9585000">
                <a:off x="4091400" y="366120"/>
                <a:ext cx="138600" cy="1458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45800"/>
                  <a:gd name="textAreaBottom" fmla="*/ 7164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51"/>
              <p:cNvSpPr/>
              <p:nvPr/>
            </p:nvSpPr>
            <p:spPr>
              <a:xfrm flipH="1">
                <a:off x="4284000" y="448920"/>
                <a:ext cx="45720" cy="9648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52"/>
              <p:cNvSpPr/>
              <p:nvPr/>
            </p:nvSpPr>
            <p:spPr>
              <a:xfrm flipH="1" flipV="1">
                <a:off x="4192200" y="496080"/>
                <a:ext cx="84240" cy="4824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53"/>
              <p:cNvSpPr/>
              <p:nvPr/>
            </p:nvSpPr>
            <p:spPr>
              <a:xfrm>
                <a:off x="4286880" y="538560"/>
                <a:ext cx="38520" cy="10404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54"/>
            <p:cNvGrpSpPr/>
            <p:nvPr/>
          </p:nvGrpSpPr>
          <p:grpSpPr>
            <a:xfrm>
              <a:off x="3778200" y="964440"/>
              <a:ext cx="374400" cy="298800"/>
              <a:chOff x="3778200" y="964440"/>
              <a:chExt cx="374400" cy="298800"/>
            </a:xfrm>
          </p:grpSpPr>
          <p:sp>
            <p:nvSpPr>
              <p:cNvPr id="125" name="AutoShape 155"/>
              <p:cNvSpPr/>
              <p:nvPr/>
            </p:nvSpPr>
            <p:spPr>
              <a:xfrm rot="4447800">
                <a:off x="3803760" y="970920"/>
                <a:ext cx="127080" cy="1497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49760"/>
                  <a:gd name="textAreaBottom" fmla="*/ 73800 h 1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56"/>
              <p:cNvSpPr/>
              <p:nvPr/>
            </p:nvSpPr>
            <p:spPr>
              <a:xfrm rot="4447800">
                <a:off x="3839760" y="1105200"/>
                <a:ext cx="127080" cy="1515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1560"/>
                  <a:gd name="textAreaBottom" fmla="*/ 74520 h 15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57"/>
              <p:cNvSpPr/>
              <p:nvPr/>
            </p:nvSpPr>
            <p:spPr>
              <a:xfrm>
                <a:off x="3938040" y="1032480"/>
                <a:ext cx="91440" cy="4752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58"/>
              <p:cNvSpPr/>
              <p:nvPr/>
            </p:nvSpPr>
            <p:spPr>
              <a:xfrm flipH="1">
                <a:off x="3974400" y="1077480"/>
                <a:ext cx="56520" cy="7452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59"/>
              <p:cNvSpPr/>
              <p:nvPr/>
            </p:nvSpPr>
            <p:spPr>
              <a:xfrm flipV="1">
                <a:off x="4043880" y="1045800"/>
                <a:ext cx="108720" cy="3060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60"/>
            <p:cNvGrpSpPr/>
            <p:nvPr/>
          </p:nvGrpSpPr>
          <p:grpSpPr>
            <a:xfrm>
              <a:off x="3958560" y="471240"/>
              <a:ext cx="901440" cy="900360"/>
              <a:chOff x="3958560" y="471240"/>
              <a:chExt cx="901440" cy="900360"/>
            </a:xfrm>
          </p:grpSpPr>
          <p:sp>
            <p:nvSpPr>
              <p:cNvPr id="131" name="Oval 161"/>
              <p:cNvSpPr/>
              <p:nvPr/>
            </p:nvSpPr>
            <p:spPr>
              <a:xfrm rot="19329600">
                <a:off x="4086720" y="60156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2"/>
              <p:cNvSpPr/>
              <p:nvPr/>
            </p:nvSpPr>
            <p:spPr>
              <a:xfrm rot="19329600">
                <a:off x="4165560" y="795240"/>
                <a:ext cx="409320" cy="371520"/>
              </a:xfrm>
              <a:prstGeom prst="ellipse">
                <a:avLst/>
              </a:prstGeom>
              <a:solidFill>
                <a:srgbClr val="1f497d"/>
              </a:solidFill>
              <a:ln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361"/>
          <p:cNvGrpSpPr/>
          <p:nvPr/>
        </p:nvGrpSpPr>
        <p:grpSpPr>
          <a:xfrm>
            <a:off x="539640" y="44280"/>
            <a:ext cx="2652840" cy="5872320"/>
            <a:chOff x="539640" y="44280"/>
            <a:chExt cx="2652840" cy="5872320"/>
          </a:xfrm>
        </p:grpSpPr>
        <p:grpSp>
          <p:nvGrpSpPr>
            <p:cNvPr id="134" name="Group 321"/>
            <p:cNvGrpSpPr/>
            <p:nvPr/>
          </p:nvGrpSpPr>
          <p:grpSpPr>
            <a:xfrm>
              <a:off x="2523960" y="947880"/>
              <a:ext cx="323640" cy="122040"/>
              <a:chOff x="2523960" y="947880"/>
              <a:chExt cx="323640" cy="122040"/>
            </a:xfrm>
          </p:grpSpPr>
          <p:sp>
            <p:nvSpPr>
              <p:cNvPr id="135" name="Oval 319"/>
              <p:cNvSpPr/>
              <p:nvPr/>
            </p:nvSpPr>
            <p:spPr>
              <a:xfrm>
                <a:off x="2523960" y="947880"/>
                <a:ext cx="12888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20"/>
              <p:cNvSpPr/>
              <p:nvPr/>
            </p:nvSpPr>
            <p:spPr>
              <a:xfrm>
                <a:off x="2718720" y="947880"/>
                <a:ext cx="12888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Freeform 280"/>
            <p:cNvSpPr/>
            <p:nvPr/>
          </p:nvSpPr>
          <p:spPr>
            <a:xfrm>
              <a:off x="2301840" y="111240"/>
              <a:ext cx="789120" cy="94284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1"/>
            <p:cNvSpPr/>
            <p:nvPr/>
          </p:nvSpPr>
          <p:spPr>
            <a:xfrm>
              <a:off x="2254320" y="105876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82"/>
            <p:cNvSpPr/>
            <p:nvPr/>
          </p:nvSpPr>
          <p:spPr>
            <a:xfrm>
              <a:off x="2187720" y="2222640"/>
              <a:ext cx="947520" cy="126828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3"/>
            <p:cNvSpPr/>
            <p:nvPr/>
          </p:nvSpPr>
          <p:spPr>
            <a:xfrm>
              <a:off x="2197080" y="341640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4"/>
            <p:cNvSpPr/>
            <p:nvPr/>
          </p:nvSpPr>
          <p:spPr>
            <a:xfrm>
              <a:off x="2197080" y="45259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5"/>
            <p:cNvSpPr/>
            <p:nvPr/>
          </p:nvSpPr>
          <p:spPr>
            <a:xfrm>
              <a:off x="1415880" y="515880"/>
              <a:ext cx="938520" cy="118116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6"/>
            <p:cNvSpPr/>
            <p:nvPr/>
          </p:nvSpPr>
          <p:spPr>
            <a:xfrm>
              <a:off x="1351080" y="1625760"/>
              <a:ext cx="938160" cy="11808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7"/>
            <p:cNvSpPr/>
            <p:nvPr/>
          </p:nvSpPr>
          <p:spPr>
            <a:xfrm>
              <a:off x="1285920" y="273672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8"/>
            <p:cNvSpPr/>
            <p:nvPr/>
          </p:nvSpPr>
          <p:spPr>
            <a:xfrm>
              <a:off x="1351080" y="39085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89"/>
            <p:cNvSpPr/>
            <p:nvPr/>
          </p:nvSpPr>
          <p:spPr>
            <a:xfrm>
              <a:off x="1224000" y="5051520"/>
              <a:ext cx="982800" cy="8650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90"/>
            <p:cNvSpPr/>
            <p:nvPr/>
          </p:nvSpPr>
          <p:spPr>
            <a:xfrm>
              <a:off x="1301760" y="84240"/>
              <a:ext cx="909720" cy="4521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1"/>
            <p:cNvSpPr/>
            <p:nvPr/>
          </p:nvSpPr>
          <p:spPr>
            <a:xfrm>
              <a:off x="542880" y="15084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2"/>
            <p:cNvSpPr/>
            <p:nvPr/>
          </p:nvSpPr>
          <p:spPr>
            <a:xfrm>
              <a:off x="608040" y="1270080"/>
              <a:ext cx="785880" cy="109836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3"/>
            <p:cNvSpPr/>
            <p:nvPr/>
          </p:nvSpPr>
          <p:spPr>
            <a:xfrm>
              <a:off x="573120" y="2397240"/>
              <a:ext cx="698400" cy="10922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4"/>
            <p:cNvSpPr/>
            <p:nvPr/>
          </p:nvSpPr>
          <p:spPr>
            <a:xfrm>
              <a:off x="539640" y="3540240"/>
              <a:ext cx="782640" cy="1311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5"/>
            <p:cNvSpPr/>
            <p:nvPr/>
          </p:nvSpPr>
          <p:spPr>
            <a:xfrm>
              <a:off x="565200" y="4851360"/>
              <a:ext cx="757080" cy="10047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22"/>
            <p:cNvGrpSpPr/>
            <p:nvPr/>
          </p:nvGrpSpPr>
          <p:grpSpPr>
            <a:xfrm>
              <a:off x="1741320" y="1563840"/>
              <a:ext cx="325440" cy="122040"/>
              <a:chOff x="1741320" y="1563840"/>
              <a:chExt cx="325440" cy="122040"/>
            </a:xfrm>
          </p:grpSpPr>
          <p:sp>
            <p:nvSpPr>
              <p:cNvPr id="154" name="Oval 323"/>
              <p:cNvSpPr/>
              <p:nvPr/>
            </p:nvSpPr>
            <p:spPr>
              <a:xfrm>
                <a:off x="1741320" y="1563840"/>
                <a:ext cx="12960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24"/>
              <p:cNvSpPr/>
              <p:nvPr/>
            </p:nvSpPr>
            <p:spPr>
              <a:xfrm>
                <a:off x="1937160" y="1563840"/>
                <a:ext cx="12960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25"/>
            <p:cNvGrpSpPr/>
            <p:nvPr/>
          </p:nvGrpSpPr>
          <p:grpSpPr>
            <a:xfrm>
              <a:off x="1676520" y="2673360"/>
              <a:ext cx="323640" cy="123840"/>
              <a:chOff x="1676520" y="2673360"/>
              <a:chExt cx="323640" cy="123840"/>
            </a:xfrm>
          </p:grpSpPr>
          <p:sp>
            <p:nvSpPr>
              <p:cNvPr id="157" name="Oval 326"/>
              <p:cNvSpPr/>
              <p:nvPr/>
            </p:nvSpPr>
            <p:spPr>
              <a:xfrm>
                <a:off x="1676520" y="2673360"/>
                <a:ext cx="128880" cy="123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27"/>
              <p:cNvSpPr/>
              <p:nvPr/>
            </p:nvSpPr>
            <p:spPr>
              <a:xfrm>
                <a:off x="1871280" y="2673360"/>
                <a:ext cx="128880" cy="123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28"/>
            <p:cNvGrpSpPr/>
            <p:nvPr/>
          </p:nvGrpSpPr>
          <p:grpSpPr>
            <a:xfrm>
              <a:off x="830160" y="3476520"/>
              <a:ext cx="323640" cy="122400"/>
              <a:chOff x="830160" y="3476520"/>
              <a:chExt cx="323640" cy="122400"/>
            </a:xfrm>
          </p:grpSpPr>
          <p:sp>
            <p:nvSpPr>
              <p:cNvPr id="160" name="Oval 329"/>
              <p:cNvSpPr/>
              <p:nvPr/>
            </p:nvSpPr>
            <p:spPr>
              <a:xfrm>
                <a:off x="830160" y="34765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330"/>
              <p:cNvSpPr/>
              <p:nvPr/>
            </p:nvSpPr>
            <p:spPr>
              <a:xfrm>
                <a:off x="1024920" y="34765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41"/>
            <p:cNvGrpSpPr/>
            <p:nvPr/>
          </p:nvGrpSpPr>
          <p:grpSpPr>
            <a:xfrm>
              <a:off x="755640" y="44280"/>
              <a:ext cx="358920" cy="142920"/>
              <a:chOff x="755640" y="44280"/>
              <a:chExt cx="358920" cy="142920"/>
            </a:xfrm>
          </p:grpSpPr>
          <p:sp>
            <p:nvSpPr>
              <p:cNvPr id="163" name="Oval 342"/>
              <p:cNvSpPr/>
              <p:nvPr/>
            </p:nvSpPr>
            <p:spPr>
              <a:xfrm>
                <a:off x="755640" y="4428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43"/>
              <p:cNvSpPr/>
              <p:nvPr/>
            </p:nvSpPr>
            <p:spPr>
              <a:xfrm>
                <a:off x="971640" y="4428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47"/>
            <p:cNvGrpSpPr/>
            <p:nvPr/>
          </p:nvGrpSpPr>
          <p:grpSpPr>
            <a:xfrm>
              <a:off x="2979720" y="4433760"/>
              <a:ext cx="158760" cy="364680"/>
              <a:chOff x="2979720" y="4433760"/>
              <a:chExt cx="158760" cy="364680"/>
            </a:xfrm>
          </p:grpSpPr>
          <p:sp>
            <p:nvSpPr>
              <p:cNvPr id="166" name="Oval 348"/>
              <p:cNvSpPr/>
              <p:nvPr/>
            </p:nvSpPr>
            <p:spPr>
              <a:xfrm rot="16047000">
                <a:off x="2991960" y="465228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49"/>
              <p:cNvSpPr/>
              <p:nvPr/>
            </p:nvSpPr>
            <p:spPr>
              <a:xfrm rot="16047000">
                <a:off x="2982600" y="443664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60"/>
          <p:cNvGrpSpPr/>
          <p:nvPr/>
        </p:nvGrpSpPr>
        <p:grpSpPr>
          <a:xfrm>
            <a:off x="5724360" y="49320"/>
            <a:ext cx="3311640" cy="5833800"/>
            <a:chOff x="5724360" y="49320"/>
            <a:chExt cx="3311640" cy="5833800"/>
          </a:xfrm>
        </p:grpSpPr>
        <p:sp>
          <p:nvSpPr>
            <p:cNvPr id="169" name="Freeform 296"/>
            <p:cNvSpPr/>
            <p:nvPr/>
          </p:nvSpPr>
          <p:spPr>
            <a:xfrm>
              <a:off x="7567560" y="77760"/>
              <a:ext cx="789120" cy="9414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97"/>
            <p:cNvSpPr/>
            <p:nvPr/>
          </p:nvSpPr>
          <p:spPr>
            <a:xfrm>
              <a:off x="7518240" y="1025640"/>
              <a:ext cx="938520" cy="118260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98"/>
            <p:cNvSpPr/>
            <p:nvPr/>
          </p:nvSpPr>
          <p:spPr>
            <a:xfrm>
              <a:off x="7453440" y="2189160"/>
              <a:ext cx="947520" cy="126684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99"/>
            <p:cNvSpPr/>
            <p:nvPr/>
          </p:nvSpPr>
          <p:spPr>
            <a:xfrm>
              <a:off x="7462800" y="338148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00"/>
            <p:cNvSpPr/>
            <p:nvPr/>
          </p:nvSpPr>
          <p:spPr>
            <a:xfrm>
              <a:off x="7462800" y="44910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01"/>
            <p:cNvSpPr/>
            <p:nvPr/>
          </p:nvSpPr>
          <p:spPr>
            <a:xfrm>
              <a:off x="6681960" y="48096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2"/>
            <p:cNvSpPr/>
            <p:nvPr/>
          </p:nvSpPr>
          <p:spPr>
            <a:xfrm>
              <a:off x="6616800" y="159084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03"/>
            <p:cNvSpPr/>
            <p:nvPr/>
          </p:nvSpPr>
          <p:spPr>
            <a:xfrm>
              <a:off x="6550200" y="270180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4"/>
            <p:cNvSpPr/>
            <p:nvPr/>
          </p:nvSpPr>
          <p:spPr>
            <a:xfrm>
              <a:off x="6616800" y="38736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5"/>
            <p:cNvSpPr/>
            <p:nvPr/>
          </p:nvSpPr>
          <p:spPr>
            <a:xfrm>
              <a:off x="6489720" y="5018040"/>
              <a:ext cx="981000" cy="8650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06"/>
            <p:cNvSpPr/>
            <p:nvPr/>
          </p:nvSpPr>
          <p:spPr>
            <a:xfrm>
              <a:off x="6566040" y="49320"/>
              <a:ext cx="911160" cy="4539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7"/>
            <p:cNvSpPr/>
            <p:nvPr/>
          </p:nvSpPr>
          <p:spPr>
            <a:xfrm>
              <a:off x="5808600" y="11592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8"/>
            <p:cNvSpPr/>
            <p:nvPr/>
          </p:nvSpPr>
          <p:spPr>
            <a:xfrm>
              <a:off x="5872320" y="1236600"/>
              <a:ext cx="785520" cy="10969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9"/>
            <p:cNvSpPr/>
            <p:nvPr/>
          </p:nvSpPr>
          <p:spPr>
            <a:xfrm>
              <a:off x="5838840" y="2362320"/>
              <a:ext cx="696960" cy="1092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0"/>
            <p:cNvSpPr/>
            <p:nvPr/>
          </p:nvSpPr>
          <p:spPr>
            <a:xfrm>
              <a:off x="5805360" y="3506760"/>
              <a:ext cx="782640" cy="13114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11"/>
            <p:cNvSpPr/>
            <p:nvPr/>
          </p:nvSpPr>
          <p:spPr>
            <a:xfrm>
              <a:off x="5830920" y="4818240"/>
              <a:ext cx="757080" cy="10029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12"/>
            <p:cNvSpPr/>
            <p:nvPr/>
          </p:nvSpPr>
          <p:spPr>
            <a:xfrm>
              <a:off x="8377200" y="125280"/>
              <a:ext cx="604800" cy="968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421" h="712">
                  <a:moveTo>
                    <a:pt x="39" y="19"/>
                  </a:moveTo>
                  <a:cubicBezTo>
                    <a:pt x="36" y="58"/>
                    <a:pt x="36" y="97"/>
                    <a:pt x="30" y="136"/>
                  </a:cubicBezTo>
                  <a:cubicBezTo>
                    <a:pt x="27" y="156"/>
                    <a:pt x="17" y="175"/>
                    <a:pt x="10" y="195"/>
                  </a:cubicBezTo>
                  <a:cubicBezTo>
                    <a:pt x="7" y="205"/>
                    <a:pt x="0" y="224"/>
                    <a:pt x="0" y="224"/>
                  </a:cubicBezTo>
                  <a:cubicBezTo>
                    <a:pt x="3" y="289"/>
                    <a:pt x="2" y="354"/>
                    <a:pt x="10" y="419"/>
                  </a:cubicBezTo>
                  <a:cubicBezTo>
                    <a:pt x="14" y="453"/>
                    <a:pt x="33" y="484"/>
                    <a:pt x="39" y="517"/>
                  </a:cubicBezTo>
                  <a:cubicBezTo>
                    <a:pt x="56" y="603"/>
                    <a:pt x="63" y="663"/>
                    <a:pt x="137" y="712"/>
                  </a:cubicBezTo>
                  <a:cubicBezTo>
                    <a:pt x="163" y="709"/>
                    <a:pt x="190" y="709"/>
                    <a:pt x="215" y="702"/>
                  </a:cubicBezTo>
                  <a:cubicBezTo>
                    <a:pt x="226" y="699"/>
                    <a:pt x="234" y="687"/>
                    <a:pt x="245" y="683"/>
                  </a:cubicBezTo>
                  <a:cubicBezTo>
                    <a:pt x="260" y="677"/>
                    <a:pt x="277" y="676"/>
                    <a:pt x="293" y="673"/>
                  </a:cubicBezTo>
                  <a:cubicBezTo>
                    <a:pt x="421" y="483"/>
                    <a:pt x="349" y="614"/>
                    <a:pt x="323" y="126"/>
                  </a:cubicBezTo>
                  <a:cubicBezTo>
                    <a:pt x="323" y="120"/>
                    <a:pt x="301" y="50"/>
                    <a:pt x="284" y="39"/>
                  </a:cubicBezTo>
                  <a:cubicBezTo>
                    <a:pt x="253" y="19"/>
                    <a:pt x="195" y="9"/>
                    <a:pt x="157" y="0"/>
                  </a:cubicBezTo>
                  <a:cubicBezTo>
                    <a:pt x="128" y="3"/>
                    <a:pt x="98" y="2"/>
                    <a:pt x="69" y="9"/>
                  </a:cubicBezTo>
                  <a:cubicBezTo>
                    <a:pt x="36" y="17"/>
                    <a:pt x="39" y="45"/>
                    <a:pt x="39" y="1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13"/>
            <p:cNvSpPr/>
            <p:nvPr/>
          </p:nvSpPr>
          <p:spPr>
            <a:xfrm>
              <a:off x="8447040" y="1160640"/>
              <a:ext cx="506520" cy="96984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352" h="713">
                  <a:moveTo>
                    <a:pt x="30" y="0"/>
                  </a:moveTo>
                  <a:cubicBezTo>
                    <a:pt x="87" y="12"/>
                    <a:pt x="138" y="22"/>
                    <a:pt x="196" y="29"/>
                  </a:cubicBezTo>
                  <a:cubicBezTo>
                    <a:pt x="197" y="29"/>
                    <a:pt x="259" y="44"/>
                    <a:pt x="264" y="49"/>
                  </a:cubicBezTo>
                  <a:cubicBezTo>
                    <a:pt x="280" y="65"/>
                    <a:pt x="303" y="107"/>
                    <a:pt x="303" y="107"/>
                  </a:cubicBezTo>
                  <a:cubicBezTo>
                    <a:pt x="315" y="223"/>
                    <a:pt x="332" y="334"/>
                    <a:pt x="352" y="449"/>
                  </a:cubicBezTo>
                  <a:cubicBezTo>
                    <a:pt x="349" y="517"/>
                    <a:pt x="351" y="586"/>
                    <a:pt x="342" y="654"/>
                  </a:cubicBezTo>
                  <a:cubicBezTo>
                    <a:pt x="335" y="709"/>
                    <a:pt x="220" y="709"/>
                    <a:pt x="186" y="713"/>
                  </a:cubicBezTo>
                  <a:cubicBezTo>
                    <a:pt x="157" y="710"/>
                    <a:pt x="126" y="712"/>
                    <a:pt x="98" y="703"/>
                  </a:cubicBezTo>
                  <a:cubicBezTo>
                    <a:pt x="58" y="690"/>
                    <a:pt x="40" y="589"/>
                    <a:pt x="30" y="547"/>
                  </a:cubicBezTo>
                  <a:cubicBezTo>
                    <a:pt x="23" y="461"/>
                    <a:pt x="9" y="388"/>
                    <a:pt x="0" y="303"/>
                  </a:cubicBezTo>
                  <a:cubicBezTo>
                    <a:pt x="3" y="215"/>
                    <a:pt x="1" y="127"/>
                    <a:pt x="10" y="39"/>
                  </a:cubicBezTo>
                  <a:cubicBezTo>
                    <a:pt x="11" y="27"/>
                    <a:pt x="25" y="20"/>
                    <a:pt x="30" y="10"/>
                  </a:cubicBezTo>
                  <a:cubicBezTo>
                    <a:pt x="32" y="7"/>
                    <a:pt x="30" y="3"/>
                    <a:pt x="30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14"/>
            <p:cNvSpPr/>
            <p:nvPr/>
          </p:nvSpPr>
          <p:spPr>
            <a:xfrm>
              <a:off x="8377200" y="2319480"/>
              <a:ext cx="658800" cy="129852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459" h="955">
                  <a:moveTo>
                    <a:pt x="49" y="27"/>
                  </a:moveTo>
                  <a:cubicBezTo>
                    <a:pt x="101" y="14"/>
                    <a:pt x="146" y="0"/>
                    <a:pt x="205" y="7"/>
                  </a:cubicBezTo>
                  <a:cubicBezTo>
                    <a:pt x="239" y="11"/>
                    <a:pt x="290" y="93"/>
                    <a:pt x="323" y="115"/>
                  </a:cubicBezTo>
                  <a:cubicBezTo>
                    <a:pt x="347" y="188"/>
                    <a:pt x="368" y="253"/>
                    <a:pt x="381" y="329"/>
                  </a:cubicBezTo>
                  <a:cubicBezTo>
                    <a:pt x="388" y="453"/>
                    <a:pt x="459" y="797"/>
                    <a:pt x="342" y="837"/>
                  </a:cubicBezTo>
                  <a:cubicBezTo>
                    <a:pt x="253" y="926"/>
                    <a:pt x="365" y="822"/>
                    <a:pt x="284" y="876"/>
                  </a:cubicBezTo>
                  <a:cubicBezTo>
                    <a:pt x="211" y="925"/>
                    <a:pt x="294" y="891"/>
                    <a:pt x="225" y="915"/>
                  </a:cubicBezTo>
                  <a:cubicBezTo>
                    <a:pt x="218" y="925"/>
                    <a:pt x="217" y="942"/>
                    <a:pt x="205" y="944"/>
                  </a:cubicBezTo>
                  <a:cubicBezTo>
                    <a:pt x="150" y="955"/>
                    <a:pt x="85" y="925"/>
                    <a:pt x="39" y="896"/>
                  </a:cubicBezTo>
                  <a:cubicBezTo>
                    <a:pt x="33" y="876"/>
                    <a:pt x="20" y="858"/>
                    <a:pt x="20" y="837"/>
                  </a:cubicBezTo>
                  <a:cubicBezTo>
                    <a:pt x="20" y="795"/>
                    <a:pt x="40" y="742"/>
                    <a:pt x="49" y="700"/>
                  </a:cubicBezTo>
                  <a:cubicBezTo>
                    <a:pt x="46" y="629"/>
                    <a:pt x="53" y="484"/>
                    <a:pt x="30" y="388"/>
                  </a:cubicBezTo>
                  <a:cubicBezTo>
                    <a:pt x="20" y="346"/>
                    <a:pt x="0" y="261"/>
                    <a:pt x="0" y="261"/>
                  </a:cubicBezTo>
                  <a:cubicBezTo>
                    <a:pt x="8" y="174"/>
                    <a:pt x="2" y="176"/>
                    <a:pt x="20" y="115"/>
                  </a:cubicBezTo>
                  <a:cubicBezTo>
                    <a:pt x="30" y="80"/>
                    <a:pt x="49" y="64"/>
                    <a:pt x="49" y="2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15"/>
            <p:cNvSpPr/>
            <p:nvPr/>
          </p:nvSpPr>
          <p:spPr>
            <a:xfrm>
              <a:off x="8319960" y="3681360"/>
              <a:ext cx="642960" cy="12366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498" h="909">
                  <a:moveTo>
                    <a:pt x="30" y="40"/>
                  </a:moveTo>
                  <a:cubicBezTo>
                    <a:pt x="79" y="30"/>
                    <a:pt x="128" y="17"/>
                    <a:pt x="176" y="1"/>
                  </a:cubicBezTo>
                  <a:cubicBezTo>
                    <a:pt x="228" y="4"/>
                    <a:pt x="281" y="0"/>
                    <a:pt x="332" y="11"/>
                  </a:cubicBezTo>
                  <a:cubicBezTo>
                    <a:pt x="377" y="20"/>
                    <a:pt x="384" y="111"/>
                    <a:pt x="391" y="147"/>
                  </a:cubicBezTo>
                  <a:cubicBezTo>
                    <a:pt x="416" y="283"/>
                    <a:pt x="473" y="412"/>
                    <a:pt x="498" y="548"/>
                  </a:cubicBezTo>
                  <a:cubicBezTo>
                    <a:pt x="493" y="622"/>
                    <a:pt x="497" y="729"/>
                    <a:pt x="469" y="802"/>
                  </a:cubicBezTo>
                  <a:cubicBezTo>
                    <a:pt x="456" y="837"/>
                    <a:pt x="419" y="851"/>
                    <a:pt x="391" y="870"/>
                  </a:cubicBezTo>
                  <a:cubicBezTo>
                    <a:pt x="371" y="883"/>
                    <a:pt x="332" y="909"/>
                    <a:pt x="332" y="909"/>
                  </a:cubicBezTo>
                  <a:cubicBezTo>
                    <a:pt x="290" y="906"/>
                    <a:pt x="247" y="907"/>
                    <a:pt x="205" y="899"/>
                  </a:cubicBezTo>
                  <a:cubicBezTo>
                    <a:pt x="194" y="897"/>
                    <a:pt x="187" y="885"/>
                    <a:pt x="176" y="880"/>
                  </a:cubicBezTo>
                  <a:cubicBezTo>
                    <a:pt x="120" y="855"/>
                    <a:pt x="104" y="858"/>
                    <a:pt x="39" y="850"/>
                  </a:cubicBezTo>
                  <a:cubicBezTo>
                    <a:pt x="46" y="792"/>
                    <a:pt x="50" y="748"/>
                    <a:pt x="69" y="694"/>
                  </a:cubicBezTo>
                  <a:cubicBezTo>
                    <a:pt x="62" y="629"/>
                    <a:pt x="60" y="561"/>
                    <a:pt x="39" y="499"/>
                  </a:cubicBezTo>
                  <a:cubicBezTo>
                    <a:pt x="27" y="397"/>
                    <a:pt x="15" y="297"/>
                    <a:pt x="0" y="196"/>
                  </a:cubicBezTo>
                  <a:cubicBezTo>
                    <a:pt x="3" y="177"/>
                    <a:pt x="5" y="157"/>
                    <a:pt x="10" y="138"/>
                  </a:cubicBezTo>
                  <a:cubicBezTo>
                    <a:pt x="15" y="120"/>
                    <a:pt x="48" y="60"/>
                    <a:pt x="30" y="4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16"/>
            <p:cNvSpPr/>
            <p:nvPr/>
          </p:nvSpPr>
          <p:spPr>
            <a:xfrm>
              <a:off x="8319960" y="4871880"/>
              <a:ext cx="614520" cy="9795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427" h="720">
                  <a:moveTo>
                    <a:pt x="118" y="83"/>
                  </a:moveTo>
                  <a:cubicBezTo>
                    <a:pt x="199" y="92"/>
                    <a:pt x="285" y="86"/>
                    <a:pt x="362" y="112"/>
                  </a:cubicBezTo>
                  <a:cubicBezTo>
                    <a:pt x="399" y="226"/>
                    <a:pt x="400" y="346"/>
                    <a:pt x="420" y="463"/>
                  </a:cubicBezTo>
                  <a:cubicBezTo>
                    <a:pt x="417" y="515"/>
                    <a:pt x="427" y="570"/>
                    <a:pt x="410" y="620"/>
                  </a:cubicBezTo>
                  <a:cubicBezTo>
                    <a:pt x="402" y="642"/>
                    <a:pt x="371" y="646"/>
                    <a:pt x="352" y="659"/>
                  </a:cubicBezTo>
                  <a:cubicBezTo>
                    <a:pt x="310" y="687"/>
                    <a:pt x="222" y="691"/>
                    <a:pt x="176" y="698"/>
                  </a:cubicBezTo>
                  <a:cubicBezTo>
                    <a:pt x="126" y="715"/>
                    <a:pt x="81" y="720"/>
                    <a:pt x="30" y="708"/>
                  </a:cubicBezTo>
                  <a:cubicBezTo>
                    <a:pt x="21" y="694"/>
                    <a:pt x="0" y="668"/>
                    <a:pt x="0" y="649"/>
                  </a:cubicBezTo>
                  <a:cubicBezTo>
                    <a:pt x="0" y="583"/>
                    <a:pt x="40" y="531"/>
                    <a:pt x="59" y="473"/>
                  </a:cubicBezTo>
                  <a:cubicBezTo>
                    <a:pt x="62" y="369"/>
                    <a:pt x="61" y="265"/>
                    <a:pt x="69" y="161"/>
                  </a:cubicBezTo>
                  <a:cubicBezTo>
                    <a:pt x="71" y="140"/>
                    <a:pt x="82" y="122"/>
                    <a:pt x="88" y="102"/>
                  </a:cubicBezTo>
                  <a:cubicBezTo>
                    <a:pt x="121" y="0"/>
                    <a:pt x="118" y="128"/>
                    <a:pt x="118" y="83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331"/>
            <p:cNvGrpSpPr/>
            <p:nvPr/>
          </p:nvGrpSpPr>
          <p:grpSpPr>
            <a:xfrm>
              <a:off x="6877080" y="3786120"/>
              <a:ext cx="323640" cy="122400"/>
              <a:chOff x="6877080" y="3786120"/>
              <a:chExt cx="323640" cy="122400"/>
            </a:xfrm>
          </p:grpSpPr>
          <p:sp>
            <p:nvSpPr>
              <p:cNvPr id="191" name="Oval 332"/>
              <p:cNvSpPr/>
              <p:nvPr/>
            </p:nvSpPr>
            <p:spPr>
              <a:xfrm>
                <a:off x="6877080" y="37861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33"/>
              <p:cNvSpPr/>
              <p:nvPr/>
            </p:nvSpPr>
            <p:spPr>
              <a:xfrm>
                <a:off x="7071840" y="37861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34"/>
            <p:cNvGrpSpPr/>
            <p:nvPr/>
          </p:nvGrpSpPr>
          <p:grpSpPr>
            <a:xfrm>
              <a:off x="7920000" y="2119320"/>
              <a:ext cx="323640" cy="122400"/>
              <a:chOff x="7920000" y="2119320"/>
              <a:chExt cx="323640" cy="122400"/>
            </a:xfrm>
          </p:grpSpPr>
          <p:sp>
            <p:nvSpPr>
              <p:cNvPr id="194" name="Oval 335"/>
              <p:cNvSpPr/>
              <p:nvPr/>
            </p:nvSpPr>
            <p:spPr>
              <a:xfrm>
                <a:off x="7920000" y="21193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36"/>
              <p:cNvSpPr/>
              <p:nvPr/>
            </p:nvSpPr>
            <p:spPr>
              <a:xfrm>
                <a:off x="8114760" y="21193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337"/>
            <p:cNvGrpSpPr/>
            <p:nvPr/>
          </p:nvGrpSpPr>
          <p:grpSpPr>
            <a:xfrm>
              <a:off x="7788240" y="5573880"/>
              <a:ext cx="325440" cy="123480"/>
              <a:chOff x="7788240" y="5573880"/>
              <a:chExt cx="325440" cy="123480"/>
            </a:xfrm>
          </p:grpSpPr>
          <p:sp>
            <p:nvSpPr>
              <p:cNvPr id="197" name="Oval 338"/>
              <p:cNvSpPr/>
              <p:nvPr/>
            </p:nvSpPr>
            <p:spPr>
              <a:xfrm>
                <a:off x="7788240" y="5573880"/>
                <a:ext cx="129600" cy="123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39"/>
              <p:cNvSpPr/>
              <p:nvPr/>
            </p:nvSpPr>
            <p:spPr>
              <a:xfrm>
                <a:off x="7984080" y="5573880"/>
                <a:ext cx="129600" cy="123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344"/>
            <p:cNvGrpSpPr/>
            <p:nvPr/>
          </p:nvGrpSpPr>
          <p:grpSpPr>
            <a:xfrm>
              <a:off x="5724360" y="753120"/>
              <a:ext cx="218880" cy="381960"/>
              <a:chOff x="5724360" y="753120"/>
              <a:chExt cx="218880" cy="381960"/>
            </a:xfrm>
          </p:grpSpPr>
          <p:sp>
            <p:nvSpPr>
              <p:cNvPr id="200" name="Oval 345"/>
              <p:cNvSpPr/>
              <p:nvPr/>
            </p:nvSpPr>
            <p:spPr>
              <a:xfrm rot="15431400">
                <a:off x="5786280" y="97776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46"/>
              <p:cNvSpPr/>
              <p:nvPr/>
            </p:nvSpPr>
            <p:spPr>
              <a:xfrm rot="15431400">
                <a:off x="5738400" y="76680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50"/>
            <p:cNvGrpSpPr/>
            <p:nvPr/>
          </p:nvGrpSpPr>
          <p:grpSpPr>
            <a:xfrm>
              <a:off x="5747040" y="4575600"/>
              <a:ext cx="174240" cy="370080"/>
              <a:chOff x="5747040" y="4575600"/>
              <a:chExt cx="174240" cy="370080"/>
            </a:xfrm>
          </p:grpSpPr>
          <p:sp>
            <p:nvSpPr>
              <p:cNvPr id="203" name="Oval 351"/>
              <p:cNvSpPr/>
              <p:nvPr/>
            </p:nvSpPr>
            <p:spPr>
              <a:xfrm rot="16504200">
                <a:off x="5752800" y="479664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2"/>
              <p:cNvSpPr/>
              <p:nvPr/>
            </p:nvSpPr>
            <p:spPr>
              <a:xfrm rot="16504200">
                <a:off x="5771880" y="458136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422"/>
          <p:cNvGrpSpPr/>
          <p:nvPr/>
        </p:nvGrpSpPr>
        <p:grpSpPr>
          <a:xfrm>
            <a:off x="3132000" y="44280"/>
            <a:ext cx="2571840" cy="6337440"/>
            <a:chOff x="3132000" y="44280"/>
            <a:chExt cx="2571840" cy="6337440"/>
          </a:xfrm>
        </p:grpSpPr>
        <p:grpSp>
          <p:nvGrpSpPr>
            <p:cNvPr id="206" name="Group 26"/>
            <p:cNvGrpSpPr/>
            <p:nvPr/>
          </p:nvGrpSpPr>
          <p:grpSpPr>
            <a:xfrm>
              <a:off x="5357880" y="2612880"/>
              <a:ext cx="280800" cy="793800"/>
              <a:chOff x="5357880" y="2612880"/>
              <a:chExt cx="280800" cy="793800"/>
            </a:xfrm>
          </p:grpSpPr>
          <p:sp>
            <p:nvSpPr>
              <p:cNvPr id="207" name="Freeform 27"/>
              <p:cNvSpPr/>
              <p:nvPr/>
            </p:nvSpPr>
            <p:spPr>
              <a:xfrm>
                <a:off x="5357880" y="2612880"/>
                <a:ext cx="280800" cy="7938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195" h="584">
                    <a:moveTo>
                      <a:pt x="156" y="8"/>
                    </a:moveTo>
                    <a:cubicBezTo>
                      <a:pt x="18" y="21"/>
                      <a:pt x="70" y="0"/>
                      <a:pt x="19" y="77"/>
                    </a:cubicBezTo>
                    <a:cubicBezTo>
                      <a:pt x="0" y="244"/>
                      <a:pt x="4" y="174"/>
                      <a:pt x="19" y="458"/>
                    </a:cubicBezTo>
                    <a:cubicBezTo>
                      <a:pt x="22" y="512"/>
                      <a:pt x="34" y="568"/>
                      <a:pt x="88" y="584"/>
                    </a:cubicBezTo>
                    <a:cubicBezTo>
                      <a:pt x="101" y="581"/>
                      <a:pt x="117" y="584"/>
                      <a:pt x="127" y="575"/>
                    </a:cubicBezTo>
                    <a:cubicBezTo>
                      <a:pt x="145" y="560"/>
                      <a:pt x="166" y="516"/>
                      <a:pt x="166" y="516"/>
                    </a:cubicBezTo>
                    <a:cubicBezTo>
                      <a:pt x="175" y="480"/>
                      <a:pt x="183" y="444"/>
                      <a:pt x="195" y="409"/>
                    </a:cubicBezTo>
                    <a:cubicBezTo>
                      <a:pt x="192" y="357"/>
                      <a:pt x="192" y="304"/>
                      <a:pt x="185" y="252"/>
                    </a:cubicBezTo>
                    <a:cubicBezTo>
                      <a:pt x="183" y="235"/>
                      <a:pt x="157" y="178"/>
                      <a:pt x="156" y="155"/>
                    </a:cubicBezTo>
                    <a:cubicBezTo>
                      <a:pt x="153" y="106"/>
                      <a:pt x="156" y="57"/>
                      <a:pt x="156" y="8"/>
                    </a:cubicBez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5414040" y="2760840"/>
                <a:ext cx="137880" cy="4741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74120"/>
                  <a:gd name="textAreaBottom" fmla="*/ 474120 h 474120"/>
                </a:gdLst>
                <a:ahLst/>
                <a:rect l="textAreaLeft" t="textAreaTop" r="textAreaRight" b="textAreaBottom"/>
                <a:pathLst>
                  <a:path w="78" h="274">
                    <a:moveTo>
                      <a:pt x="39" y="0"/>
                    </a:moveTo>
                    <a:cubicBezTo>
                      <a:pt x="23" y="45"/>
                      <a:pt x="16" y="92"/>
                      <a:pt x="0" y="137"/>
                    </a:cubicBezTo>
                    <a:cubicBezTo>
                      <a:pt x="3" y="173"/>
                      <a:pt x="3" y="209"/>
                      <a:pt x="10" y="244"/>
                    </a:cubicBezTo>
                    <a:cubicBezTo>
                      <a:pt x="12" y="256"/>
                      <a:pt x="17" y="274"/>
                      <a:pt x="29" y="274"/>
                    </a:cubicBezTo>
                    <a:cubicBezTo>
                      <a:pt x="41" y="274"/>
                      <a:pt x="42" y="254"/>
                      <a:pt x="49" y="244"/>
                    </a:cubicBezTo>
                    <a:cubicBezTo>
                      <a:pt x="73" y="170"/>
                      <a:pt x="64" y="206"/>
                      <a:pt x="78" y="137"/>
                    </a:cubicBezTo>
                    <a:cubicBezTo>
                      <a:pt x="66" y="45"/>
                      <a:pt x="63" y="69"/>
                      <a:pt x="3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421"/>
            <p:cNvGrpSpPr/>
            <p:nvPr/>
          </p:nvGrpSpPr>
          <p:grpSpPr>
            <a:xfrm>
              <a:off x="3132000" y="44280"/>
              <a:ext cx="2571840" cy="6337440"/>
              <a:chOff x="3132000" y="44280"/>
              <a:chExt cx="2571840" cy="6337440"/>
            </a:xfrm>
          </p:grpSpPr>
          <p:grpSp>
            <p:nvGrpSpPr>
              <p:cNvPr id="210" name="Group 23"/>
              <p:cNvGrpSpPr/>
              <p:nvPr/>
            </p:nvGrpSpPr>
            <p:grpSpPr>
              <a:xfrm>
                <a:off x="5357880" y="3292560"/>
                <a:ext cx="280800" cy="793800"/>
                <a:chOff x="5357880" y="3292560"/>
                <a:chExt cx="280800" cy="793800"/>
              </a:xfrm>
            </p:grpSpPr>
            <p:sp>
              <p:nvSpPr>
                <p:cNvPr id="211" name="Freeform 24"/>
                <p:cNvSpPr/>
                <p:nvPr/>
              </p:nvSpPr>
              <p:spPr>
                <a:xfrm>
                  <a:off x="5357880" y="3292560"/>
                  <a:ext cx="280800" cy="793800"/>
                </a:xfrm>
                <a:custGeom>
                  <a:avLst/>
                  <a:gdLst>
                    <a:gd name="textAreaLeft" fmla="*/ 0 w 280800"/>
                    <a:gd name="textAreaRight" fmla="*/ 281160 w 28080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5"/>
                <p:cNvSpPr/>
                <p:nvPr/>
              </p:nvSpPr>
              <p:spPr>
                <a:xfrm>
                  <a:off x="5414040" y="3440520"/>
                  <a:ext cx="137880" cy="4741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9"/>
              <p:cNvGrpSpPr/>
              <p:nvPr/>
            </p:nvGrpSpPr>
            <p:grpSpPr>
              <a:xfrm>
                <a:off x="5424480" y="1871640"/>
                <a:ext cx="279360" cy="793800"/>
                <a:chOff x="5424480" y="1871640"/>
                <a:chExt cx="279360" cy="793800"/>
              </a:xfrm>
            </p:grpSpPr>
            <p:sp>
              <p:nvSpPr>
                <p:cNvPr id="214" name="Freeform 30"/>
                <p:cNvSpPr/>
                <p:nvPr/>
              </p:nvSpPr>
              <p:spPr>
                <a:xfrm>
                  <a:off x="5424480" y="1871640"/>
                  <a:ext cx="279360" cy="79380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1"/>
                <p:cNvSpPr/>
                <p:nvPr/>
              </p:nvSpPr>
              <p:spPr>
                <a:xfrm>
                  <a:off x="5480280" y="2019600"/>
                  <a:ext cx="137160" cy="4741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2"/>
              <p:cNvGrpSpPr/>
              <p:nvPr/>
            </p:nvGrpSpPr>
            <p:grpSpPr>
              <a:xfrm>
                <a:off x="5443560" y="1009800"/>
                <a:ext cx="260280" cy="915840"/>
                <a:chOff x="5443560" y="1009800"/>
                <a:chExt cx="260280" cy="915840"/>
              </a:xfrm>
            </p:grpSpPr>
            <p:sp>
              <p:nvSpPr>
                <p:cNvPr id="217" name="Freeform 33"/>
                <p:cNvSpPr/>
                <p:nvPr/>
              </p:nvSpPr>
              <p:spPr>
                <a:xfrm>
                  <a:off x="5443560" y="1009800"/>
                  <a:ext cx="260280" cy="91584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915840"/>
                    <a:gd name="textAreaBottom" fmla="*/ 915840 h 91584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4"/>
                <p:cNvSpPr/>
                <p:nvPr/>
              </p:nvSpPr>
              <p:spPr>
                <a:xfrm>
                  <a:off x="5495400" y="1180440"/>
                  <a:ext cx="127800" cy="5472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547200"/>
                    <a:gd name="textAreaBottom" fmla="*/ 547560 h 54720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5"/>
              <p:cNvGrpSpPr/>
              <p:nvPr/>
            </p:nvGrpSpPr>
            <p:grpSpPr>
              <a:xfrm>
                <a:off x="5443560" y="44280"/>
                <a:ext cx="195120" cy="965160"/>
                <a:chOff x="5443560" y="44280"/>
                <a:chExt cx="195120" cy="965160"/>
              </a:xfrm>
            </p:grpSpPr>
            <p:sp>
              <p:nvSpPr>
                <p:cNvPr id="220" name="Freeform 36"/>
                <p:cNvSpPr/>
                <p:nvPr/>
              </p:nvSpPr>
              <p:spPr>
                <a:xfrm>
                  <a:off x="5443560" y="44280"/>
                  <a:ext cx="195120" cy="96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965160"/>
                    <a:gd name="textAreaBottom" fmla="*/ 965520 h 96516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7"/>
                <p:cNvSpPr/>
                <p:nvPr/>
              </p:nvSpPr>
              <p:spPr>
                <a:xfrm>
                  <a:off x="5482440" y="223920"/>
                  <a:ext cx="95760" cy="57672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76720"/>
                    <a:gd name="textAreaBottom" fmla="*/ 576720 h 5767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38"/>
              <p:cNvGrpSpPr/>
              <p:nvPr/>
            </p:nvGrpSpPr>
            <p:grpSpPr>
              <a:xfrm>
                <a:off x="5378400" y="4933800"/>
                <a:ext cx="279360" cy="987120"/>
                <a:chOff x="5378400" y="4933800"/>
                <a:chExt cx="279360" cy="987120"/>
              </a:xfrm>
            </p:grpSpPr>
            <p:sp>
              <p:nvSpPr>
                <p:cNvPr id="223" name="Freeform 39"/>
                <p:cNvSpPr/>
                <p:nvPr/>
              </p:nvSpPr>
              <p:spPr>
                <a:xfrm>
                  <a:off x="5378400" y="4933800"/>
                  <a:ext cx="279360" cy="9871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987120"/>
                    <a:gd name="textAreaBottom" fmla="*/ 987480 h 98712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0"/>
                <p:cNvSpPr/>
                <p:nvPr/>
              </p:nvSpPr>
              <p:spPr>
                <a:xfrm>
                  <a:off x="5434200" y="5117760"/>
                  <a:ext cx="137160" cy="5900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590040"/>
                    <a:gd name="textAreaBottom" fmla="*/ 590400 h 59004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20"/>
              <p:cNvGrpSpPr/>
              <p:nvPr/>
            </p:nvGrpSpPr>
            <p:grpSpPr>
              <a:xfrm>
                <a:off x="3132000" y="44280"/>
                <a:ext cx="2571480" cy="6337440"/>
                <a:chOff x="3132000" y="44280"/>
                <a:chExt cx="2571480" cy="6337440"/>
              </a:xfrm>
            </p:grpSpPr>
            <p:grpSp>
              <p:nvGrpSpPr>
                <p:cNvPr id="226" name="Group 20"/>
                <p:cNvGrpSpPr/>
                <p:nvPr/>
              </p:nvGrpSpPr>
              <p:grpSpPr>
                <a:xfrm>
                  <a:off x="5357880" y="3970440"/>
                  <a:ext cx="280800" cy="987120"/>
                  <a:chOff x="5357880" y="3970440"/>
                  <a:chExt cx="280800" cy="987120"/>
                </a:xfrm>
              </p:grpSpPr>
              <p:sp>
                <p:nvSpPr>
                  <p:cNvPr id="227" name="Freeform 21"/>
                  <p:cNvSpPr/>
                  <p:nvPr/>
                </p:nvSpPr>
                <p:spPr>
                  <a:xfrm>
                    <a:off x="5357880" y="3970440"/>
                    <a:ext cx="280800" cy="987120"/>
                  </a:xfrm>
                  <a:custGeom>
                    <a:avLst/>
                    <a:gdLst>
                      <a:gd name="textAreaLeft" fmla="*/ 0 w 280800"/>
                      <a:gd name="textAreaRight" fmla="*/ 281160 w 280800"/>
                      <a:gd name="textAreaTop" fmla="*/ 0 h 987120"/>
                      <a:gd name="textAreaBottom" fmla="*/ 987480 h 987120"/>
                    </a:gdLst>
                    <a:ahLst/>
                    <a:rect l="textAreaLeft" t="textAreaTop" r="textAreaRight" b="textAreaBottom"/>
                    <a:pathLst>
                      <a:path w="195" h="584">
                        <a:moveTo>
                          <a:pt x="156" y="8"/>
                        </a:moveTo>
                        <a:cubicBezTo>
                          <a:pt x="18" y="21"/>
                          <a:pt x="70" y="0"/>
                          <a:pt x="19" y="77"/>
                        </a:cubicBezTo>
                        <a:cubicBezTo>
                          <a:pt x="0" y="244"/>
                          <a:pt x="4" y="174"/>
                          <a:pt x="19" y="458"/>
                        </a:cubicBezTo>
                        <a:cubicBezTo>
                          <a:pt x="22" y="512"/>
                          <a:pt x="34" y="568"/>
                          <a:pt x="88" y="584"/>
                        </a:cubicBezTo>
                        <a:cubicBezTo>
                          <a:pt x="101" y="581"/>
                          <a:pt x="117" y="584"/>
                          <a:pt x="127" y="575"/>
                        </a:cubicBezTo>
                        <a:cubicBezTo>
                          <a:pt x="145" y="560"/>
                          <a:pt x="166" y="516"/>
                          <a:pt x="166" y="516"/>
                        </a:cubicBezTo>
                        <a:cubicBezTo>
                          <a:pt x="175" y="480"/>
                          <a:pt x="183" y="444"/>
                          <a:pt x="195" y="409"/>
                        </a:cubicBezTo>
                        <a:cubicBezTo>
                          <a:pt x="192" y="357"/>
                          <a:pt x="192" y="304"/>
                          <a:pt x="185" y="252"/>
                        </a:cubicBezTo>
                        <a:cubicBezTo>
                          <a:pt x="183" y="235"/>
                          <a:pt x="157" y="178"/>
                          <a:pt x="156" y="155"/>
                        </a:cubicBezTo>
                        <a:cubicBezTo>
                          <a:pt x="153" y="106"/>
                          <a:pt x="156" y="57"/>
                          <a:pt x="156" y="8"/>
                        </a:cubicBezTo>
                        <a:close/>
                      </a:path>
                    </a:pathLst>
                  </a:cu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2"/>
                  <p:cNvSpPr/>
                  <p:nvPr/>
                </p:nvSpPr>
                <p:spPr>
                  <a:xfrm>
                    <a:off x="5414040" y="4154400"/>
                    <a:ext cx="137880" cy="590040"/>
                  </a:xfrm>
                  <a:custGeom>
                    <a:avLst/>
                    <a:gdLst>
                      <a:gd name="textAreaLeft" fmla="*/ 0 w 137880"/>
                      <a:gd name="textAreaRight" fmla="*/ 138240 w 137880"/>
                      <a:gd name="textAreaTop" fmla="*/ 0 h 590040"/>
                      <a:gd name="textAreaBottom" fmla="*/ 590400 h 590040"/>
                    </a:gdLst>
                    <a:ahLst/>
                    <a:rect l="textAreaLeft" t="textAreaTop" r="textAreaRight" b="textAreaBottom"/>
                    <a:pathLst>
                      <a:path w="78" h="274">
                        <a:moveTo>
                          <a:pt x="39" y="0"/>
                        </a:moveTo>
                        <a:cubicBezTo>
                          <a:pt x="23" y="45"/>
                          <a:pt x="16" y="92"/>
                          <a:pt x="0" y="137"/>
                        </a:cubicBezTo>
                        <a:cubicBezTo>
                          <a:pt x="3" y="173"/>
                          <a:pt x="3" y="209"/>
                          <a:pt x="10" y="244"/>
                        </a:cubicBezTo>
                        <a:cubicBezTo>
                          <a:pt x="12" y="256"/>
                          <a:pt x="17" y="274"/>
                          <a:pt x="29" y="274"/>
                        </a:cubicBezTo>
                        <a:cubicBezTo>
                          <a:pt x="41" y="274"/>
                          <a:pt x="42" y="254"/>
                          <a:pt x="49" y="244"/>
                        </a:cubicBezTo>
                        <a:cubicBezTo>
                          <a:pt x="73" y="170"/>
                          <a:pt x="64" y="206"/>
                          <a:pt x="78" y="137"/>
                        </a:cubicBezTo>
                        <a:cubicBezTo>
                          <a:pt x="66" y="45"/>
                          <a:pt x="63" y="69"/>
                          <a:pt x="39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357"/>
                <p:cNvGrpSpPr/>
                <p:nvPr/>
              </p:nvGrpSpPr>
              <p:grpSpPr>
                <a:xfrm>
                  <a:off x="3132000" y="44280"/>
                  <a:ext cx="435240" cy="6337440"/>
                  <a:chOff x="3132000" y="44280"/>
                  <a:chExt cx="435240" cy="6337440"/>
                </a:xfrm>
              </p:grpSpPr>
              <p:grpSp>
                <p:nvGrpSpPr>
                  <p:cNvPr id="230" name="Group 9"/>
                  <p:cNvGrpSpPr/>
                  <p:nvPr/>
                </p:nvGrpSpPr>
                <p:grpSpPr>
                  <a:xfrm>
                    <a:off x="3287880" y="822240"/>
                    <a:ext cx="214200" cy="956880"/>
                    <a:chOff x="3287880" y="822240"/>
                    <a:chExt cx="214200" cy="956880"/>
                  </a:xfrm>
                </p:grpSpPr>
                <p:sp>
                  <p:nvSpPr>
                    <p:cNvPr id="231" name="Freeform 5"/>
                    <p:cNvSpPr/>
                    <p:nvPr/>
                  </p:nvSpPr>
                  <p:spPr>
                    <a:xfrm>
                      <a:off x="3287880" y="822240"/>
                      <a:ext cx="214200" cy="956880"/>
                    </a:xfrm>
                    <a:custGeom>
                      <a:avLst/>
                      <a:gdLst>
                        <a:gd name="textAreaLeft" fmla="*/ 0 w 214200"/>
                        <a:gd name="textAreaRight" fmla="*/ 214560 w 214200"/>
                        <a:gd name="textAreaTop" fmla="*/ 0 h 956880"/>
                        <a:gd name="textAreaBottom" fmla="*/ 957240 h 95688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6"/>
                    <p:cNvSpPr/>
                    <p:nvPr/>
                  </p:nvSpPr>
                  <p:spPr>
                    <a:xfrm>
                      <a:off x="3330720" y="1000440"/>
                      <a:ext cx="105120" cy="572040"/>
                    </a:xfrm>
                    <a:custGeom>
                      <a:avLst/>
                      <a:gdLst>
                        <a:gd name="textAreaLeft" fmla="*/ 0 w 105120"/>
                        <a:gd name="textAreaRight" fmla="*/ 105480 w 105120"/>
                        <a:gd name="textAreaTop" fmla="*/ 0 h 572040"/>
                        <a:gd name="textAreaBottom" fmla="*/ 572400 h 57204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0"/>
                  <p:cNvGrpSpPr/>
                  <p:nvPr/>
                </p:nvGrpSpPr>
                <p:grpSpPr>
                  <a:xfrm>
                    <a:off x="3286080" y="1749600"/>
                    <a:ext cx="281160" cy="793440"/>
                    <a:chOff x="3286080" y="1749600"/>
                    <a:chExt cx="281160" cy="793440"/>
                  </a:xfrm>
                </p:grpSpPr>
                <p:sp>
                  <p:nvSpPr>
                    <p:cNvPr id="234" name="Freeform 7"/>
                    <p:cNvSpPr/>
                    <p:nvPr/>
                  </p:nvSpPr>
                  <p:spPr>
                    <a:xfrm>
                      <a:off x="3286080" y="1749600"/>
                      <a:ext cx="281160" cy="79344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440"/>
                        <a:gd name="textAreaBottom" fmla="*/ 793800 h 79344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8"/>
                    <p:cNvSpPr/>
                    <p:nvPr/>
                  </p:nvSpPr>
                  <p:spPr>
                    <a:xfrm>
                      <a:off x="3342240" y="189720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11"/>
                  <p:cNvGrpSpPr/>
                  <p:nvPr/>
                </p:nvGrpSpPr>
                <p:grpSpPr>
                  <a:xfrm>
                    <a:off x="3222720" y="2550960"/>
                    <a:ext cx="279360" cy="795600"/>
                    <a:chOff x="3222720" y="2550960"/>
                    <a:chExt cx="279360" cy="795600"/>
                  </a:xfrm>
                </p:grpSpPr>
                <p:sp>
                  <p:nvSpPr>
                    <p:cNvPr id="237" name="Freeform 12"/>
                    <p:cNvSpPr/>
                    <p:nvPr/>
                  </p:nvSpPr>
                  <p:spPr>
                    <a:xfrm>
                      <a:off x="3222720" y="2550960"/>
                      <a:ext cx="279360" cy="7956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5600"/>
                        <a:gd name="textAreaBottom" fmla="*/ 795960 h 7956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3"/>
                    <p:cNvSpPr/>
                    <p:nvPr/>
                  </p:nvSpPr>
                  <p:spPr>
                    <a:xfrm>
                      <a:off x="3278520" y="2698920"/>
                      <a:ext cx="137160" cy="47520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5200"/>
                        <a:gd name="textAreaBottom" fmla="*/ 475560 h 47520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"/>
                  <p:cNvGrpSpPr/>
                  <p:nvPr/>
                </p:nvGrpSpPr>
                <p:grpSpPr>
                  <a:xfrm>
                    <a:off x="3222720" y="3354480"/>
                    <a:ext cx="260280" cy="803160"/>
                    <a:chOff x="3222720" y="3354480"/>
                    <a:chExt cx="260280" cy="803160"/>
                  </a:xfrm>
                </p:grpSpPr>
                <p:sp>
                  <p:nvSpPr>
                    <p:cNvPr id="240" name="Freeform 15"/>
                    <p:cNvSpPr/>
                    <p:nvPr/>
                  </p:nvSpPr>
                  <p:spPr>
                    <a:xfrm>
                      <a:off x="3222720" y="3354480"/>
                      <a:ext cx="260280" cy="803160"/>
                    </a:xfrm>
                    <a:custGeom>
                      <a:avLst/>
                      <a:gdLst>
                        <a:gd name="textAreaLeft" fmla="*/ 0 w 260280"/>
                        <a:gd name="textAreaRight" fmla="*/ 260640 w 260280"/>
                        <a:gd name="textAreaTop" fmla="*/ 0 h 803160"/>
                        <a:gd name="textAreaBottom" fmla="*/ 803520 h 80316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16"/>
                    <p:cNvSpPr/>
                    <p:nvPr/>
                  </p:nvSpPr>
                  <p:spPr>
                    <a:xfrm>
                      <a:off x="3274560" y="3503880"/>
                      <a:ext cx="127800" cy="479880"/>
                    </a:xfrm>
                    <a:custGeom>
                      <a:avLst/>
                      <a:gdLst>
                        <a:gd name="textAreaLeft" fmla="*/ 0 w 127800"/>
                        <a:gd name="textAreaRight" fmla="*/ 128160 w 127800"/>
                        <a:gd name="textAreaTop" fmla="*/ 0 h 479880"/>
                        <a:gd name="textAreaBottom" fmla="*/ 480240 h 47988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7"/>
                  <p:cNvGrpSpPr/>
                  <p:nvPr/>
                </p:nvGrpSpPr>
                <p:grpSpPr>
                  <a:xfrm>
                    <a:off x="3222720" y="4156200"/>
                    <a:ext cx="279360" cy="793800"/>
                    <a:chOff x="3222720" y="4156200"/>
                    <a:chExt cx="279360" cy="793800"/>
                  </a:xfrm>
                </p:grpSpPr>
                <p:sp>
                  <p:nvSpPr>
                    <p:cNvPr id="243" name="Freeform 18"/>
                    <p:cNvSpPr/>
                    <p:nvPr/>
                  </p:nvSpPr>
                  <p:spPr>
                    <a:xfrm>
                      <a:off x="3222720" y="4156200"/>
                      <a:ext cx="279360" cy="7938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19"/>
                    <p:cNvSpPr/>
                    <p:nvPr/>
                  </p:nvSpPr>
                  <p:spPr>
                    <a:xfrm>
                      <a:off x="3278520" y="4304160"/>
                      <a:ext cx="137160" cy="47412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41"/>
                  <p:cNvGrpSpPr/>
                  <p:nvPr/>
                </p:nvGrpSpPr>
                <p:grpSpPr>
                  <a:xfrm>
                    <a:off x="3176640" y="4896000"/>
                    <a:ext cx="325080" cy="1024920"/>
                    <a:chOff x="3176640" y="4896000"/>
                    <a:chExt cx="325080" cy="1024920"/>
                  </a:xfrm>
                </p:grpSpPr>
                <p:sp>
                  <p:nvSpPr>
                    <p:cNvPr id="246" name="Freeform 42"/>
                    <p:cNvSpPr/>
                    <p:nvPr/>
                  </p:nvSpPr>
                  <p:spPr>
                    <a:xfrm>
                      <a:off x="3176640" y="4896000"/>
                      <a:ext cx="325080" cy="1024920"/>
                    </a:xfrm>
                    <a:custGeom>
                      <a:avLst/>
                      <a:gdLst>
                        <a:gd name="textAreaLeft" fmla="*/ 0 w 325080"/>
                        <a:gd name="textAreaRight" fmla="*/ 325440 w 325080"/>
                        <a:gd name="textAreaTop" fmla="*/ 0 h 1024920"/>
                        <a:gd name="textAreaBottom" fmla="*/ 1025280 h 102492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43"/>
                    <p:cNvSpPr/>
                    <p:nvPr/>
                  </p:nvSpPr>
                  <p:spPr>
                    <a:xfrm>
                      <a:off x="3241440" y="5086800"/>
                      <a:ext cx="159840" cy="612720"/>
                    </a:xfrm>
                    <a:custGeom>
                      <a:avLst/>
                      <a:gdLst>
                        <a:gd name="textAreaLeft" fmla="*/ 0 w 159840"/>
                        <a:gd name="textAreaRight" fmla="*/ 160200 w 159840"/>
                        <a:gd name="textAreaTop" fmla="*/ 0 h 612720"/>
                        <a:gd name="textAreaBottom" fmla="*/ 613080 h 6127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32"/>
                  <p:cNvGrpSpPr/>
                  <p:nvPr/>
                </p:nvGrpSpPr>
                <p:grpSpPr>
                  <a:xfrm>
                    <a:off x="3240000" y="44280"/>
                    <a:ext cx="281160" cy="793800"/>
                    <a:chOff x="3240000" y="44280"/>
                    <a:chExt cx="281160" cy="793800"/>
                  </a:xfrm>
                </p:grpSpPr>
                <p:sp>
                  <p:nvSpPr>
                    <p:cNvPr id="249" name="Freeform 133"/>
                    <p:cNvSpPr/>
                    <p:nvPr/>
                  </p:nvSpPr>
                  <p:spPr>
                    <a:xfrm>
                      <a:off x="3240000" y="44280"/>
                      <a:ext cx="281160" cy="79380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134"/>
                    <p:cNvSpPr/>
                    <p:nvPr/>
                  </p:nvSpPr>
                  <p:spPr>
                    <a:xfrm>
                      <a:off x="3296160" y="19224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Line 165"/>
                  <p:cNvSpPr/>
                  <p:nvPr/>
                </p:nvSpPr>
                <p:spPr>
                  <a:xfrm flipH="1">
                    <a:off x="3132000" y="44280"/>
                    <a:ext cx="108000" cy="6337440"/>
                  </a:xfrm>
                  <a:prstGeom prst="line">
                    <a:avLst/>
                  </a:prstGeom>
                  <a:ln w="7632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166"/>
                <p:cNvSpPr/>
                <p:nvPr/>
              </p:nvSpPr>
              <p:spPr>
                <a:xfrm flipH="1">
                  <a:off x="5651280" y="44280"/>
                  <a:ext cx="52200" cy="626436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Text Box 353"/>
          <p:cNvSpPr/>
          <p:nvPr/>
        </p:nvSpPr>
        <p:spPr>
          <a:xfrm>
            <a:off x="3482640" y="-2700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Autoreactiv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T-ce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56"/>
          <p:cNvGrpSpPr/>
          <p:nvPr/>
        </p:nvGrpSpPr>
        <p:grpSpPr>
          <a:xfrm>
            <a:off x="3422880" y="5877000"/>
            <a:ext cx="1941120" cy="860760"/>
            <a:chOff x="3422880" y="5877000"/>
            <a:chExt cx="1941120" cy="860760"/>
          </a:xfrm>
        </p:grpSpPr>
        <p:sp>
          <p:nvSpPr>
            <p:cNvPr id="255" name="Text Box 354"/>
            <p:cNvSpPr/>
            <p:nvPr/>
          </p:nvSpPr>
          <p:spPr>
            <a:xfrm>
              <a:off x="3422880" y="6308640"/>
              <a:ext cx="190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blood barrier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55"/>
            <p:cNvSpPr/>
            <p:nvPr/>
          </p:nvSpPr>
          <p:spPr>
            <a:xfrm>
              <a:off x="3564000" y="5877000"/>
              <a:ext cx="1800000" cy="4316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588" h="182">
                  <a:moveTo>
                    <a:pt x="0" y="0"/>
                  </a:moveTo>
                  <a:lnTo>
                    <a:pt x="681" y="182"/>
                  </a:lnTo>
                  <a:lnTo>
                    <a:pt x="158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423"/>
          <p:cNvSpPr/>
          <p:nvPr/>
        </p:nvSpPr>
        <p:spPr>
          <a:xfrm>
            <a:off x="758520" y="5877000"/>
            <a:ext cx="20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iss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28"/>
          <p:cNvGrpSpPr/>
          <p:nvPr/>
        </p:nvGrpSpPr>
        <p:grpSpPr>
          <a:xfrm>
            <a:off x="6879600" y="5733720"/>
            <a:ext cx="1148400" cy="716760"/>
            <a:chOff x="6879600" y="5733720"/>
            <a:chExt cx="1148400" cy="716760"/>
          </a:xfrm>
        </p:grpSpPr>
        <p:sp>
          <p:nvSpPr>
            <p:cNvPr id="259" name="Text Box 425"/>
            <p:cNvSpPr/>
            <p:nvPr/>
          </p:nvSpPr>
          <p:spPr>
            <a:xfrm>
              <a:off x="6879600" y="6021360"/>
              <a:ext cx="114228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Self Ag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26"/>
            <p:cNvSpPr/>
            <p:nvPr/>
          </p:nvSpPr>
          <p:spPr>
            <a:xfrm flipV="1">
              <a:off x="7667640" y="5733720"/>
              <a:ext cx="144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27"/>
            <p:cNvSpPr/>
            <p:nvPr/>
          </p:nvSpPr>
          <p:spPr>
            <a:xfrm flipV="1">
              <a:off x="7667640" y="5733720"/>
              <a:ext cx="360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6886E-006 C 0.00174 0.0007 0.00382 0.0007 0.00504 0.00232 C 0.00781 0.00603 0.0092 0.02016 0.01007 0.0248 C 0.01181 0.05144 0.00347 0.06557 -0.00538 0.0899 C -0.00868 0.09871 -0.06302 0.13022 -0.06545 0.13972 C -0.06667 0.14435 0.01059 0.18559 0.01059 0.18582 C 0.03056 0.21432 -0.0224 0.24931 -0.02014 0.28198 C -0.01354 0.31789 -0.00347 0.32924 0.0132 0.35844 C 0.01493 0.36516 0.08889 0.40061 0.09184 0.40663 C 0.09618 0.41567 0.0507 0.47822 0.0533 0.48842 C 0.0408 0.51553 0.03837 0.55353 0.01684 0.56882 C 0.01181 0.57878 -0.07118 0.53453 -0.07483 0.54889 C -0.07621 0.55353 -0.02986 0.59407 -0.03212 0.59871 C -0.02187 0.61562 -0.01701 0.63161 -0.01371 0.65037 E">
                                      <p:cBhvr>
                                        <p:cTn id="1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7:54:27Z</dcterms:created>
  <dc:creator>Dr.Hend</dc:creator>
  <dc:description/>
  <dc:language>en-US</dc:language>
  <cp:lastModifiedBy>Dr.Hend</cp:lastModifiedBy>
  <dcterms:modified xsi:type="dcterms:W3CDTF">2015-12-22T06:01:34Z</dcterms:modified>
  <cp:revision>218</cp:revision>
  <dc:subject/>
  <dc:title>PowerPoint Presentation</dc:title>
</cp:coreProperties>
</file>