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0.png" ContentType="image/png"/>
  <Override PartName="/ppt/media/image1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51D-A7AE-4A93-893E-6580119F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468-36C5-488F-97D3-58691FF0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F467F-302C-4ED1-B20D-D2128268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E3AEE-52B5-4083-ADF9-C940B762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9D774-56E3-4890-91AE-91790AD6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CE7CE-6DBF-4098-A2EF-18F19898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2C0E8-366B-475B-8426-9C448A4F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11D6E-8335-4B0F-84C1-9EE76448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3FA27-A5C0-4367-9312-196D2DFA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74CFB-4848-4A00-827E-869CC405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4D93D-EEE9-46C6-8F1D-23C819A9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DA9A3-BBD7-4246-8AC4-FFF74E6F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3A0-1A10-4039-A6CC-826F4BBD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A7A38-C28A-436A-A8C0-5CBB8512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C093C-F136-4808-AA37-D5DD55AC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865A9-9806-4947-A42D-7BD03E39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ED30C-9BC9-4E0A-A735-A987D2A7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C4F03-EB01-4EAF-A058-EC434BC3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8AC10-C0F0-4965-B6A7-21FA38F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C6F4E-3422-469E-9318-15D81C09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1276F-C364-4A33-AB3D-71A36042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98291-EEEC-4FA9-967A-6103CF1D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29627-306B-4574-ABA1-FB6F612C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AAA-D101-49DD-8D35-FBA87824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D9846-6DBF-482A-8264-7A6B9A2C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F6579-0E09-4A90-AC3F-FD20B580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5E516-E1AA-4AED-9C18-F528FB56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737F2-48A5-4822-B37E-31AF6E45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3CD0A-A07F-4206-AE8F-798CC93B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F1372-51C9-424F-A26D-A7D66292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EA203-DA2A-4D77-8AE1-DBFAF7D5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8F2D7-09F6-49C6-8C02-39A5310D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F3757-4497-458B-9EFD-1EBBCDE7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D1F64-7185-4E54-875E-C082A25D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BAC6-B367-4125-A013-D7C5C357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C7AB8-340C-454D-BBA9-57E40A51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5D7DB-A6EC-4F24-BC27-5B3A1629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0F12D-DE53-4DE3-BDE8-5BAF5C54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5CB24-CA7B-4439-8A6A-865DEFB8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B16F5-1B6F-4B46-AD2D-EF7AED4D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70807-685C-4F53-8095-ACC12037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FB346-7511-42F9-9502-5FD68FC7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CCEB0-260B-4C29-9C80-FE8BE715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DF13B-AC38-494E-9D5A-C2559CB7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52B3D-1B2F-41B0-BEE3-14FF2D4B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F899-EF38-4CF5-A596-1E150F0C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B2EB7-4676-40C0-951D-D317E86C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9683A-9486-4DBC-9F8E-18533298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7DC30-9AD4-4A9A-87AD-F6F8630F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540A6-4F01-4AEF-82C2-E202F189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D8229-5F3C-4BFE-B3AF-57BE3E41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1318B-EA94-4AA8-A80F-7D4010F6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6D326-9D74-4554-A595-A4B29C6B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08D59-57C8-4A1B-97A6-D36110CC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3E358-8619-425D-8ABA-7F93BDFA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3D9F1-4C95-4C41-8CB9-18F373FD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B90E-9054-4A7A-8997-D4E075CF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2B80A-A85C-4581-AFF8-CC69992E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6CC33-03A6-4F14-A59F-56B2A5B8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0CC69-D0B4-465C-9C07-CCEAFD6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2D7A4-363F-4A61-A004-AE499431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B39D2-5DF0-4A8F-9C28-2F0F195E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3DE99-4D64-49FC-B660-BC943743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B5D5F-B81A-4405-8F63-ED4175A6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076B1-96A5-4A03-8DDA-13C2AEB5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DE1B7-C4FF-4C1B-9617-F45BC503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6CBD9-C147-45BE-8E83-F82590AD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6E3D-8917-4F0B-9D19-5E775932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EC03C-FADF-4B97-BA5E-D547339A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E4453-25FA-491E-9D74-A1AC92AC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93D1E-D39F-4785-9E04-0DF55B63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C08FF-44C0-4533-8A4B-5502B687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9B8FD-C98B-42DD-BBC9-9239513B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54E0D-8686-4771-9FBF-13C9D3A1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AC576-0C90-4919-A5F3-1F3183E9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9A0C0-4D31-4CDF-BC8A-11974C00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AD0E4-32B5-484B-9691-77F7662B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4496A-DD06-41BB-A817-CFF2FC66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1C8A-23FD-4A7E-B52F-BE96CD7C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B5DA5-7A9C-4A4B-AEDA-F56887E7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76697-D142-4995-87AB-A9486A4E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28039-DC76-4160-9EED-DB985022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F72A7-482D-4A18-BFF1-4F87156B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B24F62-1B30-4497-991E-6B4B4075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C7E9B-A0EB-47A7-8B1D-109D7D3D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49328-76D6-4FC0-9316-223DA6E9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C442B-875A-4B86-8398-61457FE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4ABB0-2065-4560-AE9B-7C6B12E7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1F7A8-4FA1-4F6D-B471-A6354C9D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8E55-3281-4696-A266-760C3B62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ADCD6-93C4-450B-9D87-F198D95C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644B3-2343-4138-BE35-DBF5EFBC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6C4CF-D377-40D6-B538-B46D638E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F7565-A60B-47D3-8C6C-53BBE33A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45D78-1C6E-455F-BD4A-900869FD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BE8E0-F348-436A-84E3-400CBD2D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26CA17-6FEC-4F3B-8ED6-26CE4C9C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80138-80AC-4ABF-AE20-EDB0B3AF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45CC7-BE39-412B-8044-F3740327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7AA8F3-F153-4B3C-B50F-7921F19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CBB7-946F-4DFD-AC00-65BCFF05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152E5-9103-4EBB-87FD-D731BDA8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9BD84-3822-4397-8400-F9ABC75E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83B1B-34D2-4466-8725-2C8A1D6B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D69-BF0A-4804-9083-249FDA47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B6C1-A848-48E2-B50A-471475E3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19F9-F279-4C04-B6B1-BCB189D6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91FE-DE5B-4C01-B3CE-ADF036B6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CF26-4BCF-41B6-92FA-62AC98E5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DF93-1C3E-4163-AB63-3943DE85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8A35-4927-4947-9C6C-9AE933AD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2F0B-FF76-4BFE-B71A-F3EE31D1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F52D-3506-4F2D-B3C5-77145DFB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8F01-D138-46BC-BB67-5C11193A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7ED1-8117-4B40-B1BF-D31C8738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FC8-892A-4981-8A96-EABD4CD7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0D72-C966-40DA-B51C-B797E468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F89B-EC34-4FFE-B742-D1E1B508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8713-706C-481E-AF99-D27D1E19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084B5-EA20-4AFC-B50D-24C052A4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4C38-B51C-4AC6-890D-F9A87532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291C-54BF-407A-BA03-29F147F6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76BA2-9B72-40CB-88F5-BDEEFEAA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C8665-7D5D-4818-B192-4E5B2B14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1816-0FDE-4C55-84A8-D6BC9F10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54D9A-D012-4DD4-9A98-A5D428F3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CF5-2190-48BA-B6E8-5A3C2501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998BD-C93B-4C71-83F5-02E83AC1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E44B5-B19B-46A6-9790-FFFA3634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832A-FEEE-4F3C-8CC8-6702F147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B6632-593F-4665-9609-D5583E67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C41ED-DAD8-4D57-8DD0-1631DA5E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428C-C4CB-4EC6-B882-4655F1CE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C0079-3C5F-448B-BFAD-EB073140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CDF8-0DF0-4016-A604-B3E4AD00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6088C-E32A-4F1B-9058-22450BE3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1F7D6-FE34-43F3-9FEC-627C01B9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FE2-9321-4470-A4BF-1F8D850C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32332-131A-45FB-98A3-8BCDABD7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EC6C4-20A6-4E1A-941C-BF4D8027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15DA-55C6-4E73-A7AE-8C4166D7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CD67D-188D-478B-9AF8-CF0D297E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A659F-6FC6-4B2A-8A6E-4319EA66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89B3B-393B-4441-A261-BEBE760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41D9-05AF-4D0A-9E76-BDCC005F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18437-2240-46AF-B1D3-85F53AAC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CC641-8F04-4BC1-BD54-9593C93F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A06D0-EB8B-4B48-8637-F56442F0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B0C-A43F-49FF-A8AF-52CD84DD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69C0C-9036-4CA9-8048-E98E6DAC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CAF61-AD5B-4068-B711-7DB93B6A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59EB5-CC50-4E29-9074-26CBE601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7C50C-7048-4CA1-BFAA-D0413D14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0061F-DC0B-4F0A-B901-9B917E23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F861-3E9B-4D67-AAC6-94D142EE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79883-0F7A-457D-91EE-5EE8F5A2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EB15B-2832-4E55-88CB-179982EF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2524E-E038-4876-A552-6F4DC025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23C69-6935-40A2-A8A4-E9DF8531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DA8-C0EC-4592-BCFD-B3DC30F6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63EB5-807C-4CE6-9B88-7053A875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DF0D7-9820-4220-8153-4E112648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3CF2F-2CDA-4BAD-B0CA-492530B6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48636-66D2-4680-A2E9-FEBA4911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83D72-A0E8-4F09-A143-BCC94D39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47734-1E74-4F66-9836-B0AF0AAC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BC3FC-72A7-4F3B-B5D9-9E3CC3BF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9D676-F0DE-4C0B-B959-DDCF595B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D16E-0193-4FBC-962D-AD649CB7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F0EC2-B231-4BDE-A79C-B8A3BFEE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6DF-AC51-4B6E-8DF4-B7154236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7A004-E825-4ED8-A165-8D5950A1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0801A-32E2-4DB8-A33C-361B7535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C4B45-DAF5-4AA9-9D31-C1391A1A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E003E-DCFB-4F1E-8EBB-81D0DABE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1B85C-2D3A-43CF-9228-8F019BA5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A6F8C-A512-48FD-AFD8-93A2F87C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18C3E-A74D-480A-9F55-DCB4A680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B48FE-2DA1-43A6-BAD2-03AAED59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BE20D-54B8-45C9-AFD9-0EA6FF27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F9001-0B07-40C6-B064-06D51056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4AA-8AA8-492D-B9AA-11F19F90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BCB2A-4119-47B1-A31B-AF599D52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4DDA9-EF73-4084-8CB6-8E83C5C6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A87BE-F9BC-431B-B278-563BE6E0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EF447-5A9F-4592-A64B-AE932473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4D36B-61A4-4826-84F7-0F39D161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71A82-3A44-4C75-9204-FCAB9BC2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A8D37-1B35-4B15-8EAE-952B1A58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E0988-AE2B-4F61-BACE-66EBFBA2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FD1DF-CE68-44F8-A836-39FA273C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7ECDC-89A2-45A1-88E8-F8435840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DAB4-DDCC-456F-B569-B56B436695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19" name="Freeform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2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FD6C-216D-413F-99F4-EC77FB1CAE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E446-85F4-45FC-B4C4-5EB44FF88B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455F-D966-4286-ACAE-AAA504174C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084C-48D8-4B48-A43B-0FB5E4AA22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EEFA-9B16-4FB7-B244-A2177D6FB5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6549-BFDB-463B-A42D-C1B84693BD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9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9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8052-A8BE-47A5-82D5-8B489306E6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B467-4103-4330-B0F5-3ACF99010D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6" name="Freeform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9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9CE3-2626-4752-9991-844378FDD3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BBB6-FDD2-449E-9FEC-F3F9688E6E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AF27-82B2-4AC7-872E-3E6E42C5F0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41E9-57D6-4293-A2FD-247D478956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8A65-6937-4AD4-AE3A-E34B15169B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520B-5D6E-4D49-9DD4-10D42DE792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580E-2C11-4927-B306-48C5469254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249120" y="333360"/>
            <a:ext cx="8648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Skeletal muscle relaxant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Prof. Hanan Hagar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Rectangle 2" descr=""/>
          <p:cNvPicPr/>
          <p:nvPr/>
        </p:nvPicPr>
        <p:blipFill>
          <a:blip r:embed="rId1"/>
          <a:stretch/>
        </p:blipFill>
        <p:spPr>
          <a:xfrm>
            <a:off x="212760" y="-85680"/>
            <a:ext cx="8650080" cy="87156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70920" y="928800"/>
            <a:ext cx="89298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common suffix </a:t>
            </a:r>
            <a:r>
              <a:rPr b="1" lang="en-US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ium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onium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ed according to duration of action into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5200" indent="-4572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iu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5200" indent="-4572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a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5200" indent="-4572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on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5200" indent="-4572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oniu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5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Rectangle 2" descr=""/>
          <p:cNvPicPr/>
          <p:nvPr/>
        </p:nvPicPr>
        <p:blipFill>
          <a:blip r:embed="rId1"/>
          <a:stretch/>
        </p:blipFill>
        <p:spPr>
          <a:xfrm>
            <a:off x="420840" y="-42840"/>
            <a:ext cx="8242200" cy="82872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-tubocurar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type drug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on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act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iu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oniu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a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iu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214200" y="189000"/>
            <a:ext cx="86788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armacokinetics of competitive neuromuscular blockers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l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 orally &amp; taken parentrall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ross BBB (no central action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ross placent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depend upon kidney or live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cep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acurium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degraded by acetyl cholinesterase 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curium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spontaneous degradation in blood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79280" y="244440"/>
            <a:ext cx="878544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armacological actions of competitive NMB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relax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produce different effects on CV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lease histamine and produce hypotens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-Tubocurar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tracurium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vacu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produce tachycardi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.R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8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ancuron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7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7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7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7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108000" y="259920"/>
            <a:ext cx="8856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 – Tubocurarin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uration of action (1 - 2 h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d by kidney 60% - liver 40%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clinically due to adverse effect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mine releaser leading 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spasm (constriction of bronchial smooth muscles)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afer derivatives are now availabl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34920" y="213840"/>
            <a:ext cx="9072720" cy="65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racur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otent as cura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intermediate duration of action (30 min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ate histam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ransient hypotensio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d by non enzymatic chemical degradation in plasma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spontaneous hydrolysis at body pH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liver failure &amp; kidney failure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drug of choic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avoided in asthmatic patient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vacur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ly related to atracu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onset of actio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he shortest duration of action (15 min) of all competitive neuromuscular blocker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pseudo-cholinesteras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on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ation in patient with liver disease or genetic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holinesterase deficienc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alnutr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ent hypotension (due to histamine releas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142920" y="71280"/>
            <a:ext cx="885816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ncuron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 than curare (6 times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ed by the kidney ( 80 % 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uration of a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ide effects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, tachycard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epinephrine release from adrenergic nerve ending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 action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block parasympathetic action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0240">
              <a:lnSpc>
                <a:spcPct val="10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in patient with coronary diseas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curoniu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 than tubocurarine (6 times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mainly by liver and excreted in bi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duration of a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few side effec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47600" indent="-45720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istamine releas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47600" indent="-45720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achycardi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1000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Rectangle 2" descr=""/>
          <p:cNvPicPr/>
          <p:nvPr/>
        </p:nvPicPr>
        <p:blipFill>
          <a:blip r:embed="rId1"/>
          <a:stretch/>
        </p:blipFill>
        <p:spPr>
          <a:xfrm>
            <a:off x="493560" y="463680"/>
            <a:ext cx="8156880" cy="60948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179280" y="453960"/>
            <a:ext cx="89647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Depolarizing Neuromuscular Blocker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with nicotinic receptors  in post-junctional membrane of neuromuscular junc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iti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larization of motor end plat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cle twitching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ersisten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lariz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KM relax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249120" y="188640"/>
            <a:ext cx="8715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the end of this lecture, students should be able t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dentify classification of skeletal muscle relaxan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scribe the pharmacokinetics and dynamics of neuromuscular relaxan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cognize the clinical applications for neuromuscular blocker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Know the different types of spasmolytic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scribe the pharmacokinetics and dynamics of spasmolytic drug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cognize the clinical applications for spasmolytic drug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ccinylcholine (suxamethoniu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harmacological 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keletal muscl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tching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x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kalemia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es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VS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hythm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ye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aocular pressu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e to contraction of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-ocular muscl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893080" cy="56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armacokinetic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onset of action (1 min.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5-10 min.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pseudo-cholinesterase in plas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life is prolonged 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-cholinesterase deficienc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liver disease or malnutrition or genetic cholinesterase deficiency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64072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kalem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arrhythm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ocular pressure contraindicated in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auco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duce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lignant hypertherm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cause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ccinylcholine apne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deficiency of pseudo-cholinesteras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2" descr=""/>
          <p:cNvPicPr/>
          <p:nvPr/>
        </p:nvPicPr>
        <p:blipFill>
          <a:blip r:embed="rId1"/>
          <a:stretch/>
        </p:blipFill>
        <p:spPr>
          <a:xfrm>
            <a:off x="463680" y="189000"/>
            <a:ext cx="8242200" cy="8046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712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rare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her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tion that occurs upon administration of drugs a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 anesthesia e.g. halotha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muscular blockers e.g. succinylcho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bility to bind calcium by sarcoplasmic reticulum in some patients due to genetic defect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release, intense muscle spasm, hypertherm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8" name=""/>
          <p:cNvGraphicFramePr/>
          <p:nvPr/>
        </p:nvGraphicFramePr>
        <p:xfrm>
          <a:off x="179280" y="115920"/>
          <a:ext cx="8785440" cy="6408720"/>
        </p:xfrm>
        <a:graphic>
          <a:graphicData uri="http://schemas.openxmlformats.org/drawingml/2006/table">
            <a:tbl>
              <a:tblPr/>
              <a:tblGrid>
                <a:gridCol w="1944720"/>
                <a:gridCol w="1568520"/>
                <a:gridCol w="2482920"/>
                <a:gridCol w="278928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400" spc="-1" strike="noStrike">
                          <a:solidFill>
                            <a:srgbClr val="ff0000"/>
                          </a:solidFill>
                          <a:latin typeface="Monotype Corsiva"/>
                          <a:ea typeface="Times New Roman"/>
                        </a:rPr>
                        <a:t>Dr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u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400" spc="-1" strike="noStrike">
                          <a:solidFill>
                            <a:srgbClr val="ff0000"/>
                          </a:solidFill>
                          <a:latin typeface="Monotype Corsiva"/>
                          <a:ea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ocur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-2 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en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enal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cur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-2 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chycard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Renal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acu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ient hypoten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tamine rele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ntaneous degrad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in liver and kidney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cur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w side effec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ver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vacu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milar to atracuriu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bolized by pseudocholinester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oline esterase defici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cciny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erkalem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hythm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IO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VS Diseas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lauco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ver dise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868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ses of neuromuscular blocker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convuls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ctroshock therapy in psychotic patien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eve of tetanus and epileptic convuls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djuvant in general anesthesia to induce muscle relax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endotracheal intub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pedic surgery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and diseases that modify effects of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euromuscular blocker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asthenia grav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response to muscle relaxan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minoglycosides (e.g. streptomycin), magnesium sulphate, general anesthetics can potentiate or enhance the effect of neuromuscular blocker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18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Times New Roman"/>
              </a:rPr>
              <a:t>Spasmolytic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reduce muscle spasm in spastic stat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aclofen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ly acti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 agonist – acts on spinal cord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iazepam (Benzodiazepines)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ly acti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GABA action on CNS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antrolen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tion on skeletal muscl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antrolen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directly on skeletal muscl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nterferes with the release of calcium from its stores in  skeletal muscles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sarcoplasmic reticulum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nhibits excitation-contraction coupling in the muscle fib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, IV, (t ½ = 8 - 9 h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the treatment of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6476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stic state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6476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hermi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ses of spasmolytics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reduce muscle spasm in spastic stat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neurological disorders a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457200">
              <a:lnSpc>
                <a:spcPct val="100000"/>
              </a:lnSpc>
              <a:spcBef>
                <a:spcPts val="1800"/>
              </a:spcBef>
              <a:buClr>
                <a:srgbClr val="da1f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 cord injur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457200">
              <a:lnSpc>
                <a:spcPct val="100000"/>
              </a:lnSpc>
              <a:spcBef>
                <a:spcPts val="1800"/>
              </a:spcBef>
              <a:buClr>
                <a:srgbClr val="da1f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strok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457200">
              <a:lnSpc>
                <a:spcPct val="100000"/>
              </a:lnSpc>
              <a:spcBef>
                <a:spcPts val="1800"/>
              </a:spcBef>
              <a:buClr>
                <a:srgbClr val="da1f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pals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249120" y="188640"/>
            <a:ext cx="8648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Times New Roman"/>
              </a:rPr>
              <a:t>Skeletal muscle relaxant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drugs used to induce skeletal muscle relax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249120" y="188640"/>
            <a:ext cx="8648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Times New Roman"/>
              </a:rPr>
              <a:t>Classification of SKM relaxant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1800"/>
              </a:spcBef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eripherally ac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eletal muscle relaxant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1800"/>
              </a:spcBef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entrally ac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eletal muscle relaxants e.g. Baclofen – Diazepa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1800"/>
              </a:spcBef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irect ac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eletal muscle relaxants e.g. Dantrole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249120" y="390240"/>
            <a:ext cx="864864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Peripheral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cting SKM relaxant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Neuromuscular blocker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euromuscular blockers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muscular junction or motor end plate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ing to skeletal muscle relaxation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ms_illus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142920" y="390240"/>
            <a:ext cx="885816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Peripherally SKM relaxant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mechanism of action, they are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ed into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ve neuromuscular blocker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larizing neuromuscular blocker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71280" y="333360"/>
            <a:ext cx="896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ompetitive neuromuscular blocker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24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 with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icotinic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sent in postjunctional membrane of neuromuscular junction or motor end plat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24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epolarization of  postjunctional membrane (non depolarizing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16000" y="0"/>
            <a:ext cx="7632720" cy="1197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Neuromuscular Jun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3" descr="ach"/>
          <p:cNvPicPr/>
          <p:nvPr/>
        </p:nvPicPr>
        <p:blipFill>
          <a:blip r:embed="rId1">
            <a:lum bright="-28000"/>
          </a:blip>
          <a:stretch/>
        </p:blipFill>
        <p:spPr>
          <a:xfrm>
            <a:off x="0" y="129708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User</cp:lastModifiedBy>
  <dcterms:modified xsi:type="dcterms:W3CDTF">2015-11-30T23:28:50Z</dcterms:modified>
  <cp:revision>229</cp:revision>
  <dc:subject/>
  <dc:title>GENERAL PHARMACOLOGY</dc:title>
</cp:coreProperties>
</file>