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0.png" ContentType="image/png"/>
  <Override PartName="/ppt/media/image11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823A-6BBF-4586-9136-37BF9DCA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38E-CB3D-4642-83BF-769AD578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06B31-AAB9-402B-962D-FE50F50D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36D88-8BDD-4DD3-B17A-D5A0B9D5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45614F-ADE6-4FC0-891D-31D2AA60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230B0-B9C6-44E3-95C0-4EBD286A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CBAB0-0C9F-4280-B444-B3BA116F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9EAB2-469F-4FA7-B267-CAA965C2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5FD80-1303-4C74-A377-25C51AE5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8BBC7-7D50-435A-B83E-C7B37490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C70EEB-C18B-4A24-9617-BADCDE90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C7C9CB-A6E8-422B-BED2-C22C7FD5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25C-8570-41E4-8746-84552AA1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8E872-2313-4722-B346-6C2B47CF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D6CA8-C696-432D-87C8-EF1D24AD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7468A-F8F3-4009-AC07-99C40656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E39DE-005D-4CA9-9184-61B12513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0DAE9-A898-4EEC-8AE0-3F4FDF78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2E52B-FCCD-480A-8708-9A1925C5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5546E-3986-415D-BEBE-4B39A0A1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4C8BE-7948-4769-B77C-40948C21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F89064-0A07-4CBB-9B45-0A839AAD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78556-1E89-4349-8779-1D9F50333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6C61-0AFE-4C2A-9342-4A6F4916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0F8DF-84E1-4A8B-B30A-4BB9EC24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76FF0-1D32-45B4-8A58-8582DF54E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9E637-8679-457F-AB7B-0CA6E324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D39A3-C47B-451B-9CA7-09F72A5E3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5549F-3021-48C1-B9A2-8A668C6F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195DC-1876-4448-A021-D49123EE6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84B3E-F8FD-456F-ABD7-E907A020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62926-5B04-43FC-A4ED-BA0F802D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1192B4-0F32-475B-B3FF-225BDA88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180A6-631C-4217-B9DC-2C1870C1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63D5B-6AA0-4CA4-A795-FEFADB38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9F438-A9F0-4B0F-B708-48865AD2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E21F6-088C-4703-A6E5-E20A0189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D9CAB-D70E-4C7D-A541-36764DB8C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EF5D02-6B3C-4DC8-97EB-099A339E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812174-4624-432D-8FB0-9BA5105B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F98BD-31EC-41BB-9984-AF83293C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43E20-4CD3-4767-BEE3-A9288475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40461-4EB2-462B-BDF6-86AB3C4B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98AE3-86E6-4860-BAA8-C3A1597A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581BA-3978-4B9F-8B7D-2E8C9F65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C07BB-8834-4C40-ABFF-232EC1A3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533FE-D4C2-4BF7-98BD-8FE1129B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49F65-5E67-45B7-B319-478D1F4B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25D60-62D9-4DA3-B212-8728749A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D323E-FA41-4F2C-B273-9C517D77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59D10-FAEF-4548-BE5D-9B269DB8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C6A7A-3B6F-45BB-9587-353CB23C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DD15B-DC67-48CD-A170-BD381565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9B309-5C4E-4D5D-99E4-8B1729CA7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EA211-8691-47A4-A941-768C2C1C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182D3-F607-4613-A086-EF957708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1949-C2BF-4484-9BF1-52B43061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C51F5-F376-490A-9ECD-E30F20B7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173603-E8F2-408A-874F-11376167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27C913-A06D-48EE-9657-60A03A12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B73001-91AF-428C-9F91-BF1090C0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79B3BF-2F3E-4D93-B8EB-FDDD1813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4ECA6-40E1-4CFC-9F7E-0436C372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AFC5A-1E23-403E-8ECB-6ECA710F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67545-EEB4-42A6-8A0F-BC910B7A2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AA526-C993-4FC2-A56D-95D634B3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4279F0-DB97-44AB-90F3-E685B455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8735-6E56-49D3-9749-E2CDEFE2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0BD92-F716-496E-B6D8-BD1B1097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AA349A-6E3D-4B10-A74A-43A30485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E53A1-0129-47D9-AE47-C3902EAA5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6F23A-66B8-4A06-9A63-AB492F81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362D8F-7E25-43D7-A596-413CE0CC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E8C916-7BDC-445F-BFE7-FC72D7E8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2E3D8-FBA6-433C-BC24-C3CF221B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CD8383-F23E-48D1-9332-2EC0E4B57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4D369-7120-4297-891B-7692D865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F123AD-05F9-4E80-A382-2096487D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2DC3-CC33-43AD-852D-48D08382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7790F6-BB31-49E8-B20B-1C02474D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5E3AA8-A18E-40C1-A96E-1E1BB2C2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A2EF82-5617-46D5-BBE9-F1F6A2E1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62B7CB-ABFA-46E2-86DC-5932E38C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027798-45C1-4F90-B4DF-FB62DD2F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5BC141-DFF8-4D22-8283-769633E9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EB161F-D36A-4DB3-BB20-E1381F53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3719B7-E29F-4D17-BDF4-D1C73152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6D8A5-370D-4C12-BA9A-7BB302AE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D0466-8836-41DE-A1B0-9D3D7F8A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462D-280E-45B6-AC9A-2BE448C1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7B1A30-DDD4-4C17-9A68-241091FB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05501B-2960-48E2-A22A-606B47C7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07D78-8C72-496C-8711-C8D714BA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0523CC-D887-42CA-A694-744BE240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39308-07F4-401B-90B6-E97809CC2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3DB7D3-2EAD-4C84-A6CC-2E9C1947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23A814-C5CE-4D68-9A27-1BEB2F16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AB8785-CA31-4F8C-A02F-7C930C4F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D87968-FF9B-4AF8-844A-FE6A9AB5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A7F4C0-438A-4D18-9A36-1905ACF7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A60C-B21D-4673-8860-4948FD29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EE00DD-85F2-48A2-A132-00412D46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9FC04F-88D8-45E1-8B98-D4D75611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4485DA-211F-4330-99B5-A1FD6E320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4E3-6976-4BDF-8834-902F28DE6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9436-37BB-41BB-9639-8A6E6E45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32D1-080B-41C4-8CD0-EBD82619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790F-5799-48D8-AC50-63FF3981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B146-05B5-4FC9-8DB1-94AB15A9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B118-FC58-471A-9850-B6FCCFD0C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D273F-9B28-419D-9F41-485B881E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91172-FDA4-47AF-97EC-EB6CF37A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F478-1363-49E7-9D31-70C6C639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1ECCA-A11D-4B47-8491-B8120FC3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29F98-1552-481A-A7BF-3E51454E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FF3-11F1-4E13-8EDA-F98AFB46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E73CD-EB8C-4870-9C4A-0DDBF4F7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2D65B-8254-41EB-8A46-5D1F8380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28C14-02D3-4E91-AA75-7735B412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C1011-791C-4382-BC76-4519B199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2DB73-5175-4E01-96F5-268BEA81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EB0CA-EF5D-4505-9BA4-F2B866C9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20D82-78D1-478E-BEAF-248FA67B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3622D-01FE-4937-BEBC-2C2F9AFF2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6EEF8-736E-4CC7-A76A-D19634F0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7E8FD-D427-46C9-93D3-4CD3A746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639-9554-43C2-A9BB-A150AA68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8F823-0F37-4BF1-B310-47AE7A1B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4CFC5-BD44-487C-B598-14ED77AE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5B66C-B9BF-4416-88C4-5AD72E26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6209-0487-46BC-8295-11B39117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50111-46A0-4EC3-BF72-CD8CF471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6FB4B-E68D-48F8-BC33-02B529D6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F0EDF-814C-471A-89EA-F670B02A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84597-594B-4240-91EC-4C0E2E87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F4CCC-812D-41CC-9C94-F5A113A9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2F90E-E9A4-4192-9432-61D78C8B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2B7-C84F-49B7-96C8-6EEF7496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57EA5-786D-46F3-BE06-E7C40DE5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B3A61-32D9-420E-91CC-A0DDE9FD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08444-C080-466E-8200-71B0A4D4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81093-7F49-42D6-B80B-502A2E6E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555F1-EA19-49E0-96F0-BE564573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2BDA4-022D-4A90-8C70-63CD8FB3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22030-F88A-4DAC-A9C4-FC70970F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751DB-F1F2-48E5-9F47-58A64274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CC018-610B-4ACE-AB4D-2E118BB4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0D5A7-956D-4B37-B35C-13930280D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EEC-BC4D-4E31-94FB-28395E96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B11E8-D724-4628-B595-7D3BA34F9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2A77F-73D0-441A-9C2E-0769443C5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C032A-DD2F-484A-B421-DB88AA27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60766-3857-48B1-9056-E7B73CB4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664E9-D8D3-4179-8064-B9BCF6B0D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9FF6E-E141-4985-9D73-011CB0FF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49A6D-38BA-46EB-AE16-FA1728EC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19984-CD42-4C2C-A7CF-DA0CB4EE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4F219-17F1-430A-8CBA-F6C6467F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2537D-B608-4A2E-A708-7CF364F9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4747-528E-4BA2-9E88-294E0898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5040D-4748-40AF-BBFB-60165E9B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B5D25-3D18-466E-8061-9C61B33B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82E4A-B92A-4A8A-9857-B562EC25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C76EA-9E25-4293-B4FE-B1C5A197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599D5-D148-48A6-B29E-5B2CE03F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26BDD-45A1-4724-8702-D190703A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5837E-5B36-4571-ABC5-52642402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3C080-922F-4136-AA61-5FFAB260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0A829-FAD7-4309-9C51-9EF851A0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85E22-BE02-443D-B26A-1482170E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2B7-A908-4A09-9B91-5C17EFCE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0958E-F767-41DA-8495-C4D5A27E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F109C-C3FB-497C-81F7-88CADAB5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0697C-5BA7-4AC1-94F0-BBA3F1CE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82FD4-89FA-42BC-8D21-60281DF3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EBB3E-816B-4428-8709-13E69891C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76023-66FB-44F7-BA48-52D9DB91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B04F4-2146-4FDF-81D5-6002F0BB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8BE9C-6E81-4C6B-BC31-872935D6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E2331-D8CA-4F70-95BB-389FB594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6D7C5-4DC8-4D36-BE7B-DCC11DBE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F50-416E-4769-AAD5-3B790362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23F82-F849-404B-B885-4FC030BE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BF89D-9B4C-4B40-BE2A-144C15F2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0922D-4891-4B73-95BC-DA950EC9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B624A3-4987-4712-A95B-BF7B7D9C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FFD9E-CAD0-4AC9-88DA-5071AB65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43024-2FEA-48DE-A6F6-E076B504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327F3B-7350-4FD4-91EE-C1319045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666ED-6B9D-4E82-9C46-179343A0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1C3D4-2303-40B8-8153-D01093E0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E2E7B-B334-414A-85F5-4A913FF58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EB40-7982-4381-8C4C-1B4B5B691D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19" name="Freeform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422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4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60E2-20DE-498C-9E18-6ABD437A25E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2EA9-FC07-4D88-946C-9753D1101D5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B3E9-7EAE-451A-8ADF-16CCFB911E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C371-0530-4DD6-BBA9-E7923B5647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0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4040-7BDC-4830-BA48-05F533BBAC4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0314-BFB3-44F0-BFC9-4C5B467206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94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6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97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8616-F522-400A-B040-4F9133DAA37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EE1E-2FB4-454C-901E-4480CC9D5F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6" name="Freeform 15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Freef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9" name="Freef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1" name="Straight Connector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4AFF-9F09-4CBF-A72B-42E6E5F734E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6627-605E-4634-BFBD-0E518D0CC6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BAEE-5B2D-4E87-B6D6-24C61FEF38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94D6-D06A-4432-8506-7E2A954269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1CDB-8A5A-4FCC-BFF8-056FD9F970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D9CB-2A86-4BD0-A990-EC87139D1E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Right Triangle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1" name="Right Triangle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3" name="Straight Connector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4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5B28-9F29-4619-A4C0-EA516F016E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/>
          </p:nvPr>
        </p:nvSpPr>
        <p:spPr>
          <a:xfrm>
            <a:off x="249120" y="333360"/>
            <a:ext cx="864864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Skeletal muscle relaxants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Prof. Hanan Hagar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Rectangle 2" descr=""/>
          <p:cNvPicPr/>
          <p:nvPr/>
        </p:nvPicPr>
        <p:blipFill>
          <a:blip r:embed="rId1"/>
          <a:stretch/>
        </p:blipFill>
        <p:spPr>
          <a:xfrm>
            <a:off x="212760" y="-85680"/>
            <a:ext cx="8650080" cy="871560"/>
          </a:xfrm>
          <a:prstGeom prst="rect">
            <a:avLst/>
          </a:prstGeom>
          <a:ln w="0">
            <a:noFill/>
          </a:ln>
        </p:spPr>
      </p:pic>
      <p:sp>
        <p:nvSpPr>
          <p:cNvPr id="751" name="PlaceHolder 1"/>
          <p:cNvSpPr>
            <a:spLocks noGrp="1"/>
          </p:cNvSpPr>
          <p:nvPr>
            <p:ph/>
          </p:nvPr>
        </p:nvSpPr>
        <p:spPr>
          <a:xfrm>
            <a:off x="70920" y="928800"/>
            <a:ext cx="89298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the common suffix </a:t>
            </a:r>
            <a:r>
              <a:rPr b="1" lang="en-US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ium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onium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ed according to duration of action into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5200" indent="-4572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a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ium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5200" indent="-4572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va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5200" indent="-4572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on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5200" indent="-4572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onium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5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10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7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7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7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7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7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Rectangle 2" descr=""/>
          <p:cNvPicPr/>
          <p:nvPr/>
        </p:nvPicPr>
        <p:blipFill>
          <a:blip r:embed="rId1"/>
          <a:stretch/>
        </p:blipFill>
        <p:spPr>
          <a:xfrm>
            <a:off x="420840" y="-42840"/>
            <a:ext cx="8242200" cy="828720"/>
          </a:xfrm>
          <a:prstGeom prst="rect">
            <a:avLst/>
          </a:prstGeom>
          <a:ln w="0">
            <a:noFill/>
          </a:ln>
        </p:spPr>
      </p:pic>
      <p:sp>
        <p:nvSpPr>
          <p:cNvPr id="753" name="PlaceHolder 1"/>
          <p:cNvSpPr>
            <a:spLocks noGrp="1"/>
          </p:cNvSpPr>
          <p:nvPr>
            <p:ph/>
          </p:nvPr>
        </p:nvSpPr>
        <p:spPr>
          <a:xfrm>
            <a:off x="0" y="928800"/>
            <a:ext cx="9144000" cy="55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-tubocurarin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otype drug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on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acting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a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ium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onium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act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va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urium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7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7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7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214200" y="189000"/>
            <a:ext cx="86788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armacokinetics of competitive neuromuscular blockers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ol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ompoun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 orally &amp; taken parentrall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cross BBB (no central action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cross placent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0000"/>
              </a:lnSpc>
              <a:spcBef>
                <a:spcPts val="400"/>
              </a:spcBef>
              <a:buClr>
                <a:srgbClr val="c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depend upon kidney or liver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cep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vacurium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degraded by acetyl cholinesterase 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acurium 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spontaneous degradation in blood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7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7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7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7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7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7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7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7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179280" y="244440"/>
            <a:ext cx="8785440" cy="63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armacological actions of competitive NMB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relax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produce different effects on CV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lease histamine and produce hypotens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-Tubocurar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tracurium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vacur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 produce tachycardia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.R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8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ancuron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7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7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1000"/>
                                        <p:tgtEl>
                                          <p:spTgt spid="7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1000"/>
                                        <p:tgtEl>
                                          <p:spTgt spid="7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7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1000"/>
                                        <p:tgtEl>
                                          <p:spTgt spid="7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7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7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108000" y="259920"/>
            <a:ext cx="8856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 – Tubocurarin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uration of action (1 - 2 h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d by kidney 60% - liver 40%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 clinically due to adverse effect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amine releaser leading to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spasm (constriction of bronchial smooth muscles).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ens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safer derivatives are now availabl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7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7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7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7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7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7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7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7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34920" y="213840"/>
            <a:ext cx="9072720" cy="652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tracuriu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otent as curar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intermediate duration of action (30 min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erate histamin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ransient hypotension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d by non enzymatic chemical degradation in plasma </a:t>
            </a:r>
            <a:r>
              <a:rPr b="0" i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spontaneous hydrolysis at body pH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liver failure &amp; kidney failure </a:t>
            </a:r>
            <a:r>
              <a:rPr b="0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drug of choic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5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avoided in asthmatic patients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vacuriu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ly related to atracuriu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onset of actio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he shortest duration of action (15 min) of all competitive neuromuscular blocker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pseudo-cholinesteras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ong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ation in patient with liver disease or genetic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holinesterase deficienc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alnutri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ent hypotension (due to histamine releas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142920" y="71280"/>
            <a:ext cx="885816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ncuroniu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 than curare (6 times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ed by the kidney ( 80 % 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uration of a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ide effects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ension, tachycard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epinephrine release from adrenergic nerve ending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 action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block parasympathetic action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0240">
              <a:lnSpc>
                <a:spcPct val="100000"/>
              </a:lnSpc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in patient with coronary diseas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7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7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7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7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7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7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ecuronium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 than tubocurarine (6 times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mainly by liver and excreted in bil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duration of ac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few side effect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47600" indent="-45720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istamine releas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1047600" indent="-457200">
              <a:lnSpc>
                <a:spcPct val="150000"/>
              </a:lnSpc>
              <a:buClr>
                <a:srgbClr val="c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tachycardia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0" dur="10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7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1000"/>
                                        <p:tgtEl>
                                          <p:spTgt spid="7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1000"/>
                                        <p:tgtEl>
                                          <p:spTgt spid="7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1000"/>
                                        <p:tgtEl>
                                          <p:spTgt spid="7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1000"/>
                                        <p:tgtEl>
                                          <p:spTgt spid="7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1000"/>
                                        <p:tgtEl>
                                          <p:spTgt spid="7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Rectangle 2" descr=""/>
          <p:cNvPicPr/>
          <p:nvPr/>
        </p:nvPicPr>
        <p:blipFill>
          <a:blip r:embed="rId1"/>
          <a:stretch/>
        </p:blipFill>
        <p:spPr>
          <a:xfrm>
            <a:off x="493560" y="463680"/>
            <a:ext cx="8156880" cy="60948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179280" y="453960"/>
            <a:ext cx="896472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Depolarizing Neuromuscular Blockers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action  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with nicotinic receptors  in post-junctional membrane of neuromuscular junc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nitia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larization of motor end plat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cle twitching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ersisten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lariza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KM relax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249120" y="188640"/>
            <a:ext cx="8715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the end of this lecture, students should be able to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dentify classification of skeletal muscle relaxant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scribe the pharmacokinetics and dynamics of neuromuscular relaxant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cognize the clinical applications for neuromuscular blocker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Know the different types of spasmolytic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escribe the pharmacokinetics and dynamics of spasmolytic drug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cognize the clinical applications for spasmolytic drug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ccinylcholine (suxamethoniu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harmacological Action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keletal muscles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itching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x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yperkalemia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diac arres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VS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hythmi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ye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aocular pressu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e to contraction of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a-ocular muscle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1000"/>
                                        <p:tgtEl>
                                          <p:spTgt spid="7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1000"/>
                                        <p:tgtEl>
                                          <p:spTgt spid="7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1000"/>
                                        <p:tgtEl>
                                          <p:spTgt spid="7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0560" y="213840"/>
            <a:ext cx="8893080" cy="56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armacokinetics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onset of action (1 min.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5-10 min.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pseudo-cholinesterase in plasm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 life is prolonged i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-cholinesterase deficienc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liver disease or malnutrition or genetic cholinesterase deficiency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640720" cy="58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ide Effect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kalem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arrhythmia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ocular pressure contraindicated in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laucom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roduce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lignant hypertherm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18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cause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ccinylcholine apne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deficiency of pseudo-cholinesteras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1000"/>
                                        <p:tgtEl>
                                          <p:spTgt spid="7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1000"/>
                                        <p:tgtEl>
                                          <p:spTgt spid="7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1000"/>
                                        <p:tgtEl>
                                          <p:spTgt spid="7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7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1000"/>
                                        <p:tgtEl>
                                          <p:spTgt spid="7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7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Rectangle 2" descr=""/>
          <p:cNvPicPr/>
          <p:nvPr/>
        </p:nvPicPr>
        <p:blipFill>
          <a:blip r:embed="rId1"/>
          <a:stretch/>
        </p:blipFill>
        <p:spPr>
          <a:xfrm>
            <a:off x="463680" y="189000"/>
            <a:ext cx="8242200" cy="80460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324000" y="1125360"/>
            <a:ext cx="8712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rare 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nheri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dition that occurs upon administration of drugs a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2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 anesthesia e.g. halotha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20000"/>
              </a:lnSpc>
              <a:spcBef>
                <a:spcPts val="601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muscular blockers e.g. succinylcholi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bility to bind calcium by sarcoplasmic reticulum in some patients due to genetic defect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2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release, intense muscle spasm, hypertherm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1000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1000"/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8" name=""/>
          <p:cNvGraphicFramePr/>
          <p:nvPr/>
        </p:nvGraphicFramePr>
        <p:xfrm>
          <a:off x="179280" y="115920"/>
          <a:ext cx="8785440" cy="6408720"/>
        </p:xfrm>
        <a:graphic>
          <a:graphicData uri="http://schemas.openxmlformats.org/drawingml/2006/table">
            <a:tbl>
              <a:tblPr/>
              <a:tblGrid>
                <a:gridCol w="1944720"/>
                <a:gridCol w="1568520"/>
                <a:gridCol w="2482920"/>
                <a:gridCol w="2789280"/>
              </a:tblGrid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400" spc="-1" strike="noStrike">
                          <a:solidFill>
                            <a:srgbClr val="ff0000"/>
                          </a:solidFill>
                          <a:latin typeface="Monotype Corsiva"/>
                          <a:ea typeface="Times New Roman"/>
                        </a:rPr>
                        <a:t>Dru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u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de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400" spc="-1" strike="noStrike">
                          <a:solidFill>
                            <a:srgbClr val="ff0000"/>
                          </a:solidFill>
                          <a:latin typeface="Monotype Corsiva"/>
                          <a:ea typeface="Times New Roman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ocura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-2 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tens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enal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curo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-2 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chycard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Renal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racu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 mi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ient hypotens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tamine rele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ntaneous degrad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in liver and kidney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curo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 mi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w side effec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ver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120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vacu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 mi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milar to atracuriu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bolized by pseudocholinester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oline esterase defici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cciny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 mi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erkalem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hythm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IO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VS Diseas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laucom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ver dise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324000" y="0"/>
            <a:ext cx="86868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Uses of neuromuscular blockers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convulsio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ctroshock therapy in psychotic patient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eve of tetanus and epileptic convuls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djuvant in general anesthesia to induce muscle relax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endotracheal intub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119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pedic surgery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7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7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7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7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7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7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rugs and diseases that modify effects of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euromuscular blockers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yasthenia grav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response to muscle relaxant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rug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minoglycosides (e.g. streptomycin), magnesium sulphate, general anesthetics can potentiate or enhance the effect of neuromuscular blocker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7184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Times New Roman"/>
              </a:rPr>
              <a:t>Spasmolytics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reduce muscle spasm in spastic stat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Baclofen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ly actin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 agonist – acts on spinal cord.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iazepam (Benzodiazepines)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ly acting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GABA action on CNS.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Dantrolene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ction on skeletal muscl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1000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antrolen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action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directly on skeletal muscl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nterferes with the release of calcium from its stores in  skeletal muscles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sarcoplasmic reticulum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nhibits excitation-contraction coupling in the muscle fibe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, IV, (t ½ = 8 - 9 h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650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the treatment of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6476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stic state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647640" indent="-255600">
              <a:lnSpc>
                <a:spcPct val="100000"/>
              </a:lnSpc>
              <a:spcBef>
                <a:spcPts val="6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hermi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7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500"/>
                                        <p:tgtEl>
                                          <p:spTgt spid="7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5690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Uses of spasmolytics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reduce muscle spasm in spastic stat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d by neurological disorders as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457200">
              <a:lnSpc>
                <a:spcPct val="100000"/>
              </a:lnSpc>
              <a:spcBef>
                <a:spcPts val="1800"/>
              </a:spcBef>
              <a:buClr>
                <a:srgbClr val="da1f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 cord injur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457200">
              <a:lnSpc>
                <a:spcPct val="100000"/>
              </a:lnSpc>
              <a:spcBef>
                <a:spcPts val="1800"/>
              </a:spcBef>
              <a:buClr>
                <a:srgbClr val="da1f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al strok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371600" indent="-457200">
              <a:lnSpc>
                <a:spcPct val="100000"/>
              </a:lnSpc>
              <a:spcBef>
                <a:spcPts val="1800"/>
              </a:spcBef>
              <a:buClr>
                <a:srgbClr val="da1f28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al pals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1000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249120" y="188640"/>
            <a:ext cx="8648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Times New Roman"/>
              </a:rPr>
              <a:t>Skeletal muscle relaxants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drugs used to induce skeletal muscle relaxation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7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249120" y="188640"/>
            <a:ext cx="86486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00000"/>
                </a:solidFill>
                <a:latin typeface="Times New Roman"/>
              </a:rPr>
              <a:t>Classification of SKM relaxants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1800"/>
              </a:spcBef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Peripherally act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eletal muscle relaxant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1800"/>
              </a:spcBef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Centrally act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eletal muscle relaxants e.g. Baclofen – Diazepa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1800"/>
              </a:spcBef>
              <a:buClr>
                <a:srgbClr val="c00000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Direct act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eletal muscle relaxants e.g. Dantrole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7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249120" y="390240"/>
            <a:ext cx="8648640" cy="61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Peripherall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cting SKM relaxant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(Neuromuscular blockers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euromuscular blockers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blocking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muscular junction or motor end plate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ing to skeletal muscle relaxation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10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1000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4" descr="ms_illus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/>
          </p:nvPr>
        </p:nvSpPr>
        <p:spPr>
          <a:xfrm>
            <a:off x="142920" y="390240"/>
            <a:ext cx="8858160" cy="61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assification of Peripherally SKM relaxant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rding to mechanism of action, they are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ed into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itive neuromuscular blockers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larizing neuromuscular blockers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00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71280" y="333360"/>
            <a:ext cx="896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ompetitive neuromuscular blockers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action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24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ete with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c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icotinic recepto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sent in postjunctional membrane of neuromuscular junction or motor end plat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2401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epolarization of  postjunctional membrane (non depolarizing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7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16000" y="0"/>
            <a:ext cx="7632720" cy="1197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Lucida Sans Unicode"/>
              </a:rPr>
              <a:t>Neuromuscular Junc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Picture 3" descr="ach"/>
          <p:cNvPicPr/>
          <p:nvPr/>
        </p:nvPicPr>
        <p:blipFill>
          <a:blip r:embed="rId1">
            <a:lum bright="-28000"/>
          </a:blip>
          <a:stretch/>
        </p:blipFill>
        <p:spPr>
          <a:xfrm>
            <a:off x="0" y="129708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User</cp:lastModifiedBy>
  <dcterms:modified xsi:type="dcterms:W3CDTF">2015-11-30T23:28:50Z</dcterms:modified>
  <cp:revision>229</cp:revision>
  <dc:subject/>
  <dc:title>GENERAL PHARMACOLOGY</dc:title>
</cp:coreProperties>
</file>