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7.gif" ContentType="image/gif"/>
  <Override PartName="/ppt/media/image16.png" ContentType="image/png"/>
  <Override PartName="/ppt/media/image14.png" ContentType="image/png"/>
  <Override PartName="/ppt/media/image13.png" ContentType="image/png"/>
  <Override PartName="/ppt/media/image10.png" ContentType="image/png"/>
  <Override PartName="/ppt/media/image2.png" ContentType="image/png"/>
  <Override PartName="/ppt/media/image5.png" ContentType="image/png"/>
  <Override PartName="/ppt/media/whoosh.wav" ContentType="audio/x-wav"/>
  <Override PartName="/ppt/media/image15.png" ContentType="image/png"/>
  <Override PartName="/ppt/media/image3.jpeg" ContentType="image/jpeg"/>
  <Override PartName="/ppt/media/laser.wav" ContentType="audio/x-wav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93A-1326-4842-A93F-1937AD7A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C834-9064-4F7B-9834-957D0295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3E7D-F9FB-4112-82C5-99A79FDD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E30-F6BC-496B-A4D7-BF623B3F5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C65-D2AF-400E-8860-AEA91917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7EA0-2A0B-43E7-871F-35B6BFCD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05D2-B1D9-4CBA-9C54-DA230A63B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F62-5D1E-4B15-846A-E6FD637C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AC3-8FD7-46B0-8D46-59C2D16C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32D-CD39-44DF-8E2D-DACD1100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7B46-3C9E-49A6-9FF4-9BF8884F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34B3-C096-42FC-8654-03242A54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50000">
              <a:srgbClr val="ffffff"/>
            </a:gs>
            <a:gs pos="100000">
              <a:srgbClr val="fdea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4E60-0888-4FC5-8A3C-4F2195D00E23}" type="slidenum">
              <a:rPr b="0" lang="ar-EG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1187280" y="1628640"/>
            <a:ext cx="705672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CHOLINERG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logo"/>
          <p:cNvPicPr/>
          <p:nvPr/>
        </p:nvPicPr>
        <p:blipFill>
          <a:blip r:embed="rId1"/>
          <a:stretch/>
        </p:blipFill>
        <p:spPr>
          <a:xfrm>
            <a:off x="7924680" y="228600"/>
            <a:ext cx="908280" cy="1066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graphicFrame>
        <p:nvGraphicFramePr>
          <p:cNvPr id="43" name=""/>
          <p:cNvGraphicFramePr/>
          <p:nvPr/>
        </p:nvGraphicFramePr>
        <p:xfrm>
          <a:off x="1143000" y="3733920"/>
          <a:ext cx="7086600" cy="1395360"/>
        </p:xfrm>
        <a:graphic>
          <a:graphicData uri="http://schemas.openxmlformats.org/drawingml/2006/table">
            <a:tbl>
              <a:tblPr/>
              <a:tblGrid>
                <a:gridCol w="7086600"/>
              </a:tblGrid>
              <a:tr h="13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. Hanan Hag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rmacology Un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cal Colle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ype II receptors : G-protein linked recep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ve subclasses ;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excitatory or stimulatory in functio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stimul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re inhibitory in functio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inhibi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ed at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l target organ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re innervated by parasympathetic fibers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.g, heart, CVS, eye, bladder, etc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80880" y="228600"/>
            <a:ext cx="7920000" cy="882720"/>
          </a:xfrm>
          <a:prstGeom prst="rect">
            <a:avLst/>
          </a:prstGeom>
          <a:solidFill>
            <a:srgbClr val="dba39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arinic recep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28600" y="692280"/>
          <a:ext cx="8812080" cy="6073560"/>
        </p:xfrm>
        <a:graphic>
          <a:graphicData uri="http://schemas.openxmlformats.org/drawingml/2006/table">
            <a:tbl>
              <a:tblPr/>
              <a:tblGrid>
                <a:gridCol w="1573200"/>
                <a:gridCol w="3032280"/>
                <a:gridCol w="4206600"/>
              </a:tblGrid>
              <a:tr h="48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307"/>
                          </a:solidFill>
                          <a:latin typeface="Times New Roman"/>
                          <a:ea typeface="Times New Roman"/>
                        </a:rPr>
                        <a:t>Recep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307"/>
                          </a:solidFill>
                          <a:latin typeface="Times New Roman"/>
                          <a:ea typeface="Times New Roman"/>
                        </a:rPr>
                        <a:t>Loc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307"/>
                          </a:solidFill>
                          <a:latin typeface="Times New Roman"/>
                          <a:ea typeface="Times New Roman"/>
                        </a:rPr>
                        <a:t>Pharmacological 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1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xcita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2" marL="35892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N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2" marL="358920"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stric parietal cel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NS exci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astric acid secre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2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hibi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r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diac inhib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Bradycardi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Excita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ocrine gl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oth muscles (GIT, urinary tract, bronchial muscles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scular endothel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retion of gl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oth muscle contr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sodilatation (via nitric oxid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4 &amp; M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mory, arousal, attention and analges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49"/>
          <p:cNvSpPr/>
          <p:nvPr/>
        </p:nvSpPr>
        <p:spPr>
          <a:xfrm>
            <a:off x="457200" y="0"/>
            <a:ext cx="7920000" cy="685800"/>
          </a:xfrm>
          <a:prstGeom prst="rect">
            <a:avLst/>
          </a:prstGeom>
          <a:solidFill>
            <a:srgbClr val="dba39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arinic recep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6320" y="762120"/>
          <a:ext cx="8991360" cy="5410080"/>
        </p:xfrm>
        <a:graphic>
          <a:graphicData uri="http://schemas.openxmlformats.org/drawingml/2006/table">
            <a:tbl>
              <a:tblPr/>
              <a:tblGrid>
                <a:gridCol w="4486320"/>
                <a:gridCol w="4505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otinic recep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al cholinocep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carinic recep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pheral cholinocep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most excita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itatory or inhibi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utonomic ganglia N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mpathetic &amp; parasympathetic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timulation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 all peripheral organs innervated by postganglionic parasympathetic fib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drenal medulla N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release of catecholamines (adrenaline &amp; noradrenalin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rt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bradycardia, M2)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ocrine glands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secretion, M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keletal muscles N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ontr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ooth muscles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(contraction, M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T, urinary tract, bronchial muscles, uteru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2"/>
          <p:cNvSpPr/>
          <p:nvPr/>
        </p:nvSpPr>
        <p:spPr>
          <a:xfrm>
            <a:off x="684360" y="76320"/>
            <a:ext cx="7920000" cy="501480"/>
          </a:xfrm>
          <a:prstGeom prst="rect">
            <a:avLst/>
          </a:prstGeom>
          <a:solidFill>
            <a:srgbClr val="dba39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ergic or parasympathetic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3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that are similar to the effects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sympathetic system activ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icotinic action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uscarinic 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152280" y="122400"/>
            <a:ext cx="8839440" cy="868320"/>
          </a:xfrm>
          <a:prstGeom prst="rect">
            <a:avLst/>
          </a:prstGeom>
          <a:solidFill>
            <a:srgbClr val="dba39d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logical actions of cholinergic dr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3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Skeletal muscle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ncentration </a:t>
            </a:r>
            <a:r>
              <a:rPr b="1" lang="en-US" sz="2800" spc="-1" strike="noStrike">
                <a:solidFill>
                  <a:srgbClr val="cc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scle contr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concentration </a:t>
            </a:r>
            <a:r>
              <a:rPr b="1" lang="en-US" sz="2800" spc="-1" strike="noStrike">
                <a:solidFill>
                  <a:srgbClr val="cc00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istent depolarization &amp; relaxation (depolarization block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Stimulation of Autonomic ganglia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sympathetic&amp; parasympathetic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cc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Stimulation of adrenal medulla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ease of catecholamine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drenaline &amp; Noradrenalin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152280"/>
            <a:ext cx="820908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icotinic a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324000" y="109440"/>
            <a:ext cx="8208720" cy="576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carinic actions</a:t>
            </a: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0920" y="785880"/>
          <a:ext cx="8713800" cy="5995800"/>
        </p:xfrm>
        <a:graphic>
          <a:graphicData uri="http://schemas.openxmlformats.org/drawingml/2006/table">
            <a:tbl>
              <a:tblPr/>
              <a:tblGrid>
                <a:gridCol w="1882800"/>
                <a:gridCol w="68310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Org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Cholinergic 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78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Arial Unicode MS"/>
                        </a:rPr>
                        <a:t>Ey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traction of circular muscle of iris (miosis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)(M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traction of ciliary muscles for near vision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(M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Decrease in intraocular pressure (IOP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Arial Unicode MS"/>
                        </a:rPr>
                        <a:t>Hear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Arial Unicode MS"/>
                        </a:rPr>
                        <a:t>endotheli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bradycardia ( decrease in heart rate )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(M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5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elease of NO (EDRF)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Lu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striction of bronchial smooth muscl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crease in bronchial secretion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M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320"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G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rtl="1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crease in motility (peristalsi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crease in secre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elaxation of sphincter  -defecation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M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3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Arial Unicode MS"/>
                        </a:rPr>
                        <a:t>Urinary bladd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Contraction of muscle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elaxation of sphincter 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M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rin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48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Times New Roman"/>
                          <a:ea typeface="Times New Roman"/>
                        </a:rPr>
                        <a:t>Exocrine gland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crease of secretions of exocrine gland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rtl="1">
                        <a:lnSpc>
                          <a:spcPct val="7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weat, saliva, lacrimal, bronchial, intestinal secretions </a:t>
                      </a:r>
                      <a:r>
                        <a:rPr b="1" lang="en-US" sz="2200" spc="-1" strike="noStrike">
                          <a:solidFill>
                            <a:srgbClr val="cc0066"/>
                          </a:solidFill>
                          <a:latin typeface="Arial Unicode MS"/>
                          <a:ea typeface="Arial Unicode MS"/>
                        </a:rPr>
                        <a:t>M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nervous5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337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3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rasympathetic innervates th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strictor pupill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circular muscles of iris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ch is important for adju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upil in response to change in light intensity &amp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ulating the intraocular pressur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04920" y="152280"/>
            <a:ext cx="198108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 rtl="1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Y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5791320" y="2895480"/>
            <a:ext cx="2971800" cy="2590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304920" y="45720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ciliary muscle contracts, the len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bulg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r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s parasympathetic reflex is essential to 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accommodate for near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5773680" cy="27432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504d"/>
          </a:solidFill>
          <a:ln w="2844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the end of this lecture the student should k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tion the different types, locations and actions of cholinergic recepto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mechanism of action of direct acting cholinomimeti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pharmacokinetics of cholinergic drug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pharmacological actions and uses of cholinomimeti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10"/>
          <p:cNvPicPr/>
          <p:nvPr/>
        </p:nvPicPr>
        <p:blipFill>
          <a:blip r:embed="rId1"/>
          <a:srcRect l="0" t="0" r="0" b="4915"/>
          <a:stretch/>
        </p:blipFill>
        <p:spPr>
          <a:xfrm>
            <a:off x="1219320" y="3048120"/>
            <a:ext cx="7467480" cy="3809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152280" y="152280"/>
            <a:ext cx="853452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Aqueous humo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creted by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ciliary bo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removed continuously by drainage into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al of Schle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raocular pres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10-15mmHg above 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atmospheric press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 Abnormally raised pressure (glaucoma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retinal detach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os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raocular pressure in patient with glauc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5960" y="188640"/>
            <a:ext cx="8893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lly occurring alkaloids e.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pilocarpine, nicotine (tertiary amin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143000" y="228600"/>
            <a:ext cx="6781680" cy="642600"/>
          </a:xfrm>
          <a:prstGeom prst="rect">
            <a:avLst/>
          </a:prstGeom>
          <a:solidFill>
            <a:srgbClr val="dba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Cholinomime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http://www.ochempal.org/wp-content/images/T/tertiaryamine1.png"/>
          <p:cNvPicPr/>
          <p:nvPr/>
        </p:nvPicPr>
        <p:blipFill>
          <a:blip r:embed="rId1"/>
          <a:stretch/>
        </p:blipFill>
        <p:spPr>
          <a:xfrm>
            <a:off x="4424400" y="4205160"/>
            <a:ext cx="2692440" cy="228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5960" y="188640"/>
            <a:ext cx="8893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tic choline esters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uaternary ammonium compou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ylcholin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achol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hanechol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vimelin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143000" y="228600"/>
            <a:ext cx="6781680" cy="642600"/>
          </a:xfrm>
          <a:prstGeom prst="rect">
            <a:avLst/>
          </a:prstGeom>
          <a:solidFill>
            <a:srgbClr val="dba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Cholinomime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s://upload.wikimedia.org/wikipedia/commons/thumb/9/92/Quaternary_ammonium_cation.svg/220px-Quaternary_ammonium_cation.svg.png"/>
          <p:cNvPicPr/>
          <p:nvPr/>
        </p:nvPicPr>
        <p:blipFill>
          <a:blip r:embed="rId1"/>
          <a:stretch/>
        </p:blipFill>
        <p:spPr>
          <a:xfrm>
            <a:off x="5943600" y="2246400"/>
            <a:ext cx="2514600" cy="22208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ilocarpine (natural alkaloi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tiary amine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n polar = lipophil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 absorbed, good distribu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ss BBB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has central effect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metabolized by cholinestera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duration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is enhanced by acidification of u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muscarinic agon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ainly on eye &amp; secretion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5791320" y="4211640"/>
            <a:ext cx="3276360" cy="25700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ilocarpine (continue…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s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erostomia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y mou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 of choice in emergency glaucoma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pplied as eye drops.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vers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se swe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rrh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etylcholine (Ach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arinic and nicotinic agon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 clinically because 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not selective as it acts on both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cotinic and muscarinic recepto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short duration of action. Why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o rapid metabolism b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etycholinest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2057400" y="5334120"/>
            <a:ext cx="6477120" cy="11332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6320" y="152280"/>
            <a:ext cx="899136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920" indent="158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ynthetic choline es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7920" indent="158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920" indent="1584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 drugs as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thanechol, carbac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920" indent="1584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ternary ammonium compou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920" indent="15840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pola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920" indent="1584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920" indent="1584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not cross BBB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No CNS eff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920" indent="1584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metabolized by cholinester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920" indent="1584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longer duration of action than 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920" indent="1584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given I.V. or I.M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C.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250920" y="115920"/>
          <a:ext cx="864216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5920"/>
                    <a:ext cx="864216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5"/>
          <p:cNvSpPr/>
          <p:nvPr/>
        </p:nvSpPr>
        <p:spPr>
          <a:xfrm>
            <a:off x="5181480" y="2057400"/>
            <a:ext cx="2133720" cy="13716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181480" y="4648320"/>
            <a:ext cx="2133720" cy="137160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472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rbac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muscarinic actions similar to 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nicotinic actions similar to Ach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side effec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er duration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reatment of glau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thanecho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muscarinic actions similar to 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no nicotinic a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er duration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reatment of paralytic ileus &amp; urinary reten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6320" y="228240"/>
            <a:ext cx="899136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arbac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arinic actions on Eye, GIT, UT.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see the previous tab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nicotinic action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side effect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t to hydrolysis by acetyl cholinest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er duration than 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reatment of glau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556272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5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 that produce actions similar to stimulation of parasympathetic system or similar to 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457200" y="228600"/>
            <a:ext cx="8077320" cy="1191240"/>
          </a:xfrm>
          <a:prstGeom prst="rect">
            <a:avLst/>
          </a:prstGeom>
          <a:solidFill>
            <a:srgbClr val="dba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omime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sympathomime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5991120" y="1676520"/>
            <a:ext cx="3076560" cy="4876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6320" y="152280"/>
            <a:ext cx="89913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thanecho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inent muscarinic actions on GIT, 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icotinic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t to hydrolysis by acetyl cholinest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er duration than 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lytic ile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retention in cases of post-operative atony &amp; neurogenic blad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51920" y="260280"/>
            <a:ext cx="8667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vimel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91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acting muscarinic agonist (M3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2919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reatment of dry mouth symp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291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d wit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jogren's syndr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91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utoimmune disease characteriz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91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mation of antibodies leading to dryness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91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outh and ey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9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291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291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95400" y="228600"/>
          <a:ext cx="8972280" cy="6477120"/>
        </p:xfrm>
        <a:graphic>
          <a:graphicData uri="http://schemas.openxmlformats.org/drawingml/2006/table">
            <a:tbl>
              <a:tblPr/>
              <a:tblGrid>
                <a:gridCol w="1809720"/>
                <a:gridCol w="1600200"/>
                <a:gridCol w="1784160"/>
                <a:gridCol w="1889280"/>
                <a:gridCol w="1888920"/>
              </a:tblGrid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arbach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ethanech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ilocarp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mi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ternary 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o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ternary 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o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ternary 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o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ti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non po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4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bsor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tter absorbed than 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tter absorbed than 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bol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y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linester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bolize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y 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linester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metabolized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y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linester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y sh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er (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er (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er (+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minis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.V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ye dro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ye dro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ye dro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76320" y="685800"/>
          <a:ext cx="8991360" cy="5813280"/>
        </p:xfrm>
        <a:graphic>
          <a:graphicData uri="http://schemas.openxmlformats.org/drawingml/2006/table">
            <a:tbl>
              <a:tblPr/>
              <a:tblGrid>
                <a:gridCol w="1422360"/>
                <a:gridCol w="1447560"/>
                <a:gridCol w="1524240"/>
                <a:gridCol w="1531800"/>
                <a:gridCol w="1425600"/>
                <a:gridCol w="16398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,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arbach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,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ethanech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ilocarp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evimel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6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ep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car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ot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car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otini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car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car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car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1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uscar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lec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ye, G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inary blad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T, Uri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ad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re on eye, exocrine g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ocrine gl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oti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auc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lytic ileu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inary reten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auc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erosto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jogren's syndr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7" name="Rectangle 2"/>
          <p:cNvSpPr/>
          <p:nvPr/>
        </p:nvSpPr>
        <p:spPr>
          <a:xfrm>
            <a:off x="609480" y="152280"/>
            <a:ext cx="79581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Cholinomim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laser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traindications of direct cholinomim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ptic ulc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ina pecto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incontin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5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al ob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new_pa2"/>
          <p:cNvPicPr/>
          <p:nvPr/>
        </p:nvPicPr>
        <p:blipFill>
          <a:blip r:embed="rId1"/>
          <a:stretch/>
        </p:blipFill>
        <p:spPr>
          <a:xfrm>
            <a:off x="250920" y="1231920"/>
            <a:ext cx="8893080" cy="43927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2852640"/>
            <a:ext cx="85914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cc"/>
                </a:solidFill>
                <a:latin typeface="Bodoni MT Black"/>
              </a:rPr>
              <a:t>Thank you</a:t>
            </a:r>
            <a:r>
              <a:rPr b="0" lang="en-US" sz="4400" spc="-1" strike="noStrike">
                <a:solidFill>
                  <a:srgbClr val="000000"/>
                </a:solidFill>
                <a:latin typeface="Bodoni MT Blac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6320" y="181080"/>
            <a:ext cx="9144000" cy="63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s of cholinomim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irect cholinomimet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use direct stimulation of cholinergic recep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direct cholinomimeti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s indirectly by inhibiting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acetyl cholinesteras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us prevent the hydrolysis of Ach. They are called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(cholinesterase inhibitors or anticholinesterase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Direct cholinergic&#10;agentsAcetyl-choline is It is a natural direct parasympathomimetic.&#10;stimulates directly both muscarinic...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6294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920000" cy="882720"/>
          </a:xfrm>
          <a:prstGeom prst="rect">
            <a:avLst/>
          </a:prstGeom>
          <a:solidFill>
            <a:srgbClr val="dba39d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ergic dru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ergic drugs acts upon two types of rece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otinic rece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arinic rece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920000" cy="882720"/>
          </a:xfrm>
          <a:prstGeom prst="rect">
            <a:avLst/>
          </a:prstGeom>
          <a:solidFill>
            <a:srgbClr val="dba39d"/>
          </a:solidFill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ergic or parasympathetic rece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196640"/>
            <a:ext cx="9144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 algn="ct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otinic receptors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central recep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arinic receptors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peripheral rece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rcRect l="10827" t="81879" r="0" b="2479"/>
          <a:stretch/>
        </p:blipFill>
        <p:spPr>
          <a:xfrm>
            <a:off x="304920" y="3200400"/>
            <a:ext cx="8496360" cy="1001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Line 5"/>
          <p:cNvSpPr/>
          <p:nvPr/>
        </p:nvSpPr>
        <p:spPr>
          <a:xfrm flipV="1">
            <a:off x="2286000" y="380988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 flipV="1">
            <a:off x="4495680" y="388620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04920" y="4876920"/>
            <a:ext cx="3475080" cy="825480"/>
          </a:xfrm>
          <a:prstGeom prst="rect">
            <a:avLst/>
          </a:prstGeom>
          <a:solidFill>
            <a:srgbClr val="eeece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entral nicotinic 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3886200" y="4876920"/>
            <a:ext cx="3962520" cy="825480"/>
          </a:xfrm>
          <a:prstGeom prst="rect">
            <a:avLst/>
          </a:prstGeom>
          <a:solidFill>
            <a:srgbClr val="eeece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Peripheral muscarinic recep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6320" y="152280"/>
            <a:ext cx="89913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ype I receptors : ion channel linked rece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cated in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s (neuromuscular junction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nomic ganglia (sympathetic and parasympathetic ganglia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 medulla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(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80880" y="380880"/>
            <a:ext cx="7920000" cy="882720"/>
          </a:xfrm>
          <a:prstGeom prst="rect">
            <a:avLst/>
          </a:prstGeom>
          <a:solidFill>
            <a:srgbClr val="dba39d"/>
          </a:soli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otinic recep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250920" y="228600"/>
            <a:ext cx="8640720" cy="6408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1T13:28:27Z</dcterms:created>
  <dc:creator>Dr.Maha Daghestani</dc:creator>
  <dc:description/>
  <dc:language>en-US</dc:language>
  <cp:lastModifiedBy>Hanan Hagar</cp:lastModifiedBy>
  <dcterms:modified xsi:type="dcterms:W3CDTF">2015-12-15T06:57:00Z</dcterms:modified>
  <cp:revision>240</cp:revision>
  <dc:subject/>
  <dc:title>Colorectal Cancer: What Is It?</dc:title>
</cp:coreProperties>
</file>