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7.gif" ContentType="image/gif"/>
  <Override PartName="/ppt/media/image16.png" ContentType="image/png"/>
  <Override PartName="/ppt/media/image14.png" ContentType="image/png"/>
  <Override PartName="/ppt/media/image13.png" ContentType="image/png"/>
  <Override PartName="/ppt/media/image10.png" ContentType="image/png"/>
  <Override PartName="/ppt/media/image2.png" ContentType="image/png"/>
  <Override PartName="/ppt/media/image5.png" ContentType="image/png"/>
  <Override PartName="/ppt/media/whoosh.wav" ContentType="audio/x-wav"/>
  <Override PartName="/ppt/media/image15.png" ContentType="image/png"/>
  <Override PartName="/ppt/media/image3.jpeg" ContentType="image/jpeg"/>
  <Override PartName="/ppt/media/laser.wav" ContentType="audio/x-wav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B14-9CAE-4BA7-876A-B47AFFC8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53C-DAD6-47EF-8673-B3DC063A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14D-1878-44C1-98BA-B006AB67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2CD-D05B-47AC-9D8E-4884BCAC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04C-6A37-49CC-8296-94F6DEAF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226-A431-44BC-A5B6-6897A405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039-4623-46E5-923F-EBC60CB3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C69-8B9D-4266-96C6-B924A72B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C58-C178-414F-8D38-9CD01CE8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40B-AC3A-4D77-AE6E-873D5B4C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B32-876F-4176-BC11-C15BCC34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42F-D6C0-480A-A9BE-3F057524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50000">
              <a:srgbClr val="ffffff"/>
            </a:gs>
            <a:gs pos="100000">
              <a:srgbClr val="fde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8994-90A1-471A-A8E3-38C609FFE815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87280" y="1628640"/>
            <a:ext cx="705672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HOLINERG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43" name=""/>
          <p:cNvGraphicFramePr/>
          <p:nvPr/>
        </p:nvGraphicFramePr>
        <p:xfrm>
          <a:off x="1143000" y="3733920"/>
          <a:ext cx="7086600" cy="139536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Hanan Ha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Colle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 II receptors : G-protein linked recep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subclasses ;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excitatory or stimulatory in functi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timul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 inhibitory in functi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nhibi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d a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 target orga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innervated by parasympathetic fibers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, heart, CVS, eye, bladder, et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80880" y="228600"/>
            <a:ext cx="7920000" cy="8827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8600" y="692280"/>
          <a:ext cx="8812080" cy="6073560"/>
        </p:xfrm>
        <a:graphic>
          <a:graphicData uri="http://schemas.openxmlformats.org/drawingml/2006/table">
            <a:tbl>
              <a:tblPr/>
              <a:tblGrid>
                <a:gridCol w="1573200"/>
                <a:gridCol w="3032280"/>
                <a:gridCol w="4206600"/>
              </a:tblGrid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307"/>
                          </a:solidFill>
                          <a:latin typeface="Times New Roman"/>
                          <a:ea typeface="Times New Roman"/>
                        </a:rPr>
                        <a:t>Rece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307"/>
                          </a:solidFill>
                          <a:latin typeface="Times New Roman"/>
                          <a:ea typeface="Times New Roman"/>
                        </a:rPr>
                        <a:t>Lo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307"/>
                          </a:solidFill>
                          <a:latin typeface="Times New Roman"/>
                          <a:ea typeface="Times New Roman"/>
                        </a:rPr>
                        <a:t>Pharmacological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cit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35892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5892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ric parietal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NS exc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ric acid secre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hibi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iac inhib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radycardi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cit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s (GIT, urinary tract, bronchial muscles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cular endo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 of g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 con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odilatation (via nitric oxid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 &amp; M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ory, arousal, attention and analge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49"/>
          <p:cNvSpPr/>
          <p:nvPr/>
        </p:nvSpPr>
        <p:spPr>
          <a:xfrm>
            <a:off x="457200" y="0"/>
            <a:ext cx="7920000" cy="68580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6320" y="762120"/>
          <a:ext cx="8991360" cy="5410080"/>
        </p:xfrm>
        <a:graphic>
          <a:graphicData uri="http://schemas.openxmlformats.org/drawingml/2006/table">
            <a:tbl>
              <a:tblPr/>
              <a:tblGrid>
                <a:gridCol w="4486320"/>
                <a:gridCol w="4505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recep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cholinocep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 recep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pheral cholinocep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ost excit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itatory or inhibi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utonomic ganglia N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pathetic &amp; parasympathetic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timulation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all peripheral organs innervated by postganglionic parasympathetic fib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drenal medulla 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lease of catecholamines (adrenaline &amp; noradrenalin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t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bradycardia, M2)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ocrine glands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secretion, M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eletal muscles N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s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contraction, M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T, urinary tract, bronchial muscles, uter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2"/>
          <p:cNvSpPr/>
          <p:nvPr/>
        </p:nvSpPr>
        <p:spPr>
          <a:xfrm>
            <a:off x="684360" y="76320"/>
            <a:ext cx="7920000" cy="50148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or parasympathet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that are similar to the effects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ympathetic system activ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cotinic ac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scarinic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52280" y="122400"/>
            <a:ext cx="8839440" cy="8683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 of cholinergic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keletal musc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ncentration </a:t>
            </a:r>
            <a:r>
              <a:rPr b="1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cle con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ncentration </a:t>
            </a:r>
            <a:r>
              <a:rPr b="1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t depolarization &amp; relaxation (depolarization block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timulation of Autonomic gangli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sympathetic&amp; parasympathet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timulation of adrenal medulla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ease of catecholamine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renaline &amp; Noradrenali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152280"/>
            <a:ext cx="820908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24000" y="109440"/>
            <a:ext cx="820872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ctions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785880"/>
          <a:ext cx="8713800" cy="5995800"/>
        </p:xfrm>
        <a:graphic>
          <a:graphicData uri="http://schemas.openxmlformats.org/drawingml/2006/table">
            <a:tbl>
              <a:tblPr/>
              <a:tblGrid>
                <a:gridCol w="1882800"/>
                <a:gridCol w="6831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Org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Cholinergic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8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Arial Unicode MS"/>
                        </a:rPr>
                        <a:t>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circular muscle of iris (miosis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)(M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ciliary muscles for near vis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(M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Decrease in intraocular pressure (IOP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Arial Unicode MS"/>
                        </a:rPr>
                        <a:t>Hea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Arial Unicode MS"/>
                        </a:rPr>
                        <a:t>endotheli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radycardia ( decrease in heart rate )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(M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ease of NO (EDRF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L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striction of bronchial smooth musc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in bronchial secret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3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G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in motility (peristalsi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in secre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axation of sphincter  -defecat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Arial Unicode MS"/>
                        </a:rPr>
                        <a:t>Urinary blad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muscle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axation of sphincter 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rin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of secretions of exocrine glan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weat, saliva, lacrimal, bronchial, intestinal secretions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nervous5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asympathetic innervates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trictor pupill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circular muscles of iris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is important for adju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pil in response to change in light intensity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ing the intraocular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52280"/>
            <a:ext cx="198108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Y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304920" y="4572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ciliary muscle contracts, the len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bul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parasympathetic reflex is essential to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accommodate for nea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5773680" cy="2743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2844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 the student should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e different types, locations and actions of cholinergic recep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echanism of action of direct acting cholinomimet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pharmacokinetics of cholinergic dru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pharmacological actions and uses of cholinomimet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0"/>
          <p:cNvPicPr/>
          <p:nvPr/>
        </p:nvPicPr>
        <p:blipFill>
          <a:blip r:embed="rId1"/>
          <a:srcRect l="0" t="0" r="0" b="4915"/>
          <a:stretch/>
        </p:blipFill>
        <p:spPr>
          <a:xfrm>
            <a:off x="1219320" y="3048120"/>
            <a:ext cx="7467480" cy="3809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52280" y="152280"/>
            <a:ext cx="85345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Aqueous hum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reted by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iliary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removed continuously by drainage into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al of Schle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aocular pres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10-15mmHg abov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atmospheric pres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Abnormally raised pressure (glaucoma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tinal detac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os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aocular pressure in patient with glau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5960" y="188640"/>
            <a:ext cx="889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ly occurring alkaloids 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pilocarpine, nicotine (tertiary amin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143000" y="228600"/>
            <a:ext cx="6781680" cy="642600"/>
          </a:xfrm>
          <a:prstGeom prst="rect">
            <a:avLst/>
          </a:prstGeom>
          <a:solidFill>
            <a:srgbClr val="dba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holinomim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www.ochempal.org/wp-content/images/T/tertiaryamine1.png"/>
          <p:cNvPicPr/>
          <p:nvPr/>
        </p:nvPicPr>
        <p:blipFill>
          <a:blip r:embed="rId1"/>
          <a:stretch/>
        </p:blipFill>
        <p:spPr>
          <a:xfrm>
            <a:off x="4424400" y="4205160"/>
            <a:ext cx="2692440" cy="228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960" y="188640"/>
            <a:ext cx="889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choline ester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aternary ammonium comp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achol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hanech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vimelin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43000" y="228600"/>
            <a:ext cx="6781680" cy="642600"/>
          </a:xfrm>
          <a:prstGeom prst="rect">
            <a:avLst/>
          </a:prstGeom>
          <a:solidFill>
            <a:srgbClr val="dba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holinomim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upload.wikimedia.org/wikipedia/commons/thumb/9/92/Quaternary_ammonium_cation.svg/220px-Quaternary_ammonium_cation.svg.png"/>
          <p:cNvPicPr/>
          <p:nvPr/>
        </p:nvPicPr>
        <p:blipFill>
          <a:blip r:embed="rId1"/>
          <a:stretch/>
        </p:blipFill>
        <p:spPr>
          <a:xfrm>
            <a:off x="5943600" y="2246400"/>
            <a:ext cx="2514600" cy="2220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ilocarpine (natural alkaloi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tiary amin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polar = lipophi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absorbed, good distrib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BBB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as central effec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metabolized by cholinester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uration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is enhanced by acidification of 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muscarinic ago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ainly on eye &amp; secretion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4211640"/>
            <a:ext cx="3276360" cy="2570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ilocarpine (continue…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stomi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 mou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of choice in emergency glaucoma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pplied as eye drops.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se swe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tylcholine (Ac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and nicotinic ago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clinically because 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not selective as it acts on bot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cotinic and muscarinic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. Wh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rapid metabolism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tycholinest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057400" y="5334120"/>
            <a:ext cx="6477120" cy="1133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89913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920" indent="1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nthetic choline es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thanechol, carbac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ammonium compou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ol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ross BBB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o CNS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metabolized by cholinester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longer duration of action than 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given I.V. or I.M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C.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250920" y="115920"/>
          <a:ext cx="864216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64216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5"/>
          <p:cNvSpPr/>
          <p:nvPr/>
        </p:nvSpPr>
        <p:spPr>
          <a:xfrm>
            <a:off x="5181480" y="2057400"/>
            <a:ext cx="2133720" cy="13716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81480" y="4648320"/>
            <a:ext cx="2133720" cy="13716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47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bac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uscarinic actions similar to 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icotinic actions similar to Ac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ide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hanecho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uscarinic actions similar to 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o nicotinic 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paralytic ileus &amp; urinary reten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bac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actions on Eye, GIT, UT.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see the previous t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icotinic action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ide effec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to hydrolysis by acetyl cholinest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than 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5562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produce actions similar to stimulation of parasympathetic system or similar to 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57200" y="228600"/>
            <a:ext cx="8077320" cy="1191240"/>
          </a:xfrm>
          <a:prstGeom prst="rect">
            <a:avLst/>
          </a:prstGeom>
          <a:solidFill>
            <a:srgbClr val="dba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omim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sympathomim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991120" y="1676520"/>
            <a:ext cx="3076560" cy="4876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991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thanecho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nent muscarinic actions on GIT, 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icotin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to hydrolysis by acetyl cholinest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than 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ytic i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 in cases of post-operative atony &amp; neurogenic bla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260280"/>
            <a:ext cx="8667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vime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ng muscarinic agonist (M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dry mouth symp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jogren's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utoimmune disease characteriz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ion of antibodies leading to drynes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uth and ey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5400" y="228600"/>
          <a:ext cx="8972280" cy="6477120"/>
        </p:xfrm>
        <a:graphic>
          <a:graphicData uri="http://schemas.openxmlformats.org/drawingml/2006/table">
            <a:tbl>
              <a:tblPr/>
              <a:tblGrid>
                <a:gridCol w="1809720"/>
                <a:gridCol w="1600200"/>
                <a:gridCol w="1784160"/>
                <a:gridCol w="1889280"/>
                <a:gridCol w="188892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rbach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ethanech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ilocarp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ternary 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ternary 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ternary 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ti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ter absorbed than 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ter absorbed than 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ster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ze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ster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metabolized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ster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y 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er (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er (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er (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n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ye dr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ye dr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ye dr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6320" y="685800"/>
          <a:ext cx="8991360" cy="5813280"/>
        </p:xfrm>
        <a:graphic>
          <a:graphicData uri="http://schemas.openxmlformats.org/drawingml/2006/table">
            <a:tbl>
              <a:tblPr/>
              <a:tblGrid>
                <a:gridCol w="1422360"/>
                <a:gridCol w="1447560"/>
                <a:gridCol w="1524240"/>
                <a:gridCol w="1531800"/>
                <a:gridCol w="1425600"/>
                <a:gridCol w="1639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rbach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,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ethanech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ilocar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evime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ye, 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ary blad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T, Ur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d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on eye, exocrine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ytic ile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ary re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erosto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's syndr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2"/>
          <p:cNvSpPr/>
          <p:nvPr/>
        </p:nvSpPr>
        <p:spPr>
          <a:xfrm>
            <a:off x="609480" y="152280"/>
            <a:ext cx="79581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holinomi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lase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of direct cholinomim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c ulc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incontin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ob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591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cc"/>
                </a:solidFill>
                <a:latin typeface="Bodoni MT Black"/>
              </a:rPr>
              <a:t>Thank you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320" y="181080"/>
            <a:ext cx="9144000" cy="63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holinomim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rect cholinomim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use direct stimulation of cholinergic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direct cholinomimet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s indirectly by inhibitin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etyl cholinest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us prevent the hydrolysis of Ach. They are calle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cholinesterase inhibitors or anticholinesteras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Direct cholinergic&#10;agentsAcetyl-choline is It is a natural direct parasympathomimetic.&#10;stimulates directly both muscarinic...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827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drugs acts upon two types of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827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or parasympathetic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 algn="ct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receptors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central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receptors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peripheral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10827" t="81879" r="0" b="2479"/>
          <a:stretch/>
        </p:blipFill>
        <p:spPr>
          <a:xfrm>
            <a:off x="304920" y="3200400"/>
            <a:ext cx="8496360" cy="100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5"/>
          <p:cNvSpPr/>
          <p:nvPr/>
        </p:nvSpPr>
        <p:spPr>
          <a:xfrm flipV="1">
            <a:off x="2286000" y="38098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4495680" y="38862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04920" y="4876920"/>
            <a:ext cx="3475080" cy="825480"/>
          </a:xfrm>
          <a:prstGeom prst="rect">
            <a:avLst/>
          </a:prstGeom>
          <a:solidFill>
            <a:srgbClr val="eeec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entral nicotinic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886200" y="4876920"/>
            <a:ext cx="3962520" cy="825480"/>
          </a:xfrm>
          <a:prstGeom prst="rect">
            <a:avLst/>
          </a:prstGeom>
          <a:solidFill>
            <a:srgbClr val="eeec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eripheral muscarinic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991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 I receptors : ion channel linked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cated i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s (neuromuscular junction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c ganglia (sympathetic and parasympathetic ganglia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medulla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80880" y="380880"/>
            <a:ext cx="7920000" cy="8827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250920" y="22860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28:27Z</dcterms:created>
  <dc:creator>Dr.Maha Daghestani</dc:creator>
  <dc:description/>
  <dc:language>en-US</dc:language>
  <cp:lastModifiedBy>Hanan Hagar</cp:lastModifiedBy>
  <dcterms:modified xsi:type="dcterms:W3CDTF">2015-12-15T06:57:00Z</dcterms:modified>
  <cp:revision>240</cp:revision>
  <dc:subject/>
  <dc:title>Colorectal Cancer: What Is It?</dc:title>
</cp:coreProperties>
</file>