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A516-7141-42EA-90E8-074412654B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7E66-5E16-4B53-B74C-7E5982276C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F2D-5EBA-44F0-8D0A-4162706A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7D0-12D1-48B2-9A35-0E1B322C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A04D2-2F13-437D-99E6-DE2B0B9C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8279D-6714-4E12-BC89-C156C325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7DFE8-04C2-4AC6-B121-A78411C1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C171F-CA99-4423-A742-726C33EC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93E91-7634-46AF-A2DF-FF5E6E14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50E56-ED40-4783-BC8E-E3CEB79D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326BF-6ED1-4E07-BEC5-7DDC405C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C2290-7FFB-48EF-B43B-E193166E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72F05-B437-49C5-BBE2-26852FB6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804FF-4855-41CD-81AA-154879BD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6A9-3D90-4168-B29C-E8F0E478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07445-1E29-4BF3-A485-BA389922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02C15-403F-4EDF-858B-9D2CC392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7C7F3-FAD6-469D-8EA3-5BD9F201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0595D-4DBF-4855-B5EE-6C5191C5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FDE47-1AB3-4A6C-A7C5-666B249E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B52E6-5E6F-4B16-93DA-AD8AD2A2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56237-0B33-4E92-8C45-0DEDA68E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CF84C-E3AE-4D43-8E86-ED058D04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C42BE-71CE-4029-9A20-E557D1FB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EA3B9-B44E-4C9F-B197-CE38A04B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CCE-4424-4CDF-AD5A-3CEE55B3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E9427-03E4-4F95-9E68-C8EE0C1F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CD46D-2696-47B4-9F6C-E7BDC0BF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C2B3F-7431-4B82-A544-A096EF5D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86C4E-D5B4-4949-8281-7D6F974E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8D8AC-B6B4-4E9B-9BB5-22675F40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7BCA8-F950-4549-B994-13A595E8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AFE32-310E-42E0-8F31-824F4980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6FBC3-FFDF-4570-90D0-9CE3210A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E64A0-5348-4FF8-902E-3B58866D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A7396-319E-41C8-A319-4252B12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6B60-DFA0-4167-8D79-601A3FC0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7C9D5-A9F7-459B-9538-C1E7EF2A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A6E2D-1F5A-48F8-AE13-E551E8ED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BD70D-FAD7-4842-89F2-73D227A6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EE198-8A04-4FDF-9F1F-9C9FA0D0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B8CBA-6667-4A47-BA44-48D066F0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62DF5-4432-424C-B9D6-66E2DD7F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90B43-DA72-49AD-95E4-1C360FB7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3AFED-6F4D-4345-A08E-85E4EE8B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6E05D-FD8B-4441-A9E1-6D820900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67F11-B786-4A3B-B94D-112BBFE4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B6FD-CBA5-4D0F-8F4B-3F3CF653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862F7-417A-4130-B3DB-55CD6183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0AD05-A68B-4BFE-BA5E-4B5354A3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E3F83-7DFD-41C0-862D-5D5AF547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D6A37-DE10-4183-AD84-CF23C8BF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A8B9A-0584-4C98-B64A-CF0BEED7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A8C41-A53C-46E8-867B-D9668132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5895B-55AA-4832-90FD-5C990D78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E08D9-914A-40AA-AAE5-40DD0A99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1F640-612A-4C07-9C5B-5783A09D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983D0-D2A3-44DC-AEAF-D4361862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20EB-146C-487F-88ED-0AB25848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72E3F-6577-450F-8265-9F35BFC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975FA-4F92-41E6-82D6-92C49F54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CD67A-B697-4DDC-AAEF-A074308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8A3E6-05D5-4521-9DDA-8D04C3F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52197-B4F8-4317-9EC3-3303A4DD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2CBF7-847F-45F2-B74A-EFF24A0B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2FD82-3DC0-485E-8171-AAD9EAA8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FAAE-6F56-4EAD-BF88-770DE8AC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6A6C-B36D-4DBA-8468-3DA6DD77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0E2E-FA73-4212-BE6D-1B169271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2002-F804-4456-9624-356E115A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18B-8EB5-414E-879C-78A5957B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ED10-CCF9-4A3E-AA08-270C5AA8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89B7-6D94-4274-8886-0D450AB3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776E-A237-40C5-B16D-6253A05F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DA34-C7F0-4CED-9928-7F671909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AD4F-C358-4162-BD32-EF96F944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AAE6-B920-4E24-ACAD-A274DE15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DDAA-6C3C-496E-9B9A-756BA3D6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A53D-1066-4A10-8C2B-E0A92B36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50B0-A48D-47F7-8F2F-F8496EC3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E4A6-2DE5-4969-BFFD-40A2AC61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D71-AE5B-44D6-B9BF-F210D386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9464E-D0C2-4FB4-BC34-39C50D3B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22C4-63E7-4CF5-918E-7ED92BD7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7C1F-EA11-483C-96B0-268FE643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D76A-6C9C-4202-90C1-49538A46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2527-FC9F-4002-B375-65EE3096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7B5E-0F7D-405F-B38A-6F004F59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E36D-E5A8-4288-AC7B-E8A0B724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754D-51C5-4314-B641-B56603AF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EEE5-CF09-4409-B429-04FADD7F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A792-D4E0-486F-982A-888758DF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733-7BD9-4627-986B-A5F197F4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CA0CD-1AFB-464D-A6D6-DF2311C3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8A8C8-9012-4CB1-91E3-D93A8796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EC8B0-F0C2-4703-9854-3DAA3C59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D4BC-8D63-48AA-8221-F080C01A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0E73-3FA8-4624-8420-B0B53E8E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128A-70AE-4305-A72D-80E40023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5DD35-7723-4409-A6B9-0104FF07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1023-51B9-4432-ADD4-E60F43D0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60D2-8F77-4757-B036-7E9FE686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C0980-8A8D-4E45-B83D-938F88E0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E5D-4F32-41DC-BB5A-D269EEEA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BE97F-38E9-49BE-A7E3-5D49B988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9487B-9A36-483E-9B0F-656B3D12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58D2C-952B-4D2B-A8A6-552053F3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7307D-A71F-41D5-8877-CF57B3BA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243C-92A8-4C99-B4FF-D4914BA2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E7367-208B-4E16-AA29-5D175529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EA97E-E7D0-4C2F-818B-F329E632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94CC9-2683-4FA9-AB4C-5D1A0F91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22E64-CEF5-4E86-BCD5-1F0A5B61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11DAF-35F2-4BD9-97D2-7DE935E4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29F-844D-4AEC-A417-82E44007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397CD-3927-4316-AE77-EFDBCF79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E3888-0FCC-41FB-B9CB-51467F3F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7AE37-DEC0-43C8-BC56-0ACC9FFB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68DA2-3BE8-45AC-AF42-CD843DC8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B6C1A-015D-4CD9-AA33-3AA452CB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71597-DF02-455F-A517-2DCBCF57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FC43-5F66-4489-B7F0-B50B3C1A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96C4-C885-4061-A472-DFFD8C2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5F5E9-23B2-49FC-A4F2-37F02D27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E049D-E059-43F8-8E2E-A196F862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E99-BF89-4499-9291-2BDE452F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4A763-BBC5-4424-A6E9-142A2D16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4DDE0-14A7-472E-845E-72DAEAFD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2D76A-EC1F-46D2-9C4A-B81E231A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31FE5-84D5-4FF2-A091-DD0002D8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75184-D011-4A12-A8CB-541EE78D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99169-9CE9-4F31-93B9-24B294A7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07D1A-0E98-461E-84EF-7F48F322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97AAC-4D45-4666-9AD3-A2D1E68F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CA341-867C-48C5-B880-52EFAB53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18D4B-7209-4848-A739-70C6309B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785-CDB8-4F1C-A30C-252849B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A103-0FF2-4AA8-9A55-7AA41D72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D25FF-7508-4F9C-B98F-3818B686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D7230-3FC3-49E5-A96C-4C581B74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BCB55-86DD-4FAC-9994-FBC1A742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A7733-58AB-4609-B4E3-D48FFC46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02706-D3B3-4FF7-852B-9F8F4535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2BB9D-CF6D-4451-995B-AF48990B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550DA-8E4E-4AF9-B15C-6859253F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D7070-860F-46BF-8687-593036A5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93893-9F99-4C53-ACF4-8524295F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125-5AC5-4B6E-8DEA-71F16DE0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4C3A3-9BBC-4373-9C33-DB371856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B5940-C786-462A-ACC9-C8C2C8C2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AF425-095C-46E9-91FD-8B0BCADD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B60C8-77D7-4391-BD83-17DFCC5B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6147E-299F-4E6A-A60F-F950E2BE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DC09C-EF1A-4CFC-998E-DF3F2591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9D283-FBB8-425F-B57A-FA9C69B2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98BB2-4CA8-49EC-B70B-8AFB8133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8B1AE-8ECF-4059-B447-275D7468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69525-A941-4341-A2B3-1B29986D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f8c4"/>
              </a:gs>
              <a:gs pos="100000">
                <a:srgbClr val="f6fbd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9093-4546-4822-B8B9-6044345D76A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46AB-1249-4D30-AC76-110E17D1AE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9342-3CAD-4450-914E-E92724B3751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916A-3269-4A1D-B7E2-0E1FFA10638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D13D-8213-467A-A8F0-89783F6BD96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BDDA-29BD-4026-82E2-88687942C34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8934-EBCE-4B3D-BCEC-4BBADA2BD58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DBFB-3735-4844-ABA5-FD5764DC540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F004-DE0C-4471-A375-69770CDE5CE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43C1-669A-4B93-8FD2-113E53067EB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632C-49F5-4CB7-A335-48B322AF6D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C000-E790-411F-84A3-D85BF5CB8C7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218A-D494-4240-A863-03CE1E6589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1187280" y="1628640"/>
            <a:ext cx="705672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HOLIN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666880" y="3886200"/>
          <a:ext cx="4114800" cy="10666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Hanan Ha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macology 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armacological effects of anticholineste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a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actions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imilar to Ach</a:t>
            </a:r>
            <a:r>
              <a:rPr b="1" lang="en-US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osis, bradycardia, bronchoconstrictions, increased motility, secretion of exocrine gland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NS action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citation, convulsion, respiratory failure, com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l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pid solu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cholinester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physostigmine &amp; phosphate e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except ecothiophate that is polar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euromuscular j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rapeutic dose: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 contr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oxic dose: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r paralysis of skeletal mus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anglia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ion of sympathetic and parasympathetic gangl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drenal medull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lease of catecholamines (A &amp; N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324000" y="109440"/>
            <a:ext cx="820872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action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324000" y="109440"/>
            <a:ext cx="820872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50920" y="785880"/>
          <a:ext cx="8713800" cy="5810040"/>
        </p:xfrm>
        <a:graphic>
          <a:graphicData uri="http://schemas.openxmlformats.org/drawingml/2006/table">
            <a:tbl>
              <a:tblPr/>
              <a:tblGrid>
                <a:gridCol w="1882800"/>
                <a:gridCol w="6831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Org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Cholinergic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circular muscle of iris (miosis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)(M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ciliary muscles for near vision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(M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Decrease in intraocular press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Hea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endotheli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radycardia (   heart rate )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(M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ease of NO (EDRF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Lu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striction of bronchial smooth musc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bronchial secretion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G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d motility (peristalsi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d secre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axation of sphincter 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Urinary blad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musc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axation of sphincter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of sweat, saliva, lacrimal, bronchial, intestinal secretions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Line 35"/>
          <p:cNvSpPr/>
          <p:nvPr/>
        </p:nvSpPr>
        <p:spPr>
          <a:xfrm>
            <a:off x="3962520" y="2209680"/>
            <a:ext cx="0" cy="3812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holinomim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drophon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anticholinestera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bsorbed orally </a:t>
            </a: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given by injec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 mainly to acetyl cholinesterase by weak hydrogen bo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5-15 mi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diagnosis of myasthenia grav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3276360" cy="1981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667720" cy="630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ysostig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anticholinester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tiary ammonium compound</a:t>
            </a:r>
            <a:r>
              <a:rPr b="1" lang="en-US" sz="3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polar (lipid solub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lipid solu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oral absor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uscarinic &amp; nicotin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BBB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has CNS effec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0066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c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0066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ine toxicity (atropine is anticholinergic dru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5943600" y="533520"/>
            <a:ext cx="2819520" cy="1904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6448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eostigm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anticholineste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ammonium com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used o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 CNS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uscarinic &amp; nicotin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minent o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GIT &amp; urinary tr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myasthenia grav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ytic ileus &amp; Urinary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ve neuromuscular blockers intox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5715000" y="76320"/>
            <a:ext cx="3352680" cy="3047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609480" y="152280"/>
            <a:ext cx="8001000" cy="609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amate 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52280" y="988920"/>
          <a:ext cx="8839440" cy="5472360"/>
        </p:xfrm>
        <a:graphic>
          <a:graphicData uri="http://schemas.openxmlformats.org/drawingml/2006/table">
            <a:tbl>
              <a:tblPr/>
              <a:tblGrid>
                <a:gridCol w="2210040"/>
                <a:gridCol w="1546200"/>
                <a:gridCol w="1657080"/>
                <a:gridCol w="342612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Dr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Kin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Neostigm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&amp; 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-2h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asthenia gravis 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ytic i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ary reten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are toxic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Physostigm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M, N, C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-2h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Lipid solu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opine tox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Pyridostigm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&amp; 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asthenia grav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Ambeno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&amp; 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asthenia gravis 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52280" y="188640"/>
            <a:ext cx="8740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direct Cholin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Organophosphorous compou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cothioph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versible anticholinester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cholinesterase by strong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very long duration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ing make bond extremely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highly lipid soluble except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cothioph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glauco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rganophosphates toxicit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 bradycardia, hypo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sp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reased GIT motility </a:t>
            </a:r>
            <a:r>
              <a:rPr b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amps &amp; 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NS effects </a:t>
            </a:r>
            <a:r>
              <a:rPr b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ulsion, coma and respiratory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twitching of skeletal muscle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cle weakness &amp; par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reatment of organophosphate tox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sterase reactivators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Ox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ine (to block muscarinic actions &amp; CNS effec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52280" y="333360"/>
            <a:ext cx="8839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acting cholinomimet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tudents should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indirect acting cholinomim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of action, kinetics, dynamics and uses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st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se effects &amp; contraindications of anticholinest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 and treatment of organophosphates tox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250920" y="296640"/>
            <a:ext cx="8642160" cy="62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XI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alidoxime  (P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sterase reactiv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by regeneration of cholinesterase enzy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vates recently inhibited enzymes before a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V.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 15-30 min for organophosphate intoxi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onepezi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291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sterase dru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1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1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dementia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zheimer’s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609480" y="0"/>
            <a:ext cx="795816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holinomi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52280" y="685800"/>
          <a:ext cx="8915400" cy="6095880"/>
        </p:xfrm>
        <a:graphic>
          <a:graphicData uri="http://schemas.openxmlformats.org/drawingml/2006/table">
            <a:tbl>
              <a:tblPr/>
              <a:tblGrid>
                <a:gridCol w="2459160"/>
                <a:gridCol w="2638440"/>
                <a:gridCol w="3817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droph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Very 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-15 min, Po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iagnosis of Myasthenia gra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ostig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hort   0.5-2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yasthenia gravis 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aralytic i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rinary reten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urare   toxic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hysostig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N, C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hort 0.5-2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Lipid sol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tropine tox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mben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yridostig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hort    3-6, 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yasthenia gravis 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cothio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ong  100hr, 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lauco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onepe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mentia of Alzheimer’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ummary for cholinomimetics &amp; their use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ye 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glauco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ocarpine (direct muscarinic ago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ostigmine -Ecothiophate (indirect cholinomimetic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rinary retention and paralytic i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hanechol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r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stigmine (indir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yasthenia gravis  (only indirect cholinomime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idostigmine, Neostigmine, Ambeno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Xerostom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ocarpine – Cevimeline (Sjogren’s  syndr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lzheimer’s diseas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epe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erse effects of cholinergic dru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d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ing &amp; Sal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aindications of cholinerg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c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tin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ob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24000" y="838080"/>
            <a:ext cx="84391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Any Questions ?</a:t>
            </a: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8736120" cy="64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holinomimetic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lso called anticholinesterases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echanism of a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sterases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hydrolysis of Ach by inhibiting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cetyl cholinestera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increase Ach concentrations and actions at the cholinergic receptors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both nicotinic and muscarin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87361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holinomimetics (anticholinesteras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2895480" y="2362320"/>
            <a:ext cx="1067040" cy="83808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2"/>
          <p:cNvSpPr/>
          <p:nvPr/>
        </p:nvSpPr>
        <p:spPr>
          <a:xfrm>
            <a:off x="4952880" y="1143000"/>
            <a:ext cx="2743200" cy="4343400"/>
          </a:xfrm>
          <a:prstGeom prst="rightArrowCallout">
            <a:avLst>
              <a:gd name="adj1" fmla="val 28297"/>
              <a:gd name="adj2" fmla="val 28287"/>
              <a:gd name="adj3" fmla="val 16667"/>
              <a:gd name="adj4" fmla="val 66667"/>
            </a:avLst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7696080" y="2971800"/>
            <a:ext cx="144792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4038480" y="281952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7"/>
          <p:cNvSpPr/>
          <p:nvPr/>
        </p:nvSpPr>
        <p:spPr>
          <a:xfrm>
            <a:off x="152280" y="4191120"/>
            <a:ext cx="30481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ineste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8"/>
          <p:cNvSpPr/>
          <p:nvPr/>
        </p:nvSpPr>
        <p:spPr>
          <a:xfrm>
            <a:off x="1676520" y="5791320"/>
            <a:ext cx="34290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line + Ace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9"/>
          <p:cNvSpPr/>
          <p:nvPr/>
        </p:nvSpPr>
        <p:spPr>
          <a:xfrm flipH="1">
            <a:off x="3352680" y="3352680"/>
            <a:ext cx="76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0"/>
          <p:cNvSpPr/>
          <p:nvPr/>
        </p:nvSpPr>
        <p:spPr>
          <a:xfrm flipH="1">
            <a:off x="1447560" y="4114800"/>
            <a:ext cx="685800" cy="914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2"/>
          <p:cNvSpPr/>
          <p:nvPr/>
        </p:nvSpPr>
        <p:spPr>
          <a:xfrm>
            <a:off x="1447920" y="4038480"/>
            <a:ext cx="685800" cy="10670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0" y="3454560"/>
            <a:ext cx="358128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cholinesteras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828800" y="2846520"/>
            <a:ext cx="5514840" cy="11509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276360" cy="2313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3"/>
          <a:stretch/>
        </p:blipFill>
        <p:spPr>
          <a:xfrm>
            <a:off x="533520" y="4218120"/>
            <a:ext cx="4381560" cy="230508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5"/>
          <p:cNvSpPr/>
          <p:nvPr/>
        </p:nvSpPr>
        <p:spPr>
          <a:xfrm>
            <a:off x="484200" y="189000"/>
            <a:ext cx="7974000" cy="954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ster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228600" y="1295280"/>
            <a:ext cx="868680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nticholinestera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imilar in structure to Ach so combine with cholinesterase instead of 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84200" y="188640"/>
            <a:ext cx="7974000" cy="725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anticholinester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609480" y="90792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609480" y="4952880"/>
            <a:ext cx="99072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52480" y="1143000"/>
            <a:ext cx="7162920" cy="226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versible anticholineste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cting (Alcohols)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drophon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mediate acting (Carbamates e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hysostigmine, Neostigmine, Pyridostig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1600200" y="3962520"/>
            <a:ext cx="7391520" cy="2082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Irreversible anticholineste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 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ates est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insecticides, gas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.g. Ecothiophate &amp; Isoflurophate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0"/>
          <p:cNvSpPr/>
          <p:nvPr/>
        </p:nvSpPr>
        <p:spPr>
          <a:xfrm>
            <a:off x="609480" y="1523880"/>
            <a:ext cx="10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74240" y="189000"/>
            <a:ext cx="8893080" cy="64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indirect cholin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hort acting, reversi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as edrophonium, it is an alcoh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weak hydrogen bond with acetylcholinesteras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termediate acting, 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amates e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two sites of cholinesteras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polar except physostig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o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ig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ido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ig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ig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versible indirect cholin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y long acting, Phosphate 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Ecothi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hate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flur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ng duration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 very stable covalent bond with cholinest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phosphates are lipid soluble except ecothiophate which is po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152280" y="259920"/>
            <a:ext cx="883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armacological effects of anticholinester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nticholinesterases have muscarinic and nicotinic actions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N &amp; M actions) and some have CNS effects (only lipid soluble drug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7:23:15Z</dcterms:created>
  <dc:creator>Marcelo</dc:creator>
  <dc:description/>
  <dc:language>en-US</dc:language>
  <cp:lastModifiedBy>User</cp:lastModifiedBy>
  <dcterms:modified xsi:type="dcterms:W3CDTF">2014-12-22T20:52:53Z</dcterms:modified>
  <cp:revision>53</cp:revision>
  <dc:subject/>
  <dc:title>Indirect cholinergic agonists</dc:title>
</cp:coreProperties>
</file>