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7F02-1D4C-4F22-9B74-7C51FF3DE5E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D7A7-E978-462F-B0C2-C6DD935ECD9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310-6D28-4896-9BB2-A6A568902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FFF-FC5D-4B97-892C-BE260688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7088D-6BD9-4760-8F01-2CDAC613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3821B-4824-4D79-8676-20E03A1B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77323-5156-47C3-8FC2-602B56A4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70BCD-EB53-4AB2-B4DA-9287B144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4B4D3-82BE-4307-8D3F-3A7AC1D3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11011-1420-498E-8849-9CABC93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45750-3F7D-4800-B333-6C4C9C7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BA02D7-A1CD-4EDA-A67F-B1BF67A0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D826E-4E14-40C9-9612-E9594C2E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D4080-FAEF-4321-8487-C445FC1A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615-329F-404B-9386-690DDDCB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59272B-286B-4959-8965-E5AAA3DB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F5C52-CE08-450E-B82A-1A1A551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FCB714-6011-4DF5-B7E2-62BDEF33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D2415-9B8D-4D3E-B7F7-7B9E362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17486-0B27-4D1F-9AAE-372E5EA2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EA4C4-93E7-476F-BA41-A141924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A572EB-B9D6-4285-BEDF-A57B2D4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DB9B6-BB9E-463E-9C44-46E04D8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3CA6F-B24E-4763-8D6C-50B5C032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486DA4-086C-4ACF-9EFD-4E9B331C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0A16-1AF8-44FA-88ED-E17ACA4D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70022-13C6-497A-9772-3E2D0877D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AF7B4-27C5-47EE-A54A-E7500401B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B46A9-A01F-4E27-87E8-D1FABE6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3B470-EBCD-4D1A-8C64-F3DC7324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3EF98-6FAD-4F8D-A0DB-1AF624BC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5CB9D7-D3B6-4158-B121-320DFA81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E6FC3-7F72-475C-941A-57D4F28F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127A25-6777-4A07-98CF-27396A2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02F73-E626-4960-982D-51ED6E6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35DB5-9EF1-4749-BE88-93B4CB04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1673-1F62-4FFF-B18C-5B782906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1F6D7-A1F4-470A-9F46-A521ECA4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7F72A-68C4-4386-9851-CD18E5A9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29458-5BDC-47EC-871B-3713131C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BDA34-73CE-4B2F-B6CC-C043992C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8765E-A9CB-420B-8664-910A66E7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2E7C5-8D6E-4E52-BD95-D107FEC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5C69D-3F91-4F0F-80C5-35E7CC41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32798-9907-4C66-840B-41D8E049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12F57-2DC9-4B3D-8F85-5CF139E3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63608-8585-49F9-9E62-47A9D4F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C991-38FB-4831-BF2E-1E859130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23972-D087-4728-A949-85219C84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49B8F-861A-4B04-83A8-64BA657B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688DC-50AB-4721-A6AE-563E553D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5D406-FA4C-4404-A0A7-AA78E3F8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64619-3226-4267-8CB3-659F0CB8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2FE4F5-161D-4E16-9D20-8887DCF3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B3EAC-546A-4DDD-9D26-987156C9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7200F-CCDE-41A1-BFAA-975E5BF1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31BD6B-5FF5-41E4-A5BA-76F95D13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D6176A-0FF2-42B2-8054-9DCA977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040F-7D0B-4E89-9FEB-D2BA69AD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F298A-8027-4DE9-9838-58D4CD2F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B8A100-2D93-41B1-9795-78AC1F4F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92429B-8D72-4A43-BFB3-7EF4549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DEEE27-CFB7-47D8-B1EF-FFED0AF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3261F5-CE21-4116-AFAF-7241A490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ABAE9D-71F7-4447-A8B7-1FA67954B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C8A69-D4C6-4821-8FB7-71785DE8B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4816-2955-42ED-BCF8-EAADD70A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10A3-6F90-4A90-B91B-713E5E80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85CF-5BF3-4819-9B13-5C6A68DC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332E-DDCE-47F1-A0FF-81FE444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0D60-CDE5-4064-8F96-D9787F73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DBFF-AAF2-4569-A028-D17326AE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D1EA-8D60-4982-AF10-B8038046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FE58-8CBC-4295-A79B-AE0B4F0F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E441-7925-403B-AD34-CF3BBD83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AEA8-22EE-4CE8-9535-5EEE158C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F967-FE2D-4F3A-866F-8EF627AA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5140-5FD0-4D3A-B069-C5FB9A54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F979-F905-4336-89D3-A23365D8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3B1ED-0A51-4D35-9686-D6CC142C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C1CF0-024B-4B1E-B569-5002CA13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2542-1737-42B1-A238-C3D2B4AD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42856-C671-4801-AC11-3E767521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8FF7-FA64-4ACF-8BB4-AC1B6D48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871BE-C196-4767-ACDA-DCB991E5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62C7C-D299-4538-BE51-40E81142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74B75-2276-4018-85EC-917E7AD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8AD3-1BF4-4690-97A2-05151812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73B97-3222-4F64-AB67-B3333D7A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B23EB-02A7-484F-B219-69C5EE1B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AE27A-EA76-4213-8FD7-54AC6D4D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3A760-16B5-4F51-ABBE-817AB8DC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8FC-A455-42D7-BEA8-1BD65C3E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DC979-4C54-4A21-821D-27D18806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17B84-F74D-454A-AB17-A0C7702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9A683-BB12-46AE-BB5A-BB909E1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6E7DA-8772-4130-BBB2-1670B3AA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90FAD-0ABF-407E-B312-3359B6DC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7069E-DB79-42FA-9367-9E45EE6D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33D2D-4E8E-4D4F-90D7-31318F7E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408B1-9617-4E4C-A2F0-7C36D7E57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690D4-8AA0-404C-A718-8D9F5BA15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3E28D-D57D-4FB5-8B22-6FE1DB38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566-7201-4FF4-8B0B-463575EC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B750-6995-4302-AC23-1E2F1D25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8BED-BCDB-451C-9803-B3CD161E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5F76B-50DA-49D0-84F0-BDC9DC693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FD081-0208-45AF-BD85-5D42A682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D7944-6DB2-4984-8AB7-13488CE4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C9995-A2AD-4D59-8B5E-C068EB74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A5429-412D-4915-BB85-DFE39370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9B755-8FDE-413A-82FA-AF61CE8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C3726-0539-41E8-A369-A7C22DBD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542FB-219B-41E8-AA61-72D1B61E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999C-89B1-4CD0-848D-40492CEC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447F3-A442-4E83-8A34-1601D39EC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CDC52-DF94-4E5F-A398-2DF58EFB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762B2-6B8F-4ED7-82BE-72D1E0F2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3E2DF-B941-4FBA-B070-95D05CD5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70FD-222B-4BB5-AC9F-02BF038B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0FF5-7806-4961-B992-28748C747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0F500-2105-48C1-9E6E-F36329C8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F8DCE-C685-46E7-BD27-0405CC7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068D0-D378-4546-A4FE-59A76CA56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A804A-CD60-4BA1-8925-D727F530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20F-4225-4B41-946D-C8D990F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2C6CA-E431-4B76-9F5D-7256924E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09DD6-7F06-43FC-9415-4991F773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6D44-AAC4-4984-81E7-167004C4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44B7A-2E75-4DED-8A70-BEE78B4C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08D27-1348-4D07-8E04-B8ED62F6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9B79-9B57-497E-A5E0-97832072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CBA8-29DF-4C66-AF03-F0860AD8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9056B-FBD0-4635-857E-9053CC8D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B7132-4D2C-4A57-B242-4CD3EE25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F58CC-B682-4650-9544-CA640180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FEF-03F8-4582-BA65-6AB30E97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58A3-650A-47AB-BFF4-38B783D3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4C93F-F066-4B91-B8ED-F7F53A15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84B9F-901A-46D8-9E66-DFCEA0E9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2D078-CBE4-4FEA-8F76-E9C344A7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33158-EC08-428B-8C99-D6929CAF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6501B-F608-4A41-8B88-58051217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EAE90-08F7-46F3-AED6-5C625528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A77A3-2C2B-4147-9623-4E63364A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DEF7-C3EC-48AA-8391-446C1EA5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CED4E-2D67-4C17-9C2A-5AF523C5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E454-9ED1-456D-B616-2C3EA212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9D7EB-AA68-4099-8420-FEC59D4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A02DE-5B97-4BD7-BE84-C8EA4EC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18FAF-21AE-4E7F-B5A1-374CD4AA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16F2E-FED1-4EE4-A5B4-2B519279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28977E-F9AB-47F4-8C72-0F56FEB9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AF7DA-3679-4826-A6DB-FEF62006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0A551-852E-46C8-B2A5-74B1FE37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2DDA0E-2569-4D07-A85B-A3B4A0040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93291-E7C8-4984-807E-0CA7CC70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E33E0-9D75-4887-A2D5-FD133B90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f8c4"/>
              </a:gs>
              <a:gs pos="100000">
                <a:srgbClr val="f6fbd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38E9-E0C6-4F1D-BA01-FAB3725DA94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A5F3-CD60-4D8B-9058-1B74ABDDBF5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28AF6-71EA-4F74-A1E8-8AF845658B1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BC21-51D7-4B8E-AC45-A541615AD3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53FD-79C1-4048-AEE5-3FC55D21749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0632A-7170-4C07-8245-D541FC22AA7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7937-9435-4EEF-A85C-6BAC9F0825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7A7D1-BF01-4EEC-B090-17B0C50E0A4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6001-79EF-4F2D-9998-81B34C922BE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DA16-4CF7-4206-968B-E3133B893DE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0D44-246A-4629-8F13-5C03564D765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340F-8AAF-4D4B-AA81-3F6F0C8A17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FE32-FC3B-483C-926E-832DBBCF7D8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2666880" y="3886200"/>
          <a:ext cx="4114800" cy="10666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logical effects of anticholinester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a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actions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milar to Ach</a:t>
            </a:r>
            <a:r>
              <a:rPr b="1" lang="en-US" sz="30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iosis, bradycardia, bronchoconstrictions, increased motility, secretion of exocrine gland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NS action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citation, convulsion, respiratory failure, com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nl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ipid soluble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cholinester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physostigmine &amp; phosphate e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except ecothiophate that is polar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5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58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euromuscular jun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rapeutic dos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 contr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oxic dose: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r paralysis of skeletal muscl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Ganglia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ion of sympathetic and parasympathetic gangl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drenal medulla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release of catecholamines (A &amp; NA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324000" y="109440"/>
            <a:ext cx="820872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tion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24000" y="109440"/>
            <a:ext cx="820872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250920" y="785880"/>
          <a:ext cx="8713800" cy="5810040"/>
        </p:xfrm>
        <a:graphic>
          <a:graphicData uri="http://schemas.openxmlformats.org/drawingml/2006/table">
            <a:tbl>
              <a:tblPr/>
              <a:tblGrid>
                <a:gridCol w="1882800"/>
                <a:gridCol w="6831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Org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Cholinergic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rcular muscle of iris (miosis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)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liary muscles for near vis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Decrease in intraocular press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ndotheli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radycardia (   heart rate )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ease of NO (EDRF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striction of bronchial smooth musc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bronchial secret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d motility (peristalsi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d secre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musc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of sweat, saliva, lacrimal, bronchial, intestinal secretions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Line 35"/>
          <p:cNvSpPr/>
          <p:nvPr/>
        </p:nvSpPr>
        <p:spPr>
          <a:xfrm>
            <a:off x="3962520" y="2209680"/>
            <a:ext cx="0" cy="381240"/>
          </a:xfrm>
          <a:prstGeom prst="line">
            <a:avLst/>
          </a:prstGeom>
          <a:ln w="2844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Edrophon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anticholinesteras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absorbed orally </a:t>
            </a: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given by injec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mainly to acetyl cholinesterase by weak hydrogen bon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5-15 min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5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diagnosis of myasthenia grav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tretch/>
        </p:blipFill>
        <p:spPr>
          <a:xfrm>
            <a:off x="5791320" y="1219320"/>
            <a:ext cx="3276360" cy="1981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5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51920" y="151920"/>
            <a:ext cx="8667720" cy="630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yso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anticholinester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tiary ammonium compound</a:t>
            </a:r>
            <a:r>
              <a:rPr b="1" lang="en-US" sz="3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 polar (lipid solubl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ipid solu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oral absor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&amp; nicotin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BB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has CNS effect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ff0066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 toxicity (atropine is anticholinergic dru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3" descr=""/>
          <p:cNvPicPr/>
          <p:nvPr/>
        </p:nvPicPr>
        <p:blipFill>
          <a:blip r:embed="rId1"/>
          <a:stretch/>
        </p:blipFill>
        <p:spPr>
          <a:xfrm>
            <a:off x="5943600" y="533520"/>
            <a:ext cx="2819520" cy="1904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64480" cy="63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eostigmi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anticholinester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ammonium com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ar comp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used or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o CNS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&amp; nicotin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minent on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GIT &amp; urinary tr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myasthenia grav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ytic ileus &amp; Urinary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neuromuscular blockers intox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5715000" y="76320"/>
            <a:ext cx="3352680" cy="3047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09480" y="152280"/>
            <a:ext cx="8001000" cy="609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am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2280" y="988920"/>
          <a:ext cx="8839440" cy="5472360"/>
        </p:xfrm>
        <a:graphic>
          <a:graphicData uri="http://schemas.openxmlformats.org/drawingml/2006/table">
            <a:tbl>
              <a:tblPr/>
              <a:tblGrid>
                <a:gridCol w="2210040"/>
                <a:gridCol w="1546200"/>
                <a:gridCol w="1657080"/>
                <a:gridCol w="342612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Kine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Neostig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&amp;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2h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ytic i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ary reten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rare toxic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Physostig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, C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-2h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Lipid solu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opine tox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Pyridostigm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&amp;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sthenia grav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Ambenon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&amp; 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82308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152280" y="188640"/>
            <a:ext cx="8740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Organophosphorous compoun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cothio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versible anticholinester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cholinesterase by strong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very long 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ing make bond extremely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re highly lipid soluble except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cothioph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glaucom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5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rganophosphates toxicity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 bradycardia, hypot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spa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reased GIT motility 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amps &amp; diarrh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NS effects </a:t>
            </a:r>
            <a:r>
              <a:rPr b="1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ulsion, coma and respiratory fail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twitching of skeletal muscle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cle weakness &amp; par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reatment of organophosphate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re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reactivators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Oxi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 (to block muscarinic actions &amp; CNS effec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52280" y="333360"/>
            <a:ext cx="8839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acting cholinomimet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udents should kn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indirect acting cholinomim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, kinetics, dynamics and uses of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se effects &amp; contraindications of anticholineste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s and treatment of organophosphates toxi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50920" y="296640"/>
            <a:ext cx="8642160" cy="62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8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OX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alidoxime  (P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reactiv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by regeneration of cholinesterase enz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ctivates recently inhibited enzymes before ag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V.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 15-30 min for organophosphate intoxi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681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421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919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Donepezi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 dru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or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1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dementia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91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zheimer’s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09480" y="0"/>
            <a:ext cx="795816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"/>
          <p:cNvGraphicFramePr/>
          <p:nvPr/>
        </p:nvGraphicFramePr>
        <p:xfrm>
          <a:off x="152280" y="685800"/>
          <a:ext cx="8915400" cy="6095880"/>
        </p:xfrm>
        <a:graphic>
          <a:graphicData uri="http://schemas.openxmlformats.org/drawingml/2006/table">
            <a:tbl>
              <a:tblPr/>
              <a:tblGrid>
                <a:gridCol w="2459160"/>
                <a:gridCol w="2638440"/>
                <a:gridCol w="38178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droph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Very 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5-15 min, Pol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iagnosis of Myasthenia gra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Neostig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hort   0.5-2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aralytic il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Urinary reten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curare   toxicit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hysostig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N, C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hort 0.5-2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Lipid sol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tropine toxic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Amben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Pyridostig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Short    3-6,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Myasthenia gravis 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Ecothioph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Long  100hr,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Glauco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onepez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  <a:ea typeface="Arial Unicode MS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ementia of Alzheimer’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ummary for cholinomimetics &amp; their uses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ye :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glauco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carpine (direct muscarinic agon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stigmine -Ecothiophate (indirect cholinomimetic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rinary retention and paralytic i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hanechol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r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stigmine (indire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yasthenia gravis  (only indirect cholinomime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idostigmine, Neostigmine, Ambeno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Xerostomi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locarpine – Cevimeline (Sjogren’s  syndro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lzheimer’s diseas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nepez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erse effects of cholinergic drug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d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&amp; Sal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of 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tin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53352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ob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Any Questions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8736120" cy="6408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also called anticholinesterases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Mechanism of a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s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 hydrolysis of Ach by inhibiting </a:t>
            </a:r>
            <a:r>
              <a:rPr b="1" lang="en-US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cetyl cholinesteras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s increase Ach concentrations and actions at the cholinergic receptors </a:t>
            </a:r>
            <a:r>
              <a:rPr b="1" lang="en-US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both nicotinic and muscarinic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87361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rect cholinomimetics (anticholinesteras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2895480" y="2362320"/>
            <a:ext cx="1067040" cy="83808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2"/>
          <p:cNvSpPr/>
          <p:nvPr/>
        </p:nvSpPr>
        <p:spPr>
          <a:xfrm>
            <a:off x="4952880" y="1143000"/>
            <a:ext cx="2743200" cy="4343400"/>
          </a:xfrm>
          <a:prstGeom prst="rightArrowCallout">
            <a:avLst>
              <a:gd name="adj1" fmla="val 28297"/>
              <a:gd name="adj2" fmla="val 28287"/>
              <a:gd name="adj3" fmla="val 16667"/>
              <a:gd name="adj4" fmla="val 66667"/>
            </a:avLst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14"/>
          <p:cNvSpPr/>
          <p:nvPr/>
        </p:nvSpPr>
        <p:spPr>
          <a:xfrm>
            <a:off x="7696080" y="2971800"/>
            <a:ext cx="144792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5"/>
          <p:cNvSpPr/>
          <p:nvPr/>
        </p:nvSpPr>
        <p:spPr>
          <a:xfrm>
            <a:off x="4038480" y="2819520"/>
            <a:ext cx="8384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7"/>
          <p:cNvSpPr/>
          <p:nvPr/>
        </p:nvSpPr>
        <p:spPr>
          <a:xfrm>
            <a:off x="152280" y="4191120"/>
            <a:ext cx="3048120" cy="6858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lineste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18"/>
          <p:cNvSpPr/>
          <p:nvPr/>
        </p:nvSpPr>
        <p:spPr>
          <a:xfrm>
            <a:off x="1676520" y="5791320"/>
            <a:ext cx="3429000" cy="7617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line + Ace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9"/>
          <p:cNvSpPr/>
          <p:nvPr/>
        </p:nvSpPr>
        <p:spPr>
          <a:xfrm flipH="1">
            <a:off x="3352680" y="3352680"/>
            <a:ext cx="763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20"/>
          <p:cNvSpPr/>
          <p:nvPr/>
        </p:nvSpPr>
        <p:spPr>
          <a:xfrm flipH="1">
            <a:off x="1447560" y="4114800"/>
            <a:ext cx="685800" cy="91440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22"/>
          <p:cNvSpPr/>
          <p:nvPr/>
        </p:nvSpPr>
        <p:spPr>
          <a:xfrm>
            <a:off x="1447920" y="4038480"/>
            <a:ext cx="685800" cy="10670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0" y="3454560"/>
            <a:ext cx="3581280" cy="1068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cholinesteras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828800" y="2846520"/>
            <a:ext cx="5514840" cy="1150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"/>
          <p:cNvPicPr/>
          <p:nvPr/>
        </p:nvPicPr>
        <p:blipFill>
          <a:blip r:embed="rId2"/>
          <a:stretch/>
        </p:blipFill>
        <p:spPr>
          <a:xfrm>
            <a:off x="5105520" y="4191120"/>
            <a:ext cx="3276360" cy="2313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"/>
          <p:cNvPicPr/>
          <p:nvPr/>
        </p:nvPicPr>
        <p:blipFill>
          <a:blip r:embed="rId3"/>
          <a:stretch/>
        </p:blipFill>
        <p:spPr>
          <a:xfrm>
            <a:off x="533520" y="4218120"/>
            <a:ext cx="4381560" cy="23050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5"/>
          <p:cNvSpPr/>
          <p:nvPr/>
        </p:nvSpPr>
        <p:spPr>
          <a:xfrm>
            <a:off x="484200" y="189000"/>
            <a:ext cx="7974000" cy="954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ste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228600" y="1295280"/>
            <a:ext cx="8686800" cy="947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7086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nticholinesteras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similar in structure to Ach so combine with cholinesterase instead of 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84200" y="188640"/>
            <a:ext cx="7974000" cy="7254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 of anticholinester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3"/>
          <p:cNvSpPr/>
          <p:nvPr/>
        </p:nvSpPr>
        <p:spPr>
          <a:xfrm>
            <a:off x="609480" y="907920"/>
            <a:ext cx="0" cy="410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609480" y="4952880"/>
            <a:ext cx="990720" cy="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1752480" y="1143000"/>
            <a:ext cx="7162920" cy="2269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Reversible anticholineste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rt acting (Alcohols)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drophoni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mediate acting (Carbamates e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Physostigmine, Neostigmine, Pyridostig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9"/>
          <p:cNvSpPr/>
          <p:nvPr/>
        </p:nvSpPr>
        <p:spPr>
          <a:xfrm>
            <a:off x="1600200" y="3962520"/>
            <a:ext cx="7391520" cy="208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Times New Roman"/>
              </a:rPr>
              <a:t>Irreversible anticholineste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a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osphates ester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insecticides, gas w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e.g. Ecothiophate &amp; Isoflurophate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609480" y="1523880"/>
            <a:ext cx="100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4240" y="189000"/>
            <a:ext cx="8893080" cy="64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hort acting, reversibl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as edrophonium, it is an alcoh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s weak hydrogen bond with acetylcholinester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termediate acting, rever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amates e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s to two sites of cholinesterase enzy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olar except physostigm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yrido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</a:t>
            </a:r>
            <a:r>
              <a:rPr b="0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tig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10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5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5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5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5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1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reversible indirect cholinomim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y long acting, Phosphate 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Ecoth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hate 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flur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long 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 very stable covalent bond with cholinester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hosphates are lipid soluble except ecothiophate which is po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10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5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152280" y="259920"/>
            <a:ext cx="883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logical effects of anticholinesteras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nticholinesterases have muscarinic and nicotinic actions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N &amp; M actions) and some have CNS effects (only lipid soluble drug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7:23:15Z</dcterms:created>
  <dc:creator>Marcelo</dc:creator>
  <dc:description/>
  <dc:language>en-US</dc:language>
  <cp:lastModifiedBy>User</cp:lastModifiedBy>
  <dcterms:modified xsi:type="dcterms:W3CDTF">2014-12-22T20:52:53Z</dcterms:modified>
  <cp:revision>53</cp:revision>
  <dc:subject/>
  <dc:title>Indirect cholinergic agonists</dc:title>
</cp:coreProperties>
</file>