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39A-B5EC-4E6A-AB62-F521869F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36B-8FCF-4784-9F52-C3B4BEDD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1C6-5602-469A-ADC4-C29EF25B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91C-0AA4-4B05-92DD-D64F1710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A14-B261-4E07-8F5B-A9C59E98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6EA-6977-4D32-802C-AFFF8691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783-90FC-4780-A70C-015C3FA6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21F-EFF7-4323-A6E6-E0ACC0A4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A37-F78D-4BEF-A3DA-05BC5F1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CFE-E3D7-4F44-A559-D0041340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98A-8BB6-4949-80E4-585F28D3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328-D78E-42E8-8684-F049BE60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4F00-F02B-4799-9F32-75046E78F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ER LIMB RADIOLOGY 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صورة 1" descr="stacks_image_3773_1.png"/>
          <p:cNvPicPr/>
          <p:nvPr/>
        </p:nvPicPr>
        <p:blipFill>
          <a:blip r:embed="rId1"/>
          <a:stretch/>
        </p:blipFill>
        <p:spPr>
          <a:xfrm>
            <a:off x="1357200" y="714240"/>
            <a:ext cx="6357960" cy="4768920"/>
          </a:xfrm>
          <a:prstGeom prst="rect">
            <a:avLst/>
          </a:prstGeom>
          <a:ln w="0">
            <a:noFill/>
          </a:ln>
        </p:spPr>
      </p:pic>
      <p:sp>
        <p:nvSpPr>
          <p:cNvPr id="175" name="مربع نص 2"/>
          <p:cNvSpPr/>
          <p:nvPr/>
        </p:nvSpPr>
        <p:spPr>
          <a:xfrm>
            <a:off x="1428840" y="56437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RE OSTEOARTHR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THIG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midunlabeled.jpg"/>
          <p:cNvPicPr/>
          <p:nvPr/>
        </p:nvPicPr>
        <p:blipFill>
          <a:blip r:embed="rId1"/>
          <a:stretch/>
        </p:blipFill>
        <p:spPr>
          <a:xfrm>
            <a:off x="152280" y="182880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533412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6400800" y="25146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6477120" y="19051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6934320" y="2286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7467480" y="2895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7162920" y="30481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7543800" y="36576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693432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6553080" y="4191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4"/>
          <p:cNvSpPr/>
          <p:nvPr/>
        </p:nvSpPr>
        <p:spPr>
          <a:xfrm>
            <a:off x="5867280" y="396252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5715000" y="342900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867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2" descr="ser004img00015.jpg"/>
          <p:cNvPicPr/>
          <p:nvPr/>
        </p:nvPicPr>
        <p:blipFill>
          <a:blip r:embed="rId2"/>
          <a:srcRect l="17192" t="31254" r="53097" b="36562"/>
          <a:stretch/>
        </p:blipFill>
        <p:spPr>
          <a:xfrm>
            <a:off x="4495680" y="1828800"/>
            <a:ext cx="4114800" cy="42102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3"/>
          <p:cNvSpPr/>
          <p:nvPr/>
        </p:nvSpPr>
        <p:spPr>
          <a:xfrm>
            <a:off x="1523880" y="533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5"/>
          <p:cNvSpPr/>
          <p:nvPr/>
        </p:nvSpPr>
        <p:spPr>
          <a:xfrm>
            <a:off x="6019920" y="533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midunlabeled.jpg"/>
          <p:cNvPicPr/>
          <p:nvPr/>
        </p:nvPicPr>
        <p:blipFill>
          <a:blip r:embed="rId1"/>
          <a:stretch/>
        </p:blipFill>
        <p:spPr>
          <a:xfrm>
            <a:off x="4495680" y="1066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533412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5638680" y="22860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6477120" y="19051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6934320" y="2286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7467480" y="2895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7543800" y="36576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693432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6429240" y="42148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5867280" y="396252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5"/>
          <p:cNvSpPr/>
          <p:nvPr/>
        </p:nvSpPr>
        <p:spPr>
          <a:xfrm>
            <a:off x="5429160" y="33577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5867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75438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19"/>
          <p:cNvCxnSpPr/>
          <p:nvPr/>
        </p:nvCxnSpPr>
        <p:spPr>
          <a:xfrm flipH="1">
            <a:off x="7009560" y="2285640"/>
            <a:ext cx="686520" cy="6865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08" name="مربع نص 17"/>
          <p:cNvSpPr/>
          <p:nvPr/>
        </p:nvSpPr>
        <p:spPr>
          <a:xfrm>
            <a:off x="428760" y="714240"/>
            <a:ext cx="3786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 Vastus laterali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- Vastus intermedi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- Vastus mediali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- Rectus femori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- Sartori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- Gracilie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- Adductor magn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- Adductor long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- Semimemrano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- Semitendinous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- Biceps femori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2- Fe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3- Femor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مربع نص 18"/>
          <p:cNvSpPr/>
          <p:nvPr/>
        </p:nvSpPr>
        <p:spPr>
          <a:xfrm>
            <a:off x="7072200" y="307188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مستطيل 20"/>
          <p:cNvSpPr/>
          <p:nvPr/>
        </p:nvSpPr>
        <p:spPr>
          <a:xfrm>
            <a:off x="357120" y="1071720"/>
            <a:ext cx="3571920" cy="464328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مربع نص 1"/>
          <p:cNvSpPr/>
          <p:nvPr/>
        </p:nvSpPr>
        <p:spPr>
          <a:xfrm>
            <a:off x="1857240" y="2571840"/>
            <a:ext cx="52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ANK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صورة 3" descr="12222.jpg"/>
          <p:cNvPicPr/>
          <p:nvPr/>
        </p:nvPicPr>
        <p:blipFill>
          <a:blip r:embed="rId1"/>
          <a:srcRect l="59193" t="10416" r="0" b="12501"/>
          <a:stretch/>
        </p:blipFill>
        <p:spPr>
          <a:xfrm>
            <a:off x="4857840" y="571680"/>
            <a:ext cx="3917880" cy="5935320"/>
          </a:xfrm>
          <a:prstGeom prst="rect">
            <a:avLst/>
          </a:prstGeom>
          <a:ln w="0">
            <a:noFill/>
          </a:ln>
        </p:spPr>
      </p:pic>
      <p:sp>
        <p:nvSpPr>
          <p:cNvPr id="213" name="شكل بيضاوي 5"/>
          <p:cNvSpPr/>
          <p:nvPr/>
        </p:nvSpPr>
        <p:spPr>
          <a:xfrm>
            <a:off x="7000920" y="2143080"/>
            <a:ext cx="28584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شكل بيضاوي 6"/>
          <p:cNvSpPr/>
          <p:nvPr/>
        </p:nvSpPr>
        <p:spPr>
          <a:xfrm>
            <a:off x="7786800" y="4429080"/>
            <a:ext cx="28548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شكل بيضاوي 7"/>
          <p:cNvSpPr/>
          <p:nvPr/>
        </p:nvSpPr>
        <p:spPr>
          <a:xfrm>
            <a:off x="5786280" y="2143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شكل بيضاوي 8"/>
          <p:cNvSpPr/>
          <p:nvPr/>
        </p:nvSpPr>
        <p:spPr>
          <a:xfrm>
            <a:off x="5572080" y="4929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شكل بيضاوي 9"/>
          <p:cNvSpPr/>
          <p:nvPr/>
        </p:nvSpPr>
        <p:spPr>
          <a:xfrm>
            <a:off x="6858000" y="4929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مربع نص 10"/>
          <p:cNvSpPr/>
          <p:nvPr/>
        </p:nvSpPr>
        <p:spPr>
          <a:xfrm>
            <a:off x="1000080" y="2357280"/>
            <a:ext cx="335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Ti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Medial malleo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Fib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- Lateral melleo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- Dome of t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مستطيل 11"/>
          <p:cNvSpPr/>
          <p:nvPr/>
        </p:nvSpPr>
        <p:spPr>
          <a:xfrm>
            <a:off x="785880" y="2000160"/>
            <a:ext cx="3714840" cy="29289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صورة 1" descr="12222.jpg"/>
          <p:cNvPicPr/>
          <p:nvPr/>
        </p:nvPicPr>
        <p:blipFill>
          <a:blip r:embed="rId1"/>
          <a:srcRect l="-122" t="22917" r="50836" b="0"/>
          <a:stretch/>
        </p:blipFill>
        <p:spPr>
          <a:xfrm>
            <a:off x="4643280" y="500040"/>
            <a:ext cx="4071960" cy="5786640"/>
          </a:xfrm>
          <a:prstGeom prst="rect">
            <a:avLst/>
          </a:prstGeom>
          <a:ln w="0">
            <a:noFill/>
          </a:ln>
        </p:spPr>
      </p:pic>
      <p:sp>
        <p:nvSpPr>
          <p:cNvPr id="221" name="شكل حر 7"/>
          <p:cNvSpPr/>
          <p:nvPr/>
        </p:nvSpPr>
        <p:spPr>
          <a:xfrm>
            <a:off x="6095880" y="1506600"/>
            <a:ext cx="1436760" cy="1801800"/>
          </a:xfrm>
          <a:custGeom>
            <a:avLst/>
            <a:gdLst/>
            <a:ahLst/>
            <a:rect l="l" t="t" r="r" b="b"/>
            <a:pathLst>
              <a:path w="1436594" h="1801905">
                <a:moveTo>
                  <a:pt x="1111624" y="94129"/>
                </a:moveTo>
                <a:cubicBezTo>
                  <a:pt x="1134035" y="318247"/>
                  <a:pt x="1156447" y="542365"/>
                  <a:pt x="1192306" y="699247"/>
                </a:cubicBezTo>
                <a:cubicBezTo>
                  <a:pt x="1228165" y="856129"/>
                  <a:pt x="1288676" y="930088"/>
                  <a:pt x="1326776" y="1035423"/>
                </a:cubicBezTo>
                <a:cubicBezTo>
                  <a:pt x="1364876" y="1140758"/>
                  <a:pt x="1409700" y="1228164"/>
                  <a:pt x="1420906" y="1331258"/>
                </a:cubicBezTo>
                <a:cubicBezTo>
                  <a:pt x="1432112" y="1434352"/>
                  <a:pt x="1436594" y="1577788"/>
                  <a:pt x="1394012" y="1653988"/>
                </a:cubicBezTo>
                <a:cubicBezTo>
                  <a:pt x="1351430" y="1730188"/>
                  <a:pt x="1241612" y="1801905"/>
                  <a:pt x="1165412" y="1788458"/>
                </a:cubicBezTo>
                <a:cubicBezTo>
                  <a:pt x="1089212" y="1775011"/>
                  <a:pt x="1019736" y="1624852"/>
                  <a:pt x="936812" y="1573305"/>
                </a:cubicBezTo>
                <a:cubicBezTo>
                  <a:pt x="853889" y="1521758"/>
                  <a:pt x="757518" y="1481417"/>
                  <a:pt x="667871" y="1479176"/>
                </a:cubicBezTo>
                <a:cubicBezTo>
                  <a:pt x="578224" y="1476935"/>
                  <a:pt x="477370" y="1528481"/>
                  <a:pt x="398929" y="1559858"/>
                </a:cubicBezTo>
                <a:cubicBezTo>
                  <a:pt x="320488" y="1591235"/>
                  <a:pt x="259977" y="1705535"/>
                  <a:pt x="197224" y="1667435"/>
                </a:cubicBezTo>
                <a:cubicBezTo>
                  <a:pt x="134471" y="1629335"/>
                  <a:pt x="44824" y="1456764"/>
                  <a:pt x="22412" y="1331258"/>
                </a:cubicBezTo>
                <a:cubicBezTo>
                  <a:pt x="0" y="1205752"/>
                  <a:pt x="29135" y="1060076"/>
                  <a:pt x="62753" y="914400"/>
                </a:cubicBezTo>
                <a:cubicBezTo>
                  <a:pt x="96371" y="768724"/>
                  <a:pt x="188259" y="609600"/>
                  <a:pt x="224118" y="457200"/>
                </a:cubicBezTo>
                <a:cubicBezTo>
                  <a:pt x="259977" y="304800"/>
                  <a:pt x="268941" y="152400"/>
                  <a:pt x="277906" y="0"/>
                </a:cubicBezTo>
              </a:path>
            </a:pathLst>
          </a:custGeom>
          <a:noFill/>
          <a:ln w="38160">
            <a:solidFill>
              <a:srgbClr val="4bac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شكل حر 9"/>
          <p:cNvSpPr/>
          <p:nvPr/>
        </p:nvSpPr>
        <p:spPr>
          <a:xfrm>
            <a:off x="5572080" y="3071880"/>
            <a:ext cx="2040120" cy="1484280"/>
          </a:xfrm>
          <a:custGeom>
            <a:avLst/>
            <a:gdLst/>
            <a:ahLst/>
            <a:rect l="l" t="t" r="r" b="b"/>
            <a:pathLst>
              <a:path w="2039471" h="1483658">
                <a:moveTo>
                  <a:pt x="13447" y="768723"/>
                </a:moveTo>
                <a:cubicBezTo>
                  <a:pt x="84044" y="701487"/>
                  <a:pt x="154641" y="634252"/>
                  <a:pt x="215153" y="607358"/>
                </a:cubicBezTo>
                <a:cubicBezTo>
                  <a:pt x="275665" y="580464"/>
                  <a:pt x="316006" y="623046"/>
                  <a:pt x="376518" y="607358"/>
                </a:cubicBezTo>
                <a:cubicBezTo>
                  <a:pt x="437030" y="591670"/>
                  <a:pt x="526677" y="569258"/>
                  <a:pt x="578224" y="513229"/>
                </a:cubicBezTo>
                <a:cubicBezTo>
                  <a:pt x="629771" y="457200"/>
                  <a:pt x="634253" y="338417"/>
                  <a:pt x="685800" y="271182"/>
                </a:cubicBezTo>
                <a:cubicBezTo>
                  <a:pt x="737347" y="203947"/>
                  <a:pt x="802341" y="154641"/>
                  <a:pt x="887506" y="109817"/>
                </a:cubicBezTo>
                <a:cubicBezTo>
                  <a:pt x="972671" y="64994"/>
                  <a:pt x="1086970" y="4482"/>
                  <a:pt x="1196788" y="2241"/>
                </a:cubicBezTo>
                <a:cubicBezTo>
                  <a:pt x="1306606" y="0"/>
                  <a:pt x="1452283" y="42582"/>
                  <a:pt x="1546412" y="96370"/>
                </a:cubicBezTo>
                <a:cubicBezTo>
                  <a:pt x="1640542" y="150158"/>
                  <a:pt x="1703295" y="248770"/>
                  <a:pt x="1761565" y="324970"/>
                </a:cubicBezTo>
                <a:cubicBezTo>
                  <a:pt x="1819835" y="401170"/>
                  <a:pt x="1864658" y="479611"/>
                  <a:pt x="1896035" y="553570"/>
                </a:cubicBezTo>
                <a:cubicBezTo>
                  <a:pt x="1927412" y="627529"/>
                  <a:pt x="1927412" y="712694"/>
                  <a:pt x="1949824" y="768723"/>
                </a:cubicBezTo>
                <a:cubicBezTo>
                  <a:pt x="1972236" y="824752"/>
                  <a:pt x="2039471" y="833717"/>
                  <a:pt x="2030506" y="889746"/>
                </a:cubicBezTo>
                <a:cubicBezTo>
                  <a:pt x="2021541" y="945775"/>
                  <a:pt x="1922929" y="1042146"/>
                  <a:pt x="1896035" y="1104899"/>
                </a:cubicBezTo>
                <a:cubicBezTo>
                  <a:pt x="1869141" y="1167652"/>
                  <a:pt x="1945341" y="1255058"/>
                  <a:pt x="1869141" y="1266264"/>
                </a:cubicBezTo>
                <a:cubicBezTo>
                  <a:pt x="1792941" y="1277470"/>
                  <a:pt x="1566582" y="1167653"/>
                  <a:pt x="1438835" y="1172135"/>
                </a:cubicBezTo>
                <a:cubicBezTo>
                  <a:pt x="1311088" y="1176617"/>
                  <a:pt x="1203512" y="1246093"/>
                  <a:pt x="1102659" y="1293158"/>
                </a:cubicBezTo>
                <a:cubicBezTo>
                  <a:pt x="1001806" y="1340223"/>
                  <a:pt x="927847" y="1447799"/>
                  <a:pt x="833718" y="1454523"/>
                </a:cubicBezTo>
                <a:cubicBezTo>
                  <a:pt x="739589" y="1461247"/>
                  <a:pt x="629771" y="1331258"/>
                  <a:pt x="537883" y="1333499"/>
                </a:cubicBezTo>
                <a:cubicBezTo>
                  <a:pt x="445995" y="1335740"/>
                  <a:pt x="358588" y="1483658"/>
                  <a:pt x="282388" y="1467970"/>
                </a:cubicBezTo>
                <a:cubicBezTo>
                  <a:pt x="206188" y="1452282"/>
                  <a:pt x="127748" y="1346946"/>
                  <a:pt x="80683" y="1239370"/>
                </a:cubicBezTo>
                <a:cubicBezTo>
                  <a:pt x="33618" y="1131794"/>
                  <a:pt x="16809" y="977152"/>
                  <a:pt x="0" y="822511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شكل حر 11"/>
          <p:cNvSpPr/>
          <p:nvPr/>
        </p:nvSpPr>
        <p:spPr>
          <a:xfrm>
            <a:off x="6361200" y="1209600"/>
            <a:ext cx="974520" cy="2816280"/>
          </a:xfrm>
          <a:custGeom>
            <a:avLst/>
            <a:gdLst/>
            <a:ahLst/>
            <a:rect l="l" t="t" r="r" b="b"/>
            <a:pathLst>
              <a:path w="974912" h="2814918">
                <a:moveTo>
                  <a:pt x="874059" y="107577"/>
                </a:moveTo>
                <a:cubicBezTo>
                  <a:pt x="872938" y="470647"/>
                  <a:pt x="871818" y="833718"/>
                  <a:pt x="874059" y="1062318"/>
                </a:cubicBezTo>
                <a:cubicBezTo>
                  <a:pt x="876300" y="1290918"/>
                  <a:pt x="878541" y="1367118"/>
                  <a:pt x="887506" y="1479177"/>
                </a:cubicBezTo>
                <a:cubicBezTo>
                  <a:pt x="896471" y="1591236"/>
                  <a:pt x="916641" y="1645024"/>
                  <a:pt x="927847" y="1734671"/>
                </a:cubicBezTo>
                <a:cubicBezTo>
                  <a:pt x="939053" y="1824318"/>
                  <a:pt x="974912" y="1934136"/>
                  <a:pt x="954741" y="2017059"/>
                </a:cubicBezTo>
                <a:cubicBezTo>
                  <a:pt x="934570" y="2099982"/>
                  <a:pt x="871817" y="2151530"/>
                  <a:pt x="806823" y="2232212"/>
                </a:cubicBezTo>
                <a:cubicBezTo>
                  <a:pt x="741829" y="2312894"/>
                  <a:pt x="634252" y="2427194"/>
                  <a:pt x="564776" y="2501153"/>
                </a:cubicBezTo>
                <a:cubicBezTo>
                  <a:pt x="495300" y="2575112"/>
                  <a:pt x="434788" y="2633383"/>
                  <a:pt x="389965" y="2675965"/>
                </a:cubicBezTo>
                <a:cubicBezTo>
                  <a:pt x="345142" y="2718547"/>
                  <a:pt x="345141" y="2814918"/>
                  <a:pt x="295835" y="2756647"/>
                </a:cubicBezTo>
                <a:cubicBezTo>
                  <a:pt x="246529" y="2698376"/>
                  <a:pt x="143435" y="2442882"/>
                  <a:pt x="94129" y="2326341"/>
                </a:cubicBezTo>
                <a:cubicBezTo>
                  <a:pt x="44823" y="2209800"/>
                  <a:pt x="0" y="2164976"/>
                  <a:pt x="0" y="2057400"/>
                </a:cubicBezTo>
                <a:cubicBezTo>
                  <a:pt x="0" y="1949824"/>
                  <a:pt x="49305" y="1792942"/>
                  <a:pt x="94129" y="1680883"/>
                </a:cubicBezTo>
                <a:cubicBezTo>
                  <a:pt x="138953" y="1568824"/>
                  <a:pt x="221876" y="1501588"/>
                  <a:pt x="268941" y="1385047"/>
                </a:cubicBezTo>
                <a:cubicBezTo>
                  <a:pt x="316006" y="1268506"/>
                  <a:pt x="349623" y="1118348"/>
                  <a:pt x="376517" y="981636"/>
                </a:cubicBezTo>
                <a:cubicBezTo>
                  <a:pt x="403411" y="844924"/>
                  <a:pt x="416859" y="728383"/>
                  <a:pt x="430306" y="564777"/>
                </a:cubicBezTo>
                <a:cubicBezTo>
                  <a:pt x="443753" y="401171"/>
                  <a:pt x="450476" y="200585"/>
                  <a:pt x="457200" y="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شكل بيضاوي 12"/>
          <p:cNvSpPr/>
          <p:nvPr/>
        </p:nvSpPr>
        <p:spPr>
          <a:xfrm>
            <a:off x="6786720" y="2428920"/>
            <a:ext cx="285480" cy="35712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شكل بيضاوي 13"/>
          <p:cNvSpPr/>
          <p:nvPr/>
        </p:nvSpPr>
        <p:spPr>
          <a:xfrm>
            <a:off x="6357960" y="2071800"/>
            <a:ext cx="285840" cy="35712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شكل بيضاوي 14"/>
          <p:cNvSpPr/>
          <p:nvPr/>
        </p:nvSpPr>
        <p:spPr>
          <a:xfrm>
            <a:off x="6215040" y="3857760"/>
            <a:ext cx="285840" cy="2854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شكل بيضاوي 15"/>
          <p:cNvSpPr/>
          <p:nvPr/>
        </p:nvSpPr>
        <p:spPr>
          <a:xfrm>
            <a:off x="7143840" y="5000760"/>
            <a:ext cx="28584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شكل بيضاوي 16"/>
          <p:cNvSpPr/>
          <p:nvPr/>
        </p:nvSpPr>
        <p:spPr>
          <a:xfrm>
            <a:off x="5286240" y="4429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ربع نص 17"/>
          <p:cNvSpPr/>
          <p:nvPr/>
        </p:nvSpPr>
        <p:spPr>
          <a:xfrm>
            <a:off x="857160" y="2357280"/>
            <a:ext cx="3143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Fib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Tib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T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Calc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Nav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مستطيل 18"/>
          <p:cNvSpPr/>
          <p:nvPr/>
        </p:nvSpPr>
        <p:spPr>
          <a:xfrm>
            <a:off x="571680" y="2000160"/>
            <a:ext cx="3714480" cy="335772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424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O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ser2096img00003.jpg"/>
          <p:cNvPicPr/>
          <p:nvPr/>
        </p:nvPicPr>
        <p:blipFill>
          <a:blip r:embed="rId1"/>
          <a:srcRect l="2602" t="5555" r="11630" b="2222"/>
          <a:stretch/>
        </p:blipFill>
        <p:spPr>
          <a:xfrm>
            <a:off x="4800600" y="380880"/>
            <a:ext cx="3200400" cy="632484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5"/>
          <p:cNvSpPr/>
          <p:nvPr/>
        </p:nvSpPr>
        <p:spPr>
          <a:xfrm>
            <a:off x="5467320" y="3359160"/>
            <a:ext cx="477720" cy="584280"/>
          </a:xfrm>
          <a:custGeom>
            <a:avLst/>
            <a:gdLst/>
            <a:ahLst/>
            <a:rect l="l" t="t" r="r" b="b"/>
            <a:pathLst>
              <a:path w="477012" h="583692">
                <a:moveTo>
                  <a:pt x="0" y="490728"/>
                </a:moveTo>
                <a:cubicBezTo>
                  <a:pt x="10668" y="445770"/>
                  <a:pt x="21336" y="400812"/>
                  <a:pt x="27432" y="344424"/>
                </a:cubicBezTo>
                <a:cubicBezTo>
                  <a:pt x="33528" y="288036"/>
                  <a:pt x="27432" y="199644"/>
                  <a:pt x="36576" y="152400"/>
                </a:cubicBezTo>
                <a:cubicBezTo>
                  <a:pt x="45720" y="105156"/>
                  <a:pt x="57912" y="85344"/>
                  <a:pt x="82296" y="60960"/>
                </a:cubicBezTo>
                <a:cubicBezTo>
                  <a:pt x="106680" y="36576"/>
                  <a:pt x="138684" y="12192"/>
                  <a:pt x="182880" y="6096"/>
                </a:cubicBezTo>
                <a:cubicBezTo>
                  <a:pt x="227076" y="0"/>
                  <a:pt x="309372" y="3048"/>
                  <a:pt x="347472" y="24384"/>
                </a:cubicBezTo>
                <a:cubicBezTo>
                  <a:pt x="385572" y="45720"/>
                  <a:pt x="391668" y="103632"/>
                  <a:pt x="411480" y="134112"/>
                </a:cubicBezTo>
                <a:cubicBezTo>
                  <a:pt x="431292" y="164592"/>
                  <a:pt x="458724" y="170688"/>
                  <a:pt x="466344" y="207264"/>
                </a:cubicBezTo>
                <a:cubicBezTo>
                  <a:pt x="473964" y="243840"/>
                  <a:pt x="477012" y="306324"/>
                  <a:pt x="457200" y="353568"/>
                </a:cubicBezTo>
                <a:cubicBezTo>
                  <a:pt x="437388" y="400812"/>
                  <a:pt x="384048" y="455676"/>
                  <a:pt x="347472" y="490728"/>
                </a:cubicBezTo>
                <a:cubicBezTo>
                  <a:pt x="310896" y="525780"/>
                  <a:pt x="281940" y="548640"/>
                  <a:pt x="237744" y="563880"/>
                </a:cubicBezTo>
                <a:cubicBezTo>
                  <a:pt x="193548" y="579120"/>
                  <a:pt x="120396" y="583692"/>
                  <a:pt x="82296" y="582168"/>
                </a:cubicBezTo>
                <a:cubicBezTo>
                  <a:pt x="44196" y="580644"/>
                  <a:pt x="26670" y="567690"/>
                  <a:pt x="9144" y="554736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8"/>
          <p:cNvSpPr/>
          <p:nvPr/>
        </p:nvSpPr>
        <p:spPr>
          <a:xfrm>
            <a:off x="5460840" y="3616200"/>
            <a:ext cx="621000" cy="489240"/>
          </a:xfrm>
          <a:custGeom>
            <a:avLst/>
            <a:gdLst/>
            <a:ahLst/>
            <a:rect l="l" t="t" r="r" b="b"/>
            <a:pathLst>
              <a:path w="621792" h="489204">
                <a:moveTo>
                  <a:pt x="446532" y="489204"/>
                </a:moveTo>
                <a:cubicBezTo>
                  <a:pt x="532638" y="361188"/>
                  <a:pt x="618744" y="233172"/>
                  <a:pt x="620268" y="160020"/>
                </a:cubicBezTo>
                <a:cubicBezTo>
                  <a:pt x="621792" y="86868"/>
                  <a:pt x="510540" y="71628"/>
                  <a:pt x="455676" y="50292"/>
                </a:cubicBezTo>
                <a:cubicBezTo>
                  <a:pt x="400812" y="28956"/>
                  <a:pt x="348996" y="0"/>
                  <a:pt x="291084" y="32004"/>
                </a:cubicBezTo>
                <a:cubicBezTo>
                  <a:pt x="233172" y="64008"/>
                  <a:pt x="152400" y="187452"/>
                  <a:pt x="108204" y="242316"/>
                </a:cubicBezTo>
                <a:cubicBezTo>
                  <a:pt x="64008" y="297180"/>
                  <a:pt x="0" y="332232"/>
                  <a:pt x="25908" y="361188"/>
                </a:cubicBezTo>
                <a:cubicBezTo>
                  <a:pt x="51816" y="390144"/>
                  <a:pt x="157734" y="403098"/>
                  <a:pt x="263652" y="416052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4952880" y="2895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11"/>
          <p:cNvCxnSpPr>
            <a:endCxn id="234" idx="1"/>
          </p:cNvCxnSpPr>
          <p:nvPr/>
        </p:nvCxnSpPr>
        <p:spPr>
          <a:xfrm>
            <a:off x="5180400" y="3200400"/>
            <a:ext cx="315000" cy="5040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238" name="TextBox 14"/>
          <p:cNvSpPr/>
          <p:nvPr/>
        </p:nvSpPr>
        <p:spPr>
          <a:xfrm>
            <a:off x="48769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16"/>
          <p:cNvCxnSpPr>
            <a:stCxn id="238" idx="3"/>
            <a:endCxn id="235" idx="5"/>
          </p:cNvCxnSpPr>
          <p:nvPr/>
        </p:nvCxnSpPr>
        <p:spPr>
          <a:xfrm flipV="1">
            <a:off x="5181120" y="3978000"/>
            <a:ext cx="305640" cy="928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240" name="TextBox 21"/>
          <p:cNvSpPr/>
          <p:nvPr/>
        </p:nvSpPr>
        <p:spPr>
          <a:xfrm>
            <a:off x="6172200" y="3809880"/>
            <a:ext cx="1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6553080" y="4114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5562720" y="4038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6248520" y="5029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5410080" y="4572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5786280" y="2500200"/>
            <a:ext cx="1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5867280" y="1295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8"/>
          <p:cNvSpPr/>
          <p:nvPr/>
        </p:nvSpPr>
        <p:spPr>
          <a:xfrm>
            <a:off x="5929200" y="7858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9"/>
          <p:cNvSpPr/>
          <p:nvPr/>
        </p:nvSpPr>
        <p:spPr>
          <a:xfrm>
            <a:off x="6813720" y="3726000"/>
            <a:ext cx="533160" cy="671400"/>
          </a:xfrm>
          <a:custGeom>
            <a:avLst/>
            <a:gdLst/>
            <a:ahLst/>
            <a:rect l="l" t="t" r="r" b="b"/>
            <a:pathLst>
              <a:path w="533400" h="670560">
                <a:moveTo>
                  <a:pt x="501396" y="141732"/>
                </a:moveTo>
                <a:cubicBezTo>
                  <a:pt x="508254" y="226314"/>
                  <a:pt x="515112" y="310896"/>
                  <a:pt x="519684" y="370332"/>
                </a:cubicBezTo>
                <a:cubicBezTo>
                  <a:pt x="524256" y="429768"/>
                  <a:pt x="533400" y="457200"/>
                  <a:pt x="528828" y="498348"/>
                </a:cubicBezTo>
                <a:cubicBezTo>
                  <a:pt x="524256" y="539496"/>
                  <a:pt x="510540" y="591312"/>
                  <a:pt x="492252" y="617220"/>
                </a:cubicBezTo>
                <a:cubicBezTo>
                  <a:pt x="473964" y="643128"/>
                  <a:pt x="446532" y="650748"/>
                  <a:pt x="419100" y="653796"/>
                </a:cubicBezTo>
                <a:cubicBezTo>
                  <a:pt x="391668" y="656844"/>
                  <a:pt x="361188" y="670560"/>
                  <a:pt x="327660" y="635508"/>
                </a:cubicBezTo>
                <a:cubicBezTo>
                  <a:pt x="294132" y="600456"/>
                  <a:pt x="265176" y="504444"/>
                  <a:pt x="217932" y="443484"/>
                </a:cubicBezTo>
                <a:cubicBezTo>
                  <a:pt x="170688" y="382524"/>
                  <a:pt x="77724" y="301752"/>
                  <a:pt x="44196" y="269748"/>
                </a:cubicBezTo>
                <a:cubicBezTo>
                  <a:pt x="10668" y="237744"/>
                  <a:pt x="0" y="289560"/>
                  <a:pt x="16764" y="251460"/>
                </a:cubicBezTo>
                <a:cubicBezTo>
                  <a:pt x="33528" y="213360"/>
                  <a:pt x="120396" y="82296"/>
                  <a:pt x="144780" y="41148"/>
                </a:cubicBezTo>
                <a:cubicBezTo>
                  <a:pt x="169164" y="0"/>
                  <a:pt x="166116" y="2286"/>
                  <a:pt x="163068" y="4572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0"/>
          <p:cNvSpPr/>
          <p:nvPr/>
        </p:nvSpPr>
        <p:spPr>
          <a:xfrm>
            <a:off x="7269120" y="2573280"/>
            <a:ext cx="362160" cy="498600"/>
          </a:xfrm>
          <a:custGeom>
            <a:avLst/>
            <a:gdLst/>
            <a:ahLst/>
            <a:rect l="l" t="t" r="r" b="b"/>
            <a:pathLst>
              <a:path w="361188" h="498348">
                <a:moveTo>
                  <a:pt x="182880" y="498348"/>
                </a:moveTo>
                <a:cubicBezTo>
                  <a:pt x="214884" y="445770"/>
                  <a:pt x="246888" y="393192"/>
                  <a:pt x="274320" y="352044"/>
                </a:cubicBezTo>
                <a:cubicBezTo>
                  <a:pt x="301752" y="310896"/>
                  <a:pt x="333756" y="294132"/>
                  <a:pt x="347472" y="251460"/>
                </a:cubicBezTo>
                <a:cubicBezTo>
                  <a:pt x="361188" y="208788"/>
                  <a:pt x="361188" y="132588"/>
                  <a:pt x="356616" y="96012"/>
                </a:cubicBezTo>
                <a:cubicBezTo>
                  <a:pt x="352044" y="59436"/>
                  <a:pt x="350520" y="47244"/>
                  <a:pt x="320040" y="32004"/>
                </a:cubicBezTo>
                <a:cubicBezTo>
                  <a:pt x="289560" y="16764"/>
                  <a:pt x="208788" y="0"/>
                  <a:pt x="173736" y="4572"/>
                </a:cubicBezTo>
                <a:cubicBezTo>
                  <a:pt x="138684" y="9144"/>
                  <a:pt x="128016" y="30480"/>
                  <a:pt x="109728" y="59436"/>
                </a:cubicBezTo>
                <a:cubicBezTo>
                  <a:pt x="91440" y="88392"/>
                  <a:pt x="82296" y="121920"/>
                  <a:pt x="64008" y="178308"/>
                </a:cubicBezTo>
                <a:cubicBezTo>
                  <a:pt x="45720" y="234696"/>
                  <a:pt x="22860" y="316230"/>
                  <a:pt x="0" y="397764"/>
                </a:cubicBezTo>
              </a:path>
            </a:pathLst>
          </a:custGeom>
          <a:noFill/>
          <a:ln w="25560">
            <a:solidFill>
              <a:srgbClr val="c0504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2"/>
          <p:cNvSpPr/>
          <p:nvPr/>
        </p:nvSpPr>
        <p:spPr>
          <a:xfrm>
            <a:off x="7326360" y="3127320"/>
            <a:ext cx="108000" cy="749520"/>
          </a:xfrm>
          <a:custGeom>
            <a:avLst/>
            <a:gdLst/>
            <a:ahLst/>
            <a:rect l="l" t="t" r="r" b="b"/>
            <a:pathLst>
              <a:path w="108204" h="749808">
                <a:moveTo>
                  <a:pt x="108204" y="0"/>
                </a:moveTo>
                <a:cubicBezTo>
                  <a:pt x="89154" y="63246"/>
                  <a:pt x="70104" y="126492"/>
                  <a:pt x="53340" y="201168"/>
                </a:cubicBezTo>
                <a:cubicBezTo>
                  <a:pt x="36576" y="275844"/>
                  <a:pt x="15240" y="356616"/>
                  <a:pt x="7620" y="448056"/>
                </a:cubicBezTo>
                <a:cubicBezTo>
                  <a:pt x="0" y="539496"/>
                  <a:pt x="3810" y="644652"/>
                  <a:pt x="7620" y="749808"/>
                </a:cubicBezTo>
              </a:path>
            </a:pathLst>
          </a:custGeom>
          <a:noFill/>
          <a:ln w="25560">
            <a:solidFill>
              <a:srgbClr val="9bbb5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3"/>
          <p:cNvSpPr/>
          <p:nvPr/>
        </p:nvSpPr>
        <p:spPr>
          <a:xfrm>
            <a:off x="6994440" y="3027240"/>
            <a:ext cx="265320" cy="703440"/>
          </a:xfrm>
          <a:custGeom>
            <a:avLst/>
            <a:gdLst/>
            <a:ahLst/>
            <a:rect l="l" t="t" r="r" b="b"/>
            <a:pathLst>
              <a:path w="265176" h="704088">
                <a:moveTo>
                  <a:pt x="265176" y="0"/>
                </a:moveTo>
                <a:cubicBezTo>
                  <a:pt x="227838" y="128778"/>
                  <a:pt x="190500" y="257556"/>
                  <a:pt x="146304" y="374904"/>
                </a:cubicBezTo>
                <a:cubicBezTo>
                  <a:pt x="102108" y="492252"/>
                  <a:pt x="51054" y="598170"/>
                  <a:pt x="0" y="704088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1"/>
          <p:cNvSpPr/>
          <p:nvPr/>
        </p:nvSpPr>
        <p:spPr>
          <a:xfrm>
            <a:off x="714240" y="1828800"/>
            <a:ext cx="36291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1-Med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cuneiform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2- Intermediate cuneiform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- Lateral cuneiform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- Cuboid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- Navicular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- Calceneal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- Ta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- Metatarsal bon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- Proximal phalanx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lanx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4"/>
          <p:cNvSpPr/>
          <p:nvPr/>
        </p:nvSpPr>
        <p:spPr>
          <a:xfrm>
            <a:off x="762120" y="1523880"/>
            <a:ext cx="3657600" cy="381024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OWER LIMB ARTERI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my.clevelandclinic.org/PublishingImages/HIC/legs%20lower%20extremity.GIF"/>
          <p:cNvPicPr/>
          <p:nvPr/>
        </p:nvPicPr>
        <p:blipFill>
          <a:blip r:embed="rId1"/>
          <a:stretch/>
        </p:blipFill>
        <p:spPr>
          <a:xfrm>
            <a:off x="1219320" y="1143000"/>
            <a:ext cx="2361960" cy="4676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http://www.sthscan.com/images/ct_img/ct_iliac_01.jpg"/>
          <p:cNvPicPr/>
          <p:nvPr/>
        </p:nvPicPr>
        <p:blipFill>
          <a:blip r:embed="rId2"/>
          <a:srcRect l="27440" t="5775" r="26356" b="0"/>
          <a:stretch/>
        </p:blipFill>
        <p:spPr>
          <a:xfrm>
            <a:off x="4724280" y="609480"/>
            <a:ext cx="2895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2.bp.blogspot.com/-eWqbFryaRjw/TnXT2jYBR-I/AAAAAAAAd0c/YZ3SXDdYxk4/s1600/Lower+extremity+mr+angio.jpg"/>
          <p:cNvPicPr/>
          <p:nvPr/>
        </p:nvPicPr>
        <p:blipFill>
          <a:blip r:embed="rId1"/>
          <a:srcRect l="14151" t="0" r="16879" b="3999"/>
          <a:stretch/>
        </p:blipFill>
        <p:spPr>
          <a:xfrm>
            <a:off x="4800600" y="609480"/>
            <a:ext cx="2971800" cy="5486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my.clevelandclinic.org/PublishingImages/HIC/legs%20lower%20extremity.GIF"/>
          <p:cNvPicPr/>
          <p:nvPr/>
        </p:nvPicPr>
        <p:blipFill>
          <a:blip r:embed="rId2"/>
          <a:stretch/>
        </p:blipFill>
        <p:spPr>
          <a:xfrm>
            <a:off x="1143000" y="1066680"/>
            <a:ext cx="23623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http://radiology.rsna.org/content/237/1/353/F9.small.gif"/>
          <p:cNvPicPr/>
          <p:nvPr/>
        </p:nvPicPr>
        <p:blipFill>
          <a:blip r:embed="rId1"/>
          <a:stretch/>
        </p:blipFill>
        <p:spPr>
          <a:xfrm>
            <a:off x="2143080" y="1571760"/>
            <a:ext cx="3867120" cy="388620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261" name="TextBox 2"/>
          <p:cNvSpPr/>
          <p:nvPr/>
        </p:nvSpPr>
        <p:spPr>
          <a:xfrm>
            <a:off x="23623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22096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22096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ight Arrow 7"/>
          <p:cNvSpPr/>
          <p:nvPr/>
        </p:nvSpPr>
        <p:spPr>
          <a:xfrm>
            <a:off x="2514600" y="3809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35812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ight Arrow 9"/>
          <p:cNvSpPr/>
          <p:nvPr/>
        </p:nvSpPr>
        <p:spPr>
          <a:xfrm>
            <a:off x="2743200" y="2133720"/>
            <a:ext cx="380880" cy="179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radiology.rsna.org/content/237/1/353/F9.small.gif"/>
          <p:cNvPicPr/>
          <p:nvPr/>
        </p:nvPicPr>
        <p:blipFill>
          <a:blip r:embed="rId1"/>
          <a:stretch/>
        </p:blipFill>
        <p:spPr>
          <a:xfrm>
            <a:off x="4267080" y="1600200"/>
            <a:ext cx="3867120" cy="388620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268" name="TextBox 2"/>
          <p:cNvSpPr/>
          <p:nvPr/>
        </p:nvSpPr>
        <p:spPr>
          <a:xfrm>
            <a:off x="46483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44197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4343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ight Arrow 7"/>
          <p:cNvSpPr/>
          <p:nvPr/>
        </p:nvSpPr>
        <p:spPr>
          <a:xfrm>
            <a:off x="4648320" y="3809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56386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ight Arrow 9"/>
          <p:cNvSpPr/>
          <p:nvPr/>
        </p:nvSpPr>
        <p:spPr>
          <a:xfrm>
            <a:off x="4876920" y="2133720"/>
            <a:ext cx="380880" cy="179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990720" y="327672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 Poplite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- Anterior tibi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- Perone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- Posterior tibi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838080" y="2971800"/>
            <a:ext cx="3124440" cy="213372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صورة 2" descr="PelvisAP.jpg"/>
          <p:cNvPicPr/>
          <p:nvPr/>
        </p:nvPicPr>
        <p:blipFill>
          <a:blip r:embed="rId1"/>
          <a:stretch/>
        </p:blipFill>
        <p:spPr>
          <a:xfrm>
            <a:off x="357120" y="214200"/>
            <a:ext cx="8215560" cy="637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شكل حر 8"/>
          <p:cNvSpPr/>
          <p:nvPr/>
        </p:nvSpPr>
        <p:spPr>
          <a:xfrm>
            <a:off x="3130560" y="907920"/>
            <a:ext cx="822240" cy="1689120"/>
          </a:xfrm>
          <a:custGeom>
            <a:avLst/>
            <a:gdLst/>
            <a:ahLst/>
            <a:rect l="l" t="t" r="r" b="b"/>
            <a:pathLst>
              <a:path w="822511" h="1689847">
                <a:moveTo>
                  <a:pt x="499782" y="221877"/>
                </a:moveTo>
                <a:cubicBezTo>
                  <a:pt x="452717" y="178174"/>
                  <a:pt x="405652" y="134471"/>
                  <a:pt x="378758" y="100853"/>
                </a:cubicBezTo>
                <a:cubicBezTo>
                  <a:pt x="351864" y="67235"/>
                  <a:pt x="374276" y="0"/>
                  <a:pt x="338417" y="20171"/>
                </a:cubicBezTo>
                <a:cubicBezTo>
                  <a:pt x="302558" y="40342"/>
                  <a:pt x="199464" y="163606"/>
                  <a:pt x="163605" y="221877"/>
                </a:cubicBezTo>
                <a:cubicBezTo>
                  <a:pt x="127746" y="280148"/>
                  <a:pt x="147917" y="311524"/>
                  <a:pt x="123264" y="369795"/>
                </a:cubicBezTo>
                <a:cubicBezTo>
                  <a:pt x="98611" y="428066"/>
                  <a:pt x="31376" y="493059"/>
                  <a:pt x="15688" y="571500"/>
                </a:cubicBezTo>
                <a:cubicBezTo>
                  <a:pt x="0" y="649941"/>
                  <a:pt x="29135" y="840442"/>
                  <a:pt x="29135" y="840442"/>
                </a:cubicBezTo>
                <a:cubicBezTo>
                  <a:pt x="33617" y="930089"/>
                  <a:pt x="29135" y="1030942"/>
                  <a:pt x="42582" y="1109383"/>
                </a:cubicBezTo>
                <a:cubicBezTo>
                  <a:pt x="56029" y="1187824"/>
                  <a:pt x="78441" y="1243854"/>
                  <a:pt x="109817" y="1311089"/>
                </a:cubicBezTo>
                <a:cubicBezTo>
                  <a:pt x="141193" y="1378324"/>
                  <a:pt x="181535" y="1456766"/>
                  <a:pt x="230841" y="1512795"/>
                </a:cubicBezTo>
                <a:cubicBezTo>
                  <a:pt x="280147" y="1568824"/>
                  <a:pt x="372034" y="1624853"/>
                  <a:pt x="405652" y="1647265"/>
                </a:cubicBezTo>
                <a:cubicBezTo>
                  <a:pt x="439270" y="1669677"/>
                  <a:pt x="394447" y="1689847"/>
                  <a:pt x="432547" y="1647265"/>
                </a:cubicBezTo>
                <a:cubicBezTo>
                  <a:pt x="470647" y="1604683"/>
                  <a:pt x="569258" y="1445559"/>
                  <a:pt x="634252" y="1391771"/>
                </a:cubicBezTo>
                <a:cubicBezTo>
                  <a:pt x="699246" y="1337983"/>
                  <a:pt x="822511" y="1324536"/>
                  <a:pt x="822511" y="1324536"/>
                </a:cubicBezTo>
                <a:lnTo>
                  <a:pt x="822511" y="1324536"/>
                </a:ln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شكل حر 9"/>
          <p:cNvSpPr/>
          <p:nvPr/>
        </p:nvSpPr>
        <p:spPr>
          <a:xfrm>
            <a:off x="3063960" y="673200"/>
            <a:ext cx="392040" cy="2071440"/>
          </a:xfrm>
          <a:custGeom>
            <a:avLst/>
            <a:gdLst/>
            <a:ahLst/>
            <a:rect l="l" t="t" r="r" b="b"/>
            <a:pathLst>
              <a:path w="392206" h="2073088">
                <a:moveTo>
                  <a:pt x="163606" y="0"/>
                </a:moveTo>
                <a:cubicBezTo>
                  <a:pt x="240926" y="61632"/>
                  <a:pt x="318247" y="123265"/>
                  <a:pt x="351865" y="161365"/>
                </a:cubicBezTo>
                <a:cubicBezTo>
                  <a:pt x="385483" y="199465"/>
                  <a:pt x="389965" y="190500"/>
                  <a:pt x="365312" y="228600"/>
                </a:cubicBezTo>
                <a:cubicBezTo>
                  <a:pt x="340659" y="266700"/>
                  <a:pt x="244288" y="331695"/>
                  <a:pt x="203947" y="389965"/>
                </a:cubicBezTo>
                <a:cubicBezTo>
                  <a:pt x="163606" y="448236"/>
                  <a:pt x="152400" y="515470"/>
                  <a:pt x="123265" y="578223"/>
                </a:cubicBezTo>
                <a:cubicBezTo>
                  <a:pt x="94130" y="640976"/>
                  <a:pt x="49307" y="694764"/>
                  <a:pt x="29136" y="766482"/>
                </a:cubicBezTo>
                <a:cubicBezTo>
                  <a:pt x="8965" y="838200"/>
                  <a:pt x="0" y="923364"/>
                  <a:pt x="2241" y="1008529"/>
                </a:cubicBezTo>
                <a:cubicBezTo>
                  <a:pt x="4482" y="1093694"/>
                  <a:pt x="24654" y="1183342"/>
                  <a:pt x="42583" y="1277471"/>
                </a:cubicBezTo>
                <a:cubicBezTo>
                  <a:pt x="60512" y="1371600"/>
                  <a:pt x="67236" y="1476936"/>
                  <a:pt x="109818" y="1573306"/>
                </a:cubicBezTo>
                <a:cubicBezTo>
                  <a:pt x="152400" y="1669677"/>
                  <a:pt x="253254" y="1797424"/>
                  <a:pt x="298077" y="1855694"/>
                </a:cubicBezTo>
                <a:cubicBezTo>
                  <a:pt x="342900" y="1913964"/>
                  <a:pt x="392206" y="1902758"/>
                  <a:pt x="378759" y="1922929"/>
                </a:cubicBezTo>
                <a:cubicBezTo>
                  <a:pt x="365312" y="1943100"/>
                  <a:pt x="259976" y="1954306"/>
                  <a:pt x="217394" y="1976718"/>
                </a:cubicBezTo>
                <a:cubicBezTo>
                  <a:pt x="174812" y="1999130"/>
                  <a:pt x="141194" y="2041712"/>
                  <a:pt x="123265" y="2057400"/>
                </a:cubicBezTo>
                <a:cubicBezTo>
                  <a:pt x="105336" y="2073088"/>
                  <a:pt x="107577" y="2071967"/>
                  <a:pt x="109818" y="2070847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0"/>
          <p:cNvSpPr/>
          <p:nvPr/>
        </p:nvSpPr>
        <p:spPr>
          <a:xfrm>
            <a:off x="5229360" y="4505400"/>
            <a:ext cx="647640" cy="660240"/>
          </a:xfrm>
          <a:custGeom>
            <a:avLst/>
            <a:gdLst/>
            <a:ahLst/>
            <a:rect l="l" t="t" r="r" b="b"/>
            <a:pathLst>
              <a:path w="647700" h="661146">
                <a:moveTo>
                  <a:pt x="553570" y="0"/>
                </a:moveTo>
                <a:cubicBezTo>
                  <a:pt x="451596" y="14567"/>
                  <a:pt x="349623" y="29135"/>
                  <a:pt x="271182" y="80682"/>
                </a:cubicBezTo>
                <a:cubicBezTo>
                  <a:pt x="192741" y="132229"/>
                  <a:pt x="125505" y="237564"/>
                  <a:pt x="82923" y="309282"/>
                </a:cubicBezTo>
                <a:cubicBezTo>
                  <a:pt x="40341" y="381000"/>
                  <a:pt x="0" y="459441"/>
                  <a:pt x="15688" y="510988"/>
                </a:cubicBezTo>
                <a:cubicBezTo>
                  <a:pt x="31376" y="562535"/>
                  <a:pt x="109818" y="598394"/>
                  <a:pt x="177053" y="618564"/>
                </a:cubicBezTo>
                <a:cubicBezTo>
                  <a:pt x="244288" y="638734"/>
                  <a:pt x="358588" y="661146"/>
                  <a:pt x="419100" y="632011"/>
                </a:cubicBezTo>
                <a:cubicBezTo>
                  <a:pt x="479612" y="602876"/>
                  <a:pt x="506505" y="506506"/>
                  <a:pt x="540123" y="443753"/>
                </a:cubicBezTo>
                <a:cubicBezTo>
                  <a:pt x="573741" y="381000"/>
                  <a:pt x="602877" y="329453"/>
                  <a:pt x="620806" y="255494"/>
                </a:cubicBezTo>
                <a:cubicBezTo>
                  <a:pt x="638735" y="181535"/>
                  <a:pt x="643217" y="90767"/>
                  <a:pt x="647700" y="0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حر 15"/>
          <p:cNvSpPr/>
          <p:nvPr/>
        </p:nvSpPr>
        <p:spPr>
          <a:xfrm>
            <a:off x="4594320" y="4354560"/>
            <a:ext cx="299880" cy="942840"/>
          </a:xfrm>
          <a:custGeom>
            <a:avLst/>
            <a:gdLst/>
            <a:ahLst/>
            <a:rect l="l" t="t" r="r" b="b"/>
            <a:pathLst>
              <a:path w="300318" h="943535">
                <a:moveTo>
                  <a:pt x="300318" y="56029"/>
                </a:moveTo>
                <a:lnTo>
                  <a:pt x="98613" y="42582"/>
                </a:lnTo>
                <a:cubicBezTo>
                  <a:pt x="51548" y="40341"/>
                  <a:pt x="33618" y="0"/>
                  <a:pt x="17930" y="42582"/>
                </a:cubicBezTo>
                <a:cubicBezTo>
                  <a:pt x="2242" y="85164"/>
                  <a:pt x="4483" y="212911"/>
                  <a:pt x="4483" y="298076"/>
                </a:cubicBezTo>
                <a:cubicBezTo>
                  <a:pt x="4483" y="383241"/>
                  <a:pt x="15689" y="488576"/>
                  <a:pt x="17930" y="553570"/>
                </a:cubicBezTo>
                <a:cubicBezTo>
                  <a:pt x="20171" y="618564"/>
                  <a:pt x="17930" y="688041"/>
                  <a:pt x="17930" y="688041"/>
                </a:cubicBezTo>
                <a:cubicBezTo>
                  <a:pt x="17930" y="721659"/>
                  <a:pt x="0" y="726141"/>
                  <a:pt x="17930" y="755276"/>
                </a:cubicBezTo>
                <a:cubicBezTo>
                  <a:pt x="35860" y="784411"/>
                  <a:pt x="89648" y="831477"/>
                  <a:pt x="125507" y="862853"/>
                </a:cubicBezTo>
                <a:cubicBezTo>
                  <a:pt x="161366" y="894229"/>
                  <a:pt x="233083" y="943535"/>
                  <a:pt x="233083" y="943535"/>
                </a:cubicBezTo>
              </a:path>
            </a:pathLst>
          </a:custGeom>
          <a:noFill/>
          <a:ln w="25560">
            <a:solidFill>
              <a:srgbClr val="f79646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شكل حر 18"/>
          <p:cNvSpPr/>
          <p:nvPr/>
        </p:nvSpPr>
        <p:spPr>
          <a:xfrm>
            <a:off x="4316400" y="4356000"/>
            <a:ext cx="219240" cy="928800"/>
          </a:xfrm>
          <a:custGeom>
            <a:avLst/>
            <a:gdLst/>
            <a:ahLst/>
            <a:rect l="l" t="t" r="r" b="b"/>
            <a:pathLst>
              <a:path w="219635" h="927847">
                <a:moveTo>
                  <a:pt x="13447" y="26894"/>
                </a:moveTo>
                <a:cubicBezTo>
                  <a:pt x="77320" y="13447"/>
                  <a:pt x="141194" y="0"/>
                  <a:pt x="174812" y="13447"/>
                </a:cubicBezTo>
                <a:cubicBezTo>
                  <a:pt x="208430" y="26894"/>
                  <a:pt x="210671" y="49306"/>
                  <a:pt x="215153" y="107577"/>
                </a:cubicBezTo>
                <a:cubicBezTo>
                  <a:pt x="219635" y="165848"/>
                  <a:pt x="203947" y="277906"/>
                  <a:pt x="201706" y="363071"/>
                </a:cubicBezTo>
                <a:cubicBezTo>
                  <a:pt x="199465" y="448236"/>
                  <a:pt x="203947" y="560295"/>
                  <a:pt x="201706" y="618565"/>
                </a:cubicBezTo>
                <a:cubicBezTo>
                  <a:pt x="199465" y="676835"/>
                  <a:pt x="206189" y="670112"/>
                  <a:pt x="188259" y="712694"/>
                </a:cubicBezTo>
                <a:cubicBezTo>
                  <a:pt x="170329" y="755276"/>
                  <a:pt x="125505" y="838200"/>
                  <a:pt x="94129" y="874059"/>
                </a:cubicBezTo>
                <a:cubicBezTo>
                  <a:pt x="62753" y="909918"/>
                  <a:pt x="31376" y="918882"/>
                  <a:pt x="0" y="927847"/>
                </a:cubicBezTo>
              </a:path>
            </a:pathLst>
          </a:custGeom>
          <a:noFill/>
          <a:ln w="25560">
            <a:solidFill>
              <a:srgbClr val="f79646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22"/>
          <p:cNvSpPr/>
          <p:nvPr/>
        </p:nvSpPr>
        <p:spPr>
          <a:xfrm>
            <a:off x="5857920" y="428760"/>
            <a:ext cx="2355840" cy="1198440"/>
          </a:xfrm>
          <a:custGeom>
            <a:avLst/>
            <a:gdLst/>
            <a:ahLst/>
            <a:rect l="l" t="t" r="r" b="b"/>
            <a:pathLst>
              <a:path w="2355477" h="1199029">
                <a:moveTo>
                  <a:pt x="2330824" y="1169894"/>
                </a:moveTo>
                <a:cubicBezTo>
                  <a:pt x="2343150" y="1184461"/>
                  <a:pt x="2355477" y="1199029"/>
                  <a:pt x="2330824" y="1102659"/>
                </a:cubicBezTo>
                <a:cubicBezTo>
                  <a:pt x="2306171" y="1006289"/>
                  <a:pt x="2272553" y="739589"/>
                  <a:pt x="2182906" y="591671"/>
                </a:cubicBezTo>
                <a:cubicBezTo>
                  <a:pt x="2093259" y="443753"/>
                  <a:pt x="1913965" y="309282"/>
                  <a:pt x="1792942" y="215153"/>
                </a:cubicBezTo>
                <a:cubicBezTo>
                  <a:pt x="1671919" y="121024"/>
                  <a:pt x="1597959" y="53788"/>
                  <a:pt x="1456765" y="26894"/>
                </a:cubicBezTo>
                <a:cubicBezTo>
                  <a:pt x="1315571" y="0"/>
                  <a:pt x="1109383" y="33617"/>
                  <a:pt x="945777" y="53788"/>
                </a:cubicBezTo>
                <a:cubicBezTo>
                  <a:pt x="782171" y="73959"/>
                  <a:pt x="620806" y="80683"/>
                  <a:pt x="475130" y="147918"/>
                </a:cubicBezTo>
                <a:cubicBezTo>
                  <a:pt x="329454" y="215153"/>
                  <a:pt x="143436" y="398930"/>
                  <a:pt x="71718" y="457200"/>
                </a:cubicBezTo>
                <a:cubicBezTo>
                  <a:pt x="0" y="515471"/>
                  <a:pt x="22412" y="506506"/>
                  <a:pt x="44824" y="497541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شكل حر 24"/>
          <p:cNvSpPr/>
          <p:nvPr/>
        </p:nvSpPr>
        <p:spPr>
          <a:xfrm>
            <a:off x="6072120" y="3357720"/>
            <a:ext cx="1201680" cy="1322280"/>
          </a:xfrm>
          <a:custGeom>
            <a:avLst/>
            <a:gdLst/>
            <a:ahLst/>
            <a:rect l="l" t="t" r="r" b="b"/>
            <a:pathLst>
              <a:path w="1201270" h="1322294">
                <a:moveTo>
                  <a:pt x="1201270" y="44823"/>
                </a:moveTo>
                <a:cubicBezTo>
                  <a:pt x="1047749" y="22411"/>
                  <a:pt x="894229" y="0"/>
                  <a:pt x="770964" y="17929"/>
                </a:cubicBezTo>
                <a:cubicBezTo>
                  <a:pt x="647699" y="35858"/>
                  <a:pt x="558053" y="98611"/>
                  <a:pt x="461682" y="152399"/>
                </a:cubicBezTo>
                <a:cubicBezTo>
                  <a:pt x="365311" y="206187"/>
                  <a:pt x="266700" y="230840"/>
                  <a:pt x="192741" y="340658"/>
                </a:cubicBezTo>
                <a:cubicBezTo>
                  <a:pt x="118782" y="450476"/>
                  <a:pt x="35859" y="685799"/>
                  <a:pt x="17929" y="811305"/>
                </a:cubicBezTo>
                <a:cubicBezTo>
                  <a:pt x="0" y="936811"/>
                  <a:pt x="40340" y="1008529"/>
                  <a:pt x="85164" y="1093694"/>
                </a:cubicBezTo>
                <a:cubicBezTo>
                  <a:pt x="129988" y="1178859"/>
                  <a:pt x="208429" y="1250576"/>
                  <a:pt x="286870" y="1322294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شكل حر 25"/>
          <p:cNvSpPr/>
          <p:nvPr/>
        </p:nvSpPr>
        <p:spPr>
          <a:xfrm>
            <a:off x="1800360" y="5257800"/>
            <a:ext cx="190440" cy="954000"/>
          </a:xfrm>
          <a:custGeom>
            <a:avLst/>
            <a:gdLst/>
            <a:ahLst/>
            <a:rect l="l" t="t" r="r" b="b"/>
            <a:pathLst>
              <a:path w="190500" h="954741">
                <a:moveTo>
                  <a:pt x="190500" y="0"/>
                </a:moveTo>
                <a:cubicBezTo>
                  <a:pt x="159123" y="15688"/>
                  <a:pt x="127746" y="31376"/>
                  <a:pt x="123264" y="67235"/>
                </a:cubicBezTo>
                <a:cubicBezTo>
                  <a:pt x="118782" y="103094"/>
                  <a:pt x="152400" y="177053"/>
                  <a:pt x="163606" y="215153"/>
                </a:cubicBezTo>
                <a:cubicBezTo>
                  <a:pt x="174812" y="253253"/>
                  <a:pt x="190500" y="259976"/>
                  <a:pt x="190500" y="295835"/>
                </a:cubicBezTo>
                <a:cubicBezTo>
                  <a:pt x="190500" y="331694"/>
                  <a:pt x="174812" y="383241"/>
                  <a:pt x="163606" y="430306"/>
                </a:cubicBezTo>
                <a:cubicBezTo>
                  <a:pt x="152400" y="477371"/>
                  <a:pt x="138952" y="535642"/>
                  <a:pt x="123264" y="578224"/>
                </a:cubicBezTo>
                <a:cubicBezTo>
                  <a:pt x="107576" y="620806"/>
                  <a:pt x="87405" y="654424"/>
                  <a:pt x="69476" y="685800"/>
                </a:cubicBezTo>
                <a:cubicBezTo>
                  <a:pt x="51547" y="717176"/>
                  <a:pt x="26894" y="737347"/>
                  <a:pt x="15688" y="766482"/>
                </a:cubicBezTo>
                <a:cubicBezTo>
                  <a:pt x="4482" y="795617"/>
                  <a:pt x="4482" y="829236"/>
                  <a:pt x="2241" y="860612"/>
                </a:cubicBezTo>
                <a:cubicBezTo>
                  <a:pt x="0" y="891988"/>
                  <a:pt x="1120" y="923364"/>
                  <a:pt x="2241" y="954741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رابط كسهم مستقيم 37"/>
          <p:cNvCxnSpPr>
            <a:stCxn id="55" idx="0"/>
            <a:endCxn id="53" idx="4"/>
          </p:cNvCxnSpPr>
          <p:nvPr/>
        </p:nvCxnSpPr>
        <p:spPr>
          <a:xfrm flipH="1" flipV="1">
            <a:off x="1963440" y="5687640"/>
            <a:ext cx="72000" cy="527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6" name="رابط كسهم مستقيم 42"/>
          <p:cNvCxnSpPr/>
          <p:nvPr/>
        </p:nvCxnSpPr>
        <p:spPr>
          <a:xfrm flipH="1">
            <a:off x="3786120" y="4030560"/>
            <a:ext cx="317880" cy="470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7" name="رابط كسهم مستقيم 44"/>
          <p:cNvCxnSpPr/>
          <p:nvPr/>
        </p:nvCxnSpPr>
        <p:spPr>
          <a:xfrm flipH="1" flipV="1">
            <a:off x="3714120" y="5357160"/>
            <a:ext cx="214920" cy="572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8" name="رابط كسهم مستقيم 52"/>
          <p:cNvCxnSpPr/>
          <p:nvPr/>
        </p:nvCxnSpPr>
        <p:spPr>
          <a:xfrm flipH="1" flipV="1">
            <a:off x="4500360" y="4786200"/>
            <a:ext cx="143280" cy="6433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9" name="رابط كسهم مستقيم 62"/>
          <p:cNvCxnSpPr/>
          <p:nvPr/>
        </p:nvCxnSpPr>
        <p:spPr>
          <a:xfrm flipH="1">
            <a:off x="7000560" y="2963880"/>
            <a:ext cx="714960" cy="4658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60" name="رابط كسهم مستقيم 69"/>
          <p:cNvCxnSpPr>
            <a:endCxn id="47" idx="6"/>
          </p:cNvCxnSpPr>
          <p:nvPr/>
        </p:nvCxnSpPr>
        <p:spPr>
          <a:xfrm>
            <a:off x="2642760" y="1643040"/>
            <a:ext cx="423000" cy="38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61" name="رابط كسهم مستقيم 76"/>
          <p:cNvCxnSpPr/>
          <p:nvPr/>
        </p:nvCxnSpPr>
        <p:spPr>
          <a:xfrm flipH="1">
            <a:off x="7571520" y="642960"/>
            <a:ext cx="500760" cy="2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62" name="مربع نص 36"/>
          <p:cNvSpPr/>
          <p:nvPr/>
        </p:nvSpPr>
        <p:spPr>
          <a:xfrm>
            <a:off x="4071960" y="7858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ربع نص 41"/>
          <p:cNvSpPr/>
          <p:nvPr/>
        </p:nvSpPr>
        <p:spPr>
          <a:xfrm>
            <a:off x="4071960" y="15001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c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ربع نص 43"/>
          <p:cNvSpPr/>
          <p:nvPr/>
        </p:nvSpPr>
        <p:spPr>
          <a:xfrm>
            <a:off x="6429240" y="1428840"/>
            <a:ext cx="9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liac 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مربع نص 46"/>
          <p:cNvSpPr/>
          <p:nvPr/>
        </p:nvSpPr>
        <p:spPr>
          <a:xfrm>
            <a:off x="8001000" y="500040"/>
            <a:ext cx="8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liac c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ربع نص 47"/>
          <p:cNvSpPr/>
          <p:nvPr/>
        </p:nvSpPr>
        <p:spPr>
          <a:xfrm>
            <a:off x="7215120" y="26431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etab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مربع نص 48"/>
          <p:cNvSpPr/>
          <p:nvPr/>
        </p:nvSpPr>
        <p:spPr>
          <a:xfrm>
            <a:off x="1571760" y="1214280"/>
            <a:ext cx="121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croiliac j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49"/>
          <p:cNvSpPr/>
          <p:nvPr/>
        </p:nvSpPr>
        <p:spPr>
          <a:xfrm>
            <a:off x="3643200" y="34290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perior pubic r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مربع نص 51"/>
          <p:cNvSpPr/>
          <p:nvPr/>
        </p:nvSpPr>
        <p:spPr>
          <a:xfrm>
            <a:off x="3071880" y="585792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ferior pub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ربع نص 53"/>
          <p:cNvSpPr/>
          <p:nvPr/>
        </p:nvSpPr>
        <p:spPr>
          <a:xfrm>
            <a:off x="4357800" y="542916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ymphysis pu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ربع نص 55"/>
          <p:cNvSpPr/>
          <p:nvPr/>
        </p:nvSpPr>
        <p:spPr>
          <a:xfrm>
            <a:off x="5357880" y="592920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bturator ca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رابط كسهم مستقيم 57"/>
          <p:cNvCxnSpPr/>
          <p:nvPr/>
        </p:nvCxnSpPr>
        <p:spPr>
          <a:xfrm flipH="1" flipV="1">
            <a:off x="5571360" y="4857480"/>
            <a:ext cx="500760" cy="10720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55" name="مربع نص 58"/>
          <p:cNvSpPr/>
          <p:nvPr/>
        </p:nvSpPr>
        <p:spPr>
          <a:xfrm>
            <a:off x="1285920" y="62150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esser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trocho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ربع نص 63"/>
          <p:cNvSpPr/>
          <p:nvPr/>
        </p:nvSpPr>
        <p:spPr>
          <a:xfrm>
            <a:off x="285840" y="314316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Greater trocha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رابط كسهم مستقيم 70"/>
          <p:cNvCxnSpPr/>
          <p:nvPr/>
        </p:nvCxnSpPr>
        <p:spPr>
          <a:xfrm>
            <a:off x="642960" y="3786120"/>
            <a:ext cx="72000" cy="9295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75" name="مربع نص 77"/>
          <p:cNvSpPr/>
          <p:nvPr/>
        </p:nvSpPr>
        <p:spPr>
          <a:xfrm>
            <a:off x="1928880" y="364320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emur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مربع نص 78"/>
          <p:cNvSpPr/>
          <p:nvPr/>
        </p:nvSpPr>
        <p:spPr>
          <a:xfrm>
            <a:off x="1357200" y="4286160"/>
            <a:ext cx="85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emur n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مربع نص 79"/>
          <p:cNvSpPr/>
          <p:nvPr/>
        </p:nvSpPr>
        <p:spPr>
          <a:xfrm>
            <a:off x="3857760" y="4572000"/>
            <a:ext cx="71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ubic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ser004img00065.jpg"/>
          <p:cNvPicPr/>
          <p:nvPr/>
        </p:nvPicPr>
        <p:blipFill>
          <a:blip r:embed="rId1"/>
          <a:srcRect l="12505" t="26567" r="20314" b="23437"/>
          <a:stretch/>
        </p:blipFill>
        <p:spPr>
          <a:xfrm>
            <a:off x="5029200" y="68580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ser004img00081.jpg"/>
          <p:cNvPicPr/>
          <p:nvPr/>
        </p:nvPicPr>
        <p:blipFill>
          <a:blip r:embed="rId2"/>
          <a:srcRect l="7810" t="25002" r="23437" b="23437"/>
          <a:stretch/>
        </p:blipFill>
        <p:spPr>
          <a:xfrm>
            <a:off x="1066680" y="6094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ser004img00089.jpg"/>
          <p:cNvPicPr/>
          <p:nvPr/>
        </p:nvPicPr>
        <p:blipFill>
          <a:blip r:embed="rId3"/>
          <a:srcRect l="9375" t="26567" r="21879" b="21872"/>
          <a:stretch/>
        </p:blipFill>
        <p:spPr>
          <a:xfrm>
            <a:off x="4952880" y="3657600"/>
            <a:ext cx="3353040" cy="251460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6"/>
          <p:cNvCxnSpPr/>
          <p:nvPr/>
        </p:nvCxnSpPr>
        <p:spPr>
          <a:xfrm>
            <a:off x="5943600" y="1447920"/>
            <a:ext cx="76680" cy="9151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2" name="Straight Arrow Connector 8"/>
          <p:cNvCxnSpPr/>
          <p:nvPr/>
        </p:nvCxnSpPr>
        <p:spPr>
          <a:xfrm flipH="1">
            <a:off x="6780960" y="1828800"/>
            <a:ext cx="381960" cy="5342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3" name="Straight Arrow Connector 10"/>
          <p:cNvCxnSpPr/>
          <p:nvPr/>
        </p:nvCxnSpPr>
        <p:spPr>
          <a:xfrm flipH="1">
            <a:off x="3733200" y="1447920"/>
            <a:ext cx="153000" cy="4579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4" name="Straight Arrow Connector 12"/>
          <p:cNvCxnSpPr/>
          <p:nvPr/>
        </p:nvCxnSpPr>
        <p:spPr>
          <a:xfrm flipV="1">
            <a:off x="2819520" y="1372680"/>
            <a:ext cx="2160" cy="45648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5" name="Straight Arrow Connector 16"/>
          <p:cNvCxnSpPr/>
          <p:nvPr/>
        </p:nvCxnSpPr>
        <p:spPr>
          <a:xfrm flipH="1" flipV="1">
            <a:off x="2208960" y="2133360"/>
            <a:ext cx="30564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6" name="Straight Arrow Connector 18"/>
          <p:cNvCxnSpPr/>
          <p:nvPr/>
        </p:nvCxnSpPr>
        <p:spPr>
          <a:xfrm flipH="1" flipV="1">
            <a:off x="6248160" y="5028840"/>
            <a:ext cx="30528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7" name="Straight Arrow Connector 20"/>
          <p:cNvCxnSpPr/>
          <p:nvPr/>
        </p:nvCxnSpPr>
        <p:spPr>
          <a:xfrm flipV="1">
            <a:off x="1445040" y="2211120"/>
            <a:ext cx="396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8" name="Straight Arrow Connector 22"/>
          <p:cNvCxnSpPr/>
          <p:nvPr/>
        </p:nvCxnSpPr>
        <p:spPr>
          <a:xfrm flipH="1">
            <a:off x="1598400" y="1373040"/>
            <a:ext cx="3600" cy="5342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9" name="Straight Arrow Connector 27"/>
          <p:cNvCxnSpPr/>
          <p:nvPr/>
        </p:nvCxnSpPr>
        <p:spPr>
          <a:xfrm flipH="1" flipV="1">
            <a:off x="7695360" y="2057040"/>
            <a:ext cx="30564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90" name="Straight Arrow Connector 30"/>
          <p:cNvCxnSpPr/>
          <p:nvPr/>
        </p:nvCxnSpPr>
        <p:spPr>
          <a:xfrm>
            <a:off x="6476040" y="1371240"/>
            <a:ext cx="153000" cy="7628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91" name="Straight Arrow Connector 32"/>
          <p:cNvCxnSpPr/>
          <p:nvPr/>
        </p:nvCxnSpPr>
        <p:spPr>
          <a:xfrm flipH="1" flipV="1">
            <a:off x="5257800" y="4952520"/>
            <a:ext cx="76680" cy="4579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sp>
        <p:nvSpPr>
          <p:cNvPr id="92" name="TextBox 33"/>
          <p:cNvSpPr/>
          <p:nvPr/>
        </p:nvSpPr>
        <p:spPr>
          <a:xfrm>
            <a:off x="5791320" y="1143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4"/>
          <p:cNvSpPr/>
          <p:nvPr/>
        </p:nvSpPr>
        <p:spPr>
          <a:xfrm>
            <a:off x="63244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5"/>
          <p:cNvSpPr/>
          <p:nvPr/>
        </p:nvSpPr>
        <p:spPr>
          <a:xfrm>
            <a:off x="7086600" y="1523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7924680" y="251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7"/>
          <p:cNvSpPr/>
          <p:nvPr/>
        </p:nvSpPr>
        <p:spPr>
          <a:xfrm>
            <a:off x="38098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8"/>
          <p:cNvSpPr/>
          <p:nvPr/>
        </p:nvSpPr>
        <p:spPr>
          <a:xfrm>
            <a:off x="2666880" y="1828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9"/>
          <p:cNvSpPr/>
          <p:nvPr/>
        </p:nvSpPr>
        <p:spPr>
          <a:xfrm>
            <a:off x="24382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0"/>
          <p:cNvSpPr/>
          <p:nvPr/>
        </p:nvSpPr>
        <p:spPr>
          <a:xfrm>
            <a:off x="1447920" y="990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1"/>
          <p:cNvSpPr/>
          <p:nvPr/>
        </p:nvSpPr>
        <p:spPr>
          <a:xfrm>
            <a:off x="1295280" y="2590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2"/>
          <p:cNvSpPr/>
          <p:nvPr/>
        </p:nvSpPr>
        <p:spPr>
          <a:xfrm>
            <a:off x="64771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3"/>
          <p:cNvSpPr/>
          <p:nvPr/>
        </p:nvSpPr>
        <p:spPr>
          <a:xfrm>
            <a:off x="525780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www.rhodeislandhospital.org/rih/services/simctr/training/materials/teamwork/module%202a%20pelvis%20xray(normal)-%20Tubbs%20RJ,%20RIHMSC.jpg"/>
          <p:cNvPicPr/>
          <p:nvPr/>
        </p:nvPicPr>
        <p:blipFill>
          <a:blip r:embed="rId4"/>
          <a:srcRect l="5391" t="6557" r="6619" b="1642"/>
          <a:stretch/>
        </p:blipFill>
        <p:spPr>
          <a:xfrm>
            <a:off x="1066680" y="3657600"/>
            <a:ext cx="3225960" cy="2576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7"/>
          <p:cNvSpPr/>
          <p:nvPr/>
        </p:nvSpPr>
        <p:spPr>
          <a:xfrm>
            <a:off x="990720" y="533520"/>
            <a:ext cx="3504960" cy="266688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4952880" y="609480"/>
            <a:ext cx="3429000" cy="259092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4876920" y="3581280"/>
            <a:ext cx="3504960" cy="266724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51"/>
          <p:cNvSpPr/>
          <p:nvPr/>
        </p:nvSpPr>
        <p:spPr>
          <a:xfrm flipH="1">
            <a:off x="1066680" y="44197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53"/>
          <p:cNvSpPr/>
          <p:nvPr/>
        </p:nvSpPr>
        <p:spPr>
          <a:xfrm flipH="1">
            <a:off x="1066680" y="518148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60"/>
          <p:cNvSpPr/>
          <p:nvPr/>
        </p:nvSpPr>
        <p:spPr>
          <a:xfrm flipH="1">
            <a:off x="1066680" y="56386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ser004img00065.jpg"/>
          <p:cNvPicPr/>
          <p:nvPr/>
        </p:nvPicPr>
        <p:blipFill>
          <a:blip r:embed="rId1"/>
          <a:srcRect l="12505" t="26567" r="20314" b="23437"/>
          <a:stretch/>
        </p:blipFill>
        <p:spPr>
          <a:xfrm>
            <a:off x="5029200" y="68580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ser004img00081.jpg"/>
          <p:cNvPicPr/>
          <p:nvPr/>
        </p:nvPicPr>
        <p:blipFill>
          <a:blip r:embed="rId2"/>
          <a:srcRect l="7810" t="25002" r="23437" b="23437"/>
          <a:stretch/>
        </p:blipFill>
        <p:spPr>
          <a:xfrm>
            <a:off x="1066680" y="6094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er004img00089.jpg"/>
          <p:cNvPicPr/>
          <p:nvPr/>
        </p:nvPicPr>
        <p:blipFill>
          <a:blip r:embed="rId3"/>
          <a:srcRect l="9375" t="26567" r="21879" b="21872"/>
          <a:stretch/>
        </p:blipFill>
        <p:spPr>
          <a:xfrm>
            <a:off x="4952880" y="3657600"/>
            <a:ext cx="3353040" cy="2514600"/>
          </a:xfrm>
          <a:prstGeom prst="rect">
            <a:avLst/>
          </a:prstGeom>
          <a:ln w="0">
            <a:noFill/>
          </a:ln>
        </p:spPr>
      </p:pic>
      <p:cxnSp>
        <p:nvCxnSpPr>
          <p:cNvPr id="113" name="Straight Arrow Connector 6"/>
          <p:cNvCxnSpPr/>
          <p:nvPr/>
        </p:nvCxnSpPr>
        <p:spPr>
          <a:xfrm>
            <a:off x="5943600" y="1447920"/>
            <a:ext cx="76680" cy="9151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4" name="Straight Arrow Connector 8"/>
          <p:cNvCxnSpPr/>
          <p:nvPr/>
        </p:nvCxnSpPr>
        <p:spPr>
          <a:xfrm flipH="1">
            <a:off x="6780960" y="1828800"/>
            <a:ext cx="381960" cy="5342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5" name="Straight Arrow Connector 10"/>
          <p:cNvCxnSpPr/>
          <p:nvPr/>
        </p:nvCxnSpPr>
        <p:spPr>
          <a:xfrm flipH="1">
            <a:off x="3733200" y="1447920"/>
            <a:ext cx="153000" cy="4579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6" name="Straight Arrow Connector 12"/>
          <p:cNvCxnSpPr/>
          <p:nvPr/>
        </p:nvCxnSpPr>
        <p:spPr>
          <a:xfrm flipV="1">
            <a:off x="2819520" y="1372680"/>
            <a:ext cx="2160" cy="45648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7" name="Straight Arrow Connector 16"/>
          <p:cNvCxnSpPr/>
          <p:nvPr/>
        </p:nvCxnSpPr>
        <p:spPr>
          <a:xfrm flipH="1" flipV="1">
            <a:off x="2208960" y="2133360"/>
            <a:ext cx="30564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8" name="Straight Arrow Connector 18"/>
          <p:cNvCxnSpPr/>
          <p:nvPr/>
        </p:nvCxnSpPr>
        <p:spPr>
          <a:xfrm flipH="1" flipV="1">
            <a:off x="6248160" y="5028840"/>
            <a:ext cx="30528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9" name="Straight Arrow Connector 20"/>
          <p:cNvCxnSpPr/>
          <p:nvPr/>
        </p:nvCxnSpPr>
        <p:spPr>
          <a:xfrm flipV="1">
            <a:off x="1447920" y="2208960"/>
            <a:ext cx="3600" cy="38196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20" name="Straight Arrow Connector 22"/>
          <p:cNvCxnSpPr/>
          <p:nvPr/>
        </p:nvCxnSpPr>
        <p:spPr>
          <a:xfrm flipH="1">
            <a:off x="1598400" y="1373040"/>
            <a:ext cx="3600" cy="5342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21" name="Straight Arrow Connector 27"/>
          <p:cNvCxnSpPr/>
          <p:nvPr/>
        </p:nvCxnSpPr>
        <p:spPr>
          <a:xfrm flipH="1" flipV="1">
            <a:off x="7695360" y="2057040"/>
            <a:ext cx="30564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22" name="Straight Arrow Connector 30"/>
          <p:cNvCxnSpPr/>
          <p:nvPr/>
        </p:nvCxnSpPr>
        <p:spPr>
          <a:xfrm>
            <a:off x="6476040" y="1371240"/>
            <a:ext cx="153000" cy="7628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23" name="Straight Arrow Connector 32"/>
          <p:cNvCxnSpPr/>
          <p:nvPr/>
        </p:nvCxnSpPr>
        <p:spPr>
          <a:xfrm flipH="1" flipV="1">
            <a:off x="5257800" y="4952520"/>
            <a:ext cx="76680" cy="4579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sp>
        <p:nvSpPr>
          <p:cNvPr id="124" name="TextBox 33"/>
          <p:cNvSpPr/>
          <p:nvPr/>
        </p:nvSpPr>
        <p:spPr>
          <a:xfrm>
            <a:off x="5791320" y="1143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63244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5"/>
          <p:cNvSpPr/>
          <p:nvPr/>
        </p:nvSpPr>
        <p:spPr>
          <a:xfrm>
            <a:off x="7086600" y="1523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7924680" y="251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38098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2666880" y="1828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9"/>
          <p:cNvSpPr/>
          <p:nvPr/>
        </p:nvSpPr>
        <p:spPr>
          <a:xfrm>
            <a:off x="24382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0"/>
          <p:cNvSpPr/>
          <p:nvPr/>
        </p:nvSpPr>
        <p:spPr>
          <a:xfrm>
            <a:off x="1447920" y="990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1"/>
          <p:cNvSpPr/>
          <p:nvPr/>
        </p:nvSpPr>
        <p:spPr>
          <a:xfrm>
            <a:off x="1295280" y="251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2"/>
          <p:cNvSpPr/>
          <p:nvPr/>
        </p:nvSpPr>
        <p:spPr>
          <a:xfrm>
            <a:off x="64771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3"/>
          <p:cNvSpPr/>
          <p:nvPr/>
        </p:nvSpPr>
        <p:spPr>
          <a:xfrm>
            <a:off x="525780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4"/>
          <p:cNvSpPr/>
          <p:nvPr/>
        </p:nvSpPr>
        <p:spPr>
          <a:xfrm>
            <a:off x="990720" y="3657600"/>
            <a:ext cx="3733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- Sacroiliac j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- Sac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- Sacral neural for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- Iliac 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- Femur 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- Symphysis pub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- Isch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- Greater trocha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9- Femur n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- Pubic bone (inferior ram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-Femur s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990720" y="3581280"/>
            <a:ext cx="3352680" cy="2895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صورة 2" descr="JBJA0780710480G01.jpg"/>
          <p:cNvPicPr/>
          <p:nvPr/>
        </p:nvPicPr>
        <p:blipFill>
          <a:blip r:embed="rId1"/>
          <a:stretch/>
        </p:blipFill>
        <p:spPr>
          <a:xfrm>
            <a:off x="714240" y="285840"/>
            <a:ext cx="7429680" cy="5414760"/>
          </a:xfrm>
          <a:prstGeom prst="rect">
            <a:avLst/>
          </a:prstGeom>
          <a:ln w="0">
            <a:noFill/>
          </a:ln>
        </p:spPr>
      </p:pic>
      <p:sp>
        <p:nvSpPr>
          <p:cNvPr id="138" name="مربع نص 3"/>
          <p:cNvSpPr/>
          <p:nvPr/>
        </p:nvSpPr>
        <p:spPr>
          <a:xfrm>
            <a:off x="1214280" y="5929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NITAL HIP DIS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Calibri"/>
              </a:rPr>
              <a:t>KNEE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صورة 1" descr="untitled.bmp"/>
          <p:cNvPicPr/>
          <p:nvPr/>
        </p:nvPicPr>
        <p:blipFill>
          <a:blip r:embed="rId1"/>
          <a:srcRect l="14763" t="14283" r="18033" b="12159"/>
          <a:stretch/>
        </p:blipFill>
        <p:spPr>
          <a:xfrm>
            <a:off x="4500720" y="214200"/>
            <a:ext cx="4071960" cy="6500880"/>
          </a:xfrm>
          <a:prstGeom prst="rect">
            <a:avLst/>
          </a:prstGeom>
          <a:ln w="0">
            <a:noFill/>
          </a:ln>
        </p:spPr>
      </p:pic>
      <p:sp>
        <p:nvSpPr>
          <p:cNvPr id="142" name="شكل بيضاوي 5"/>
          <p:cNvSpPr/>
          <p:nvPr/>
        </p:nvSpPr>
        <p:spPr>
          <a:xfrm>
            <a:off x="6286680" y="85716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شكل بيضاوي 6"/>
          <p:cNvSpPr/>
          <p:nvPr/>
        </p:nvSpPr>
        <p:spPr>
          <a:xfrm>
            <a:off x="5572080" y="314316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شكل بيضاوي 7"/>
          <p:cNvSpPr/>
          <p:nvPr/>
        </p:nvSpPr>
        <p:spPr>
          <a:xfrm>
            <a:off x="7572240" y="314316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شكل حر 8"/>
          <p:cNvSpPr/>
          <p:nvPr/>
        </p:nvSpPr>
        <p:spPr>
          <a:xfrm>
            <a:off x="6286680" y="2214720"/>
            <a:ext cx="1461960" cy="1143000"/>
          </a:xfrm>
          <a:custGeom>
            <a:avLst/>
            <a:gdLst/>
            <a:ahLst/>
            <a:rect l="l" t="t" r="r" b="b"/>
            <a:pathLst>
              <a:path w="1710018" h="1252818">
                <a:moveTo>
                  <a:pt x="347382" y="1017495"/>
                </a:moveTo>
                <a:cubicBezTo>
                  <a:pt x="298076" y="967068"/>
                  <a:pt x="248770" y="916642"/>
                  <a:pt x="199464" y="856130"/>
                </a:cubicBezTo>
                <a:cubicBezTo>
                  <a:pt x="150158" y="795618"/>
                  <a:pt x="80682" y="723900"/>
                  <a:pt x="51547" y="654424"/>
                </a:cubicBezTo>
                <a:cubicBezTo>
                  <a:pt x="22412" y="584948"/>
                  <a:pt x="0" y="519953"/>
                  <a:pt x="24653" y="439271"/>
                </a:cubicBezTo>
                <a:cubicBezTo>
                  <a:pt x="49306" y="358589"/>
                  <a:pt x="132229" y="237565"/>
                  <a:pt x="199464" y="170330"/>
                </a:cubicBezTo>
                <a:cubicBezTo>
                  <a:pt x="266699" y="103095"/>
                  <a:pt x="347382" y="62753"/>
                  <a:pt x="428064" y="35859"/>
                </a:cubicBezTo>
                <a:cubicBezTo>
                  <a:pt x="508746" y="8965"/>
                  <a:pt x="582706" y="13447"/>
                  <a:pt x="683559" y="8965"/>
                </a:cubicBezTo>
                <a:cubicBezTo>
                  <a:pt x="784412" y="4483"/>
                  <a:pt x="921123" y="0"/>
                  <a:pt x="1033182" y="8965"/>
                </a:cubicBezTo>
                <a:cubicBezTo>
                  <a:pt x="1145241" y="17930"/>
                  <a:pt x="1252817" y="24653"/>
                  <a:pt x="1355911" y="62753"/>
                </a:cubicBezTo>
                <a:cubicBezTo>
                  <a:pt x="1459005" y="100853"/>
                  <a:pt x="1593476" y="163606"/>
                  <a:pt x="1651747" y="237565"/>
                </a:cubicBezTo>
                <a:cubicBezTo>
                  <a:pt x="1710018" y="311524"/>
                  <a:pt x="1705535" y="416859"/>
                  <a:pt x="1705535" y="506506"/>
                </a:cubicBezTo>
                <a:cubicBezTo>
                  <a:pt x="1705535" y="596153"/>
                  <a:pt x="1680882" y="694766"/>
                  <a:pt x="1651747" y="775448"/>
                </a:cubicBezTo>
                <a:cubicBezTo>
                  <a:pt x="1622612" y="856130"/>
                  <a:pt x="1584511" y="934572"/>
                  <a:pt x="1530723" y="990601"/>
                </a:cubicBezTo>
                <a:cubicBezTo>
                  <a:pt x="1476935" y="1046630"/>
                  <a:pt x="1394011" y="1080248"/>
                  <a:pt x="1329017" y="1111624"/>
                </a:cubicBezTo>
                <a:cubicBezTo>
                  <a:pt x="1264023" y="1143000"/>
                  <a:pt x="1199029" y="1156447"/>
                  <a:pt x="1140759" y="1178859"/>
                </a:cubicBezTo>
                <a:cubicBezTo>
                  <a:pt x="1082489" y="1201271"/>
                  <a:pt x="1044388" y="1252818"/>
                  <a:pt x="979394" y="1246095"/>
                </a:cubicBezTo>
                <a:cubicBezTo>
                  <a:pt x="914400" y="1239372"/>
                  <a:pt x="847165" y="1169895"/>
                  <a:pt x="750794" y="1138518"/>
                </a:cubicBezTo>
                <a:cubicBezTo>
                  <a:pt x="654423" y="1107142"/>
                  <a:pt x="527796" y="1082489"/>
                  <a:pt x="401170" y="1057836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شكل بيضاوي 9"/>
          <p:cNvSpPr/>
          <p:nvPr/>
        </p:nvSpPr>
        <p:spPr>
          <a:xfrm>
            <a:off x="6500880" y="442908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شكل بيضاوي 10"/>
          <p:cNvSpPr/>
          <p:nvPr/>
        </p:nvSpPr>
        <p:spPr>
          <a:xfrm>
            <a:off x="6858000" y="2571840"/>
            <a:ext cx="42876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شكل بيضاوي 11"/>
          <p:cNvSpPr/>
          <p:nvPr/>
        </p:nvSpPr>
        <p:spPr>
          <a:xfrm>
            <a:off x="5143680" y="5000760"/>
            <a:ext cx="35712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رابط كسهم مستقيم 13"/>
          <p:cNvCxnSpPr/>
          <p:nvPr/>
        </p:nvCxnSpPr>
        <p:spPr>
          <a:xfrm>
            <a:off x="5214960" y="3785760"/>
            <a:ext cx="1286640" cy="14364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50" name="رابط كسهم مستقيم 15"/>
          <p:cNvCxnSpPr/>
          <p:nvPr/>
        </p:nvCxnSpPr>
        <p:spPr>
          <a:xfrm flipH="1">
            <a:off x="6786360" y="3785040"/>
            <a:ext cx="1357920" cy="72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51" name="شكل بيضاوي 16"/>
          <p:cNvSpPr/>
          <p:nvPr/>
        </p:nvSpPr>
        <p:spPr>
          <a:xfrm>
            <a:off x="4929120" y="3643200"/>
            <a:ext cx="28584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بيضاوي 17"/>
          <p:cNvSpPr/>
          <p:nvPr/>
        </p:nvSpPr>
        <p:spPr>
          <a:xfrm>
            <a:off x="8143920" y="364320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21"/>
          <p:cNvSpPr/>
          <p:nvPr/>
        </p:nvSpPr>
        <p:spPr>
          <a:xfrm>
            <a:off x="6429240" y="3643200"/>
            <a:ext cx="777960" cy="200160"/>
          </a:xfrm>
          <a:custGeom>
            <a:avLst/>
            <a:gdLst/>
            <a:ahLst/>
            <a:rect l="l" t="t" r="r" b="b"/>
            <a:pathLst>
              <a:path w="777688" h="199465">
                <a:moveTo>
                  <a:pt x="0" y="145677"/>
                </a:moveTo>
                <a:cubicBezTo>
                  <a:pt x="52668" y="116541"/>
                  <a:pt x="105336" y="87406"/>
                  <a:pt x="174812" y="64994"/>
                </a:cubicBezTo>
                <a:cubicBezTo>
                  <a:pt x="244289" y="42582"/>
                  <a:pt x="324971" y="0"/>
                  <a:pt x="416859" y="11206"/>
                </a:cubicBezTo>
                <a:cubicBezTo>
                  <a:pt x="508747" y="22412"/>
                  <a:pt x="674594" y="100853"/>
                  <a:pt x="726141" y="132229"/>
                </a:cubicBezTo>
                <a:cubicBezTo>
                  <a:pt x="777688" y="163605"/>
                  <a:pt x="726141" y="199465"/>
                  <a:pt x="726141" y="199465"/>
                </a:cubicBezTo>
                <a:lnTo>
                  <a:pt x="726141" y="199465"/>
                </a:ln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رابط كسهم مستقيم 23"/>
          <p:cNvCxnSpPr/>
          <p:nvPr/>
        </p:nvCxnSpPr>
        <p:spPr>
          <a:xfrm>
            <a:off x="5285160" y="2000160"/>
            <a:ext cx="1429560" cy="1643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55" name="شكل بيضاوي 26"/>
          <p:cNvSpPr/>
          <p:nvPr/>
        </p:nvSpPr>
        <p:spPr>
          <a:xfrm>
            <a:off x="5000760" y="1714680"/>
            <a:ext cx="35712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مربع نص 18"/>
          <p:cNvSpPr/>
          <p:nvPr/>
        </p:nvSpPr>
        <p:spPr>
          <a:xfrm>
            <a:off x="428760" y="1928880"/>
            <a:ext cx="3643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Later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Med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 Ti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 Fib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- Lateral tibial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 Medial tibial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- Intercondyle no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ستطيل 19"/>
          <p:cNvSpPr/>
          <p:nvPr/>
        </p:nvSpPr>
        <p:spPr>
          <a:xfrm>
            <a:off x="357120" y="1714680"/>
            <a:ext cx="3929040" cy="435744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ser35121img00002.jpg"/>
          <p:cNvPicPr/>
          <p:nvPr/>
        </p:nvPicPr>
        <p:blipFill>
          <a:blip r:embed="rId1"/>
          <a:srcRect l="14865" t="16668" r="5106" b="22221"/>
          <a:stretch/>
        </p:blipFill>
        <p:spPr>
          <a:xfrm>
            <a:off x="4595760" y="914400"/>
            <a:ext cx="3862440" cy="5181480"/>
          </a:xfrm>
          <a:prstGeom prst="rect">
            <a:avLst/>
          </a:prstGeom>
          <a:ln w="0">
            <a:noFill/>
          </a:ln>
        </p:spPr>
      </p:pic>
      <p:sp>
        <p:nvSpPr>
          <p:cNvPr id="159" name="Freeform 3"/>
          <p:cNvSpPr/>
          <p:nvPr/>
        </p:nvSpPr>
        <p:spPr>
          <a:xfrm>
            <a:off x="6400800" y="4983120"/>
            <a:ext cx="603360" cy="603360"/>
          </a:xfrm>
          <a:custGeom>
            <a:avLst/>
            <a:gdLst/>
            <a:ahLst/>
            <a:rect l="l" t="t" r="r" b="b"/>
            <a:pathLst>
              <a:path w="603504" h="603504">
                <a:moveTo>
                  <a:pt x="0" y="0"/>
                </a:moveTo>
                <a:cubicBezTo>
                  <a:pt x="44958" y="36576"/>
                  <a:pt x="89916" y="73152"/>
                  <a:pt x="109728" y="109728"/>
                </a:cubicBezTo>
                <a:cubicBezTo>
                  <a:pt x="129540" y="146304"/>
                  <a:pt x="108204" y="182880"/>
                  <a:pt x="118872" y="219456"/>
                </a:cubicBezTo>
                <a:cubicBezTo>
                  <a:pt x="129540" y="256032"/>
                  <a:pt x="143256" y="292608"/>
                  <a:pt x="173736" y="329184"/>
                </a:cubicBezTo>
                <a:cubicBezTo>
                  <a:pt x="204216" y="365760"/>
                  <a:pt x="260604" y="413004"/>
                  <a:pt x="301752" y="438912"/>
                </a:cubicBezTo>
                <a:cubicBezTo>
                  <a:pt x="342900" y="464820"/>
                  <a:pt x="370332" y="457200"/>
                  <a:pt x="420624" y="484632"/>
                </a:cubicBezTo>
                <a:cubicBezTo>
                  <a:pt x="470916" y="512064"/>
                  <a:pt x="537210" y="557784"/>
                  <a:pt x="603504" y="603504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4360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01992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334120" y="3962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6934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>
            <a:off x="6519960" y="4067280"/>
            <a:ext cx="457200" cy="376200"/>
          </a:xfrm>
          <a:custGeom>
            <a:avLst/>
            <a:gdLst/>
            <a:ahLst/>
            <a:rect l="l" t="t" r="r" b="b"/>
            <a:pathLst>
              <a:path w="457200" h="376428">
                <a:moveTo>
                  <a:pt x="0" y="376428"/>
                </a:moveTo>
                <a:cubicBezTo>
                  <a:pt x="15240" y="350520"/>
                  <a:pt x="30480" y="324612"/>
                  <a:pt x="36576" y="284988"/>
                </a:cubicBezTo>
                <a:cubicBezTo>
                  <a:pt x="42672" y="245364"/>
                  <a:pt x="30480" y="182880"/>
                  <a:pt x="36576" y="138684"/>
                </a:cubicBezTo>
                <a:cubicBezTo>
                  <a:pt x="42672" y="94488"/>
                  <a:pt x="33528" y="39624"/>
                  <a:pt x="73152" y="19812"/>
                </a:cubicBezTo>
                <a:cubicBezTo>
                  <a:pt x="112776" y="0"/>
                  <a:pt x="274320" y="19812"/>
                  <a:pt x="274320" y="19812"/>
                </a:cubicBezTo>
                <a:lnTo>
                  <a:pt x="457200" y="19812"/>
                </a:lnTo>
                <a:lnTo>
                  <a:pt x="457200" y="19812"/>
                </a:ln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6932520" y="4168800"/>
            <a:ext cx="995400" cy="851040"/>
          </a:xfrm>
          <a:custGeom>
            <a:avLst/>
            <a:gdLst/>
            <a:ahLst/>
            <a:rect l="l" t="t" r="r" b="b"/>
            <a:pathLst>
              <a:path w="995172" h="851916">
                <a:moveTo>
                  <a:pt x="903732" y="851916"/>
                </a:moveTo>
                <a:cubicBezTo>
                  <a:pt x="831342" y="814578"/>
                  <a:pt x="758952" y="777240"/>
                  <a:pt x="684276" y="742188"/>
                </a:cubicBezTo>
                <a:cubicBezTo>
                  <a:pt x="609600" y="707136"/>
                  <a:pt x="533400" y="665988"/>
                  <a:pt x="455676" y="641604"/>
                </a:cubicBezTo>
                <a:cubicBezTo>
                  <a:pt x="377952" y="617220"/>
                  <a:pt x="283464" y="623316"/>
                  <a:pt x="217932" y="595884"/>
                </a:cubicBezTo>
                <a:cubicBezTo>
                  <a:pt x="152400" y="568452"/>
                  <a:pt x="97536" y="533400"/>
                  <a:pt x="62484" y="477012"/>
                </a:cubicBezTo>
                <a:cubicBezTo>
                  <a:pt x="27432" y="420624"/>
                  <a:pt x="12192" y="323088"/>
                  <a:pt x="7620" y="257556"/>
                </a:cubicBezTo>
                <a:cubicBezTo>
                  <a:pt x="3048" y="192024"/>
                  <a:pt x="0" y="126492"/>
                  <a:pt x="35052" y="83820"/>
                </a:cubicBezTo>
                <a:cubicBezTo>
                  <a:pt x="70104" y="41148"/>
                  <a:pt x="141732" y="0"/>
                  <a:pt x="217932" y="1524"/>
                </a:cubicBezTo>
                <a:cubicBezTo>
                  <a:pt x="294132" y="3048"/>
                  <a:pt x="414528" y="32004"/>
                  <a:pt x="492252" y="92964"/>
                </a:cubicBezTo>
                <a:cubicBezTo>
                  <a:pt x="569976" y="153924"/>
                  <a:pt x="620268" y="291084"/>
                  <a:pt x="684276" y="367284"/>
                </a:cubicBezTo>
                <a:cubicBezTo>
                  <a:pt x="748284" y="443484"/>
                  <a:pt x="824484" y="504444"/>
                  <a:pt x="876300" y="550164"/>
                </a:cubicBezTo>
                <a:cubicBezTo>
                  <a:pt x="928116" y="595884"/>
                  <a:pt x="961644" y="618744"/>
                  <a:pt x="995172" y="641604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7696080" y="3886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13"/>
          <p:cNvCxnSpPr/>
          <p:nvPr/>
        </p:nvCxnSpPr>
        <p:spPr>
          <a:xfrm flipH="1">
            <a:off x="7543080" y="4190760"/>
            <a:ext cx="229320" cy="2293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168" name="TextBox 14"/>
          <p:cNvSpPr/>
          <p:nvPr/>
        </p:nvSpPr>
        <p:spPr>
          <a:xfrm>
            <a:off x="5638680" y="5410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6"/>
          <p:cNvCxnSpPr>
            <a:stCxn id="168" idx="3"/>
          </p:cNvCxnSpPr>
          <p:nvPr/>
        </p:nvCxnSpPr>
        <p:spPr>
          <a:xfrm flipV="1">
            <a:off x="5943600" y="5333400"/>
            <a:ext cx="534240" cy="2610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70" name="TextBox 17"/>
          <p:cNvSpPr/>
          <p:nvPr/>
        </p:nvSpPr>
        <p:spPr>
          <a:xfrm>
            <a:off x="71629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19"/>
          <p:cNvCxnSpPr/>
          <p:nvPr/>
        </p:nvCxnSpPr>
        <p:spPr>
          <a:xfrm flipH="1">
            <a:off x="6857640" y="3581280"/>
            <a:ext cx="381600" cy="4579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172" name="TextBox 18"/>
          <p:cNvSpPr/>
          <p:nvPr/>
        </p:nvSpPr>
        <p:spPr>
          <a:xfrm>
            <a:off x="685800" y="266688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-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- Femur condo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- Pa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- T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- 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- Tibial te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- Tibial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609480" y="2514600"/>
            <a:ext cx="3676680" cy="3057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6:47:23Z</dcterms:created>
  <dc:creator>medtst</dc:creator>
  <dc:description/>
  <dc:language>en-US</dc:language>
  <cp:lastModifiedBy>Radiologist</cp:lastModifiedBy>
  <dcterms:modified xsi:type="dcterms:W3CDTF">2012-12-25T10:44:33Z</dcterms:modified>
  <cp:revision>2</cp:revision>
  <dc:subject/>
  <dc:title>LOWER LIMB RADIOLOGY ANATOMY</dc:title>
</cp:coreProperties>
</file>