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8D2-6017-4D43-B5F6-152EA4F3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399-7439-45F9-B53D-3201978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707-9832-4BD2-9765-915F0D0F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88C-534F-44C4-A94D-FE2AF728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8216-BE64-4008-AE7E-D13611EA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558D-F5EF-4DC3-928C-CB545BC4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2E6A-1F06-4663-B740-A5555D22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04CB-917B-437D-8F18-9BB2DF59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D70D-4E22-4700-912F-2C7BA1EB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7E4F-3324-430B-87B4-B7D67F28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6DE1-AEF7-4C49-BDBD-7008717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32D-4611-453E-9EC5-9BA3A3D1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F43B-F190-4F41-95F7-B8A68C8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1BD2-2728-4A0F-A357-D80DADA9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8F3F-C1DD-469E-8F7E-B2553B7E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84CA-A401-44B5-ACE3-FA23FABF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53A9-F607-438D-B309-CA22075F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0CA-30CC-4CFC-B1A2-7E62707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268-19B1-4995-9A85-43483BF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01E-0A17-4A96-AA6A-F0569F69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9DB-8B36-471C-AC18-C6C526F3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19F-8D96-471B-8DC1-89CA3A4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858-A331-4FAF-8529-2744034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C13-8435-4BB1-BC64-92DFBB8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E50D-AB05-4D97-BF6D-CD9FB28A3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7CD5-50FB-4B91-9241-50F41B9E5C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298440" y="103320"/>
            <a:ext cx="4280040" cy="1596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File0121"/>
          <p:cNvPicPr/>
          <p:nvPr/>
        </p:nvPicPr>
        <p:blipFill>
          <a:blip r:embed="rId2"/>
          <a:stretch/>
        </p:blipFill>
        <p:spPr>
          <a:xfrm>
            <a:off x="5181480" y="620640"/>
            <a:ext cx="3429000" cy="593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INGE"/>
          <p:cNvPicPr/>
          <p:nvPr/>
        </p:nvPicPr>
        <p:blipFill>
          <a:blip r:embed="rId3"/>
          <a:srcRect l="2736" t="0" r="51378" b="23316"/>
          <a:stretch/>
        </p:blipFill>
        <p:spPr>
          <a:xfrm>
            <a:off x="3048120" y="1523880"/>
            <a:ext cx="205740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09480" y="6019920"/>
            <a:ext cx="3657600" cy="45972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Saeed Abuel Makar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ASSIFICATION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280" y="1752480"/>
            <a:ext cx="3810240" cy="457200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ynovial joints can be classified according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ypes of movement that are pos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ccording to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ange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f movement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synovial joints are classified in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lane synovial j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xial synovial j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File0122"/>
          <p:cNvPicPr/>
          <p:nvPr/>
        </p:nvPicPr>
        <p:blipFill>
          <a:blip r:embed="rId1"/>
          <a:stretch/>
        </p:blipFill>
        <p:spPr>
          <a:xfrm>
            <a:off x="4267080" y="1295280"/>
            <a:ext cx="4724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LANE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295280"/>
            <a:ext cx="3429000" cy="51055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articulating surfaces are fl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bones slide on one another, producing a gliding move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tercarpal Joi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ternoclavicular 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Acromioclavicular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File0133"/>
          <p:cNvPicPr/>
          <p:nvPr/>
        </p:nvPicPr>
        <p:blipFill>
          <a:blip r:embed="rId1"/>
          <a:srcRect l="3390" t="9091" r="5084" b="6064"/>
          <a:stretch/>
        </p:blipFill>
        <p:spPr>
          <a:xfrm>
            <a:off x="3733920" y="4267080"/>
            <a:ext cx="5105160" cy="236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ile0134e"/>
          <p:cNvPicPr/>
          <p:nvPr/>
        </p:nvPicPr>
        <p:blipFill>
          <a:blip r:embed="rId2"/>
          <a:srcRect l="11351" t="8103" r="37855" b="10816"/>
          <a:stretch/>
        </p:blipFill>
        <p:spPr>
          <a:xfrm>
            <a:off x="6324480" y="114300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GLIDING"/>
          <p:cNvPicPr/>
          <p:nvPr/>
        </p:nvPicPr>
        <p:blipFill>
          <a:blip r:embed="rId3"/>
          <a:srcRect l="0" t="0" r="36659" b="0"/>
          <a:stretch/>
        </p:blipFill>
        <p:spPr>
          <a:xfrm>
            <a:off x="3733920" y="1066680"/>
            <a:ext cx="2361960" cy="3200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6324480" y="2133720"/>
            <a:ext cx="685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638680" y="3276720"/>
            <a:ext cx="6858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240" y="1218960"/>
            <a:ext cx="4343400" cy="51814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Movements occur along an ax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ransverse axis: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flexion &amp; extension occu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ngitudinal axi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rotation occ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tero-posterior axis: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bduction &amp; adduction occu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Axial joints are divided in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Uniax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iax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ulti-axial (polyaxi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File0134b"/>
          <p:cNvPicPr/>
          <p:nvPr/>
        </p:nvPicPr>
        <p:blipFill>
          <a:blip r:embed="rId1"/>
          <a:srcRect l="4694" t="15165" r="4582" b="13142"/>
          <a:stretch/>
        </p:blipFill>
        <p:spPr>
          <a:xfrm>
            <a:off x="4876920" y="1066680"/>
            <a:ext cx="3962160" cy="2667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0" name="Picture 5" descr="File0134c"/>
          <p:cNvPicPr/>
          <p:nvPr/>
        </p:nvPicPr>
        <p:blipFill>
          <a:blip r:embed="rId2"/>
          <a:srcRect l="5358" t="3449" r="8962" b="18868"/>
          <a:stretch/>
        </p:blipFill>
        <p:spPr>
          <a:xfrm>
            <a:off x="4876920" y="3809880"/>
            <a:ext cx="3886200" cy="281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UNI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1143000"/>
            <a:ext cx="3809880" cy="5410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Hinge joi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xis: transver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ovements: flexion &amp; ext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ample: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lbow join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, and ankle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Piv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xis: longitudi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ovements: r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ample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radio-ulnar  and atlantoaxial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10" descr="F66122-007-f070a.jpg"/>
          <p:cNvPicPr/>
          <p:nvPr/>
        </p:nvPicPr>
        <p:blipFill>
          <a:blip r:embed="rId1"/>
          <a:srcRect l="0" t="0" r="12498" b="8332"/>
          <a:stretch/>
        </p:blipFill>
        <p:spPr>
          <a:xfrm>
            <a:off x="4191120" y="1143000"/>
            <a:ext cx="213336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4" name="Picture 3" descr="C:\Documents and Settings\user1\Desktop\joints\F66122-007-f079.jpg"/>
          <p:cNvPicPr/>
          <p:nvPr/>
        </p:nvPicPr>
        <p:blipFill>
          <a:blip r:embed="rId2"/>
          <a:srcRect l="3447" t="0" r="10347" b="6062"/>
          <a:stretch/>
        </p:blipFill>
        <p:spPr>
          <a:xfrm>
            <a:off x="4267080" y="3733920"/>
            <a:ext cx="243864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Picture 4" descr="C:\Documents and Settings\user1\Desktop\joints\F66122-007-f070c.jpg"/>
          <p:cNvPicPr/>
          <p:nvPr/>
        </p:nvPicPr>
        <p:blipFill>
          <a:blip r:embed="rId3"/>
          <a:srcRect l="0" t="0" r="0" b="11115"/>
          <a:stretch/>
        </p:blipFill>
        <p:spPr>
          <a:xfrm>
            <a:off x="6858000" y="3657600"/>
            <a:ext cx="20574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6" name="Picture 5" descr="HINGE"/>
          <p:cNvPicPr/>
          <p:nvPr/>
        </p:nvPicPr>
        <p:blipFill>
          <a:blip r:embed="rId4"/>
          <a:srcRect l="38189" t="37831" r="0" b="0"/>
          <a:stretch/>
        </p:blipFill>
        <p:spPr>
          <a:xfrm>
            <a:off x="6477120" y="106668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BI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066680"/>
            <a:ext cx="3733920" cy="5486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Ellipsoid j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n elliptica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vex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ts into an elliptica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cave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rticular surf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xes: Transverse &amp; antero-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ovements: Flexion &amp; extension + abduction &amp; adducti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ut rotation is impossibl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ample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Wrist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File0134d"/>
          <p:cNvPicPr/>
          <p:nvPr/>
        </p:nvPicPr>
        <p:blipFill>
          <a:blip r:embed="rId1"/>
          <a:srcRect l="8078" t="10009" r="6411" b="17058"/>
          <a:stretch/>
        </p:blipFill>
        <p:spPr>
          <a:xfrm>
            <a:off x="4191120" y="1143000"/>
            <a:ext cx="4724280" cy="5486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BI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990360"/>
            <a:ext cx="4038840" cy="5715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addle j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articular surfaces are reciprocally concavoconv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y resemble a saddle on a  horse’s bac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ovement: as ellipsoid joints (Flexion &amp; extension + abduction &amp; adduction)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+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 small range of rotat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Example:</a:t>
            </a:r>
            <a:r>
              <a:rPr b="1" i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Carpometacarpal joint of the thum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5" descr="File0134e"/>
          <p:cNvPicPr/>
          <p:nvPr/>
        </p:nvPicPr>
        <p:blipFill>
          <a:blip r:embed="rId1"/>
          <a:srcRect l="9096" t="8483" r="0" b="13004"/>
          <a:stretch/>
        </p:blipFill>
        <p:spPr>
          <a:xfrm>
            <a:off x="4419720" y="1066680"/>
            <a:ext cx="4495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OLY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294920"/>
            <a:ext cx="4038480" cy="53341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Ball-and-socket joi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ball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haped head of a bone fits into a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cket-like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oncavity of another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ments: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lexion &amp; extension + abduction &amp; adduction) + medial and lateral r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er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r>
              <a:rPr b="0" lang="en-US" sz="28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Documents and Settings\user1\Desktop\joints\F66122-007-f027.jpg"/>
          <p:cNvPicPr/>
          <p:nvPr/>
        </p:nvPicPr>
        <p:blipFill>
          <a:blip r:embed="rId1"/>
          <a:srcRect l="12769" t="0" r="12769" b="5989"/>
          <a:stretch/>
        </p:blipFill>
        <p:spPr>
          <a:xfrm>
            <a:off x="4343400" y="106668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BALLSOCK"/>
          <p:cNvPicPr/>
          <p:nvPr/>
        </p:nvPicPr>
        <p:blipFill>
          <a:blip r:embed="rId2"/>
          <a:srcRect l="0" t="0" r="10908" b="5009"/>
          <a:stretch/>
        </p:blipFill>
        <p:spPr>
          <a:xfrm>
            <a:off x="6095880" y="4114800"/>
            <a:ext cx="281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191120" cy="17064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FACTORS AFFECTING STABILITY OF SYNOVIAL J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2285640"/>
            <a:ext cx="4114800" cy="4343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-The shape of articular surfa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ball and socket shape  of th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ip joint 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is a good examples of the  importance of the shape of the bone, to maintain  joint sta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shape of the bones forming the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Knee joint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has nothing to do for sta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File0134f"/>
          <p:cNvPicPr/>
          <p:nvPr/>
        </p:nvPicPr>
        <p:blipFill>
          <a:blip r:embed="rId1"/>
          <a:srcRect l="7933" t="6295" r="0" b="8598"/>
          <a:stretch/>
        </p:blipFill>
        <p:spPr>
          <a:xfrm>
            <a:off x="4648320" y="304920"/>
            <a:ext cx="4267080" cy="3276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50" name="Picture 7" descr="File0131"/>
          <p:cNvPicPr/>
          <p:nvPr/>
        </p:nvPicPr>
        <p:blipFill>
          <a:blip r:embed="rId2"/>
          <a:stretch/>
        </p:blipFill>
        <p:spPr>
          <a:xfrm>
            <a:off x="4876920" y="3657600"/>
            <a:ext cx="3657600" cy="2895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2209680"/>
            <a:ext cx="2971800" cy="3200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2-Strength of the liga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ey prevent excessive movement in a j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Content Placeholder 4" descr="F66122-006-f032.jpg"/>
          <p:cNvPicPr/>
          <p:nvPr/>
        </p:nvPicPr>
        <p:blipFill>
          <a:blip r:embed="rId1"/>
          <a:srcRect l="0" t="0" r="0" b="7407"/>
          <a:stretch/>
        </p:blipFill>
        <p:spPr>
          <a:xfrm>
            <a:off x="3352680" y="1828800"/>
            <a:ext cx="5486400" cy="44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599840"/>
            <a:ext cx="4343400" cy="48006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ne of the surrounding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In most joints, it is the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ajor factor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ontrolling 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short muscles around the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houlder joint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(rotator cuff)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keeps the head of the humerus in the shallow glenoid ca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Content Placeholder 4" descr="F66122-007-f028.jpg"/>
          <p:cNvPicPr/>
          <p:nvPr/>
        </p:nvPicPr>
        <p:blipFill>
          <a:blip r:embed="rId1"/>
          <a:srcRect l="17239" t="0" r="0" b="6158"/>
          <a:stretch/>
        </p:blipFill>
        <p:spPr>
          <a:xfrm>
            <a:off x="4724280" y="1603440"/>
            <a:ext cx="4191120" cy="4873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y the end of the lecture, you should be able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Define the term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“Join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Describe the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assification of 3 types of joints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&amp;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ive an example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haracteristic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of synovial joint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assification of synovial joints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&amp;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ive an example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ist factors maintaining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tability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j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cite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“Hilton’s law”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for nerve supply of j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ERVE SUPPLY OF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2285640"/>
            <a:ext cx="8305560" cy="33526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apsule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igaments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receive an abundant sensory nerve supp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"/>
              </a:rPr>
              <a:t>Hilton’s Law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A sensory nerve supplying a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joint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also supplies the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muscles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moving that joint and the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kin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overlying the insertions of these muscle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5634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90360"/>
            <a:ext cx="8458200" cy="56386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the site where two or more bones come together, whether movement occurs (or not) between th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classified according to the tissues that lie between the bones into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3 type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brous, cartilaginous &amp; synov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novial joints are freely movable &amp; characterized by the presenc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brous capsul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ticular cartilag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novial membrane &amp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int cavity containing synovial flu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" y="1599840"/>
            <a:ext cx="8763120" cy="44197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ovial joints are classified according to the range of movement into: plane and ax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xial are divided according to the number of axes of movements into:  uniaxial, biaxial &amp; polyaxial or multiax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bility of synovial joints depends on: shape of articular surfaces, ligaments &amp;  muscle t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s have same nerve supply as muscles moving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EST YORSELF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QUESTION “I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ich of the following is a hinge synovial j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houl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Elb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ternoclavi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ymphysis pub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QUESTION “II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ich of the following is a cartilaginous j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Elb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ternoclavi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ymphysis pub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3352680" cy="25909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hat is a j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t is the site where two or more bones meet toge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File0134e"/>
          <p:cNvPicPr/>
          <p:nvPr/>
        </p:nvPicPr>
        <p:blipFill>
          <a:blip r:embed="rId1"/>
          <a:srcRect l="10004" t="8067" r="0" b="9676"/>
          <a:stretch/>
        </p:blipFill>
        <p:spPr>
          <a:xfrm>
            <a:off x="3809880" y="1676520"/>
            <a:ext cx="4876920" cy="4876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523880"/>
            <a:ext cx="3886200" cy="46022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Joints are classified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cording to the tissues that lie between the bones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ibr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rtilagin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ynov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File0125"/>
          <p:cNvPicPr/>
          <p:nvPr/>
        </p:nvPicPr>
        <p:blipFill>
          <a:blip r:embed="rId1"/>
          <a:srcRect l="5406" t="22726" r="40544" b="7023"/>
          <a:stretch/>
        </p:blipFill>
        <p:spPr>
          <a:xfrm>
            <a:off x="7010280" y="137160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ile0127"/>
          <p:cNvPicPr/>
          <p:nvPr/>
        </p:nvPicPr>
        <p:blipFill>
          <a:blip r:embed="rId2"/>
          <a:srcRect l="10608" t="8824" r="47992" b="22372"/>
          <a:stretch/>
        </p:blipFill>
        <p:spPr>
          <a:xfrm>
            <a:off x="7086600" y="41911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File0132"/>
          <p:cNvPicPr/>
          <p:nvPr/>
        </p:nvPicPr>
        <p:blipFill>
          <a:blip r:embed="rId3"/>
          <a:stretch/>
        </p:blipFill>
        <p:spPr>
          <a:xfrm>
            <a:off x="4267080" y="1447920"/>
            <a:ext cx="2743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IBR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1371240"/>
            <a:ext cx="4191120" cy="51814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he articulating surfaces are joined by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fibrous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issue,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Skull suture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No movement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temporary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as it ossify later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Inferior tibiofibular</a:t>
            </a:r>
            <a:r>
              <a:rPr b="1" i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joints (syndesmosis)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very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Little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movement,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permanent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Gomphoses: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Between teeth and there socke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9221C93"/>
          <p:cNvPicPr/>
          <p:nvPr/>
        </p:nvPicPr>
        <p:blipFill>
          <a:blip r:embed="rId1"/>
          <a:srcRect l="1779" t="64385" r="81628" b="12218"/>
          <a:stretch/>
        </p:blipFill>
        <p:spPr>
          <a:xfrm>
            <a:off x="7010280" y="1905120"/>
            <a:ext cx="1905120" cy="4419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9" name="Picture 4" descr="29AA9DCB"/>
          <p:cNvPicPr/>
          <p:nvPr/>
        </p:nvPicPr>
        <p:blipFill>
          <a:blip r:embed="rId2"/>
          <a:srcRect l="18840" t="8432" r="27330" b="55758"/>
          <a:stretch/>
        </p:blipFill>
        <p:spPr>
          <a:xfrm>
            <a:off x="4495680" y="1371600"/>
            <a:ext cx="2286000" cy="274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Picture 5" descr="File0125"/>
          <p:cNvPicPr/>
          <p:nvPr/>
        </p:nvPicPr>
        <p:blipFill>
          <a:blip r:embed="rId3"/>
          <a:srcRect l="36796" t="5097" r="24788" b="63318"/>
          <a:stretch/>
        </p:blipFill>
        <p:spPr>
          <a:xfrm>
            <a:off x="4419720" y="4267080"/>
            <a:ext cx="2361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ARTILAGIN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bone are joined by </a:t>
            </a:r>
            <a:r>
              <a:rPr b="0" lang="en-US" sz="2800" spc="-1" strike="noStrike">
                <a:solidFill>
                  <a:srgbClr val="e46c0a"/>
                </a:solidFill>
                <a:latin typeface="Calibri"/>
              </a:rPr>
              <a:t>cartil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Calibri"/>
              </a:rPr>
              <a:t>It is of 2 ty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Primary Cartilagi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 bones are united by a plate or a bar of hyaline cartilag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No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moveme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temporary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joints  (ossify later),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Between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physis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nd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iaphysis of a growing bon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Between the First Rib and the Sternum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(1</a:t>
            </a:r>
            <a:r>
              <a:rPr b="0" lang="en-US" sz="2400" spc="-1" strike="noStrike" baseline="30000">
                <a:solidFill>
                  <a:srgbClr val="00206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sternocostal joi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File0127"/>
          <p:cNvPicPr/>
          <p:nvPr/>
        </p:nvPicPr>
        <p:blipFill>
          <a:blip r:embed="rId1"/>
          <a:srcRect l="11318" t="8910" r="5663" b="7121"/>
          <a:stretch/>
        </p:blipFill>
        <p:spPr>
          <a:xfrm>
            <a:off x="5181480" y="16765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5410080" y="571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Primary Cartilagi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ARTILAGIN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1920" y="1295280"/>
            <a:ext cx="4800600" cy="5181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Calibri"/>
              </a:rPr>
              <a:t>Secondary Cartilagino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bones are united by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late of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fibrocartil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ir articulating surfaces are covered by a thin plate of hyaline cartil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Littl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movement,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permanent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joi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y are called Midlin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joi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Joints between the </a:t>
            </a:r>
            <a:r>
              <a:rPr b="1" i="1" lang="en-US" sz="2600" spc="-1" strike="noStrike">
                <a:solidFill>
                  <a:srgbClr val="0070c0"/>
                </a:solidFill>
                <a:latin typeface="Calibri"/>
              </a:rPr>
              <a:t>Vertebral Bodie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intervertebral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c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ymphysis Pubi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File0127A"/>
          <p:cNvPicPr/>
          <p:nvPr/>
        </p:nvPicPr>
        <p:blipFill>
          <a:blip r:embed="rId1"/>
          <a:srcRect l="7548" t="7067" r="7548" b="6734"/>
          <a:stretch/>
        </p:blipFill>
        <p:spPr>
          <a:xfrm>
            <a:off x="5029200" y="175248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066680"/>
            <a:ext cx="3733920" cy="5486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Characteristic featur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Freely movable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bones are joined by a fibrous capsule, which is attached to the margins of articular surfaces &amp; enclosing the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articular surfaces are covered by a thin layer of hyaline cartilage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articular cartilag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 joint cavity enclosed within the capsule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320600" y="25146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ps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12" descr="12"/>
          <p:cNvPicPr/>
          <p:nvPr/>
        </p:nvPicPr>
        <p:blipFill>
          <a:blip r:embed="rId1"/>
          <a:srcRect l="3465" t="17181" r="2707" b="16206"/>
          <a:stretch/>
        </p:blipFill>
        <p:spPr>
          <a:xfrm>
            <a:off x="4419720" y="121932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280" y="1294920"/>
            <a:ext cx="3657600" cy="54104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 thin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vascula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ynovial membrane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lining the inner surface of the caps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 lubrica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ynovial fluid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roduced by synovial membrane in the joint ca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fluid minimizes the friction between the articular surf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8"/>
          <p:cNvSpPr/>
          <p:nvPr/>
        </p:nvSpPr>
        <p:spPr>
          <a:xfrm flipH="1">
            <a:off x="7467480" y="28947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3"/>
          <p:cNvSpPr/>
          <p:nvPr/>
        </p:nvSpPr>
        <p:spPr>
          <a:xfrm flipH="1">
            <a:off x="6858000" y="2670120"/>
            <a:ext cx="20304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File0132"/>
          <p:cNvPicPr/>
          <p:nvPr/>
        </p:nvPicPr>
        <p:blipFill>
          <a:blip r:embed="rId1"/>
          <a:stretch/>
        </p:blipFill>
        <p:spPr>
          <a:xfrm>
            <a:off x="4038480" y="1143000"/>
            <a:ext cx="4648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3422</cp:lastModifiedBy>
  <dcterms:modified xsi:type="dcterms:W3CDTF">2015-11-23T05:44:42Z</dcterms:modified>
  <cp:revision>316</cp:revision>
  <dc:subject/>
  <dc:title>MUSCLES INVOLVED IN RESPIRATION </dc:title>
</cp:coreProperties>
</file>