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875B-9E9B-4D5A-97DC-EF1DE5117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4809-6FCF-46F9-A187-08792B59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645D-B167-47E6-8F74-20D8A120A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A613-8687-46D1-879E-BE0B85B4F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788A-5650-412B-8F37-7236BAA91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F6CA4-60A9-4D63-BFEA-F2E37B24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613D-54B8-4430-83E2-DA465C36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994A6-E2EE-44C6-A5BA-CD215D77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6450-1D17-4D7F-B1E0-BA055D1E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29793-2BB6-4F0D-98B3-8A47F6D1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336F-2557-4226-9E98-0C93A5DB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07CF-8F8F-4E2C-AE41-37C88043F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654C1-0C9C-45D6-838E-D8501731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2DA5-C11C-42B0-B874-74680763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B7C4-B0ED-4969-86D2-4A48260B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19FD-36C3-4063-8395-4A51924E1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94537-4506-457D-B5E7-AC2701532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AEF1-8FBA-4FBD-BDA3-1A7C6FCA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39B9-765A-4057-A633-AD9BAF55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F495-D963-41EC-A888-3628CA2B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E26C-5480-43C4-BFB3-CC62103E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19C5-5CA3-4919-973C-D39E8F91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28CB-7798-4905-9B38-2D0FA55D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4CC8-EEDE-4758-A7E8-9E9441B7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A290-396D-4318-8571-1A6143DA88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EB25-FE1F-48BA-929C-74B5D45496C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Rectangle 3" descr=""/>
          <p:cNvPicPr/>
          <p:nvPr/>
        </p:nvPicPr>
        <p:blipFill>
          <a:blip r:embed="rId1"/>
          <a:stretch/>
        </p:blipFill>
        <p:spPr>
          <a:xfrm>
            <a:off x="298440" y="103320"/>
            <a:ext cx="4280040" cy="1596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File0121"/>
          <p:cNvPicPr/>
          <p:nvPr/>
        </p:nvPicPr>
        <p:blipFill>
          <a:blip r:embed="rId2"/>
          <a:stretch/>
        </p:blipFill>
        <p:spPr>
          <a:xfrm>
            <a:off x="5181480" y="620640"/>
            <a:ext cx="3429000" cy="5932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HINGE"/>
          <p:cNvPicPr/>
          <p:nvPr/>
        </p:nvPicPr>
        <p:blipFill>
          <a:blip r:embed="rId3"/>
          <a:srcRect l="2736" t="0" r="51378" b="23316"/>
          <a:stretch/>
        </p:blipFill>
        <p:spPr>
          <a:xfrm>
            <a:off x="3048120" y="1523880"/>
            <a:ext cx="2057400" cy="4496040"/>
          </a:xfrm>
          <a:prstGeom prst="rect">
            <a:avLst/>
          </a:prstGeom>
          <a:ln w="0">
            <a:noFill/>
          </a:ln>
        </p:spPr>
      </p:pic>
      <p:sp>
        <p:nvSpPr>
          <p:cNvPr id="85" name="TextBox 6"/>
          <p:cNvSpPr/>
          <p:nvPr/>
        </p:nvSpPr>
        <p:spPr>
          <a:xfrm>
            <a:off x="609480" y="6019920"/>
            <a:ext cx="3657600" cy="45972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f. Saeed Abuel Makar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63972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CLASSIFICATION OF SYNOVIAL JOI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52280" y="1752480"/>
            <a:ext cx="3810240" cy="4572000"/>
          </a:xfrm>
          <a:prstGeom prst="rect">
            <a:avLst/>
          </a:prstGeom>
          <a:solidFill>
            <a:srgbClr val="dbeef4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Synovial joints can be classified according to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types of movement that are possibl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According to the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range</a:t>
            </a: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of movement </a:t>
            </a: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synovial joints are classified into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Plane synovial joi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Axial synovial joi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File0122"/>
          <p:cNvPicPr/>
          <p:nvPr/>
        </p:nvPicPr>
        <p:blipFill>
          <a:blip r:embed="rId1"/>
          <a:stretch/>
        </p:blipFill>
        <p:spPr>
          <a:xfrm>
            <a:off x="4267080" y="1295280"/>
            <a:ext cx="47246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PLANE SYNOVIAL JOI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28240" y="1295280"/>
            <a:ext cx="3429000" cy="510552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he articulating surfaces are fl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he bones slide on one another, producing a gliding moveme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Intercarpal Joint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ternoclavicular  joi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f497d"/>
                </a:solidFill>
                <a:latin typeface="Calibri"/>
              </a:rPr>
              <a:t>Acromioclavicular joi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6" descr="File0133"/>
          <p:cNvPicPr/>
          <p:nvPr/>
        </p:nvPicPr>
        <p:blipFill>
          <a:blip r:embed="rId1"/>
          <a:srcRect l="3390" t="9091" r="5084" b="6064"/>
          <a:stretch/>
        </p:blipFill>
        <p:spPr>
          <a:xfrm>
            <a:off x="3733920" y="4267080"/>
            <a:ext cx="5105160" cy="2362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File0134e"/>
          <p:cNvPicPr/>
          <p:nvPr/>
        </p:nvPicPr>
        <p:blipFill>
          <a:blip r:embed="rId2"/>
          <a:srcRect l="11351" t="8103" r="37855" b="10816"/>
          <a:stretch/>
        </p:blipFill>
        <p:spPr>
          <a:xfrm>
            <a:off x="6324480" y="1143000"/>
            <a:ext cx="2590920" cy="3048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GLIDING"/>
          <p:cNvPicPr/>
          <p:nvPr/>
        </p:nvPicPr>
        <p:blipFill>
          <a:blip r:embed="rId3"/>
          <a:srcRect l="0" t="0" r="36659" b="0"/>
          <a:stretch/>
        </p:blipFill>
        <p:spPr>
          <a:xfrm>
            <a:off x="3733920" y="1066680"/>
            <a:ext cx="2361960" cy="32004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6324480" y="2133720"/>
            <a:ext cx="6858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5638680" y="3276720"/>
            <a:ext cx="68580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AXIAL SYNOVIAL JOI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28240" y="1218960"/>
            <a:ext cx="4343400" cy="51814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f497d"/>
                </a:solidFill>
                <a:latin typeface="Calibri"/>
              </a:rPr>
              <a:t>Movements occur along an ax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Transverse axis:</a:t>
            </a: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 flexion &amp; extension occu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Longitudinal axis</a:t>
            </a: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: rotation occu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Antero-posterior axis: </a:t>
            </a: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abduction &amp; adduction occu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70c0"/>
                </a:solidFill>
                <a:uFillTx/>
                <a:latin typeface="Calibri"/>
              </a:rPr>
              <a:t>Axial joints are divided into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Uniax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Biax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Calibri"/>
              </a:rPr>
              <a:t>Multi-axial (polyaxial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6" descr="File0134b"/>
          <p:cNvPicPr/>
          <p:nvPr/>
        </p:nvPicPr>
        <p:blipFill>
          <a:blip r:embed="rId1"/>
          <a:srcRect l="4694" t="15165" r="4582" b="13142"/>
          <a:stretch/>
        </p:blipFill>
        <p:spPr>
          <a:xfrm>
            <a:off x="4876920" y="1066680"/>
            <a:ext cx="3962160" cy="26672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30" name="Picture 5" descr="File0134c"/>
          <p:cNvPicPr/>
          <p:nvPr/>
        </p:nvPicPr>
        <p:blipFill>
          <a:blip r:embed="rId2"/>
          <a:srcRect l="5358" t="3449" r="8962" b="18868"/>
          <a:stretch/>
        </p:blipFill>
        <p:spPr>
          <a:xfrm>
            <a:off x="4876920" y="3809880"/>
            <a:ext cx="3886200" cy="28195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001000" cy="83844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UNIAXIAL SYNOVIAL JOI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560" y="1143000"/>
            <a:ext cx="3809880" cy="54100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Hinge join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Axis: transver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Movements: flexion &amp; extens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Example: </a:t>
            </a: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elbow joint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, and ankle joi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Pivo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Axis: longitudin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Movements: rot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Example: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radio-ulnar  and atlantoaxial joi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Content Placeholder 10" descr="F66122-007-f070a.jpg"/>
          <p:cNvPicPr/>
          <p:nvPr/>
        </p:nvPicPr>
        <p:blipFill>
          <a:blip r:embed="rId1"/>
          <a:srcRect l="0" t="0" r="12498" b="8332"/>
          <a:stretch/>
        </p:blipFill>
        <p:spPr>
          <a:xfrm>
            <a:off x="4191120" y="1143000"/>
            <a:ext cx="2133360" cy="2514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4" name="Picture 3" descr="C:\Documents and Settings\user1\Desktop\joints\F66122-007-f079.jpg"/>
          <p:cNvPicPr/>
          <p:nvPr/>
        </p:nvPicPr>
        <p:blipFill>
          <a:blip r:embed="rId2"/>
          <a:srcRect l="3447" t="0" r="10347" b="6062"/>
          <a:stretch/>
        </p:blipFill>
        <p:spPr>
          <a:xfrm>
            <a:off x="4267080" y="3733920"/>
            <a:ext cx="2438640" cy="2895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5" name="Picture 4" descr="C:\Documents and Settings\user1\Desktop\joints\F66122-007-f070c.jpg"/>
          <p:cNvPicPr/>
          <p:nvPr/>
        </p:nvPicPr>
        <p:blipFill>
          <a:blip r:embed="rId3"/>
          <a:srcRect l="0" t="0" r="0" b="11115"/>
          <a:stretch/>
        </p:blipFill>
        <p:spPr>
          <a:xfrm>
            <a:off x="6858000" y="3657600"/>
            <a:ext cx="2057400" cy="2971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6" name="Picture 5" descr="HINGE"/>
          <p:cNvPicPr/>
          <p:nvPr/>
        </p:nvPicPr>
        <p:blipFill>
          <a:blip r:embed="rId4"/>
          <a:srcRect l="38189" t="37831" r="0" b="0"/>
          <a:stretch/>
        </p:blipFill>
        <p:spPr>
          <a:xfrm>
            <a:off x="6477120" y="1066680"/>
            <a:ext cx="24382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BIAXIAL SYNOVIAL JOI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8600" y="1066680"/>
            <a:ext cx="3733920" cy="548640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Ellipsoid joi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An elliptical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onvex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fits into an elliptical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oncave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articular surfa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Axes: Transverse &amp; antero-posteri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Movements: Flexion &amp; extension + abduction &amp; adduction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but rotation is impossible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Example: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Wrist joi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5" descr="File0134d"/>
          <p:cNvPicPr/>
          <p:nvPr/>
        </p:nvPicPr>
        <p:blipFill>
          <a:blip r:embed="rId1"/>
          <a:srcRect l="8078" t="10009" r="6411" b="17058"/>
          <a:stretch/>
        </p:blipFill>
        <p:spPr>
          <a:xfrm>
            <a:off x="4191120" y="1143000"/>
            <a:ext cx="4724280" cy="54864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BIAXIAL SYNOVIAL JOI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1920" y="990360"/>
            <a:ext cx="4038840" cy="57150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Saddle joi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The articular surfaces are reciprocally concavoconvex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They resemble a saddle on a  horse’s back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Movement: as ellipsoid joints (Flexion &amp; extension + abduction &amp; adduction)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+ 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a small range of rotation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Example:</a:t>
            </a:r>
            <a:r>
              <a:rPr b="1" i="1" lang="en-US" sz="2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e46c0a"/>
                </a:solidFill>
                <a:latin typeface="Calibri"/>
              </a:rPr>
              <a:t>Carpometacarpal joint of the thumb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Content Placeholder 5" descr="File0134e"/>
          <p:cNvPicPr/>
          <p:nvPr/>
        </p:nvPicPr>
        <p:blipFill>
          <a:blip r:embed="rId1"/>
          <a:srcRect l="9096" t="8483" r="0" b="13004"/>
          <a:stretch/>
        </p:blipFill>
        <p:spPr>
          <a:xfrm>
            <a:off x="4419720" y="1066680"/>
            <a:ext cx="44956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POLYAXIAL SYNOVIAL JOI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28600" y="1294920"/>
            <a:ext cx="4038480" cy="533412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46c0a"/>
                </a:solidFill>
                <a:latin typeface="Calibri"/>
              </a:rPr>
              <a:t>Ball-and-socket joint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 ball 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haped head of a bone fits into a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ocket-like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concavity of another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vements: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Flexion &amp; extension + abduction &amp; adduction) + medial and lateral rot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ulder joi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p Joint</a:t>
            </a:r>
            <a:r>
              <a:rPr b="0" lang="en-US" sz="2800" spc="-1" strike="noStrike">
                <a:solidFill>
                  <a:srgbClr val="e46c0a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C:\Documents and Settings\user1\Desktop\joints\F66122-007-f027.jpg"/>
          <p:cNvPicPr/>
          <p:nvPr/>
        </p:nvPicPr>
        <p:blipFill>
          <a:blip r:embed="rId1"/>
          <a:srcRect l="12769" t="0" r="12769" b="5989"/>
          <a:stretch/>
        </p:blipFill>
        <p:spPr>
          <a:xfrm>
            <a:off x="4343400" y="1066680"/>
            <a:ext cx="2743200" cy="2971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BALLSOCK"/>
          <p:cNvPicPr/>
          <p:nvPr/>
        </p:nvPicPr>
        <p:blipFill>
          <a:blip r:embed="rId2"/>
          <a:srcRect l="0" t="0" r="10908" b="5009"/>
          <a:stretch/>
        </p:blipFill>
        <p:spPr>
          <a:xfrm>
            <a:off x="6095880" y="4114800"/>
            <a:ext cx="28195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4191120" cy="170640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FACTORS AFFECTING STABILITY OF SYNOVIAL J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28600" y="2285640"/>
            <a:ext cx="4114800" cy="434340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1-The shape of articular surfac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The ball and socket shape  of the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Hip joint  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is a good examples of the  importance of the shape of the bone, to maintain  joint stabilit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The shape of the bones forming the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Knee joint 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has nothing to do for stabilit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5" descr="File0134f"/>
          <p:cNvPicPr/>
          <p:nvPr/>
        </p:nvPicPr>
        <p:blipFill>
          <a:blip r:embed="rId1"/>
          <a:srcRect l="7933" t="6295" r="0" b="8598"/>
          <a:stretch/>
        </p:blipFill>
        <p:spPr>
          <a:xfrm>
            <a:off x="4648320" y="304920"/>
            <a:ext cx="4267080" cy="32763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50" name="Picture 7" descr="File0131"/>
          <p:cNvPicPr/>
          <p:nvPr/>
        </p:nvPicPr>
        <p:blipFill>
          <a:blip r:embed="rId2"/>
          <a:stretch/>
        </p:blipFill>
        <p:spPr>
          <a:xfrm>
            <a:off x="4876920" y="3657600"/>
            <a:ext cx="3657600" cy="28954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5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STABILITY OF SYNOVIAL JOI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28240" y="2209680"/>
            <a:ext cx="2971800" cy="320040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2-Strength of the ligame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They prevent excessive movement in a joi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Content Placeholder 4" descr="F66122-006-f032.jpg"/>
          <p:cNvPicPr/>
          <p:nvPr/>
        </p:nvPicPr>
        <p:blipFill>
          <a:blip r:embed="rId1"/>
          <a:srcRect l="0" t="0" r="0" b="7407"/>
          <a:stretch/>
        </p:blipFill>
        <p:spPr>
          <a:xfrm>
            <a:off x="3352680" y="1828800"/>
            <a:ext cx="5486400" cy="4419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STABILITY OF SYNOVIAL JOI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28240" y="1599840"/>
            <a:ext cx="4343400" cy="480060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-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one of the surrounding muscl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In most joints, it is the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major factor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controlling stabil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The short muscles around the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houlder joint </a:t>
            </a:r>
            <a:r>
              <a:rPr b="0" lang="en-US" sz="2800" spc="-1" strike="noStrike">
                <a:solidFill>
                  <a:srgbClr val="7030a0"/>
                </a:solidFill>
                <a:latin typeface="Calibri"/>
              </a:rPr>
              <a:t>(rotator cuff)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keeps the head of the humerus in the shallow glenoid cavi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Content Placeholder 4" descr="F66122-007-f028.jpg"/>
          <p:cNvPicPr/>
          <p:nvPr/>
        </p:nvPicPr>
        <p:blipFill>
          <a:blip r:embed="rId1"/>
          <a:srcRect l="17239" t="0" r="0" b="6158"/>
          <a:stretch/>
        </p:blipFill>
        <p:spPr>
          <a:xfrm>
            <a:off x="4724280" y="1603440"/>
            <a:ext cx="4191120" cy="48736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c00000"/>
                </a:solidFill>
                <a:latin typeface="Calibri"/>
              </a:rPr>
              <a:t>OBJECTIVES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04920" y="1295280"/>
            <a:ext cx="8610480" cy="518184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y the end of the lecture, you should be able to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Define the term </a:t>
            </a: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“Joint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Describe the </a:t>
            </a: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classification of 3 types of joints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&amp;</a:t>
            </a: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give an example of e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Describe the </a:t>
            </a: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characteristics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of synovial joints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Describe the </a:t>
            </a: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classification of synovial joints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&amp;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give an example of ea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List factors maintaining </a:t>
            </a: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stability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 of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joi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Recite </a:t>
            </a: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“Hilton’s law”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for nerve supply of joi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NERVE SUPPLY OF J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33160" y="2285640"/>
            <a:ext cx="8305560" cy="33526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The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capsule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and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ligaments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receive an abundant sensory nerve supp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omic"/>
              </a:rPr>
              <a:t>Hilton’s Law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A sensory nerve supplying a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joint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also supplies the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muscles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moving that joint and the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skin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overlying the insertions of these muscles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56340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6840" y="990360"/>
            <a:ext cx="8458200" cy="56386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Join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is the site where two or more bones come together, whether movement occurs (or not) between the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Joint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re classified according to the tissues that lie between the bones into </a:t>
            </a:r>
            <a:r>
              <a:rPr b="1" lang="en-US" sz="3000" spc="-1" strike="noStrike" u="sng">
                <a:solidFill>
                  <a:srgbClr val="ff0000"/>
                </a:solidFill>
                <a:uFillTx/>
                <a:latin typeface="Calibri"/>
              </a:rPr>
              <a:t>3 types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brous, cartilaginous &amp; synovi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ynovial joints are freely movable &amp; characterized by the presence of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brous capsule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rticular cartilage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ynovial membrane &amp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oint cavity containing synovial flui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28600" y="1599840"/>
            <a:ext cx="8763120" cy="441972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novial joints are classified according to the range of movement into: plane and axi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xial are divided according to the number of axes of movements into:  uniaxial, biaxial &amp; polyaxial or multiaxi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bility of synovial joints depends on: shape of articular surfaces, ligaments &amp;  muscle t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ints have same nerve supply as muscles moving th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TEST YORSELF</a:t>
            </a:r>
            <a:br>
              <a:rPr sz="4400"/>
            </a:b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QUESTION “I”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6840" y="2438280"/>
            <a:ext cx="838188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Which of the following is a hinge synovial joi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Should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Elbo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Sternoclavicul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Symphysis pub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QUESTION “II”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Which of the following is a cartilaginous joi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Hi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Elbo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Sternoclavicul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Symphysis pub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2666520"/>
            <a:ext cx="3352680" cy="259092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What is a joi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It is the site where two or more bones meet togeth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File0134e"/>
          <p:cNvPicPr/>
          <p:nvPr/>
        </p:nvPicPr>
        <p:blipFill>
          <a:blip r:embed="rId1"/>
          <a:srcRect l="10004" t="8067" r="0" b="9676"/>
          <a:stretch/>
        </p:blipFill>
        <p:spPr>
          <a:xfrm>
            <a:off x="3809880" y="1676520"/>
            <a:ext cx="4876920" cy="48765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CLASSIF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28240" y="1523880"/>
            <a:ext cx="3886200" cy="460224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Joints are classified </a:t>
            </a: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according to the tissues that lie between the bones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in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Fibro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Cartilagino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Synovi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" descr="File0125"/>
          <p:cNvPicPr/>
          <p:nvPr/>
        </p:nvPicPr>
        <p:blipFill>
          <a:blip r:embed="rId1"/>
          <a:srcRect l="5406" t="22726" r="40544" b="7023"/>
          <a:stretch/>
        </p:blipFill>
        <p:spPr>
          <a:xfrm>
            <a:off x="7010280" y="1371600"/>
            <a:ext cx="1905120" cy="2743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File0127"/>
          <p:cNvPicPr/>
          <p:nvPr/>
        </p:nvPicPr>
        <p:blipFill>
          <a:blip r:embed="rId2"/>
          <a:srcRect l="10608" t="8824" r="47992" b="22372"/>
          <a:stretch/>
        </p:blipFill>
        <p:spPr>
          <a:xfrm>
            <a:off x="7086600" y="4191120"/>
            <a:ext cx="1905120" cy="2361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File0132"/>
          <p:cNvPicPr/>
          <p:nvPr/>
        </p:nvPicPr>
        <p:blipFill>
          <a:blip r:embed="rId3"/>
          <a:stretch/>
        </p:blipFill>
        <p:spPr>
          <a:xfrm>
            <a:off x="4267080" y="1447920"/>
            <a:ext cx="2743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FIBROUS J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52280" y="1371240"/>
            <a:ext cx="4191120" cy="51814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The articulating surfaces are joined by </a:t>
            </a: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fibrous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 tissue, exampl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70c0"/>
                </a:solidFill>
                <a:uFillTx/>
                <a:latin typeface="Calibri"/>
              </a:rPr>
              <a:t>Skull sutures</a:t>
            </a: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: </a:t>
            </a:r>
            <a:r>
              <a:rPr b="1" lang="en-US" sz="2600" spc="-1" strike="noStrike" u="sng">
                <a:solidFill>
                  <a:srgbClr val="c00000"/>
                </a:solidFill>
                <a:uFillTx/>
                <a:latin typeface="Calibri"/>
              </a:rPr>
              <a:t>No movement </a:t>
            </a: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, </a:t>
            </a:r>
            <a:r>
              <a:rPr b="1" lang="en-US" sz="2600" spc="-1" strike="noStrike">
                <a:solidFill>
                  <a:srgbClr val="e46c0a"/>
                </a:solidFill>
                <a:latin typeface="Calibri"/>
              </a:rPr>
              <a:t>temporary</a:t>
            </a: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 as it ossify later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70c0"/>
                </a:solidFill>
                <a:uFillTx/>
                <a:latin typeface="Calibri"/>
              </a:rPr>
              <a:t>Inferior tibiofibular</a:t>
            </a:r>
            <a:r>
              <a:rPr b="1" i="1" lang="en-US" sz="2600" spc="-1" strike="noStrike" u="sng">
                <a:solidFill>
                  <a:srgbClr val="0070c0"/>
                </a:solidFill>
                <a:uFillTx/>
                <a:latin typeface="Calibri"/>
              </a:rPr>
              <a:t> </a:t>
            </a:r>
            <a:r>
              <a:rPr b="1" lang="en-US" sz="2600" spc="-1" strike="noStrike" u="sng">
                <a:solidFill>
                  <a:srgbClr val="0070c0"/>
                </a:solidFill>
                <a:uFillTx/>
                <a:latin typeface="Calibri"/>
              </a:rPr>
              <a:t>joints (syndesmosis)</a:t>
            </a: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: very </a:t>
            </a:r>
            <a:r>
              <a:rPr b="1" lang="en-US" sz="2600" spc="-1" strike="noStrike">
                <a:solidFill>
                  <a:srgbClr val="e46c0a"/>
                </a:solidFill>
                <a:latin typeface="Calibri"/>
              </a:rPr>
              <a:t>Little</a:t>
            </a: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 movement, </a:t>
            </a:r>
            <a:r>
              <a:rPr b="1" lang="en-US" sz="2600" spc="-1" strike="noStrike">
                <a:solidFill>
                  <a:srgbClr val="e46c0a"/>
                </a:solidFill>
                <a:latin typeface="Calibri"/>
              </a:rPr>
              <a:t>permanent</a:t>
            </a: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 join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600" spc="-1" strike="noStrike" u="sng">
                <a:solidFill>
                  <a:srgbClr val="0070c0"/>
                </a:solidFill>
                <a:uFillTx/>
                <a:latin typeface="Calibri"/>
              </a:rPr>
              <a:t>Gomphoses:</a:t>
            </a: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 Between teeth and there socket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C9221C93"/>
          <p:cNvPicPr/>
          <p:nvPr/>
        </p:nvPicPr>
        <p:blipFill>
          <a:blip r:embed="rId1"/>
          <a:srcRect l="1779" t="64385" r="81628" b="12218"/>
          <a:stretch/>
        </p:blipFill>
        <p:spPr>
          <a:xfrm>
            <a:off x="7010280" y="1905120"/>
            <a:ext cx="1905120" cy="4419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99" name="Picture 4" descr="29AA9DCB"/>
          <p:cNvPicPr/>
          <p:nvPr/>
        </p:nvPicPr>
        <p:blipFill>
          <a:blip r:embed="rId2"/>
          <a:srcRect l="18840" t="8432" r="27330" b="55758"/>
          <a:stretch/>
        </p:blipFill>
        <p:spPr>
          <a:xfrm>
            <a:off x="4495680" y="1371600"/>
            <a:ext cx="2286000" cy="2743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00" name="Picture 5" descr="File0125"/>
          <p:cNvPicPr/>
          <p:nvPr/>
        </p:nvPicPr>
        <p:blipFill>
          <a:blip r:embed="rId3"/>
          <a:srcRect l="36796" t="5097" r="24788" b="63318"/>
          <a:stretch/>
        </p:blipFill>
        <p:spPr>
          <a:xfrm>
            <a:off x="4419720" y="4267080"/>
            <a:ext cx="23619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ARTILAGINOUS J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04560" y="1219320"/>
            <a:ext cx="4800600" cy="533376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 bone are joined by </a:t>
            </a:r>
            <a:r>
              <a:rPr b="0" lang="en-US" sz="2800" spc="-1" strike="noStrike">
                <a:solidFill>
                  <a:srgbClr val="e46c0a"/>
                </a:solidFill>
                <a:latin typeface="Calibri"/>
              </a:rPr>
              <a:t>cartil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Calibri"/>
              </a:rPr>
              <a:t>It is of 2 typ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alibri"/>
              </a:rPr>
              <a:t>Primary Cartilagino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The bones are united by a plate or a bar of hyaline cartilage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46c0a"/>
                </a:solidFill>
                <a:latin typeface="Calibri"/>
              </a:rPr>
              <a:t>No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movement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, </a:t>
            </a:r>
            <a:r>
              <a:rPr b="0" lang="en-US" sz="2400" spc="-1" strike="noStrike">
                <a:solidFill>
                  <a:srgbClr val="e46c0a"/>
                </a:solidFill>
                <a:latin typeface="Calibri"/>
              </a:rPr>
              <a:t>temporary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joints  (ossify later), examp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Between th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piphysis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and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Diaphysis of a growing bone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Between the First Rib and the Sternum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(1</a:t>
            </a:r>
            <a:r>
              <a:rPr b="0" lang="en-US" sz="2400" spc="-1" strike="noStrike" baseline="30000">
                <a:solidFill>
                  <a:srgbClr val="002060"/>
                </a:solidFill>
                <a:latin typeface="Calibri"/>
              </a:rPr>
              <a:t>st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 sternocostal join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5" descr="File0127"/>
          <p:cNvPicPr/>
          <p:nvPr/>
        </p:nvPicPr>
        <p:blipFill>
          <a:blip r:embed="rId1"/>
          <a:srcRect l="11318" t="8910" r="5663" b="7121"/>
          <a:stretch/>
        </p:blipFill>
        <p:spPr>
          <a:xfrm>
            <a:off x="5181480" y="1676520"/>
            <a:ext cx="3810240" cy="38098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8"/>
          <p:cNvSpPr/>
          <p:nvPr/>
        </p:nvSpPr>
        <p:spPr>
          <a:xfrm>
            <a:off x="5410080" y="57150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Primary Cartilagin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CARTILAGINOUS J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51920" y="1295280"/>
            <a:ext cx="4800600" cy="518184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46c0a"/>
                </a:solidFill>
                <a:latin typeface="Calibri"/>
              </a:rPr>
              <a:t>Secondary Cartilagino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The bones are united by </a:t>
            </a: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a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plate of </a:t>
            </a: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fibrocartilag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Their articulating surfaces are covered by a thin plate of hyaline cartilag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46c0a"/>
                </a:solidFill>
                <a:latin typeface="Calibri"/>
              </a:rPr>
              <a:t>Little</a:t>
            </a: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 movement, </a:t>
            </a:r>
            <a:r>
              <a:rPr b="1" lang="en-US" sz="2700" spc="-1" strike="noStrike">
                <a:solidFill>
                  <a:srgbClr val="e46c0a"/>
                </a:solidFill>
                <a:latin typeface="Calibri"/>
              </a:rPr>
              <a:t>permanent</a:t>
            </a: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 joint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They are called Midline</a:t>
            </a: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joint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Joints between the </a:t>
            </a:r>
            <a:r>
              <a:rPr b="1" i="1" lang="en-US" sz="2600" spc="-1" strike="noStrike">
                <a:solidFill>
                  <a:srgbClr val="0070c0"/>
                </a:solidFill>
                <a:latin typeface="Calibri"/>
              </a:rPr>
              <a:t>Vertebral Bodies</a:t>
            </a: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(intervertebral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discs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alibri"/>
              </a:rPr>
              <a:t>Symphysis Pubis</a:t>
            </a: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5" descr="File0127A"/>
          <p:cNvPicPr/>
          <p:nvPr/>
        </p:nvPicPr>
        <p:blipFill>
          <a:blip r:embed="rId1"/>
          <a:srcRect l="7548" t="7067" r="7548" b="6734"/>
          <a:stretch/>
        </p:blipFill>
        <p:spPr>
          <a:xfrm>
            <a:off x="5029200" y="1752480"/>
            <a:ext cx="38862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SYNOVIAL J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28600" y="1066680"/>
            <a:ext cx="3733920" cy="548640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46c0a"/>
                </a:solidFill>
                <a:latin typeface="Calibri"/>
              </a:rPr>
              <a:t>Characteristic featur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Freely movable join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The bones are joined by a fibrous capsule, which is attached to the margins of articular surfaces &amp; enclosing the joi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The articular surfaces are covered by a thin layer of hyaline cartilage </a:t>
            </a: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(articular cartilage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A joint cavity enclosed within the capsule</a:t>
            </a:r>
            <a:r>
              <a:rPr b="1" lang="en-US" sz="26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7320600" y="2514600"/>
            <a:ext cx="7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aps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Content Placeholder 12" descr="12"/>
          <p:cNvPicPr/>
          <p:nvPr/>
        </p:nvPicPr>
        <p:blipFill>
          <a:blip r:embed="rId1"/>
          <a:srcRect l="3465" t="17181" r="2707" b="16206"/>
          <a:stretch/>
        </p:blipFill>
        <p:spPr>
          <a:xfrm>
            <a:off x="4419720" y="1219320"/>
            <a:ext cx="44956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SYNOVIAL J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52280" y="1294920"/>
            <a:ext cx="3657600" cy="541044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A thin </a:t>
            </a: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vascular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synovial membrane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lining the inner surface of the capsu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A lubricating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synovial fluid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produced by synovial membrane in the joint cavit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he fluid minimizes the friction between the articular surfa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traight Connector 8"/>
          <p:cNvSpPr/>
          <p:nvPr/>
        </p:nvSpPr>
        <p:spPr>
          <a:xfrm flipH="1">
            <a:off x="7467480" y="289476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13"/>
          <p:cNvSpPr/>
          <p:nvPr/>
        </p:nvSpPr>
        <p:spPr>
          <a:xfrm flipH="1">
            <a:off x="6858000" y="2670120"/>
            <a:ext cx="203040" cy="37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File0132"/>
          <p:cNvPicPr/>
          <p:nvPr/>
        </p:nvPicPr>
        <p:blipFill>
          <a:blip r:embed="rId1"/>
          <a:stretch/>
        </p:blipFill>
        <p:spPr>
          <a:xfrm>
            <a:off x="4038480" y="1143000"/>
            <a:ext cx="46483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08:25:16Z</dcterms:created>
  <dc:creator>user</dc:creator>
  <dc:description/>
  <dc:language>en-US</dc:language>
  <cp:lastModifiedBy>3422</cp:lastModifiedBy>
  <dcterms:modified xsi:type="dcterms:W3CDTF">2015-11-23T05:44:42Z</dcterms:modified>
  <cp:revision>316</cp:revision>
  <dc:subject/>
  <dc:title>MUSCLES INVOLVED IN RESPIRATION </dc:title>
</cp:coreProperties>
</file>