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F3A5-8499-4132-AAA8-937542FD3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2BDA-6D06-432D-B985-00BAA3F376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813C-58E1-4B80-8F90-18306B26EF1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ADFF-5742-4234-8617-C83CD8B4E7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E4E-683C-477B-8463-8BB2520E16E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0A4-3EA0-4A5E-962D-8C5ECE2435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23BC-1E88-44E7-BC2E-34F9EEEF9B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7385-88FF-452B-89F3-2832158F9E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E98D-CED7-4757-8B53-FB1C32E864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44F1-6414-4A48-A7BA-70DDAD40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5237B-3412-4921-BB31-7DD7723F9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9CD8F-0E08-45D8-85E6-167FD9E1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042DD-BF48-436F-B9FF-A93783133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C8A8-F645-4F93-8479-E1526FBB6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1319-5ECC-4913-A8EC-ACC60F18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E16F-E3E9-424F-AB3F-F9DA10F6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2913-1109-4479-BD29-149474CB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69ED-248C-437D-BB1A-C79AB14A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B1C-FF5F-4BF0-A3D5-E3FDC86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00F8-1D17-4EFB-95BD-4C5907B2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763FE-F49B-4D76-9265-CA2270C3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BE0C-8E26-457A-851E-525C1698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A1B4-E443-422E-B1A5-163FA84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9E7D-3B08-43DF-B799-56A87C58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AFB5-5757-420B-BD0D-869E03C2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607C-2DF8-42B2-9B95-AED6F8DF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F4CD-D3E4-4716-AC8F-ECF2B287F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E26E-FA4C-494F-B0CF-74673B02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5F8F5-E52C-4487-8EA4-C8789529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17DF6-8E1E-4079-B4E2-19D1FE0F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E75DF-9EC7-45A4-B38D-C059DA2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599F-E680-4CE1-956A-4481B670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4BA0-14C0-408E-A6A8-2E73083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04FBF-80F9-4E3F-A35C-AD8A61A5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106F2-C5B7-448D-972A-3545EADE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0A435-E458-4E62-8287-C653F08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CC02-F1AD-4776-B980-68C228B5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7337-4044-45FA-AAF7-B43DE8365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7505F-6996-4ACA-84A9-CF04BE29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3ECC5-86EC-41F2-9674-6793DEDF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E08B1-BAA2-4C8C-9591-F53C7650E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4892C-E32D-424F-8A34-4AF78E3B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A0250-FDD7-4BA6-AFF9-F42F1C94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BCDC0-E379-4D91-AC44-3B8FADE9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EE7A-3FBD-4980-8AC0-7E306F7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D811B-4580-424C-9612-77D54C5B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39E1D-A6D9-453A-B260-56AACF6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5D76A-D74C-4E33-B462-4540FBD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D39D-D85D-4C8A-BF12-F887389C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7EF99-3887-46F9-9E32-80AA3EE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A354B-A7A3-4F58-AA04-E37E365C5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1665-6ED2-4DC9-9BEE-1D3EEB4F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DCB4F-67F1-40FA-B8FC-CA0E3B0C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9BB3-9842-426F-B331-0EE436FA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82CAA-ED01-454B-9D42-7BC7A33E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904D4-44E8-44B6-B8F7-F4B23F5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ECDF5-63B7-424B-BBCA-8B3605F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8B5-B7E0-4167-8142-5BF8BC640C0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0D194-422E-43FF-A0B3-A7150A03689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EEA3-7897-4283-9057-B8B603773E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9F96-68C8-4351-AF53-ACB0492BBDC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250920" y="6021000"/>
            <a:ext cx="3889440" cy="576360"/>
          </a:xfrm>
          <a:prstGeom prst="rect">
            <a:avLst/>
          </a:prstGeom>
          <a:noFill/>
          <a:ln w="9360">
            <a:solidFill>
              <a:srgbClr val="e5e5ff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rof. Saeed Abuel Makare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Picture 5" descr="Untitled-13a"/>
          <p:cNvPicPr/>
          <p:nvPr/>
        </p:nvPicPr>
        <p:blipFill>
          <a:blip r:embed="rId1"/>
          <a:stretch/>
        </p:blipFill>
        <p:spPr>
          <a:xfrm>
            <a:off x="4427640" y="189000"/>
            <a:ext cx="4392360" cy="64087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611280" y="476280"/>
            <a:ext cx="3456000" cy="642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OREAR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78920" y="228600"/>
            <a:ext cx="2792520" cy="640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Digitorum Profund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bases of  distal phalanges of the medial four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lexes distal phalanges of medial four dig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9" name="Picture 6" descr="C:\Documents and Settings\KSU\My Documents\My Pictures\fa3.jpg"/>
          <p:cNvPicPr/>
          <p:nvPr/>
        </p:nvPicPr>
        <p:blipFill>
          <a:blip r:embed="rId1"/>
          <a:srcRect l="5776" t="4521" r="73065" b="12073"/>
          <a:stretch/>
        </p:blipFill>
        <p:spPr>
          <a:xfrm>
            <a:off x="611280" y="2781360"/>
            <a:ext cx="1657080" cy="3887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3"/>
          <p:cNvSpPr/>
          <p:nvPr/>
        </p:nvSpPr>
        <p:spPr>
          <a:xfrm>
            <a:off x="3048120" y="228600"/>
            <a:ext cx="2963880" cy="6400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Pollicis  Long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Inser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e of distal phalanx of thumb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c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flexes all joints of the thumb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6" descr="C:\Documents and Settings\KSU\My Documents\My Pictures\fa3.jpg"/>
          <p:cNvPicPr/>
          <p:nvPr/>
        </p:nvPicPr>
        <p:blipFill>
          <a:blip r:embed="rId2"/>
          <a:srcRect l="41455" t="7423" r="37014" b="10554"/>
          <a:stretch/>
        </p:blipFill>
        <p:spPr>
          <a:xfrm>
            <a:off x="3564000" y="2133720"/>
            <a:ext cx="1800000" cy="44640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3"/>
          <p:cNvSpPr/>
          <p:nvPr/>
        </p:nvSpPr>
        <p:spPr>
          <a:xfrm>
            <a:off x="6172200" y="189000"/>
            <a:ext cx="2792520" cy="644040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Pronator Quadrat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Inser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distal fourth of an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  <a:ea typeface="Arial"/>
              </a:rPr>
              <a:t>Action: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pronates forearm (primover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Hold the 2 bones together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3" name="Picture 6" descr="C:\Documents and Settings\KSU\My Documents\My Pictures\fa3.jpg"/>
          <p:cNvPicPr/>
          <p:nvPr/>
        </p:nvPicPr>
        <p:blipFill>
          <a:blip r:embed="rId3"/>
          <a:srcRect l="79983" t="13642" r="4083" b="30272"/>
          <a:stretch/>
        </p:blipFill>
        <p:spPr>
          <a:xfrm>
            <a:off x="6804000" y="2924280"/>
            <a:ext cx="180036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E:\Student Gray\7. Upper limb\F66122-007-f085.jpg"/>
          <p:cNvPicPr/>
          <p:nvPr/>
        </p:nvPicPr>
        <p:blipFill>
          <a:blip r:embed="rId1"/>
          <a:srcRect l="8568" t="0" r="11429" b="3636"/>
          <a:stretch/>
        </p:blipFill>
        <p:spPr>
          <a:xfrm>
            <a:off x="4140360" y="260280"/>
            <a:ext cx="4608360" cy="6048360"/>
          </a:xfrm>
          <a:prstGeom prst="rect">
            <a:avLst/>
          </a:prstGeom>
          <a:ln w="0">
            <a:noFill/>
          </a:ln>
        </p:spPr>
      </p:pic>
      <p:sp>
        <p:nvSpPr>
          <p:cNvPr id="255" name="TextBox 2"/>
          <p:cNvSpPr/>
          <p:nvPr/>
        </p:nvSpPr>
        <p:spPr>
          <a:xfrm>
            <a:off x="179280" y="260280"/>
            <a:ext cx="3816360" cy="6430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rve supply of the deep flexo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are supplied by the anterior interosseous nerve (branch of the median nerve), Except the medial half of the flexor digitorum profundus by the ulnar nerv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2"/>
          <p:cNvSpPr/>
          <p:nvPr/>
        </p:nvSpPr>
        <p:spPr>
          <a:xfrm>
            <a:off x="179280" y="189000"/>
            <a:ext cx="2952720" cy="1373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ina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ron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TextBox 3"/>
          <p:cNvSpPr/>
          <p:nvPr/>
        </p:nvSpPr>
        <p:spPr>
          <a:xfrm>
            <a:off x="179280" y="1628640"/>
            <a:ext cx="3024360" cy="5277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occurs in the superior and inferior radioulnar joints; (Pivot  Uniaxial synovial join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supi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iceps brachii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Muscles produce pron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nator ter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B. Brachioradialis put the forearm in midprone-supine positio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5" descr="E:\Student Gray\7. Upper limb\F66122-007-f080.jpg"/>
          <p:cNvPicPr/>
          <p:nvPr/>
        </p:nvPicPr>
        <p:blipFill>
          <a:blip r:embed="rId1"/>
          <a:srcRect l="30226" t="0" r="0" b="4069"/>
          <a:stretch/>
        </p:blipFill>
        <p:spPr>
          <a:xfrm>
            <a:off x="3276720" y="189000"/>
            <a:ext cx="5688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260280"/>
            <a:ext cx="7490160" cy="1191240"/>
          </a:xfrm>
          <a:prstGeom prst="rect">
            <a:avLst/>
          </a:prstGeom>
          <a:solidFill>
            <a:srgbClr val="36363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e30d"/>
                </a:solidFill>
                <a:latin typeface="Garamond"/>
              </a:rPr>
              <a:t>Posterior compartment:   3 group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324000" y="836640"/>
            <a:ext cx="5040000" cy="30801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ficial group 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99cc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brev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oru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digiti mini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uln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coneu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4427640" y="3573360"/>
            <a:ext cx="4465440" cy="478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Deep group  5 (3 to thumb+ 1 to index + supinato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pinato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ductor pollicis longu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pollicis brevi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pollicis long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indic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7640" y="1523880"/>
            <a:ext cx="5695920" cy="190512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5435640" y="1197000"/>
            <a:ext cx="2736720" cy="198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Origi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Common Extensor Origi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(front of lateral epicondyl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250920" y="3716280"/>
            <a:ext cx="4105080" cy="338508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Lateral group 2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rachioradial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or carpi radial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The 2 muscles originate from the 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lateral supracondylar ridge)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3888000" cy="6121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Garamond"/>
              </a:rPr>
              <a:t>Posterior compartment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- Superficial group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7 muscl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 from lateral to med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rachioradialis, (BR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longus, (ECR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radialis brevis, (ECR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orum,  (ED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digiti minimi, (EDM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xtensor carpi ulnaris, (ECU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coneus. (An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6" name="Picture 3" descr="F71683-052-f017"/>
          <p:cNvPicPr/>
          <p:nvPr/>
        </p:nvPicPr>
        <p:blipFill>
          <a:blip r:embed="rId1"/>
          <a:srcRect l="6252" t="0" r="6252" b="4001"/>
          <a:stretch/>
        </p:blipFill>
        <p:spPr>
          <a:xfrm>
            <a:off x="4211640" y="189000"/>
            <a:ext cx="4608360" cy="64087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6732720" y="836640"/>
            <a:ext cx="360360" cy="3603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9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0036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uperficial extenso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9280" y="1052280"/>
            <a:ext cx="446400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arises from the 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common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00"/>
                </a:solidFill>
                <a:latin typeface="Garamond"/>
              </a:rPr>
              <a:t>extensor origin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,  (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front of lateral epicondyle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)  of the humerus,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, 3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BR, EXRL &amp; anconeus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cross the wrist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 2,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(brachioradialis &amp; anconeus)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ll supplied by deep branch of radial  nerve,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AB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 ancone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B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Brachioradiali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E</a:t>
            </a: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, Extensor carpi radialis longu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ff00"/>
                </a:solidFill>
                <a:uFillTx/>
                <a:latin typeface="Garamond"/>
              </a:rPr>
              <a:t>These 3 muscles are supplied by the radial nerve itself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6" descr="F71683-052-f018"/>
          <p:cNvPicPr/>
          <p:nvPr/>
        </p:nvPicPr>
        <p:blipFill>
          <a:blip r:embed="rId1"/>
          <a:srcRect l="6894" t="0" r="6894" b="2703"/>
          <a:stretch/>
        </p:blipFill>
        <p:spPr>
          <a:xfrm>
            <a:off x="4716360" y="0"/>
            <a:ext cx="4176720" cy="6480000"/>
          </a:xfrm>
          <a:prstGeom prst="rect">
            <a:avLst/>
          </a:prstGeom>
          <a:ln w="0">
            <a:noFill/>
          </a:ln>
        </p:spPr>
      </p:pic>
      <p:sp>
        <p:nvSpPr>
          <p:cNvPr id="271" name="Oval 4"/>
          <p:cNvSpPr/>
          <p:nvPr/>
        </p:nvSpPr>
        <p:spPr>
          <a:xfrm>
            <a:off x="6588000" y="765000"/>
            <a:ext cx="360360" cy="432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179280" y="620640"/>
            <a:ext cx="2521080" cy="4896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Brachio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e of styloid process of radi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xes forearm; (elbow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otates forearm to the midprone posi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588000" y="549360"/>
            <a:ext cx="2376720" cy="547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Extensor Carpi  radial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Origin: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teral supracondylar ridge of humeru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Insertion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osterior surface of base of second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xtends and abducts hand at wrist joi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4" name="Picture 2" descr="E:\dad\Student Gray\7. Upper limb\F66122-007-f087.jpg"/>
          <p:cNvPicPr/>
          <p:nvPr/>
        </p:nvPicPr>
        <p:blipFill>
          <a:blip r:embed="rId1"/>
          <a:srcRect l="14894" t="0" r="0" b="0"/>
          <a:stretch/>
        </p:blipFill>
        <p:spPr>
          <a:xfrm>
            <a:off x="2771640" y="333360"/>
            <a:ext cx="374508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" descr="E:\dad\Student Gray\7. Upper limb\F66122-007-f087.jpg"/>
          <p:cNvPicPr/>
          <p:nvPr/>
        </p:nvPicPr>
        <p:blipFill>
          <a:blip r:embed="rId1"/>
          <a:srcRect l="38469" t="7523" r="0" b="6261"/>
          <a:stretch/>
        </p:blipFill>
        <p:spPr>
          <a:xfrm>
            <a:off x="4643280" y="260280"/>
            <a:ext cx="4105440" cy="597708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179280" y="1628640"/>
            <a:ext cx="4248360" cy="4483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radialis brevi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 of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orum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or expansion of the medial 4 finge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digiti minim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or expansion of the little fing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Extensor carpi ulnari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se of the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metacarpal bon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539640" y="549360"/>
            <a:ext cx="35276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INSER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250920" y="333360"/>
            <a:ext cx="2736720" cy="7387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I- Deep group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5 musc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 Abductor pollicis longus, (A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Extensor pollicis brevis, (EPB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Extensor pollicis longus, (EPL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- Extensor indicis (EI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- Supinat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back muscles of forearm are supplied by posterior interosseous ner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xcep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, ABE by Radial nerv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9" name="Picture 8" descr="ap11_029"/>
          <p:cNvPicPr/>
          <p:nvPr/>
        </p:nvPicPr>
        <p:blipFill>
          <a:blip r:embed="rId1"/>
          <a:srcRect l="0" t="2856" r="0" b="1099"/>
          <a:stretch/>
        </p:blipFill>
        <p:spPr>
          <a:xfrm>
            <a:off x="6372360" y="189000"/>
            <a:ext cx="2592360" cy="6480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E:\dad\Student Gray\7. Upper limb\F66122-007-f088.jpg"/>
          <p:cNvPicPr/>
          <p:nvPr/>
        </p:nvPicPr>
        <p:blipFill>
          <a:blip r:embed="rId2"/>
          <a:srcRect l="42741" t="0" r="0" b="5745"/>
          <a:stretch/>
        </p:blipFill>
        <p:spPr>
          <a:xfrm>
            <a:off x="3059280" y="260280"/>
            <a:ext cx="331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5"/>
          <p:cNvSpPr/>
          <p:nvPr/>
        </p:nvSpPr>
        <p:spPr>
          <a:xfrm>
            <a:off x="1692360" y="189000"/>
            <a:ext cx="554364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66"/>
                </a:solidFill>
                <a:latin typeface="Garamond"/>
              </a:rPr>
              <a:t>Dorsal Extensor Expans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Picture 6" descr="447 label"/>
          <p:cNvPicPr/>
          <p:nvPr/>
        </p:nvPicPr>
        <p:blipFill>
          <a:blip r:embed="rId1"/>
          <a:srcRect l="841" t="9680" r="0" b="4548"/>
          <a:stretch/>
        </p:blipFill>
        <p:spPr>
          <a:xfrm>
            <a:off x="395280" y="907920"/>
            <a:ext cx="8497800" cy="295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283" name="TextBox 3"/>
          <p:cNvSpPr/>
          <p:nvPr/>
        </p:nvSpPr>
        <p:spPr>
          <a:xfrm>
            <a:off x="179280" y="4076640"/>
            <a:ext cx="871380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formed by the union of the tendons of: Extensor digitorum, Extensor indicis,  extensor digiti minimi, palmar &amp; dorsal  interossei  and lumbricals muscl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these tendons unite to form one tendon which divides into 3 slips, a median one attached to middle phalanges and 2 lateral attached to the terminal phalang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50920" y="1600200"/>
            <a:ext cx="8642160" cy="4781520"/>
          </a:xfrm>
          <a:prstGeom prst="rect">
            <a:avLst/>
          </a:prstGeom>
          <a:gradFill rotWithShape="0">
            <a:gsLst>
              <a:gs pos="0">
                <a:srgbClr val="cdacff"/>
              </a:gs>
              <a:gs pos="100000">
                <a:srgbClr val="f0e7ff"/>
              </a:gs>
            </a:gsLst>
            <a:lin ang="16200000"/>
          </a:gradFill>
          <a:ln w="9360">
            <a:solidFill>
              <a:srgbClr val="a481d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By the end of the lecture, you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 arrangement of the muscles of the anterior and posterior compartments of the  forear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, origin, insertion, action nerve supply of each of these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Describe the effect of injury of the muscle or its nerve supp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1" name="TextBox 4"/>
          <p:cNvGrpSpPr/>
          <p:nvPr/>
        </p:nvGrpSpPr>
        <p:grpSpPr>
          <a:xfrm>
            <a:off x="-60480" y="622440"/>
            <a:ext cx="9259920" cy="920520"/>
            <a:chOff x="-60480" y="622440"/>
            <a:chExt cx="9259920" cy="920520"/>
          </a:xfrm>
        </p:grpSpPr>
        <p:pic>
          <p:nvPicPr>
            <p:cNvPr id="212" name="TextBox 4" descr=""/>
            <p:cNvPicPr/>
            <p:nvPr/>
          </p:nvPicPr>
          <p:blipFill>
            <a:blip r:embed="rId1"/>
            <a:stretch/>
          </p:blipFill>
          <p:spPr>
            <a:xfrm>
              <a:off x="-60480" y="622440"/>
              <a:ext cx="9259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762120"/>
              <a:ext cx="914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aramond"/>
                </a:rPr>
                <a:t>Objectives</a:t>
              </a:r>
              <a:endParaRPr b="0" lang="en-US" sz="40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3672000" cy="6480000"/>
          </a:xfrm>
          <a:prstGeom prst="rect">
            <a:avLst/>
          </a:prstGeom>
          <a:solidFill>
            <a:srgbClr val="002673"/>
          </a:solidFill>
          <a:ln w="381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The forearm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tends from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t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t posses two bones radius laterally &amp; Ulna medial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two bones are  connected together by the interosseous membra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membrane allows movement of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Pro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entury Gothic"/>
              </a:rPr>
              <a:t>Supinatio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hile the two  bones are connected togeth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so it gives origin for the deep musc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4" descr="ap11_007"/>
          <p:cNvPicPr/>
          <p:nvPr/>
        </p:nvPicPr>
        <p:blipFill>
          <a:blip r:embed="rId1"/>
          <a:srcRect l="29115" t="0" r="38428" b="4835"/>
          <a:stretch/>
        </p:blipFill>
        <p:spPr>
          <a:xfrm>
            <a:off x="6732720" y="142920"/>
            <a:ext cx="2087280" cy="65260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ap11_019"/>
          <p:cNvPicPr/>
          <p:nvPr/>
        </p:nvPicPr>
        <p:blipFill>
          <a:blip r:embed="rId2"/>
          <a:srcRect l="24826" t="15350" r="20501" b="8002"/>
          <a:stretch/>
        </p:blipFill>
        <p:spPr>
          <a:xfrm>
            <a:off x="3995640" y="907920"/>
            <a:ext cx="26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916360" y="333360"/>
            <a:ext cx="6048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ascial Compartments of the Forear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79280" y="260280"/>
            <a:ext cx="2448000" cy="7467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 forearm is enclosed in a sheath of deep fascia, which is attached to the  posterior border of the ulna 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is fascial sheath, together with the interosseous membrane &amp; fibrous intermuscular septa, divides the forearm into several compartments, each having its own muscles, nerves, and blood supply.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5" descr="E:\dad\Student Gray\7. Upper limb\F66122-007-f010.jpg"/>
          <p:cNvPicPr/>
          <p:nvPr/>
        </p:nvPicPr>
        <p:blipFill>
          <a:blip r:embed="rId1"/>
          <a:srcRect l="22027" t="50004" r="0" b="4641"/>
          <a:stretch/>
        </p:blipFill>
        <p:spPr>
          <a:xfrm>
            <a:off x="2700360" y="1268280"/>
            <a:ext cx="626436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94920" y="3428640"/>
            <a:ext cx="3024360" cy="208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-Superficial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ronator ter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carpi rad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almar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carpi ulnar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280" y="5661000"/>
            <a:ext cx="4103640" cy="100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I-Intermediate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Flexor digitorum superficial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79280" y="260280"/>
            <a:ext cx="3529080" cy="4371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se  musc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 are (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8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ct on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elbow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&amp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wri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an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inger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form fleshy masses in the proximal part and become tendinous in the distal part of the forear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re arranged in </a:t>
            </a:r>
            <a:r>
              <a:rPr b="0" lang="en-US" sz="2400" spc="-1" strike="noStrike" u="sng">
                <a:solidFill>
                  <a:srgbClr val="e5e5ff"/>
                </a:solidFill>
                <a:uFillTx/>
                <a:latin typeface="Garamond"/>
              </a:rPr>
              <a:t>thre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group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Content Placeholder 3"/>
          <p:cNvSpPr/>
          <p:nvPr/>
        </p:nvSpPr>
        <p:spPr>
          <a:xfrm>
            <a:off x="4788000" y="4724280"/>
            <a:ext cx="4105080" cy="1944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Garamond"/>
              </a:rPr>
              <a:t>III- Deep: </a:t>
            </a:r>
            <a:r>
              <a:rPr b="1" lang="en-US" sz="2400" spc="-1" strike="noStrike">
                <a:solidFill>
                  <a:srgbClr val="ffcc66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Flexor digitorum profund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Flexor pollicis long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Garamond"/>
              </a:rPr>
              <a:t>Pronator quadra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6" descr="Untitled-12"/>
          <p:cNvPicPr/>
          <p:nvPr/>
        </p:nvPicPr>
        <p:blipFill>
          <a:blip r:embed="rId1"/>
          <a:srcRect l="5889" t="5556" r="5041" b="11112"/>
          <a:stretch/>
        </p:blipFill>
        <p:spPr>
          <a:xfrm>
            <a:off x="3780000" y="836640"/>
            <a:ext cx="5184720" cy="3744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3780000" y="189000"/>
            <a:ext cx="5184720" cy="73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terior compartment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LEXOR GROUP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50560" y="404640"/>
            <a:ext cx="3816360" cy="5616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perficial Flex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arise - more or less- from the common flexor origin (front of </a:t>
            </a:r>
            <a:r>
              <a:rPr b="1" lang="en-US" sz="2800" spc="-1" strike="noStrike">
                <a:solidFill>
                  <a:srgbClr val="ffc000"/>
                </a:solidFill>
                <a:latin typeface="Garamond"/>
              </a:rPr>
              <a:t>medial  epicondyle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are supplied b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media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nerv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excep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one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flexor carpi ulnaris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CU (ulnar n.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ll cross the wrist joint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except 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pronator teres,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(PT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4" descr="C:\Documents and Settings\Prof. Saeed Makarem\Desktop\52 Forearm\F71683-052-f015.jpg"/>
          <p:cNvPicPr/>
          <p:nvPr/>
        </p:nvPicPr>
        <p:blipFill>
          <a:blip r:embed="rId1"/>
          <a:srcRect l="8354" t="0" r="6756" b="3023"/>
          <a:stretch/>
        </p:blipFill>
        <p:spPr>
          <a:xfrm>
            <a:off x="4211640" y="133200"/>
            <a:ext cx="4681440" cy="6535800"/>
          </a:xfrm>
          <a:prstGeom prst="rect">
            <a:avLst/>
          </a:prstGeom>
          <a:ln w="0">
            <a:noFill/>
          </a:ln>
        </p:spPr>
      </p:pic>
      <p:sp>
        <p:nvSpPr>
          <p:cNvPr id="228" name="Oval 3"/>
          <p:cNvSpPr/>
          <p:nvPr/>
        </p:nvSpPr>
        <p:spPr>
          <a:xfrm>
            <a:off x="4211640" y="836640"/>
            <a:ext cx="431640" cy="576360"/>
          </a:xfrm>
          <a:prstGeom prst="ellipse">
            <a:avLst/>
          </a:prstGeom>
          <a:noFill/>
          <a:ln w="381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7451640" y="4437000"/>
            <a:ext cx="720720" cy="21600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8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2644560" cy="63640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Garamond"/>
              </a:rPr>
              <a:t>Pronator ter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Garamond"/>
              </a:rPr>
              <a:t>Insertion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iddle of lat. surface of radi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pronation &amp; flexion of forearm 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5" descr="C:\Documents and Settings\Free User\My Documents\My Pictures\zzz.jpg"/>
          <p:cNvPicPr/>
          <p:nvPr/>
        </p:nvPicPr>
        <p:blipFill>
          <a:blip r:embed="rId1"/>
          <a:srcRect l="3793" t="4161" r="3793" b="4161"/>
          <a:stretch/>
        </p:blipFill>
        <p:spPr>
          <a:xfrm>
            <a:off x="324000" y="1844640"/>
            <a:ext cx="2447640" cy="46087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"/>
          <p:cNvSpPr/>
          <p:nvPr/>
        </p:nvSpPr>
        <p:spPr>
          <a:xfrm>
            <a:off x="3048120" y="228600"/>
            <a:ext cx="266688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Garamond"/>
              </a:rPr>
              <a:t>Flexor Carpi Radiali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Inser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Base of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: Flexion &amp; abduction of the wris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3" name="Picture 6" descr="C:\Documents and Settings\KSU\My Documents\My Pictures\Copy (2) of fa1.jpg"/>
          <p:cNvPicPr/>
          <p:nvPr/>
        </p:nvPicPr>
        <p:blipFill>
          <a:blip r:embed="rId2"/>
          <a:srcRect l="39513" t="3320" r="39183" b="56513"/>
          <a:stretch/>
        </p:blipFill>
        <p:spPr>
          <a:xfrm>
            <a:off x="3203640" y="2276640"/>
            <a:ext cx="2376360" cy="39178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3"/>
          <p:cNvSpPr/>
          <p:nvPr/>
        </p:nvSpPr>
        <p:spPr>
          <a:xfrm>
            <a:off x="5867280" y="228600"/>
            <a:ext cx="3097440" cy="632448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Garamond"/>
              </a:rPr>
              <a:t>Palmar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Inser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into the flexor retinaculum &amp; palmer aponeurosi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 Flexes hand &amp; tightens the palmer aponeuros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5" name="Picture 5" descr="C:\Documents and Settings\KSU\My Documents\My Pictures\Copy (3) of fa1.jpg"/>
          <p:cNvPicPr/>
          <p:nvPr/>
        </p:nvPicPr>
        <p:blipFill>
          <a:blip r:embed="rId3"/>
          <a:srcRect l="71657" t="2246" r="5401" b="56452"/>
          <a:stretch/>
        </p:blipFill>
        <p:spPr>
          <a:xfrm>
            <a:off x="6012000" y="2349360"/>
            <a:ext cx="2736720" cy="4079880"/>
          </a:xfrm>
          <a:prstGeom prst="rect">
            <a:avLst/>
          </a:prstGeom>
          <a:ln cap="sq" w="28440">
            <a:solidFill>
              <a:srgbClr val="ffffff"/>
            </a:solidFill>
            <a:miter/>
          </a:ln>
        </p:spPr>
      </p:pic>
      <p:sp>
        <p:nvSpPr>
          <p:cNvPr id="236" name="Rectangle 7"/>
          <p:cNvSpPr/>
          <p:nvPr/>
        </p:nvSpPr>
        <p:spPr>
          <a:xfrm>
            <a:off x="1042920" y="3933720"/>
            <a:ext cx="216000" cy="503280"/>
          </a:xfrm>
          <a:prstGeom prst="rect">
            <a:avLst/>
          </a:prstGeom>
          <a:solidFill>
            <a:srgbClr val="0099cc"/>
          </a:solidFill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6084720" y="2421000"/>
            <a:ext cx="190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May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B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bs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2089080" cy="3959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Flexor Carpi Ulnar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Inser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isiform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ook of hamat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metacarpal bon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lexion and adduction of the hand (wrist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9" name="Picture 9" descr="C:\Documents and Settings\KSU\My Documents\My Pictures\Copy (2) of fa1.jpg"/>
          <p:cNvPicPr/>
          <p:nvPr/>
        </p:nvPicPr>
        <p:blipFill>
          <a:blip r:embed="rId1"/>
          <a:srcRect l="17102" t="43553" r="61789" b="11972"/>
          <a:stretch/>
        </p:blipFill>
        <p:spPr>
          <a:xfrm>
            <a:off x="2340000" y="981000"/>
            <a:ext cx="1727280" cy="50403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4140360" y="333360"/>
            <a:ext cx="2735280" cy="6048360"/>
          </a:xfrm>
          <a:prstGeom prst="rect">
            <a:avLst/>
          </a:prstGeom>
          <a:noFill/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000"/>
                </a:solidFill>
                <a:latin typeface="Garamond"/>
              </a:rPr>
              <a:t>Flexor Digitorum Superficiali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Garamond"/>
                <a:ea typeface="Arial"/>
              </a:rPr>
              <a:t>Origin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mmon flexor origin,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Coronoid process of ulna;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Anterior surface of radius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Inser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base  of middle phalanges of  the medial 4 finger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cc66"/>
                </a:solidFill>
                <a:uFillTx/>
                <a:latin typeface="Garamond"/>
                <a:ea typeface="Arial"/>
              </a:rPr>
              <a:t>Action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Garamond"/>
                <a:ea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Arial"/>
              </a:rPr>
              <a:t>Flexes middle and  proximal phalanges of medial 4 fingers, and the hand (wrist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5" descr="C:\Documents and Settings\KSU\My Documents\My Pictures\Copy (2) of fa1.jpg"/>
          <p:cNvPicPr/>
          <p:nvPr/>
        </p:nvPicPr>
        <p:blipFill>
          <a:blip r:embed="rId2"/>
          <a:srcRect l="43398" t="44038" r="29606" b="5637"/>
          <a:stretch/>
        </p:blipFill>
        <p:spPr>
          <a:xfrm>
            <a:off x="6948360" y="189000"/>
            <a:ext cx="1944720" cy="640872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5"/>
          <p:cNvSpPr/>
          <p:nvPr/>
        </p:nvSpPr>
        <p:spPr>
          <a:xfrm>
            <a:off x="7885080" y="1001880"/>
            <a:ext cx="911160" cy="1635120"/>
          </a:xfrm>
          <a:custGeom>
            <a:avLst/>
            <a:gdLst/>
            <a:ahLst/>
            <a:rect l="l" t="t" r="r" b="b"/>
            <a:pathLst>
              <a:path w="725714" h="1175657">
                <a:moveTo>
                  <a:pt x="725714" y="0"/>
                </a:moveTo>
                <a:cubicBezTo>
                  <a:pt x="720876" y="14514"/>
                  <a:pt x="718630" y="30169"/>
                  <a:pt x="711200" y="43543"/>
                </a:cubicBezTo>
                <a:cubicBezTo>
                  <a:pt x="628018" y="193271"/>
                  <a:pt x="671473" y="75642"/>
                  <a:pt x="638628" y="174171"/>
                </a:cubicBezTo>
                <a:cubicBezTo>
                  <a:pt x="634030" y="215554"/>
                  <a:pt x="633915" y="299713"/>
                  <a:pt x="609600" y="348343"/>
                </a:cubicBezTo>
                <a:cubicBezTo>
                  <a:pt x="601799" y="363945"/>
                  <a:pt x="590247" y="377371"/>
                  <a:pt x="580571" y="391885"/>
                </a:cubicBezTo>
                <a:cubicBezTo>
                  <a:pt x="544090" y="501331"/>
                  <a:pt x="593301" y="366425"/>
                  <a:pt x="537028" y="478971"/>
                </a:cubicBezTo>
                <a:cubicBezTo>
                  <a:pt x="530186" y="492655"/>
                  <a:pt x="529356" y="508830"/>
                  <a:pt x="522514" y="522514"/>
                </a:cubicBezTo>
                <a:cubicBezTo>
                  <a:pt x="502307" y="562930"/>
                  <a:pt x="482044" y="577499"/>
                  <a:pt x="449943" y="609600"/>
                </a:cubicBezTo>
                <a:cubicBezTo>
                  <a:pt x="413459" y="719048"/>
                  <a:pt x="466917" y="588383"/>
                  <a:pt x="391886" y="682171"/>
                </a:cubicBezTo>
                <a:cubicBezTo>
                  <a:pt x="382328" y="694118"/>
                  <a:pt x="384801" y="712340"/>
                  <a:pt x="377371" y="725714"/>
                </a:cubicBezTo>
                <a:cubicBezTo>
                  <a:pt x="360409" y="756245"/>
                  <a:pt x="313106" y="831453"/>
                  <a:pt x="275771" y="856343"/>
                </a:cubicBezTo>
                <a:cubicBezTo>
                  <a:pt x="263041" y="864830"/>
                  <a:pt x="246742" y="866019"/>
                  <a:pt x="232228" y="870857"/>
                </a:cubicBezTo>
                <a:cubicBezTo>
                  <a:pt x="222552" y="885371"/>
                  <a:pt x="215535" y="902065"/>
                  <a:pt x="203200" y="914400"/>
                </a:cubicBezTo>
                <a:cubicBezTo>
                  <a:pt x="190865" y="926735"/>
                  <a:pt x="171144" y="930300"/>
                  <a:pt x="159657" y="943428"/>
                </a:cubicBezTo>
                <a:cubicBezTo>
                  <a:pt x="136683" y="969684"/>
                  <a:pt x="120952" y="1001485"/>
                  <a:pt x="101600" y="1030514"/>
                </a:cubicBezTo>
                <a:cubicBezTo>
                  <a:pt x="91924" y="1045028"/>
                  <a:pt x="84906" y="1061722"/>
                  <a:pt x="72571" y="1074057"/>
                </a:cubicBezTo>
                <a:lnTo>
                  <a:pt x="29028" y="1117600"/>
                </a:lnTo>
                <a:cubicBezTo>
                  <a:pt x="12350" y="1167634"/>
                  <a:pt x="25332" y="1150325"/>
                  <a:pt x="0" y="1175657"/>
                </a:cubicBezTo>
              </a:path>
            </a:pathLst>
          </a:custGeom>
          <a:solidFill>
            <a:srgbClr val="ff0000"/>
          </a:solidFill>
          <a:ln w="9360">
            <a:solidFill>
              <a:srgbClr val="0098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85840" y="549000"/>
            <a:ext cx="3565440" cy="5040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Origi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the Deep Flex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radi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Flexor pollicis long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ulna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or Digitorum profundu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ront of lower  4</a:t>
            </a:r>
            <a:r>
              <a:rPr b="0" lang="en-US" sz="2800" spc="-1" strike="noStrike" u="sng" baseline="30000">
                <a:solidFill>
                  <a:srgbClr val="ffff00"/>
                </a:solidFill>
                <a:uFillTx/>
                <a:latin typeface="Garamond"/>
              </a:rPr>
              <a:t>th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 of ulna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nator Quadratu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4" name="Picture 4" descr="ap11_011"/>
          <p:cNvPicPr/>
          <p:nvPr/>
        </p:nvPicPr>
        <p:blipFill>
          <a:blip r:embed="rId1"/>
          <a:srcRect l="2926" t="6558" r="15316" b="2863"/>
          <a:stretch/>
        </p:blipFill>
        <p:spPr>
          <a:xfrm>
            <a:off x="4067280" y="260280"/>
            <a:ext cx="4825800" cy="6408720"/>
          </a:xfrm>
          <a:prstGeom prst="rect">
            <a:avLst/>
          </a:prstGeom>
          <a:ln w="0">
            <a:noFill/>
          </a:ln>
        </p:spPr>
      </p:pic>
      <p:sp>
        <p:nvSpPr>
          <p:cNvPr id="245" name="Round Single Corner Rectangle 5"/>
          <p:cNvSpPr/>
          <p:nvPr/>
        </p:nvSpPr>
        <p:spPr>
          <a:xfrm>
            <a:off x="4643280" y="3068640"/>
            <a:ext cx="2200320" cy="216000"/>
          </a:xfrm>
          <a:custGeom>
            <a:avLst/>
            <a:gdLst>
              <a:gd name="textAreaLeft" fmla="*/ 0 w 2200320"/>
              <a:gd name="textAreaRight" fmla="*/ 2189880 w 22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200275" h="215900">
                <a:moveTo>
                  <a:pt x="0" y="0"/>
                </a:moveTo>
                <a:lnTo>
                  <a:pt x="2164291" y="0"/>
                </a:lnTo>
                <a:lnTo>
                  <a:pt x="2164291" y="0"/>
                </a:lnTo>
                <a:arcTo wR="35984" hR="35984" stAng="-5400000" swAng="5400000"/>
                <a:lnTo>
                  <a:pt x="2200275" y="215900"/>
                </a:lnTo>
                <a:lnTo>
                  <a:pt x="0" y="215900"/>
                </a:lnTo>
                <a:close/>
              </a:path>
            </a:pathLst>
          </a:custGeom>
          <a:noFill/>
          <a:ln w="2844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67280" y="2781360"/>
            <a:ext cx="2808360" cy="21600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788000" y="3357720"/>
            <a:ext cx="1944720" cy="21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2:19:53Z</dcterms:created>
  <dc:creator>Prof. Saeed Abuel Makarem</dc:creator>
  <dc:description/>
  <dc:language>en-US</dc:language>
  <cp:lastModifiedBy> saeed abuelmakarem</cp:lastModifiedBy>
  <dcterms:modified xsi:type="dcterms:W3CDTF">2015-12-03T06:56:10Z</dcterms:modified>
  <cp:revision>59</cp:revision>
  <dc:subject>forearm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earm">
    <vt:lpwstr>prof. Saeed Abuel makarem</vt:lpwstr>
  </property>
</Properties>
</file>