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9DD2A-AB00-4191-B063-0626F94273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F5AB8-1D41-4C17-A084-4C68102DD24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02A6C-F479-4137-A26E-253715B63C9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B6B01-0472-43D1-8C20-7FE53A039EA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BA7C2-6EE8-4949-BE25-F99E2357657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606D3-F079-4C72-B420-8992B3E1EF8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1AE31-D591-4F49-A2CA-C91F18624C0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983B8-93E1-4473-924A-FBC06127711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460BC-9E62-435B-8663-2947A60EEAE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37B28-8C44-4DBE-AC9B-0B5068A0A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8DE26-C71E-471B-92DF-8E38B7B41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C6988-9BA4-4221-A91A-48A4DF0E6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8C236-5DF5-42FB-BB1E-62D0E36D6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04286-9177-4C12-AE6D-6F4A18626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8A8FE-E688-4E92-A975-E7F1D6D50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96074-A837-471A-AFFB-C035A2494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F3DBA-5A45-4A8F-A0C5-2E2E02FF6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F6338-0AC7-4698-8195-EE3EFC0EB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A8ADF-8DAA-4ABF-81FB-7C0AA2439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012EB-92A7-4397-A637-F8A12A97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4799B-80E9-4787-890B-8F9B4DA3A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2F704-5C41-4576-95FF-A67F7F8B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6324A-F4D7-4B2A-BF0F-5CDB896F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37DD5-C568-4CBA-A342-914FFF99F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8A549-4E8F-4199-B9AE-545C5EFDD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B542A-BD90-462F-992D-0F1D79306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712C9-B01E-4C37-8413-BB43F808B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B11C6-7D4F-4D8D-BAA3-1BA992E31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EE984-FF71-4BE4-AC16-7810055D1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8C922-ABA7-4753-9461-A44A341DC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B3783-8221-4A29-9CE9-06D9817A8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A2E7D-E2C9-40FF-85EA-08DF38925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C92FC-350E-46ED-B9B5-431C0CFBF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5F58A-23FD-42D7-AE86-B52A94B8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DD747-0945-448D-8256-BB381F27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400BD-D1CD-4A23-BF88-914865A6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0E80A-52E7-4545-9E99-2EB654A65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1C8E0-1703-40C9-B187-8A7515F1A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210E3-652E-4CCA-826B-57A65EBDC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4ECEF-6EAD-40C6-B6DA-80ED32712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BBF96-DA4A-40C2-A614-D4E44B82C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9561A-7515-44D8-A73E-06F510DF7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76126-544B-4780-A0B0-2DBF0C24B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942AE-C568-4009-A098-889D887BF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6A919-C245-4051-B822-FB76B3706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BD529-286A-4C39-9389-A877653FA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2B3BC-4198-449A-A7E4-1E2228F9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B01F8-01F2-4534-8867-575FC542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AB15D-0350-425D-B875-FBFEA673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12B4B-7CF4-4C52-8DD2-7E0BCF72F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880D4-31DA-4F88-8FAE-39EC9A9D6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2D657-7E79-4711-9C1B-5C1BD1A02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97420-47B5-4E9B-98FD-AA3DA6E0D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669CB-3E55-4813-B0CF-4A32BE14A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BE128-0D56-4831-97B5-8FB5A953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ADDE8-3ACE-41AC-AF10-6730A2B5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19F15-AA7A-4B69-BC00-7F04B2A8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4603B-FE4A-4E73-A354-9A9765F14076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59DAD-63FA-40C3-A252-2DF0272278BE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0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0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0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ED020-6380-49BB-B1D8-7BD4F55102A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5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5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5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57B9A-0EB6-4930-8E5E-EC70745025D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250920" y="6021000"/>
            <a:ext cx="3889440" cy="576360"/>
          </a:xfrm>
          <a:prstGeom prst="rect">
            <a:avLst/>
          </a:prstGeom>
          <a:noFill/>
          <a:ln w="9360">
            <a:solidFill>
              <a:srgbClr val="e5e5ff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f. Saeed Abuel Makare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8" name="Picture 5" descr="Untitled-13a"/>
          <p:cNvPicPr/>
          <p:nvPr/>
        </p:nvPicPr>
        <p:blipFill>
          <a:blip r:embed="rId1"/>
          <a:stretch/>
        </p:blipFill>
        <p:spPr>
          <a:xfrm>
            <a:off x="4427640" y="189000"/>
            <a:ext cx="4392360" cy="6408720"/>
          </a:xfrm>
          <a:prstGeom prst="rect">
            <a:avLst/>
          </a:prstGeom>
          <a:ln w="0">
            <a:noFill/>
          </a:ln>
        </p:spPr>
      </p:pic>
      <p:sp>
        <p:nvSpPr>
          <p:cNvPr id="209" name="TextBox 5"/>
          <p:cNvSpPr/>
          <p:nvPr/>
        </p:nvSpPr>
        <p:spPr>
          <a:xfrm>
            <a:off x="611280" y="476280"/>
            <a:ext cx="3456000" cy="64260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FOREAR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178920" y="228600"/>
            <a:ext cx="2792520" cy="6400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Flexor Digitorum Profundu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Insertion: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bases of  distal phalanges of the medial four digi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Action: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Flexes distal phalanges of medial four digi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9" name="Picture 6" descr="C:\Documents and Settings\KSU\My Documents\My Pictures\fa3.jpg"/>
          <p:cNvPicPr/>
          <p:nvPr/>
        </p:nvPicPr>
        <p:blipFill>
          <a:blip r:embed="rId1"/>
          <a:srcRect l="5776" t="4521" r="73065" b="12073"/>
          <a:stretch/>
        </p:blipFill>
        <p:spPr>
          <a:xfrm>
            <a:off x="611280" y="2781360"/>
            <a:ext cx="1657080" cy="388764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3"/>
          <p:cNvSpPr/>
          <p:nvPr/>
        </p:nvSpPr>
        <p:spPr>
          <a:xfrm>
            <a:off x="3048120" y="228600"/>
            <a:ext cx="2963880" cy="640080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Flexor Pollicis  Longu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Insertion: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ase of distal phalanx of thumb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Action: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flexes all joints of the thumb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1" name="Picture 6" descr="C:\Documents and Settings\KSU\My Documents\My Pictures\fa3.jpg"/>
          <p:cNvPicPr/>
          <p:nvPr/>
        </p:nvPicPr>
        <p:blipFill>
          <a:blip r:embed="rId2"/>
          <a:srcRect l="41455" t="7423" r="37014" b="10554"/>
          <a:stretch/>
        </p:blipFill>
        <p:spPr>
          <a:xfrm>
            <a:off x="3564000" y="2133720"/>
            <a:ext cx="1800000" cy="446400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3"/>
          <p:cNvSpPr/>
          <p:nvPr/>
        </p:nvSpPr>
        <p:spPr>
          <a:xfrm>
            <a:off x="6172200" y="189000"/>
            <a:ext cx="2792520" cy="6440400"/>
          </a:xfrm>
          <a:prstGeom prst="rect">
            <a:avLst/>
          </a:prstGeom>
          <a:noFill/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Pronator Quadratu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  <a:ea typeface="Arial"/>
              </a:rPr>
              <a:t>Insertion: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Arial"/>
              </a:rPr>
              <a:t>distal fourth of ant. surface of radiu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  <a:ea typeface="Arial"/>
              </a:rPr>
              <a:t>Action: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Arial"/>
              </a:rPr>
              <a:t>pronates forearm (primover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Arial"/>
              </a:rPr>
              <a:t>Hold the 2 bones together 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3" name="Picture 6" descr="C:\Documents and Settings\KSU\My Documents\My Pictures\fa3.jpg"/>
          <p:cNvPicPr/>
          <p:nvPr/>
        </p:nvPicPr>
        <p:blipFill>
          <a:blip r:embed="rId3"/>
          <a:srcRect l="79983" t="13642" r="4083" b="30272"/>
          <a:stretch/>
        </p:blipFill>
        <p:spPr>
          <a:xfrm>
            <a:off x="6804000" y="2924280"/>
            <a:ext cx="180036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E:\Student Gray\7. Upper limb\F66122-007-f085.jpg"/>
          <p:cNvPicPr/>
          <p:nvPr/>
        </p:nvPicPr>
        <p:blipFill>
          <a:blip r:embed="rId1"/>
          <a:srcRect l="8568" t="0" r="11429" b="3636"/>
          <a:stretch/>
        </p:blipFill>
        <p:spPr>
          <a:xfrm>
            <a:off x="4140360" y="260280"/>
            <a:ext cx="4608360" cy="6048360"/>
          </a:xfrm>
          <a:prstGeom prst="rect">
            <a:avLst/>
          </a:prstGeom>
          <a:ln w="0">
            <a:noFill/>
          </a:ln>
        </p:spPr>
      </p:pic>
      <p:sp>
        <p:nvSpPr>
          <p:cNvPr id="255" name="TextBox 2"/>
          <p:cNvSpPr/>
          <p:nvPr/>
        </p:nvSpPr>
        <p:spPr>
          <a:xfrm>
            <a:off x="179280" y="260280"/>
            <a:ext cx="3816360" cy="64306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Nerve supply of the deep flexo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are supplied by the anterior interosseous nerve (branch of the median nerve), Except the medial half of the flexor digitorum profundus by the ulnar nerv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2"/>
          <p:cNvSpPr/>
          <p:nvPr/>
        </p:nvSpPr>
        <p:spPr>
          <a:xfrm>
            <a:off x="179280" y="189000"/>
            <a:ext cx="2952720" cy="13737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Supina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and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pron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7" name="TextBox 3"/>
          <p:cNvSpPr/>
          <p:nvPr/>
        </p:nvSpPr>
        <p:spPr>
          <a:xfrm>
            <a:off x="179280" y="1628640"/>
            <a:ext cx="3024360" cy="5277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t occurs in the superior and inferior radioulnar joints; (Pivot  Uniaxial synovial joint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Garamond"/>
              </a:rPr>
              <a:t>Muscles produce supina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iceps brachii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upinator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Garamond"/>
              </a:rPr>
              <a:t>Muscles produce prona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ronator tere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ronator quadratu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NB. Brachioradialis put the forearm in midprone-supine position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8" name="Picture 5" descr="E:\Student Gray\7. Upper limb\F66122-007-f080.jpg"/>
          <p:cNvPicPr/>
          <p:nvPr/>
        </p:nvPicPr>
        <p:blipFill>
          <a:blip r:embed="rId1"/>
          <a:srcRect l="30226" t="0" r="0" b="4069"/>
          <a:stretch/>
        </p:blipFill>
        <p:spPr>
          <a:xfrm>
            <a:off x="3276720" y="189000"/>
            <a:ext cx="568800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4"/>
          <p:cNvSpPr/>
          <p:nvPr/>
        </p:nvSpPr>
        <p:spPr>
          <a:xfrm>
            <a:off x="826920" y="260280"/>
            <a:ext cx="7490160" cy="1191240"/>
          </a:xfrm>
          <a:prstGeom prst="rect">
            <a:avLst/>
          </a:prstGeom>
          <a:solidFill>
            <a:srgbClr val="36363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30d"/>
                </a:solidFill>
                <a:latin typeface="Garamond"/>
              </a:rPr>
              <a:t>Posterior compartment:   3 group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324000" y="836640"/>
            <a:ext cx="5040000" cy="308016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Garamond"/>
              </a:rPr>
              <a:t>Superficial group 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99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xtensor carpi radialis brev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xtensor digitorum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xtensor digiti minim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xtensor carpi ulnar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nconeu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4427640" y="3573360"/>
            <a:ext cx="4465440" cy="4786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Garamond"/>
              </a:rPr>
              <a:t>Deep group  5 (3 to thumb+ 1 to index + supinator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upinato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bductor pollicis longu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xtensor pollicis brevi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xtensor pollicis longu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xtensor indic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Rectangle 9"/>
          <p:cNvSpPr/>
          <p:nvPr/>
        </p:nvSpPr>
        <p:spPr>
          <a:xfrm>
            <a:off x="647640" y="1523880"/>
            <a:ext cx="5695920" cy="190512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Text Box 8"/>
          <p:cNvSpPr/>
          <p:nvPr/>
        </p:nvSpPr>
        <p:spPr>
          <a:xfrm>
            <a:off x="5435640" y="1197000"/>
            <a:ext cx="2736720" cy="19836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Origin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Garamond"/>
              </a:rPr>
              <a:t>Common Extensor Origi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(front of lateral epicondyle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250920" y="3716280"/>
            <a:ext cx="4105080" cy="3385080"/>
          </a:xfrm>
          <a:prstGeom prst="rect">
            <a:avLst/>
          </a:pr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Garamond"/>
              </a:rPr>
              <a:t>Lateral group 2 musc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Brachioradial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xtensor carpi radialis longu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(The 2 muscles originate from the </a:t>
            </a:r>
            <a:r>
              <a:rPr b="1" i="1" lang="en-US" sz="2400" spc="-1" strike="noStrike">
                <a:solidFill>
                  <a:srgbClr val="ffff00"/>
                </a:solidFill>
                <a:latin typeface="Garamond"/>
              </a:rPr>
              <a:t>lateral supracondylar ridge)</a:t>
            </a:r>
            <a:r>
              <a:rPr b="1" i="1" lang="en-US" sz="28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6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7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9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0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3888000" cy="61214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Posterior compartment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I- Superficial group: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7 muscles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( from lateral to medial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rachioradialis, (BR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Extensor carpi radialis longus, (ECRL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Extensor carpi radialis brevis, (ECRB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Extensor digitorum,  (ED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Extensor digiti minimi, (EDM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Extensor carpi ulnaris, (ECU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nconeus. (An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66" name="Picture 3" descr="F71683-052-f017"/>
          <p:cNvPicPr/>
          <p:nvPr/>
        </p:nvPicPr>
        <p:blipFill>
          <a:blip r:embed="rId1"/>
          <a:srcRect l="6252" t="0" r="6252" b="4001"/>
          <a:stretch/>
        </p:blipFill>
        <p:spPr>
          <a:xfrm>
            <a:off x="4211640" y="189000"/>
            <a:ext cx="4608360" cy="6408720"/>
          </a:xfrm>
          <a:prstGeom prst="rect">
            <a:avLst/>
          </a:prstGeom>
          <a:ln w="0">
            <a:noFill/>
          </a:ln>
        </p:spPr>
      </p:pic>
      <p:sp>
        <p:nvSpPr>
          <p:cNvPr id="267" name="Oval 3"/>
          <p:cNvSpPr/>
          <p:nvPr/>
        </p:nvSpPr>
        <p:spPr>
          <a:xfrm>
            <a:off x="6732720" y="836640"/>
            <a:ext cx="360360" cy="3603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3600360" cy="6476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Superficial extensor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79280" y="1052280"/>
            <a:ext cx="4464000" cy="5329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All arises from the </a:t>
            </a:r>
            <a:r>
              <a:rPr b="0" lang="en-US" sz="2200" spc="-1" strike="noStrike">
                <a:solidFill>
                  <a:srgbClr val="ffff00"/>
                </a:solidFill>
                <a:latin typeface="Garamond"/>
              </a:rPr>
              <a:t>common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Garamond"/>
              </a:rPr>
              <a:t>extensor origin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,  (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Garamond"/>
              </a:rPr>
              <a:t>front of lateral epicondyle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)  of the humerus,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Garamond"/>
              </a:rPr>
              <a:t>EXCEPT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, 3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(BR, EXRL &amp; anconeus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All cross the wrist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Garamond"/>
              </a:rPr>
              <a:t>EXCEPT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,  2,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(brachioradialis &amp; anconeus)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All supplied by deep branch of radial  nerve,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Garamond"/>
              </a:rPr>
              <a:t>EXCEPT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200" spc="-1" strike="noStrike" u="sng">
                <a:solidFill>
                  <a:srgbClr val="ffff00"/>
                </a:solidFill>
                <a:uFillTx/>
                <a:latin typeface="Garamond"/>
              </a:rPr>
              <a:t>ABE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Garamond"/>
              </a:rPr>
              <a:t>A</a:t>
            </a:r>
            <a:r>
              <a:rPr b="1" lang="en-US" sz="2200" spc="-1" strike="noStrike" u="sng">
                <a:solidFill>
                  <a:srgbClr val="ffff00"/>
                </a:solidFill>
                <a:uFillTx/>
                <a:latin typeface="Garamond"/>
              </a:rPr>
              <a:t>,  anconeu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Garamond"/>
              </a:rPr>
              <a:t>B</a:t>
            </a:r>
            <a:r>
              <a:rPr b="1" lang="en-US" sz="2200" spc="-1" strike="noStrike" u="sng">
                <a:solidFill>
                  <a:srgbClr val="ffff00"/>
                </a:solidFill>
                <a:uFillTx/>
                <a:latin typeface="Garamond"/>
              </a:rPr>
              <a:t>, Brachioradiali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Garamond"/>
              </a:rPr>
              <a:t>E</a:t>
            </a:r>
            <a:r>
              <a:rPr b="1" lang="en-US" sz="2200" spc="-1" strike="noStrike" u="sng">
                <a:solidFill>
                  <a:srgbClr val="ffff00"/>
                </a:solidFill>
                <a:uFillTx/>
                <a:latin typeface="Garamond"/>
              </a:rPr>
              <a:t>, Extensor carpi radialis longu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00"/>
                </a:solidFill>
                <a:uFillTx/>
                <a:latin typeface="Garamond"/>
              </a:rPr>
              <a:t>These 3 muscles are supplied by the radial nerve itself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70" name="Picture 6" descr="F71683-052-f018"/>
          <p:cNvPicPr/>
          <p:nvPr/>
        </p:nvPicPr>
        <p:blipFill>
          <a:blip r:embed="rId1"/>
          <a:srcRect l="6894" t="0" r="6894" b="2703"/>
          <a:stretch/>
        </p:blipFill>
        <p:spPr>
          <a:xfrm>
            <a:off x="4716360" y="0"/>
            <a:ext cx="4176720" cy="6480000"/>
          </a:xfrm>
          <a:prstGeom prst="rect">
            <a:avLst/>
          </a:prstGeom>
          <a:ln w="0">
            <a:noFill/>
          </a:ln>
        </p:spPr>
      </p:pic>
      <p:sp>
        <p:nvSpPr>
          <p:cNvPr id="271" name="Oval 4"/>
          <p:cNvSpPr/>
          <p:nvPr/>
        </p:nvSpPr>
        <p:spPr>
          <a:xfrm>
            <a:off x="6588000" y="765000"/>
            <a:ext cx="360360" cy="432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4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3"/>
          <p:cNvSpPr/>
          <p:nvPr/>
        </p:nvSpPr>
        <p:spPr>
          <a:xfrm>
            <a:off x="179280" y="620640"/>
            <a:ext cx="2521080" cy="4896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Garamond"/>
              </a:rPr>
              <a:t>Brachioradiali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Origin:</a:t>
            </a:r>
            <a:r>
              <a:rPr b="0" lang="en-US" sz="2000" spc="-1" strike="noStrike">
                <a:solidFill>
                  <a:srgbClr val="ffcc66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ateral supracondylar ridge of humeru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Insertion: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ase of styloid process of radiu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cc66"/>
                </a:solidFill>
                <a:uFillTx/>
                <a:latin typeface="Garamond"/>
              </a:rPr>
              <a:t>Action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lexes forearm; (elbow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otates forearm to the midprone posi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588000" y="549360"/>
            <a:ext cx="2376720" cy="5472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Garamond"/>
              </a:rPr>
              <a:t>Extensor Carpi  radialis longu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Origin:</a:t>
            </a:r>
            <a:r>
              <a:rPr b="0" lang="en-US" sz="2000" spc="-1" strike="noStrike">
                <a:solidFill>
                  <a:srgbClr val="ffcc66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ateral supracondylar ridge of humeru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Insertion: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osterior surface of base of second metacarpal bon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cc66"/>
                </a:solidFill>
                <a:uFillTx/>
                <a:latin typeface="Garamond"/>
              </a:rPr>
              <a:t>Action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xtends and abducts hand at wrist joi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74" name="Picture 2" descr="E:\dad\Student Gray\7. Upper limb\F66122-007-f087.jpg"/>
          <p:cNvPicPr/>
          <p:nvPr/>
        </p:nvPicPr>
        <p:blipFill>
          <a:blip r:embed="rId1"/>
          <a:srcRect l="14894" t="0" r="0" b="0"/>
          <a:stretch/>
        </p:blipFill>
        <p:spPr>
          <a:xfrm>
            <a:off x="2771640" y="333360"/>
            <a:ext cx="374508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E:\dad\Student Gray\7. Upper limb\F66122-007-f087.jpg"/>
          <p:cNvPicPr/>
          <p:nvPr/>
        </p:nvPicPr>
        <p:blipFill>
          <a:blip r:embed="rId1"/>
          <a:srcRect l="38469" t="7523" r="0" b="6261"/>
          <a:stretch/>
        </p:blipFill>
        <p:spPr>
          <a:xfrm>
            <a:off x="4643280" y="260280"/>
            <a:ext cx="4105440" cy="5977080"/>
          </a:xfrm>
          <a:prstGeom prst="rect">
            <a:avLst/>
          </a:prstGeom>
          <a:ln w="0">
            <a:noFill/>
          </a:ln>
        </p:spPr>
      </p:pic>
      <p:sp>
        <p:nvSpPr>
          <p:cNvPr id="276" name="TextBox 2"/>
          <p:cNvSpPr/>
          <p:nvPr/>
        </p:nvSpPr>
        <p:spPr>
          <a:xfrm>
            <a:off x="179280" y="1628640"/>
            <a:ext cx="4248360" cy="4483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Garamond"/>
              </a:rPr>
              <a:t>Extensor carpi radialis brevis</a:t>
            </a: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ase of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rd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metacarpal bon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Garamond"/>
              </a:rPr>
              <a:t>Extensor digitorum</a:t>
            </a: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xtensor expansion of the medial 4 finger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Garamond"/>
              </a:rPr>
              <a:t>Extensor digiti minimi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xtensor expansion of the little finge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Garamond"/>
              </a:rPr>
              <a:t>Extensor carpi ulnaris</a:t>
            </a: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ase of the 5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metacarpal bon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Rectangle 3"/>
          <p:cNvSpPr/>
          <p:nvPr/>
        </p:nvSpPr>
        <p:spPr>
          <a:xfrm>
            <a:off x="539640" y="549360"/>
            <a:ext cx="352764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INSER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"/>
          <p:cNvSpPr/>
          <p:nvPr/>
        </p:nvSpPr>
        <p:spPr>
          <a:xfrm>
            <a:off x="250920" y="333360"/>
            <a:ext cx="2736720" cy="7387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II- Deep group: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5 musc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- Abductor pollicis longus, (APL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- Extensor pollicis brevis, (EPB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- Extensor pollicis longus, (EPL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- Extensor indicis (EI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- Supinato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ll back muscles of forearm are supplied by posterior interosseous nerv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except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, ABE by Radial nerv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79" name="Picture 8" descr="ap11_029"/>
          <p:cNvPicPr/>
          <p:nvPr/>
        </p:nvPicPr>
        <p:blipFill>
          <a:blip r:embed="rId1"/>
          <a:srcRect l="0" t="2856" r="0" b="1099"/>
          <a:stretch/>
        </p:blipFill>
        <p:spPr>
          <a:xfrm>
            <a:off x="6372360" y="189000"/>
            <a:ext cx="2592360" cy="64800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3" descr="E:\dad\Student Gray\7. Upper limb\F66122-007-f088.jpg"/>
          <p:cNvPicPr/>
          <p:nvPr/>
        </p:nvPicPr>
        <p:blipFill>
          <a:blip r:embed="rId2"/>
          <a:srcRect l="42741" t="0" r="0" b="5745"/>
          <a:stretch/>
        </p:blipFill>
        <p:spPr>
          <a:xfrm>
            <a:off x="3059280" y="260280"/>
            <a:ext cx="3313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5"/>
          <p:cNvSpPr/>
          <p:nvPr/>
        </p:nvSpPr>
        <p:spPr>
          <a:xfrm>
            <a:off x="1692360" y="189000"/>
            <a:ext cx="5543640" cy="10688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Dorsal Extensor Expansio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82" name="Picture 6" descr="447 label"/>
          <p:cNvPicPr/>
          <p:nvPr/>
        </p:nvPicPr>
        <p:blipFill>
          <a:blip r:embed="rId1"/>
          <a:srcRect l="841" t="9680" r="0" b="4548"/>
          <a:stretch/>
        </p:blipFill>
        <p:spPr>
          <a:xfrm>
            <a:off x="395280" y="907920"/>
            <a:ext cx="8497800" cy="2952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283" name="TextBox 3"/>
          <p:cNvSpPr/>
          <p:nvPr/>
        </p:nvSpPr>
        <p:spPr>
          <a:xfrm>
            <a:off x="179280" y="4076640"/>
            <a:ext cx="8713800" cy="2288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t is formed by the union of the tendons of: Extensor digitorum, Extensor indicis,  extensor digiti minimi, palmar &amp; dorsal  interossei  and lumbricals muscles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ll these tendons unite to form one tendon which divides into 3 slips, a median one attached to middle phalanges and 2 lateral attached to the terminal phalang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250920" y="1600200"/>
            <a:ext cx="8642160" cy="4781520"/>
          </a:xfrm>
          <a:prstGeom prst="rect">
            <a:avLst/>
          </a:prstGeom>
          <a:gradFill rotWithShape="0">
            <a:gsLst>
              <a:gs pos="0">
                <a:srgbClr val="cdacff"/>
              </a:gs>
              <a:gs pos="100000">
                <a:srgbClr val="f0e7ff"/>
              </a:gs>
            </a:gsLst>
            <a:lin ang="16200000"/>
          </a:gradFill>
          <a:ln w="9360">
            <a:solidFill>
              <a:srgbClr val="a481d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By the end of the lecture, you should be able to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Describe the arrangement of the muscles of the anterior and posterior compartments of the  forear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Describe the, origin, insertion, action nerve supply of each of these muscle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Describe the effect of injury of the muscle or its nerve suppl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11" name="TextBox 4"/>
          <p:cNvGrpSpPr/>
          <p:nvPr/>
        </p:nvGrpSpPr>
        <p:grpSpPr>
          <a:xfrm>
            <a:off x="-60480" y="622440"/>
            <a:ext cx="9259920" cy="920520"/>
            <a:chOff x="-60480" y="622440"/>
            <a:chExt cx="9259920" cy="920520"/>
          </a:xfrm>
        </p:grpSpPr>
        <p:pic>
          <p:nvPicPr>
            <p:cNvPr id="212" name="TextBox 4" descr=""/>
            <p:cNvPicPr/>
            <p:nvPr/>
          </p:nvPicPr>
          <p:blipFill>
            <a:blip r:embed="rId1"/>
            <a:stretch/>
          </p:blipFill>
          <p:spPr>
            <a:xfrm>
              <a:off x="-60480" y="622440"/>
              <a:ext cx="925992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0" y="762120"/>
              <a:ext cx="914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Garamond"/>
                </a:rPr>
                <a:t>Objectives</a:t>
              </a:r>
              <a:endParaRPr b="0" lang="en-US" sz="40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3672000" cy="6480000"/>
          </a:xfrm>
          <a:prstGeom prst="rect">
            <a:avLst/>
          </a:prstGeom>
          <a:solidFill>
            <a:srgbClr val="002673"/>
          </a:solidFill>
          <a:ln w="38160">
            <a:solidFill>
              <a:srgbClr val="ffffff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Century Gothic"/>
              </a:rPr>
              <a:t>The forearm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xtends from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entury Gothic"/>
              </a:rPr>
              <a:t>elbow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to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entury Gothic"/>
              </a:rPr>
              <a:t>wrist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It posses two bones radius laterally &amp; Ulna medially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two bones are  connected together by the interosseous membrane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s membrane allows movement of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Century Gothic"/>
              </a:rPr>
              <a:t>Pronation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and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Century Gothic"/>
              </a:rPr>
              <a:t>Supination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while the two  bones are connected togethe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lso it gives origin for the deep muscl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5" name="Picture 4" descr="ap11_007"/>
          <p:cNvPicPr/>
          <p:nvPr/>
        </p:nvPicPr>
        <p:blipFill>
          <a:blip r:embed="rId1"/>
          <a:srcRect l="29115" t="0" r="38428" b="4835"/>
          <a:stretch/>
        </p:blipFill>
        <p:spPr>
          <a:xfrm>
            <a:off x="6732720" y="142920"/>
            <a:ext cx="2087280" cy="65260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ap11_019"/>
          <p:cNvPicPr/>
          <p:nvPr/>
        </p:nvPicPr>
        <p:blipFill>
          <a:blip r:embed="rId2"/>
          <a:srcRect l="24826" t="15350" r="20501" b="8002"/>
          <a:stretch/>
        </p:blipFill>
        <p:spPr>
          <a:xfrm>
            <a:off x="3995640" y="907920"/>
            <a:ext cx="2664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2916360" y="333360"/>
            <a:ext cx="604836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ascial Compartments of the Forear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179280" y="260280"/>
            <a:ext cx="2448000" cy="74674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The forearm is enclosed in a sheath of deep fascia, which is attached to the  posterior border of the ulna 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This fascial sheath, together with the interosseous membrane &amp; fibrous intermuscular septa, divides the forearm into several compartments, each having its own muscles, nerves, and blood supply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9" name="Picture 5" descr="E:\dad\Student Gray\7. Upper limb\F66122-007-f010.jpg"/>
          <p:cNvPicPr/>
          <p:nvPr/>
        </p:nvPicPr>
        <p:blipFill>
          <a:blip r:embed="rId1"/>
          <a:srcRect l="22027" t="50004" r="0" b="4641"/>
          <a:stretch/>
        </p:blipFill>
        <p:spPr>
          <a:xfrm>
            <a:off x="2700360" y="1268280"/>
            <a:ext cx="626436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94920" y="3428640"/>
            <a:ext cx="3024360" cy="20876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Garamond"/>
              </a:rPr>
              <a:t>I-Superficial: </a:t>
            </a:r>
            <a:r>
              <a:rPr b="1" lang="en-US" sz="2400" spc="-1" strike="noStrike">
                <a:solidFill>
                  <a:srgbClr val="ffcc66"/>
                </a:solidFill>
                <a:latin typeface="Garamond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Pronator ter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Flexor carpi radiali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Palmaris longu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Flexor carpi ulnari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539280" y="5661000"/>
            <a:ext cx="4103640" cy="1008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Garamond"/>
              </a:rPr>
              <a:t>II-Intermediate: </a:t>
            </a:r>
            <a:r>
              <a:rPr b="1" lang="en-US" sz="2400" spc="-1" strike="noStrike">
                <a:solidFill>
                  <a:srgbClr val="ffcc66"/>
                </a:solidFill>
                <a:latin typeface="Garamond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Flexor digitorum superficiali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179280" y="260280"/>
            <a:ext cx="3529080" cy="43714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Garamond"/>
              </a:rPr>
              <a:t>These  muscles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:  are (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8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y act on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elbow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&amp;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wrist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joints and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finger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y form fleshy masses in the proximal part and become tendinous in the distal part of the forearm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y are arranged in </a:t>
            </a:r>
            <a:r>
              <a:rPr b="0" lang="en-US" sz="2400" spc="-1" strike="noStrike" u="sng">
                <a:solidFill>
                  <a:srgbClr val="e5e5ff"/>
                </a:solidFill>
                <a:uFillTx/>
                <a:latin typeface="Garamond"/>
              </a:rPr>
              <a:t>thre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group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Content Placeholder 3"/>
          <p:cNvSpPr/>
          <p:nvPr/>
        </p:nvSpPr>
        <p:spPr>
          <a:xfrm>
            <a:off x="4788000" y="4724280"/>
            <a:ext cx="4105080" cy="1944720"/>
          </a:xfrm>
          <a:prstGeom prst="rect">
            <a:avLst/>
          </a:prstGeom>
          <a:noFill/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Garamond"/>
              </a:rPr>
              <a:t>III- Deep: </a:t>
            </a:r>
            <a:r>
              <a:rPr b="1" lang="en-US" sz="2400" spc="-1" strike="noStrike">
                <a:solidFill>
                  <a:srgbClr val="ffcc66"/>
                </a:solidFill>
                <a:latin typeface="Garamond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e5e5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Garamond"/>
              </a:rPr>
              <a:t>Flexor digitorum profundu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e5e5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Garamond"/>
              </a:rPr>
              <a:t>Flexor pollicis longu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e5e5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Garamond"/>
              </a:rPr>
              <a:t>Pronator quadratu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4" name="Picture 6" descr="Untitled-12"/>
          <p:cNvPicPr/>
          <p:nvPr/>
        </p:nvPicPr>
        <p:blipFill>
          <a:blip r:embed="rId1"/>
          <a:srcRect l="5889" t="5556" r="5041" b="11112"/>
          <a:stretch/>
        </p:blipFill>
        <p:spPr>
          <a:xfrm>
            <a:off x="3780000" y="836640"/>
            <a:ext cx="5184720" cy="3744720"/>
          </a:xfrm>
          <a:prstGeom prst="rect">
            <a:avLst/>
          </a:prstGeom>
          <a:ln w="0">
            <a:noFill/>
          </a:ln>
        </p:spPr>
      </p:pic>
      <p:sp>
        <p:nvSpPr>
          <p:cNvPr id="225" name="TextBox 6"/>
          <p:cNvSpPr/>
          <p:nvPr/>
        </p:nvSpPr>
        <p:spPr>
          <a:xfrm>
            <a:off x="3780000" y="189000"/>
            <a:ext cx="5184720" cy="7340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nterior compartment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LEXOR GROUP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2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250560" y="404640"/>
            <a:ext cx="3816360" cy="56167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t">
            <a:normAutofit fontScale="88000"/>
          </a:bodyPr>
          <a:p>
            <a:pPr marL="301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uperficial Flexo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y arise - more or less- from the common flexor origin (front of </a:t>
            </a:r>
            <a:r>
              <a:rPr b="1" lang="en-US" sz="2800" spc="-1" strike="noStrike">
                <a:solidFill>
                  <a:srgbClr val="ffc000"/>
                </a:solidFill>
                <a:latin typeface="Garamond"/>
              </a:rPr>
              <a:t>medial  epicondyle</a:t>
            </a:r>
            <a:r>
              <a:rPr b="0" lang="en-US" sz="2800" spc="-1" strike="noStrike">
                <a:solidFill>
                  <a:srgbClr val="ffc000"/>
                </a:solidFill>
                <a:latin typeface="Garamond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l are supplied by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media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nerve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Garamond"/>
              </a:rPr>
              <a:t>excep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Garamond"/>
              </a:rPr>
              <a:t>one,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c000"/>
                </a:solidFill>
                <a:latin typeface="Garamond"/>
              </a:rPr>
              <a:t>flexor carpi ulnaris,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FCU (ulnar n.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l cross the wrist joint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Garamond"/>
              </a:rPr>
              <a:t>except on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2800" spc="-1" strike="noStrike">
                <a:solidFill>
                  <a:srgbClr val="ffc000"/>
                </a:solidFill>
                <a:latin typeface="Garamond"/>
              </a:rPr>
              <a:t>pronator teres,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(PT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7" name="Picture 4" descr="C:\Documents and Settings\Prof. Saeed Makarem\Desktop\52 Forearm\F71683-052-f015.jpg"/>
          <p:cNvPicPr/>
          <p:nvPr/>
        </p:nvPicPr>
        <p:blipFill>
          <a:blip r:embed="rId1"/>
          <a:srcRect l="8354" t="0" r="6756" b="3023"/>
          <a:stretch/>
        </p:blipFill>
        <p:spPr>
          <a:xfrm>
            <a:off x="4211640" y="133200"/>
            <a:ext cx="4681440" cy="6535800"/>
          </a:xfrm>
          <a:prstGeom prst="rect">
            <a:avLst/>
          </a:prstGeom>
          <a:ln w="0">
            <a:noFill/>
          </a:ln>
        </p:spPr>
      </p:pic>
      <p:sp>
        <p:nvSpPr>
          <p:cNvPr id="228" name="Oval 3"/>
          <p:cNvSpPr/>
          <p:nvPr/>
        </p:nvSpPr>
        <p:spPr>
          <a:xfrm>
            <a:off x="4211640" y="836640"/>
            <a:ext cx="431640" cy="576360"/>
          </a:xfrm>
          <a:prstGeom prst="ellipse">
            <a:avLst/>
          </a:prstGeom>
          <a:noFill/>
          <a:ln w="381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7451640" y="4437000"/>
            <a:ext cx="720720" cy="216000"/>
          </a:xfrm>
          <a:prstGeom prst="rect">
            <a:avLst/>
          </a:prstGeom>
          <a:noFill/>
          <a:ln w="2844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8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3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3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2644560" cy="63640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Garamond"/>
              </a:rPr>
              <a:t>Pronator teres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Garamond"/>
              </a:rPr>
              <a:t>Insertion: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middle of lat. surface of radiu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66"/>
                </a:solidFill>
                <a:uFillTx/>
                <a:latin typeface="Garamond"/>
              </a:rPr>
              <a:t>Action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pronation &amp; flexion of forearm 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1" name="Picture 5" descr="C:\Documents and Settings\Free User\My Documents\My Pictures\zzz.jpg"/>
          <p:cNvPicPr/>
          <p:nvPr/>
        </p:nvPicPr>
        <p:blipFill>
          <a:blip r:embed="rId1"/>
          <a:srcRect l="3793" t="4161" r="3793" b="4161"/>
          <a:stretch/>
        </p:blipFill>
        <p:spPr>
          <a:xfrm>
            <a:off x="324000" y="1844640"/>
            <a:ext cx="2447640" cy="460872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3"/>
          <p:cNvSpPr/>
          <p:nvPr/>
        </p:nvSpPr>
        <p:spPr>
          <a:xfrm>
            <a:off x="3048120" y="228600"/>
            <a:ext cx="2666880" cy="6324480"/>
          </a:xfrm>
          <a:prstGeom prst="rect">
            <a:avLst/>
          </a:prstGeom>
          <a:noFill/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Garamond"/>
              </a:rPr>
              <a:t>Flexor Carpi Radiali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66"/>
                </a:solidFill>
                <a:uFillTx/>
                <a:latin typeface="Garamond"/>
              </a:rPr>
              <a:t>Insertion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Garamond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Base of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Garamond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metacarpal bon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66"/>
                </a:solidFill>
                <a:uFillTx/>
                <a:latin typeface="Garamond"/>
              </a:rPr>
              <a:t>Action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: Flexion &amp; abduction of the wrist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3" name="Picture 6" descr="C:\Documents and Settings\KSU\My Documents\My Pictures\Copy (2) of fa1.jpg"/>
          <p:cNvPicPr/>
          <p:nvPr/>
        </p:nvPicPr>
        <p:blipFill>
          <a:blip r:embed="rId2"/>
          <a:srcRect l="39513" t="3320" r="39183" b="56513"/>
          <a:stretch/>
        </p:blipFill>
        <p:spPr>
          <a:xfrm>
            <a:off x="3203640" y="2276640"/>
            <a:ext cx="2376360" cy="391788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3"/>
          <p:cNvSpPr/>
          <p:nvPr/>
        </p:nvSpPr>
        <p:spPr>
          <a:xfrm>
            <a:off x="5867280" y="228600"/>
            <a:ext cx="3097440" cy="6324480"/>
          </a:xfrm>
          <a:prstGeom prst="rect">
            <a:avLst/>
          </a:prstGeom>
          <a:noFill/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aramond"/>
              </a:rPr>
              <a:t>Palmaris Longu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66"/>
                </a:solidFill>
                <a:uFillTx/>
                <a:latin typeface="Garamond"/>
                <a:ea typeface="Arial"/>
              </a:rPr>
              <a:t>Insertion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Garamond"/>
                <a:ea typeface="Arial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Arial"/>
              </a:rPr>
              <a:t> into the flexor retinaculum &amp; palmer aponeurosis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66"/>
                </a:solidFill>
                <a:uFillTx/>
                <a:latin typeface="Garamond"/>
                <a:ea typeface="Arial"/>
              </a:rPr>
              <a:t>Action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Garamond"/>
                <a:ea typeface="Arial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Arial"/>
              </a:rPr>
              <a:t> Flexes hand &amp; tightens the palmer aponeurosi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5" name="Picture 5" descr="C:\Documents and Settings\KSU\My Documents\My Pictures\Copy (3) of fa1.jpg"/>
          <p:cNvPicPr/>
          <p:nvPr/>
        </p:nvPicPr>
        <p:blipFill>
          <a:blip r:embed="rId3"/>
          <a:srcRect l="71657" t="2246" r="5401" b="56452"/>
          <a:stretch/>
        </p:blipFill>
        <p:spPr>
          <a:xfrm>
            <a:off x="6012000" y="2349360"/>
            <a:ext cx="2736720" cy="4079880"/>
          </a:xfrm>
          <a:prstGeom prst="rect">
            <a:avLst/>
          </a:prstGeom>
          <a:ln cap="sq" w="28440">
            <a:solidFill>
              <a:srgbClr val="ffffff"/>
            </a:solidFill>
            <a:miter/>
          </a:ln>
        </p:spPr>
      </p:pic>
      <p:sp>
        <p:nvSpPr>
          <p:cNvPr id="236" name="Rectangle 7"/>
          <p:cNvSpPr/>
          <p:nvPr/>
        </p:nvSpPr>
        <p:spPr>
          <a:xfrm>
            <a:off x="1042920" y="3933720"/>
            <a:ext cx="216000" cy="50328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TextBox 8"/>
          <p:cNvSpPr/>
          <p:nvPr/>
        </p:nvSpPr>
        <p:spPr>
          <a:xfrm>
            <a:off x="6084720" y="2421000"/>
            <a:ext cx="1901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Garamond"/>
              </a:rPr>
              <a:t>May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Garamond"/>
              </a:rPr>
              <a:t>B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Garamond"/>
              </a:rPr>
              <a:t>Abse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178920" y="1341360"/>
            <a:ext cx="2089080" cy="39592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Flexor Carpi Ulnari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cc66"/>
                </a:solidFill>
                <a:uFillTx/>
                <a:latin typeface="Garamond"/>
              </a:rPr>
              <a:t>Insertion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isiform,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ook of hamate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5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metacarpal bon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cc66"/>
                </a:solidFill>
                <a:uFillTx/>
                <a:latin typeface="Garamond"/>
              </a:rPr>
              <a:t>Action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lexion and adduction of the hand (wrist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9" name="Picture 9" descr="C:\Documents and Settings\KSU\My Documents\My Pictures\Copy (2) of fa1.jpg"/>
          <p:cNvPicPr/>
          <p:nvPr/>
        </p:nvPicPr>
        <p:blipFill>
          <a:blip r:embed="rId1"/>
          <a:srcRect l="17102" t="43553" r="61789" b="11972"/>
          <a:stretch/>
        </p:blipFill>
        <p:spPr>
          <a:xfrm>
            <a:off x="2340000" y="981000"/>
            <a:ext cx="1727280" cy="504036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3"/>
          <p:cNvSpPr/>
          <p:nvPr/>
        </p:nvSpPr>
        <p:spPr>
          <a:xfrm>
            <a:off x="4140360" y="333360"/>
            <a:ext cx="2735280" cy="6048360"/>
          </a:xfrm>
          <a:prstGeom prst="rect">
            <a:avLst/>
          </a:prstGeom>
          <a:noFill/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Garamond"/>
              </a:rPr>
              <a:t>Flexor Digitorum Superficiali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Garamond"/>
                <a:ea typeface="Arial"/>
              </a:rPr>
              <a:t>Origin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Arial"/>
              </a:rPr>
              <a:t>Common flexor origin,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Arial"/>
              </a:rPr>
              <a:t>Coronoid process of ulna;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Arial"/>
              </a:rPr>
              <a:t>Anterior surface of radius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0" lang="en-US" sz="2000" spc="-1" strike="noStrike">
                <a:solidFill>
                  <a:srgbClr val="ffcc66"/>
                </a:solidFill>
                <a:latin typeface="Garamond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cc66"/>
                </a:solidFill>
                <a:uFillTx/>
                <a:latin typeface="Garamond"/>
                <a:ea typeface="Arial"/>
              </a:rPr>
              <a:t>Insertion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Garamond"/>
                <a:ea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Arial"/>
              </a:rPr>
              <a:t>base  of middle phalanges of  the medial 4 finger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cc66"/>
                </a:solidFill>
                <a:uFillTx/>
                <a:latin typeface="Garamond"/>
                <a:ea typeface="Arial"/>
              </a:rPr>
              <a:t>Action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Garamond"/>
                <a:ea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Arial"/>
              </a:rPr>
              <a:t>Flexes middle and  proximal phalanges of medial 4 fingers, and the hand (wrist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1" name="Picture 5" descr="C:\Documents and Settings\KSU\My Documents\My Pictures\Copy (2) of fa1.jpg"/>
          <p:cNvPicPr/>
          <p:nvPr/>
        </p:nvPicPr>
        <p:blipFill>
          <a:blip r:embed="rId2"/>
          <a:srcRect l="43398" t="44038" r="29606" b="5637"/>
          <a:stretch/>
        </p:blipFill>
        <p:spPr>
          <a:xfrm>
            <a:off x="6948360" y="189000"/>
            <a:ext cx="1944720" cy="6408720"/>
          </a:xfrm>
          <a:prstGeom prst="rect">
            <a:avLst/>
          </a:prstGeom>
          <a:ln w="0">
            <a:noFill/>
          </a:ln>
        </p:spPr>
      </p:pic>
      <p:sp>
        <p:nvSpPr>
          <p:cNvPr id="242" name="Freeform 5"/>
          <p:cNvSpPr/>
          <p:nvPr/>
        </p:nvSpPr>
        <p:spPr>
          <a:xfrm>
            <a:off x="7885080" y="1001880"/>
            <a:ext cx="911160" cy="1635120"/>
          </a:xfrm>
          <a:custGeom>
            <a:avLst/>
            <a:gdLst/>
            <a:ahLst/>
            <a:rect l="l" t="t" r="r" b="b"/>
            <a:pathLst>
              <a:path w="725714" h="1175657">
                <a:moveTo>
                  <a:pt x="725714" y="0"/>
                </a:moveTo>
                <a:cubicBezTo>
                  <a:pt x="720876" y="14514"/>
                  <a:pt x="718630" y="30169"/>
                  <a:pt x="711200" y="43543"/>
                </a:cubicBezTo>
                <a:cubicBezTo>
                  <a:pt x="628018" y="193271"/>
                  <a:pt x="671473" y="75642"/>
                  <a:pt x="638628" y="174171"/>
                </a:cubicBezTo>
                <a:cubicBezTo>
                  <a:pt x="634030" y="215554"/>
                  <a:pt x="633915" y="299713"/>
                  <a:pt x="609600" y="348343"/>
                </a:cubicBezTo>
                <a:cubicBezTo>
                  <a:pt x="601799" y="363945"/>
                  <a:pt x="590247" y="377371"/>
                  <a:pt x="580571" y="391885"/>
                </a:cubicBezTo>
                <a:cubicBezTo>
                  <a:pt x="544090" y="501331"/>
                  <a:pt x="593301" y="366425"/>
                  <a:pt x="537028" y="478971"/>
                </a:cubicBezTo>
                <a:cubicBezTo>
                  <a:pt x="530186" y="492655"/>
                  <a:pt x="529356" y="508830"/>
                  <a:pt x="522514" y="522514"/>
                </a:cubicBezTo>
                <a:cubicBezTo>
                  <a:pt x="502307" y="562930"/>
                  <a:pt x="482044" y="577499"/>
                  <a:pt x="449943" y="609600"/>
                </a:cubicBezTo>
                <a:cubicBezTo>
                  <a:pt x="413459" y="719048"/>
                  <a:pt x="466917" y="588383"/>
                  <a:pt x="391886" y="682171"/>
                </a:cubicBezTo>
                <a:cubicBezTo>
                  <a:pt x="382328" y="694118"/>
                  <a:pt x="384801" y="712340"/>
                  <a:pt x="377371" y="725714"/>
                </a:cubicBezTo>
                <a:cubicBezTo>
                  <a:pt x="360409" y="756245"/>
                  <a:pt x="313106" y="831453"/>
                  <a:pt x="275771" y="856343"/>
                </a:cubicBezTo>
                <a:cubicBezTo>
                  <a:pt x="263041" y="864830"/>
                  <a:pt x="246742" y="866019"/>
                  <a:pt x="232228" y="870857"/>
                </a:cubicBezTo>
                <a:cubicBezTo>
                  <a:pt x="222552" y="885371"/>
                  <a:pt x="215535" y="902065"/>
                  <a:pt x="203200" y="914400"/>
                </a:cubicBezTo>
                <a:cubicBezTo>
                  <a:pt x="190865" y="926735"/>
                  <a:pt x="171144" y="930300"/>
                  <a:pt x="159657" y="943428"/>
                </a:cubicBezTo>
                <a:cubicBezTo>
                  <a:pt x="136683" y="969684"/>
                  <a:pt x="120952" y="1001485"/>
                  <a:pt x="101600" y="1030514"/>
                </a:cubicBezTo>
                <a:cubicBezTo>
                  <a:pt x="91924" y="1045028"/>
                  <a:pt x="84906" y="1061722"/>
                  <a:pt x="72571" y="1074057"/>
                </a:cubicBezTo>
                <a:lnTo>
                  <a:pt x="29028" y="1117600"/>
                </a:lnTo>
                <a:cubicBezTo>
                  <a:pt x="12350" y="1167634"/>
                  <a:pt x="25332" y="1150325"/>
                  <a:pt x="0" y="1175657"/>
                </a:cubicBezTo>
              </a:path>
            </a:pathLst>
          </a:custGeom>
          <a:solidFill>
            <a:srgbClr val="ff0000"/>
          </a:solidFill>
          <a:ln w="9360">
            <a:solidFill>
              <a:srgbClr val="0098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285840" y="549000"/>
            <a:ext cx="3565440" cy="5040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 fontScale="89000"/>
          </a:bodyPr>
          <a:p>
            <a:pPr marL="305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Origin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of the Deep Flexo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Garamond"/>
              </a:rPr>
              <a:t>Front of radiu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Flexor pollicis longu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Garamond"/>
              </a:rPr>
              <a:t>Front of uln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lexor Digitorum profundu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Garamond"/>
              </a:rPr>
              <a:t>Front of lower  4</a:t>
            </a:r>
            <a:r>
              <a:rPr b="0" lang="en-US" sz="2800" spc="-1" strike="noStrike" u="sng" baseline="30000">
                <a:solidFill>
                  <a:srgbClr val="ffff00"/>
                </a:solidFill>
                <a:uFillTx/>
                <a:latin typeface="Garamond"/>
              </a:rPr>
              <a:t>th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Garamond"/>
              </a:rPr>
              <a:t> of ulna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nator Quadratu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4" name="Picture 4" descr="ap11_011"/>
          <p:cNvPicPr/>
          <p:nvPr/>
        </p:nvPicPr>
        <p:blipFill>
          <a:blip r:embed="rId1"/>
          <a:srcRect l="2926" t="6558" r="15316" b="2863"/>
          <a:stretch/>
        </p:blipFill>
        <p:spPr>
          <a:xfrm>
            <a:off x="4067280" y="260280"/>
            <a:ext cx="4825800" cy="6408720"/>
          </a:xfrm>
          <a:prstGeom prst="rect">
            <a:avLst/>
          </a:prstGeom>
          <a:ln w="0">
            <a:noFill/>
          </a:ln>
        </p:spPr>
      </p:pic>
      <p:sp>
        <p:nvSpPr>
          <p:cNvPr id="245" name="Round Single Corner Rectangle 5"/>
          <p:cNvSpPr/>
          <p:nvPr/>
        </p:nvSpPr>
        <p:spPr>
          <a:xfrm>
            <a:off x="4643280" y="3068640"/>
            <a:ext cx="2200320" cy="216000"/>
          </a:xfrm>
          <a:custGeom>
            <a:avLst/>
            <a:gdLst>
              <a:gd name="textAreaLeft" fmla="*/ 0 w 2200320"/>
              <a:gd name="textAreaRight" fmla="*/ 2189880 w 22003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200275" h="215900">
                <a:moveTo>
                  <a:pt x="0" y="0"/>
                </a:moveTo>
                <a:lnTo>
                  <a:pt x="2164291" y="0"/>
                </a:lnTo>
                <a:lnTo>
                  <a:pt x="2164291" y="0"/>
                </a:lnTo>
                <a:arcTo wR="35984" hR="35984" stAng="-5400000" swAng="5400000"/>
                <a:lnTo>
                  <a:pt x="2200275" y="215900"/>
                </a:lnTo>
                <a:lnTo>
                  <a:pt x="0" y="215900"/>
                </a:lnTo>
                <a:close/>
              </a:path>
            </a:pathLst>
          </a:custGeom>
          <a:noFill/>
          <a:ln w="28440">
            <a:solidFill>
              <a:srgbClr val="006f9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4067280" y="2781360"/>
            <a:ext cx="2808360" cy="216000"/>
          </a:xfrm>
          <a:prstGeom prst="rect">
            <a:avLst/>
          </a:prstGeom>
          <a:noFill/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4788000" y="3357720"/>
            <a:ext cx="1944720" cy="215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12:19:53Z</dcterms:created>
  <dc:creator>Prof. Saeed Abuel Makarem</dc:creator>
  <dc:description/>
  <dc:language>en-US</dc:language>
  <cp:lastModifiedBy> saeed abuelmakarem</cp:lastModifiedBy>
  <dcterms:modified xsi:type="dcterms:W3CDTF">2015-12-03T06:56:10Z</dcterms:modified>
  <cp:revision>59</cp:revision>
  <dc:subject>forearm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Forearm">
    <vt:lpwstr>prof. Saeed Abuel makarem</vt:lpwstr>
  </property>
</Properties>
</file>