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982B-2098-45F7-ABF3-0F6DD8048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E7C3-8727-405F-88BA-31EF56DB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621-0079-47AD-A8B6-6B50E22E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6E3-48BC-457E-91C7-E06C55A9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68B-B5A2-4C73-84B3-8070305D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B88-570B-4403-B321-50C51F72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3EF3-18F0-4DC5-AB79-58C6614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8E81-38A3-4B9D-9BD4-092A79F9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64D5-DFFB-4211-B428-2A85E700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E04A-CEEA-4D86-A047-63D903C0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3459-B1C0-4016-ADB0-BCFBC758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534F-11E2-4F82-823F-DB79CF7C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2E3-1423-42C3-896F-AEDAB6D0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92E-B48F-4AED-8676-61B59FE5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07BB-4629-4D49-BD7E-550C96F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8789-641A-4A12-9A90-B054FE3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60F9-4912-4E49-9BD2-8208CB42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C87C-FA81-4702-8B90-E6F52B18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27C8-0828-4318-8F4F-1BDFC9EB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44F-A212-47CA-9CA0-8C194C92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BF7-738A-4AD1-9561-2EAB7F1A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53B-C7F6-4C4A-9AE4-A3C369CE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2EE-8F83-4783-9E95-2C8272F5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29D-59F5-41ED-A4F8-2764801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C46-2CB6-41F3-ADAB-606C468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B89-147A-4287-A45F-95AF1BB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FBB-14F0-4120-9F44-62311E5E1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8054-4F90-4991-AEE3-0E94CA5019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971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VASCULAR Anatomy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the upper limb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Dr</a:t>
            </a:r>
            <a:r>
              <a:rPr b="0" lang="en-US" sz="3600" spc="-1" strike="noStrike">
                <a:solidFill>
                  <a:srgbClr val="000000"/>
                </a:solidFill>
                <a:latin typeface="Brush Script MT"/>
              </a:rPr>
              <a:t>.Sanaa Al-shaarawy  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Dr. Essam Eldin Salam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8006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rach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tent Placeholder 5"/>
          <p:cNvSpPr/>
          <p:nvPr/>
        </p:nvSpPr>
        <p:spPr>
          <a:xfrm>
            <a:off x="457200" y="1143000"/>
            <a:ext cx="3733920" cy="472428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ower border of teres maj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ain arterial supply for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osite neck of radius by dividing into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dia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amp;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lnar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上肢神经"/>
          <p:cNvPicPr/>
          <p:nvPr/>
        </p:nvPicPr>
        <p:blipFill>
          <a:blip r:embed="rId1"/>
          <a:stretch/>
        </p:blipFill>
        <p:spPr>
          <a:xfrm>
            <a:off x="4495680" y="228600"/>
            <a:ext cx="3962520" cy="62737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66294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731520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2"/>
          <p:cNvCxnSpPr/>
          <p:nvPr/>
        </p:nvCxnSpPr>
        <p:spPr>
          <a:xfrm flipH="1" flipV="1">
            <a:off x="6933960" y="251388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13"/>
          <p:cNvCxnSpPr/>
          <p:nvPr/>
        </p:nvCxnSpPr>
        <p:spPr>
          <a:xfrm flipH="1" flipV="1">
            <a:off x="7772040" y="76140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6171840" y="4190760"/>
            <a:ext cx="4579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17"/>
          <p:cNvCxnSpPr/>
          <p:nvPr/>
        </p:nvCxnSpPr>
        <p:spPr>
          <a:xfrm>
            <a:off x="5409720" y="3657240"/>
            <a:ext cx="38196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Straight Connector 21"/>
          <p:cNvSpPr/>
          <p:nvPr/>
        </p:nvSpPr>
        <p:spPr>
          <a:xfrm flipH="1" flipV="1">
            <a:off x="5790960" y="289512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3"/>
          <p:cNvSpPr/>
          <p:nvPr/>
        </p:nvSpPr>
        <p:spPr>
          <a:xfrm>
            <a:off x="80010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160" y="1142640"/>
            <a:ext cx="5181480" cy="518148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l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ed from above downward by medial cutanous nerve of the forearm, median nerve, and bicipital aponeu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ly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eps, coraco-brachialis and brachial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ally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lic vein, ulnar and median ner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ly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acbrachialis and biceps mus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上肢神经"/>
          <p:cNvPicPr/>
          <p:nvPr/>
        </p:nvPicPr>
        <p:blipFill>
          <a:blip r:embed="rId1"/>
          <a:stretch/>
        </p:blipFill>
        <p:spPr>
          <a:xfrm>
            <a:off x="5791320" y="1523880"/>
            <a:ext cx="2857320" cy="4524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203" name="TextBox 6"/>
          <p:cNvSpPr/>
          <p:nvPr/>
        </p:nvSpPr>
        <p:spPr>
          <a:xfrm>
            <a:off x="579132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raco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5791320" y="2057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c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5791320" y="2666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7772400" y="3124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lnar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7543800" y="3657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n 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13"/>
          <p:cNvCxnSpPr/>
          <p:nvPr/>
        </p:nvCxnSpPr>
        <p:spPr>
          <a:xfrm>
            <a:off x="7086240" y="1904760"/>
            <a:ext cx="686520" cy="1530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9" name="Straight Arrow Connector 14"/>
          <p:cNvCxnSpPr/>
          <p:nvPr/>
        </p:nvCxnSpPr>
        <p:spPr>
          <a:xfrm>
            <a:off x="6476760" y="2209680"/>
            <a:ext cx="1067400" cy="1533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0" name="Straight Arrow Connector 16"/>
          <p:cNvCxnSpPr/>
          <p:nvPr/>
        </p:nvCxnSpPr>
        <p:spPr>
          <a:xfrm>
            <a:off x="6705720" y="2895480"/>
            <a:ext cx="762480" cy="766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1" name="Straight Arrow Connector 19"/>
          <p:cNvCxnSpPr/>
          <p:nvPr/>
        </p:nvCxnSpPr>
        <p:spPr>
          <a:xfrm flipH="1" flipV="1">
            <a:off x="7619400" y="3123720"/>
            <a:ext cx="153000" cy="154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2" name="Straight Arrow Connector 21"/>
          <p:cNvCxnSpPr/>
          <p:nvPr/>
        </p:nvCxnSpPr>
        <p:spPr>
          <a:xfrm flipH="1" flipV="1">
            <a:off x="7466760" y="3428280"/>
            <a:ext cx="305640" cy="2293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62120" y="14475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to humer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a brach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ulnar collat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ulnar collateral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C:\Users\user\Pictures\qq.png"/>
          <p:cNvPicPr/>
          <p:nvPr/>
        </p:nvPicPr>
        <p:blipFill>
          <a:blip r:embed="rId1"/>
          <a:stretch/>
        </p:blipFill>
        <p:spPr>
          <a:xfrm>
            <a:off x="5029200" y="1143000"/>
            <a:ext cx="2193840" cy="5060880"/>
          </a:xfrm>
          <a:prstGeom prst="rect">
            <a:avLst/>
          </a:prstGeom>
          <a:ln w="0">
            <a:noFill/>
          </a:ln>
        </p:spPr>
      </p:pic>
      <p:sp>
        <p:nvSpPr>
          <p:cNvPr id="215" name="Title 4"/>
          <p:cNvSpPr/>
          <p:nvPr/>
        </p:nvSpPr>
        <p:spPr>
          <a:xfrm>
            <a:off x="0" y="3049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5"/>
          <p:cNvCxnSpPr/>
          <p:nvPr/>
        </p:nvCxnSpPr>
        <p:spPr>
          <a:xfrm>
            <a:off x="3657240" y="2742840"/>
            <a:ext cx="2439000" cy="1530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7" name="Straight Arrow Connector 6"/>
          <p:cNvCxnSpPr/>
          <p:nvPr/>
        </p:nvCxnSpPr>
        <p:spPr>
          <a:xfrm>
            <a:off x="3276720" y="3352680"/>
            <a:ext cx="3048480" cy="15336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8" name="Straight Arrow Connector 9"/>
          <p:cNvCxnSpPr/>
          <p:nvPr/>
        </p:nvCxnSpPr>
        <p:spPr>
          <a:xfrm>
            <a:off x="4572000" y="4267080"/>
            <a:ext cx="1829520" cy="534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486400" y="609480"/>
            <a:ext cx="1828800" cy="57578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34340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lnar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7543800" y="3581280"/>
            <a:ext cx="1403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7"/>
          <p:cNvCxnSpPr>
            <a:stCxn id="221" idx="1"/>
          </p:cNvCxnSpPr>
          <p:nvPr/>
        </p:nvCxnSpPr>
        <p:spPr>
          <a:xfrm flipH="1" flipV="1">
            <a:off x="6933600" y="3733560"/>
            <a:ext cx="610200" cy="3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TextBox 5"/>
          <p:cNvSpPr/>
          <p:nvPr/>
        </p:nvSpPr>
        <p:spPr>
          <a:xfrm>
            <a:off x="7467480" y="5562720"/>
            <a:ext cx="1403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Straight Arrow Connector 13"/>
          <p:cNvCxnSpPr>
            <a:stCxn id="223" idx="1"/>
          </p:cNvCxnSpPr>
          <p:nvPr/>
        </p:nvCxnSpPr>
        <p:spPr>
          <a:xfrm flipH="1">
            <a:off x="6629040" y="5884920"/>
            <a:ext cx="83880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Content Placeholder 8"/>
          <p:cNvSpPr/>
          <p:nvPr/>
        </p:nvSpPr>
        <p:spPr>
          <a:xfrm>
            <a:off x="228600" y="990720"/>
            <a:ext cx="4800600" cy="5135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rg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ubital fossa at the level of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k of rad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through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ompart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e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palm,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 front of the flexor retinacul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the ulnar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orming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ficial palmer arch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anastomosing with superficial palmer branch of radial artery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C:\Users\user\Pictures\xxxx.png"/>
          <p:cNvPicPr/>
          <p:nvPr/>
        </p:nvPicPr>
        <p:blipFill>
          <a:blip r:embed="rId1"/>
          <a:stretch/>
        </p:blipFill>
        <p:spPr>
          <a:xfrm>
            <a:off x="609480" y="304920"/>
            <a:ext cx="2667240" cy="6324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85840" y="1066680"/>
            <a:ext cx="4419720" cy="5105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t branch for anastomosis around the elbow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interosseous artery, which gives anterior and posterior interosseous arteri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to anastomoses around the 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tle 4"/>
          <p:cNvSpPr/>
          <p:nvPr/>
        </p:nvSpPr>
        <p:spPr>
          <a:xfrm>
            <a:off x="3657600" y="228600"/>
            <a:ext cx="50292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11"/>
          <p:cNvCxnSpPr/>
          <p:nvPr/>
        </p:nvCxnSpPr>
        <p:spPr>
          <a:xfrm flipH="1" flipV="1">
            <a:off x="2209320" y="1447560"/>
            <a:ext cx="1829520" cy="3816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0" name="Straight Arrow Connector 12"/>
          <p:cNvCxnSpPr/>
          <p:nvPr/>
        </p:nvCxnSpPr>
        <p:spPr>
          <a:xfrm flipH="1" flipV="1">
            <a:off x="1980720" y="1980360"/>
            <a:ext cx="2057760" cy="12200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1" name="Straight Arrow Connector 24"/>
          <p:cNvCxnSpPr/>
          <p:nvPr/>
        </p:nvCxnSpPr>
        <p:spPr>
          <a:xfrm flipH="1" flipV="1">
            <a:off x="2057040" y="4190760"/>
            <a:ext cx="22867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562720" y="533520"/>
            <a:ext cx="1904760" cy="59976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49568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ad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7620120" y="3276720"/>
            <a:ext cx="13716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10"/>
          <p:cNvCxnSpPr>
            <a:stCxn id="234" idx="1"/>
          </p:cNvCxnSpPr>
          <p:nvPr/>
        </p:nvCxnSpPr>
        <p:spPr>
          <a:xfrm flipH="1" flipV="1">
            <a:off x="6323760" y="3351960"/>
            <a:ext cx="1296360" cy="11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Content Placeholder 7"/>
          <p:cNvSpPr/>
          <p:nvPr/>
        </p:nvSpPr>
        <p:spPr>
          <a:xfrm>
            <a:off x="457200" y="914400"/>
            <a:ext cx="4495680" cy="556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ll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 branches of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in the cubital fossa at the level of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k of rad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downward and late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the forearm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nd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ound the lateral aspect of the wrist to reach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rs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tle 4"/>
          <p:cNvSpPr/>
          <p:nvPr/>
        </p:nvSpPr>
        <p:spPr>
          <a:xfrm>
            <a:off x="304920" y="380880"/>
            <a:ext cx="533376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ontent Placeholder 5"/>
          <p:cNvSpPr/>
          <p:nvPr/>
        </p:nvSpPr>
        <p:spPr>
          <a:xfrm>
            <a:off x="762120" y="1447920"/>
            <a:ext cx="4038480" cy="4800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t branch for anastomosis around the elbow j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palmar branch , joins the ulnar artery to form the superficial palmar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Content Placeholder 7" descr="C:\Users\user\Pictures\xxxx.png"/>
          <p:cNvPicPr/>
          <p:nvPr/>
        </p:nvPicPr>
        <p:blipFill>
          <a:blip r:embed="rId1"/>
          <a:stretch/>
        </p:blipFill>
        <p:spPr>
          <a:xfrm>
            <a:off x="5791320" y="533520"/>
            <a:ext cx="2666880" cy="5852880"/>
          </a:xfrm>
          <a:prstGeom prst="rect">
            <a:avLst/>
          </a:prstGeom>
          <a:ln w="0">
            <a:noFill/>
          </a:ln>
        </p:spPr>
      </p:pic>
      <p:cxnSp>
        <p:nvCxnSpPr>
          <p:cNvPr id="240" name="Straight Arrow Connector 8"/>
          <p:cNvCxnSpPr/>
          <p:nvPr/>
        </p:nvCxnSpPr>
        <p:spPr>
          <a:xfrm flipV="1">
            <a:off x="4495320" y="1447560"/>
            <a:ext cx="25153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41" name="Straight Arrow Connector 10"/>
          <p:cNvCxnSpPr/>
          <p:nvPr/>
        </p:nvCxnSpPr>
        <p:spPr>
          <a:xfrm>
            <a:off x="4267080" y="3962520"/>
            <a:ext cx="2363040" cy="4579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716000" y="333360"/>
            <a:ext cx="3800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stomosis around elbow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4140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Brachial, Radial  and Ulnar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Brachial Arter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unda Brachii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Ulnar and Radial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dial &amp; ulnar recurrent arte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terior interosseous recurrent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Documents and Settings\Dr.Essam\My Documents\summer courseNew Folder\fig\image526 (1).gif"/>
          <p:cNvPicPr/>
          <p:nvPr/>
        </p:nvPicPr>
        <p:blipFill>
          <a:blip r:embed="rId1"/>
          <a:stretch/>
        </p:blipFill>
        <p:spPr>
          <a:xfrm>
            <a:off x="4202280" y="1542960"/>
            <a:ext cx="4762440" cy="498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Rectangle 1"/>
          <p:cNvSpPr/>
          <p:nvPr/>
        </p:nvSpPr>
        <p:spPr>
          <a:xfrm>
            <a:off x="7467480" y="2362320"/>
            <a:ext cx="129564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7467480" y="3505320"/>
            <a:ext cx="129564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543800" y="1676520"/>
            <a:ext cx="121932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952880" y="4876920"/>
            <a:ext cx="990720" cy="3045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419720" y="5715000"/>
            <a:ext cx="137160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467480" y="4724280"/>
            <a:ext cx="1447920" cy="6858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手掌面血管和神经（2）"/>
          <p:cNvPicPr/>
          <p:nvPr/>
        </p:nvPicPr>
        <p:blipFill>
          <a:blip r:embed="rId1"/>
          <a:stretch/>
        </p:blipFill>
        <p:spPr>
          <a:xfrm>
            <a:off x="5105520" y="1295280"/>
            <a:ext cx="3504960" cy="4876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2" name="TextBox 4"/>
          <p:cNvSpPr/>
          <p:nvPr/>
        </p:nvSpPr>
        <p:spPr>
          <a:xfrm>
            <a:off x="7924680" y="1523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7"/>
          <p:cNvCxnSpPr/>
          <p:nvPr/>
        </p:nvCxnSpPr>
        <p:spPr>
          <a:xfrm flipH="1">
            <a:off x="7391160" y="2133720"/>
            <a:ext cx="762480" cy="3052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54" name="Content Placeholder 9"/>
          <p:cNvSpPr/>
          <p:nvPr/>
        </p:nvSpPr>
        <p:spPr>
          <a:xfrm>
            <a:off x="304920" y="1143000"/>
            <a:ext cx="4647960" cy="5181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nar art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h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to the flexor retinacul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lateral side of the ulnar nerve and pisiform 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a deep bra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as the superficial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6934320" y="2286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02920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18"/>
          <p:cNvCxnSpPr/>
          <p:nvPr/>
        </p:nvCxnSpPr>
        <p:spPr>
          <a:xfrm flipV="1">
            <a:off x="6018840" y="3123360"/>
            <a:ext cx="1067400" cy="17535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C:\Users\user\Pictures\aqaq.png"/>
          <p:cNvPicPr/>
          <p:nvPr/>
        </p:nvPicPr>
        <p:blipFill>
          <a:blip r:embed="rId1"/>
          <a:stretch/>
        </p:blipFill>
        <p:spPr>
          <a:xfrm>
            <a:off x="4952880" y="1143000"/>
            <a:ext cx="3557880" cy="46497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0"/>
          <p:cNvCxnSpPr/>
          <p:nvPr/>
        </p:nvCxnSpPr>
        <p:spPr>
          <a:xfrm flipH="1">
            <a:off x="7314480" y="2286000"/>
            <a:ext cx="68652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TextBox 11"/>
          <p:cNvSpPr/>
          <p:nvPr/>
        </p:nvSpPr>
        <p:spPr>
          <a:xfrm>
            <a:off x="7010280" y="1905120"/>
            <a:ext cx="1447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ontent Placeholder 10"/>
          <p:cNvSpPr/>
          <p:nvPr/>
        </p:nvSpPr>
        <p:spPr>
          <a:xfrm>
            <a:off x="457200" y="1143000"/>
            <a:ext cx="4343400" cy="464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dorsum of the hand b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ning forwar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proximal ends of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d 2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tacarp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nes and two heads of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rsal inerossous mus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ntering the palm it continues a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palmar 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arteria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is indec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rteria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eps polic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16"/>
          <p:cNvCxnSpPr/>
          <p:nvPr/>
        </p:nvCxnSpPr>
        <p:spPr>
          <a:xfrm flipH="1" flipV="1">
            <a:off x="7466760" y="4266720"/>
            <a:ext cx="38196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19"/>
          <p:cNvCxnSpPr/>
          <p:nvPr/>
        </p:nvCxnSpPr>
        <p:spPr>
          <a:xfrm flipH="1" flipV="1">
            <a:off x="7695720" y="4114080"/>
            <a:ext cx="153360" cy="167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TextBox 11"/>
          <p:cNvSpPr/>
          <p:nvPr/>
        </p:nvSpPr>
        <p:spPr>
          <a:xfrm>
            <a:off x="6629400" y="586728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dorsal interosseo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, the students should be abl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rigin of the vascular supply for the upper lim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ain arteries and their branches of the arm, forearm &amp; han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scular arches for the h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superficial and deep veins of the upper lim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of some related clinical poi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487692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uperficial Palmar 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tent Placeholder 11"/>
          <p:cNvSpPr/>
          <p:nvPr/>
        </p:nvSpPr>
        <p:spPr>
          <a:xfrm>
            <a:off x="380880" y="1143000"/>
            <a:ext cx="4267440" cy="5181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direct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nar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it curves laterally behind the palmar aponeu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from the rad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pproximately at the level of th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stal border of the extended thum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gital arte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ts convexity to supply the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:\Users\user\Pictures\def.png"/>
          <p:cNvPicPr/>
          <p:nvPr/>
        </p:nvPicPr>
        <p:blipFill>
          <a:blip r:embed="rId1"/>
          <a:stretch/>
        </p:blipFill>
        <p:spPr>
          <a:xfrm>
            <a:off x="5105520" y="762120"/>
            <a:ext cx="3352680" cy="5162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7"/>
          <p:cNvSpPr/>
          <p:nvPr/>
        </p:nvSpPr>
        <p:spPr>
          <a:xfrm>
            <a:off x="51055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1055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inceps pollici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5105520" y="990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dialis indice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769608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8381880" y="25909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gital ar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13"/>
          <p:cNvCxnSpPr/>
          <p:nvPr/>
        </p:nvCxnSpPr>
        <p:spPr>
          <a:xfrm>
            <a:off x="4952880" y="3809880"/>
            <a:ext cx="182952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6" name="Straight Arrow Connector 15"/>
          <p:cNvCxnSpPr/>
          <p:nvPr/>
        </p:nvCxnSpPr>
        <p:spPr>
          <a:xfrm flipH="1">
            <a:off x="6780960" y="2971800"/>
            <a:ext cx="1677240" cy="3816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7" name="Straight Arrow Connector 16"/>
          <p:cNvCxnSpPr/>
          <p:nvPr/>
        </p:nvCxnSpPr>
        <p:spPr>
          <a:xfrm flipH="1">
            <a:off x="7162560" y="2971800"/>
            <a:ext cx="1296000" cy="5342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8" name="Straight Arrow Connector 17"/>
          <p:cNvCxnSpPr/>
          <p:nvPr/>
        </p:nvCxnSpPr>
        <p:spPr>
          <a:xfrm flipH="1">
            <a:off x="7390800" y="2970720"/>
            <a:ext cx="1067400" cy="6865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9" name="Straight Arrow Connector 22"/>
          <p:cNvCxnSpPr/>
          <p:nvPr/>
        </p:nvCxnSpPr>
        <p:spPr>
          <a:xfrm>
            <a:off x="6095520" y="5562360"/>
            <a:ext cx="381960" cy="153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0" name="Straight Arrow Connector 23"/>
          <p:cNvCxnSpPr/>
          <p:nvPr/>
        </p:nvCxnSpPr>
        <p:spPr>
          <a:xfrm flipH="1">
            <a:off x="7238520" y="5257800"/>
            <a:ext cx="53424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81" name="Straight Connector 32"/>
          <p:cNvSpPr/>
          <p:nvPr/>
        </p:nvSpPr>
        <p:spPr>
          <a:xfrm flipH="1" flipV="1">
            <a:off x="4723920" y="1371240"/>
            <a:ext cx="228600" cy="2438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 flipH="1">
            <a:off x="5638320" y="2514600"/>
            <a:ext cx="153360" cy="838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3" name="Straight Arrow Connector 34"/>
          <p:cNvCxnSpPr/>
          <p:nvPr/>
        </p:nvCxnSpPr>
        <p:spPr>
          <a:xfrm>
            <a:off x="6018840" y="1600200"/>
            <a:ext cx="229320" cy="9914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Content Placeholder 12"/>
          <p:cNvSpPr/>
          <p:nvPr/>
        </p:nvSpPr>
        <p:spPr>
          <a:xfrm>
            <a:off x="228600" y="228600"/>
            <a:ext cx="4952880" cy="6172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curves medially beneath long flexor tendons , in front of the metacarpal bones and interosseous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on the medial side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branch of ulnar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t a level of th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ximal border of extended thu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nds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hare in anastomosis around the wrist joint 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join branches of the superficial palmar arc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C:\Users\user\Pictures\ssaa.png"/>
          <p:cNvPicPr/>
          <p:nvPr/>
        </p:nvPicPr>
        <p:blipFill>
          <a:blip r:embed="rId1"/>
          <a:stretch/>
        </p:blipFill>
        <p:spPr>
          <a:xfrm>
            <a:off x="5334120" y="990720"/>
            <a:ext cx="3611520" cy="5181480"/>
          </a:xfrm>
          <a:prstGeom prst="rect">
            <a:avLst/>
          </a:prstGeom>
          <a:ln w="0">
            <a:noFill/>
          </a:ln>
        </p:spPr>
      </p:pic>
      <p:sp>
        <p:nvSpPr>
          <p:cNvPr id="286" name="Title 1"/>
          <p:cNvSpPr/>
          <p:nvPr/>
        </p:nvSpPr>
        <p:spPr>
          <a:xfrm>
            <a:off x="5181480" y="304920"/>
            <a:ext cx="396252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Deep Palmar 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5638680" y="5562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8229600" y="480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13"/>
          <p:cNvCxnSpPr/>
          <p:nvPr/>
        </p:nvCxnSpPr>
        <p:spPr>
          <a:xfrm>
            <a:off x="6019920" y="1066680"/>
            <a:ext cx="1219680" cy="2439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90" name="Straight Arrow Connector 14"/>
          <p:cNvCxnSpPr/>
          <p:nvPr/>
        </p:nvCxnSpPr>
        <p:spPr>
          <a:xfrm flipV="1">
            <a:off x="6705720" y="5486400"/>
            <a:ext cx="38160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91" name="Straight Arrow Connector 15"/>
          <p:cNvCxnSpPr>
            <a:stCxn id="288" idx="1"/>
          </p:cNvCxnSpPr>
          <p:nvPr/>
        </p:nvCxnSpPr>
        <p:spPr>
          <a:xfrm flipH="1" flipV="1">
            <a:off x="7923960" y="5104800"/>
            <a:ext cx="305640" cy="19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user\Pictures\428px-Gray1237_svg.png"/>
          <p:cNvPicPr/>
          <p:nvPr/>
        </p:nvPicPr>
        <p:blipFill>
          <a:blip r:embed="rId1"/>
          <a:stretch/>
        </p:blipFill>
        <p:spPr>
          <a:xfrm>
            <a:off x="3276720" y="228600"/>
            <a:ext cx="4572000" cy="6397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93" name="Rectangle 4"/>
          <p:cNvSpPr/>
          <p:nvPr/>
        </p:nvSpPr>
        <p:spPr>
          <a:xfrm>
            <a:off x="380880" y="2133720"/>
            <a:ext cx="2590920" cy="22269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he superficial palmar arch is more distal than the deep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1215" t="1215" r="2379" b="8414"/>
          <a:stretch/>
        </p:blipFill>
        <p:spPr>
          <a:xfrm>
            <a:off x="4572000" y="1600200"/>
            <a:ext cx="4145040" cy="41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95" name="Title 1"/>
          <p:cNvSpPr/>
          <p:nvPr/>
        </p:nvSpPr>
        <p:spPr>
          <a:xfrm>
            <a:off x="0" y="22860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Veins of the Upp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2640"/>
            <a:ext cx="396252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ins of the upper limb are divided into two se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sets anastomose frequently with each 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laced immediately beneath the skin, in the superficial fasc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any the arteries, and constitute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æ comitan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ose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28600" y="1752480"/>
            <a:ext cx="4648320" cy="4678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digit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rain into 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metacarp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unite to form a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o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venous network lies on the dorsum of the han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subcutanous tiss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ximal to the  metacarpophalangeal j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s into the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pha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n laterally, and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asilic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medi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Superficial Veins of the Upper Lim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828800" y="1066680"/>
            <a:ext cx="560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(networ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C:\Users\user\Documents\Downloads\image573.gif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64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04560" y="990360"/>
            <a:ext cx="2895480" cy="380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lateral 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radial s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forearm to the elbow and continues up the arm in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ltopectoral gro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ierces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clavipectoral fascia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o drain into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axillary vein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C:\Users\user\Pictures\vvv.png"/>
          <p:cNvPicPr/>
          <p:nvPr/>
        </p:nvPicPr>
        <p:blipFill>
          <a:blip r:embed="rId1"/>
          <a:stretch/>
        </p:blipFill>
        <p:spPr>
          <a:xfrm>
            <a:off x="3352680" y="1143000"/>
            <a:ext cx="2430720" cy="36576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80880" y="380880"/>
            <a:ext cx="274320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Cephalic 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5943600" y="1066680"/>
            <a:ext cx="2895480" cy="3733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l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ulnar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forearm to the elb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 the  middle of the arm, it pierce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ep fasc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nd join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brachial vein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SimSun"/>
              </a:rPr>
              <a:t>or axillary v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1295280" y="5029200"/>
            <a:ext cx="1524240" cy="124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n Cubital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6095880" y="457200"/>
            <a:ext cx="259092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Basilic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tent Placeholder 2"/>
          <p:cNvSpPr/>
          <p:nvPr/>
        </p:nvSpPr>
        <p:spPr>
          <a:xfrm>
            <a:off x="2819520" y="4952880"/>
            <a:ext cx="3886200" cy="1371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inks cephalic vein and basilic vein in the cubital fos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s a frequent site for venipun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731520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company the arteries of the same region and bear similar na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SimSun"/>
              </a:rPr>
              <a:t>Venae commitan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: They are generally arranged in pairs, and are situated one on either side of the corresponding artery, and connected at intervals by short transverse branch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uperficial and deep palmar arterial arches are each accompanied by a pair of venæ comitantes which constitut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palmar venous arch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 receive the veins corresponding to the branches of the arterial ar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veins of the fore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the venæ comitantes of the radial and ulnar v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SimSun"/>
              </a:rPr>
              <a:t>brachi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placed one on either side of the brachial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itle 1"/>
          <p:cNvSpPr/>
          <p:nvPr/>
        </p:nvSpPr>
        <p:spPr>
          <a:xfrm>
            <a:off x="0" y="304920"/>
            <a:ext cx="9144000" cy="71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Deep Veins of the Upper Li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ClipArt Placeholder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7543800" y="1523880"/>
            <a:ext cx="1438200" cy="453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xillary v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g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the Teres maj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the continuation of the basi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subclavian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s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rach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close to its termination,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epha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ubclavian v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ontinuation of the axillary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 to the sternal end of the clav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it unites with the internal jugular to form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rachiocephalic (innominate)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C:\Users\user\Documents\Downloads\576.gif"/>
          <p:cNvPicPr/>
          <p:nvPr/>
        </p:nvPicPr>
        <p:blipFill>
          <a:blip r:embed="rId1"/>
          <a:stretch/>
        </p:blipFill>
        <p:spPr>
          <a:xfrm>
            <a:off x="5486400" y="533520"/>
            <a:ext cx="3214800" cy="2590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313" name="Picture 4" descr="http://l.yimg.com/a/i/edu/ref/ga/l/577.gif"/>
          <p:cNvPicPr/>
          <p:nvPr/>
        </p:nvPicPr>
        <p:blipFill>
          <a:blip r:embed="rId2"/>
          <a:srcRect l="5476" t="0" r="0" b="68004"/>
          <a:stretch/>
        </p:blipFill>
        <p:spPr>
          <a:xfrm>
            <a:off x="5340240" y="3352680"/>
            <a:ext cx="363564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tomy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lic and cephalic vein catheter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3308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i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vein of choice for central venous catheteriz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the cubital fossa until reaching the axillary vein it increases in diameter and lies in direct line with the axillary ve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pha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se not increase in size as it ascends in the arm, and frequently divides into small branch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it joins the axillary vein at right angle ,so it is difficult to maneuver the catheter around this angl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C:\Documents and Settings\Dr.Essam\My Documents\summer courseNew Folder\2014\Gray576.png"/>
          <p:cNvPicPr/>
          <p:nvPr/>
        </p:nvPicPr>
        <p:blipFill>
          <a:blip r:embed="rId1"/>
          <a:stretch/>
        </p:blipFill>
        <p:spPr>
          <a:xfrm>
            <a:off x="4788000" y="1685880"/>
            <a:ext cx="4259160" cy="343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85988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TERIAL INNERVATION AND RAYNAUD’S DISE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322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aynaud’s disea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vasospastic diseases involves digital art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quire cervicodorsal perganglionic sympathectomy to prevent necrosis of the f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Documents and Settings\Dr.Essam\My Documents\summer courseNew Folder\2014\raynauds3.bmp"/>
          <p:cNvPicPr/>
          <p:nvPr/>
        </p:nvPicPr>
        <p:blipFill>
          <a:blip r:embed="rId1"/>
          <a:srcRect l="0" t="0" r="5619" b="14852"/>
          <a:stretch/>
        </p:blipFill>
        <p:spPr>
          <a:xfrm>
            <a:off x="3780000" y="981000"/>
            <a:ext cx="4824360" cy="352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0" name="Picture 3" descr="C:\Documents and Settings\Dr.Essam\My Documents\summer courseNew Folder\2014\images (1).jpg"/>
          <p:cNvPicPr/>
          <p:nvPr/>
        </p:nvPicPr>
        <p:blipFill>
          <a:blip r:embed="rId2"/>
          <a:stretch/>
        </p:blipFill>
        <p:spPr>
          <a:xfrm>
            <a:off x="4788000" y="4581360"/>
            <a:ext cx="3247920" cy="20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80232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Arteries Of The Upper Limb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51160" y="2057400"/>
            <a:ext cx="1374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illary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2895480" y="1143000"/>
            <a:ext cx="144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0"/>
          <p:cNvSpPr/>
          <p:nvPr/>
        </p:nvSpPr>
        <p:spPr>
          <a:xfrm>
            <a:off x="7086600" y="1143000"/>
            <a:ext cx="1371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1600200" y="2895480"/>
            <a:ext cx="125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4419720" y="44956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d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5"/>
          <p:cNvSpPr/>
          <p:nvPr/>
        </p:nvSpPr>
        <p:spPr>
          <a:xfrm>
            <a:off x="1828800" y="40384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n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905120" y="5410080"/>
            <a:ext cx="761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mar ar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1"/>
          <p:cNvCxnSpPr/>
          <p:nvPr/>
        </p:nvCxnSpPr>
        <p:spPr>
          <a:xfrm flipH="1">
            <a:off x="6019200" y="1447920"/>
            <a:ext cx="11437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>
            <a:off x="2742840" y="2209320"/>
            <a:ext cx="2057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V="1">
            <a:off x="2895120" y="2971440"/>
            <a:ext cx="133596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 flipV="1">
            <a:off x="3962160" y="464796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>
            <a:off x="2362320" y="4343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6"/>
          <p:cNvCxnSpPr/>
          <p:nvPr/>
        </p:nvCxnSpPr>
        <p:spPr>
          <a:xfrm>
            <a:off x="4190760" y="1371600"/>
            <a:ext cx="99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25"/>
          <p:cNvCxnSpPr/>
          <p:nvPr/>
        </p:nvCxnSpPr>
        <p:spPr>
          <a:xfrm>
            <a:off x="2666520" y="5562720"/>
            <a:ext cx="839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33520" y="2590920"/>
            <a:ext cx="8229600" cy="121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  <a:ea typeface="Arial"/>
              </a:rPr>
              <a:t>Thank you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The Subclavian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66724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ocephalic arte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h of the  aor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5867280" y="3733920"/>
            <a:ext cx="289584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inues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ateral border of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6" descr="C:\Users\user\Documents\Downloads\79222827a656c75e11007cd3811a18cf.png"/>
          <p:cNvPicPr/>
          <p:nvPr/>
        </p:nvPicPr>
        <p:blipFill>
          <a:blip r:embed="rId1"/>
          <a:stretch/>
        </p:blipFill>
        <p:spPr>
          <a:xfrm>
            <a:off x="3200400" y="2209680"/>
            <a:ext cx="2571840" cy="31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5" descr="腋动脉"/>
          <p:cNvPicPr/>
          <p:nvPr/>
        </p:nvPicPr>
        <p:blipFill>
          <a:blip r:embed="rId2"/>
          <a:stretch/>
        </p:blipFill>
        <p:spPr>
          <a:xfrm>
            <a:off x="5867280" y="990720"/>
            <a:ext cx="28987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Straight Connector 39"/>
          <p:cNvSpPr/>
          <p:nvPr/>
        </p:nvSpPr>
        <p:spPr>
          <a:xfrm flipH="1" flipV="1">
            <a:off x="7619760" y="121896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3200400" y="2895480"/>
            <a:ext cx="8380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5105520" y="297180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914040"/>
            <a:ext cx="4724640" cy="5638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at the lateral border of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 as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vian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lower border of teres major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ly related to the cord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plex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ir bran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nclosed with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shea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ossed anteriorly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toralis min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, and is divided into three parts;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 baseline="30000">
                <a:solidFill>
                  <a:srgbClr val="00b0f0"/>
                </a:solidFill>
                <a:latin typeface="Times New Roman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2</a:t>
            </a:r>
            <a:r>
              <a:rPr b="1" lang="en-US" sz="2400" spc="-1" strike="noStrike" baseline="30000">
                <a:solidFill>
                  <a:srgbClr val="00b0f0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&amp; 3</a:t>
            </a:r>
            <a:r>
              <a:rPr b="1" lang="en-US" sz="2400" spc="-1" strike="noStrike" baseline="30000">
                <a:solidFill>
                  <a:srgbClr val="00b0f0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SimSun-ExtB"/>
              </a:rPr>
              <a:t>The Axillary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腋动脉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7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20" name="Straight Arrow Connector 15"/>
          <p:cNvCxnSpPr/>
          <p:nvPr/>
        </p:nvCxnSpPr>
        <p:spPr>
          <a:xfrm flipH="1">
            <a:off x="8305200" y="1828800"/>
            <a:ext cx="229320" cy="77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9"/>
          <p:cNvCxnSpPr/>
          <p:nvPr/>
        </p:nvCxnSpPr>
        <p:spPr>
          <a:xfrm flipH="1" flipV="1">
            <a:off x="7009920" y="3352320"/>
            <a:ext cx="915120" cy="236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21"/>
          <p:cNvCxnSpPr/>
          <p:nvPr/>
        </p:nvCxnSpPr>
        <p:spPr>
          <a:xfrm flipH="1" flipV="1">
            <a:off x="6019560" y="3962160"/>
            <a:ext cx="305280" cy="175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7"/>
          <p:cNvSpPr/>
          <p:nvPr/>
        </p:nvSpPr>
        <p:spPr>
          <a:xfrm>
            <a:off x="7086600" y="144792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bclavian art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7467480" y="5715000"/>
            <a:ext cx="15242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05520" y="5715000"/>
            <a:ext cx="1676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8"/>
          <p:cNvSpPr/>
          <p:nvPr/>
        </p:nvSpPr>
        <p:spPr>
          <a:xfrm flipH="1" flipV="1">
            <a:off x="7162920" y="19810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3"/>
          <p:cNvSpPr/>
          <p:nvPr/>
        </p:nvSpPr>
        <p:spPr>
          <a:xfrm flipH="1" flipV="1">
            <a:off x="5791320" y="28954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553080" y="3200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ctorali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800600" y="304812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border of 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r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pper border of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l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pectoralis major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l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cords of the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ONE branch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est thoracic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7543800" y="2666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st thoracic artery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3"/>
          <p:cNvSpPr/>
          <p:nvPr/>
        </p:nvSpPr>
        <p:spPr>
          <a:xfrm flipH="1" flipV="1">
            <a:off x="7315200" y="2514240"/>
            <a:ext cx="457200" cy="22860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7467480" y="28954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oraco-acromial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772400" y="4191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eral Thoracic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5"/>
          <p:cNvSpPr/>
          <p:nvPr/>
        </p:nvSpPr>
        <p:spPr>
          <a:xfrm>
            <a:off x="304920" y="1066680"/>
            <a:ext cx="4343400" cy="48769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hind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lated medially, laterally, and posterioly to the corresponding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TWO bran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oracoacromia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thorac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3rd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5105520" y="57150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terior &amp; posterior circumflex humeral 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7467480" y="5486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scapular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7391520" y="5257800"/>
            <a:ext cx="533160" cy="22860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tent Placeholder 9"/>
          <p:cNvSpPr/>
          <p:nvPr/>
        </p:nvSpPr>
        <p:spPr>
          <a:xfrm>
            <a:off x="152280" y="914400"/>
            <a:ext cx="4496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pectoralis minor musc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wer border teres major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medially, laterally, and posterioly, to the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cords of the brachial pl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THREE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cabu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ircumflex h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circumflex hum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6"/>
          <p:cNvSpPr/>
          <p:nvPr/>
        </p:nvSpPr>
        <p:spPr>
          <a:xfrm>
            <a:off x="5486400" y="3809880"/>
            <a:ext cx="838080" cy="19814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8"/>
          <p:cNvSpPr/>
          <p:nvPr/>
        </p:nvSpPr>
        <p:spPr>
          <a:xfrm>
            <a:off x="5714280" y="3352680"/>
            <a:ext cx="609480" cy="24386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19280" y="260280"/>
            <a:ext cx="30085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astomosis around shoulder j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889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bclavian and Axillary arter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Subclavian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ra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ficial cervic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Axillary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ontent Placeholder 4" descr="C:\Users\ssarain\Desktop\KFMC data\Anatomy books\Grey's Anatomy pictures\C9780443069529-007-f039.jpg"/>
          <p:cNvPicPr/>
          <p:nvPr/>
        </p:nvPicPr>
        <p:blipFill>
          <a:blip r:embed="rId1"/>
          <a:srcRect l="0" t="0" r="0" b="4413"/>
          <a:stretch/>
        </p:blipFill>
        <p:spPr>
          <a:xfrm>
            <a:off x="4243320" y="1628640"/>
            <a:ext cx="4792680" cy="4680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4716360" y="2708280"/>
            <a:ext cx="57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427640" y="220500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400800" y="1828800"/>
            <a:ext cx="990720" cy="158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343400" y="3048120"/>
            <a:ext cx="102060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7696080" y="2205000"/>
            <a:ext cx="838440" cy="157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924680" y="2590920"/>
            <a:ext cx="838440" cy="761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Zeenat Zaidi</dc:creator>
  <dc:description/>
  <dc:language>en-US</dc:language>
  <cp:lastModifiedBy>ESSAM</cp:lastModifiedBy>
  <dcterms:modified xsi:type="dcterms:W3CDTF">2015-12-08T07:04:24Z</dcterms:modified>
  <cp:revision>129</cp:revision>
  <dc:subject/>
  <dc:title>Vascular anatomy of the upper limb2010</dc:title>
</cp:coreProperties>
</file>