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6396-0564-4ABE-ABD0-630C13968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6B64-4A37-4AC4-B42C-002B7E316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A0DC-9123-43FC-8641-B270A64F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419-3D9A-4CC6-89E0-442B6E85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D798-9E12-4972-A7D0-D1C9E672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A1BC-A091-4CA1-B312-689AB5A6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3559-5F3D-4DAF-B534-E7E4F409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AC6C-5473-4FDF-BD77-6F9C891E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7F0F-A9E3-4E86-8782-1EF0EC47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79C4-00B3-4353-B736-61A25883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96D3-9AE5-4C79-8756-990B9743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543F-7306-4DC2-85DA-C31C8C16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701E-17AD-462E-ACF7-06B4C90B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04F-3145-465E-B3C0-2CF27AB8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8259B-7DB6-4118-8485-2112D972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25165-1E71-4FA7-983A-33A98B0E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777D-9C4E-4E2F-B2E3-5942AAF5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A4ED-1494-4A65-89B9-5613650A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5B9B-65AE-4B9F-B706-E81D8A1F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B7E-CEC1-4B44-9A0F-0E5EDAA3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A51A-48B3-4E52-8DB6-91664203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6DA-4CED-4EA6-95E5-987C0E1A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A7E7-A44A-4DC4-BF5E-7874CD6B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EB41-1F03-46BE-8DFF-13E2D2BB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FF7F-43A1-437C-A480-F7E41F59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6AFF-F7EF-48EE-AD78-8A8AA9C1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6303-C111-48AD-A64D-879D48E29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7167-997B-4F38-A5A4-D012D19B6F5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9718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"/>
              </a:rPr>
              <a:t>VASCULAR Anatomy 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comic"/>
              </a:rPr>
              <a:t>of 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comic"/>
              </a:rPr>
              <a:t>the upper limb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5866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Dr</a:t>
            </a:r>
            <a:r>
              <a:rPr b="0" lang="en-US" sz="3600" spc="-1" strike="noStrike">
                <a:solidFill>
                  <a:srgbClr val="000000"/>
                </a:solidFill>
                <a:latin typeface="Brush Script MT"/>
              </a:rPr>
              <a:t>.Sanaa Al-shaarawy  </a:t>
            </a: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Dr. Essam Eldin Salam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800600" cy="641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Brachial Art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tent Placeholder 5"/>
          <p:cNvSpPr/>
          <p:nvPr/>
        </p:nvSpPr>
        <p:spPr>
          <a:xfrm>
            <a:off x="457200" y="1143000"/>
            <a:ext cx="3733920" cy="472428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continuation of th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xillary artery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lower border of teres maj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main arterial supply for the 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mina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posite neck of radius by dividing into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adial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&amp; </a:t>
            </a:r>
            <a:r>
              <a:rPr b="0" lang="en-GB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ulnar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rt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上肢神经"/>
          <p:cNvPicPr/>
          <p:nvPr/>
        </p:nvPicPr>
        <p:blipFill>
          <a:blip r:embed="rId1"/>
          <a:stretch/>
        </p:blipFill>
        <p:spPr>
          <a:xfrm>
            <a:off x="4495680" y="228600"/>
            <a:ext cx="3962520" cy="62737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7"/>
          <p:cNvSpPr/>
          <p:nvPr/>
        </p:nvSpPr>
        <p:spPr>
          <a:xfrm>
            <a:off x="6629400" y="43434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lnar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4648320" y="3124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di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7315200" y="2514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achi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Straight Arrow Connector 12"/>
          <p:cNvCxnSpPr/>
          <p:nvPr/>
        </p:nvCxnSpPr>
        <p:spPr>
          <a:xfrm flipH="1" flipV="1">
            <a:off x="6933960" y="2513880"/>
            <a:ext cx="45792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5" name="Straight Arrow Connector 13"/>
          <p:cNvCxnSpPr/>
          <p:nvPr/>
        </p:nvCxnSpPr>
        <p:spPr>
          <a:xfrm flipH="1" flipV="1">
            <a:off x="7772040" y="761400"/>
            <a:ext cx="45792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Straight Arrow Connector 14"/>
          <p:cNvCxnSpPr/>
          <p:nvPr/>
        </p:nvCxnSpPr>
        <p:spPr>
          <a:xfrm flipH="1" flipV="1">
            <a:off x="6171840" y="4190760"/>
            <a:ext cx="45792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7" name="Straight Arrow Connector 17"/>
          <p:cNvCxnSpPr/>
          <p:nvPr/>
        </p:nvCxnSpPr>
        <p:spPr>
          <a:xfrm>
            <a:off x="5409720" y="3657240"/>
            <a:ext cx="38196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8" name="Straight Connector 21"/>
          <p:cNvSpPr/>
          <p:nvPr/>
        </p:nvSpPr>
        <p:spPr>
          <a:xfrm flipH="1" flipV="1">
            <a:off x="5790960" y="2895120"/>
            <a:ext cx="114300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3"/>
          <p:cNvSpPr/>
          <p:nvPr/>
        </p:nvSpPr>
        <p:spPr>
          <a:xfrm>
            <a:off x="8001000" y="990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xill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hial Artery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3160" y="1142640"/>
            <a:ext cx="5181480" cy="518148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eriorly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ossed from above downward by medial cutanous nerve of the forearm, median nerve, and bicipital aponeuro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terioly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ceps, coraco-brachialis and brachial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ally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lic vein, ulnar and median nerv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terally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acbrachialis and biceps musc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5" descr="上肢神经"/>
          <p:cNvPicPr/>
          <p:nvPr/>
        </p:nvPicPr>
        <p:blipFill>
          <a:blip r:embed="rId1"/>
          <a:stretch/>
        </p:blipFill>
        <p:spPr>
          <a:xfrm>
            <a:off x="5791320" y="1523880"/>
            <a:ext cx="2857320" cy="45244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203" name="TextBox 6"/>
          <p:cNvSpPr/>
          <p:nvPr/>
        </p:nvSpPr>
        <p:spPr>
          <a:xfrm>
            <a:off x="579132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racobrachial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5791320" y="20574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ce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5791320" y="26668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rachial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7772400" y="3124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lnar 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1"/>
          <p:cNvSpPr/>
          <p:nvPr/>
        </p:nvSpPr>
        <p:spPr>
          <a:xfrm>
            <a:off x="7543800" y="36576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edian  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Straight Arrow Connector 13"/>
          <p:cNvCxnSpPr/>
          <p:nvPr/>
        </p:nvCxnSpPr>
        <p:spPr>
          <a:xfrm>
            <a:off x="7086240" y="1904760"/>
            <a:ext cx="686520" cy="15300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09" name="Straight Arrow Connector 14"/>
          <p:cNvCxnSpPr/>
          <p:nvPr/>
        </p:nvCxnSpPr>
        <p:spPr>
          <a:xfrm>
            <a:off x="6476760" y="2209680"/>
            <a:ext cx="1067400" cy="15336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10" name="Straight Arrow Connector 16"/>
          <p:cNvCxnSpPr/>
          <p:nvPr/>
        </p:nvCxnSpPr>
        <p:spPr>
          <a:xfrm>
            <a:off x="6705720" y="2895480"/>
            <a:ext cx="762480" cy="7668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11" name="Straight Arrow Connector 19"/>
          <p:cNvCxnSpPr/>
          <p:nvPr/>
        </p:nvCxnSpPr>
        <p:spPr>
          <a:xfrm flipH="1" flipV="1">
            <a:off x="7619400" y="3123720"/>
            <a:ext cx="153000" cy="15480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12" name="Straight Arrow Connector 21"/>
          <p:cNvCxnSpPr/>
          <p:nvPr/>
        </p:nvCxnSpPr>
        <p:spPr>
          <a:xfrm flipH="1" flipV="1">
            <a:off x="7466760" y="3428280"/>
            <a:ext cx="305640" cy="22932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762120" y="1447560"/>
            <a:ext cx="4038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u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rient to humer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unda brachi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ior ulnar collate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rior ulnar collateral.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6" descr="C:\Users\user\Pictures\qq.png"/>
          <p:cNvPicPr/>
          <p:nvPr/>
        </p:nvPicPr>
        <p:blipFill>
          <a:blip r:embed="rId1"/>
          <a:stretch/>
        </p:blipFill>
        <p:spPr>
          <a:xfrm>
            <a:off x="5029200" y="1143000"/>
            <a:ext cx="2193840" cy="5060880"/>
          </a:xfrm>
          <a:prstGeom prst="rect">
            <a:avLst/>
          </a:prstGeom>
          <a:ln w="0">
            <a:noFill/>
          </a:ln>
        </p:spPr>
      </p:pic>
      <p:sp>
        <p:nvSpPr>
          <p:cNvPr id="215" name="Title 4"/>
          <p:cNvSpPr/>
          <p:nvPr/>
        </p:nvSpPr>
        <p:spPr>
          <a:xfrm>
            <a:off x="0" y="304920"/>
            <a:ext cx="91440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hial Artery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Straight Arrow Connector 5"/>
          <p:cNvCxnSpPr/>
          <p:nvPr/>
        </p:nvCxnSpPr>
        <p:spPr>
          <a:xfrm>
            <a:off x="3657240" y="2742840"/>
            <a:ext cx="2439000" cy="15300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17" name="Straight Arrow Connector 6"/>
          <p:cNvCxnSpPr/>
          <p:nvPr/>
        </p:nvCxnSpPr>
        <p:spPr>
          <a:xfrm>
            <a:off x="3276720" y="3352680"/>
            <a:ext cx="3048480" cy="15336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18" name="Straight Arrow Connector 9"/>
          <p:cNvCxnSpPr/>
          <p:nvPr/>
        </p:nvCxnSpPr>
        <p:spPr>
          <a:xfrm>
            <a:off x="4572000" y="4267080"/>
            <a:ext cx="1829520" cy="5342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7" descr="C:\Documents and Settings\Free User\My Documents\My Pictures\ssas.png"/>
          <p:cNvPicPr/>
          <p:nvPr/>
        </p:nvPicPr>
        <p:blipFill>
          <a:blip r:embed="rId1"/>
          <a:stretch/>
        </p:blipFill>
        <p:spPr>
          <a:xfrm>
            <a:off x="5486400" y="609480"/>
            <a:ext cx="1828800" cy="57578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4343400" cy="6411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Ulnar Art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7543800" y="3581280"/>
            <a:ext cx="14032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Ulnar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Straight Arrow Connector 7"/>
          <p:cNvCxnSpPr>
            <a:stCxn id="221" idx="1"/>
          </p:cNvCxnSpPr>
          <p:nvPr/>
        </p:nvCxnSpPr>
        <p:spPr>
          <a:xfrm flipH="1" flipV="1">
            <a:off x="6933600" y="3733560"/>
            <a:ext cx="610200" cy="33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3" name="TextBox 5"/>
          <p:cNvSpPr/>
          <p:nvPr/>
        </p:nvSpPr>
        <p:spPr>
          <a:xfrm>
            <a:off x="7467480" y="5562720"/>
            <a:ext cx="1403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Superficial palmar 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Straight Arrow Connector 13"/>
          <p:cNvCxnSpPr>
            <a:stCxn id="223" idx="1"/>
          </p:cNvCxnSpPr>
          <p:nvPr/>
        </p:nvCxnSpPr>
        <p:spPr>
          <a:xfrm flipH="1">
            <a:off x="6629040" y="5884920"/>
            <a:ext cx="83880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5" name="Content Placeholder 8"/>
          <p:cNvSpPr/>
          <p:nvPr/>
        </p:nvSpPr>
        <p:spPr>
          <a:xfrm>
            <a:off x="228600" y="990720"/>
            <a:ext cx="4800600" cy="51354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rge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two terminal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chial art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ubital fossa at the level of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ck of radi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ends through 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erior compart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fore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s the palm,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in front of the flexor retinaculu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the ulnar ne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orming 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perficial palmer arch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anastomosing with superficial palmer branch of radial artery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7" descr="C:\Users\user\Pictures\xxxx.png"/>
          <p:cNvPicPr/>
          <p:nvPr/>
        </p:nvPicPr>
        <p:blipFill>
          <a:blip r:embed="rId1"/>
          <a:stretch/>
        </p:blipFill>
        <p:spPr>
          <a:xfrm>
            <a:off x="609480" y="304920"/>
            <a:ext cx="2667240" cy="63244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885840" y="1066680"/>
            <a:ext cx="4419720" cy="51055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ular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rent branch for anastomosis around the elbow j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interosseous artery, which gives anterior and posterior interosseous arterie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 to anastomoses around the wrist j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itle 4"/>
          <p:cNvSpPr/>
          <p:nvPr/>
        </p:nvSpPr>
        <p:spPr>
          <a:xfrm>
            <a:off x="3657600" y="228600"/>
            <a:ext cx="50292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nar Artery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11"/>
          <p:cNvCxnSpPr/>
          <p:nvPr/>
        </p:nvCxnSpPr>
        <p:spPr>
          <a:xfrm flipH="1" flipV="1">
            <a:off x="2209320" y="1447560"/>
            <a:ext cx="1829520" cy="38160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30" name="Straight Arrow Connector 12"/>
          <p:cNvCxnSpPr/>
          <p:nvPr/>
        </p:nvCxnSpPr>
        <p:spPr>
          <a:xfrm flipH="1" flipV="1">
            <a:off x="1980720" y="1980360"/>
            <a:ext cx="2057760" cy="12200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31" name="Straight Arrow Connector 24"/>
          <p:cNvCxnSpPr/>
          <p:nvPr/>
        </p:nvCxnSpPr>
        <p:spPr>
          <a:xfrm flipH="1" flipV="1">
            <a:off x="2057040" y="4190760"/>
            <a:ext cx="2286720" cy="76248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7" descr="C:\Documents and Settings\Free User\My Documents\My Pictures\ssas.png"/>
          <p:cNvPicPr/>
          <p:nvPr/>
        </p:nvPicPr>
        <p:blipFill>
          <a:blip r:embed="rId1"/>
          <a:stretch/>
        </p:blipFill>
        <p:spPr>
          <a:xfrm>
            <a:off x="5562720" y="533520"/>
            <a:ext cx="1904760" cy="59976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4495680" cy="641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Radial Art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8"/>
          <p:cNvSpPr/>
          <p:nvPr/>
        </p:nvSpPr>
        <p:spPr>
          <a:xfrm>
            <a:off x="7620120" y="3276720"/>
            <a:ext cx="13716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Radi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Straight Arrow Connector 10"/>
          <p:cNvCxnSpPr>
            <a:stCxn id="234" idx="1"/>
          </p:cNvCxnSpPr>
          <p:nvPr/>
        </p:nvCxnSpPr>
        <p:spPr>
          <a:xfrm flipH="1" flipV="1">
            <a:off x="6323760" y="3351960"/>
            <a:ext cx="1296360" cy="110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Content Placeholder 7"/>
          <p:cNvSpPr/>
          <p:nvPr/>
        </p:nvSpPr>
        <p:spPr>
          <a:xfrm>
            <a:off x="457200" y="914400"/>
            <a:ext cx="4495680" cy="5562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aller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two terminal branches of th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chial art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s in the cubital fossa at the level of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ck of radi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ends downward and lateral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ves the forearm by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nd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ound the lateral aspect of the wrist to reach th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rsu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h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tle 4"/>
          <p:cNvSpPr/>
          <p:nvPr/>
        </p:nvSpPr>
        <p:spPr>
          <a:xfrm>
            <a:off x="304920" y="380880"/>
            <a:ext cx="533376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l Artery: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Content Placeholder 5"/>
          <p:cNvSpPr/>
          <p:nvPr/>
        </p:nvSpPr>
        <p:spPr>
          <a:xfrm>
            <a:off x="762120" y="1447920"/>
            <a:ext cx="4038480" cy="4800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urrent branch for anastomosis around the elbow j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ficial palmar branch , joins the ulnar artery to form the superficial palmar 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Content Placeholder 7" descr="C:\Users\user\Pictures\xxxx.png"/>
          <p:cNvPicPr/>
          <p:nvPr/>
        </p:nvPicPr>
        <p:blipFill>
          <a:blip r:embed="rId1"/>
          <a:stretch/>
        </p:blipFill>
        <p:spPr>
          <a:xfrm>
            <a:off x="5791320" y="533520"/>
            <a:ext cx="2666880" cy="5852880"/>
          </a:xfrm>
          <a:prstGeom prst="rect">
            <a:avLst/>
          </a:prstGeom>
          <a:ln w="0">
            <a:noFill/>
          </a:ln>
        </p:spPr>
      </p:pic>
      <p:cxnSp>
        <p:nvCxnSpPr>
          <p:cNvPr id="240" name="Straight Arrow Connector 8"/>
          <p:cNvCxnSpPr/>
          <p:nvPr/>
        </p:nvCxnSpPr>
        <p:spPr>
          <a:xfrm flipV="1">
            <a:off x="4495320" y="1447560"/>
            <a:ext cx="2515320" cy="76248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41" name="Straight Arrow Connector 10"/>
          <p:cNvCxnSpPr/>
          <p:nvPr/>
        </p:nvCxnSpPr>
        <p:spPr>
          <a:xfrm>
            <a:off x="4267080" y="3962520"/>
            <a:ext cx="2363040" cy="45792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716000" y="333360"/>
            <a:ext cx="3800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astomosis around elbow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-360" y="549000"/>
            <a:ext cx="4140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astomosis occurs between branches of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34160" indent="-43416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Brachial, Radial  and Ulnar arteri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34160" indent="-43416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anches from Brachial Arter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34160" indent="-43416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funda Brachii art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34160" indent="-43416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perior ulnar collateral art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34160" indent="-43416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erior ulnar collateral art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34160" indent="-43416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anches from Ulnar and Radial Arteri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34160" indent="-43416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dial &amp; ulnar recurrent arte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34160" indent="-43416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terior interosseous recurrent art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3416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34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C:\Documents and Settings\Dr.Essam\My Documents\summer courseNew Folder\fig\image526 (1).gif"/>
          <p:cNvPicPr/>
          <p:nvPr/>
        </p:nvPicPr>
        <p:blipFill>
          <a:blip r:embed="rId1"/>
          <a:stretch/>
        </p:blipFill>
        <p:spPr>
          <a:xfrm>
            <a:off x="4202280" y="1542960"/>
            <a:ext cx="4762440" cy="498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45" name="Rectangle 1"/>
          <p:cNvSpPr/>
          <p:nvPr/>
        </p:nvSpPr>
        <p:spPr>
          <a:xfrm>
            <a:off x="7467480" y="2362320"/>
            <a:ext cx="1295640" cy="2286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7467480" y="3505320"/>
            <a:ext cx="1295640" cy="2286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7543800" y="1676520"/>
            <a:ext cx="1219320" cy="2286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4952880" y="4876920"/>
            <a:ext cx="990720" cy="3045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419720" y="5715000"/>
            <a:ext cx="1371600" cy="2286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7467480" y="4724280"/>
            <a:ext cx="1447920" cy="6858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手掌面血管和神经（2）"/>
          <p:cNvPicPr/>
          <p:nvPr/>
        </p:nvPicPr>
        <p:blipFill>
          <a:blip r:embed="rId1"/>
          <a:stretch/>
        </p:blipFill>
        <p:spPr>
          <a:xfrm>
            <a:off x="5105520" y="1295280"/>
            <a:ext cx="3504960" cy="48769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252" name="TextBox 4"/>
          <p:cNvSpPr/>
          <p:nvPr/>
        </p:nvSpPr>
        <p:spPr>
          <a:xfrm>
            <a:off x="7924680" y="1523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Ulnar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Straight Arrow Connector 7"/>
          <p:cNvCxnSpPr/>
          <p:nvPr/>
        </p:nvCxnSpPr>
        <p:spPr>
          <a:xfrm flipH="1">
            <a:off x="7391160" y="2133720"/>
            <a:ext cx="762480" cy="3052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254" name="Content Placeholder 9"/>
          <p:cNvSpPr/>
          <p:nvPr/>
        </p:nvSpPr>
        <p:spPr>
          <a:xfrm>
            <a:off x="304920" y="1143000"/>
            <a:ext cx="4647960" cy="5181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lnar art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s the h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ior to the flexor retinaculu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lateral side of the ulnar nerve and pisiform b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s a deep bran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as the superficial palmar 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itle 4"/>
          <p:cNvSpPr/>
          <p:nvPr/>
        </p:nvSpPr>
        <p:spPr>
          <a:xfrm>
            <a:off x="0" y="228600"/>
            <a:ext cx="91440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es of the Pal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6934320" y="2286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5029200" y="4800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Superficial palmar 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Straight Arrow Connector 18"/>
          <p:cNvCxnSpPr/>
          <p:nvPr/>
        </p:nvCxnSpPr>
        <p:spPr>
          <a:xfrm flipV="1">
            <a:off x="6018840" y="3123360"/>
            <a:ext cx="1067400" cy="175356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8" descr="C:\Users\user\Pictures\aqaq.png"/>
          <p:cNvPicPr/>
          <p:nvPr/>
        </p:nvPicPr>
        <p:blipFill>
          <a:blip r:embed="rId1"/>
          <a:stretch/>
        </p:blipFill>
        <p:spPr>
          <a:xfrm>
            <a:off x="4952880" y="1143000"/>
            <a:ext cx="3557880" cy="4649760"/>
          </a:xfrm>
          <a:prstGeom prst="rect">
            <a:avLst/>
          </a:prstGeom>
          <a:ln w="0">
            <a:noFill/>
          </a:ln>
        </p:spPr>
      </p:pic>
      <p:cxnSp>
        <p:nvCxnSpPr>
          <p:cNvPr id="260" name="Straight Arrow Connector 10"/>
          <p:cNvCxnSpPr/>
          <p:nvPr/>
        </p:nvCxnSpPr>
        <p:spPr>
          <a:xfrm flipH="1">
            <a:off x="7314480" y="2286000"/>
            <a:ext cx="686520" cy="1448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1" name="TextBox 11"/>
          <p:cNvSpPr/>
          <p:nvPr/>
        </p:nvSpPr>
        <p:spPr>
          <a:xfrm>
            <a:off x="7010280" y="1905120"/>
            <a:ext cx="14479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Radi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Content Placeholder 10"/>
          <p:cNvSpPr/>
          <p:nvPr/>
        </p:nvSpPr>
        <p:spPr>
          <a:xfrm>
            <a:off x="457200" y="1143000"/>
            <a:ext cx="4343400" cy="46483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al arte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ves dorsum of the hand by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rning forwar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proximal ends of 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nd 2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etacarp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nes and two heads of th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rsal inerossous mus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entering the palm it continues as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ep palmar 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ives; arteria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alis indeci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rteria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nceps polic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itle 4"/>
          <p:cNvSpPr/>
          <p:nvPr/>
        </p:nvSpPr>
        <p:spPr>
          <a:xfrm>
            <a:off x="0" y="228600"/>
            <a:ext cx="91440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es of the Pal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Straight Arrow Connector 16"/>
          <p:cNvCxnSpPr/>
          <p:nvPr/>
        </p:nvCxnSpPr>
        <p:spPr>
          <a:xfrm flipH="1" flipV="1">
            <a:off x="7466760" y="4266720"/>
            <a:ext cx="381960" cy="1448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Straight Arrow Connector 19"/>
          <p:cNvCxnSpPr/>
          <p:nvPr/>
        </p:nvCxnSpPr>
        <p:spPr>
          <a:xfrm flipH="1" flipV="1">
            <a:off x="7695720" y="4114080"/>
            <a:ext cx="153360" cy="1677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6" name="TextBox 11"/>
          <p:cNvSpPr/>
          <p:nvPr/>
        </p:nvSpPr>
        <p:spPr>
          <a:xfrm>
            <a:off x="6629400" y="5867280"/>
            <a:ext cx="22860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s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dorsal interosseous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end of the lecture, the students should be able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origin of the vascular supply for the upper lim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main arteries and their branches of the arm, forearm &amp; hand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vascular arches for the h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superficial and deep veins of the upper lim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 of some related clinical poi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4876920" cy="641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uperficial Palmar 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tent Placeholder 11"/>
          <p:cNvSpPr/>
          <p:nvPr/>
        </p:nvSpPr>
        <p:spPr>
          <a:xfrm>
            <a:off x="380880" y="1143000"/>
            <a:ext cx="4267440" cy="51814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direct continuation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lnar art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 it curves laterally behind the palmar aponeur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ompleted b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nch from the radial art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s approximately at the level of the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istal border of the extended thum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s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gital arter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its convexity to supply the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C:\Users\user\Pictures\def.png"/>
          <p:cNvPicPr/>
          <p:nvPr/>
        </p:nvPicPr>
        <p:blipFill>
          <a:blip r:embed="rId1"/>
          <a:stretch/>
        </p:blipFill>
        <p:spPr>
          <a:xfrm>
            <a:off x="5105520" y="762120"/>
            <a:ext cx="3352680" cy="5162400"/>
          </a:xfrm>
          <a:prstGeom prst="rect">
            <a:avLst/>
          </a:prstGeom>
          <a:ln w="0">
            <a:noFill/>
          </a:ln>
        </p:spPr>
      </p:pic>
      <p:sp>
        <p:nvSpPr>
          <p:cNvPr id="270" name="TextBox 7"/>
          <p:cNvSpPr/>
          <p:nvPr/>
        </p:nvSpPr>
        <p:spPr>
          <a:xfrm>
            <a:off x="5105520" y="53341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adial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5105520" y="1905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inceps pollicis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9"/>
          <p:cNvSpPr/>
          <p:nvPr/>
        </p:nvSpPr>
        <p:spPr>
          <a:xfrm>
            <a:off x="5105520" y="990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adialis indices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0"/>
          <p:cNvSpPr/>
          <p:nvPr/>
        </p:nvSpPr>
        <p:spPr>
          <a:xfrm>
            <a:off x="769608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lnar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1"/>
          <p:cNvSpPr/>
          <p:nvPr/>
        </p:nvSpPr>
        <p:spPr>
          <a:xfrm>
            <a:off x="8381880" y="25909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igital art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13"/>
          <p:cNvCxnSpPr/>
          <p:nvPr/>
        </p:nvCxnSpPr>
        <p:spPr>
          <a:xfrm>
            <a:off x="4952880" y="3809880"/>
            <a:ext cx="1829520" cy="7668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6" name="Straight Arrow Connector 15"/>
          <p:cNvCxnSpPr/>
          <p:nvPr/>
        </p:nvCxnSpPr>
        <p:spPr>
          <a:xfrm flipH="1">
            <a:off x="6780960" y="2971800"/>
            <a:ext cx="1677240" cy="38160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7" name="Straight Arrow Connector 16"/>
          <p:cNvCxnSpPr/>
          <p:nvPr/>
        </p:nvCxnSpPr>
        <p:spPr>
          <a:xfrm flipH="1">
            <a:off x="7162560" y="2971800"/>
            <a:ext cx="1296000" cy="53424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8" name="Straight Arrow Connector 17"/>
          <p:cNvCxnSpPr/>
          <p:nvPr/>
        </p:nvCxnSpPr>
        <p:spPr>
          <a:xfrm flipH="1">
            <a:off x="7390800" y="2970720"/>
            <a:ext cx="1067400" cy="68652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9" name="Straight Arrow Connector 22"/>
          <p:cNvCxnSpPr/>
          <p:nvPr/>
        </p:nvCxnSpPr>
        <p:spPr>
          <a:xfrm>
            <a:off x="6095520" y="5562360"/>
            <a:ext cx="381960" cy="15300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80" name="Straight Arrow Connector 23"/>
          <p:cNvCxnSpPr/>
          <p:nvPr/>
        </p:nvCxnSpPr>
        <p:spPr>
          <a:xfrm flipH="1">
            <a:off x="7238520" y="5257800"/>
            <a:ext cx="534240" cy="7668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81" name="Straight Connector 32"/>
          <p:cNvSpPr/>
          <p:nvPr/>
        </p:nvSpPr>
        <p:spPr>
          <a:xfrm flipH="1" flipV="1">
            <a:off x="4723920" y="1371240"/>
            <a:ext cx="228600" cy="2438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Straight Arrow Connector 33"/>
          <p:cNvCxnSpPr/>
          <p:nvPr/>
        </p:nvCxnSpPr>
        <p:spPr>
          <a:xfrm flipH="1">
            <a:off x="5638320" y="2514600"/>
            <a:ext cx="153360" cy="83880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83" name="Straight Arrow Connector 34"/>
          <p:cNvCxnSpPr/>
          <p:nvPr/>
        </p:nvCxnSpPr>
        <p:spPr>
          <a:xfrm>
            <a:off x="6018840" y="1600200"/>
            <a:ext cx="229320" cy="99144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Content Placeholder 12"/>
          <p:cNvSpPr/>
          <p:nvPr/>
        </p:nvSpPr>
        <p:spPr>
          <a:xfrm>
            <a:off x="228600" y="228600"/>
            <a:ext cx="4952880" cy="6172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continuation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al arte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it curves medially beneath long flexor tendons , in front of the metacarpal bones and interosseous mus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ompleted on the medial side b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ep branch of ulnar art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s at a level of the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roximal border of extended thum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ends bran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perior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hare in anastomosis around the wrist joint 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erior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join branches of the superficial palmar arch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6" descr="C:\Users\user\Pictures\ssaa.png"/>
          <p:cNvPicPr/>
          <p:nvPr/>
        </p:nvPicPr>
        <p:blipFill>
          <a:blip r:embed="rId1"/>
          <a:stretch/>
        </p:blipFill>
        <p:spPr>
          <a:xfrm>
            <a:off x="5334120" y="990720"/>
            <a:ext cx="3611520" cy="5181480"/>
          </a:xfrm>
          <a:prstGeom prst="rect">
            <a:avLst/>
          </a:prstGeom>
          <a:ln w="0">
            <a:noFill/>
          </a:ln>
        </p:spPr>
      </p:pic>
      <p:sp>
        <p:nvSpPr>
          <p:cNvPr id="286" name="Title 1"/>
          <p:cNvSpPr/>
          <p:nvPr/>
        </p:nvSpPr>
        <p:spPr>
          <a:xfrm>
            <a:off x="5181480" y="304920"/>
            <a:ext cx="3962520" cy="6411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Deep Palmar 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5638680" y="5562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adial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0"/>
          <p:cNvSpPr/>
          <p:nvPr/>
        </p:nvSpPr>
        <p:spPr>
          <a:xfrm>
            <a:off x="8229600" y="4800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lnar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traight Arrow Connector 13"/>
          <p:cNvCxnSpPr/>
          <p:nvPr/>
        </p:nvCxnSpPr>
        <p:spPr>
          <a:xfrm>
            <a:off x="6019920" y="1066680"/>
            <a:ext cx="1219680" cy="243900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90" name="Straight Arrow Connector 14"/>
          <p:cNvCxnSpPr/>
          <p:nvPr/>
        </p:nvCxnSpPr>
        <p:spPr>
          <a:xfrm flipV="1">
            <a:off x="6705720" y="5486400"/>
            <a:ext cx="381600" cy="7668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91" name="Straight Arrow Connector 15"/>
          <p:cNvCxnSpPr>
            <a:stCxn id="288" idx="1"/>
          </p:cNvCxnSpPr>
          <p:nvPr/>
        </p:nvCxnSpPr>
        <p:spPr>
          <a:xfrm flipH="1" flipV="1">
            <a:off x="7923960" y="5104800"/>
            <a:ext cx="305640" cy="1980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:\Users\user\Pictures\428px-Gray1237_svg.png"/>
          <p:cNvPicPr/>
          <p:nvPr/>
        </p:nvPicPr>
        <p:blipFill>
          <a:blip r:embed="rId1"/>
          <a:stretch/>
        </p:blipFill>
        <p:spPr>
          <a:xfrm>
            <a:off x="3276720" y="228600"/>
            <a:ext cx="4572000" cy="639756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293" name="Rectangle 4"/>
          <p:cNvSpPr/>
          <p:nvPr/>
        </p:nvSpPr>
        <p:spPr>
          <a:xfrm>
            <a:off x="380880" y="2133720"/>
            <a:ext cx="2590920" cy="22269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he superficial palmar arch is more distal than the deep palmar 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" descr=""/>
          <p:cNvPicPr/>
          <p:nvPr/>
        </p:nvPicPr>
        <p:blipFill>
          <a:blip r:embed="rId1"/>
          <a:srcRect l="1215" t="1215" r="2379" b="8414"/>
          <a:stretch/>
        </p:blipFill>
        <p:spPr>
          <a:xfrm>
            <a:off x="4572000" y="1600200"/>
            <a:ext cx="4145040" cy="41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295" name="Title 1"/>
          <p:cNvSpPr/>
          <p:nvPr/>
        </p:nvSpPr>
        <p:spPr>
          <a:xfrm>
            <a:off x="0" y="228600"/>
            <a:ext cx="9144000" cy="71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 Rounded MT Bold"/>
                <a:ea typeface="SimSun"/>
              </a:rPr>
              <a:t>Veins of the Upper Li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142640"/>
            <a:ext cx="3962520" cy="5257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eins of the upper limb are divided into two set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fi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sets anastomose frequently with each oth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ficial vei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placed immediately beneath the skin, in the superficial fasc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 vei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pany the arteries, and constitute the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venæ comitant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ose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228600" y="1752480"/>
            <a:ext cx="4648320" cy="46785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orsal digital ve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rain into  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orsal metacarpal ve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unite to form a 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orsal venous arch or net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rsal venous network lies on the dorsum of the hand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e subcutanous tiss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ximal to the  metacarpophalangeal j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ins into the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epha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in laterally, and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asilic</a:t>
            </a: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in medial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 Rounded MT Bold"/>
                <a:ea typeface="SimSun"/>
              </a:rPr>
              <a:t>Superficial Veins of the Upper Lim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1828800" y="1066680"/>
            <a:ext cx="5603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orsal Venous Arch (networ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3" descr="C:\Users\user\Documents\Downloads\image573.gif"/>
          <p:cNvPicPr/>
          <p:nvPr/>
        </p:nvPicPr>
        <p:blipFill>
          <a:blip r:embed="rId1"/>
          <a:stretch/>
        </p:blipFill>
        <p:spPr>
          <a:xfrm>
            <a:off x="5105520" y="1752480"/>
            <a:ext cx="3429000" cy="46483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304560" y="990360"/>
            <a:ext cx="2895480" cy="38098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rises from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lateral e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of the dorsal venous arch of han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scends on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radial sid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of the forearm to the elbow and continues up the arm in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deltopectoral groo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Pierces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clavipectoral fascia</a:t>
            </a:r>
            <a:r>
              <a:rPr b="0" lang="en-US" sz="2000" spc="-1" strike="noStrike">
                <a:solidFill>
                  <a:srgbClr val="4f81bd"/>
                </a:solidFill>
                <a:latin typeface="Times New Roman"/>
                <a:ea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to drain into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axillary vein</a:t>
            </a:r>
            <a:r>
              <a:rPr b="0" lang="en-US" sz="2000" spc="-1" strike="noStrike">
                <a:solidFill>
                  <a:srgbClr val="4f81bd"/>
                </a:solidFill>
                <a:latin typeface="Times New Roman"/>
                <a:ea typeface="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2" descr="C:\Users\user\Pictures\vvv.png"/>
          <p:cNvPicPr/>
          <p:nvPr/>
        </p:nvPicPr>
        <p:blipFill>
          <a:blip r:embed="rId1"/>
          <a:stretch/>
        </p:blipFill>
        <p:spPr>
          <a:xfrm>
            <a:off x="3352680" y="1143000"/>
            <a:ext cx="2430720" cy="365760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380880" y="380880"/>
            <a:ext cx="2743200" cy="53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SimSun"/>
              </a:rPr>
              <a:t>Cephalic Ve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Content Placeholder 2"/>
          <p:cNvSpPr/>
          <p:nvPr/>
        </p:nvSpPr>
        <p:spPr>
          <a:xfrm>
            <a:off x="5943600" y="1066680"/>
            <a:ext cx="2895480" cy="37339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rises from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medial side</a:t>
            </a:r>
            <a:r>
              <a:rPr b="0" lang="en-US" sz="2000" spc="-1" strike="noStrike">
                <a:solidFill>
                  <a:srgbClr val="4f81bd"/>
                </a:solidFill>
                <a:latin typeface="Times New Roman"/>
                <a:ea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of the dorsal venous arch of h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scends on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ulnar side</a:t>
            </a:r>
            <a:r>
              <a:rPr b="0" lang="en-US" sz="2000" spc="-1" strike="noStrike">
                <a:solidFill>
                  <a:srgbClr val="4f81bd"/>
                </a:solidFill>
                <a:latin typeface="Times New Roman"/>
                <a:ea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of forearm to the elbow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in the  middle of the arm, it pierces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deep fasci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nd joins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brachial vein </a:t>
            </a:r>
            <a:r>
              <a:rPr b="0" lang="en-US" sz="2000" spc="-1" strike="noStrike">
                <a:solidFill>
                  <a:srgbClr val="00b0f0"/>
                </a:solidFill>
                <a:latin typeface="Times New Roman"/>
                <a:ea typeface="SimSun"/>
              </a:rPr>
              <a:t>or axillary v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1295280" y="5029200"/>
            <a:ext cx="1524240" cy="1245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SimSun"/>
              </a:rPr>
              <a:t>Median Cubital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SimSun"/>
              </a:rPr>
              <a:t>Ve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6095880" y="457200"/>
            <a:ext cx="2590920" cy="53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SimSun"/>
              </a:rPr>
              <a:t>Basilic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SimSu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SimSun"/>
              </a:rPr>
              <a:t>Ve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tent Placeholder 2"/>
          <p:cNvSpPr/>
          <p:nvPr/>
        </p:nvSpPr>
        <p:spPr>
          <a:xfrm>
            <a:off x="2819520" y="4952880"/>
            <a:ext cx="3886200" cy="1371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Links cephalic vein and basilic vein in the cubital fos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Is a frequent site for venipun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228600" y="1218960"/>
            <a:ext cx="7315200" cy="52578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ccompany the arteries of the same region and bear similar na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SimSun"/>
              </a:rPr>
              <a:t>Venae commitan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: They are generally arranged in pairs, and are situated one on either side of the corresponding artery, and connected at intervals by short transverse branch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uperficial and deep palmar arterial arches are each accompanied by a pair of venæ comitantes which constitut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erfi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eep palmar venous arch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 and receive the veins corresponding to the branches of the arterial arch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eep veins of the forea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 are the venæ comitantes of the radial and ulnar ve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 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SimSun"/>
              </a:rPr>
              <a:t>brachial ve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 are placed one on either side of the brachial arte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itle 1"/>
          <p:cNvSpPr/>
          <p:nvPr/>
        </p:nvSpPr>
        <p:spPr>
          <a:xfrm>
            <a:off x="0" y="304920"/>
            <a:ext cx="9144000" cy="715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 Rounded MT Bold"/>
                <a:ea typeface="SimSun"/>
              </a:rPr>
              <a:t>Deep Veins of the Upper Li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ClipArt Placeholder 7" descr="C:\Documents and Settings\Free User\My Documents\My Pictures\ssas.png"/>
          <p:cNvPicPr/>
          <p:nvPr/>
        </p:nvPicPr>
        <p:blipFill>
          <a:blip r:embed="rId1"/>
          <a:stretch/>
        </p:blipFill>
        <p:spPr>
          <a:xfrm>
            <a:off x="7543800" y="1523880"/>
            <a:ext cx="1438200" cy="4530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5257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xillary ve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eg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t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wer border of the Teres maj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 the continuation of the basilic ve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er border of the first r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the subclavian ve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s the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rachial vei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, close to its termination, the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ephalic ve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ubclavian ve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continuation of the axillary ve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s from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er border of the first rib to the sternal end of the clav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it unites with the internal jugular to form the </a:t>
            </a:r>
            <a:r>
              <a:rPr b="0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rachiocephalic (innominate) ve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2" descr="C:\Users\user\Documents\Downloads\576.gif"/>
          <p:cNvPicPr/>
          <p:nvPr/>
        </p:nvPicPr>
        <p:blipFill>
          <a:blip r:embed="rId1"/>
          <a:stretch/>
        </p:blipFill>
        <p:spPr>
          <a:xfrm>
            <a:off x="5486400" y="533520"/>
            <a:ext cx="3214800" cy="25905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313" name="Picture 4" descr="http://l.yimg.com/a/i/edu/ref/ga/l/577.gif"/>
          <p:cNvPicPr/>
          <p:nvPr/>
        </p:nvPicPr>
        <p:blipFill>
          <a:blip r:embed="rId2"/>
          <a:srcRect l="5476" t="0" r="0" b="68004"/>
          <a:stretch/>
        </p:blipFill>
        <p:spPr>
          <a:xfrm>
            <a:off x="5340240" y="3352680"/>
            <a:ext cx="3635640" cy="26672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18440" cy="102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atomy o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silic and cephalic vein catheter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3308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silic ve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the vein of choice for central venous catheteriz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the cubital fossa until reaching the axillary vein it increases in diameter and lies in direct line with the axillary vei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ephalic ve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se not increase in size as it ascends in the arm, and frequently divides into small branche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it joins the axillary vein at right angle ,so it is difficult to maneuver the catheter around this angl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2" descr="C:\Documents and Settings\Dr.Essam\My Documents\summer courseNew Folder\2014\Gray576.png"/>
          <p:cNvPicPr/>
          <p:nvPr/>
        </p:nvPicPr>
        <p:blipFill>
          <a:blip r:embed="rId1"/>
          <a:stretch/>
        </p:blipFill>
        <p:spPr>
          <a:xfrm>
            <a:off x="4788000" y="1685880"/>
            <a:ext cx="4259160" cy="3433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85988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TERIAL INNERVATION AND RAYNAUD’S DISEA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322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Raynaud’s diseas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vasospastic diseases involves digital arte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require cervicodorsal perganglionic sympathectomy to prevent necrosis of the fin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2" descr="C:\Documents and Settings\Dr.Essam\My Documents\summer courseNew Folder\2014\raynauds3.bmp"/>
          <p:cNvPicPr/>
          <p:nvPr/>
        </p:nvPicPr>
        <p:blipFill>
          <a:blip r:embed="rId1"/>
          <a:srcRect l="0" t="0" r="5619" b="14852"/>
          <a:stretch/>
        </p:blipFill>
        <p:spPr>
          <a:xfrm>
            <a:off x="3780000" y="981000"/>
            <a:ext cx="4824360" cy="352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20" name="Picture 3" descr="C:\Documents and Settings\Dr.Essam\My Documents\summer courseNew Folder\2014\images (1).jpg"/>
          <p:cNvPicPr/>
          <p:nvPr/>
        </p:nvPicPr>
        <p:blipFill>
          <a:blip r:embed="rId2"/>
          <a:stretch/>
        </p:blipFill>
        <p:spPr>
          <a:xfrm>
            <a:off x="4788000" y="4581360"/>
            <a:ext cx="3247920" cy="208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802320" cy="5181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</a:t>
            </a:r>
            <a:r>
              <a:rPr b="1" lang="en-US" sz="4000" spc="-1" strike="noStrike">
                <a:solidFill>
                  <a:srgbClr val="ff0000"/>
                </a:solidFill>
                <a:latin typeface="Arial Rounded MT Bold"/>
                <a:ea typeface="Times New Roman"/>
              </a:rPr>
              <a:t>Arteries Of The Upper Limb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451160" y="2057400"/>
            <a:ext cx="1374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xillary 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9"/>
          <p:cNvSpPr/>
          <p:nvPr/>
        </p:nvSpPr>
        <p:spPr>
          <a:xfrm>
            <a:off x="2895480" y="1143000"/>
            <a:ext cx="1447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subclav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0"/>
          <p:cNvSpPr/>
          <p:nvPr/>
        </p:nvSpPr>
        <p:spPr>
          <a:xfrm>
            <a:off x="7086600" y="1143000"/>
            <a:ext cx="1371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subclav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9"/>
          <p:cNvSpPr/>
          <p:nvPr/>
        </p:nvSpPr>
        <p:spPr>
          <a:xfrm>
            <a:off x="1600200" y="2895480"/>
            <a:ext cx="1255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chial 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4"/>
          <p:cNvSpPr/>
          <p:nvPr/>
        </p:nvSpPr>
        <p:spPr>
          <a:xfrm>
            <a:off x="4419720" y="4495680"/>
            <a:ext cx="609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dial 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5"/>
          <p:cNvSpPr/>
          <p:nvPr/>
        </p:nvSpPr>
        <p:spPr>
          <a:xfrm>
            <a:off x="1828800" y="4038480"/>
            <a:ext cx="609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ln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1905120" y="5410080"/>
            <a:ext cx="761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lmar ar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1"/>
          <p:cNvCxnSpPr/>
          <p:nvPr/>
        </p:nvCxnSpPr>
        <p:spPr>
          <a:xfrm flipH="1">
            <a:off x="6019200" y="1447920"/>
            <a:ext cx="114372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>
            <a:off x="2742840" y="2209320"/>
            <a:ext cx="20577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Straight Arrow Connector 13"/>
          <p:cNvCxnSpPr/>
          <p:nvPr/>
        </p:nvCxnSpPr>
        <p:spPr>
          <a:xfrm flipV="1">
            <a:off x="2895120" y="2971440"/>
            <a:ext cx="133596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Straight Arrow Connector 14"/>
          <p:cNvCxnSpPr/>
          <p:nvPr/>
        </p:nvCxnSpPr>
        <p:spPr>
          <a:xfrm flipH="1" flipV="1">
            <a:off x="3962160" y="4647960"/>
            <a:ext cx="3816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Straight Arrow Connector 15"/>
          <p:cNvCxnSpPr/>
          <p:nvPr/>
        </p:nvCxnSpPr>
        <p:spPr>
          <a:xfrm>
            <a:off x="2362320" y="4343400"/>
            <a:ext cx="1372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Straight Arrow Connector 16"/>
          <p:cNvCxnSpPr/>
          <p:nvPr/>
        </p:nvCxnSpPr>
        <p:spPr>
          <a:xfrm>
            <a:off x="4190760" y="1371600"/>
            <a:ext cx="99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Straight Arrow Connector 25"/>
          <p:cNvCxnSpPr/>
          <p:nvPr/>
        </p:nvCxnSpPr>
        <p:spPr>
          <a:xfrm>
            <a:off x="2666520" y="5562720"/>
            <a:ext cx="8391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533520" y="2590920"/>
            <a:ext cx="8229600" cy="121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"/>
                <a:ea typeface="Arial"/>
              </a:rPr>
              <a:t>Thank you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641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  <a:ea typeface="Times New Roman"/>
              </a:rPr>
              <a:t>The Subclavian Arter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66724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gh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rt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tes from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chiocephalic arte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f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tes from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ch of the  aort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5"/>
          <p:cNvSpPr/>
          <p:nvPr/>
        </p:nvSpPr>
        <p:spPr>
          <a:xfrm>
            <a:off x="5867280" y="3733920"/>
            <a:ext cx="289584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inues a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xillary art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lateral border of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6" descr="C:\Users\user\Documents\Downloads\79222827a656c75e11007cd3811a18cf.png"/>
          <p:cNvPicPr/>
          <p:nvPr/>
        </p:nvPicPr>
        <p:blipFill>
          <a:blip r:embed="rId1"/>
          <a:stretch/>
        </p:blipFill>
        <p:spPr>
          <a:xfrm>
            <a:off x="3200400" y="2209680"/>
            <a:ext cx="2571840" cy="317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Picture 5" descr="腋动脉"/>
          <p:cNvPicPr/>
          <p:nvPr/>
        </p:nvPicPr>
        <p:blipFill>
          <a:blip r:embed="rId2"/>
          <a:stretch/>
        </p:blipFill>
        <p:spPr>
          <a:xfrm>
            <a:off x="5867280" y="990720"/>
            <a:ext cx="289872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Straight Connector 39"/>
          <p:cNvSpPr/>
          <p:nvPr/>
        </p:nvSpPr>
        <p:spPr>
          <a:xfrm flipH="1" flipV="1">
            <a:off x="7619760" y="1218960"/>
            <a:ext cx="685800" cy="99036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"/>
          <p:cNvSpPr/>
          <p:nvPr/>
        </p:nvSpPr>
        <p:spPr>
          <a:xfrm>
            <a:off x="3200400" y="2895480"/>
            <a:ext cx="83808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5105520" y="2971800"/>
            <a:ext cx="60948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2280" y="914040"/>
            <a:ext cx="4724640" cy="56386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s at the lateral border of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b as continuation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clavian arte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s 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chial art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lower border of teres major mus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losely related to the cords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chial plex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ir bran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enclosed withi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xillary shea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rossed anteriorly by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toralis min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le, and is divided into three parts; 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 baseline="30000">
                <a:solidFill>
                  <a:srgbClr val="00b0f0"/>
                </a:solidFill>
                <a:latin typeface="Times New Roman"/>
                <a:ea typeface="Times New Roman"/>
              </a:rPr>
              <a:t>st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2</a:t>
            </a:r>
            <a:r>
              <a:rPr b="1" lang="en-US" sz="2400" spc="-1" strike="noStrike" baseline="30000">
                <a:solidFill>
                  <a:srgbClr val="00b0f0"/>
                </a:solidFill>
                <a:latin typeface="Times New Roman"/>
                <a:ea typeface="Times New Roman"/>
              </a:rPr>
              <a:t>nd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&amp; 3</a:t>
            </a:r>
            <a:r>
              <a:rPr b="1" lang="en-US" sz="2400" spc="-1" strike="noStrike" baseline="30000">
                <a:solidFill>
                  <a:srgbClr val="00b0f0"/>
                </a:solidFill>
                <a:latin typeface="Times New Roman"/>
                <a:ea typeface="Times New Roman"/>
              </a:rPr>
              <a:t>rd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  <a:ea typeface="SimSun-ExtB"/>
              </a:rPr>
              <a:t>The Axillary Arter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腋动脉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7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120" name="Straight Arrow Connector 15"/>
          <p:cNvCxnSpPr/>
          <p:nvPr/>
        </p:nvCxnSpPr>
        <p:spPr>
          <a:xfrm flipH="1">
            <a:off x="8305200" y="1828800"/>
            <a:ext cx="229320" cy="774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Straight Arrow Connector 19"/>
          <p:cNvCxnSpPr/>
          <p:nvPr/>
        </p:nvCxnSpPr>
        <p:spPr>
          <a:xfrm flipH="1" flipV="1">
            <a:off x="7009920" y="3352320"/>
            <a:ext cx="915120" cy="2363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Straight Arrow Connector 21"/>
          <p:cNvCxnSpPr/>
          <p:nvPr/>
        </p:nvCxnSpPr>
        <p:spPr>
          <a:xfrm flipH="1" flipV="1">
            <a:off x="6019560" y="3962160"/>
            <a:ext cx="305280" cy="1753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TextBox 7"/>
          <p:cNvSpPr/>
          <p:nvPr/>
        </p:nvSpPr>
        <p:spPr>
          <a:xfrm>
            <a:off x="7086600" y="1447920"/>
            <a:ext cx="19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Subclavian arte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7467480" y="5715000"/>
            <a:ext cx="15242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Axill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5105520" y="5715000"/>
            <a:ext cx="1676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Brachi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8"/>
          <p:cNvSpPr/>
          <p:nvPr/>
        </p:nvSpPr>
        <p:spPr>
          <a:xfrm flipH="1" flipV="1">
            <a:off x="7162920" y="1981080"/>
            <a:ext cx="914400" cy="137160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23"/>
          <p:cNvSpPr/>
          <p:nvPr/>
        </p:nvSpPr>
        <p:spPr>
          <a:xfrm flipH="1" flipV="1">
            <a:off x="5791320" y="2895480"/>
            <a:ext cx="914400" cy="137160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腋动脉1"/>
          <p:cNvPicPr/>
          <p:nvPr/>
        </p:nvPicPr>
        <p:blipFill>
          <a:blip r:embed="rId1"/>
          <a:stretch/>
        </p:blipFill>
        <p:spPr>
          <a:xfrm>
            <a:off x="4952880" y="762120"/>
            <a:ext cx="3810240" cy="49910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8"/>
          <p:cNvSpPr/>
          <p:nvPr/>
        </p:nvSpPr>
        <p:spPr>
          <a:xfrm>
            <a:off x="6248520" y="1600200"/>
            <a:ext cx="990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st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6553080" y="32004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ctoralis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571500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e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 rot="18462000">
            <a:off x="7132680" y="1279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eft Bracket 12"/>
          <p:cNvSpPr/>
          <p:nvPr/>
        </p:nvSpPr>
        <p:spPr>
          <a:xfrm rot="3187800">
            <a:off x="6930720" y="1644480"/>
            <a:ext cx="44280" cy="892440"/>
          </a:xfrm>
          <a:custGeom>
            <a:avLst/>
            <a:gdLst>
              <a:gd name="textAreaLeft" fmla="*/ 12960 w 44280"/>
              <a:gd name="textAreaRight" fmla="*/ 44640 w 44280"/>
              <a:gd name="textAreaTop" fmla="*/ 1800 h 892440"/>
              <a:gd name="textAreaBottom" fmla="*/ 890640 h 89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"/>
                  <a:pt x="0" y="90"/>
                </a:cubicBezTo>
                <a:lnTo>
                  <a:pt x="0" y="21510"/>
                </a:lnTo>
                <a:cubicBezTo>
                  <a:pt x="0" y="21555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eft Bracket 14"/>
          <p:cNvSpPr/>
          <p:nvPr/>
        </p:nvSpPr>
        <p:spPr>
          <a:xfrm rot="1229400">
            <a:off x="5746680" y="2652480"/>
            <a:ext cx="119160" cy="2209680"/>
          </a:xfrm>
          <a:custGeom>
            <a:avLst/>
            <a:gdLst>
              <a:gd name="textAreaLeft" fmla="*/ 34920 w 119160"/>
              <a:gd name="textAreaRight" fmla="*/ 119520 w 119160"/>
              <a:gd name="textAreaTop" fmla="*/ 4680 h 2209680"/>
              <a:gd name="textAreaBottom" fmla="*/ 220500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"/>
                  <a:pt x="0" y="97"/>
                </a:cubicBezTo>
                <a:lnTo>
                  <a:pt x="0" y="21503"/>
                </a:lnTo>
                <a:cubicBezTo>
                  <a:pt x="0" y="21552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ket 15"/>
          <p:cNvSpPr/>
          <p:nvPr/>
        </p:nvSpPr>
        <p:spPr>
          <a:xfrm rot="3187800">
            <a:off x="6382440" y="2389680"/>
            <a:ext cx="72720" cy="388800"/>
          </a:xfrm>
          <a:custGeom>
            <a:avLst/>
            <a:gdLst>
              <a:gd name="textAreaLeft" fmla="*/ 21240 w 72720"/>
              <a:gd name="textAreaRight" fmla="*/ 73080 w 72720"/>
              <a:gd name="textAreaTop" fmla="*/ 2880 h 388800"/>
              <a:gd name="textAreaBottom" fmla="*/ 385920 h 38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69"/>
                  <a:pt x="0" y="338"/>
                </a:cubicBezTo>
                <a:lnTo>
                  <a:pt x="0" y="21262"/>
                </a:lnTo>
                <a:cubicBezTo>
                  <a:pt x="0" y="21431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5410080" y="1905120"/>
            <a:ext cx="10670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nd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4800600" y="3048120"/>
            <a:ext cx="10666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rd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tent Placeholder 5"/>
          <p:cNvSpPr/>
          <p:nvPr/>
        </p:nvSpPr>
        <p:spPr>
          <a:xfrm>
            <a:off x="304920" y="990720"/>
            <a:ext cx="4419360" cy="518148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s from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teral border of 1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r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pper border of the pectoralis min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eriol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pectoralis major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terall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the cords of the brachial plex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ives; ONE branch: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ghest thoracic ar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1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 of the axillary ar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1"/>
          <p:cNvSpPr/>
          <p:nvPr/>
        </p:nvSpPr>
        <p:spPr>
          <a:xfrm>
            <a:off x="7543800" y="26668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ighest thoracic artery 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23"/>
          <p:cNvSpPr/>
          <p:nvPr/>
        </p:nvSpPr>
        <p:spPr>
          <a:xfrm flipH="1" flipV="1">
            <a:off x="7315200" y="2514240"/>
            <a:ext cx="457200" cy="22860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5" descr="腋动脉1"/>
          <p:cNvPicPr/>
          <p:nvPr/>
        </p:nvPicPr>
        <p:blipFill>
          <a:blip r:embed="rId1"/>
          <a:stretch/>
        </p:blipFill>
        <p:spPr>
          <a:xfrm>
            <a:off x="4952880" y="762120"/>
            <a:ext cx="3810240" cy="49910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8"/>
          <p:cNvSpPr/>
          <p:nvPr/>
        </p:nvSpPr>
        <p:spPr>
          <a:xfrm>
            <a:off x="6248520" y="1600200"/>
            <a:ext cx="990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st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6781680" y="3429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c.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571500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e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 rot="18462000">
            <a:off x="7132680" y="1279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eft Bracket 12"/>
          <p:cNvSpPr/>
          <p:nvPr/>
        </p:nvSpPr>
        <p:spPr>
          <a:xfrm rot="3187800">
            <a:off x="6930720" y="1644480"/>
            <a:ext cx="44280" cy="892440"/>
          </a:xfrm>
          <a:custGeom>
            <a:avLst/>
            <a:gdLst>
              <a:gd name="textAreaLeft" fmla="*/ 12960 w 44280"/>
              <a:gd name="textAreaRight" fmla="*/ 44640 w 44280"/>
              <a:gd name="textAreaTop" fmla="*/ 1800 h 892440"/>
              <a:gd name="textAreaBottom" fmla="*/ 890640 h 89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"/>
                  <a:pt x="0" y="90"/>
                </a:cubicBezTo>
                <a:lnTo>
                  <a:pt x="0" y="21510"/>
                </a:lnTo>
                <a:cubicBezTo>
                  <a:pt x="0" y="21555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eft Bracket 14"/>
          <p:cNvSpPr/>
          <p:nvPr/>
        </p:nvSpPr>
        <p:spPr>
          <a:xfrm rot="1229400">
            <a:off x="5746680" y="2652480"/>
            <a:ext cx="119160" cy="2209680"/>
          </a:xfrm>
          <a:custGeom>
            <a:avLst/>
            <a:gdLst>
              <a:gd name="textAreaLeft" fmla="*/ 34920 w 119160"/>
              <a:gd name="textAreaRight" fmla="*/ 119520 w 119160"/>
              <a:gd name="textAreaTop" fmla="*/ 4680 h 2209680"/>
              <a:gd name="textAreaBottom" fmla="*/ 220500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"/>
                  <a:pt x="0" y="97"/>
                </a:cubicBezTo>
                <a:lnTo>
                  <a:pt x="0" y="21503"/>
                </a:lnTo>
                <a:cubicBezTo>
                  <a:pt x="0" y="21552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eft Bracket 15"/>
          <p:cNvSpPr/>
          <p:nvPr/>
        </p:nvSpPr>
        <p:spPr>
          <a:xfrm rot="3187800">
            <a:off x="6382440" y="2389680"/>
            <a:ext cx="72720" cy="388800"/>
          </a:xfrm>
          <a:custGeom>
            <a:avLst/>
            <a:gdLst>
              <a:gd name="textAreaLeft" fmla="*/ 21240 w 72720"/>
              <a:gd name="textAreaRight" fmla="*/ 73080 w 72720"/>
              <a:gd name="textAreaTop" fmla="*/ 2880 h 388800"/>
              <a:gd name="textAreaBottom" fmla="*/ 385920 h 38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69"/>
                  <a:pt x="0" y="338"/>
                </a:cubicBezTo>
                <a:lnTo>
                  <a:pt x="0" y="21262"/>
                </a:lnTo>
                <a:cubicBezTo>
                  <a:pt x="0" y="21431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5410080" y="1905120"/>
            <a:ext cx="10670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nd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4800600" y="2895480"/>
            <a:ext cx="10666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rd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ntent Placeholder 5"/>
          <p:cNvSpPr/>
          <p:nvPr/>
        </p:nvSpPr>
        <p:spPr>
          <a:xfrm>
            <a:off x="304920" y="990720"/>
            <a:ext cx="4419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 of the axillary ar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9"/>
          <p:cNvSpPr/>
          <p:nvPr/>
        </p:nvSpPr>
        <p:spPr>
          <a:xfrm>
            <a:off x="7467480" y="289548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oraco-acromial 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1"/>
          <p:cNvSpPr/>
          <p:nvPr/>
        </p:nvSpPr>
        <p:spPr>
          <a:xfrm>
            <a:off x="7772400" y="41911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ateral Thoracic 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7238880" y="4419720"/>
            <a:ext cx="609840" cy="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tent Placeholder 5"/>
          <p:cNvSpPr/>
          <p:nvPr/>
        </p:nvSpPr>
        <p:spPr>
          <a:xfrm>
            <a:off x="304920" y="1066680"/>
            <a:ext cx="4343400" cy="487692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hind the pectoralis min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related medially, laterally, and posterioly to the corresponding </a:t>
            </a:r>
            <a:r>
              <a:rPr b="0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 brachial plex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ives; TWO bran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oracoacromial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teral thorac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5" descr="腋动脉1"/>
          <p:cNvPicPr/>
          <p:nvPr/>
        </p:nvPicPr>
        <p:blipFill>
          <a:blip r:embed="rId1"/>
          <a:stretch/>
        </p:blipFill>
        <p:spPr>
          <a:xfrm>
            <a:off x="4952880" y="762120"/>
            <a:ext cx="3810240" cy="49910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8"/>
          <p:cNvSpPr/>
          <p:nvPr/>
        </p:nvSpPr>
        <p:spPr>
          <a:xfrm>
            <a:off x="6248520" y="1600200"/>
            <a:ext cx="990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st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6781680" y="3429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c.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571500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e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 rot="18462000">
            <a:off x="7132680" y="1279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Bracket 12"/>
          <p:cNvSpPr/>
          <p:nvPr/>
        </p:nvSpPr>
        <p:spPr>
          <a:xfrm rot="3187800">
            <a:off x="6930720" y="1644480"/>
            <a:ext cx="44280" cy="892440"/>
          </a:xfrm>
          <a:custGeom>
            <a:avLst/>
            <a:gdLst>
              <a:gd name="textAreaLeft" fmla="*/ 12960 w 44280"/>
              <a:gd name="textAreaRight" fmla="*/ 44640 w 44280"/>
              <a:gd name="textAreaTop" fmla="*/ 1800 h 892440"/>
              <a:gd name="textAreaBottom" fmla="*/ 890640 h 89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"/>
                  <a:pt x="0" y="90"/>
                </a:cubicBezTo>
                <a:lnTo>
                  <a:pt x="0" y="21510"/>
                </a:lnTo>
                <a:cubicBezTo>
                  <a:pt x="0" y="21555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Bracket 14"/>
          <p:cNvSpPr/>
          <p:nvPr/>
        </p:nvSpPr>
        <p:spPr>
          <a:xfrm rot="1229400">
            <a:off x="5746680" y="2652480"/>
            <a:ext cx="119160" cy="2209680"/>
          </a:xfrm>
          <a:custGeom>
            <a:avLst/>
            <a:gdLst>
              <a:gd name="textAreaLeft" fmla="*/ 34920 w 119160"/>
              <a:gd name="textAreaRight" fmla="*/ 119520 w 119160"/>
              <a:gd name="textAreaTop" fmla="*/ 4680 h 2209680"/>
              <a:gd name="textAreaBottom" fmla="*/ 220500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"/>
                  <a:pt x="0" y="97"/>
                </a:cubicBezTo>
                <a:lnTo>
                  <a:pt x="0" y="21503"/>
                </a:lnTo>
                <a:cubicBezTo>
                  <a:pt x="0" y="21552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eft Bracket 15"/>
          <p:cNvSpPr/>
          <p:nvPr/>
        </p:nvSpPr>
        <p:spPr>
          <a:xfrm rot="3187800">
            <a:off x="6382440" y="2389680"/>
            <a:ext cx="72720" cy="388800"/>
          </a:xfrm>
          <a:custGeom>
            <a:avLst/>
            <a:gdLst>
              <a:gd name="textAreaLeft" fmla="*/ 21240 w 72720"/>
              <a:gd name="textAreaRight" fmla="*/ 73080 w 72720"/>
              <a:gd name="textAreaTop" fmla="*/ 2880 h 388800"/>
              <a:gd name="textAreaBottom" fmla="*/ 385920 h 38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69"/>
                  <a:pt x="0" y="338"/>
                </a:cubicBezTo>
                <a:lnTo>
                  <a:pt x="0" y="21262"/>
                </a:lnTo>
                <a:cubicBezTo>
                  <a:pt x="0" y="21431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5410080" y="1905120"/>
            <a:ext cx="10670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nd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4800600" y="2895480"/>
            <a:ext cx="10666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rd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ontent Placeholder 5"/>
          <p:cNvSpPr/>
          <p:nvPr/>
        </p:nvSpPr>
        <p:spPr>
          <a:xfrm>
            <a:off x="304920" y="990720"/>
            <a:ext cx="4419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3rd part of the axillary ar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9"/>
          <p:cNvSpPr/>
          <p:nvPr/>
        </p:nvSpPr>
        <p:spPr>
          <a:xfrm>
            <a:off x="5105520" y="5715000"/>
            <a:ext cx="21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terior &amp; posterior circumflex humeral 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1"/>
          <p:cNvSpPr/>
          <p:nvPr/>
        </p:nvSpPr>
        <p:spPr>
          <a:xfrm>
            <a:off x="7467480" y="54864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bscapular 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23"/>
          <p:cNvSpPr/>
          <p:nvPr/>
        </p:nvSpPr>
        <p:spPr>
          <a:xfrm>
            <a:off x="7391520" y="5257800"/>
            <a:ext cx="533160" cy="22860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ontent Placeholder 9"/>
          <p:cNvSpPr/>
          <p:nvPr/>
        </p:nvSpPr>
        <p:spPr>
          <a:xfrm>
            <a:off x="152280" y="914400"/>
            <a:ext cx="44960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s from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wer border of pectoralis minor musc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lower border teres major mus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medially, laterally, and posterioly, to the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branch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cords of the brachial plex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ives; THREE Bran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cabul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erior circumflex hu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terior circumflex hume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6"/>
          <p:cNvSpPr/>
          <p:nvPr/>
        </p:nvSpPr>
        <p:spPr>
          <a:xfrm>
            <a:off x="5486400" y="3809880"/>
            <a:ext cx="838080" cy="198144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28"/>
          <p:cNvSpPr/>
          <p:nvPr/>
        </p:nvSpPr>
        <p:spPr>
          <a:xfrm>
            <a:off x="5714280" y="3352680"/>
            <a:ext cx="609480" cy="243864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19280" y="260280"/>
            <a:ext cx="300852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nastomosis around shoulder j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3889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stomosis occurs between branche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ubclavian and Axillary arteri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anches from Subclavian Arter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rascapular art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erficial cervical art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anches from Axillary Arter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scapular art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erior circumflex humeral art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terior circumflex humeral art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ontent Placeholder 4" descr="C:\Users\ssarain\Desktop\KFMC data\Anatomy books\Grey's Anatomy pictures\C9780443069529-007-f039.jpg"/>
          <p:cNvPicPr/>
          <p:nvPr/>
        </p:nvPicPr>
        <p:blipFill>
          <a:blip r:embed="rId1"/>
          <a:srcRect l="0" t="0" r="0" b="4413"/>
          <a:stretch/>
        </p:blipFill>
        <p:spPr>
          <a:xfrm>
            <a:off x="4243320" y="1628640"/>
            <a:ext cx="4792680" cy="4680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82" name="Rectangle 5"/>
          <p:cNvSpPr/>
          <p:nvPr/>
        </p:nvSpPr>
        <p:spPr>
          <a:xfrm>
            <a:off x="4716360" y="2708280"/>
            <a:ext cx="57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4427640" y="220500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6400800" y="1828800"/>
            <a:ext cx="990720" cy="158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4343400" y="3048120"/>
            <a:ext cx="1020600" cy="2286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7696080" y="2205000"/>
            <a:ext cx="838440" cy="15732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7924680" y="2590920"/>
            <a:ext cx="838440" cy="76176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 Zeenat Zaidi</dc:creator>
  <dc:description/>
  <dc:language>en-US</dc:language>
  <cp:lastModifiedBy>ESSAM</cp:lastModifiedBy>
  <dcterms:modified xsi:type="dcterms:W3CDTF">2015-12-08T07:04:24Z</dcterms:modified>
  <cp:revision>129</cp:revision>
  <dc:subject/>
  <dc:title>Vascular anatomy of the upper limb2010</dc:title>
</cp:coreProperties>
</file>