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FBA-04A6-4946-B404-067DCEF19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16BE-2973-417E-8273-F944DC4E4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C6B-FE6B-4CE3-862A-1CFC870FF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1748-86B5-4094-9D74-9386AD8EC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901-FCEF-48A6-A2E8-10E4963A2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2BEE-B280-45C1-80DE-7F1212D1F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8E2-1B85-47F5-A98B-DC12A1BC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786-7D3E-4427-82E6-746888B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2E8-24A2-4706-A584-0BB297C6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478-6FAF-4192-855D-301343C3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1844-4246-4CD9-A6AA-333ED8CE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DB6-3002-4BBB-BB33-8F40F24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EF5-FD33-4F0C-9110-A511428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A7EA-FFC9-4077-B8EF-DF4E802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CBD-7EB7-44A1-8CC4-31693EA6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27B-807E-4978-B32D-5665B34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EBB9-BEFF-46BD-9443-A1E7CB6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0F6-CFB0-47CD-93D5-AAE0ADA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02C-659A-4E79-B9A4-4E68C15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17BB-4578-4DE2-B366-21DCA75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CC3-11BB-4B29-A516-0ED66A2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F0F-E927-4F0B-A3F5-295BFF7D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279-661F-4CC0-85DB-E84BCFF5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756D-EACA-4D6A-B9CA-9D786F03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4B59-54FF-4A76-9A6D-75AECA8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1890-F2D3-47CF-8908-B496539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EE4D-90BD-4FD1-9DFD-CBFB0B4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2869-510C-49E5-98B0-B9E7951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A61-4E26-4B76-A618-F6630E20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3164-55A2-423F-9209-D274AC2A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5E89-B24C-4D81-B49E-759EC0D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3095-7508-46EF-85F7-13D5BBA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E444-9DFD-48A3-9D25-593A6106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85E0-DDD8-45C4-AFAB-4F7C2F0F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DE89-A72E-4D53-97CD-131DBBF9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1E2F-1996-4129-88E3-8BB44D57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5AE1-9E51-4C80-A3D5-B1A924A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F0CA-7AE9-4C51-8EFF-9EBED65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0CFF-ED8F-4369-87A2-2EEA7D2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C33-F14A-4D52-816B-028E3388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F534-772B-4463-B2B9-540918E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6EE2-806E-4B24-8446-71E2CF6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98BF-9BE9-4CDA-9077-A7F67C1F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9515-5BF9-4F4E-92F6-EA04DF2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10B5-129F-437D-9C74-35EBC29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2219-D3D6-41C2-A467-7284E66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80E7-1B70-49FE-B6E1-EDC4A30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DFED-A00F-44B8-A4A8-87DAB7FB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2378-9783-4D42-972C-B3F1C03F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DB2A9-2E36-4890-BAA6-433990E4E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7F9-CFFB-431A-94FC-DB9FC2FF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16F2F-F0A2-48D7-B25E-F78E7EDB4C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325BF-A558-4D35-8A3C-4557060632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39A7B-338A-484E-980C-363EFD0ABC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68B7C-C0D6-4359-84F0-9758E6C7CA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32817-0840-4F89-8B1F-5BF1E1918E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A97BA-931D-40E7-A516-514498A7E7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016D7-0366-447B-BE8A-38AFC46493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59634-6191-489F-BBC3-237E36778D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DF0C2-462A-49D4-9508-125A19FDAF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3D5AD-A921-4A42-A242-A7499591B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901-9388-4455-9053-1F282BE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C415C-C173-42DA-B02D-F0ADD17B7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D49-C2D7-4AAF-91A6-3FA318B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4C4-CBBC-4C9B-8FB9-BD961CE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9F0-A0F5-41ED-9F1D-EBEA265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405-0F53-4987-B30F-72260D7466B0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540-FA42-4741-90F9-585D1B697699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15F-DA3B-4A5F-9E17-A11F6503BB5A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0FC-9100-4110-9AF0-39433D4BD50A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3"/>
          </p:nvPr>
        </p:nvSpPr>
        <p:spPr>
          <a:xfrm>
            <a:off x="547992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Prof. Mak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462880" y="6400440"/>
            <a:ext cx="50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183F-9997-4E2E-918A-08C3FD48DB04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1920" y="5943600"/>
            <a:ext cx="38862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Prof.  Saeed Abuel Makare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2" name="Picture 2" descr="http://www.footdoc.ca/sciatic%20nerve.jpg"/>
          <p:cNvPicPr/>
          <p:nvPr/>
        </p:nvPicPr>
        <p:blipFill>
          <a:blip r:embed="rId1"/>
          <a:stretch/>
        </p:blipFill>
        <p:spPr>
          <a:xfrm>
            <a:off x="4191120" y="380880"/>
            <a:ext cx="4724280" cy="624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3" name="Title 4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38829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on Peroneal or Medial popliteal (Fibular) Nerve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838080"/>
            <a:ext cx="4191120" cy="54864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ves the lateral angle of the popliteal fossa &amp; turn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ound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ateral aspect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neck of fibu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(Dangerous Positio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n divides in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uperficial peroneal 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(Musculocutaneous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upply the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Later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artment of 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ep peroneal 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(Anterior Tibial)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upply the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tment of  the leg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Down Arrow 6"/>
          <p:cNvSpPr/>
          <p:nvPr/>
        </p:nvSpPr>
        <p:spPr>
          <a:xfrm>
            <a:off x="7010280" y="38862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Up Arrow 7"/>
          <p:cNvSpPr/>
          <p:nvPr/>
        </p:nvSpPr>
        <p:spPr>
          <a:xfrm>
            <a:off x="6934320" y="47242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User\My Documents\Student Gray\6. Lower limb\F66122-006-f020.jpg"/>
          <p:cNvPicPr/>
          <p:nvPr/>
        </p:nvPicPr>
        <p:blipFill>
          <a:blip r:embed="rId1"/>
          <a:srcRect l="16216" t="0" r="16216" b="3520"/>
          <a:stretch/>
        </p:blipFill>
        <p:spPr>
          <a:xfrm>
            <a:off x="4572000" y="838080"/>
            <a:ext cx="419112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4191120" cy="25146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To the muscles of anterior &amp; lateral compartments of le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rsi flexors of ank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ors of to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rtors of foot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2" descr="C:\Users\galmadani\Desktop\Documents\Documents\Student Gray\6. Lower limb\F66122-006-f087.jpg"/>
          <p:cNvPicPr/>
          <p:nvPr/>
        </p:nvPicPr>
        <p:blipFill>
          <a:blip r:embed="rId1"/>
          <a:srcRect l="14508" t="0" r="14109" b="1666"/>
          <a:stretch/>
        </p:blipFill>
        <p:spPr>
          <a:xfrm>
            <a:off x="4876920" y="152280"/>
            <a:ext cx="3809880" cy="659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4120" y="456840"/>
            <a:ext cx="3657600" cy="6172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ciatic nerve is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most frequently injur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…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I-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adly placed intramuscular injections in the gluteal region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avoid thi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jections should be done into the gluteus maximus or medius (into 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upper outer quadrant of  buttoc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ost nerve lesions are incomplete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and in 90% of injuries, the common peroneal nerve is the mostly affected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y?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he common peroneal nerve fibers lie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superficial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ciatic ner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9" descr="Untitled-5"/>
          <p:cNvPicPr/>
          <p:nvPr/>
        </p:nvPicPr>
        <p:blipFill>
          <a:blip r:embed="rId1"/>
          <a:srcRect l="0" t="0" r="0" b="22890"/>
          <a:stretch/>
        </p:blipFill>
        <p:spPr>
          <a:xfrm>
            <a:off x="2438280" y="1295280"/>
            <a:ext cx="28195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4" name="AutoShape 10"/>
          <p:cNvSpPr/>
          <p:nvPr/>
        </p:nvSpPr>
        <p:spPr>
          <a:xfrm>
            <a:off x="4191120" y="18288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9900">
              <a:alpha val="15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USES OF SCIATIC NER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76F73617"/>
          <p:cNvPicPr/>
          <p:nvPr/>
        </p:nvPicPr>
        <p:blipFill>
          <a:blip r:embed="rId2"/>
          <a:srcRect l="0" t="0" r="0" b="67243"/>
          <a:stretch/>
        </p:blipFill>
        <p:spPr>
          <a:xfrm>
            <a:off x="304920" y="434340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304920" y="3200400"/>
            <a:ext cx="1752480" cy="100872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-Posterior dislocation of the hip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250" autoRev="1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8640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IATIC NERVE INJURY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142640"/>
            <a:ext cx="4038480" cy="52578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e2d37"/>
                </a:solidFill>
                <a:uFillTx/>
                <a:latin typeface="Constantia"/>
              </a:rPr>
              <a:t>MOTOR EFFE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Marked wasting of the muscles below the kn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Weak</a:t>
            </a: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flexion of the kne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artorius &amp; gracilis are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Weak extension of hip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gluteus maximus is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muscles below the knee are paralyzed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eight of the foot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uses it to assume the </a:t>
            </a:r>
            <a:r>
              <a:rPr b="0" i="1" lang="en-US" sz="2200" spc="-1" strike="noStrike">
                <a:solidFill>
                  <a:srgbClr val="ff9900"/>
                </a:solidFill>
                <a:latin typeface="Constantia"/>
              </a:rPr>
              <a:t>plantar-flexed position,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Foot Dro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High steppage gait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4" descr="BC27097F"/>
          <p:cNvPicPr/>
          <p:nvPr/>
        </p:nvPicPr>
        <p:blipFill>
          <a:blip r:embed="rId1"/>
          <a:srcRect l="12460" t="5829" r="62982" b="62616"/>
          <a:stretch/>
        </p:blipFill>
        <p:spPr>
          <a:xfrm>
            <a:off x="4495680" y="1219320"/>
            <a:ext cx="228600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7" descr="Untitled-7"/>
          <p:cNvPicPr/>
          <p:nvPr/>
        </p:nvPicPr>
        <p:blipFill>
          <a:blip r:embed="rId2"/>
          <a:srcRect l="4808" t="6176" r="5288" b="4632"/>
          <a:stretch/>
        </p:blipFill>
        <p:spPr>
          <a:xfrm>
            <a:off x="6934320" y="350532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02" name="Straight Arrow Connector 7"/>
          <p:cNvCxnSpPr/>
          <p:nvPr/>
        </p:nvCxnSpPr>
        <p:spPr>
          <a:xfrm flipH="1" flipV="1">
            <a:off x="5790960" y="312336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380988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ensory Los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600" y="2209320"/>
            <a:ext cx="4038480" cy="3886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</a:t>
            </a:r>
            <a:r>
              <a:rPr b="0" i="1" lang="en-US" sz="2400" spc="-1" strike="noStrike">
                <a:solidFill>
                  <a:srgbClr val="002060"/>
                </a:solidFill>
                <a:latin typeface="Constantia"/>
              </a:rPr>
              <a:t>below the knee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cept for a narrow area down the medial side of the lower part of the leg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(blue)</a:t>
            </a:r>
            <a:r>
              <a:rPr b="0" lang="en-US" sz="24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long the medial border of the foot as far as the ball of the big toe, which is supplied by the saphenous nerve (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6" descr="Untitled-2"/>
          <p:cNvPicPr/>
          <p:nvPr/>
        </p:nvPicPr>
        <p:blipFill>
          <a:blip r:embed="rId1"/>
          <a:srcRect l="14809" t="3614" r="11119" b="0"/>
          <a:stretch/>
        </p:blipFill>
        <p:spPr>
          <a:xfrm>
            <a:off x="7315200" y="228600"/>
            <a:ext cx="1447920" cy="640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Untitled-11"/>
          <p:cNvPicPr/>
          <p:nvPr/>
        </p:nvPicPr>
        <p:blipFill>
          <a:blip r:embed="rId2"/>
          <a:srcRect l="18745" t="8176" r="15627" b="8820"/>
          <a:stretch/>
        </p:blipFill>
        <p:spPr>
          <a:xfrm>
            <a:off x="4800600" y="685800"/>
            <a:ext cx="160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FFECT OF SCIATIC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600200"/>
          <a:ext cx="8153640" cy="449568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MOTOR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aralysis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oveme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Hamstring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Flexion of kne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tension of 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All muscles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All movements of the  </a:t>
                      </a:r>
                      <a:r>
                        <a:rPr b="1" lang="en-US" sz="20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SENSORY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Loss of sensation of  the areas supplied by sciatic nerve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(below kne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CEPT area supplied by the (Saphenous nerv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5680" y="207720"/>
            <a:ext cx="3240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SCIATIC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38680" y="914400"/>
            <a:ext cx="3353040" cy="54100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atica describes the condition in which patients have </a:t>
            </a:r>
            <a:r>
              <a:rPr b="1" i="1" lang="en-US" sz="2400" spc="-1" strike="noStrike">
                <a:solidFill>
                  <a:srgbClr val="0070c0"/>
                </a:solidFill>
                <a:latin typeface="Constantia"/>
              </a:rPr>
              <a:t>pain along the sensory distribution of the sciatic nerv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hus the pain is experienced in the posterior aspect of the thigh, the posterior and lateral sides of the leg, and the lateral part of the foo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19503_8244_5"/>
          <p:cNvPicPr/>
          <p:nvPr/>
        </p:nvPicPr>
        <p:blipFill>
          <a:blip r:embed="rId1"/>
          <a:srcRect l="0" t="0" r="0" b="5823"/>
          <a:stretch/>
        </p:blipFill>
        <p:spPr>
          <a:xfrm>
            <a:off x="326880" y="1066680"/>
            <a:ext cx="5159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Flowchart: Data 5"/>
          <p:cNvSpPr/>
          <p:nvPr/>
        </p:nvSpPr>
        <p:spPr>
          <a:xfrm>
            <a:off x="685800" y="1828800"/>
            <a:ext cx="457200" cy="685800"/>
          </a:xfrm>
          <a:prstGeom prst="flowChartInputOutpu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28240" y="3962520"/>
            <a:ext cx="6095880" cy="26668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uses of  Sciatica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lapse of an intervertebral disc, with pressure on one or roots of the lower lumbar and sacral spinal nerve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sure on the sacral plexus or sciatic nerve by an intrapelvic tumor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flammation of the sciatic nerve or its terminal branch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IDH_ADAM"/>
          <p:cNvPicPr/>
          <p:nvPr/>
        </p:nvPicPr>
        <p:blipFill>
          <a:blip r:embed="rId1"/>
          <a:srcRect l="4611" t="7665" r="4035" b="13523"/>
          <a:stretch/>
        </p:blipFill>
        <p:spPr>
          <a:xfrm>
            <a:off x="380880" y="228600"/>
            <a:ext cx="50292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5" name="Picture 8" descr="csctovdy"/>
          <p:cNvPicPr/>
          <p:nvPr/>
        </p:nvPicPr>
        <p:blipFill>
          <a:blip r:embed="rId2"/>
          <a:stretch/>
        </p:blipFill>
        <p:spPr>
          <a:xfrm>
            <a:off x="5611680" y="316080"/>
            <a:ext cx="3054600" cy="2884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fig055"/>
          <p:cNvPicPr/>
          <p:nvPr/>
        </p:nvPicPr>
        <p:blipFill>
          <a:blip r:embed="rId3"/>
          <a:srcRect l="0" t="18731" r="0" b="0"/>
          <a:stretch/>
        </p:blipFill>
        <p:spPr>
          <a:xfrm>
            <a:off x="6400800" y="3276720"/>
            <a:ext cx="2438280" cy="3309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876920" cy="10666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3581640" cy="259092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common peroneal ner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in an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exposed posi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s it leaves the popliteal fossa through its lateral ang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n it winds around neck of the fibula to en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eroneus longu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scl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angerous Position)!!!!!!!!!!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5" descr="Untitled-8"/>
          <p:cNvPicPr/>
          <p:nvPr/>
        </p:nvPicPr>
        <p:blipFill>
          <a:blip r:embed="rId1"/>
          <a:srcRect l="16815" t="5893" r="13526" b="4557"/>
          <a:stretch/>
        </p:blipFill>
        <p:spPr>
          <a:xfrm>
            <a:off x="380880" y="1447920"/>
            <a:ext cx="1371600" cy="5181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ashcast"/>
          <p:cNvPicPr/>
          <p:nvPr/>
        </p:nvPicPr>
        <p:blipFill>
          <a:blip r:embed="rId2"/>
          <a:srcRect l="12623" t="0" r="7232" b="3805"/>
          <a:stretch/>
        </p:blipFill>
        <p:spPr>
          <a:xfrm>
            <a:off x="5486400" y="228600"/>
            <a:ext cx="3276720" cy="53341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3276720" y="5657760"/>
            <a:ext cx="5638680" cy="9781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mmon peroneal nerve is commonly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actu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neck of the fibul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casts or spl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257440" y="1752480"/>
            <a:ext cx="3886200" cy="510552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ollowing clinical features are pres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33cc"/>
                </a:solidFill>
                <a:uFillTx/>
                <a:latin typeface="Constantia"/>
              </a:rPr>
              <a:t>Moto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The muscles of the anterior and lateral compartments of the leg are paralyz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 result, the opposing muscles, the plantar flexors of the ankle joint and the invertors of the subtalar joints,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cause the foot to be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Plantar Flexed (Foot Drop) and Invert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 attitude referred to a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alipe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quinovarus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7" descr="umns008_0001"/>
          <p:cNvPicPr/>
          <p:nvPr/>
        </p:nvPicPr>
        <p:blipFill>
          <a:blip r:embed="rId1"/>
          <a:srcRect l="12137" t="6209" r="0" b="5438"/>
          <a:stretch/>
        </p:blipFill>
        <p:spPr>
          <a:xfrm>
            <a:off x="685800" y="304920"/>
            <a:ext cx="3048120" cy="6172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4114800" y="228600"/>
            <a:ext cx="4724280" cy="137376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 of Common Peroneal Nerv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Content Placeholder 4" descr="B84D3ED7"/>
          <p:cNvPicPr/>
          <p:nvPr/>
        </p:nvPicPr>
        <p:blipFill>
          <a:blip r:embed="rId2"/>
          <a:srcRect l="0" t="0" r="0" b="30798"/>
          <a:stretch/>
        </p:blipFill>
        <p:spPr>
          <a:xfrm>
            <a:off x="3048120" y="4952880"/>
            <a:ext cx="2265120" cy="1905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2209680"/>
            <a:ext cx="7925040" cy="335304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b54a10"/>
                </a:solidFill>
                <a:uFillTx/>
                <a:latin typeface="Constantia"/>
              </a:rPr>
              <a:t>By the end of the lecture, you should be able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Describe the anatomy (origin, course &amp; distribution)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List the branches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Describe briefly the </a:t>
            </a:r>
            <a:r>
              <a:rPr b="1" lang="en-US" sz="2800" spc="-1" strike="noStrike">
                <a:solidFill>
                  <a:srgbClr val="5e2d37"/>
                </a:solidFill>
                <a:latin typeface="Constantia"/>
              </a:rPr>
              <a:t>main motor and sensory manifestations in case of injury of the sciatic nerve or its main branch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86200" cy="160020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962520" cy="2819520"/>
          </a:xfrm>
          <a:prstGeom prst="rect">
            <a:avLst/>
          </a:prstGeom>
          <a:solidFill>
            <a:srgbClr val="d3eef5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Senso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between the first and seco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rsum of the foot a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al side of the big to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teral side of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Content Placeholder 4" descr="4FEAB48A"/>
          <p:cNvPicPr/>
          <p:nvPr/>
        </p:nvPicPr>
        <p:blipFill>
          <a:blip r:embed="rId1"/>
          <a:srcRect l="38337" t="17248" r="38315" b="15073"/>
          <a:stretch/>
        </p:blipFill>
        <p:spPr>
          <a:xfrm>
            <a:off x="4343400" y="152280"/>
            <a:ext cx="3429000" cy="5715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329" name="TextBox 7"/>
          <p:cNvSpPr/>
          <p:nvPr/>
        </p:nvSpPr>
        <p:spPr>
          <a:xfrm>
            <a:off x="7848720" y="2057400"/>
            <a:ext cx="1143000" cy="520200"/>
          </a:xfrm>
          <a:prstGeom prst="rect">
            <a:avLst/>
          </a:prstGeom>
          <a:solidFill>
            <a:srgbClr val="a6dd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ficial peron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Straight Arrow Connector 9"/>
          <p:cNvCxnSpPr/>
          <p:nvPr/>
        </p:nvCxnSpPr>
        <p:spPr>
          <a:xfrm flipV="1">
            <a:off x="6858000" y="2285640"/>
            <a:ext cx="129600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Straight Arrow Connector 11"/>
          <p:cNvCxnSpPr/>
          <p:nvPr/>
        </p:nvCxnSpPr>
        <p:spPr>
          <a:xfrm flipH="1">
            <a:off x="5562360" y="4114800"/>
            <a:ext cx="76248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a4a7"/>
          </a:solidFill>
          <a:ln w="9360">
            <a:solidFill>
              <a:srgbClr val="2da2b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ibial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47960" y="1371600"/>
            <a:ext cx="4267080" cy="50292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of its deep and protected position, the tibial nerve is </a:t>
            </a:r>
            <a:r>
              <a:rPr b="0" lang="en-US" sz="2000" spc="-1" strike="noStrike">
                <a:solidFill>
                  <a:srgbClr val="002060"/>
                </a:solidFill>
                <a:latin typeface="Constantia"/>
              </a:rPr>
              <a:t>rarely injur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results in the following clinical featur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Motor: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All the muscles in the back of the leg and the sole of the foot are paralyz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opposing muscles </a:t>
            </a:r>
            <a:r>
              <a:rPr b="0" i="1" lang="en-US" sz="2000" spc="-1" strike="noStrike">
                <a:solidFill>
                  <a:srgbClr val="ff0000"/>
                </a:solidFill>
                <a:latin typeface="Constantia"/>
              </a:rPr>
              <a:t>Dorsiflex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oot at the ankle joint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and Evert the foo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at the subtalar joint, an attitude referred to as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alep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Calcaneovalg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Content Placeholder 4" descr="67B20F21"/>
          <p:cNvPicPr/>
          <p:nvPr/>
        </p:nvPicPr>
        <p:blipFill>
          <a:blip r:embed="rId1"/>
          <a:srcRect l="0" t="1782" r="12120" b="18007"/>
          <a:stretch/>
        </p:blipFill>
        <p:spPr>
          <a:xfrm>
            <a:off x="228600" y="167652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35" name="Straight Arrow Connector 6"/>
          <p:cNvCxnSpPr/>
          <p:nvPr/>
        </p:nvCxnSpPr>
        <p:spPr>
          <a:xfrm>
            <a:off x="1447920" y="4876920"/>
            <a:ext cx="83880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8120" y="304920"/>
            <a:ext cx="5486400" cy="761760"/>
          </a:xfrm>
          <a:prstGeom prst="rect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Calibri"/>
              </a:rPr>
              <a:t>Tibial Nerve Injury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2133720" cy="259056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Sensory los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 the Lateral side of the leg and foot &amp;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trophic ulcer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s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7" descr="BC27097F"/>
          <p:cNvPicPr/>
          <p:nvPr/>
        </p:nvPicPr>
        <p:blipFill>
          <a:blip r:embed="rId1"/>
          <a:srcRect l="12323" t="42372" r="56133" b="23858"/>
          <a:stretch/>
        </p:blipFill>
        <p:spPr>
          <a:xfrm>
            <a:off x="228600" y="2971800"/>
            <a:ext cx="2209680" cy="3581280"/>
          </a:xfrm>
          <a:prstGeom prst="rect">
            <a:avLst/>
          </a:prstGeom>
          <a:ln w="28440">
            <a:solidFill>
              <a:srgbClr val="da1f28"/>
            </a:solidFill>
            <a:miter/>
          </a:ln>
        </p:spPr>
      </p:pic>
      <p:pic>
        <p:nvPicPr>
          <p:cNvPr id="339" name="Picture 2" descr="C:\Documents and Settings\User\My Documents\Student Gray\6. Lower limb\F66122-006-f019.jpg"/>
          <p:cNvPicPr/>
          <p:nvPr/>
        </p:nvPicPr>
        <p:blipFill>
          <a:blip r:embed="rId2"/>
          <a:srcRect l="0" t="0" r="0" b="3635"/>
          <a:stretch/>
        </p:blipFill>
        <p:spPr>
          <a:xfrm>
            <a:off x="2514600" y="1600200"/>
            <a:ext cx="64008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2286000" cy="7048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590920" cy="3352680"/>
          </a:xfrm>
          <a:prstGeom prst="rect">
            <a:avLst/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 fontScale="92000"/>
          </a:bodyPr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Sacral the Plexu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L4,5, S1, 2,3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branch of the plex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nerve of th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4" descr="F66122-005-f060.jpg"/>
          <p:cNvPicPr/>
          <p:nvPr/>
        </p:nvPicPr>
        <p:blipFill>
          <a:blip r:embed="rId1"/>
          <a:srcRect l="0" t="0" r="11981" b="3330"/>
          <a:stretch/>
        </p:blipFill>
        <p:spPr>
          <a:xfrm>
            <a:off x="2819520" y="304920"/>
            <a:ext cx="6095880" cy="6019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419360" cy="685800"/>
          </a:xfrm>
          <a:prstGeom prst="rect">
            <a:avLst/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cral Plexu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1219320"/>
            <a:ext cx="3657600" cy="45720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Forma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entral (anterior) rami of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L4,5  S1,2,3 &amp; 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t of L4 &amp; whole L5 (lumbosacral trunk) + S1,2,3 and most of S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Site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 the posterior pelvic wa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front of Piriformis mus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Content Placeholder 4" descr="F66122-005-f061.jpg"/>
          <p:cNvPicPr/>
          <p:nvPr/>
        </p:nvPicPr>
        <p:blipFill>
          <a:blip r:embed="rId1"/>
          <a:srcRect l="0" t="0" r="0" b="3350"/>
          <a:stretch/>
        </p:blipFill>
        <p:spPr>
          <a:xfrm>
            <a:off x="3962520" y="1066680"/>
            <a:ext cx="4952880" cy="533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2" name="TextBox 5"/>
          <p:cNvSpPr/>
          <p:nvPr/>
        </p:nvSpPr>
        <p:spPr>
          <a:xfrm>
            <a:off x="7696080" y="25146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14"/>
          <p:cNvCxnSpPr/>
          <p:nvPr/>
        </p:nvCxnSpPr>
        <p:spPr>
          <a:xfrm flipH="1" flipV="1">
            <a:off x="7772040" y="31233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TextBox 15"/>
          <p:cNvSpPr/>
          <p:nvPr/>
        </p:nvSpPr>
        <p:spPr>
          <a:xfrm>
            <a:off x="76201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7"/>
          <p:cNvCxnSpPr/>
          <p:nvPr/>
        </p:nvCxnSpPr>
        <p:spPr>
          <a:xfrm flipH="1">
            <a:off x="7848360" y="3659040"/>
            <a:ext cx="3816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37339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urse &amp; Distribution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1920" y="1218960"/>
            <a:ext cx="3962520" cy="5257800"/>
          </a:xfrm>
          <a:prstGeom prst="rect">
            <a:avLst/>
          </a:prstGeom>
          <a:solidFill>
            <a:srgbClr val="fbe0d1"/>
          </a:solidFill>
          <a:ln w="9360">
            <a:solidFill>
              <a:srgbClr val="2da2b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It leaves the pelvis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through greater sciatic foramen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below the piriform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It passes in the gluteal region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(between ischial tuberosity &amp; greater trochante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Then it enters the 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posterior compartment of the thig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Termination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middle of the back of th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gh it divides into 2 terminal branch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bial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 (medial poplitea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mmon Peroneal,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lateral popliteal or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(Fibula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Content Placeholder 6" descr="lumbosacral 006.jpg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624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ranches of Sciatic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904760"/>
            <a:ext cx="2514600" cy="33526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1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.  Cutaneous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 all leg &amp; foot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XCEPT: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eas suppli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aphenous nerve (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ranch of 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C:\Documents and Settings\User\My Documents\Student Gray\6. Lower limb\F66122-006-f019.jpg"/>
          <p:cNvPicPr/>
          <p:nvPr/>
        </p:nvPicPr>
        <p:blipFill>
          <a:blip r:embed="rId1"/>
          <a:srcRect l="0" t="0" r="0" b="3635"/>
          <a:stretch/>
        </p:blipFill>
        <p:spPr>
          <a:xfrm>
            <a:off x="2819520" y="1066680"/>
            <a:ext cx="609588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6"/>
          <p:cNvSpPr/>
          <p:nvPr/>
        </p:nvSpPr>
        <p:spPr>
          <a:xfrm>
            <a:off x="7162920" y="4267080"/>
            <a:ext cx="1752480" cy="30492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2819520" y="4419720"/>
            <a:ext cx="1904760" cy="45720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28240" y="838080"/>
            <a:ext cx="4419720" cy="556272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2. Muscular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amstring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(flexors of knee &amp; extensors of the hip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hrough tibial  part)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mstring part of Adductor Magn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head of Biceps Femor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mitendi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mimembra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B. The short head of biceps receives its branch from the lateral popliteal (common peroneal) ner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C:\Users\galmadani\Desktop\Documents\Documents\Student Gray\6. Lower limb\F66122-006-f067.jpg"/>
          <p:cNvPicPr/>
          <p:nvPr/>
        </p:nvPicPr>
        <p:blipFill>
          <a:blip r:embed="rId1"/>
          <a:srcRect l="11113" t="0" r="13336" b="3722"/>
          <a:stretch/>
        </p:blipFill>
        <p:spPr>
          <a:xfrm>
            <a:off x="4800600" y="380880"/>
            <a:ext cx="411480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ibial  Nerve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837720"/>
            <a:ext cx="3886200" cy="579132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Bisect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pliteal foss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en d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escend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rough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sterior compartment of leg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, accompanied with posterior tibi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Passe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deep to flexor retinaculum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(through the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arsal tunne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ehind medial malleolu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) to reach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sole of foot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where it divides into 2 terminal branches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(Medial &amp; Lateral planter nerv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Content Placeholder 4" descr="F66122-006-f085.jpg"/>
          <p:cNvPicPr/>
          <p:nvPr/>
        </p:nvPicPr>
        <p:blipFill>
          <a:blip r:embed="rId1"/>
          <a:srcRect l="13465" t="0" r="13465" b="3031"/>
          <a:stretch/>
        </p:blipFill>
        <p:spPr>
          <a:xfrm>
            <a:off x="4114800" y="228600"/>
            <a:ext cx="3581280" cy="6400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9" name="Picture 2" descr="C:\Documents and Settings\User\My Documents\Student Gray\6. Lower limb\F66122-006-f120.jpg"/>
          <p:cNvPicPr/>
          <p:nvPr/>
        </p:nvPicPr>
        <p:blipFill>
          <a:blip r:embed="rId2"/>
          <a:srcRect l="12385" t="0" r="13330" b="32396"/>
          <a:stretch/>
        </p:blipFill>
        <p:spPr>
          <a:xfrm>
            <a:off x="7848720" y="4724280"/>
            <a:ext cx="1143000" cy="19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280" name="Straight Arrow Connector 7"/>
          <p:cNvCxnSpPr/>
          <p:nvPr/>
        </p:nvCxnSpPr>
        <p:spPr>
          <a:xfrm flipH="1" flipV="1">
            <a:off x="4799880" y="495216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581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3581280" cy="32763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 fontScale="94000"/>
          </a:bodyPr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uscles of posterior compartment of le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Planter flexors of the ankle, Flexors of toes.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trinsic muscles of sole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ONE Invertor of foot (tibialis posterior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C:\Users\galmadani\Desktop\Documents\Documents\Student Gray\6. Lower limb\F66122-006-f082.jpg"/>
          <p:cNvPicPr/>
          <p:nvPr/>
        </p:nvPicPr>
        <p:blipFill>
          <a:blip r:embed="rId1"/>
          <a:srcRect l="0" t="0" r="0" b="2189"/>
          <a:stretch/>
        </p:blipFill>
        <p:spPr>
          <a:xfrm>
            <a:off x="4114800" y="304920"/>
            <a:ext cx="480060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5:38:32Z</dcterms:created>
  <dc:creator>Prof. Saeed Abuel makarem</dc:creator>
  <dc:description/>
  <dc:language>en-US</dc:language>
  <cp:lastModifiedBy>saeed1</cp:lastModifiedBy>
  <dcterms:modified xsi:type="dcterms:W3CDTF">2015-12-14T16:48:57Z</dcterms:modified>
  <cp:revision>64</cp:revision>
  <dc:subject/>
  <dc:title>SCIATIC NE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iatic nerve">
    <vt:lpwstr>Prof. saeed abuel makarem</vt:lpwstr>
  </property>
</Properties>
</file>