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2D81-86D4-4B48-B9AA-149E349FD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7DE9-D717-4FA8-919D-3977295FF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FD8B-5638-44A5-AADE-6DE8CE9BF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EBED-710C-4937-87C4-F33E973D3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9253-CD65-402E-BE31-F15CAEB41B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07DC-4DC6-4BC1-89DD-31FD39C051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B3AD-02E5-4ECC-A15D-8780DA52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817D-A7F0-4614-9B3B-14C98BE3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5D8-D934-4EFD-8514-CD184BD8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3B0-FBEE-4E12-BD82-DE82A2FF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ECD4-3A2B-4F6F-B9F1-33F2C3A5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4C20-1977-4B72-AB24-6BED1C8B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0BED-8839-47B6-84EE-2F093989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383F-E4A8-4819-A709-C64504C7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B007-FFA4-41B0-B6F6-A0D95911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A4572-9517-4216-AABF-76473BE3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7B00-FEA9-4857-9B3F-0669BA20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546-2AE4-4275-8EC6-7C61D996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B1C1-B52F-43C9-A307-41A29181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2098-8B82-4FE5-B459-9C7732CC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F479-79E7-47EF-AF72-DD411FEF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1F2E-E2B9-4C01-B311-189B622C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421F-C6D7-4904-98F3-784EA7E1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E6E0E-04E9-465B-BCE2-C1B6B79F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21E1D-68D4-408B-9A3E-9CF5EB93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1CE4-C5E6-4151-AF6B-859C899B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C2EC-868A-43DC-834B-4CA427A7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67BE-8AE2-404F-9BA2-B2FADDF4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FC46-F90B-4A32-A405-B15DFACE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B829B-0DB4-4473-8B41-912BFB3D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5DBF9-EC8F-4EBC-93DA-84982024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691C3-7C4B-4B0B-8E29-AD0F98C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FD4CB-5558-4CC3-979F-3AC4F91E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9666F-D1AB-4BDC-BFFF-EE560533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DD20-D6EA-4B4F-94D0-85C93933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03FFF-B6FA-446B-8663-F1B0C5ED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DFE10-FF8E-4B9C-AFF4-E2B521BE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87E8-FD1F-468D-86AC-0D120A3C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4F307-4D55-4400-81F3-59C6CD0F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4749-54E2-4E7B-A896-062216A8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1A40B-787A-4BA6-A8D8-FC538D5A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0F45D-5290-44BD-9A6B-883A76BF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3A81-D6F6-42A3-9D10-9EE1A64A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C21B-55AD-492C-8B5A-AF298674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AB5C3-BDDE-4698-A2FB-56F2032E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2691D-7E15-4FAF-A872-88B27059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1C84D-E3E6-4BDA-AEEA-90609775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E1016-C92E-47FF-A04C-E44E3FFB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671AD-8783-4619-9543-0410BE97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CCABA4-0DB8-4D0C-B270-A8701B1AEB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3F1-9D5B-4223-840F-A584FED5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EFE24-8B39-4A87-9A8B-C106B1F2483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F1E6F-072F-4178-A4A6-1427BF3A8E3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B15AD-8B1F-43EE-AA14-9557368CCF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8C2CBA-7812-432F-BA98-5958325FBC6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4AB477-17AE-435D-B613-7BC74F25957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3A9AEF-7C68-45E9-B3F8-A5F446ACA8C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73B6C7-B114-44A8-8E75-A54D9015C7F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FD574-0814-439C-BF54-6B799C88D80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012E73-A9CF-4FA9-B0FD-E9F15842DC8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A500D-124A-4979-B795-011FF63AB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A17A-DA28-495D-96FA-1563E1D9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BF64E-56F4-45E2-80C5-AB91F4FB7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51F4-C37D-48D0-BFF4-DC350B24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95CD-ED57-49EE-89FA-56CC659D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52C-6541-49EB-A205-D3E2F479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019D-5CFA-4205-B87B-BEB749226717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2E77-323D-4000-8948-DE23C5D1802D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6F26-0446-4A16-97CD-444A8234A24E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C543-DA7D-450F-A2B7-B2FC61E8B6E3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3"/>
          </p:nvPr>
        </p:nvSpPr>
        <p:spPr>
          <a:xfrm>
            <a:off x="547992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Prof. Maka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8462880" y="6400440"/>
            <a:ext cx="501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269F-B823-4798-BB74-32FF9C38202F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51920" y="5943600"/>
            <a:ext cx="38862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nstantia"/>
              </a:rPr>
              <a:t>Prof.  Saeed Abuel Makarem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2" name="Picture 2" descr="http://www.footdoc.ca/sciatic%20nerve.jpg"/>
          <p:cNvPicPr/>
          <p:nvPr/>
        </p:nvPicPr>
        <p:blipFill>
          <a:blip r:embed="rId1"/>
          <a:stretch/>
        </p:blipFill>
        <p:spPr>
          <a:xfrm>
            <a:off x="4191120" y="380880"/>
            <a:ext cx="4724280" cy="624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3" name="Title 4" descr=""/>
          <p:cNvPicPr/>
          <p:nvPr/>
        </p:nvPicPr>
        <p:blipFill>
          <a:blip r:embed="rId2"/>
          <a:stretch/>
        </p:blipFill>
        <p:spPr>
          <a:xfrm>
            <a:off x="225360" y="450720"/>
            <a:ext cx="38829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mmon Peroneal or Medial popliteal (Fibular) Nerve</a:t>
            </a:r>
            <a:endParaRPr b="0" lang="en-US" sz="2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28600" y="838080"/>
            <a:ext cx="4191120" cy="54864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Cour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ves the lateral angle of the popliteal fossa &amp; turn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round the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lateral aspect of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Constantia"/>
              </a:rPr>
              <a:t>neck of fibula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, (Dangerous Position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n divides in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uperficial peroneal o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     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(Musculocutaneous)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0c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supply the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Latera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compartment of  the le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Deep peroneal 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       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(Anterior Tibial)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hich supply the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Anterio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artment of  the leg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Down Arrow 6"/>
          <p:cNvSpPr/>
          <p:nvPr/>
        </p:nvSpPr>
        <p:spPr>
          <a:xfrm>
            <a:off x="7010280" y="388620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Up Arrow 7"/>
          <p:cNvSpPr/>
          <p:nvPr/>
        </p:nvSpPr>
        <p:spPr>
          <a:xfrm>
            <a:off x="6934320" y="4724280"/>
            <a:ext cx="152280" cy="2286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C:\Documents and Settings\User\My Documents\Student Gray\6. Lower limb\F66122-006-f020.jpg"/>
          <p:cNvPicPr/>
          <p:nvPr/>
        </p:nvPicPr>
        <p:blipFill>
          <a:blip r:embed="rId1"/>
          <a:srcRect l="16216" t="0" r="16216" b="3520"/>
          <a:stretch/>
        </p:blipFill>
        <p:spPr>
          <a:xfrm>
            <a:off x="4572000" y="838080"/>
            <a:ext cx="4191120" cy="571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403884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uscular Branches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4191120" cy="25146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To the muscles of anterior &amp; lateral compartments of le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orsi flexors of ankl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ors of toe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vertors of foot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2" descr="C:\Users\galmadani\Desktop\Documents\Documents\Student Gray\6. Lower limb\F66122-006-f087.jpg"/>
          <p:cNvPicPr/>
          <p:nvPr/>
        </p:nvPicPr>
        <p:blipFill>
          <a:blip r:embed="rId1"/>
          <a:srcRect l="14508" t="0" r="14109" b="1666"/>
          <a:stretch/>
        </p:blipFill>
        <p:spPr>
          <a:xfrm>
            <a:off x="4876920" y="152280"/>
            <a:ext cx="3809880" cy="659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334120" y="456840"/>
            <a:ext cx="3657600" cy="61722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ciatic nerve is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most frequently injur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y…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I-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adly placed intramuscular injections in the gluteal region.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avoid thi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jections should be done into the gluteus maximus or medius (into the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upper outer quadrant of  buttoc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Most nerve lesions are incomplete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and in 90% of injuries, the common peroneal nerve is the mostly affected.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Why?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The common peroneal nerve fibers lie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superficial</a:t>
            </a: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sciatic nerv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9" descr="Untitled-5"/>
          <p:cNvPicPr/>
          <p:nvPr/>
        </p:nvPicPr>
        <p:blipFill>
          <a:blip r:embed="rId1"/>
          <a:srcRect l="0" t="0" r="0" b="22890"/>
          <a:stretch/>
        </p:blipFill>
        <p:spPr>
          <a:xfrm>
            <a:off x="2438280" y="1295280"/>
            <a:ext cx="28195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4" name="AutoShape 10"/>
          <p:cNvSpPr/>
          <p:nvPr/>
        </p:nvSpPr>
        <p:spPr>
          <a:xfrm>
            <a:off x="4191120" y="182880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9900">
              <a:alpha val="15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04920" y="304920"/>
            <a:ext cx="3657600" cy="82548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USES OF SCIATIC NERV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76F73617"/>
          <p:cNvPicPr/>
          <p:nvPr/>
        </p:nvPicPr>
        <p:blipFill>
          <a:blip r:embed="rId2"/>
          <a:srcRect l="0" t="0" r="0" b="67243"/>
          <a:stretch/>
        </p:blipFill>
        <p:spPr>
          <a:xfrm>
            <a:off x="304920" y="4343400"/>
            <a:ext cx="4800600" cy="21337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304920" y="3200400"/>
            <a:ext cx="1752480" cy="100872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-Posterior dislocation of the hip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4" dur="250" autoRev="1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5486400" cy="762120"/>
          </a:xfrm>
          <a:prstGeom prst="rect">
            <a:avLst/>
          </a:prstGeom>
          <a:solidFill>
            <a:srgbClr val="ead3d8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CIATIC NERVE INJURY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142640"/>
            <a:ext cx="4038480" cy="52578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e2d37"/>
                </a:solidFill>
                <a:uFillTx/>
                <a:latin typeface="Constantia"/>
              </a:rPr>
              <a:t>MOTOR EFFEC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Marked wasting of the muscles below the kne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Weak</a:t>
            </a: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flexion of the kne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artorius &amp; gracilis are intact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Weak extension of hip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gluteus maximus is intact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the muscles below the knee are paralyzed, and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eight of the foot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uses it to assume the </a:t>
            </a:r>
            <a:r>
              <a:rPr b="0" i="1" lang="en-US" sz="2200" spc="-1" strike="noStrike">
                <a:solidFill>
                  <a:srgbClr val="ff9900"/>
                </a:solidFill>
                <a:latin typeface="Constantia"/>
              </a:rPr>
              <a:t>plantar-flexed position,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Foot Dro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High steppage gait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4" descr="BC27097F"/>
          <p:cNvPicPr/>
          <p:nvPr/>
        </p:nvPicPr>
        <p:blipFill>
          <a:blip r:embed="rId1"/>
          <a:srcRect l="12460" t="5829" r="62982" b="62616"/>
          <a:stretch/>
        </p:blipFill>
        <p:spPr>
          <a:xfrm>
            <a:off x="4495680" y="1219320"/>
            <a:ext cx="228600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1" name="Picture 7" descr="Untitled-7"/>
          <p:cNvPicPr/>
          <p:nvPr/>
        </p:nvPicPr>
        <p:blipFill>
          <a:blip r:embed="rId2"/>
          <a:srcRect l="4808" t="6176" r="5288" b="4632"/>
          <a:stretch/>
        </p:blipFill>
        <p:spPr>
          <a:xfrm>
            <a:off x="6934320" y="3505320"/>
            <a:ext cx="220968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302" name="Straight Arrow Connector 7"/>
          <p:cNvCxnSpPr/>
          <p:nvPr/>
        </p:nvCxnSpPr>
        <p:spPr>
          <a:xfrm flipH="1" flipV="1">
            <a:off x="5790960" y="3123360"/>
            <a:ext cx="38160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3809880" cy="762120"/>
          </a:xfrm>
          <a:prstGeom prst="rect">
            <a:avLst/>
          </a:prstGeom>
          <a:solidFill>
            <a:srgbClr val="ead3d8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ensory Loss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600" y="2209320"/>
            <a:ext cx="4038480" cy="38862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nsation is lost </a:t>
            </a:r>
            <a:r>
              <a:rPr b="0" i="1" lang="en-US" sz="2400" spc="-1" strike="noStrike">
                <a:solidFill>
                  <a:srgbClr val="002060"/>
                </a:solidFill>
                <a:latin typeface="Constantia"/>
              </a:rPr>
              <a:t>below the knee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cept for a narrow area down the medial side of the lower part of the leg </a:t>
            </a:r>
            <a:r>
              <a:rPr b="1" lang="en-US" sz="2400" spc="-1" strike="noStrike">
                <a:solidFill>
                  <a:srgbClr val="0066ff"/>
                </a:solidFill>
                <a:latin typeface="Constantia"/>
              </a:rPr>
              <a:t>(blue)</a:t>
            </a:r>
            <a:r>
              <a:rPr b="0" lang="en-US" sz="2400" spc="-1" strike="noStrike">
                <a:solidFill>
                  <a:srgbClr val="0066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along the medial border of the foot as far as the ball of the big toe, which is supplied by the saphenous nerve (femoral nerv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Picture 6" descr="Untitled-2"/>
          <p:cNvPicPr/>
          <p:nvPr/>
        </p:nvPicPr>
        <p:blipFill>
          <a:blip r:embed="rId1"/>
          <a:srcRect l="14809" t="3614" r="11119" b="0"/>
          <a:stretch/>
        </p:blipFill>
        <p:spPr>
          <a:xfrm>
            <a:off x="7315200" y="228600"/>
            <a:ext cx="1447920" cy="6400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Untitled-11"/>
          <p:cNvPicPr/>
          <p:nvPr/>
        </p:nvPicPr>
        <p:blipFill>
          <a:blip r:embed="rId2"/>
          <a:srcRect l="18745" t="8176" r="15627" b="8820"/>
          <a:stretch/>
        </p:blipFill>
        <p:spPr>
          <a:xfrm>
            <a:off x="4800600" y="685800"/>
            <a:ext cx="1600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EFFECT OF SCIATIC NERVE INJURY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09480" y="1600200"/>
          <a:ext cx="8153640" cy="449568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  <a:gridCol w="271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e2d37"/>
                          </a:solidFill>
                          <a:latin typeface="Constantia"/>
                        </a:rPr>
                        <a:t>MOTOR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Paralysis o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nstantia"/>
                        </a:rPr>
                        <a:t>Movements aff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Hamstrings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Flexion of knee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Extension of 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All muscles 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Leg &amp; Foo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All movements of the  </a:t>
                      </a:r>
                      <a:r>
                        <a:rPr b="1" lang="en-US" sz="20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leg &amp; Foo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e2d37"/>
                          </a:solidFill>
                          <a:latin typeface="Constantia"/>
                        </a:rPr>
                        <a:t>SENSORY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Loss of sensation of  the areas supplied by sciatic nerve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(below knee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EXCEPT area supplied by the (Saphenous nerv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e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5680" y="207720"/>
            <a:ext cx="3240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4646"/>
                </a:solidFill>
                <a:latin typeface="Calibri"/>
              </a:rPr>
              <a:t>SCIATICA</a:t>
            </a:r>
            <a:endParaRPr b="0" lang="en-US" sz="4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638680" y="914400"/>
            <a:ext cx="3353040" cy="541008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atica describes the condition in which patients have </a:t>
            </a:r>
            <a:r>
              <a:rPr b="1" i="1" lang="en-US" sz="2400" spc="-1" strike="noStrike">
                <a:solidFill>
                  <a:srgbClr val="0070c0"/>
                </a:solidFill>
                <a:latin typeface="Constantia"/>
              </a:rPr>
              <a:t>pain along the sensory distribution of the sciatic nerv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Thus the pain is experienced in the posterior aspect of the thigh, the posterior and lateral sides of the leg, and the lateral part of the foo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19503_8244_5"/>
          <p:cNvPicPr/>
          <p:nvPr/>
        </p:nvPicPr>
        <p:blipFill>
          <a:blip r:embed="rId1"/>
          <a:srcRect l="0" t="0" r="0" b="5823"/>
          <a:stretch/>
        </p:blipFill>
        <p:spPr>
          <a:xfrm>
            <a:off x="326880" y="1066680"/>
            <a:ext cx="51595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Flowchart: Data 5"/>
          <p:cNvSpPr/>
          <p:nvPr/>
        </p:nvSpPr>
        <p:spPr>
          <a:xfrm>
            <a:off x="685800" y="1828800"/>
            <a:ext cx="457200" cy="685800"/>
          </a:xfrm>
          <a:prstGeom prst="flowChartInputOutput">
            <a:avLst/>
          </a:prstGeom>
          <a:solidFill>
            <a:srgbClr val="d5a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9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28240" y="3962520"/>
            <a:ext cx="6095880" cy="266688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auses of  Sciatica: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lapse of an intervertebral disc, with pressure on one or roots of the lower lumbar and sacral spinal nerve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ssure on the sacral plexus or sciatic nerve by an intrapelvic tumor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flammation of the sciatic nerve or its terminal branch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7" descr="IDH_ADAM"/>
          <p:cNvPicPr/>
          <p:nvPr/>
        </p:nvPicPr>
        <p:blipFill>
          <a:blip r:embed="rId1"/>
          <a:srcRect l="4611" t="7665" r="4035" b="13523"/>
          <a:stretch/>
        </p:blipFill>
        <p:spPr>
          <a:xfrm>
            <a:off x="380880" y="228600"/>
            <a:ext cx="50292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5" name="Picture 8" descr="csctovdy"/>
          <p:cNvPicPr/>
          <p:nvPr/>
        </p:nvPicPr>
        <p:blipFill>
          <a:blip r:embed="rId2"/>
          <a:stretch/>
        </p:blipFill>
        <p:spPr>
          <a:xfrm>
            <a:off x="5611680" y="316080"/>
            <a:ext cx="3054600" cy="28843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9" descr="fig055"/>
          <p:cNvPicPr/>
          <p:nvPr/>
        </p:nvPicPr>
        <p:blipFill>
          <a:blip r:embed="rId3"/>
          <a:srcRect l="0" t="18731" r="0" b="0"/>
          <a:stretch/>
        </p:blipFill>
        <p:spPr>
          <a:xfrm>
            <a:off x="6400800" y="3276720"/>
            <a:ext cx="2438280" cy="3309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4876920" cy="106668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Calibri"/>
              </a:rPr>
              <a:t>Common Peroneal Nerve Injury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52120" y="2057040"/>
            <a:ext cx="3581640" cy="259092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common peroneal ner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s in an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exposed posi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s it leaves the popliteal fossa through its lateral angl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n it winds around neck of the fibula to ent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eroneus longu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uscle, 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(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Dangerous Position)!!!!!!!!!!!!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5" descr="Untitled-8"/>
          <p:cNvPicPr/>
          <p:nvPr/>
        </p:nvPicPr>
        <p:blipFill>
          <a:blip r:embed="rId1"/>
          <a:srcRect l="16815" t="5893" r="13526" b="4557"/>
          <a:stretch/>
        </p:blipFill>
        <p:spPr>
          <a:xfrm>
            <a:off x="380880" y="1447920"/>
            <a:ext cx="1371600" cy="51814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ashcast"/>
          <p:cNvPicPr/>
          <p:nvPr/>
        </p:nvPicPr>
        <p:blipFill>
          <a:blip r:embed="rId2"/>
          <a:srcRect l="12623" t="0" r="7232" b="3805"/>
          <a:stretch/>
        </p:blipFill>
        <p:spPr>
          <a:xfrm>
            <a:off x="5486400" y="228600"/>
            <a:ext cx="3276720" cy="53341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6"/>
          <p:cNvSpPr/>
          <p:nvPr/>
        </p:nvSpPr>
        <p:spPr>
          <a:xfrm>
            <a:off x="3276720" y="5657760"/>
            <a:ext cx="5638680" cy="978120"/>
          </a:xfrm>
          <a:prstGeom prst="rect">
            <a:avLst/>
          </a:prstGeom>
          <a:solidFill>
            <a:srgbClr val="b54a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ommon peroneal nerve is commonly inj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actur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neck of the fibula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ss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casts or spli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5257440" y="1752480"/>
            <a:ext cx="3886200" cy="510552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following clinical features are presen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 u="sng">
                <a:solidFill>
                  <a:srgbClr val="ff33cc"/>
                </a:solidFill>
                <a:uFillTx/>
                <a:latin typeface="Constantia"/>
              </a:rPr>
              <a:t>Motor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The muscles of the anterior and lateral compartments of the leg are paralyzed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a result, the opposing muscles, the plantar flexors of the ankle joint and the invertors of the subtalar joints,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cause the foot to be </a:t>
            </a: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Plantar Flexed (Foot Drop) and Inverted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 attitude referred to as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Talipes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Equinovarus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3" name="Picture 7" descr="umns008_0001"/>
          <p:cNvPicPr/>
          <p:nvPr/>
        </p:nvPicPr>
        <p:blipFill>
          <a:blip r:embed="rId1"/>
          <a:srcRect l="12137" t="6209" r="0" b="5438"/>
          <a:stretch/>
        </p:blipFill>
        <p:spPr>
          <a:xfrm>
            <a:off x="685800" y="304920"/>
            <a:ext cx="3048120" cy="61722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4"/>
          <p:cNvSpPr/>
          <p:nvPr/>
        </p:nvSpPr>
        <p:spPr>
          <a:xfrm>
            <a:off x="4114800" y="228600"/>
            <a:ext cx="4724280" cy="137376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festations of Common Peroneal Nerv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Content Placeholder 4" descr="B84D3ED7"/>
          <p:cNvPicPr/>
          <p:nvPr/>
        </p:nvPicPr>
        <p:blipFill>
          <a:blip r:embed="rId2"/>
          <a:srcRect l="0" t="0" r="0" b="30798"/>
          <a:stretch/>
        </p:blipFill>
        <p:spPr>
          <a:xfrm>
            <a:off x="3048120" y="4952880"/>
            <a:ext cx="2265120" cy="19051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480" y="2209680"/>
            <a:ext cx="7925040" cy="335304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b54a10"/>
                </a:solidFill>
                <a:uFillTx/>
                <a:latin typeface="Constantia"/>
              </a:rPr>
              <a:t>By the end of the lecture, you should be able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Describe the anatomy (origin, course &amp; distribution) of the sciatic ner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List the branches of the sciatic ner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Describe briefly the </a:t>
            </a:r>
            <a:r>
              <a:rPr b="1" lang="en-US" sz="2800" spc="-1" strike="noStrike">
                <a:solidFill>
                  <a:srgbClr val="5e2d37"/>
                </a:solidFill>
                <a:latin typeface="Constantia"/>
              </a:rPr>
              <a:t>main motor and sensory manifestations in case of injury of the sciatic nerve or its main branch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3886200" cy="160020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46"/>
                </a:solidFill>
                <a:latin typeface="Calibri"/>
              </a:rPr>
              <a:t>Common Peroneal Nerve Injury</a:t>
            </a:r>
            <a:br>
              <a:rPr sz="2800"/>
            </a:br>
            <a:endParaRPr b="0" lang="en-US" sz="2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3962520" cy="2819520"/>
          </a:xfrm>
          <a:prstGeom prst="rect">
            <a:avLst/>
          </a:prstGeom>
          <a:solidFill>
            <a:srgbClr val="d3eef5"/>
          </a:solidFill>
          <a:ln w="28440">
            <a:solidFill>
              <a:srgbClr val="000000"/>
            </a:solidFill>
            <a:miter/>
          </a:ln>
        </p:spPr>
        <p:txBody>
          <a:bodyPr lIns="18360" rIns="18360" anchor="t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Sensor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nsation is lost between the first and second to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rsum of the foot and to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dial side of the big to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teral side of the le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8" name="Content Placeholder 4" descr="4FEAB48A"/>
          <p:cNvPicPr/>
          <p:nvPr/>
        </p:nvPicPr>
        <p:blipFill>
          <a:blip r:embed="rId1"/>
          <a:srcRect l="38337" t="17248" r="38315" b="15073"/>
          <a:stretch/>
        </p:blipFill>
        <p:spPr>
          <a:xfrm>
            <a:off x="4343400" y="152280"/>
            <a:ext cx="3429000" cy="57150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329" name="TextBox 7"/>
          <p:cNvSpPr/>
          <p:nvPr/>
        </p:nvSpPr>
        <p:spPr>
          <a:xfrm>
            <a:off x="7848720" y="2057400"/>
            <a:ext cx="1143000" cy="520200"/>
          </a:xfrm>
          <a:prstGeom prst="rect">
            <a:avLst/>
          </a:prstGeom>
          <a:solidFill>
            <a:srgbClr val="a6dd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ficial peron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0" name="Straight Arrow Connector 9"/>
          <p:cNvCxnSpPr/>
          <p:nvPr/>
        </p:nvCxnSpPr>
        <p:spPr>
          <a:xfrm flipV="1">
            <a:off x="6858000" y="2285640"/>
            <a:ext cx="129600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Straight Arrow Connector 11"/>
          <p:cNvCxnSpPr/>
          <p:nvPr/>
        </p:nvCxnSpPr>
        <p:spPr>
          <a:xfrm flipH="1">
            <a:off x="5562360" y="4114800"/>
            <a:ext cx="76248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f2a4a7"/>
          </a:solidFill>
          <a:ln w="9360">
            <a:solidFill>
              <a:srgbClr val="2da2bf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ibial Nerve Injury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647960" y="1371600"/>
            <a:ext cx="4267080" cy="50292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of its deep and protected position, the tibial nerve is </a:t>
            </a:r>
            <a:r>
              <a:rPr b="0" lang="en-US" sz="2000" spc="-1" strike="noStrike">
                <a:solidFill>
                  <a:srgbClr val="002060"/>
                </a:solidFill>
                <a:latin typeface="Constantia"/>
              </a:rPr>
              <a:t>rarely injur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ivision results in the following clinical featur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</a:rPr>
              <a:t>Motor: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All the muscles in the back of the leg and the sole of the foot are paralyz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opposing muscles </a:t>
            </a:r>
            <a:r>
              <a:rPr b="0" i="1" lang="en-US" sz="2000" spc="-1" strike="noStrike">
                <a:solidFill>
                  <a:srgbClr val="ff0000"/>
                </a:solidFill>
                <a:latin typeface="Constantia"/>
              </a:rPr>
              <a:t>Dorsiflex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oot at the ankle joint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and Evert the foo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at the subtalar joint, an attitude referred to as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Taleps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Calcaneovalg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4" name="Content Placeholder 4" descr="67B20F21"/>
          <p:cNvPicPr/>
          <p:nvPr/>
        </p:nvPicPr>
        <p:blipFill>
          <a:blip r:embed="rId1"/>
          <a:srcRect l="0" t="1782" r="12120" b="18007"/>
          <a:stretch/>
        </p:blipFill>
        <p:spPr>
          <a:xfrm>
            <a:off x="228600" y="1676520"/>
            <a:ext cx="43434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335" name="Straight Arrow Connector 6"/>
          <p:cNvCxnSpPr/>
          <p:nvPr/>
        </p:nvCxnSpPr>
        <p:spPr>
          <a:xfrm>
            <a:off x="1447920" y="4876920"/>
            <a:ext cx="83880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8120" y="304920"/>
            <a:ext cx="5486400" cy="761760"/>
          </a:xfrm>
          <a:prstGeom prst="rect">
            <a:avLst/>
          </a:prstGeom>
          <a:solidFill>
            <a:srgbClr val="f2a4a7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Calibri"/>
              </a:rPr>
              <a:t>Tibial Nerve Injury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304920"/>
            <a:ext cx="2133720" cy="259056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lIns="18360" rIns="18360"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Sensory los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n the Lateral side of the leg and foot &amp; </a:t>
            </a:r>
            <a:r>
              <a:rPr b="1" lang="en-US" sz="2400" spc="-1" strike="noStrike">
                <a:solidFill>
                  <a:srgbClr val="0066ff"/>
                </a:solidFill>
                <a:latin typeface="Constantia"/>
              </a:rPr>
              <a:t>trophic ulcer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so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7" descr="BC27097F"/>
          <p:cNvPicPr/>
          <p:nvPr/>
        </p:nvPicPr>
        <p:blipFill>
          <a:blip r:embed="rId1"/>
          <a:srcRect l="12323" t="42372" r="56133" b="23858"/>
          <a:stretch/>
        </p:blipFill>
        <p:spPr>
          <a:xfrm>
            <a:off x="228600" y="2971800"/>
            <a:ext cx="2209680" cy="3581280"/>
          </a:xfrm>
          <a:prstGeom prst="rect">
            <a:avLst/>
          </a:prstGeom>
          <a:ln w="28440">
            <a:solidFill>
              <a:srgbClr val="da1f28"/>
            </a:solidFill>
            <a:miter/>
          </a:ln>
        </p:spPr>
      </p:pic>
      <p:pic>
        <p:nvPicPr>
          <p:cNvPr id="339" name="Picture 2" descr="C:\Documents and Settings\User\My Documents\Student Gray\6. Lower limb\F66122-006-f019.jpg"/>
          <p:cNvPicPr/>
          <p:nvPr/>
        </p:nvPicPr>
        <p:blipFill>
          <a:blip r:embed="rId2"/>
          <a:srcRect l="0" t="0" r="0" b="3635"/>
          <a:stretch/>
        </p:blipFill>
        <p:spPr>
          <a:xfrm>
            <a:off x="2514600" y="1600200"/>
            <a:ext cx="640080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14440"/>
            <a:ext cx="2286000" cy="7048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2590920" cy="3352680"/>
          </a:xfrm>
          <a:prstGeom prst="rect">
            <a:avLst/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 fontScale="92000"/>
          </a:bodyPr>
          <a:p>
            <a:pPr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Sacral the Plexu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L4,5, S1, 2,3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the largest branch of the plex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the largest nerve of the bod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Content Placeholder 4" descr="F66122-005-f060.jpg"/>
          <p:cNvPicPr/>
          <p:nvPr/>
        </p:nvPicPr>
        <p:blipFill>
          <a:blip r:embed="rId1"/>
          <a:srcRect l="0" t="0" r="11981" b="3330"/>
          <a:stretch/>
        </p:blipFill>
        <p:spPr>
          <a:xfrm>
            <a:off x="2819520" y="304920"/>
            <a:ext cx="6095880" cy="6019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4419360" cy="685800"/>
          </a:xfrm>
          <a:prstGeom prst="rect">
            <a:avLst/>
          </a:prstGeom>
          <a:solidFill>
            <a:srgbClr val="ead3d8"/>
          </a:solidFill>
          <a:ln w="381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acral Plexu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52280" y="1219320"/>
            <a:ext cx="3657600" cy="45720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700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onstantia"/>
              </a:rPr>
              <a:t>Formation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entral (anterior) rami of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(L4,5  S1,2,3 &amp; 4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art of L4 &amp; whole L5 (lumbosacral trunk) + S1,2,3 and most of S4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onstantia"/>
              </a:rPr>
              <a:t>Site: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n the posterior pelvic wal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front of Piriformis musc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Content Placeholder 4" descr="F66122-005-f061.jpg"/>
          <p:cNvPicPr/>
          <p:nvPr/>
        </p:nvPicPr>
        <p:blipFill>
          <a:blip r:embed="rId1"/>
          <a:srcRect l="0" t="0" r="0" b="3350"/>
          <a:stretch/>
        </p:blipFill>
        <p:spPr>
          <a:xfrm>
            <a:off x="3962520" y="1066680"/>
            <a:ext cx="4952880" cy="5334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2" name="TextBox 5"/>
          <p:cNvSpPr/>
          <p:nvPr/>
        </p:nvSpPr>
        <p:spPr>
          <a:xfrm>
            <a:off x="7696080" y="2514600"/>
            <a:ext cx="1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Straight Arrow Connector 14"/>
          <p:cNvCxnSpPr/>
          <p:nvPr/>
        </p:nvCxnSpPr>
        <p:spPr>
          <a:xfrm flipH="1" flipV="1">
            <a:off x="7772040" y="312336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4" name="TextBox 15"/>
          <p:cNvSpPr/>
          <p:nvPr/>
        </p:nvSpPr>
        <p:spPr>
          <a:xfrm>
            <a:off x="7620120" y="3200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17"/>
          <p:cNvCxnSpPr/>
          <p:nvPr/>
        </p:nvCxnSpPr>
        <p:spPr>
          <a:xfrm flipH="1">
            <a:off x="7848360" y="3659040"/>
            <a:ext cx="381600" cy="7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373392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Course &amp; Distribution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51920" y="1218960"/>
            <a:ext cx="3962520" cy="5257800"/>
          </a:xfrm>
          <a:prstGeom prst="rect">
            <a:avLst/>
          </a:prstGeom>
          <a:solidFill>
            <a:srgbClr val="fbe0d1"/>
          </a:solidFill>
          <a:ln w="9360">
            <a:solidFill>
              <a:srgbClr val="2da2bf"/>
            </a:solidFill>
            <a:miter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It leaves the pelvis </a:t>
            </a: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through greater sciatic foramen</a:t>
            </a: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, </a:t>
            </a: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below the piriformi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It passes in the gluteal region </a:t>
            </a: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(between ischial tuberosity &amp; greater trochanter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Then it enters the  </a:t>
            </a: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posterior compartment of the thigh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</a:rPr>
              <a:t>Termination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middle of the back of th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igh it divides into 2 terminal branch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Tibial</a:t>
            </a: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 (medial popliteal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e2d37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Common Peroneal,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or lateral popliteal or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 (Fibular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Content Placeholder 6" descr="lumbosacral 006.jpg"/>
          <p:cNvPicPr/>
          <p:nvPr/>
        </p:nvPicPr>
        <p:blipFill>
          <a:blip r:embed="rId1"/>
          <a:stretch/>
        </p:blipFill>
        <p:spPr>
          <a:xfrm>
            <a:off x="4191120" y="304920"/>
            <a:ext cx="4724280" cy="6248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ranches of Sciatic Nerve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28240" y="1904760"/>
            <a:ext cx="2514600" cy="335268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onstantia"/>
              </a:rPr>
              <a:t>1</a:t>
            </a:r>
            <a:r>
              <a:rPr b="1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.  Cutaneous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o all leg &amp; foot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EXCEPT: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reas supplied by the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saphenous nerve (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branch of femoral nerv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2" descr="C:\Documents and Settings\User\My Documents\Student Gray\6. Lower limb\F66122-006-f019.jpg"/>
          <p:cNvPicPr/>
          <p:nvPr/>
        </p:nvPicPr>
        <p:blipFill>
          <a:blip r:embed="rId1"/>
          <a:srcRect l="0" t="0" r="0" b="3635"/>
          <a:stretch/>
        </p:blipFill>
        <p:spPr>
          <a:xfrm>
            <a:off x="2819520" y="1066680"/>
            <a:ext cx="609588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Rectangle 6"/>
          <p:cNvSpPr/>
          <p:nvPr/>
        </p:nvSpPr>
        <p:spPr>
          <a:xfrm>
            <a:off x="7162920" y="4267080"/>
            <a:ext cx="1752480" cy="304920"/>
          </a:xfrm>
          <a:prstGeom prst="rect">
            <a:avLst/>
          </a:prstGeom>
          <a:noFill/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2819520" y="4419720"/>
            <a:ext cx="1904760" cy="457200"/>
          </a:xfrm>
          <a:prstGeom prst="rect">
            <a:avLst/>
          </a:prstGeom>
          <a:noFill/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28240" y="838080"/>
            <a:ext cx="4419720" cy="556272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2. Muscular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To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Hamstrings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(flexors of knee &amp; extensors of the hip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through tibial  part) 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mstring part of Adductor Magn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ng head of Biceps Femor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mitendinos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mimembranos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B. The short head of biceps receives its branch from the lateral popliteal (common peroneal) ner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3" descr="C:\Users\galmadani\Desktop\Documents\Documents\Student Gray\6. Lower limb\F66122-006-f067.jpg"/>
          <p:cNvPicPr/>
          <p:nvPr/>
        </p:nvPicPr>
        <p:blipFill>
          <a:blip r:embed="rId1"/>
          <a:srcRect l="11113" t="0" r="13336" b="3722"/>
          <a:stretch/>
        </p:blipFill>
        <p:spPr>
          <a:xfrm>
            <a:off x="4800600" y="380880"/>
            <a:ext cx="411480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365760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ibial  Nerve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51920" y="837720"/>
            <a:ext cx="3886200" cy="579132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Cour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Bisect the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popliteal foss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Then d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escends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through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the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posterior compartment of leg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, accompanied with posterior tibi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Passes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deep to flexor retinaculum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(through the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tarsal tunnel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ehind medial malleolu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) to reach the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sole of foot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where it divides into 2 terminal branches </a:t>
            </a:r>
            <a:r>
              <a:rPr b="0" lang="en-US" sz="2400" spc="-1" strike="noStrike">
                <a:solidFill>
                  <a:srgbClr val="c00000"/>
                </a:solidFill>
                <a:latin typeface="Constantia"/>
              </a:rPr>
              <a:t>(Medial &amp; Lateral planter nerv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Content Placeholder 4" descr="F66122-006-f085.jpg"/>
          <p:cNvPicPr/>
          <p:nvPr/>
        </p:nvPicPr>
        <p:blipFill>
          <a:blip r:embed="rId1"/>
          <a:srcRect l="13465" t="0" r="13465" b="3031"/>
          <a:stretch/>
        </p:blipFill>
        <p:spPr>
          <a:xfrm>
            <a:off x="4114800" y="228600"/>
            <a:ext cx="3581280" cy="640080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9" name="Picture 2" descr="C:\Documents and Settings\User\My Documents\Student Gray\6. Lower limb\F66122-006-f120.jpg"/>
          <p:cNvPicPr/>
          <p:nvPr/>
        </p:nvPicPr>
        <p:blipFill>
          <a:blip r:embed="rId2"/>
          <a:srcRect l="12385" t="0" r="13330" b="32396"/>
          <a:stretch/>
        </p:blipFill>
        <p:spPr>
          <a:xfrm>
            <a:off x="7848720" y="4724280"/>
            <a:ext cx="1143000" cy="1981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cxnSp>
        <p:nvCxnSpPr>
          <p:cNvPr id="280" name="Straight Arrow Connector 7"/>
          <p:cNvCxnSpPr/>
          <p:nvPr/>
        </p:nvCxnSpPr>
        <p:spPr>
          <a:xfrm flipH="1" flipV="1">
            <a:off x="4799880" y="495216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35812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scular Branches</a:t>
            </a:r>
            <a:endParaRPr b="0" lang="en-US" sz="2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3581280" cy="327636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 fontScale="94000"/>
          </a:bodyPr>
          <a:p>
            <a:pPr marL="483480" indent="-48348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Muscles of posterior compartment of leg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(Planter flexors of the ankle, Flexors of toes.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Intrinsic muscles of sole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-48348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ONE Invertor of foot (tibialis posterior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83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3" name="Picture 2" descr="C:\Users\galmadani\Desktop\Documents\Documents\Student Gray\6. Lower limb\F66122-006-f082.jpg"/>
          <p:cNvPicPr/>
          <p:nvPr/>
        </p:nvPicPr>
        <p:blipFill>
          <a:blip r:embed="rId1"/>
          <a:srcRect l="0" t="0" r="0" b="2189"/>
          <a:stretch/>
        </p:blipFill>
        <p:spPr>
          <a:xfrm>
            <a:off x="4114800" y="304920"/>
            <a:ext cx="4800600" cy="6324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5:38:32Z</dcterms:created>
  <dc:creator>Prof. Saeed Abuel makarem</dc:creator>
  <dc:description/>
  <dc:language>en-US</dc:language>
  <cp:lastModifiedBy>saeed1</cp:lastModifiedBy>
  <dcterms:modified xsi:type="dcterms:W3CDTF">2015-12-14T16:48:57Z</dcterms:modified>
  <cp:revision>64</cp:revision>
  <dc:subject/>
  <dc:title>SCIATIC NE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iatic nerve">
    <vt:lpwstr>Prof. saeed abuel makarem</vt:lpwstr>
  </property>
</Properties>
</file>