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FBCE-B135-4E01-AE2C-92F4C52B0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47D3-FD08-4031-93A7-B1D5FDDA17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77DF-43FE-45A1-9699-92668B3AE2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6893-7E77-4F7E-9E65-9C876038FC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E5C2-A77A-4CC3-8B5A-485877D2F5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5ECB-4CF7-4BC7-9987-E0679FBD9E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23EA-682E-4FD2-8074-87F4577591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A3CB-89A8-4F00-8EC4-B1BBB01096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DFC8-B79E-4731-B3D0-7D6C988153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D47B-FD9A-49F8-A49B-3F07F6D83C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7644-0C2D-498D-A45B-72C0378720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C1BF-F811-4E7A-91DB-AF9E669310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7839-E4FB-46E9-8D69-A6E3C783F1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B3A2-99B6-4D85-9BD8-BD0E48E63A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7F3D-B1F1-4413-BA5D-3AB12687F0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EB1C-983E-400F-98C5-36FFC1B92A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83951-1960-453E-BD7A-98D94BE6B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2DCAA-A826-436E-B2F7-F092C5B1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52CD7-AB65-45C9-8F88-17939FA3E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07FFE-9FDD-4834-B953-E0122675D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E0B8-2A15-49C0-AFB6-3148E9AE7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06D0-0251-4DC9-B38C-1AEEC347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C239-C936-42D2-8B0D-B28A28D3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38C1-7FE6-4510-A782-E4A1D6E2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489A-727A-45E3-A199-61BAE6C0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6BEB-8EA9-468F-AA3D-90B37CC1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83DB-3A96-481B-8AFD-28EAA96E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C730A-7C76-4BF3-8914-B8916E6E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2BC3-43F2-4778-885D-EE657D33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5923-C38E-43C4-BB36-F2452884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6095-D9CF-4E35-AD81-8BCF5691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47E7-FD97-44E8-8B75-1929C0E77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7FA8-1F80-44FD-9384-D538D6CC1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0E4E27-BA7B-4E88-A178-AF644328E9B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138D76-CFD5-47EA-8B0B-F97AEAA0F33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731666-B9A0-4668-A786-5999A0D6F33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3CC16F-8245-4567-8422-1479EDA0E59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984F37-B3ED-47D9-9AE6-C3EE4EDF96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3222F-BBE7-409F-9786-FD0B17C5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FA6C9E-25CD-4569-B32C-A94EF8B680D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B83CE3-1830-4409-B938-7D13DADE85A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5326C9-FA78-4EC0-9C13-6EDFEB8FC2D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727F08-A4FE-47F8-90A1-A156FB9F132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1F03AA-A483-4940-B183-5C26A528116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F649E6-D041-4E8D-8DD3-B84D8F4DA79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25DD99-6A0A-46F0-AF84-4618D781A9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BE6B5-1D08-4BA4-B326-D72B9CE9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76786-36DF-459B-AA56-C5068CE8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56CD1-5523-4C9B-9BFC-9FC82360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7D206-5527-4870-B011-F2161DDF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1526E-4374-4C4A-AA2D-28DE038F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88196-9AE7-4409-914D-D945B299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/24/2015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DF78-72F1-42BD-8BE2-EDFCDCC08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19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18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5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0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3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8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19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20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21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22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23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24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25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26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/24/2015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070A-831A-4184-A162-895DA4155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9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1" name="Group 18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2" name="Freeform 5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3" name="Freeform 6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4" name="Freeform 7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5" name="Freeform 8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6" name="Freeform 9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07" name="Freeform 10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" name="Freeform 3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7"/>
          </p:nvPr>
        </p:nvSpPr>
        <p:spPr>
          <a:xfrm>
            <a:off x="5568840" y="646704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8"/>
          </p:nvPr>
        </p:nvSpPr>
        <p:spPr>
          <a:xfrm>
            <a:off x="8665920" y="646704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C178-0D2B-4CA0-A8F7-95908FEFCD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34560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ERVICAL VERTEBRA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Footer Placeholder 5"/>
          <p:cNvSpPr/>
          <p:nvPr/>
        </p:nvSpPr>
        <p:spPr>
          <a:xfrm>
            <a:off x="179280" y="5589720"/>
            <a:ext cx="4248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Picture 2" descr="E:\dad\Student Gray\8. Head and neck\F66122-008-f008.jpg"/>
          <p:cNvPicPr/>
          <p:nvPr/>
        </p:nvPicPr>
        <p:blipFill>
          <a:blip r:embed="rId1"/>
          <a:srcRect l="1411" t="0" r="2830" b="2301"/>
          <a:stretch/>
        </p:blipFill>
        <p:spPr>
          <a:xfrm>
            <a:off x="3635280" y="189000"/>
            <a:ext cx="5329440" cy="6480000"/>
          </a:xfrm>
          <a:prstGeom prst="rect">
            <a:avLst/>
          </a:prstGeom>
          <a:ln w="0">
            <a:noFill/>
          </a:ln>
        </p:spPr>
      </p:pic>
      <p:sp>
        <p:nvSpPr>
          <p:cNvPr id="159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EA70-D521-4175-9E4D-C59FEEED5E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788000" y="188640"/>
            <a:ext cx="4032000" cy="863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Joints of Cervical Vertebrae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50560" y="260280"/>
            <a:ext cx="4321080" cy="1944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Atlanto-Occipital joint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ynovial joints between the occipital condyles of skull  and the upper facets on the lateral mass of the atla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Footer Placeholder 5"/>
          <p:cNvSpPr/>
          <p:nvPr/>
        </p:nvSpPr>
        <p:spPr>
          <a:xfrm>
            <a:off x="4716360" y="6248520"/>
            <a:ext cx="4103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4" name="Picture 2" descr="E:\dad\Student Gray\8. Head and neck\F66122-008-f023.jpg"/>
          <p:cNvPicPr/>
          <p:nvPr/>
        </p:nvPicPr>
        <p:blipFill>
          <a:blip r:embed="rId1"/>
          <a:srcRect l="4957" t="4527" r="17131" b="9075"/>
          <a:stretch/>
        </p:blipFill>
        <p:spPr>
          <a:xfrm>
            <a:off x="4762440" y="1125360"/>
            <a:ext cx="4130640" cy="5000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E:\dad\Student Gray\8. Head and neck\F66122-008-f008.jpg"/>
          <p:cNvPicPr/>
          <p:nvPr/>
        </p:nvPicPr>
        <p:blipFill>
          <a:blip r:embed="rId2"/>
          <a:srcRect l="44373" t="55549" r="2923" b="2894"/>
          <a:stretch/>
        </p:blipFill>
        <p:spPr>
          <a:xfrm>
            <a:off x="324000" y="2349360"/>
            <a:ext cx="4248000" cy="431964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10"/>
          <p:cNvSpPr/>
          <p:nvPr/>
        </p:nvSpPr>
        <p:spPr>
          <a:xfrm>
            <a:off x="4788000" y="5300640"/>
            <a:ext cx="936360" cy="21600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Slide Number Placeholder 10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D931-F65D-4074-B281-D8034B3B37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5724360" y="6453360"/>
            <a:ext cx="29512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9" name="Picture 2" descr="Untitled-1 copy"/>
          <p:cNvPicPr/>
          <p:nvPr/>
        </p:nvPicPr>
        <p:blipFill>
          <a:blip r:embed="rId1"/>
          <a:srcRect l="16416" t="2751" r="13655" b="2751"/>
          <a:stretch/>
        </p:blipFill>
        <p:spPr>
          <a:xfrm>
            <a:off x="250920" y="378000"/>
            <a:ext cx="5473440" cy="648000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3"/>
          <p:cNvSpPr/>
          <p:nvPr/>
        </p:nvSpPr>
        <p:spPr>
          <a:xfrm>
            <a:off x="6012000" y="189000"/>
            <a:ext cx="2952720" cy="3750840"/>
          </a:xfrm>
          <a:prstGeom prst="wedgeRectCallout">
            <a:avLst>
              <a:gd name="adj1" fmla="val -130870"/>
              <a:gd name="adj2" fmla="val 52550"/>
            </a:avLst>
          </a:prstGeom>
          <a:solidFill>
            <a:srgbClr val="7030a0"/>
          </a:solidFill>
          <a:ln w="12600">
            <a:solidFill>
              <a:srgbClr val="ffffff"/>
            </a:solidFill>
            <a:miter/>
          </a:ln>
          <a:effectLst>
            <a:outerShdw dist="117181" dir="783836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Atlanto-occipital joints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re synovial joints between the occipital condyles, and the facets on the superior surfaces of the lateral masses of the atlas below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6"/>
          <p:cNvSpPr/>
          <p:nvPr/>
        </p:nvSpPr>
        <p:spPr>
          <a:xfrm rot="20208000">
            <a:off x="3112560" y="3708360"/>
            <a:ext cx="306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Garamond"/>
              </a:rPr>
              <a:t>atl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Text Box 7"/>
          <p:cNvSpPr/>
          <p:nvPr/>
        </p:nvSpPr>
        <p:spPr>
          <a:xfrm rot="20208000">
            <a:off x="1977840" y="4154400"/>
            <a:ext cx="420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Garamond"/>
              </a:rPr>
              <a:t>axi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7439760" y="57927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8295120" y="5794200"/>
            <a:ext cx="30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7903800" y="612468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7656480" y="5411880"/>
            <a:ext cx="2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L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Slide Number Placeholder 12"/>
          <p:cNvSpPr/>
          <p:nvPr/>
        </p:nvSpPr>
        <p:spPr>
          <a:xfrm>
            <a:off x="8666280" y="646740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9252-E249-4119-9667-ED70D30CF6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ut thruBlk="true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4"/>
          <p:cNvSpPr/>
          <p:nvPr/>
        </p:nvSpPr>
        <p:spPr>
          <a:xfrm>
            <a:off x="539640" y="6093000"/>
            <a:ext cx="79250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10920" y="274680"/>
            <a:ext cx="4105080" cy="12621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MOVEMENTS IN THE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ATLANTO-OCCIPITAL </a:t>
            </a: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JOINT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4000" y="2421000"/>
            <a:ext cx="4103640" cy="2736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The joints are capable of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exion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tension, an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teral flexion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hey do not rota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1" name="Picture 4" descr="Untitled-37a"/>
          <p:cNvPicPr/>
          <p:nvPr/>
        </p:nvPicPr>
        <p:blipFill>
          <a:blip r:embed="rId1"/>
          <a:stretch/>
        </p:blipFill>
        <p:spPr>
          <a:xfrm>
            <a:off x="5076720" y="0"/>
            <a:ext cx="3095640" cy="3500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Untitled-3"/>
          <p:cNvPicPr/>
          <p:nvPr/>
        </p:nvPicPr>
        <p:blipFill>
          <a:blip r:embed="rId2"/>
          <a:stretch/>
        </p:blipFill>
        <p:spPr>
          <a:xfrm>
            <a:off x="5076720" y="3500280"/>
            <a:ext cx="3168720" cy="316872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7"/>
          <p:cNvSpPr/>
          <p:nvPr/>
        </p:nvSpPr>
        <p:spPr>
          <a:xfrm>
            <a:off x="8666280" y="646740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E6F2-0916-498E-89BB-E38B8DCE47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ut thruBlk="true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79280" y="4220640"/>
            <a:ext cx="6840720" cy="2232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 fontScale="84000"/>
          </a:bodyPr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Atlanto-axial joints are </a:t>
            </a:r>
            <a:r>
              <a:rPr b="1" i="1" lang="en-US" sz="2800" spc="-1" strike="noStrike">
                <a:solidFill>
                  <a:srgbClr val="ffff00"/>
                </a:solidFill>
                <a:latin typeface="Garamond"/>
              </a:rPr>
              <a:t>three</a:t>
            </a:r>
            <a:r>
              <a:rPr b="1" i="1" lang="en-US" sz="2400" spc="-1" strike="noStrike">
                <a:solidFill>
                  <a:srgbClr val="ffff00"/>
                </a:solidFill>
                <a:latin typeface="Garamond"/>
              </a:rPr>
              <a:t> synovial joint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e median, between the odontoid process and the anterior small arch of  atla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wo are lateral and lie between the lateral masses of the atlas and superior facets on the body of the axi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5" name="Picture 3" descr="Untitled-4"/>
          <p:cNvPicPr/>
          <p:nvPr/>
        </p:nvPicPr>
        <p:blipFill>
          <a:blip r:embed="rId1"/>
          <a:srcRect l="0" t="4448" r="0" b="6656"/>
          <a:stretch/>
        </p:blipFill>
        <p:spPr>
          <a:xfrm>
            <a:off x="638280" y="1197000"/>
            <a:ext cx="7867440" cy="287964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4"/>
          <p:cNvSpPr/>
          <p:nvPr/>
        </p:nvSpPr>
        <p:spPr>
          <a:xfrm>
            <a:off x="5630760" y="1197000"/>
            <a:ext cx="925560" cy="360360"/>
          </a:xfrm>
          <a:prstGeom prst="roundRect">
            <a:avLst>
              <a:gd name="adj" fmla="val 16667"/>
            </a:avLst>
          </a:prstGeom>
          <a:solidFill>
            <a:srgbClr val="0099cc">
              <a:alpha val="15000"/>
            </a:srgbClr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5624640" y="1557360"/>
            <a:ext cx="925560" cy="358920"/>
          </a:xfrm>
          <a:prstGeom prst="roundRect">
            <a:avLst>
              <a:gd name="adj" fmla="val 16667"/>
            </a:avLst>
          </a:prstGeom>
          <a:solidFill>
            <a:srgbClr val="0099cc">
              <a:alpha val="15000"/>
            </a:srgbClr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1908000" y="189000"/>
            <a:ext cx="5688360" cy="581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TLANTO-AXIAL JO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Footer Placeholder 7"/>
          <p:cNvSpPr/>
          <p:nvPr/>
        </p:nvSpPr>
        <p:spPr>
          <a:xfrm>
            <a:off x="5568840" y="6093000"/>
            <a:ext cx="35751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Slide Number Placeholder 8"/>
          <p:cNvSpPr/>
          <p:nvPr/>
        </p:nvSpPr>
        <p:spPr>
          <a:xfrm>
            <a:off x="8666280" y="646740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80DE-E932-4E00-BB5A-8CC4876C4B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ut thruBlk="true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4500720" y="6237360"/>
            <a:ext cx="3963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467160" cy="58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MOVEMENT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3602160" cy="252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 fontScale="9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E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xtensive rotation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f the atlas and the skull (and thus of the head on the axis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at is to say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4" name="Picture 4" descr="Untitled-38"/>
          <p:cNvPicPr/>
          <p:nvPr/>
        </p:nvPicPr>
        <p:blipFill>
          <a:blip r:embed="rId1"/>
          <a:stretch/>
        </p:blipFill>
        <p:spPr>
          <a:xfrm>
            <a:off x="4140360" y="620640"/>
            <a:ext cx="4752720" cy="4753080"/>
          </a:xfrm>
          <a:prstGeom prst="rect">
            <a:avLst/>
          </a:prstGeom>
          <a:ln w="0">
            <a:noFill/>
          </a:ln>
        </p:spPr>
      </p:pic>
      <p:sp>
        <p:nvSpPr>
          <p:cNvPr id="255" name="Slide Number Placeholder 6"/>
          <p:cNvSpPr/>
          <p:nvPr/>
        </p:nvSpPr>
        <p:spPr>
          <a:xfrm>
            <a:off x="8666280" y="646740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A447-5F52-4488-822C-056BD81911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ut thruBlk="true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25844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JOINTS OF THE VERTEBRAL COLUMN </a:t>
            </a: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BELOW</a:t>
            </a: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 THE AXI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395280" y="3573360"/>
            <a:ext cx="8137440" cy="25628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JOINTS BETWEEN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TWO VERTEBRAL BODI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BFF3-2999-4937-A263-7B4F6382A2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5" descr="Untitled-7"/>
          <p:cNvPicPr/>
          <p:nvPr/>
        </p:nvPicPr>
        <p:blipFill>
          <a:blip r:embed="rId1"/>
          <a:srcRect l="0" t="0" r="0" b="3865"/>
          <a:stretch/>
        </p:blipFill>
        <p:spPr>
          <a:xfrm>
            <a:off x="1206360" y="328680"/>
            <a:ext cx="6686640" cy="48290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324000" y="5300640"/>
            <a:ext cx="842472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8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With exception of the first two cervical vertebrae, the other  cervical vertebrae articulate with each other by means of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AutoShape 6"/>
          <p:cNvSpPr/>
          <p:nvPr/>
        </p:nvSpPr>
        <p:spPr>
          <a:xfrm>
            <a:off x="6372360" y="260280"/>
            <a:ext cx="2771640" cy="1799640"/>
          </a:xfrm>
          <a:prstGeom prst="wedgeRectCallout">
            <a:avLst>
              <a:gd name="adj1" fmla="val -77115"/>
              <a:gd name="adj2" fmla="val 9377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7632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I-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Cartilaginou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joints between their bodies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AutoShape 7"/>
          <p:cNvSpPr/>
          <p:nvPr/>
        </p:nvSpPr>
        <p:spPr>
          <a:xfrm>
            <a:off x="250920" y="189000"/>
            <a:ext cx="2911320" cy="1617120"/>
          </a:xfrm>
          <a:prstGeom prst="wedgeRectCallout">
            <a:avLst>
              <a:gd name="adj1" fmla="val 113018"/>
              <a:gd name="adj2" fmla="val 134708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  <a:effectLst>
            <a:outerShdw dist="77353" dir="483752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-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Synovial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joints between their articular process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Footer Placeholder 6"/>
          <p:cNvSpPr/>
          <p:nvPr/>
        </p:nvSpPr>
        <p:spPr>
          <a:xfrm>
            <a:off x="5568840" y="646740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Slide Number Placeholder 7"/>
          <p:cNvSpPr/>
          <p:nvPr/>
        </p:nvSpPr>
        <p:spPr>
          <a:xfrm>
            <a:off x="8666280" y="646740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F33C-15F6-4F0E-841B-74000E3239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ut thruBlk="true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4"/>
          <p:cNvSpPr/>
          <p:nvPr/>
        </p:nvSpPr>
        <p:spPr>
          <a:xfrm>
            <a:off x="5568840" y="646740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250920" y="907920"/>
            <a:ext cx="3744720" cy="511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upper and lower surfaces of the bodies of two adjacent vertebrae are covered by thin plates of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hyaline cartilag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tween the plates of hyaline cartilage is an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intervertebral disc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f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fibrocartilage.</a:t>
            </a:r>
            <a:r>
              <a:rPr b="1" lang="en-US" sz="3200" spc="-1" strike="noStrike" u="sng">
                <a:solidFill>
                  <a:srgbClr val="f2f2f2"/>
                </a:solidFill>
                <a:uFillTx/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collagen fibers of the disc strongly connect the bodies of the two vertebra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8" name="Picture 5" descr="F71683-045-f038"/>
          <p:cNvPicPr/>
          <p:nvPr/>
        </p:nvPicPr>
        <p:blipFill>
          <a:blip r:embed="rId1"/>
          <a:srcRect l="0" t="0" r="0" b="2161"/>
          <a:stretch/>
        </p:blipFill>
        <p:spPr>
          <a:xfrm>
            <a:off x="4287960" y="907920"/>
            <a:ext cx="4566960" cy="5281920"/>
          </a:xfrm>
          <a:prstGeom prst="rect">
            <a:avLst/>
          </a:prstGeom>
          <a:ln w="0">
            <a:noFill/>
          </a:ln>
        </p:spPr>
      </p:pic>
      <p:sp>
        <p:nvSpPr>
          <p:cNvPr id="269" name="Freeform 7"/>
          <p:cNvSpPr/>
          <p:nvPr/>
        </p:nvSpPr>
        <p:spPr>
          <a:xfrm>
            <a:off x="3419640" y="3789360"/>
            <a:ext cx="2089080" cy="4608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588" h="105">
                <a:moveTo>
                  <a:pt x="0" y="105"/>
                </a:moveTo>
                <a:cubicBezTo>
                  <a:pt x="666" y="66"/>
                  <a:pt x="1332" y="28"/>
                  <a:pt x="158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sm"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4427640" y="189000"/>
            <a:ext cx="403200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- Intervertebral disc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Slide Number Placeholder 7"/>
          <p:cNvSpPr/>
          <p:nvPr/>
        </p:nvSpPr>
        <p:spPr>
          <a:xfrm>
            <a:off x="8666280" y="646740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08AC-B9E9-49D3-8B73-2996AA5A9F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ut thruBlk="true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4"/>
          <p:cNvSpPr/>
          <p:nvPr/>
        </p:nvSpPr>
        <p:spPr>
          <a:xfrm>
            <a:off x="4427640" y="6453360"/>
            <a:ext cx="4037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995640" y="188640"/>
            <a:ext cx="720720" cy="45241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L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G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ME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N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T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9280" y="4797000"/>
            <a:ext cx="8785440" cy="1584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The anterior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posterior longitudinal ligaments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un as continuous bands along the anterior &amp; posterior surfaces of the vertebral bodi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se ligaments hold the vertebrae firmly together but at the same time permit a small amount of movement to take plac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5" name="Picture 5" descr="Untitled-8a"/>
          <p:cNvPicPr/>
          <p:nvPr/>
        </p:nvPicPr>
        <p:blipFill>
          <a:blip r:embed="rId1"/>
          <a:srcRect l="5258" t="7010" r="3576" b="5381"/>
          <a:stretch/>
        </p:blipFill>
        <p:spPr>
          <a:xfrm>
            <a:off x="4859280" y="189000"/>
            <a:ext cx="3960720" cy="43196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Untitled-2a"/>
          <p:cNvPicPr/>
          <p:nvPr/>
        </p:nvPicPr>
        <p:blipFill>
          <a:blip r:embed="rId2"/>
          <a:srcRect l="5886" t="3437" r="5897" b="3569"/>
          <a:stretch/>
        </p:blipFill>
        <p:spPr>
          <a:xfrm>
            <a:off x="324000" y="189000"/>
            <a:ext cx="3527280" cy="4319640"/>
          </a:xfrm>
          <a:prstGeom prst="rect">
            <a:avLst/>
          </a:prstGeom>
          <a:ln w="0">
            <a:noFill/>
          </a:ln>
        </p:spPr>
      </p:pic>
      <p:sp>
        <p:nvSpPr>
          <p:cNvPr id="277" name="Slide Number Placeholder 7"/>
          <p:cNvSpPr/>
          <p:nvPr/>
        </p:nvSpPr>
        <p:spPr>
          <a:xfrm>
            <a:off x="8666280" y="646740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92E7-7832-4CEF-B9CE-0E2428C26E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TextBox 7"/>
          <p:cNvSpPr/>
          <p:nvPr/>
        </p:nvSpPr>
        <p:spPr>
          <a:xfrm>
            <a:off x="2484360" y="4076640"/>
            <a:ext cx="15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Anterio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TextBox 8"/>
          <p:cNvSpPr/>
          <p:nvPr/>
        </p:nvSpPr>
        <p:spPr>
          <a:xfrm>
            <a:off x="4788000" y="1700280"/>
            <a:ext cx="14270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ut thruBlk="true"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25000"/>
            <a:ext cx="7772400" cy="14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JOINTS BETWEEN TWO VERTEBRAL ARCH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81" name="Picture 2" descr="E:\dad\Student Gray\2. Back\F66122-002-f032.jpg"/>
          <p:cNvPicPr/>
          <p:nvPr/>
        </p:nvPicPr>
        <p:blipFill>
          <a:blip r:embed="rId1"/>
          <a:srcRect l="18529" t="0" r="16100" b="83110"/>
          <a:stretch/>
        </p:blipFill>
        <p:spPr>
          <a:xfrm>
            <a:off x="1763640" y="1916280"/>
            <a:ext cx="6624720" cy="4608360"/>
          </a:xfrm>
          <a:prstGeom prst="rect">
            <a:avLst/>
          </a:prstGeom>
          <a:ln w="0">
            <a:noFill/>
          </a:ln>
        </p:spPr>
      </p:pic>
      <p:sp>
        <p:nvSpPr>
          <p:cNvPr id="282" name="AutoShape 10"/>
          <p:cNvSpPr/>
          <p:nvPr/>
        </p:nvSpPr>
        <p:spPr>
          <a:xfrm>
            <a:off x="5940360" y="3860640"/>
            <a:ext cx="2303640" cy="64800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Footer Placeholder 5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Slide Number Placeholder 6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DB2B-30E4-4D23-B997-F0015137C4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6551640" cy="70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jectiv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By the end of this lecture you should be able t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scribe the 7 cervical vertebrae, 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ypical &amp;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typical (Non-typic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scribe the joints between the cervical vertebra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scribe the movement which occur in the region of the cervical vertebra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st the structures which connect 2 adjacent vertebrae togeth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2268360" y="6248520"/>
            <a:ext cx="431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DA5F-55F7-4C0C-8CD3-E4C8C6E05B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4"/>
          <p:cNvSpPr/>
          <p:nvPr/>
        </p:nvSpPr>
        <p:spPr>
          <a:xfrm>
            <a:off x="5568840" y="646740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323640" y="4005360"/>
            <a:ext cx="3384360" cy="2232000"/>
          </a:xfrm>
          <a:prstGeom prst="rect">
            <a:avLst/>
          </a:prstGeom>
          <a:solidFill>
            <a:srgbClr val="0000f2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8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articular facets are covered with hyaline cartilage, and the joints are surrounded by a capsu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7" name="Picture 5" descr="F71683-045-f038"/>
          <p:cNvPicPr/>
          <p:nvPr/>
        </p:nvPicPr>
        <p:blipFill>
          <a:blip r:embed="rId1"/>
          <a:srcRect l="0" t="0" r="0" b="2253"/>
          <a:stretch/>
        </p:blipFill>
        <p:spPr>
          <a:xfrm>
            <a:off x="4070520" y="482760"/>
            <a:ext cx="4832280" cy="5854680"/>
          </a:xfrm>
          <a:prstGeom prst="rect">
            <a:avLst/>
          </a:prstGeom>
          <a:ln w="0">
            <a:noFill/>
          </a:ln>
        </p:spPr>
      </p:pic>
      <p:sp>
        <p:nvSpPr>
          <p:cNvPr id="288" name="AutoShape 6"/>
          <p:cNvSpPr/>
          <p:nvPr/>
        </p:nvSpPr>
        <p:spPr>
          <a:xfrm>
            <a:off x="324000" y="250920"/>
            <a:ext cx="3311280" cy="4359240"/>
          </a:xfrm>
          <a:prstGeom prst="wedgeRectCallout">
            <a:avLst>
              <a:gd name="adj1" fmla="val 114462"/>
              <a:gd name="adj2" fmla="val 26703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  <a:effectLst>
            <a:outerShdw dist="77353" dir="483752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joints between two vertebral arches consist of synovial joints between the superior and inferior articular processes of adjacent vertebra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Slide Number Placeholder 6"/>
          <p:cNvSpPr/>
          <p:nvPr/>
        </p:nvSpPr>
        <p:spPr>
          <a:xfrm>
            <a:off x="8666280" y="646740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0F82-7E93-4074-8A27-8B40FF9395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ut thruBlk="true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0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4"/>
          <p:cNvSpPr/>
          <p:nvPr/>
        </p:nvSpPr>
        <p:spPr>
          <a:xfrm>
            <a:off x="5568840" y="646740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066920" y="188640"/>
            <a:ext cx="4825800" cy="646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OTHER LIGAMENT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92" name="Picture 5" descr="Untitled-9"/>
          <p:cNvPicPr/>
          <p:nvPr/>
        </p:nvPicPr>
        <p:blipFill>
          <a:blip r:embed="rId1"/>
          <a:srcRect l="0" t="5453" r="15123" b="2662"/>
          <a:stretch/>
        </p:blipFill>
        <p:spPr>
          <a:xfrm>
            <a:off x="4362480" y="1125360"/>
            <a:ext cx="4530600" cy="5256360"/>
          </a:xfrm>
          <a:prstGeom prst="rect">
            <a:avLst/>
          </a:prstGeom>
          <a:ln w="0">
            <a:noFill/>
          </a:ln>
        </p:spPr>
      </p:pic>
      <p:sp>
        <p:nvSpPr>
          <p:cNvPr id="293" name="AutoShape 6"/>
          <p:cNvSpPr/>
          <p:nvPr/>
        </p:nvSpPr>
        <p:spPr>
          <a:xfrm>
            <a:off x="179280" y="765000"/>
            <a:ext cx="4033800" cy="1754280"/>
          </a:xfrm>
          <a:prstGeom prst="wedgeRectCallout">
            <a:avLst>
              <a:gd name="adj1" fmla="val 70407"/>
              <a:gd name="adj2" fmla="val 21046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  <a:effectLst>
            <a:outerShdw dist="77353" dir="483752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Supraspinous ligament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t runs between the tips of adjacent spin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179280" y="2924280"/>
            <a:ext cx="4032360" cy="1888560"/>
          </a:xfrm>
          <a:prstGeom prst="wedgeRectCallout">
            <a:avLst>
              <a:gd name="adj1" fmla="val 84856"/>
              <a:gd name="adj2" fmla="val -21643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  <a:effectLst>
            <a:outerShdw dist="77353" dir="483752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Garamond"/>
              </a:rPr>
              <a:t>Interspinous ligament</a:t>
            </a:r>
            <a:r>
              <a:rPr b="0" lang="en-US" sz="2800" spc="-1" strike="noStrike">
                <a:solidFill>
                  <a:srgbClr val="ff0066"/>
                </a:solidFill>
                <a:latin typeface="Garamond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It connects adjacent spines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AutoShape 8"/>
          <p:cNvSpPr/>
          <p:nvPr/>
        </p:nvSpPr>
        <p:spPr>
          <a:xfrm>
            <a:off x="179280" y="4508640"/>
            <a:ext cx="3888000" cy="2315880"/>
          </a:xfrm>
          <a:prstGeom prst="wedgeRectCallout">
            <a:avLst>
              <a:gd name="adj1" fmla="val 113675"/>
              <a:gd name="adj2" fmla="val -47171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  <a:effectLst>
            <a:outerShdw dist="77353" dir="483752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Garamond"/>
              </a:rPr>
              <a:t>Ligamentum flavum</a:t>
            </a:r>
            <a:r>
              <a:rPr b="0" lang="en-US" sz="2800" spc="-1" strike="noStrike">
                <a:solidFill>
                  <a:srgbClr val="ff0066"/>
                </a:solidFill>
                <a:latin typeface="Garamond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It connects the laminae of adjacent vertebra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Slide Number Placeholder 8"/>
          <p:cNvSpPr/>
          <p:nvPr/>
        </p:nvSpPr>
        <p:spPr>
          <a:xfrm>
            <a:off x="8666280" y="646740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CAE5-5D78-407E-904D-435A28F379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ut thruBlk="true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ooter Placeholder 4"/>
          <p:cNvSpPr/>
          <p:nvPr/>
        </p:nvSpPr>
        <p:spPr>
          <a:xfrm>
            <a:off x="5568840" y="646740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8" name="Picture 7" descr="Untitled-10"/>
          <p:cNvPicPr/>
          <p:nvPr/>
        </p:nvPicPr>
        <p:blipFill>
          <a:blip r:embed="rId1"/>
          <a:srcRect l="10528" t="4913" r="11345" b="4438"/>
          <a:stretch/>
        </p:blipFill>
        <p:spPr>
          <a:xfrm>
            <a:off x="4356000" y="260280"/>
            <a:ext cx="4464000" cy="5832720"/>
          </a:xfrm>
          <a:prstGeom prst="rect">
            <a:avLst/>
          </a:prstGeom>
          <a:ln w="0">
            <a:noFill/>
          </a:ln>
        </p:spPr>
      </p:pic>
      <p:sp>
        <p:nvSpPr>
          <p:cNvPr id="299" name="AutoShape 8"/>
          <p:cNvSpPr/>
          <p:nvPr/>
        </p:nvSpPr>
        <p:spPr>
          <a:xfrm>
            <a:off x="179280" y="189000"/>
            <a:ext cx="4032360" cy="2347920"/>
          </a:xfrm>
          <a:prstGeom prst="wedgeRectCallout">
            <a:avLst>
              <a:gd name="adj1" fmla="val 86125"/>
              <a:gd name="adj2" fmla="val 23018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  <a:effectLst>
            <a:outerShdw dist="77353" dir="483752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Intertransverse ligament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y run between adjacent transverse process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0" name="Picture 2" descr="E:\dad\Student Gray\2. Back\F66122-002-f037.jpg"/>
          <p:cNvPicPr/>
          <p:nvPr/>
        </p:nvPicPr>
        <p:blipFill>
          <a:blip r:embed="rId2"/>
          <a:srcRect l="18941" t="43159" r="17788" b="3228"/>
          <a:stretch/>
        </p:blipFill>
        <p:spPr>
          <a:xfrm>
            <a:off x="179280" y="2205000"/>
            <a:ext cx="3961080" cy="4464000"/>
          </a:xfrm>
          <a:prstGeom prst="rect">
            <a:avLst/>
          </a:prstGeom>
          <a:ln w="0">
            <a:noFill/>
          </a:ln>
        </p:spPr>
      </p:pic>
      <p:sp>
        <p:nvSpPr>
          <p:cNvPr id="301" name="Slide Number Placeholder 6"/>
          <p:cNvSpPr/>
          <p:nvPr/>
        </p:nvSpPr>
        <p:spPr>
          <a:xfrm>
            <a:off x="8666280" y="646740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DF0C-D5F2-49D8-A854-9C21CC86BB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ut thruBlk="true"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4"/>
          <p:cNvSpPr/>
          <p:nvPr/>
        </p:nvSpPr>
        <p:spPr>
          <a:xfrm>
            <a:off x="4859280" y="6308640"/>
            <a:ext cx="36054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129440" cy="708120"/>
          </a:xfrm>
          <a:prstGeom prst="rect">
            <a:avLst/>
          </a:prstGeom>
          <a:solidFill>
            <a:srgbClr val="0a47ff"/>
          </a:soli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LIGAMENTUM NUCHA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4681440" cy="5328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the cervical region, the Supraspinous and Interspinous ligaments are greatly thickened to form the strong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ligamentum nuchae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 extends from the external occipital protuberance of the skull to the spine of the seventh cervical vertebr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s anterior border is strongly attached to the cervical spines in betwee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5" name="Picture 5" descr="F66122-002-f036"/>
          <p:cNvPicPr/>
          <p:nvPr/>
        </p:nvPicPr>
        <p:blipFill>
          <a:blip r:embed="rId1"/>
          <a:srcRect l="7023" t="0" r="0" b="0"/>
          <a:stretch/>
        </p:blipFill>
        <p:spPr>
          <a:xfrm>
            <a:off x="5076720" y="1246320"/>
            <a:ext cx="3670560" cy="4991040"/>
          </a:xfrm>
          <a:prstGeom prst="rect">
            <a:avLst/>
          </a:prstGeom>
          <a:ln w="0">
            <a:noFill/>
          </a:ln>
        </p:spPr>
      </p:pic>
      <p:sp>
        <p:nvSpPr>
          <p:cNvPr id="306" name="AutoShape 6"/>
          <p:cNvSpPr/>
          <p:nvPr/>
        </p:nvSpPr>
        <p:spPr>
          <a:xfrm>
            <a:off x="7047000" y="2306520"/>
            <a:ext cx="1384200" cy="311400"/>
          </a:xfrm>
          <a:prstGeom prst="roundRect">
            <a:avLst>
              <a:gd name="adj" fmla="val 16667"/>
            </a:avLst>
          </a:prstGeom>
          <a:solidFill>
            <a:srgbClr val="0099cc">
              <a:alpha val="15000"/>
            </a:srgbClr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Slide Number Placeholder 7"/>
          <p:cNvSpPr/>
          <p:nvPr/>
        </p:nvSpPr>
        <p:spPr>
          <a:xfrm>
            <a:off x="8666280" y="646740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3BE2-9855-4794-978C-2AC313E8D2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ut thruBlk="true"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1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6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57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Summary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79280" y="907560"/>
            <a:ext cx="8785440" cy="5761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cervical vertebrae are 7 in number, classified into typical &amp; atypical (non-typical) vertebra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All the typical vertebrae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ave a foramen transversarium and bifid spinous process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Atypical vertebrae (1,2,7) 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Garamond"/>
              </a:rPr>
              <a:t>1</a:t>
            </a:r>
            <a:r>
              <a:rPr b="1" lang="en-US" sz="2400" spc="-1" strike="noStrike" baseline="30000">
                <a:solidFill>
                  <a:srgbClr val="99ff33"/>
                </a:solidFill>
                <a:latin typeface="Garamond"/>
              </a:rPr>
              <a:t>st</a:t>
            </a:r>
            <a:r>
              <a:rPr b="1" lang="en-US" sz="2400" spc="-1" strike="noStrike">
                <a:solidFill>
                  <a:srgbClr val="99ff33"/>
                </a:solidFill>
                <a:latin typeface="Garamond"/>
              </a:rPr>
              <a:t> (Atlas) 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as no body nor spine, has short anterior arch and long posterior arch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Garamond"/>
              </a:rPr>
              <a:t>2</a:t>
            </a:r>
            <a:r>
              <a:rPr b="1" lang="en-US" sz="2400" spc="-1" strike="noStrike" baseline="30000">
                <a:solidFill>
                  <a:srgbClr val="99ff33"/>
                </a:solidFill>
                <a:latin typeface="Garamond"/>
              </a:rPr>
              <a:t>nd</a:t>
            </a:r>
            <a:r>
              <a:rPr b="1" lang="en-US" sz="2400" spc="-1" strike="noStrike">
                <a:solidFill>
                  <a:srgbClr val="99ff33"/>
                </a:solidFill>
                <a:latin typeface="Garamond"/>
              </a:rPr>
              <a:t> (Axis)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as odontoid process (dens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Garamond"/>
              </a:rPr>
              <a:t>7</a:t>
            </a:r>
            <a:r>
              <a:rPr b="1" lang="en-US" sz="2400" spc="-1" strike="noStrike" baseline="30000">
                <a:solidFill>
                  <a:srgbClr val="99ff33"/>
                </a:solidFill>
                <a:latin typeface="Garamond"/>
              </a:rPr>
              <a:t>th</a:t>
            </a:r>
            <a:r>
              <a:rPr b="1" lang="en-US" sz="2400" spc="-1" strike="noStrike">
                <a:solidFill>
                  <a:srgbClr val="99ff33"/>
                </a:solidFill>
                <a:latin typeface="Garamond"/>
              </a:rPr>
              <a:t> (Cervica Prominens) 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as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l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onges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not bifid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spinous process, which can be felt </a:t>
            </a:r>
            <a:r>
              <a:rPr b="1" lang="en-US" sz="2400" spc="-1" strike="noStrike">
                <a:solidFill>
                  <a:srgbClr val="99ff33"/>
                </a:solidFill>
                <a:latin typeface="Garamond"/>
              </a:rPr>
              <a:t>subcutaneousl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Atlanto-Occipital joints are 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synovial joints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the function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lexion and extension, and lateral flexion, This joint allows you to say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“Yes”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Atlanto-Axial joints are 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synovial joints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the function 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tensive rotation, this joint allows you to say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“ No”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Footer Placeholder 4"/>
          <p:cNvSpPr/>
          <p:nvPr/>
        </p:nvSpPr>
        <p:spPr>
          <a:xfrm>
            <a:off x="3124080" y="6251400"/>
            <a:ext cx="519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Slide Number Placeholder 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5D3D-A42D-4C11-9F01-FDD0F8C3AE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324000" y="1628640"/>
            <a:ext cx="8496000" cy="4680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JOINTS BELOW THE AXIS are:                                                </a:t>
            </a:r>
            <a:r>
              <a:rPr b="0" lang="en-US" sz="2400" spc="-1" strike="noStrike">
                <a:solidFill>
                  <a:srgbClr val="99ff33"/>
                </a:solidFill>
                <a:latin typeface="Garamond"/>
              </a:rPr>
              <a:t>I- </a:t>
            </a:r>
            <a:r>
              <a:rPr b="1" lang="en-US" sz="2800" spc="-1" strike="noStrike">
                <a:solidFill>
                  <a:srgbClr val="99ff33"/>
                </a:solidFill>
                <a:latin typeface="Garamond"/>
              </a:rPr>
              <a:t>Synovial</a:t>
            </a:r>
            <a:r>
              <a:rPr b="0" lang="en-US" sz="2400" spc="-1" strike="noStrike">
                <a:solidFill>
                  <a:srgbClr val="99ff33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oints between thei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articular process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Garamond"/>
              </a:rPr>
              <a:t>II- </a:t>
            </a:r>
            <a:r>
              <a:rPr b="1" lang="en-US" sz="2400" spc="-1" strike="noStrike">
                <a:solidFill>
                  <a:srgbClr val="99ff33"/>
                </a:solidFill>
                <a:latin typeface="Garamond"/>
              </a:rPr>
              <a:t>Cartilaginous</a:t>
            </a:r>
            <a:r>
              <a:rPr b="0" lang="en-US" sz="2400" spc="-1" strike="noStrike">
                <a:solidFill>
                  <a:srgbClr val="99ff33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oints betwee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their bodies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intervertebral disc of fibrocartilage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Ligaments of cervical spin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Garamond"/>
              </a:rPr>
              <a:t>Supraspinous ligament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etween tips of spin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Garamond"/>
              </a:rPr>
              <a:t>Interspinous ligament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etween adjacent spin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2f0ff"/>
                </a:solidFill>
                <a:latin typeface="Garamond"/>
              </a:rPr>
              <a:t>Supraspinous &amp; Interspinous ligaments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re thickened to form </a:t>
            </a:r>
            <a:r>
              <a:rPr b="1" lang="en-US" sz="2400" spc="-1" strike="noStrike">
                <a:solidFill>
                  <a:srgbClr val="99ff33"/>
                </a:solidFill>
                <a:latin typeface="Garamond"/>
              </a:rPr>
              <a:t>ligamentum nucha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Garamond"/>
              </a:rPr>
              <a:t>Ligamentum flavum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etween lamina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Garamond"/>
              </a:rPr>
              <a:t>Intertransverse ligaments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etween transverse processe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Garamond"/>
              </a:rPr>
              <a:t>Summary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4" name="Footer Placeholder 5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Slide Number Placeholder 6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F79D-5561-48C3-8B7A-EEB62913C9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4"/>
          <p:cNvSpPr/>
          <p:nvPr/>
        </p:nvSpPr>
        <p:spPr>
          <a:xfrm>
            <a:off x="4643280" y="549360"/>
            <a:ext cx="4032360" cy="106884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ERVICA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PIN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179280" y="3645000"/>
            <a:ext cx="3961080" cy="3873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y are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n numbe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l  characterized by presence of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foramen transversarium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 the transverse proces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They are classified into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Typical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rd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, 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,5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&amp; 6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Atypical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,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and 7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2" descr="E:\dad\Student Gray\8. Head and neck\F66122-008-f008.jpg"/>
          <p:cNvPicPr/>
          <p:nvPr/>
        </p:nvPicPr>
        <p:blipFill>
          <a:blip r:embed="rId1"/>
          <a:srcRect l="11023" t="0" r="15495" b="74471"/>
          <a:stretch/>
        </p:blipFill>
        <p:spPr>
          <a:xfrm>
            <a:off x="4356000" y="3284640"/>
            <a:ext cx="4608720" cy="3240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E:\dad\Student Gray\8. Head and neck\F66122-008-f008.jpg"/>
          <p:cNvPicPr/>
          <p:nvPr/>
        </p:nvPicPr>
        <p:blipFill>
          <a:blip r:embed="rId2"/>
          <a:srcRect l="1411" t="26055" r="48272" b="48896"/>
          <a:stretch/>
        </p:blipFill>
        <p:spPr>
          <a:xfrm>
            <a:off x="179280" y="189000"/>
            <a:ext cx="4248360" cy="3095640"/>
          </a:xfrm>
          <a:prstGeom prst="rect">
            <a:avLst/>
          </a:prstGeom>
          <a:ln w="0">
            <a:noFill/>
          </a:ln>
        </p:spPr>
      </p:pic>
      <p:sp>
        <p:nvSpPr>
          <p:cNvPr id="168" name="Footer Placeholder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Slide Number Placeholder 8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C3AD-3E54-4ECF-87F6-9BA84A4180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684360" y="6248520"/>
            <a:ext cx="5335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179280" y="189000"/>
            <a:ext cx="3097440" cy="5641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bod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small, longer horizontally than antero-posteriorly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1800" indent="-361800"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s 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spinous processe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short and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bifid.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1800" indent="-361800"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transverse processes has an oval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foramen transversarium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rough which the vertebral vessels pas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3851280" y="189000"/>
            <a:ext cx="5041800" cy="1511280"/>
          </a:xfrm>
          <a:prstGeom prst="rect">
            <a:avLst/>
          </a:prstGeom>
          <a:solidFill>
            <a:srgbClr val="0000f2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TYPICAL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CERVICAL VERTEBRA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C3, C4, C5 &amp; C 6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3" name="Picture 5" descr="File0344"/>
          <p:cNvPicPr/>
          <p:nvPr/>
        </p:nvPicPr>
        <p:blipFill>
          <a:blip r:embed="rId1"/>
          <a:srcRect l="55504" t="0" r="2566" b="77160"/>
          <a:stretch/>
        </p:blipFill>
        <p:spPr>
          <a:xfrm>
            <a:off x="3348000" y="1844640"/>
            <a:ext cx="5616720" cy="331308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10"/>
          <p:cNvSpPr/>
          <p:nvPr/>
        </p:nvSpPr>
        <p:spPr>
          <a:xfrm>
            <a:off x="3419640" y="4221000"/>
            <a:ext cx="1296720" cy="79236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Box 10"/>
          <p:cNvSpPr/>
          <p:nvPr/>
        </p:nvSpPr>
        <p:spPr>
          <a:xfrm>
            <a:off x="179280" y="5300640"/>
            <a:ext cx="8785440" cy="13737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The vertebral foramen is large &amp; triangular to accommodate the cervical enlargement of the spinal cord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76" name="Straight Arrow Connector 12"/>
          <p:cNvCxnSpPr/>
          <p:nvPr/>
        </p:nvCxnSpPr>
        <p:spPr>
          <a:xfrm>
            <a:off x="5651280" y="4005000"/>
            <a:ext cx="1152720" cy="1080"/>
          </a:xfrm>
          <a:prstGeom prst="straightConnector1">
            <a:avLst/>
          </a:prstGeom>
          <a:ln w="38160">
            <a:solidFill>
              <a:srgbClr val="000514"/>
            </a:solidFill>
            <a:miter/>
            <a:tailEnd len="med" type="arrow" w="med"/>
          </a:ln>
        </p:spPr>
      </p:cxnSp>
      <p:cxnSp>
        <p:nvCxnSpPr>
          <p:cNvPr id="177" name="Straight Arrow Connector 16"/>
          <p:cNvCxnSpPr/>
          <p:nvPr/>
        </p:nvCxnSpPr>
        <p:spPr>
          <a:xfrm>
            <a:off x="6227280" y="3645000"/>
            <a:ext cx="1080" cy="792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8" name="AutoShape 10"/>
          <p:cNvSpPr/>
          <p:nvPr/>
        </p:nvSpPr>
        <p:spPr>
          <a:xfrm>
            <a:off x="7740720" y="2492280"/>
            <a:ext cx="1224000" cy="72072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AutoShape 10"/>
          <p:cNvSpPr/>
          <p:nvPr/>
        </p:nvSpPr>
        <p:spPr>
          <a:xfrm>
            <a:off x="7596360" y="4292640"/>
            <a:ext cx="1296720" cy="72072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ll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63640" y="189000"/>
            <a:ext cx="5329080" cy="194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TYPICAL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CERVICAL VERTABRAE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(3</a:t>
            </a:r>
            <a:r>
              <a:rPr b="1" lang="en-US" sz="3200" spc="-1" strike="noStrike" baseline="30000">
                <a:solidFill>
                  <a:srgbClr val="e5e5ff"/>
                </a:solidFill>
                <a:latin typeface="Garamond"/>
              </a:rPr>
              <a:t>rd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, 4</a:t>
            </a:r>
            <a:r>
              <a:rPr b="1" lang="en-US" sz="3200" spc="-1" strike="noStrike" baseline="30000">
                <a:solidFill>
                  <a:srgbClr val="e5e5ff"/>
                </a:solidFill>
                <a:latin typeface="Garamond"/>
              </a:rPr>
              <a:t>th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, 5</a:t>
            </a:r>
            <a:r>
              <a:rPr b="1" lang="en-US" sz="3200" spc="-1" strike="noStrike" baseline="30000">
                <a:solidFill>
                  <a:srgbClr val="e5e5ff"/>
                </a:solidFill>
                <a:latin typeface="Garamond"/>
              </a:rPr>
              <a:t>th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and 6</a:t>
            </a:r>
            <a:r>
              <a:rPr b="1" lang="en-US" sz="3200" spc="-1" strike="noStrike" baseline="30000">
                <a:solidFill>
                  <a:srgbClr val="e5e5ff"/>
                </a:solidFill>
                <a:latin typeface="Garamond"/>
              </a:rPr>
              <a:t>th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).</a:t>
            </a:r>
            <a:br>
              <a:rPr sz="28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8920" y="475920"/>
            <a:ext cx="3313080" cy="5329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 fontScale="9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The superior articular process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ave  a facet that face upward  &amp; backwar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The inferior articular  processes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ave a facets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at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face downward and forwar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transverse process has 2 tubercles one infront and one behind the foramen transversarium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Footer Placeholder 5"/>
          <p:cNvSpPr/>
          <p:nvPr/>
        </p:nvSpPr>
        <p:spPr>
          <a:xfrm>
            <a:off x="3124080" y="6248520"/>
            <a:ext cx="526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3" name="Picture 2" descr="E:\dad\Student Gray\8. Head and neck\F66122-008-f008.jpg"/>
          <p:cNvPicPr/>
          <p:nvPr/>
        </p:nvPicPr>
        <p:blipFill>
          <a:blip r:embed="rId1"/>
          <a:srcRect l="10815" t="0" r="13326" b="73558"/>
          <a:stretch/>
        </p:blipFill>
        <p:spPr>
          <a:xfrm>
            <a:off x="3564000" y="2276640"/>
            <a:ext cx="5329080" cy="381636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10"/>
          <p:cNvSpPr/>
          <p:nvPr/>
        </p:nvSpPr>
        <p:spPr>
          <a:xfrm>
            <a:off x="5508720" y="5516640"/>
            <a:ext cx="1224000" cy="43164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AutoShape 10"/>
          <p:cNvSpPr/>
          <p:nvPr/>
        </p:nvSpPr>
        <p:spPr>
          <a:xfrm>
            <a:off x="7308720" y="4653000"/>
            <a:ext cx="1150920" cy="43164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AutoShape 10"/>
          <p:cNvSpPr/>
          <p:nvPr/>
        </p:nvSpPr>
        <p:spPr>
          <a:xfrm>
            <a:off x="3564000" y="2565360"/>
            <a:ext cx="1224000" cy="64764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Slide Number Placeholder 10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7157-68C2-44CD-990A-DB585FAF6C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E:\dad\Student Gray\8. Head and neck\F66122-008-f008.jpg"/>
          <p:cNvPicPr/>
          <p:nvPr/>
        </p:nvPicPr>
        <p:blipFill>
          <a:blip r:embed="rId1"/>
          <a:srcRect l="1575" t="26446" r="46453" b="49190"/>
          <a:stretch/>
        </p:blipFill>
        <p:spPr>
          <a:xfrm>
            <a:off x="2987640" y="333360"/>
            <a:ext cx="5977080" cy="42480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4"/>
          <p:cNvSpPr/>
          <p:nvPr/>
        </p:nvSpPr>
        <p:spPr>
          <a:xfrm>
            <a:off x="179280" y="2133720"/>
            <a:ext cx="2664000" cy="558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has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N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 bod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No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spin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has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lateral masses connected together by </a:t>
            </a:r>
            <a:r>
              <a:rPr b="1" i="1" lang="en-US" sz="2400" spc="-1" strike="noStrike">
                <a:solidFill>
                  <a:srgbClr val="ffff00"/>
                </a:solidFill>
                <a:latin typeface="Garamond"/>
              </a:rPr>
              <a:t>small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terior arch &amp;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long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posterior arch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ach lateral mass has 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articular surface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 its upper and lower aspec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TextBox 5"/>
          <p:cNvSpPr/>
          <p:nvPr/>
        </p:nvSpPr>
        <p:spPr>
          <a:xfrm>
            <a:off x="179280" y="907920"/>
            <a:ext cx="2737080" cy="10688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C1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TL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3203640" y="4724280"/>
            <a:ext cx="5689440" cy="2288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upper articular surface is kidney-shaped articulates with occipital condyles of the skul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forms the 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Atlanto-Occipital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joint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s joint allows you to nod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“say Yes”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179280" y="189000"/>
            <a:ext cx="2737080" cy="581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TYPIC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5003640" y="333360"/>
            <a:ext cx="1224000" cy="35892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AutoShape 10"/>
          <p:cNvSpPr/>
          <p:nvPr/>
        </p:nvSpPr>
        <p:spPr>
          <a:xfrm>
            <a:off x="7236000" y="4292640"/>
            <a:ext cx="1368360" cy="28872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Footer Placeholder 1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Slide Number Placeholder 1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3FCE-A356-4AED-A8FD-B5DDE44935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2"/>
          <p:cNvSpPr/>
          <p:nvPr/>
        </p:nvSpPr>
        <p:spPr>
          <a:xfrm>
            <a:off x="4643280" y="602136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2" descr="E:\dad\Student Gray\8. Head and neck\F66122-008-f008.jpg"/>
          <p:cNvPicPr/>
          <p:nvPr/>
        </p:nvPicPr>
        <p:blipFill>
          <a:blip r:embed="rId1"/>
          <a:srcRect l="55831" t="32296" r="16218" b="48665"/>
          <a:stretch/>
        </p:blipFill>
        <p:spPr>
          <a:xfrm>
            <a:off x="4859280" y="189000"/>
            <a:ext cx="4033800" cy="34560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4"/>
          <p:cNvSpPr/>
          <p:nvPr/>
        </p:nvSpPr>
        <p:spPr>
          <a:xfrm>
            <a:off x="250920" y="189000"/>
            <a:ext cx="4465440" cy="37216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The inferior articular surface of the atlas is circular and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rticulates with the axi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t forms the 2 lateral 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Atlanto-Axial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joints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is joint together with the joint between the dens of axis and the anterior small arch of atlas, they allow you to “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Say No “ lateral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rotation of the fac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0" name="Picture 2" descr="E:\dad\Student Gray\8. Head and neck\F66122-008-f008.jpg"/>
          <p:cNvPicPr/>
          <p:nvPr/>
        </p:nvPicPr>
        <p:blipFill>
          <a:blip r:embed="rId2"/>
          <a:srcRect l="0" t="54490" r="48818" b="14304"/>
          <a:stretch/>
        </p:blipFill>
        <p:spPr>
          <a:xfrm>
            <a:off x="179280" y="3357720"/>
            <a:ext cx="4608720" cy="3311280"/>
          </a:xfrm>
          <a:prstGeom prst="rect">
            <a:avLst/>
          </a:prstGeom>
          <a:ln w="0">
            <a:noFill/>
          </a:ln>
        </p:spPr>
      </p:pic>
      <p:cxnSp>
        <p:nvCxnSpPr>
          <p:cNvPr id="201" name="Straight Arrow Connector 7"/>
          <p:cNvCxnSpPr/>
          <p:nvPr/>
        </p:nvCxnSpPr>
        <p:spPr>
          <a:xfrm flipH="1">
            <a:off x="7956000" y="907560"/>
            <a:ext cx="216360" cy="50580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triangle" w="med"/>
          </a:ln>
        </p:spPr>
      </p:cxnSp>
      <p:cxnSp>
        <p:nvCxnSpPr>
          <p:cNvPr id="202" name="Straight Arrow Connector 10"/>
          <p:cNvCxnSpPr/>
          <p:nvPr/>
        </p:nvCxnSpPr>
        <p:spPr>
          <a:xfrm>
            <a:off x="5148360" y="476280"/>
            <a:ext cx="576360" cy="100872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triangle" w="med"/>
          </a:ln>
        </p:spPr>
      </p:cxnSp>
      <p:cxnSp>
        <p:nvCxnSpPr>
          <p:cNvPr id="203" name="Straight Arrow Connector 14"/>
          <p:cNvCxnSpPr/>
          <p:nvPr/>
        </p:nvCxnSpPr>
        <p:spPr>
          <a:xfrm flipH="1">
            <a:off x="2987280" y="3500280"/>
            <a:ext cx="1153440" cy="2090160"/>
          </a:xfrm>
          <a:prstGeom prst="straightConnector1">
            <a:avLst/>
          </a:prstGeom>
          <a:ln w="38160">
            <a:solidFill>
              <a:srgbClr val="000514"/>
            </a:solidFill>
            <a:miter/>
            <a:tailEnd len="med" type="arrow" w="med"/>
          </a:ln>
        </p:spPr>
      </p:cxnSp>
      <p:pic>
        <p:nvPicPr>
          <p:cNvPr id="204" name="Picture 2" descr="E:\dad\Student Gray\2. Back\F66122-002-f021b.jpg"/>
          <p:cNvPicPr/>
          <p:nvPr/>
        </p:nvPicPr>
        <p:blipFill>
          <a:blip r:embed="rId3"/>
          <a:srcRect l="2826" t="45597" r="65427" b="12572"/>
          <a:stretch/>
        </p:blipFill>
        <p:spPr>
          <a:xfrm>
            <a:off x="5219640" y="3716280"/>
            <a:ext cx="3456000" cy="2881440"/>
          </a:xfrm>
          <a:prstGeom prst="rect">
            <a:avLst/>
          </a:prstGeom>
          <a:ln w="0">
            <a:noFill/>
          </a:ln>
        </p:spPr>
      </p:pic>
      <p:sp>
        <p:nvSpPr>
          <p:cNvPr id="205" name="TextBox 19"/>
          <p:cNvSpPr/>
          <p:nvPr/>
        </p:nvSpPr>
        <p:spPr>
          <a:xfrm>
            <a:off x="6084720" y="177336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AXI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Slide Number Placeholder 1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A0C9-AEB0-475A-8FC6-283E1D6EC0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1332000" y="6248520"/>
            <a:ext cx="6985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95280" y="4653000"/>
            <a:ext cx="8532720" cy="2715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acts as a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pivo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for the rotation of the atlas (and the skull) abov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has a large upright peg-like 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odontoid proces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den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projects upward from the superior surface of the bod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ctually it represents the body of the atlas that has fused with the axi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9" name="Picture 5" descr="File0344a"/>
          <p:cNvPicPr/>
          <p:nvPr/>
        </p:nvPicPr>
        <p:blipFill>
          <a:blip r:embed="rId1"/>
          <a:srcRect l="2434" t="7861" r="8529" b="5794"/>
          <a:stretch/>
        </p:blipFill>
        <p:spPr>
          <a:xfrm>
            <a:off x="324000" y="189000"/>
            <a:ext cx="5256000" cy="42480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6"/>
          <p:cNvSpPr/>
          <p:nvPr/>
        </p:nvSpPr>
        <p:spPr>
          <a:xfrm>
            <a:off x="6084720" y="189000"/>
            <a:ext cx="2448000" cy="647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AXIS- C 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Oval 12"/>
          <p:cNvSpPr/>
          <p:nvPr/>
        </p:nvSpPr>
        <p:spPr>
          <a:xfrm>
            <a:off x="324000" y="3573360"/>
            <a:ext cx="2160360" cy="1008000"/>
          </a:xfrm>
          <a:prstGeom prst="ellipse">
            <a:avLst/>
          </a:prstGeom>
          <a:solidFill>
            <a:srgbClr val="ff9900">
              <a:alpha val="20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2" name="Picture 2" descr="E:\dad\Student Gray\2. Back\F66122-002-f021b.jpg"/>
          <p:cNvPicPr/>
          <p:nvPr/>
        </p:nvPicPr>
        <p:blipFill>
          <a:blip r:embed="rId2"/>
          <a:srcRect l="56352" t="1816" r="0" b="57519"/>
          <a:stretch/>
        </p:blipFill>
        <p:spPr>
          <a:xfrm>
            <a:off x="5651640" y="981000"/>
            <a:ext cx="3313080" cy="3311640"/>
          </a:xfrm>
          <a:prstGeom prst="rect">
            <a:avLst/>
          </a:prstGeom>
          <a:ln w="0">
            <a:noFill/>
          </a:ln>
        </p:spPr>
      </p:pic>
      <p:sp>
        <p:nvSpPr>
          <p:cNvPr id="213" name="Oval 12"/>
          <p:cNvSpPr/>
          <p:nvPr/>
        </p:nvSpPr>
        <p:spPr>
          <a:xfrm>
            <a:off x="3708360" y="189000"/>
            <a:ext cx="1295280" cy="1295280"/>
          </a:xfrm>
          <a:prstGeom prst="ellipse">
            <a:avLst/>
          </a:prstGeom>
          <a:solidFill>
            <a:srgbClr val="ff9900">
              <a:alpha val="20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Slide Number Placeholder 10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0BA7-94FD-4E4F-861F-64A32B9A32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ll dir="rd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9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9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9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3816360" cy="1800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7th </a:t>
            </a:r>
            <a:br>
              <a:rPr sz="2400"/>
            </a:b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 CERVICAL VERTEBRA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OR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Vertebra Prominen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3889440" cy="4319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 fontScale="9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has the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l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onges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spinous process which is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not bifid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is the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first spine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 be felt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subcutaneousl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in the root of the back of the  neck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transverse process is large while its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foramen transversaium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small and may be absent, and does not transmit the vertebral artery. 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(only  small accessory vein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Footer Placeholder 5"/>
          <p:cNvSpPr/>
          <p:nvPr/>
        </p:nvSpPr>
        <p:spPr>
          <a:xfrm>
            <a:off x="324000" y="6248520"/>
            <a:ext cx="5695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8" name="Picture 2" descr="E:\dad\Student Gray\2. Back\F66122-002-f036.jpg"/>
          <p:cNvPicPr/>
          <p:nvPr/>
        </p:nvPicPr>
        <p:blipFill>
          <a:blip r:embed="rId1"/>
          <a:srcRect l="19076" t="0" r="18806" b="5112"/>
          <a:stretch/>
        </p:blipFill>
        <p:spPr>
          <a:xfrm>
            <a:off x="4284720" y="189000"/>
            <a:ext cx="4680000" cy="648000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10"/>
          <p:cNvSpPr/>
          <p:nvPr/>
        </p:nvSpPr>
        <p:spPr>
          <a:xfrm>
            <a:off x="6948360" y="2133720"/>
            <a:ext cx="1656000" cy="50328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Slide Number Placeholder 9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26E7-C223-45DA-B94D-0350E0F869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9T11:50:04Z</dcterms:created>
  <dc:creator>Prof. Saeed Abuel Makarem</dc:creator>
  <dc:description/>
  <dc:language>en-US</dc:language>
  <cp:lastModifiedBy> saeed abuelmakarem</cp:lastModifiedBy>
  <dcterms:modified xsi:type="dcterms:W3CDTF">2015-11-29T06:27:41Z</dcterms:modified>
  <cp:revision>98</cp:revision>
  <dc:subject/>
  <dc:title>THE LANGUAGE OF ANATOMY CLASSIFICATION OF BO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  <property fmtid="{D5CDD505-2E9C-101B-9397-08002B2CF9AE}" pid="3" name="Vertbrae">
    <vt:lpwstr>Prof. Saeed Abuel Makarem</vt:lpwstr>
  </property>
</Properties>
</file>