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63B6-AF3B-4742-A525-F64EB1BD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4012-E545-4C13-8B80-0AE79285F8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ECF0-CE95-4F37-8C0D-551CBE2112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FECB-F97D-46EE-B12B-B85031346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EC1E-4056-4A45-832C-059374A3D7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ABB5-3F62-4006-9D8B-0E949F74F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E5E-18AE-4526-B65F-BF734EA871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853-F75E-4D64-B8A8-7631E18749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777-0A84-4287-B197-52480E0470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5F050-A398-446B-94A4-B7FC623758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BBE3-F28B-47C3-BE3E-393DAF41B3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DFCA-F2EB-4DAE-B052-F775383A28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76CF-1E51-475D-9522-44CE011001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5638-955F-41AA-903E-9995C8A951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15FB-1601-4A0D-B202-312CD8D522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D7DC-3801-4B68-BFBA-E126B1E6AD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ED0E-B458-4CFD-AC49-9856A8A94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64BE-3574-4310-B9B6-49EFE8C8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915E-1424-43A9-921D-376E1F8E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DAB99-9F49-4497-8D2C-8ADF3F3A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EFE0-3299-4F89-9223-1D518692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AE3A-F04A-4248-970B-4952E772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6DB2-9406-42EE-9DCF-516618D7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ED72-3E4A-4E85-BF59-0EE06423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E3BF-404F-431E-B585-A6A4A267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2AFC-6DEA-4FF1-A018-0D7FC16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9A241-62C7-4D8B-A6CB-F198231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FDE30-A5AD-428A-B7E5-4C6C61E09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B3B2-54BD-4EC9-BB71-9371C0A5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4DC8-81C8-4CCF-B905-1EAD379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7A4-38F9-4789-997E-656AD3D6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D2B1-5598-4A45-A7BD-EE7F5A7C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6F396-7AC5-4E11-BE28-92DF5804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C5C7B8-1F10-4CAA-A96C-10E1605AEA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54708-B54B-4BB9-914A-E654DAE1BD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8A3CE-1DF2-40A7-9785-CEA1387990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8CA0A-D776-4D12-8D33-C5B9F1F318E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AC055-B648-414F-82D5-A3CEFFA67E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1CB51-AED0-4356-B9EA-C276C94C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CC917-1435-440C-A873-218A725123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0282B-B9D1-41DA-BCDC-8C9A02496B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504C1-C7D7-48CC-B663-A4428EA8D0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2B145-CF5B-44CA-A82E-4EDFD4CFB31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07A21-2C79-481B-9187-602F57FC1D5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BE3CA-4D77-40BA-8C6A-3371FC754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1EEC3-FABA-4AF8-9C0E-1773FCCA42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9B81E-B5D1-4648-881A-DD2C054F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686B9-C4AB-4C0D-8FCC-1143125D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9F3B-C375-4CC4-AB95-6B44573F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14F6E-4143-44DF-BE4C-8ACB6922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96FA-FA31-4924-8657-CA8CB48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8313-2F14-4877-BB9D-AD7AC7E9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4/2015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0D69-2CDC-41EE-93BC-20C6CC083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24/2015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A44D-6A76-4256-A006-0B78628BA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5568840" y="646704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8665920" y="64670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483-08E4-4F4A-A7D1-95C6BDEF52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34560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ERVICAL VERTEBRAE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179280" y="5589720"/>
            <a:ext cx="42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2" descr="E:\dad\Student Gray\8. Head and neck\F66122-008-f008.jpg"/>
          <p:cNvPicPr/>
          <p:nvPr/>
        </p:nvPicPr>
        <p:blipFill>
          <a:blip r:embed="rId1"/>
          <a:srcRect l="1411" t="0" r="2830" b="2301"/>
          <a:stretch/>
        </p:blipFill>
        <p:spPr>
          <a:xfrm>
            <a:off x="3635280" y="189000"/>
            <a:ext cx="5329440" cy="6480000"/>
          </a:xfrm>
          <a:prstGeom prst="rect">
            <a:avLst/>
          </a:prstGeom>
          <a:ln w="0">
            <a:noFill/>
          </a:ln>
        </p:spPr>
      </p:pic>
      <p:sp>
        <p:nvSpPr>
          <p:cNvPr id="15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BAA7-AA86-42D1-9638-2E4962C1E0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032000" cy="86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Joints of Cervical Vertebra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560" y="260280"/>
            <a:ext cx="4321080" cy="1944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tlanto-Occipital join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ynovial joints between the occipital condyles of skull  and the upper facets on the lateral mass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Footer Placeholder 5"/>
          <p:cNvSpPr/>
          <p:nvPr/>
        </p:nvSpPr>
        <p:spPr>
          <a:xfrm>
            <a:off x="4716360" y="6248520"/>
            <a:ext cx="410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Picture 2" descr="E:\dad\Student Gray\8. Head and neck\F66122-008-f023.jpg"/>
          <p:cNvPicPr/>
          <p:nvPr/>
        </p:nvPicPr>
        <p:blipFill>
          <a:blip r:embed="rId1"/>
          <a:srcRect l="4957" t="4527" r="17131" b="9075"/>
          <a:stretch/>
        </p:blipFill>
        <p:spPr>
          <a:xfrm>
            <a:off x="4762440" y="1125360"/>
            <a:ext cx="4130640" cy="5000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E:\dad\Student Gray\8. Head and neck\F66122-008-f008.jpg"/>
          <p:cNvPicPr/>
          <p:nvPr/>
        </p:nvPicPr>
        <p:blipFill>
          <a:blip r:embed="rId2"/>
          <a:srcRect l="44373" t="55549" r="2923" b="2894"/>
          <a:stretch/>
        </p:blipFill>
        <p:spPr>
          <a:xfrm>
            <a:off x="324000" y="2349360"/>
            <a:ext cx="4248000" cy="4319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10"/>
          <p:cNvSpPr/>
          <p:nvPr/>
        </p:nvSpPr>
        <p:spPr>
          <a:xfrm>
            <a:off x="4788000" y="5300640"/>
            <a:ext cx="936360" cy="216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C79B-F33B-4178-923E-537D8A79D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5724360" y="6453360"/>
            <a:ext cx="2951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9" name="Picture 2" descr="Untitled-1 copy"/>
          <p:cNvPicPr/>
          <p:nvPr/>
        </p:nvPicPr>
        <p:blipFill>
          <a:blip r:embed="rId1"/>
          <a:srcRect l="16416" t="2751" r="13655" b="2751"/>
          <a:stretch/>
        </p:blipFill>
        <p:spPr>
          <a:xfrm>
            <a:off x="250920" y="378000"/>
            <a:ext cx="5473440" cy="648000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3"/>
          <p:cNvSpPr/>
          <p:nvPr/>
        </p:nvSpPr>
        <p:spPr>
          <a:xfrm>
            <a:off x="6012000" y="189000"/>
            <a:ext cx="2952720" cy="3750840"/>
          </a:xfrm>
          <a:prstGeom prst="wedgeRectCallout">
            <a:avLst>
              <a:gd name="adj1" fmla="val -130870"/>
              <a:gd name="adj2" fmla="val 52550"/>
            </a:avLst>
          </a:prstGeom>
          <a:solidFill>
            <a:srgbClr val="7030a0"/>
          </a:solidFill>
          <a:ln w="12600">
            <a:solidFill>
              <a:srgbClr val="ffffff"/>
            </a:solidFill>
            <a:miter/>
          </a:ln>
          <a:effectLst>
            <a:outerShdw dist="117181" dir="783836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e synovial joints between the occipital condyles, and the facets on the superior surfaces of the lateral masses of the atlas below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6"/>
          <p:cNvSpPr/>
          <p:nvPr/>
        </p:nvSpPr>
        <p:spPr>
          <a:xfrm rot="20208000">
            <a:off x="3112560" y="370836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tl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Text Box 7"/>
          <p:cNvSpPr/>
          <p:nvPr/>
        </p:nvSpPr>
        <p:spPr>
          <a:xfrm rot="20208000">
            <a:off x="1977840" y="4154400"/>
            <a:ext cx="42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axi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Text Box 10"/>
          <p:cNvSpPr/>
          <p:nvPr/>
        </p:nvSpPr>
        <p:spPr>
          <a:xfrm>
            <a:off x="7439760" y="5792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8295120" y="5794200"/>
            <a:ext cx="3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7903800" y="61246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7656480" y="54118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12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F97B-9986-440B-B566-E688D1145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4"/>
          <p:cNvSpPr/>
          <p:nvPr/>
        </p:nvSpPr>
        <p:spPr>
          <a:xfrm>
            <a:off x="539640" y="6093000"/>
            <a:ext cx="79250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4105080" cy="1262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ATLANTO-OCCIPITAL </a:t>
            </a: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JOIN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000" y="2421000"/>
            <a:ext cx="4103640" cy="273672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The joints are capable of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io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teral flexion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hey do not ro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1" name="Picture 4" descr="Untitled-37a"/>
          <p:cNvPicPr/>
          <p:nvPr/>
        </p:nvPicPr>
        <p:blipFill>
          <a:blip r:embed="rId1"/>
          <a:stretch/>
        </p:blipFill>
        <p:spPr>
          <a:xfrm>
            <a:off x="5076720" y="0"/>
            <a:ext cx="3095640" cy="3500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Untitled-3"/>
          <p:cNvPicPr/>
          <p:nvPr/>
        </p:nvPicPr>
        <p:blipFill>
          <a:blip r:embed="rId2"/>
          <a:stretch/>
        </p:blipFill>
        <p:spPr>
          <a:xfrm>
            <a:off x="5076720" y="3500280"/>
            <a:ext cx="3168720" cy="316872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1D9D-656D-45EC-8250-45FBA3B767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79280" y="4220640"/>
            <a:ext cx="6840720" cy="2232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Atlanto-axial joints are </a:t>
            </a:r>
            <a:r>
              <a:rPr b="1" i="1" lang="en-US" sz="2800" spc="-1" strike="noStrike">
                <a:solidFill>
                  <a:srgbClr val="ffff00"/>
                </a:solidFill>
                <a:latin typeface="Garamond"/>
              </a:rPr>
              <a:t>three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 synovial joi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median, between the odontoid process and the anterior small arch of 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wo are lateral and lie between the lateral masses of the atlas and superior facets on the body of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Picture 3" descr="Untitled-4"/>
          <p:cNvPicPr/>
          <p:nvPr/>
        </p:nvPicPr>
        <p:blipFill>
          <a:blip r:embed="rId1"/>
          <a:srcRect l="0" t="4448" r="0" b="6656"/>
          <a:stretch/>
        </p:blipFill>
        <p:spPr>
          <a:xfrm>
            <a:off x="638280" y="1197000"/>
            <a:ext cx="7867440" cy="287964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4"/>
          <p:cNvSpPr/>
          <p:nvPr/>
        </p:nvSpPr>
        <p:spPr>
          <a:xfrm>
            <a:off x="5630760" y="1197000"/>
            <a:ext cx="925560" cy="36036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5624640" y="1557360"/>
            <a:ext cx="925560" cy="35892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1908000" y="189000"/>
            <a:ext cx="5688360" cy="58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LANTO-AXIAL JOI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Footer Placeholder 7"/>
          <p:cNvSpPr/>
          <p:nvPr/>
        </p:nvSpPr>
        <p:spPr>
          <a:xfrm>
            <a:off x="5568840" y="6093000"/>
            <a:ext cx="357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29EA-8FAD-4969-8AE4-D46F9E7C1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4500720" y="6237360"/>
            <a:ext cx="3963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467160" cy="58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VEMENT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602160" cy="2520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xtensive rotation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atlas and the skull (and thus of the head on the axis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at is to say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4" name="Picture 4" descr="Untitled-38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475308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5357-AC3B-494B-9C26-66A3194398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25844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JOINTS OF THE VERTEBRAL COLUMN </a:t>
            </a: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BELOW</a:t>
            </a: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 THE AXI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395280" y="3573360"/>
            <a:ext cx="8137440" cy="2562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JOINTS BETWEEN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TWO VERTEBRAL BODI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C42-6D4E-4B7D-90CE-7C6DF1B61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Untitled-7"/>
          <p:cNvPicPr/>
          <p:nvPr/>
        </p:nvPicPr>
        <p:blipFill>
          <a:blip r:embed="rId1"/>
          <a:srcRect l="0" t="0" r="0" b="3865"/>
          <a:stretch/>
        </p:blipFill>
        <p:spPr>
          <a:xfrm>
            <a:off x="1206360" y="328680"/>
            <a:ext cx="6686640" cy="482904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424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With exception of the first two cervical vertebrae, the other  cervical vertebrae articulate with each other by means of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AutoShape 6"/>
          <p:cNvSpPr/>
          <p:nvPr/>
        </p:nvSpPr>
        <p:spPr>
          <a:xfrm>
            <a:off x="6372360" y="260280"/>
            <a:ext cx="2771640" cy="1799640"/>
          </a:xfrm>
          <a:prstGeom prst="wedgeRectCallout">
            <a:avLst>
              <a:gd name="adj1" fmla="val -77115"/>
              <a:gd name="adj2" fmla="val 93777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I-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artilaginou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joints between their bodies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AutoShape 7"/>
          <p:cNvSpPr/>
          <p:nvPr/>
        </p:nvSpPr>
        <p:spPr>
          <a:xfrm>
            <a:off x="250920" y="189000"/>
            <a:ext cx="2911320" cy="1617120"/>
          </a:xfrm>
          <a:prstGeom prst="wedgeRectCallout">
            <a:avLst>
              <a:gd name="adj1" fmla="val 113018"/>
              <a:gd name="adj2" fmla="val 134708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-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novi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 between their articular process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D45A-5205-4E2C-8415-86FA100FDCE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3744720" cy="511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nd lower surfaces of the bodies of two adjacent vertebrae are covered by thin plates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yaline cartilage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etween the plates of hyaline cartilage is an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tervertebral disc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f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fibrocartilage.</a:t>
            </a:r>
            <a:r>
              <a:rPr b="1" lang="en-US" sz="3200" spc="-1" strike="noStrike" u="sng">
                <a:solidFill>
                  <a:srgbClr val="f2f2f2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ollagen fibers of the disc strongly connect the bodies of the two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8" name="Picture 5" descr="F71683-045-f038"/>
          <p:cNvPicPr/>
          <p:nvPr/>
        </p:nvPicPr>
        <p:blipFill>
          <a:blip r:embed="rId1"/>
          <a:srcRect l="0" t="0" r="0" b="2161"/>
          <a:stretch/>
        </p:blipFill>
        <p:spPr>
          <a:xfrm>
            <a:off x="4287960" y="907920"/>
            <a:ext cx="4566960" cy="528192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7"/>
          <p:cNvSpPr/>
          <p:nvPr/>
        </p:nvSpPr>
        <p:spPr>
          <a:xfrm>
            <a:off x="3419640" y="3789360"/>
            <a:ext cx="2089080" cy="46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88" h="105">
                <a:moveTo>
                  <a:pt x="0" y="105"/>
                </a:moveTo>
                <a:cubicBezTo>
                  <a:pt x="666" y="66"/>
                  <a:pt x="1332" y="28"/>
                  <a:pt x="15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sm"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4427640" y="189000"/>
            <a:ext cx="4032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- Intervertebral dis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3E1-73F9-4787-9449-F1563C4B54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4"/>
          <p:cNvSpPr/>
          <p:nvPr/>
        </p:nvSpPr>
        <p:spPr>
          <a:xfrm>
            <a:off x="4427640" y="6453360"/>
            <a:ext cx="4037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5640" y="188640"/>
            <a:ext cx="720720" cy="452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G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4797000"/>
            <a:ext cx="8785440" cy="1584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The anterior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posterior longitudinal ligament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un as continuous bands along the anterior &amp; posterior surfaces of the vertebral bod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se ligaments hold the vertebrae firmly together but at the same time permit a small amount of movement to take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5" name="Picture 5" descr="Untitled-8a"/>
          <p:cNvPicPr/>
          <p:nvPr/>
        </p:nvPicPr>
        <p:blipFill>
          <a:blip r:embed="rId1"/>
          <a:srcRect l="5258" t="7010" r="3576" b="5381"/>
          <a:stretch/>
        </p:blipFill>
        <p:spPr>
          <a:xfrm>
            <a:off x="4859280" y="189000"/>
            <a:ext cx="3960720" cy="431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Untitled-2a"/>
          <p:cNvPicPr/>
          <p:nvPr/>
        </p:nvPicPr>
        <p:blipFill>
          <a:blip r:embed="rId2"/>
          <a:srcRect l="5886" t="3437" r="5897" b="3569"/>
          <a:stretch/>
        </p:blipFill>
        <p:spPr>
          <a:xfrm>
            <a:off x="324000" y="189000"/>
            <a:ext cx="3527280" cy="4319640"/>
          </a:xfrm>
          <a:prstGeom prst="rect">
            <a:avLst/>
          </a:prstGeom>
          <a:ln w="0">
            <a:noFill/>
          </a:ln>
        </p:spPr>
      </p:pic>
      <p:sp>
        <p:nvSpPr>
          <p:cNvPr id="277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7169-E3B4-4EEB-965C-C1473CF2F5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484360" y="4076640"/>
            <a:ext cx="15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Anterio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TextBox 8"/>
          <p:cNvSpPr/>
          <p:nvPr/>
        </p:nvSpPr>
        <p:spPr>
          <a:xfrm>
            <a:off x="4788000" y="1700280"/>
            <a:ext cx="1427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514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5000"/>
            <a:ext cx="7772400" cy="1446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INTS BETWEEN TWO VERTEBRAL AR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1" name="Picture 2" descr="E:\dad\Student Gray\2. Back\F66122-002-f032.jpg"/>
          <p:cNvPicPr/>
          <p:nvPr/>
        </p:nvPicPr>
        <p:blipFill>
          <a:blip r:embed="rId1"/>
          <a:srcRect l="18529" t="0" r="16100" b="83110"/>
          <a:stretch/>
        </p:blipFill>
        <p:spPr>
          <a:xfrm>
            <a:off x="1763640" y="1916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10"/>
          <p:cNvSpPr/>
          <p:nvPr/>
        </p:nvSpPr>
        <p:spPr>
          <a:xfrm>
            <a:off x="5940360" y="3860640"/>
            <a:ext cx="2303640" cy="648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CE11-4A13-485C-9EAB-6F9FAB24BA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76000" y="274680"/>
            <a:ext cx="6551640" cy="7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y the end of this lecture you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7 cervical vertebrae, (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ypical &amp;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ypical (Non-typical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)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joints between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scribe the movement which occur in the region of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st the structures which connect 2 adjacent vertebrae toge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2268360" y="6248520"/>
            <a:ext cx="4319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F897-A7A3-4FA0-83EB-BB07D50BFD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323640" y="4005360"/>
            <a:ext cx="3384360" cy="2232000"/>
          </a:xfrm>
          <a:prstGeom prst="rect">
            <a:avLst/>
          </a:prstGeom>
          <a:solidFill>
            <a:srgbClr val="0000f2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ticular facets are covered with hyaline cartilage, and the joints are surrounded by a caps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7" name="Picture 5" descr="F71683-045-f038"/>
          <p:cNvPicPr/>
          <p:nvPr/>
        </p:nvPicPr>
        <p:blipFill>
          <a:blip r:embed="rId1"/>
          <a:srcRect l="0" t="0" r="0" b="2253"/>
          <a:stretch/>
        </p:blipFill>
        <p:spPr>
          <a:xfrm>
            <a:off x="4070520" y="482760"/>
            <a:ext cx="4832280" cy="585468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6"/>
          <p:cNvSpPr/>
          <p:nvPr/>
        </p:nvSpPr>
        <p:spPr>
          <a:xfrm>
            <a:off x="324000" y="250920"/>
            <a:ext cx="3311280" cy="4359240"/>
          </a:xfrm>
          <a:prstGeom prst="wedgeRectCallout">
            <a:avLst>
              <a:gd name="adj1" fmla="val 114462"/>
              <a:gd name="adj2" fmla="val 26703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joints between two vertebral arches consist of synovial joints between the superior and inferior articular processes of adjacent vertebra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08E8-773F-4435-8471-12596A6361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825800" cy="646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THER LIGAM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92" name="Picture 5" descr="Untitled-9"/>
          <p:cNvPicPr/>
          <p:nvPr/>
        </p:nvPicPr>
        <p:blipFill>
          <a:blip r:embed="rId1"/>
          <a:srcRect l="0" t="5453" r="15123" b="2662"/>
          <a:stretch/>
        </p:blipFill>
        <p:spPr>
          <a:xfrm>
            <a:off x="4362480" y="1125360"/>
            <a:ext cx="4530600" cy="5256360"/>
          </a:xfrm>
          <a:prstGeom prst="rect">
            <a:avLst/>
          </a:prstGeom>
          <a:ln w="0">
            <a:noFill/>
          </a:ln>
        </p:spPr>
      </p:pic>
      <p:sp>
        <p:nvSpPr>
          <p:cNvPr id="293" name="AutoShape 6"/>
          <p:cNvSpPr/>
          <p:nvPr/>
        </p:nvSpPr>
        <p:spPr>
          <a:xfrm>
            <a:off x="179280" y="765000"/>
            <a:ext cx="4033800" cy="1754280"/>
          </a:xfrm>
          <a:prstGeom prst="wedgeRectCallout">
            <a:avLst>
              <a:gd name="adj1" fmla="val 70407"/>
              <a:gd name="adj2" fmla="val 2104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raspinous ligament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It runs between the tips of adjacent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AutoShape 7"/>
          <p:cNvSpPr/>
          <p:nvPr/>
        </p:nvSpPr>
        <p:spPr>
          <a:xfrm>
            <a:off x="179280" y="2924280"/>
            <a:ext cx="4032360" cy="1888560"/>
          </a:xfrm>
          <a:prstGeom prst="wedgeRectCallout">
            <a:avLst>
              <a:gd name="adj1" fmla="val 84856"/>
              <a:gd name="adj2" fmla="val -21643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Interspinous ligament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t connects adjacent spines</a:t>
            </a: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AutoShape 8"/>
          <p:cNvSpPr/>
          <p:nvPr/>
        </p:nvSpPr>
        <p:spPr>
          <a:xfrm>
            <a:off x="179280" y="4508640"/>
            <a:ext cx="3888000" cy="2315880"/>
          </a:xfrm>
          <a:prstGeom prst="wedgeRectCallout">
            <a:avLst>
              <a:gd name="adj1" fmla="val 113675"/>
              <a:gd name="adj2" fmla="val -47171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Garamond"/>
              </a:rPr>
              <a:t>Ligamentum flavum</a:t>
            </a:r>
            <a:r>
              <a:rPr b="0" lang="en-US" sz="2800" spc="-1" strike="noStrike">
                <a:solidFill>
                  <a:srgbClr val="ff0066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It connects the laminae of adjacent vertebra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Slide Number Placeholder 8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29F-C94E-4A5E-88C4-C347213A8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5568840" y="646740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7" descr="Untitled-10"/>
          <p:cNvPicPr/>
          <p:nvPr/>
        </p:nvPicPr>
        <p:blipFill>
          <a:blip r:embed="rId1"/>
          <a:srcRect l="10528" t="4913" r="11345" b="4438"/>
          <a:stretch/>
        </p:blipFill>
        <p:spPr>
          <a:xfrm>
            <a:off x="4356000" y="260280"/>
            <a:ext cx="4464000" cy="58327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8"/>
          <p:cNvSpPr/>
          <p:nvPr/>
        </p:nvSpPr>
        <p:spPr>
          <a:xfrm>
            <a:off x="179280" y="189000"/>
            <a:ext cx="4032360" cy="2347920"/>
          </a:xfrm>
          <a:prstGeom prst="wedgeRectCallout">
            <a:avLst>
              <a:gd name="adj1" fmla="val 86125"/>
              <a:gd name="adj2" fmla="val 23018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Intertransverse ligament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y run between adjacent transverse process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0" name="Picture 2" descr="E:\dad\Student Gray\2. Back\F66122-002-f037.jpg"/>
          <p:cNvPicPr/>
          <p:nvPr/>
        </p:nvPicPr>
        <p:blipFill>
          <a:blip r:embed="rId2"/>
          <a:srcRect l="18941" t="43159" r="17788" b="3228"/>
          <a:stretch/>
        </p:blipFill>
        <p:spPr>
          <a:xfrm>
            <a:off x="179280" y="2205000"/>
            <a:ext cx="3961080" cy="4464000"/>
          </a:xfrm>
          <a:prstGeom prst="rect">
            <a:avLst/>
          </a:prstGeom>
          <a:ln w="0">
            <a:noFill/>
          </a:ln>
        </p:spPr>
      </p:pic>
      <p:sp>
        <p:nvSpPr>
          <p:cNvPr id="301" name="Slide Number Placeholder 6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11F8-D684-46AB-9313-4F7AFD997C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4"/>
          <p:cNvSpPr/>
          <p:nvPr/>
        </p:nvSpPr>
        <p:spPr>
          <a:xfrm>
            <a:off x="4859280" y="6308640"/>
            <a:ext cx="3605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708120"/>
          </a:xfrm>
          <a:prstGeom prst="rect">
            <a:avLst/>
          </a:prstGeom>
          <a:solidFill>
            <a:srgbClr val="0a47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AMENTUM NUCHA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681440" cy="5328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the cervical region, the Supraspinous and Interspinous ligaments are greatly thickened to form the strong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gamentum nuchae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 extends from the external occipital protuberance of the skull to the spine of the seventh cervical vertebr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ts anterior border is strongly attached to the cervical spines in betwe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5" name="Picture 5" descr="F66122-002-f036"/>
          <p:cNvPicPr/>
          <p:nvPr/>
        </p:nvPicPr>
        <p:blipFill>
          <a:blip r:embed="rId1"/>
          <a:srcRect l="7023" t="0" r="0" b="0"/>
          <a:stretch/>
        </p:blipFill>
        <p:spPr>
          <a:xfrm>
            <a:off x="5076720" y="1246320"/>
            <a:ext cx="3670560" cy="4991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7047000" y="2306520"/>
            <a:ext cx="1384200" cy="31140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Slide Number Placeholder 7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DE1A-C721-4F03-A837-1E3E75474D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cervical vertebrae are 7 in number, classified into typical &amp; atypical (non-typical)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l the typical vertebra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foramen transversarium and bifid spinous proc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ypical vertebrae (1,2,7) 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1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Atlas)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no body nor spine, has short anterior arch and long posterior 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2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Axis)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odontoid process (dens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7</a:t>
            </a:r>
            <a:r>
              <a:rPr b="1" lang="en-US" sz="2400" spc="-1" strike="noStrike" baseline="30000">
                <a:solidFill>
                  <a:srgbClr val="99ff33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 (Cervica Prominens)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pinous process, which can be felt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subcutaneousl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 are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synovial joint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lexion and extension, and lateral flexion, This joint allows you to sa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Yes”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Axial joints are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 synovial joint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function :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tensive rotation, this joint allows you to say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 No”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0" name="Footer Placeholder 4"/>
          <p:cNvSpPr/>
          <p:nvPr/>
        </p:nvSpPr>
        <p:spPr>
          <a:xfrm>
            <a:off x="3124080" y="6251400"/>
            <a:ext cx="519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Slide Number Placeholder 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20E5-22C3-466A-B869-804D6F0C2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496000" cy="468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JOINTS BELOW THE AXIS are:                                                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I-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Synovial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ints between thei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rticular process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II-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Cartilaginous</a:t>
            </a:r>
            <a:r>
              <a:rPr b="0" lang="en-US" sz="2400" spc="-1" strike="noStrike">
                <a:solidFill>
                  <a:srgbClr val="99ff33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ints betwe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ir bodi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intervertebral disc of fibrocartilage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igaments of cervical spin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Supraspinous ligament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ips of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nterspinous ligament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adjacent sp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f0ff"/>
                </a:solidFill>
                <a:latin typeface="Garamond"/>
              </a:rPr>
              <a:t>Supraspinous &amp; Interspinous ligame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thickened to form </a:t>
            </a: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ligamentum nucha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Ligamentum flavum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lamin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Garamond"/>
              </a:rPr>
              <a:t>Intertransverse ligaments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ransverse processe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Garamond"/>
              </a:rPr>
              <a:t>Summary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Footer Placeholder 5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Slide Number Placeholder 6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F18E-A0B3-4D05-B0F4-CAD13DF1B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4"/>
          <p:cNvSpPr/>
          <p:nvPr/>
        </p:nvSpPr>
        <p:spPr>
          <a:xfrm>
            <a:off x="4643280" y="549360"/>
            <a:ext cx="4032360" cy="10688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ERVIC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IN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179280" y="3645000"/>
            <a:ext cx="3961080" cy="3873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y are 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n numbe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l  characterized by presence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n the transverse proce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y are classified int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ypic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&amp; 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typic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2" descr="E:\dad\Student Gray\8. Head and neck\F66122-008-f008.jpg"/>
          <p:cNvPicPr/>
          <p:nvPr/>
        </p:nvPicPr>
        <p:blipFill>
          <a:blip r:embed="rId1"/>
          <a:srcRect l="11023" t="0" r="15495" b="74471"/>
          <a:stretch/>
        </p:blipFill>
        <p:spPr>
          <a:xfrm>
            <a:off x="4356000" y="3284640"/>
            <a:ext cx="4608720" cy="3240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E:\dad\Student Gray\8. Head and neck\F66122-008-f008.jpg"/>
          <p:cNvPicPr/>
          <p:nvPr/>
        </p:nvPicPr>
        <p:blipFill>
          <a:blip r:embed="rId2"/>
          <a:srcRect l="1411" t="26055" r="48272" b="48896"/>
          <a:stretch/>
        </p:blipFill>
        <p:spPr>
          <a:xfrm>
            <a:off x="179280" y="189000"/>
            <a:ext cx="4248360" cy="3095640"/>
          </a:xfrm>
          <a:prstGeom prst="rect">
            <a:avLst/>
          </a:prstGeom>
          <a:ln w="0">
            <a:noFill/>
          </a:ln>
        </p:spPr>
      </p:pic>
      <p:sp>
        <p:nvSpPr>
          <p:cNvPr id="168" name="Footer Placeholder 6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Slide Number Placeholder 8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5356-091B-41D3-9C39-AA501EB15E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4360" y="6248520"/>
            <a:ext cx="5335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179280" y="189000"/>
            <a:ext cx="3097440" cy="5641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mall, longer horizontally than antero-posteriorly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s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pinous processe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hort and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bifid.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es has an oval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ough which the vertebral vessels pas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3851280" y="189000"/>
            <a:ext cx="5041800" cy="151128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ERVICAL VERTEBRA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C3, C4, C5 &amp; C 6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Picture 5" descr="File0344"/>
          <p:cNvPicPr/>
          <p:nvPr/>
        </p:nvPicPr>
        <p:blipFill>
          <a:blip r:embed="rId1"/>
          <a:srcRect l="55504" t="0" r="2566" b="77160"/>
          <a:stretch/>
        </p:blipFill>
        <p:spPr>
          <a:xfrm>
            <a:off x="3348000" y="1844640"/>
            <a:ext cx="5616720" cy="331308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10"/>
          <p:cNvSpPr/>
          <p:nvPr/>
        </p:nvSpPr>
        <p:spPr>
          <a:xfrm>
            <a:off x="3419640" y="4221000"/>
            <a:ext cx="1296720" cy="7923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79280" y="5300640"/>
            <a:ext cx="8785440" cy="13737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he vertebral foramen is large &amp; triangular to accommodate the cervical enlargement of the spinal cor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6" name="Straight Arrow Connector 12"/>
          <p:cNvCxnSpPr/>
          <p:nvPr/>
        </p:nvCxnSpPr>
        <p:spPr>
          <a:xfrm>
            <a:off x="5651280" y="4005000"/>
            <a:ext cx="1152720" cy="108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77" name="Straight Arrow Connector 16"/>
          <p:cNvCxnSpPr/>
          <p:nvPr/>
        </p:nvCxnSpPr>
        <p:spPr>
          <a:xfrm>
            <a:off x="6227280" y="3645000"/>
            <a:ext cx="108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8" name="AutoShape 10"/>
          <p:cNvSpPr/>
          <p:nvPr/>
        </p:nvSpPr>
        <p:spPr>
          <a:xfrm>
            <a:off x="7740720" y="2492280"/>
            <a:ext cx="1224000" cy="720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7596360" y="4292640"/>
            <a:ext cx="1296720" cy="720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63640" y="189000"/>
            <a:ext cx="532908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YPICA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CERVICAL VERTABRA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(3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rd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, 4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, 5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 and 6</a:t>
            </a:r>
            <a:r>
              <a:rPr b="1" lang="en-US" sz="3200" spc="-1" strike="noStrike" baseline="30000">
                <a:solidFill>
                  <a:srgbClr val="e5e5ff"/>
                </a:solidFill>
                <a:latin typeface="Garamond"/>
              </a:rPr>
              <a:t>th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).</a:t>
            </a:r>
            <a:br>
              <a:rPr sz="28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3313080" cy="532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2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superior articular proces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 a facet that face upward  &amp; back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inferior articular  processe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ve a facet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ace downward and 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 has 2 tubercles one infront and one behind the foramen transversariu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Footer Placeholder 5"/>
          <p:cNvSpPr/>
          <p:nvPr/>
        </p:nvSpPr>
        <p:spPr>
          <a:xfrm>
            <a:off x="3124080" y="6248520"/>
            <a:ext cx="526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Picture 2" descr="E:\dad\Student Gray\8. Head and neck\F66122-008-f008.jpg"/>
          <p:cNvPicPr/>
          <p:nvPr/>
        </p:nvPicPr>
        <p:blipFill>
          <a:blip r:embed="rId1"/>
          <a:srcRect l="10815" t="0" r="13326" b="73558"/>
          <a:stretch/>
        </p:blipFill>
        <p:spPr>
          <a:xfrm>
            <a:off x="3564000" y="2276640"/>
            <a:ext cx="5329080" cy="381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0"/>
          <p:cNvSpPr/>
          <p:nvPr/>
        </p:nvSpPr>
        <p:spPr>
          <a:xfrm>
            <a:off x="5508720" y="5516640"/>
            <a:ext cx="122400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7308720" y="4653000"/>
            <a:ext cx="1150920" cy="431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3564000" y="2565360"/>
            <a:ext cx="1224000" cy="64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1154-7913-4F5E-AB0D-1ECAA5C1BC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E:\dad\Student Gray\8. Head and neck\F66122-008-f008.jpg"/>
          <p:cNvPicPr/>
          <p:nvPr/>
        </p:nvPicPr>
        <p:blipFill>
          <a:blip r:embed="rId1"/>
          <a:srcRect l="1575" t="26446" r="46453" b="49190"/>
          <a:stretch/>
        </p:blipFill>
        <p:spPr>
          <a:xfrm>
            <a:off x="2987640" y="333360"/>
            <a:ext cx="5977080" cy="42480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179280" y="2133720"/>
            <a:ext cx="2664000" cy="558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a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spin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lateral masses connected together by </a:t>
            </a:r>
            <a:r>
              <a:rPr b="1" i="1" lang="en-US" sz="2400" spc="-1" strike="noStrike">
                <a:solidFill>
                  <a:srgbClr val="ffff00"/>
                </a:solidFill>
                <a:latin typeface="Garamond"/>
              </a:rPr>
              <a:t>small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terior arch &amp;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lo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posterior arch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ateral mass has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articular surfa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its upper and lower aspec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TextBox 5"/>
          <p:cNvSpPr/>
          <p:nvPr/>
        </p:nvSpPr>
        <p:spPr>
          <a:xfrm>
            <a:off x="179280" y="907920"/>
            <a:ext cx="2737080" cy="1068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C1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L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203640" y="4724280"/>
            <a:ext cx="5689440" cy="2288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upper articular surface is kidney-shaped articulates with occipital condyles of the skul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forms the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joint allows you to no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say Yes”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179280" y="189000"/>
            <a:ext cx="2737080" cy="581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ATYP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5003640" y="333360"/>
            <a:ext cx="1224000" cy="358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236000" y="4292640"/>
            <a:ext cx="1368360" cy="2887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Footer Placeholder 1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Slide Number Placeholder 1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2E77-FFA7-4B88-84F7-0B77B5B2D2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2"/>
          <p:cNvSpPr/>
          <p:nvPr/>
        </p:nvSpPr>
        <p:spPr>
          <a:xfrm>
            <a:off x="4643280" y="602136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2" descr="E:\dad\Student Gray\8. Head and neck\F66122-008-f008.jpg"/>
          <p:cNvPicPr/>
          <p:nvPr/>
        </p:nvPicPr>
        <p:blipFill>
          <a:blip r:embed="rId1"/>
          <a:srcRect l="55831" t="32296" r="16218" b="48665"/>
          <a:stretch/>
        </p:blipFill>
        <p:spPr>
          <a:xfrm>
            <a:off x="4859280" y="189000"/>
            <a:ext cx="4033800" cy="3456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0920" y="189000"/>
            <a:ext cx="4465440" cy="37216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inferior articular surface of the atlas is circular and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t forms the 2 lateral 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Atlanto-Axia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s joint together with the joint between the dens of axis and the anterior small arch of atlas, they allow you to “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rotation of the fac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2" descr="E:\dad\Student Gray\8. Head and neck\F66122-008-f008.jpg"/>
          <p:cNvPicPr/>
          <p:nvPr/>
        </p:nvPicPr>
        <p:blipFill>
          <a:blip r:embed="rId2"/>
          <a:srcRect l="0" t="54490" r="48818" b="14304"/>
          <a:stretch/>
        </p:blipFill>
        <p:spPr>
          <a:xfrm>
            <a:off x="179280" y="3357720"/>
            <a:ext cx="4608720" cy="3311280"/>
          </a:xfrm>
          <a:prstGeom prst="rect">
            <a:avLst/>
          </a:prstGeom>
          <a:ln w="0">
            <a:noFill/>
          </a:ln>
        </p:spPr>
      </p:pic>
      <p:cxnSp>
        <p:nvCxnSpPr>
          <p:cNvPr id="201" name="Straight Arrow Connector 7"/>
          <p:cNvCxnSpPr/>
          <p:nvPr/>
        </p:nvCxnSpPr>
        <p:spPr>
          <a:xfrm flipH="1">
            <a:off x="7956000" y="907560"/>
            <a:ext cx="216360" cy="5058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202" name="Straight Arrow Connector 10"/>
          <p:cNvCxnSpPr/>
          <p:nvPr/>
        </p:nvCxnSpPr>
        <p:spPr>
          <a:xfrm>
            <a:off x="5148360" y="476280"/>
            <a:ext cx="576360" cy="1008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triangle" w="med"/>
          </a:ln>
        </p:spPr>
      </p:cxnSp>
      <p:cxnSp>
        <p:nvCxnSpPr>
          <p:cNvPr id="203" name="Straight Arrow Connector 14"/>
          <p:cNvCxnSpPr/>
          <p:nvPr/>
        </p:nvCxnSpPr>
        <p:spPr>
          <a:xfrm flipH="1">
            <a:off x="2987280" y="3500280"/>
            <a:ext cx="1153440" cy="209016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pic>
        <p:nvPicPr>
          <p:cNvPr id="204" name="Picture 2" descr="E:\dad\Student Gray\2. Back\F66122-002-f021b.jpg"/>
          <p:cNvPicPr/>
          <p:nvPr/>
        </p:nvPicPr>
        <p:blipFill>
          <a:blip r:embed="rId3"/>
          <a:srcRect l="2826" t="45597" r="65427" b="12572"/>
          <a:stretch/>
        </p:blipFill>
        <p:spPr>
          <a:xfrm>
            <a:off x="5219640" y="3716280"/>
            <a:ext cx="3456000" cy="28814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9"/>
          <p:cNvSpPr/>
          <p:nvPr/>
        </p:nvSpPr>
        <p:spPr>
          <a:xfrm>
            <a:off x="6084720" y="1773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Garamond"/>
              </a:rPr>
              <a:t>AXI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Slide Number Placeholder 1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F96-DA44-4003-A805-01350D49AF2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1332000" y="6248520"/>
            <a:ext cx="6985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95280" y="4653000"/>
            <a:ext cx="8532720" cy="2715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acts as a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pivo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or the rotation of the atlas (and the skull) abov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a large upright peg-like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en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projects upward from the superior surface of the bod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ctually it represents the body of the atlas that has fused with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9" name="Picture 5" descr="File0344a"/>
          <p:cNvPicPr/>
          <p:nvPr/>
        </p:nvPicPr>
        <p:blipFill>
          <a:blip r:embed="rId1"/>
          <a:srcRect l="2434" t="7861" r="8529" b="5794"/>
          <a:stretch/>
        </p:blipFill>
        <p:spPr>
          <a:xfrm>
            <a:off x="324000" y="189000"/>
            <a:ext cx="5256000" cy="42480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6084720" y="189000"/>
            <a:ext cx="2448000" cy="647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XIS- C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324000" y="3573360"/>
            <a:ext cx="2160360" cy="100800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2" descr="E:\dad\Student Gray\2. Back\F66122-002-f021b.jpg"/>
          <p:cNvPicPr/>
          <p:nvPr/>
        </p:nvPicPr>
        <p:blipFill>
          <a:blip r:embed="rId2"/>
          <a:srcRect l="56352" t="1816" r="0" b="57519"/>
          <a:stretch/>
        </p:blipFill>
        <p:spPr>
          <a:xfrm>
            <a:off x="5651640" y="981000"/>
            <a:ext cx="3313080" cy="3311640"/>
          </a:xfrm>
          <a:prstGeom prst="rect">
            <a:avLst/>
          </a:prstGeom>
          <a:ln w="0">
            <a:noFill/>
          </a:ln>
        </p:spPr>
      </p:pic>
      <p:sp>
        <p:nvSpPr>
          <p:cNvPr id="213" name="Oval 12"/>
          <p:cNvSpPr/>
          <p:nvPr/>
        </p:nvSpPr>
        <p:spPr>
          <a:xfrm>
            <a:off x="3708360" y="189000"/>
            <a:ext cx="1295280" cy="129528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Slide Number Placeholder 10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3085-0516-4969-BA29-FF948CF1C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9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816360" cy="1800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7th 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CERVICAL VERTEBRA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R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Vertebra Promine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889440" cy="4319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spinous process which 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irst spin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 be felt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ubcutaneousl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in the root of the back of the  nec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transverse process is large while its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oramen transversaium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is small and may be absent, and does not transmit the vertebral artery. </a:t>
            </a: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(only  small accessory vei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324000" y="6248520"/>
            <a:ext cx="569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Picture 2" descr="E:\dad\Student Gray\2. Back\F66122-002-f036.jpg"/>
          <p:cNvPicPr/>
          <p:nvPr/>
        </p:nvPicPr>
        <p:blipFill>
          <a:blip r:embed="rId1"/>
          <a:srcRect l="19076" t="0" r="18806" b="5112"/>
          <a:stretch/>
        </p:blipFill>
        <p:spPr>
          <a:xfrm>
            <a:off x="4284720" y="189000"/>
            <a:ext cx="4680000" cy="6480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0"/>
          <p:cNvSpPr/>
          <p:nvPr/>
        </p:nvSpPr>
        <p:spPr>
          <a:xfrm>
            <a:off x="6948360" y="2133720"/>
            <a:ext cx="1656000" cy="503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Slide Number Placeholder 9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A325-7CD8-4797-AEA8-153ACC37F7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0:04Z</dcterms:created>
  <dc:creator>Prof. Saeed Abuel Makarem</dc:creator>
  <dc:description/>
  <dc:language>en-US</dc:language>
  <cp:lastModifiedBy> saeed abuelmakarem</cp:lastModifiedBy>
  <dcterms:modified xsi:type="dcterms:W3CDTF">2015-11-29T06:27:41Z</dcterms:modified>
  <cp:revision>98</cp:revision>
  <dc:subject/>
  <dc:title>THE LANGUAGE OF ANATOMY CLASSIFICATION OF B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Vertbrae">
    <vt:lpwstr>Prof. Saeed Abuel Makarem</vt:lpwstr>
  </property>
</Properties>
</file>