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9878-5ADD-4A91-8F5B-5BDCD963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3553-5BCB-4831-9734-AED786B37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AB4B-7D77-43F6-89D1-19D06D80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8046-79B5-447D-B663-FFFD3CD77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7A58-32A3-48F1-B631-C76543996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A520-F524-442B-8933-7A9145DE1D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939D-A4E3-49DF-81D3-BEC8418D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A440-2D31-4AC0-A9FF-9D181C54E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FBFE-7CE3-4486-A258-C531C8C1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3204-509E-41CC-A397-FD7D22F3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35D-98A0-4E81-86FF-8A8D7BF8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1D0A-F378-4121-9927-AF1709C7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025-D69A-49B6-8EA6-1EE2935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F5F-72F5-45A0-A8F7-EB41FDB2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E7D5-92A8-43FC-B2B1-68F47161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C0B3-6AF9-429A-AB03-CC57AACE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B0E-B53D-452B-ABBA-FD340FC62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F432-8D0D-4FE9-A4E3-384D88C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A686-A401-4072-B4EE-FDC8511C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A57-C7C6-4953-8E9F-DF4CDCA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41D4-848B-4A95-9C87-46A325A5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Gray411.pn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672000" cy="172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PECTORAL REG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AND AX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5732640"/>
            <a:ext cx="3673440" cy="504720"/>
          </a:xfrm>
          <a:prstGeom prst="rect">
            <a:avLst/>
          </a:prstGeom>
          <a:solidFill>
            <a:srgbClr val="d1d1f0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Saeed Abuel Maka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胸大肌1"/>
          <p:cNvPicPr/>
          <p:nvPr/>
        </p:nvPicPr>
        <p:blipFill>
          <a:blip r:embed="rId1"/>
          <a:srcRect l="5230" t="0" r="0" b="0"/>
          <a:stretch/>
        </p:blipFill>
        <p:spPr>
          <a:xfrm>
            <a:off x="3995640" y="476280"/>
            <a:ext cx="4969080" cy="597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79280" y="333360"/>
            <a:ext cx="3888000" cy="612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Ba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Formed by skin stretching between the anterior and posterior w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boun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fro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anterior axillary fold (formed by the lower border of 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ectoralis majo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c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hi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the posterior axillary fold (formed by the tendons of latissimus dorsi and teres major muscl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upper 4 to 5 ribs &amp; the chest w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腋窝9"/>
          <p:cNvPicPr/>
          <p:nvPr/>
        </p:nvPicPr>
        <p:blipFill>
          <a:blip r:embed="rId1"/>
          <a:srcRect l="7571" t="0" r="0" b="0"/>
          <a:stretch/>
        </p:blipFill>
        <p:spPr>
          <a:xfrm>
            <a:off x="4140360" y="189000"/>
            <a:ext cx="4752720" cy="648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锁胸筋膜4"/>
          <p:cNvPicPr/>
          <p:nvPr/>
        </p:nvPicPr>
        <p:blipFill>
          <a:blip r:embed="rId1"/>
          <a:stretch/>
        </p:blipFill>
        <p:spPr>
          <a:xfrm>
            <a:off x="3851280" y="404640"/>
            <a:ext cx="378000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28600" y="188640"/>
            <a:ext cx="2975040" cy="2808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nterior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Pectoralis maj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Pectoralis min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Subclav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lavipectoral fasc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85128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ectoralis maj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543800" y="289548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Pectoralis min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804000" y="6094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Clavipectoral fas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12"/>
          <p:cNvCxnSpPr/>
          <p:nvPr/>
        </p:nvCxnSpPr>
        <p:spPr>
          <a:xfrm flipV="1">
            <a:off x="4284720" y="2420280"/>
            <a:ext cx="2196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Straight Arrow Connector 14"/>
          <p:cNvCxnSpPr/>
          <p:nvPr/>
        </p:nvCxnSpPr>
        <p:spPr>
          <a:xfrm flipH="1">
            <a:off x="5723640" y="3284280"/>
            <a:ext cx="2088360" cy="64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8"/>
          <p:cNvCxnSpPr>
            <a:stCxn id="107" idx="1"/>
          </p:cNvCxnSpPr>
          <p:nvPr/>
        </p:nvCxnSpPr>
        <p:spPr>
          <a:xfrm flipH="1">
            <a:off x="5147640" y="794880"/>
            <a:ext cx="1656360" cy="227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1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179280" y="3068640"/>
            <a:ext cx="3313080" cy="356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12" name="Straight Arrow Connector 16"/>
          <p:cNvCxnSpPr>
            <a:stCxn id="107" idx="1"/>
          </p:cNvCxnSpPr>
          <p:nvPr/>
        </p:nvCxnSpPr>
        <p:spPr>
          <a:xfrm flipH="1">
            <a:off x="6300360" y="794880"/>
            <a:ext cx="504000" cy="349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8920" y="620280"/>
            <a:ext cx="2808360" cy="2808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Posterior wal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scapular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issimus dor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res major musc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Free User\My Documents\My Pictures\C9FF14.png"/>
          <p:cNvPicPr/>
          <p:nvPr/>
        </p:nvPicPr>
        <p:blipFill>
          <a:blip r:embed="rId1"/>
          <a:srcRect l="50463" t="504" r="0" b="62299"/>
          <a:stretch/>
        </p:blipFill>
        <p:spPr>
          <a:xfrm>
            <a:off x="2987640" y="189000"/>
            <a:ext cx="5977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8920" y="692280"/>
            <a:ext cx="2737080" cy="56894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The medial w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Serratus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Upper 4-5 ribs &amp; Intercostal musc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The lateral w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s 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oracobrachi-al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Biceps brachi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Intertubercular groove of the humer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940360" y="22240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919840" y="2641680"/>
            <a:ext cx="64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:\Documents and Settings\Free User\My Documents\My Pictures\C9FF14.png"/>
          <p:cNvPicPr/>
          <p:nvPr/>
        </p:nvPicPr>
        <p:blipFill>
          <a:blip r:embed="rId1"/>
          <a:srcRect l="46620" t="47192" r="2003" b="14990"/>
          <a:stretch/>
        </p:blipFill>
        <p:spPr>
          <a:xfrm>
            <a:off x="3059280" y="260280"/>
            <a:ext cx="5905440" cy="633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952720" cy="93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ntents of The Axi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3048120" cy="4176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ords &amp; braches of the brachial plexu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SimSun"/>
              </a:rPr>
              <a:t> artery and its bran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SimSun"/>
              </a:rPr>
              <a:t> vein and its  tributa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xillary lymph no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Axill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f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oose connective t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179280" y="5805360"/>
            <a:ext cx="8785440" cy="8863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e neurovascular bundle is enclosed in connective tissue sheath, called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SimSun"/>
              </a:rPr>
              <a:t>axillary she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腋窝1"/>
          <p:cNvPicPr/>
          <p:nvPr/>
        </p:nvPicPr>
        <p:blipFill>
          <a:blip r:embed="rId1"/>
          <a:stretch/>
        </p:blipFill>
        <p:spPr>
          <a:xfrm>
            <a:off x="3492360" y="260280"/>
            <a:ext cx="5256360" cy="54723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3"/>
          <p:cNvSpPr/>
          <p:nvPr/>
        </p:nvSpPr>
        <p:spPr>
          <a:xfrm>
            <a:off x="3708360" y="26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llary a. &amp; 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4"/>
          <p:cNvSpPr/>
          <p:nvPr/>
        </p:nvSpPr>
        <p:spPr>
          <a:xfrm>
            <a:off x="3833640" y="394956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plex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6"/>
          <p:cNvCxnSpPr/>
          <p:nvPr/>
        </p:nvCxnSpPr>
        <p:spPr>
          <a:xfrm flipV="1">
            <a:off x="4932000" y="1557000"/>
            <a:ext cx="2377080" cy="25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" name="Straight Arrow Connector 19"/>
          <p:cNvCxnSpPr>
            <a:stCxn id="123" idx="2"/>
          </p:cNvCxnSpPr>
          <p:nvPr/>
        </p:nvCxnSpPr>
        <p:spPr>
          <a:xfrm>
            <a:off x="4608000" y="630000"/>
            <a:ext cx="2628360" cy="99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" name="Straight Arrow Connector 25"/>
          <p:cNvCxnSpPr/>
          <p:nvPr/>
        </p:nvCxnSpPr>
        <p:spPr>
          <a:xfrm flipH="1" flipV="1">
            <a:off x="6552360" y="3428280"/>
            <a:ext cx="97236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2204640"/>
            <a:ext cx="5472000" cy="5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1488b"/>
                </a:solidFill>
                <a:latin typeface="Arial"/>
              </a:rPr>
              <a:t>Location &amp;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2997000"/>
            <a:ext cx="8785440" cy="19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chial Plex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sent in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osterior tria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ormed by the union of the anterior Rami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racic spinal nerv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547640" y="260280"/>
            <a:ext cx="5688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What is a Brachial Plex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304920" y="1052640"/>
            <a:ext cx="83055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chial Plexus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work of nerves t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present at the root of the neck to enter the upper limb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979640" y="5084640"/>
            <a:ext cx="6985080" cy="1373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5 &amp; C6 unite to form-- -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pper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 of C7 continues as the-----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iddle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8 &amp; T1 unite to form-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wer trunk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5DE1-B4B2-417F-808A-5B171ABEF5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79280" y="5084640"/>
            <a:ext cx="1079640" cy="1191240"/>
          </a:xfrm>
          <a:prstGeom prst="rect">
            <a:avLst/>
          </a:prstGeom>
          <a:solidFill>
            <a:srgbClr val="a6e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ge of Roo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10"/>
          <p:cNvCxnSpPr>
            <a:endCxn id="132" idx="1"/>
          </p:cNvCxnSpPr>
          <p:nvPr/>
        </p:nvCxnSpPr>
        <p:spPr>
          <a:xfrm flipV="1">
            <a:off x="1258920" y="5776200"/>
            <a:ext cx="721440" cy="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8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8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E:\dad\Student Gray\7. Upper limb\F66122-007-f052.jpg"/>
          <p:cNvPicPr/>
          <p:nvPr/>
        </p:nvPicPr>
        <p:blipFill>
          <a:blip r:embed="rId1"/>
          <a:srcRect l="2411" t="0" r="35852" b="56733"/>
          <a:stretch/>
        </p:blipFill>
        <p:spPr>
          <a:xfrm>
            <a:off x="228600" y="152280"/>
            <a:ext cx="86868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Rectangle 4"/>
          <p:cNvSpPr/>
          <p:nvPr/>
        </p:nvSpPr>
        <p:spPr>
          <a:xfrm>
            <a:off x="250920" y="3860640"/>
            <a:ext cx="8642160" cy="2867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Plexus can be divided in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 stag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posterior∆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u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 the posterior∆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vi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ind the clavicle (in the cervico-axillary canal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d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d6009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The first 2 st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posterior triangl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the last 2 s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axil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715B-3FD9-4AAF-8D0C-841BC453BF8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50920" y="4437000"/>
            <a:ext cx="866448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anterior divisions of the upper and midd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unks unite to form the </a:t>
            </a:r>
            <a:r>
              <a:rPr b="1" lang="en-US" sz="2200" spc="-1" strike="noStrike">
                <a:solidFill>
                  <a:srgbClr val="00b050"/>
                </a:solidFill>
                <a:latin typeface="Arial"/>
              </a:rPr>
              <a:t>Later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anterior division of the lower trunk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inues a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osterior divis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hree trunks join to form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Posterior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Brachial001"/>
          <p:cNvPicPr/>
          <p:nvPr/>
        </p:nvPicPr>
        <p:blipFill>
          <a:blip r:embed="rId1"/>
          <a:srcRect l="2751" t="0" r="3642" b="0"/>
          <a:stretch/>
        </p:blipFill>
        <p:spPr>
          <a:xfrm>
            <a:off x="324000" y="0"/>
            <a:ext cx="84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C0A2-5E82-44B2-A979-3D2DC8594E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44000" y="189000"/>
            <a:ext cx="720720" cy="5976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NCHE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9000"/>
          <a:ext cx="7777080" cy="4938480"/>
        </p:xfrm>
        <a:graphic>
          <a:graphicData uri="http://schemas.openxmlformats.org/drawingml/2006/table">
            <a:tbl>
              <a:tblPr/>
              <a:tblGrid>
                <a:gridCol w="2738160"/>
                <a:gridCol w="2589480"/>
                <a:gridCol w="244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ior cord-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pector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pectoral nerve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llary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ulocutaneous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nar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later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medi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&amp; lower subscapular nerv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utaneous nerve of arm &amp; forear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acodorsal or N. to latissimus dorsi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2637000"/>
            <a:ext cx="777708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97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6009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92360" y="2133720"/>
            <a:ext cx="5688000" cy="4032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y the end of the lecture you should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dentify and describe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clav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ratus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emonstr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undaries and contents of the ax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50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684360" y="981000"/>
            <a:ext cx="7775280" cy="5688000"/>
          </a:xfrm>
          <a:prstGeom prst="rect">
            <a:avLst/>
          </a:prstGeom>
          <a:solidFill>
            <a:srgbClr val="defd23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cles of the pectoral region are connecting the upper limb with anterior and lateral thoracic 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orali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toralis mi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clav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4 sided pyramid situated between the upper part of arm and the side of the chest, it has 4 walls (anterior, posterior, medial and lateral), base, and ap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n important space as it transmits the neurovascular bundle from the neck and thorax to the upper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cont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llary vess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ds and branches of the brachial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llary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3743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00360" y="260280"/>
            <a:ext cx="4392360" cy="6408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rigin 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d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vicular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medial ½ of the front of the clav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rnocostal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6 costal cartil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neurosis of external obliqu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Inser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lip of bicipital gro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erve suppl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&amp; lateral pectoral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Ac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duction and medial rot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the 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lavicular head helps in f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lexion of arm (shoulder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Also it helps in climb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ectoralis-major"/>
          <p:cNvPicPr/>
          <p:nvPr/>
        </p:nvPicPr>
        <p:blipFill>
          <a:blip r:embed="rId1"/>
          <a:srcRect l="12580" t="1373" r="2817" b="8440"/>
          <a:stretch/>
        </p:blipFill>
        <p:spPr>
          <a:xfrm>
            <a:off x="324000" y="1052640"/>
            <a:ext cx="374328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" name="Freeform 4"/>
          <p:cNvSpPr/>
          <p:nvPr/>
        </p:nvSpPr>
        <p:spPr>
          <a:xfrm>
            <a:off x="1208160" y="1398600"/>
            <a:ext cx="1401840" cy="237960"/>
          </a:xfrm>
          <a:custGeom>
            <a:avLst/>
            <a:gdLst>
              <a:gd name="textAreaLeft" fmla="*/ 0 w 1401840"/>
              <a:gd name="textAreaRight" fmla="*/ 1401840 w 140184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1402741" h="238173">
                <a:moveTo>
                  <a:pt x="1314251" y="31696"/>
                </a:moveTo>
                <a:cubicBezTo>
                  <a:pt x="1225761" y="36612"/>
                  <a:pt x="920810" y="37305"/>
                  <a:pt x="724316" y="46444"/>
                </a:cubicBezTo>
                <a:cubicBezTo>
                  <a:pt x="708787" y="47166"/>
                  <a:pt x="695315" y="58143"/>
                  <a:pt x="680071" y="61192"/>
                </a:cubicBezTo>
                <a:cubicBezTo>
                  <a:pt x="415828" y="114041"/>
                  <a:pt x="692737" y="46966"/>
                  <a:pt x="517838" y="90689"/>
                </a:cubicBezTo>
                <a:cubicBezTo>
                  <a:pt x="416413" y="158306"/>
                  <a:pt x="462980" y="138473"/>
                  <a:pt x="385103" y="164431"/>
                </a:cubicBezTo>
                <a:cubicBezTo>
                  <a:pt x="370355" y="174263"/>
                  <a:pt x="357056" y="186729"/>
                  <a:pt x="340858" y="193928"/>
                </a:cubicBezTo>
                <a:cubicBezTo>
                  <a:pt x="294691" y="214447"/>
                  <a:pt x="242404" y="225916"/>
                  <a:pt x="193374" y="238173"/>
                </a:cubicBezTo>
                <a:cubicBezTo>
                  <a:pt x="158961" y="233257"/>
                  <a:pt x="124007" y="231242"/>
                  <a:pt x="90135" y="223425"/>
                </a:cubicBezTo>
                <a:cubicBezTo>
                  <a:pt x="59839" y="216434"/>
                  <a:pt x="1645" y="193928"/>
                  <a:pt x="1645" y="193928"/>
                </a:cubicBezTo>
                <a:cubicBezTo>
                  <a:pt x="92508" y="163639"/>
                  <a:pt x="0" y="191545"/>
                  <a:pt x="149129" y="164431"/>
                </a:cubicBezTo>
                <a:cubicBezTo>
                  <a:pt x="169072" y="160805"/>
                  <a:pt x="187867" y="150447"/>
                  <a:pt x="208122" y="149683"/>
                </a:cubicBezTo>
                <a:cubicBezTo>
                  <a:pt x="448891" y="140597"/>
                  <a:pt x="689903" y="139850"/>
                  <a:pt x="930793" y="134934"/>
                </a:cubicBezTo>
                <a:cubicBezTo>
                  <a:pt x="950458" y="130018"/>
                  <a:pt x="970000" y="124583"/>
                  <a:pt x="989787" y="120186"/>
                </a:cubicBezTo>
                <a:cubicBezTo>
                  <a:pt x="1014258" y="114748"/>
                  <a:pt x="1039748" y="113364"/>
                  <a:pt x="1063529" y="105437"/>
                </a:cubicBezTo>
                <a:cubicBezTo>
                  <a:pt x="1181250" y="66197"/>
                  <a:pt x="1069663" y="89602"/>
                  <a:pt x="1166767" y="46444"/>
                </a:cubicBezTo>
                <a:cubicBezTo>
                  <a:pt x="1195180" y="33816"/>
                  <a:pt x="1225761" y="26779"/>
                  <a:pt x="1255258" y="16947"/>
                </a:cubicBezTo>
                <a:cubicBezTo>
                  <a:pt x="1306099" y="0"/>
                  <a:pt x="1402741" y="26780"/>
                  <a:pt x="1314251" y="31696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5"/>
          <p:cNvSpPr/>
          <p:nvPr/>
        </p:nvSpPr>
        <p:spPr>
          <a:xfrm>
            <a:off x="1090440" y="1681200"/>
            <a:ext cx="960480" cy="2684520"/>
          </a:xfrm>
          <a:custGeom>
            <a:avLst/>
            <a:gdLst>
              <a:gd name="textAreaLeft" fmla="*/ 0 w 960480"/>
              <a:gd name="textAreaRight" fmla="*/ 960840 w 960480"/>
              <a:gd name="textAreaTop" fmla="*/ 0 h 2684520"/>
              <a:gd name="textAreaBottom" fmla="*/ 2684880 h 2684520"/>
            </a:gdLst>
            <a:ahLst/>
            <a:rect l="textAreaLeft" t="textAreaTop" r="textAreaRight" b="textAreaBottom"/>
            <a:pathLst>
              <a:path w="988142" h="2536723">
                <a:moveTo>
                  <a:pt x="176980" y="0"/>
                </a:moveTo>
                <a:cubicBezTo>
                  <a:pt x="59047" y="147418"/>
                  <a:pt x="121155" y="40415"/>
                  <a:pt x="103238" y="353961"/>
                </a:cubicBezTo>
                <a:cubicBezTo>
                  <a:pt x="99305" y="422785"/>
                  <a:pt x="87620" y="647212"/>
                  <a:pt x="73742" y="737419"/>
                </a:cubicBezTo>
                <a:cubicBezTo>
                  <a:pt x="68208" y="773390"/>
                  <a:pt x="43082" y="808957"/>
                  <a:pt x="29496" y="840658"/>
                </a:cubicBezTo>
                <a:cubicBezTo>
                  <a:pt x="12490" y="880338"/>
                  <a:pt x="8656" y="915366"/>
                  <a:pt x="0" y="958645"/>
                </a:cubicBezTo>
                <a:cubicBezTo>
                  <a:pt x="4916" y="1120877"/>
                  <a:pt x="5745" y="1283285"/>
                  <a:pt x="14748" y="1445342"/>
                </a:cubicBezTo>
                <a:cubicBezTo>
                  <a:pt x="16159" y="1470745"/>
                  <a:pt x="42470" y="1517309"/>
                  <a:pt x="58993" y="1533832"/>
                </a:cubicBezTo>
                <a:cubicBezTo>
                  <a:pt x="71527" y="1546366"/>
                  <a:pt x="89621" y="1551982"/>
                  <a:pt x="103238" y="1563329"/>
                </a:cubicBezTo>
                <a:cubicBezTo>
                  <a:pt x="255058" y="1689845"/>
                  <a:pt x="31824" y="1527912"/>
                  <a:pt x="206477" y="1637071"/>
                </a:cubicBezTo>
                <a:cubicBezTo>
                  <a:pt x="227321" y="1650099"/>
                  <a:pt x="245334" y="1667220"/>
                  <a:pt x="265471" y="1681316"/>
                </a:cubicBezTo>
                <a:cubicBezTo>
                  <a:pt x="309034" y="1711811"/>
                  <a:pt x="353961" y="1740310"/>
                  <a:pt x="398206" y="1769807"/>
                </a:cubicBezTo>
                <a:cubicBezTo>
                  <a:pt x="556323" y="1875217"/>
                  <a:pt x="316344" y="1711053"/>
                  <a:pt x="486696" y="1843549"/>
                </a:cubicBezTo>
                <a:cubicBezTo>
                  <a:pt x="514679" y="1865314"/>
                  <a:pt x="575187" y="1902542"/>
                  <a:pt x="575187" y="1902542"/>
                </a:cubicBezTo>
                <a:cubicBezTo>
                  <a:pt x="585019" y="1917290"/>
                  <a:pt x="593336" y="1933170"/>
                  <a:pt x="604684" y="1946787"/>
                </a:cubicBezTo>
                <a:cubicBezTo>
                  <a:pt x="700163" y="2061361"/>
                  <a:pt x="596519" y="1911946"/>
                  <a:pt x="693174" y="2050026"/>
                </a:cubicBezTo>
                <a:cubicBezTo>
                  <a:pt x="768451" y="2157566"/>
                  <a:pt x="719444" y="2116701"/>
                  <a:pt x="796413" y="2168013"/>
                </a:cubicBezTo>
                <a:cubicBezTo>
                  <a:pt x="806245" y="2182761"/>
                  <a:pt x="814562" y="2198641"/>
                  <a:pt x="825909" y="2212258"/>
                </a:cubicBezTo>
                <a:cubicBezTo>
                  <a:pt x="839261" y="2228281"/>
                  <a:pt x="858584" y="2239149"/>
                  <a:pt x="870154" y="2256503"/>
                </a:cubicBezTo>
                <a:cubicBezTo>
                  <a:pt x="878778" y="2269438"/>
                  <a:pt x="877950" y="2286844"/>
                  <a:pt x="884903" y="2300749"/>
                </a:cubicBezTo>
                <a:cubicBezTo>
                  <a:pt x="892830" y="2316603"/>
                  <a:pt x="904568" y="2330246"/>
                  <a:pt x="914400" y="2344994"/>
                </a:cubicBezTo>
                <a:cubicBezTo>
                  <a:pt x="919316" y="2359742"/>
                  <a:pt x="922196" y="2375334"/>
                  <a:pt x="929148" y="2389239"/>
                </a:cubicBezTo>
                <a:cubicBezTo>
                  <a:pt x="972242" y="2475426"/>
                  <a:pt x="948678" y="2391227"/>
                  <a:pt x="973393" y="2477729"/>
                </a:cubicBezTo>
                <a:cubicBezTo>
                  <a:pt x="978962" y="2497219"/>
                  <a:pt x="988142" y="2536723"/>
                  <a:pt x="988142" y="2536723"/>
                </a:cubicBezTo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6"/>
          <p:cNvSpPr/>
          <p:nvPr/>
        </p:nvSpPr>
        <p:spPr>
          <a:xfrm>
            <a:off x="3657600" y="1801800"/>
            <a:ext cx="108000" cy="673200"/>
          </a:xfrm>
          <a:custGeom>
            <a:avLst/>
            <a:gdLst/>
            <a:ahLst/>
            <a:rect l="l" t="t" r="r" b="b"/>
            <a:pathLst>
              <a:path w="107576" h="672717">
                <a:moveTo>
                  <a:pt x="107576" y="0"/>
                </a:moveTo>
                <a:cubicBezTo>
                  <a:pt x="80682" y="44823"/>
                  <a:pt x="36245" y="83041"/>
                  <a:pt x="26894" y="134470"/>
                </a:cubicBezTo>
                <a:cubicBezTo>
                  <a:pt x="15757" y="195723"/>
                  <a:pt x="58738" y="310687"/>
                  <a:pt x="80682" y="376518"/>
                </a:cubicBezTo>
                <a:cubicBezTo>
                  <a:pt x="71717" y="466165"/>
                  <a:pt x="78539" y="558831"/>
                  <a:pt x="53788" y="645459"/>
                </a:cubicBezTo>
                <a:cubicBezTo>
                  <a:pt x="46000" y="672717"/>
                  <a:pt x="31965" y="592668"/>
                  <a:pt x="26894" y="564776"/>
                </a:cubicBezTo>
                <a:cubicBezTo>
                  <a:pt x="13965" y="493666"/>
                  <a:pt x="8965" y="421341"/>
                  <a:pt x="0" y="349623"/>
                </a:cubicBezTo>
                <a:cubicBezTo>
                  <a:pt x="8965" y="295835"/>
                  <a:pt x="2508" y="237032"/>
                  <a:pt x="26894" y="188259"/>
                </a:cubicBezTo>
                <a:cubicBezTo>
                  <a:pt x="41349" y="159349"/>
                  <a:pt x="107576" y="134470"/>
                  <a:pt x="107576" y="134470"/>
                </a:cubicBezTo>
              </a:path>
            </a:pathLst>
          </a:custGeom>
          <a:solidFill>
            <a:srgbClr val="224b50"/>
          </a:solidFill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70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ectoralis Mi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3280" y="475920"/>
            <a:ext cx="4321440" cy="54738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o 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s close to their costal 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coi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of shou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ribs upward and outwards during deep in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ctoralis-minor"/>
          <p:cNvPicPr/>
          <p:nvPr/>
        </p:nvPicPr>
        <p:blipFill>
          <a:blip r:embed="rId1"/>
          <a:srcRect l="12580" t="6942" r="0" b="4279"/>
          <a:stretch/>
        </p:blipFill>
        <p:spPr>
          <a:xfrm>
            <a:off x="539640" y="1052640"/>
            <a:ext cx="3857760" cy="54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Picture 5" descr="前锯肌"/>
          <p:cNvPicPr/>
          <p:nvPr/>
        </p:nvPicPr>
        <p:blipFill>
          <a:blip r:embed="rId2"/>
          <a:srcRect l="0" t="0" r="0" b="28617"/>
          <a:stretch/>
        </p:blipFill>
        <p:spPr>
          <a:xfrm>
            <a:off x="250920" y="3860640"/>
            <a:ext cx="3025800" cy="2737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1547640" y="2205000"/>
            <a:ext cx="2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1547640" y="2565360"/>
            <a:ext cx="38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619280" y="3141720"/>
            <a:ext cx="40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3600720" cy="9363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clav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88000" y="259920"/>
            <a:ext cx="4176720" cy="619308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 and its costal cartil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ochondral j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vian groove at the middle 1/3 of the inferior surface of clav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 to subclavius from upper trunk of brachial plex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the clavicle during movement of shoulde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File:Gray411.png">
            <a:hlinkClick r:id="rId1"/>
          </p:cNvPr>
          <p:cNvPicPr/>
          <p:nvPr/>
        </p:nvPicPr>
        <p:blipFill>
          <a:blip r:embed="rId2"/>
          <a:srcRect l="0" t="0" r="6054" b="0"/>
          <a:stretch/>
        </p:blipFill>
        <p:spPr>
          <a:xfrm>
            <a:off x="250920" y="1413000"/>
            <a:ext cx="446544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464000" cy="718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vipectoral Fa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76720" y="188640"/>
            <a:ext cx="3888000" cy="2879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thickened membran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eep fas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ubclavi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bove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pectoralis minor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It is pierc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al pectoral nerve.</a:t>
            </a:r>
            <a:r>
              <a:rPr b="0" lang="en-US" sz="2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oraco- acromial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ephalic v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Lymp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锁胸筋膜4"/>
          <p:cNvPicPr/>
          <p:nvPr/>
        </p:nvPicPr>
        <p:blipFill>
          <a:blip r:embed="rId1"/>
          <a:srcRect l="3010" t="0" r="2261" b="2620"/>
          <a:stretch/>
        </p:blipFill>
        <p:spPr>
          <a:xfrm>
            <a:off x="179280" y="1052640"/>
            <a:ext cx="482436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5580000" y="3141720"/>
            <a:ext cx="3240000" cy="352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8920" y="189000"/>
            <a:ext cx="3529080" cy="648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Origi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eight rib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Inser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rior aspect of the  medial border and inferior angle of scap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Nerve supply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 thoracic nerv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rve to serratus anteri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A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s the scapula forward (protrusion, in box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tes scapula outwards in raising the arm above 90 deg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前锯肌"/>
          <p:cNvPicPr/>
          <p:nvPr/>
        </p:nvPicPr>
        <p:blipFill>
          <a:blip r:embed="rId1"/>
          <a:srcRect l="4195" t="0" r="0" b="28617"/>
          <a:stretch/>
        </p:blipFill>
        <p:spPr>
          <a:xfrm>
            <a:off x="4932360" y="907920"/>
            <a:ext cx="4032360" cy="44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75" name="Straight Arrow Connector 7"/>
          <p:cNvCxnSpPr/>
          <p:nvPr/>
        </p:nvCxnSpPr>
        <p:spPr>
          <a:xfrm flipV="1">
            <a:off x="4932360" y="4365000"/>
            <a:ext cx="252000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4"/>
          <p:cNvSpPr/>
          <p:nvPr/>
        </p:nvSpPr>
        <p:spPr>
          <a:xfrm>
            <a:off x="5148360" y="189000"/>
            <a:ext cx="374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erratus anterio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802B21B9"/>
          <p:cNvPicPr/>
          <p:nvPr/>
        </p:nvPicPr>
        <p:blipFill>
          <a:blip r:embed="rId2"/>
          <a:srcRect l="33268" t="7549" r="10996" b="60905"/>
          <a:stretch/>
        </p:blipFill>
        <p:spPr>
          <a:xfrm>
            <a:off x="3780000" y="3789360"/>
            <a:ext cx="2374560" cy="28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8" name="TextBox 6"/>
          <p:cNvSpPr/>
          <p:nvPr/>
        </p:nvSpPr>
        <p:spPr>
          <a:xfrm>
            <a:off x="6588000" y="458136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7020000" y="40053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7020000" y="3284640"/>
            <a:ext cx="2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6659640" y="256536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3095640" cy="71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384720" cy="468000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 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sided pyramidal shaped space between the upper part of the arm and the side of the ch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Through it the maj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SimSun"/>
              </a:rPr>
              <a:t>neurovasc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structures pass between neck &amp;  thorax and the upper li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xilla has 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p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,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four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腋窝6"/>
          <p:cNvPicPr/>
          <p:nvPr/>
        </p:nvPicPr>
        <p:blipFill>
          <a:blip r:embed="rId1">
            <a:lum contrast="12000"/>
          </a:blip>
          <a:srcRect l="9355" t="1837" r="4120" b="2791"/>
          <a:stretch/>
        </p:blipFill>
        <p:spPr>
          <a:xfrm>
            <a:off x="5796000" y="260280"/>
            <a:ext cx="3097080" cy="46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腋窝3"/>
          <p:cNvPicPr/>
          <p:nvPr/>
        </p:nvPicPr>
        <p:blipFill>
          <a:blip r:embed="rId2"/>
          <a:srcRect l="10147" t="0" r="0" b="0"/>
          <a:stretch/>
        </p:blipFill>
        <p:spPr>
          <a:xfrm>
            <a:off x="3564000" y="2997360"/>
            <a:ext cx="302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38472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Boundaries of the Ax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456000" cy="51847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Apex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rected upwards and medially into the 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bounded,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vicl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pper border of the scapula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er border of the first rib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led cervico-axillary ca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腋窝2"/>
          <p:cNvPicPr/>
          <p:nvPr/>
        </p:nvPicPr>
        <p:blipFill>
          <a:blip r:embed="rId1"/>
          <a:srcRect l="0" t="3491" r="3240" b="3480"/>
          <a:stretch/>
        </p:blipFill>
        <p:spPr>
          <a:xfrm>
            <a:off x="3708360" y="260280"/>
            <a:ext cx="511164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TextBox 4"/>
          <p:cNvSpPr/>
          <p:nvPr/>
        </p:nvSpPr>
        <p:spPr>
          <a:xfrm>
            <a:off x="5364000" y="148428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5724360" y="162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5940360" y="1773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665964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7093080" y="278136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7380360" y="29973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7667640" y="306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8028000" y="3141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7380360" y="141300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730872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5"/>
          <p:cNvSpPr/>
          <p:nvPr/>
        </p:nvSpPr>
        <p:spPr>
          <a:xfrm>
            <a:off x="7380360" y="206064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6"/>
          <p:cNvSpPr/>
          <p:nvPr/>
        </p:nvSpPr>
        <p:spPr>
          <a:xfrm>
            <a:off x="7380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16:34Z</dcterms:created>
  <dc:creator>Prof. Saeed Abuel Makarem</dc:creator>
  <dc:description/>
  <dc:language>en-US</dc:language>
  <cp:lastModifiedBy> saeed abuelmakarem</cp:lastModifiedBy>
  <dcterms:modified xsi:type="dcterms:W3CDTF">2015-12-06T05:45:21Z</dcterms:modified>
  <cp:revision>1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ectoral region &amp; Axilla">
    <vt:lpwstr>Prof. Saeed Abuel Makarem</vt:lpwstr>
  </property>
</Properties>
</file>