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7BE2-91F7-4F35-A7A4-7862CD7C6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78E3-948D-4129-B640-253CFBFA2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9D98-C3D5-4A82-917A-723CF3D15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CD6B-EA8C-4660-8BC5-F4F66E1BD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978E-F1E6-44B2-962A-299459BF7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57B8-F671-4970-AB88-5DAE8014A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098F-34EA-47E5-A2D6-EE2BD1807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64B4-4E3E-487A-BE69-CB04F2B65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F8B-80F5-4FEB-B1CF-E3F3E7F5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342-8083-4A04-B005-C57F7602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5F2-F298-45B4-A6A9-7921C75C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6E7-81E9-4185-867F-9CD8E0CC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3FB-BCF1-4654-8489-4E68A25A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4C9-C39F-4C9C-AB9C-D20EE56F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55A-B79A-44FC-A88C-205A0BC3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EF6-1F86-4EDD-B3CE-A3D6783F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69E-1583-4102-9C19-C516A3D1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023-4A7F-4C8C-876F-D21AB7A3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E15-F693-4C16-A3C0-87E3817A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F6D-FB34-4EE7-8A80-480AEFFA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BF67-9795-44C6-B51E-5E8C2F632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2/Gray411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3672000" cy="172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Arabic Transparent"/>
              </a:rPr>
              <a:t>PECTORAL REG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Arabic Transparent"/>
              </a:rPr>
              <a:t>AND AX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5732640"/>
            <a:ext cx="3673440" cy="504720"/>
          </a:xfrm>
          <a:prstGeom prst="rect">
            <a:avLst/>
          </a:prstGeom>
          <a:solidFill>
            <a:srgbClr val="d1d1f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Saeed Abuel Maka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胸大肌1"/>
          <p:cNvPicPr/>
          <p:nvPr/>
        </p:nvPicPr>
        <p:blipFill>
          <a:blip r:embed="rId1"/>
          <a:srcRect l="5230" t="0" r="0" b="0"/>
          <a:stretch/>
        </p:blipFill>
        <p:spPr>
          <a:xfrm>
            <a:off x="3995640" y="476280"/>
            <a:ext cx="4969080" cy="597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79280" y="333360"/>
            <a:ext cx="3888000" cy="61200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B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Formed by skin stretching between the anterior and posterior wal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bound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fron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the anterior axillary fold (formed by the lower border of th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Pectoralis majo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cl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ehi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the posterior axillary fold (formed by the tendons of latissimus dorsi and teres major muscl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dial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upper 4 to 5 ribs &amp; the chest wa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腋窝9"/>
          <p:cNvPicPr/>
          <p:nvPr/>
        </p:nvPicPr>
        <p:blipFill>
          <a:blip r:embed="rId1"/>
          <a:srcRect l="7571" t="0" r="0" b="0"/>
          <a:stretch/>
        </p:blipFill>
        <p:spPr>
          <a:xfrm>
            <a:off x="4140360" y="189000"/>
            <a:ext cx="4752720" cy="64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锁胸筋膜4"/>
          <p:cNvPicPr/>
          <p:nvPr/>
        </p:nvPicPr>
        <p:blipFill>
          <a:blip r:embed="rId1"/>
          <a:stretch/>
        </p:blipFill>
        <p:spPr>
          <a:xfrm>
            <a:off x="3851280" y="404640"/>
            <a:ext cx="3780000" cy="612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188640"/>
            <a:ext cx="2975040" cy="2808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Anterior wal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Is formed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Pectoralis maj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Pectoralis min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Subclav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Clavipectoral fas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851280" y="4724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Pectoralis maj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543800" y="2895480"/>
            <a:ext cx="14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Pectoralis min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804000" y="60948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lavipectoral fas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2"/>
          <p:cNvCxnSpPr/>
          <p:nvPr/>
        </p:nvCxnSpPr>
        <p:spPr>
          <a:xfrm flipV="1">
            <a:off x="4284720" y="2420280"/>
            <a:ext cx="21960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Straight Arrow Connector 14"/>
          <p:cNvCxnSpPr/>
          <p:nvPr/>
        </p:nvCxnSpPr>
        <p:spPr>
          <a:xfrm flipH="1">
            <a:off x="5723640" y="3284280"/>
            <a:ext cx="2088360" cy="64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8"/>
          <p:cNvCxnSpPr>
            <a:stCxn id="107" idx="1"/>
          </p:cNvCxnSpPr>
          <p:nvPr/>
        </p:nvCxnSpPr>
        <p:spPr>
          <a:xfrm flipH="1">
            <a:off x="5147640" y="794880"/>
            <a:ext cx="1656360" cy="2274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1" name="Picture 3" descr="C:\Documents and Settings\Free User\My Documents\My Pictures\C9FF14.png"/>
          <p:cNvPicPr/>
          <p:nvPr/>
        </p:nvPicPr>
        <p:blipFill>
          <a:blip r:embed="rId2"/>
          <a:srcRect l="-718" t="0" r="57165" b="61280"/>
          <a:stretch/>
        </p:blipFill>
        <p:spPr>
          <a:xfrm>
            <a:off x="179280" y="3068640"/>
            <a:ext cx="3313080" cy="356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12" name="Straight Arrow Connector 16"/>
          <p:cNvCxnSpPr>
            <a:stCxn id="107" idx="1"/>
          </p:cNvCxnSpPr>
          <p:nvPr/>
        </p:nvCxnSpPr>
        <p:spPr>
          <a:xfrm flipH="1">
            <a:off x="6300360" y="794880"/>
            <a:ext cx="504000" cy="3498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78920" y="620280"/>
            <a:ext cx="2808360" cy="2808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osterior wal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Is form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capular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issimus dors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es major musc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C:\Documents and Settings\Free User\My Documents\My Pictures\C9FF14.png"/>
          <p:cNvPicPr/>
          <p:nvPr/>
        </p:nvPicPr>
        <p:blipFill>
          <a:blip r:embed="rId1"/>
          <a:srcRect l="50463" t="504" r="0" b="62299"/>
          <a:stretch/>
        </p:blipFill>
        <p:spPr>
          <a:xfrm>
            <a:off x="2987640" y="189000"/>
            <a:ext cx="5977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8920" y="692280"/>
            <a:ext cx="2737080" cy="56894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The medial w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Is form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Serratus anteri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Upper 4-5 ribs &amp; Intercostal musc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The lateral w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Is form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Coracobrachi-al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Biceps brachi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Intertubercular groove of the humer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940360" y="222408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919840" y="2641680"/>
            <a:ext cx="64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:\Documents and Settings\Free User\My Documents\My Pictures\C9FF14.png"/>
          <p:cNvPicPr/>
          <p:nvPr/>
        </p:nvPicPr>
        <p:blipFill>
          <a:blip r:embed="rId1"/>
          <a:srcRect l="46620" t="47192" r="2003" b="14990"/>
          <a:stretch/>
        </p:blipFill>
        <p:spPr>
          <a:xfrm>
            <a:off x="3059280" y="260280"/>
            <a:ext cx="5905440" cy="633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29527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ntents of The Axi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3048120" cy="4176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Cords &amp; braches of the brachial plex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SimSun"/>
              </a:rPr>
              <a:t>Axillary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SimSun"/>
              </a:rPr>
              <a:t> artery and its branc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  <a:ea typeface="SimSun"/>
              </a:rPr>
              <a:t>Axillary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  <a:ea typeface="SimSun"/>
              </a:rPr>
              <a:t> vein and its  tributa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Axillary lymph nod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Axilla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 f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Loose connective tiss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79280" y="5805360"/>
            <a:ext cx="8785440" cy="8863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neurovascular bundle is enclosed in connective tissue sheath, called 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SimSun"/>
              </a:rPr>
              <a:t>axillary she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腋窝1"/>
          <p:cNvPicPr/>
          <p:nvPr/>
        </p:nvPicPr>
        <p:blipFill>
          <a:blip r:embed="rId1"/>
          <a:stretch/>
        </p:blipFill>
        <p:spPr>
          <a:xfrm>
            <a:off x="3492360" y="260280"/>
            <a:ext cx="5256360" cy="54723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3"/>
          <p:cNvSpPr/>
          <p:nvPr/>
        </p:nvSpPr>
        <p:spPr>
          <a:xfrm>
            <a:off x="3708360" y="260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llary a. &amp; v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3833640" y="394956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chial plex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16"/>
          <p:cNvCxnSpPr/>
          <p:nvPr/>
        </p:nvCxnSpPr>
        <p:spPr>
          <a:xfrm flipV="1">
            <a:off x="4932000" y="1557000"/>
            <a:ext cx="2377080" cy="252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Straight Arrow Connector 19"/>
          <p:cNvCxnSpPr>
            <a:stCxn id="123" idx="2"/>
          </p:cNvCxnSpPr>
          <p:nvPr/>
        </p:nvCxnSpPr>
        <p:spPr>
          <a:xfrm>
            <a:off x="4608000" y="630000"/>
            <a:ext cx="2628360" cy="999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Straight Arrow Connector 25"/>
          <p:cNvCxnSpPr/>
          <p:nvPr/>
        </p:nvCxnSpPr>
        <p:spPr>
          <a:xfrm flipH="1" flipV="1">
            <a:off x="6552360" y="3428280"/>
            <a:ext cx="97236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2360" y="2204640"/>
            <a:ext cx="5472000" cy="576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1488b"/>
                </a:solidFill>
                <a:latin typeface="Arial"/>
              </a:rPr>
              <a:t>Location &amp; Form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9280" y="2997000"/>
            <a:ext cx="8785440" cy="19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chial Plex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sent in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sterior triang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xi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formed by the union of the anterior Rami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oracic spinal nerve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47640" y="260280"/>
            <a:ext cx="568836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hat is a Brachial Plexus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04920" y="1052640"/>
            <a:ext cx="830556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achial Plexus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etwork of nerves tha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resent at the root of the neck to enter the upper limb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979640" y="5084640"/>
            <a:ext cx="6985080" cy="13737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ots of C5 &amp; C6 unite to form-- 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pper tru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ot of C7 continues as the-----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iddle tru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ots of C8 &amp; T1 unite to form-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wer trun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832B-0C5A-4441-A9B4-D7CC8A3B7B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179280" y="5084640"/>
            <a:ext cx="1079640" cy="1191240"/>
          </a:xfrm>
          <a:prstGeom prst="rect">
            <a:avLst/>
          </a:prstGeom>
          <a:solidFill>
            <a:srgbClr val="a6e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of Roo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10"/>
          <p:cNvCxnSpPr>
            <a:endCxn id="132" idx="1"/>
          </p:cNvCxnSpPr>
          <p:nvPr/>
        </p:nvCxnSpPr>
        <p:spPr>
          <a:xfrm flipV="1">
            <a:off x="1258920" y="5776200"/>
            <a:ext cx="721440" cy="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8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8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8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E:\dad\Student Gray\7. Upper limb\F66122-007-f052.jpg"/>
          <p:cNvPicPr/>
          <p:nvPr/>
        </p:nvPicPr>
        <p:blipFill>
          <a:blip r:embed="rId1"/>
          <a:srcRect l="2411" t="0" r="35852" b="56733"/>
          <a:stretch/>
        </p:blipFill>
        <p:spPr>
          <a:xfrm>
            <a:off x="228600" y="152280"/>
            <a:ext cx="868680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Rectangle 4"/>
          <p:cNvSpPr/>
          <p:nvPr/>
        </p:nvSpPr>
        <p:spPr>
          <a:xfrm>
            <a:off x="250920" y="3860640"/>
            <a:ext cx="8642160" cy="28670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he Plexus can be divided into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5 stag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ot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posterior∆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unk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n the posterior∆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vis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ind the clavicle (in the cervico-axillary canal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ds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n the axill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anc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n the axill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d6009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Calibri"/>
              </a:rPr>
              <a:t>The first 2 stag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e</a:t>
            </a:r>
            <a:r>
              <a:rPr b="1" lang="en-US" sz="1800" spc="-1" strike="noStrike">
                <a:solidFill>
                  <a:srgbClr val="d60093"/>
                </a:solidFill>
                <a:latin typeface="Calibri"/>
              </a:rPr>
              <a:t> in the posterior triangle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1" lang="en-US" sz="1800" spc="-1" strike="noStrike">
                <a:solidFill>
                  <a:srgbClr val="d60093"/>
                </a:solidFill>
                <a:latin typeface="Calibri"/>
              </a:rPr>
              <a:t> the last 2 sag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e</a:t>
            </a:r>
            <a:r>
              <a:rPr b="1" lang="en-US" sz="1800" spc="-1" strike="noStrike">
                <a:solidFill>
                  <a:srgbClr val="d60093"/>
                </a:solidFill>
                <a:latin typeface="Calibri"/>
              </a:rPr>
              <a:t> in the axil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F96E-5B36-4723-B729-A8B5CB0C09F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0920" y="4437000"/>
            <a:ext cx="866448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anterior divisions of the upper and midd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nks unite to form the 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</a:rPr>
              <a:t>Lateral 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anterior division of the lower trunk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es as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dial 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posterior divisio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hree trunks join to form the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Posterior 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Brachial001"/>
          <p:cNvPicPr/>
          <p:nvPr/>
        </p:nvPicPr>
        <p:blipFill>
          <a:blip r:embed="rId1"/>
          <a:srcRect l="2751" t="0" r="3642" b="0"/>
          <a:stretch/>
        </p:blipFill>
        <p:spPr>
          <a:xfrm>
            <a:off x="324000" y="0"/>
            <a:ext cx="8496000" cy="44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4627-62B0-4F81-8C35-788593B7F1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44000" y="189000"/>
            <a:ext cx="720720" cy="5976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NCHE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9000"/>
          <a:ext cx="7777080" cy="4938480"/>
        </p:xfrm>
        <a:graphic>
          <a:graphicData uri="http://schemas.openxmlformats.org/drawingml/2006/table">
            <a:tbl>
              <a:tblPr/>
              <a:tblGrid>
                <a:gridCol w="2738160"/>
                <a:gridCol w="2589480"/>
                <a:gridCol w="244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ral cord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 cord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rior cord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ral pectoral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 pectoral nerve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illary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d23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ulocutaneous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nar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l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d2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nerve (lateral root)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nerve (medial root)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&amp; lower subscapular nerves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d2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 cutaneous nerve of arm &amp; forearm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racodorsal or N. to latissimus dorsi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d2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2" descr="Brachial001"/>
          <p:cNvPicPr/>
          <p:nvPr/>
        </p:nvPicPr>
        <p:blipFill>
          <a:blip r:embed="rId1"/>
          <a:srcRect l="2675" t="0" r="3713" b="0"/>
          <a:stretch/>
        </p:blipFill>
        <p:spPr>
          <a:xfrm>
            <a:off x="324000" y="2637000"/>
            <a:ext cx="7777080" cy="38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Brachial001"/>
          <p:cNvPicPr/>
          <p:nvPr/>
        </p:nvPicPr>
        <p:blipFill>
          <a:blip r:embed="rId1"/>
          <a:srcRect l="2675" t="0" r="3713" b="0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970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92360" y="2133720"/>
            <a:ext cx="5688000" cy="40320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y the end of the lecture you should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dentify and describe the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muscles of the pectoral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ctoralis maj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ctoralis min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clavi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ratus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and demonstr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undaries and contents of the ax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550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4360" y="981000"/>
            <a:ext cx="7775280" cy="5688000"/>
          </a:xfrm>
          <a:prstGeom prst="rect">
            <a:avLst/>
          </a:prstGeom>
          <a:solidFill>
            <a:srgbClr val="defd23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cles of the pectoral region are connecting the upper limb with anterior and lateral thoracic w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toralis maj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toralis min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lav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ratus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axill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4 sided pyramid situated between the upper part of arm and the side of the chest, it has 4 walls (anterior, posterior, medial and lateral), base, and ap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axill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important space as it transmits the neurovascular bundle from the neck and thorax to the upper lim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t conta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llary vess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ds and branches of the brachial plex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llary lymph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3743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ctorali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0360" y="260280"/>
            <a:ext cx="4392360" cy="6408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rigin 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head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avicular 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medial ½ of the front of the clavi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ernocostal 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Fr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 6 costal cartil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oneurosis of external oblique mus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Insertion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 lip of bicipital gro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Nerve suppl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l &amp; lateral pectoral n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Action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dduction and medial rot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of the a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Clavicular head helps in f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lexion of arm (shoulder)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Also it helps in climb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ectoralis-major"/>
          <p:cNvPicPr/>
          <p:nvPr/>
        </p:nvPicPr>
        <p:blipFill>
          <a:blip r:embed="rId1"/>
          <a:srcRect l="12580" t="1373" r="2817" b="8440"/>
          <a:stretch/>
        </p:blipFill>
        <p:spPr>
          <a:xfrm>
            <a:off x="324000" y="1052640"/>
            <a:ext cx="3743280" cy="54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Freeform 4"/>
          <p:cNvSpPr/>
          <p:nvPr/>
        </p:nvSpPr>
        <p:spPr>
          <a:xfrm>
            <a:off x="1208160" y="1398600"/>
            <a:ext cx="1401840" cy="237960"/>
          </a:xfrm>
          <a:custGeom>
            <a:avLst/>
            <a:gdLst>
              <a:gd name="textAreaLeft" fmla="*/ 0 w 1401840"/>
              <a:gd name="textAreaRight" fmla="*/ 1401840 w 140184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402741" h="238173">
                <a:moveTo>
                  <a:pt x="1314251" y="31696"/>
                </a:moveTo>
                <a:cubicBezTo>
                  <a:pt x="1225761" y="36612"/>
                  <a:pt x="920810" y="37305"/>
                  <a:pt x="724316" y="46444"/>
                </a:cubicBezTo>
                <a:cubicBezTo>
                  <a:pt x="708787" y="47166"/>
                  <a:pt x="695315" y="58143"/>
                  <a:pt x="680071" y="61192"/>
                </a:cubicBezTo>
                <a:cubicBezTo>
                  <a:pt x="415828" y="114041"/>
                  <a:pt x="692737" y="46966"/>
                  <a:pt x="517838" y="90689"/>
                </a:cubicBezTo>
                <a:cubicBezTo>
                  <a:pt x="416413" y="158306"/>
                  <a:pt x="462980" y="138473"/>
                  <a:pt x="385103" y="164431"/>
                </a:cubicBezTo>
                <a:cubicBezTo>
                  <a:pt x="370355" y="174263"/>
                  <a:pt x="357056" y="186729"/>
                  <a:pt x="340858" y="193928"/>
                </a:cubicBezTo>
                <a:cubicBezTo>
                  <a:pt x="294691" y="214447"/>
                  <a:pt x="242404" y="225916"/>
                  <a:pt x="193374" y="238173"/>
                </a:cubicBezTo>
                <a:cubicBezTo>
                  <a:pt x="158961" y="233257"/>
                  <a:pt x="124007" y="231242"/>
                  <a:pt x="90135" y="223425"/>
                </a:cubicBezTo>
                <a:cubicBezTo>
                  <a:pt x="59839" y="216434"/>
                  <a:pt x="1645" y="193928"/>
                  <a:pt x="1645" y="193928"/>
                </a:cubicBezTo>
                <a:cubicBezTo>
                  <a:pt x="92508" y="163639"/>
                  <a:pt x="0" y="191545"/>
                  <a:pt x="149129" y="164431"/>
                </a:cubicBezTo>
                <a:cubicBezTo>
                  <a:pt x="169072" y="160805"/>
                  <a:pt x="187867" y="150447"/>
                  <a:pt x="208122" y="149683"/>
                </a:cubicBezTo>
                <a:cubicBezTo>
                  <a:pt x="448891" y="140597"/>
                  <a:pt x="689903" y="139850"/>
                  <a:pt x="930793" y="134934"/>
                </a:cubicBezTo>
                <a:cubicBezTo>
                  <a:pt x="950458" y="130018"/>
                  <a:pt x="970000" y="124583"/>
                  <a:pt x="989787" y="120186"/>
                </a:cubicBezTo>
                <a:cubicBezTo>
                  <a:pt x="1014258" y="114748"/>
                  <a:pt x="1039748" y="113364"/>
                  <a:pt x="1063529" y="105437"/>
                </a:cubicBezTo>
                <a:cubicBezTo>
                  <a:pt x="1181250" y="66197"/>
                  <a:pt x="1069663" y="89602"/>
                  <a:pt x="1166767" y="46444"/>
                </a:cubicBezTo>
                <a:cubicBezTo>
                  <a:pt x="1195180" y="33816"/>
                  <a:pt x="1225761" y="26779"/>
                  <a:pt x="1255258" y="16947"/>
                </a:cubicBezTo>
                <a:cubicBezTo>
                  <a:pt x="1306099" y="0"/>
                  <a:pt x="1402741" y="26780"/>
                  <a:pt x="1314251" y="316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5"/>
          <p:cNvSpPr/>
          <p:nvPr/>
        </p:nvSpPr>
        <p:spPr>
          <a:xfrm>
            <a:off x="1090440" y="1681200"/>
            <a:ext cx="960480" cy="2684520"/>
          </a:xfrm>
          <a:custGeom>
            <a:avLst/>
            <a:gdLst>
              <a:gd name="textAreaLeft" fmla="*/ 0 w 960480"/>
              <a:gd name="textAreaRight" fmla="*/ 960840 w 960480"/>
              <a:gd name="textAreaTop" fmla="*/ 0 h 2684520"/>
              <a:gd name="textAreaBottom" fmla="*/ 2684880 h 2684520"/>
            </a:gdLst>
            <a:ahLst/>
            <a:rect l="textAreaLeft" t="textAreaTop" r="textAreaRight" b="textAreaBottom"/>
            <a:pathLst>
              <a:path w="988142" h="2536723">
                <a:moveTo>
                  <a:pt x="176980" y="0"/>
                </a:moveTo>
                <a:cubicBezTo>
                  <a:pt x="59047" y="147418"/>
                  <a:pt x="121155" y="40415"/>
                  <a:pt x="103238" y="353961"/>
                </a:cubicBezTo>
                <a:cubicBezTo>
                  <a:pt x="99305" y="422785"/>
                  <a:pt x="87620" y="647212"/>
                  <a:pt x="73742" y="737419"/>
                </a:cubicBezTo>
                <a:cubicBezTo>
                  <a:pt x="68208" y="773390"/>
                  <a:pt x="43082" y="808957"/>
                  <a:pt x="29496" y="840658"/>
                </a:cubicBezTo>
                <a:cubicBezTo>
                  <a:pt x="12490" y="880338"/>
                  <a:pt x="8656" y="915366"/>
                  <a:pt x="0" y="958645"/>
                </a:cubicBezTo>
                <a:cubicBezTo>
                  <a:pt x="4916" y="1120877"/>
                  <a:pt x="5745" y="1283285"/>
                  <a:pt x="14748" y="1445342"/>
                </a:cubicBezTo>
                <a:cubicBezTo>
                  <a:pt x="16159" y="1470745"/>
                  <a:pt x="42470" y="1517309"/>
                  <a:pt x="58993" y="1533832"/>
                </a:cubicBezTo>
                <a:cubicBezTo>
                  <a:pt x="71527" y="1546366"/>
                  <a:pt x="89621" y="1551982"/>
                  <a:pt x="103238" y="1563329"/>
                </a:cubicBezTo>
                <a:cubicBezTo>
                  <a:pt x="255058" y="1689845"/>
                  <a:pt x="31824" y="1527912"/>
                  <a:pt x="206477" y="1637071"/>
                </a:cubicBezTo>
                <a:cubicBezTo>
                  <a:pt x="227321" y="1650099"/>
                  <a:pt x="245334" y="1667220"/>
                  <a:pt x="265471" y="1681316"/>
                </a:cubicBezTo>
                <a:cubicBezTo>
                  <a:pt x="309034" y="1711811"/>
                  <a:pt x="353961" y="1740310"/>
                  <a:pt x="398206" y="1769807"/>
                </a:cubicBezTo>
                <a:cubicBezTo>
                  <a:pt x="556323" y="1875217"/>
                  <a:pt x="316344" y="1711053"/>
                  <a:pt x="486696" y="1843549"/>
                </a:cubicBezTo>
                <a:cubicBezTo>
                  <a:pt x="514679" y="1865314"/>
                  <a:pt x="575187" y="1902542"/>
                  <a:pt x="575187" y="1902542"/>
                </a:cubicBezTo>
                <a:cubicBezTo>
                  <a:pt x="585019" y="1917290"/>
                  <a:pt x="593336" y="1933170"/>
                  <a:pt x="604684" y="1946787"/>
                </a:cubicBezTo>
                <a:cubicBezTo>
                  <a:pt x="700163" y="2061361"/>
                  <a:pt x="596519" y="1911946"/>
                  <a:pt x="693174" y="2050026"/>
                </a:cubicBezTo>
                <a:cubicBezTo>
                  <a:pt x="768451" y="2157566"/>
                  <a:pt x="719444" y="2116701"/>
                  <a:pt x="796413" y="2168013"/>
                </a:cubicBezTo>
                <a:cubicBezTo>
                  <a:pt x="806245" y="2182761"/>
                  <a:pt x="814562" y="2198641"/>
                  <a:pt x="825909" y="2212258"/>
                </a:cubicBezTo>
                <a:cubicBezTo>
                  <a:pt x="839261" y="2228281"/>
                  <a:pt x="858584" y="2239149"/>
                  <a:pt x="870154" y="2256503"/>
                </a:cubicBezTo>
                <a:cubicBezTo>
                  <a:pt x="878778" y="2269438"/>
                  <a:pt x="877950" y="2286844"/>
                  <a:pt x="884903" y="2300749"/>
                </a:cubicBezTo>
                <a:cubicBezTo>
                  <a:pt x="892830" y="2316603"/>
                  <a:pt x="904568" y="2330246"/>
                  <a:pt x="914400" y="2344994"/>
                </a:cubicBezTo>
                <a:cubicBezTo>
                  <a:pt x="919316" y="2359742"/>
                  <a:pt x="922196" y="2375334"/>
                  <a:pt x="929148" y="2389239"/>
                </a:cubicBezTo>
                <a:cubicBezTo>
                  <a:pt x="972242" y="2475426"/>
                  <a:pt x="948678" y="2391227"/>
                  <a:pt x="973393" y="2477729"/>
                </a:cubicBezTo>
                <a:cubicBezTo>
                  <a:pt x="978962" y="2497219"/>
                  <a:pt x="988142" y="2536723"/>
                  <a:pt x="988142" y="2536723"/>
                </a:cubicBezTo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6"/>
          <p:cNvSpPr/>
          <p:nvPr/>
        </p:nvSpPr>
        <p:spPr>
          <a:xfrm>
            <a:off x="3657600" y="1801800"/>
            <a:ext cx="108000" cy="673200"/>
          </a:xfrm>
          <a:custGeom>
            <a:avLst/>
            <a:gdLst/>
            <a:ahLst/>
            <a:rect l="l" t="t" r="r" b="b"/>
            <a:pathLst>
              <a:path w="107576" h="672717">
                <a:moveTo>
                  <a:pt x="107576" y="0"/>
                </a:moveTo>
                <a:cubicBezTo>
                  <a:pt x="80682" y="44823"/>
                  <a:pt x="36245" y="83041"/>
                  <a:pt x="26894" y="134470"/>
                </a:cubicBezTo>
                <a:cubicBezTo>
                  <a:pt x="15757" y="195723"/>
                  <a:pt x="58738" y="310687"/>
                  <a:pt x="80682" y="376518"/>
                </a:cubicBezTo>
                <a:cubicBezTo>
                  <a:pt x="71717" y="466165"/>
                  <a:pt x="78539" y="558831"/>
                  <a:pt x="53788" y="645459"/>
                </a:cubicBezTo>
                <a:cubicBezTo>
                  <a:pt x="46000" y="672717"/>
                  <a:pt x="31965" y="592668"/>
                  <a:pt x="26894" y="564776"/>
                </a:cubicBezTo>
                <a:cubicBezTo>
                  <a:pt x="13965" y="493666"/>
                  <a:pt x="8965" y="421341"/>
                  <a:pt x="0" y="349623"/>
                </a:cubicBezTo>
                <a:cubicBezTo>
                  <a:pt x="8965" y="295835"/>
                  <a:pt x="2508" y="237032"/>
                  <a:pt x="26894" y="188259"/>
                </a:cubicBezTo>
                <a:cubicBezTo>
                  <a:pt x="41349" y="159349"/>
                  <a:pt x="107576" y="134470"/>
                  <a:pt x="107576" y="134470"/>
                </a:cubicBezTo>
              </a:path>
            </a:pathLst>
          </a:custGeom>
          <a:solidFill>
            <a:srgbClr val="224b50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70440" cy="70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ctoralis Mi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3280" y="475920"/>
            <a:ext cx="4321440" cy="54738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 to pectoralis maj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Origi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&amp;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bs close to their costal cartil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Insertio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acoid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Nerve supply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pectoral n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ssion of shou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the ribs upward and outwards during deep in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ectoralis-minor"/>
          <p:cNvPicPr/>
          <p:nvPr/>
        </p:nvPicPr>
        <p:blipFill>
          <a:blip r:embed="rId1"/>
          <a:srcRect l="12580" t="6942" r="0" b="4279"/>
          <a:stretch/>
        </p:blipFill>
        <p:spPr>
          <a:xfrm>
            <a:off x="539640" y="1052640"/>
            <a:ext cx="3857760" cy="54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5" descr="前锯肌"/>
          <p:cNvPicPr/>
          <p:nvPr/>
        </p:nvPicPr>
        <p:blipFill>
          <a:blip r:embed="rId2"/>
          <a:srcRect l="0" t="0" r="0" b="28617"/>
          <a:stretch/>
        </p:blipFill>
        <p:spPr>
          <a:xfrm>
            <a:off x="250920" y="3860640"/>
            <a:ext cx="3025800" cy="2737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1547640" y="2205000"/>
            <a:ext cx="2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1547640" y="2565360"/>
            <a:ext cx="38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1619280" y="3141720"/>
            <a:ext cx="4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3600720" cy="936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bclav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88000" y="259920"/>
            <a:ext cx="4176720" cy="61930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b and its costal cartila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ochondral j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Insertio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avian groove at the middle 1/3 of the inferior surface of clavi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Nerve supply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ve to subclavius from upper trunk of brachial plex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Actio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the clavicle during movement of shoulder j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ile:Gray411.png">
            <a:hlinkClick r:id="rId1"/>
          </p:cNvPr>
          <p:cNvPicPr/>
          <p:nvPr/>
        </p:nvPicPr>
        <p:blipFill>
          <a:blip r:embed="rId2"/>
          <a:srcRect l="0" t="0" r="6054" b="0"/>
          <a:stretch/>
        </p:blipFill>
        <p:spPr>
          <a:xfrm>
            <a:off x="250920" y="1413000"/>
            <a:ext cx="4465440" cy="49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446400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vipectoral Fas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6720" y="188640"/>
            <a:ext cx="3888000" cy="28796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a thickened membran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eep fasc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tween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ubclavi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bove and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pectoralis minor be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It is pierc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ral pectoral nerve.</a:t>
            </a:r>
            <a:r>
              <a:rPr b="0" lang="en-US" sz="22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oraco- acromial art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Cephalic v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Lymp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锁胸筋膜4"/>
          <p:cNvPicPr/>
          <p:nvPr/>
        </p:nvPicPr>
        <p:blipFill>
          <a:blip r:embed="rId1"/>
          <a:srcRect l="3010" t="0" r="2261" b="2620"/>
          <a:stretch/>
        </p:blipFill>
        <p:spPr>
          <a:xfrm>
            <a:off x="179280" y="1052640"/>
            <a:ext cx="4824360" cy="56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3" descr="C:\Documents and Settings\Free User\My Documents\My Pictures\C9FF14.png"/>
          <p:cNvPicPr/>
          <p:nvPr/>
        </p:nvPicPr>
        <p:blipFill>
          <a:blip r:embed="rId2"/>
          <a:srcRect l="-718" t="0" r="57165" b="61280"/>
          <a:stretch/>
        </p:blipFill>
        <p:spPr>
          <a:xfrm>
            <a:off x="5580000" y="3141720"/>
            <a:ext cx="3240000" cy="35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78920" y="189000"/>
            <a:ext cx="3529080" cy="64800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Origi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eight rib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2060"/>
                </a:solidFill>
                <a:uFillTx/>
                <a:latin typeface="Arial"/>
              </a:rPr>
              <a:t>Inser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erior aspect of the  medial border and inferior angle of scapu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Nerve suppl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 thoracic nerve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rve to serratus anteri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s the scapula forward (protrusion, in box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s scapula outwards in raising the arm above 90 deg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前锯肌"/>
          <p:cNvPicPr/>
          <p:nvPr/>
        </p:nvPicPr>
        <p:blipFill>
          <a:blip r:embed="rId1"/>
          <a:srcRect l="4195" t="0" r="0" b="28617"/>
          <a:stretch/>
        </p:blipFill>
        <p:spPr>
          <a:xfrm>
            <a:off x="4932360" y="907920"/>
            <a:ext cx="4032360" cy="446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75" name="Straight Arrow Connector 7"/>
          <p:cNvCxnSpPr/>
          <p:nvPr/>
        </p:nvCxnSpPr>
        <p:spPr>
          <a:xfrm flipV="1">
            <a:off x="4932360" y="4365000"/>
            <a:ext cx="252000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Rectangle 4"/>
          <p:cNvSpPr/>
          <p:nvPr/>
        </p:nvSpPr>
        <p:spPr>
          <a:xfrm>
            <a:off x="5148360" y="189000"/>
            <a:ext cx="37447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erratus anterio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802B21B9"/>
          <p:cNvPicPr/>
          <p:nvPr/>
        </p:nvPicPr>
        <p:blipFill>
          <a:blip r:embed="rId2"/>
          <a:srcRect l="33268" t="7549" r="10996" b="60905"/>
          <a:stretch/>
        </p:blipFill>
        <p:spPr>
          <a:xfrm>
            <a:off x="3780000" y="3789360"/>
            <a:ext cx="237456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TextBox 6"/>
          <p:cNvSpPr/>
          <p:nvPr/>
        </p:nvSpPr>
        <p:spPr>
          <a:xfrm>
            <a:off x="6588000" y="45813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7020000" y="40053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7020000" y="3284640"/>
            <a:ext cx="2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6659640" y="256536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3095640" cy="712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AX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3384720" cy="46800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sided pyramidal shaped space between the upper part of the arm and the side of the ch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rough it the maj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neurovasc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tructures pass between neck &amp;  thorax and the upper lim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xilla has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p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,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our w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腋窝6"/>
          <p:cNvPicPr/>
          <p:nvPr/>
        </p:nvPicPr>
        <p:blipFill>
          <a:blip r:embed="rId1">
            <a:lum contrast="12000"/>
          </a:blip>
          <a:srcRect l="9355" t="1837" r="4120" b="2791"/>
          <a:stretch/>
        </p:blipFill>
        <p:spPr>
          <a:xfrm>
            <a:off x="5796000" y="260280"/>
            <a:ext cx="3097080" cy="460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腋窝3"/>
          <p:cNvPicPr/>
          <p:nvPr/>
        </p:nvPicPr>
        <p:blipFill>
          <a:blip r:embed="rId2"/>
          <a:srcRect l="10147" t="0" r="0" b="0"/>
          <a:stretch/>
        </p:blipFill>
        <p:spPr>
          <a:xfrm>
            <a:off x="3564000" y="2997360"/>
            <a:ext cx="3024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338472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Boundaries of the Ax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3456000" cy="5184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Ape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directed upwards and medially into the root of the ne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bounded,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on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vicl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nterior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border of the scapul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osterior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er border of the first rib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dial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called cervico-axillary ca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腋窝2"/>
          <p:cNvPicPr/>
          <p:nvPr/>
        </p:nvPicPr>
        <p:blipFill>
          <a:blip r:embed="rId1"/>
          <a:srcRect l="0" t="3491" r="3240" b="3480"/>
          <a:stretch/>
        </p:blipFill>
        <p:spPr>
          <a:xfrm>
            <a:off x="3708360" y="260280"/>
            <a:ext cx="5111640" cy="640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TextBox 4"/>
          <p:cNvSpPr/>
          <p:nvPr/>
        </p:nvSpPr>
        <p:spPr>
          <a:xfrm>
            <a:off x="5364000" y="148428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5724360" y="1628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5940360" y="17733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6659640" y="2565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7093080" y="2781360"/>
            <a:ext cx="4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7380360" y="29973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7667640" y="306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8028000" y="31417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7380360" y="141300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7308720" y="177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7380360" y="2060640"/>
            <a:ext cx="3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738036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17:16:34Z</dcterms:created>
  <dc:creator>Prof. Saeed Abuel Makarem</dc:creator>
  <dc:description/>
  <dc:language>en-US</dc:language>
  <cp:lastModifiedBy> saeed abuelmakarem</cp:lastModifiedBy>
  <dcterms:modified xsi:type="dcterms:W3CDTF">2015-12-06T05:45:21Z</dcterms:modified>
  <cp:revision>17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ectoral region &amp; Axilla">
    <vt:lpwstr>Prof. Saeed Abuel Makarem</vt:lpwstr>
  </property>
</Properties>
</file>