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0063" cy="97488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0"/>
            <a:ext cx="6850800" cy="974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68560" cy="48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dt" idx="1"/>
          </p:nvPr>
        </p:nvSpPr>
        <p:spPr>
          <a:xfrm>
            <a:off x="3882960" y="0"/>
            <a:ext cx="2968560" cy="48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Img"/>
          </p:nvPr>
        </p:nvSpPr>
        <p:spPr>
          <a:xfrm>
            <a:off x="987480" y="731520"/>
            <a:ext cx="4875120" cy="365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body"/>
          </p:nvPr>
        </p:nvSpPr>
        <p:spPr>
          <a:xfrm>
            <a:off x="914400" y="4630680"/>
            <a:ext cx="5022720" cy="438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9259920"/>
            <a:ext cx="2968560" cy="487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3882960" y="9259920"/>
            <a:ext cx="2968560" cy="487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C5581-DFD1-49F9-A54A-65A2B6A531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2960" y="9259920"/>
            <a:ext cx="29685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279DE-440D-439A-AF41-1611E032165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987480" y="731880"/>
            <a:ext cx="4875120" cy="36558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630680"/>
            <a:ext cx="50227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987480" y="731880"/>
            <a:ext cx="4875120" cy="36558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630680"/>
            <a:ext cx="50227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882960" y="9259920"/>
            <a:ext cx="29685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E2BE7-5350-4010-B784-D322631DE77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987480" y="731880"/>
            <a:ext cx="4875120" cy="36558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630680"/>
            <a:ext cx="5022720" cy="438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y maintain the bone matrix,.by continuous deposition of calcium sa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882960" y="9259920"/>
            <a:ext cx="29685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B2EDE-1445-4EFD-A10B-CAF8733009E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987480" y="731880"/>
            <a:ext cx="4875120" cy="36558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14400" y="4630680"/>
            <a:ext cx="50227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882960" y="9259920"/>
            <a:ext cx="29685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86E9C-39D5-4C0F-9F77-02BE4414D79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987480" y="731880"/>
            <a:ext cx="4875120" cy="36558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630680"/>
            <a:ext cx="50227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882960" y="9259920"/>
            <a:ext cx="29685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2EB8F-E243-4F77-8720-E0EC42B7B5F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987480" y="731880"/>
            <a:ext cx="4875120" cy="36558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630680"/>
            <a:ext cx="5022720" cy="438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882960" y="9259920"/>
            <a:ext cx="29685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F9F41-77F6-4B85-BCE2-4F46F6BE04B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987480" y="731880"/>
            <a:ext cx="4875120" cy="36558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630680"/>
            <a:ext cx="5022720" cy="438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Functions of perichondrium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a. Nutritive function (by diffusion from its blood vessels)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b. Chondrogenic funct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c. Gives attachment to muscles &amp; tend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882960" y="9259920"/>
            <a:ext cx="29685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B78F2-DA2E-4B16-9CE9-A9DA0456BC7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987480" y="731880"/>
            <a:ext cx="4875120" cy="36558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630680"/>
            <a:ext cx="50227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882960" y="9259920"/>
            <a:ext cx="29685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9D20C-4FDD-4AB3-A565-735F8CACBDC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987480" y="731880"/>
            <a:ext cx="4875120" cy="36558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630680"/>
            <a:ext cx="5022720" cy="438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Function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orms the skeleton of the foet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rotection of bony surfaces, at joi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Keeps the respiratory tract open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882960" y="9259920"/>
            <a:ext cx="29685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01200-A9EE-4D11-8A2E-63E857500AD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-442080"/>
            <a:ext cx="777240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90720" y="1368000"/>
            <a:ext cx="772776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90720" y="3514680"/>
            <a:ext cx="772776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-442080"/>
            <a:ext cx="777240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90720" y="1368000"/>
            <a:ext cx="377100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50720" y="1368000"/>
            <a:ext cx="377100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90720" y="3514680"/>
            <a:ext cx="377100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950720" y="3514680"/>
            <a:ext cx="377100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-442080"/>
            <a:ext cx="777240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0720" y="1368000"/>
            <a:ext cx="248796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603600" y="1368000"/>
            <a:ext cx="248796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16120" y="1368000"/>
            <a:ext cx="248796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90720" y="3514680"/>
            <a:ext cx="248796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603600" y="3514680"/>
            <a:ext cx="248796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16120" y="3514680"/>
            <a:ext cx="248796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-442080"/>
            <a:ext cx="777240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90720" y="1368000"/>
            <a:ext cx="772776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442080"/>
            <a:ext cx="777240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90720" y="1368000"/>
            <a:ext cx="7727760" cy="4110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-442080"/>
            <a:ext cx="777240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990720" y="1368000"/>
            <a:ext cx="3771000" cy="4110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950720" y="1368000"/>
            <a:ext cx="3771000" cy="4110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442080"/>
            <a:ext cx="777240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685800" y="-442080"/>
            <a:ext cx="7772400" cy="662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442080"/>
            <a:ext cx="777240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90720" y="1368000"/>
            <a:ext cx="377100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50720" y="1368000"/>
            <a:ext cx="3771000" cy="4110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990720" y="3514680"/>
            <a:ext cx="377100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-442080"/>
            <a:ext cx="777240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90720" y="1368000"/>
            <a:ext cx="772776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442080"/>
            <a:ext cx="777240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90720" y="1368000"/>
            <a:ext cx="3771000" cy="4110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50720" y="1368000"/>
            <a:ext cx="377100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950720" y="3514680"/>
            <a:ext cx="377100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-442080"/>
            <a:ext cx="777240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90720" y="1368000"/>
            <a:ext cx="377100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50720" y="1368000"/>
            <a:ext cx="377100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990720" y="3514680"/>
            <a:ext cx="772776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-442080"/>
            <a:ext cx="777240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90720" y="1368000"/>
            <a:ext cx="772776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990720" y="3514680"/>
            <a:ext cx="772776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-442080"/>
            <a:ext cx="777240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90720" y="1368000"/>
            <a:ext cx="377100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50720" y="1368000"/>
            <a:ext cx="377100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90720" y="3514680"/>
            <a:ext cx="377100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950720" y="3514680"/>
            <a:ext cx="377100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-442080"/>
            <a:ext cx="777240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720" y="1368000"/>
            <a:ext cx="248796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603600" y="1368000"/>
            <a:ext cx="248796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16120" y="1368000"/>
            <a:ext cx="248796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990720" y="3514680"/>
            <a:ext cx="248796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603600" y="3514680"/>
            <a:ext cx="248796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16120" y="3514680"/>
            <a:ext cx="248796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-442080"/>
            <a:ext cx="777240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90720" y="1368000"/>
            <a:ext cx="7727760" cy="4110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-442080"/>
            <a:ext cx="777240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90720" y="1368000"/>
            <a:ext cx="3771000" cy="4110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950720" y="1368000"/>
            <a:ext cx="3771000" cy="4110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-442080"/>
            <a:ext cx="777240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-442080"/>
            <a:ext cx="7772400" cy="662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-442080"/>
            <a:ext cx="777240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0720" y="1368000"/>
            <a:ext cx="377100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950720" y="1368000"/>
            <a:ext cx="3771000" cy="4110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90720" y="3514680"/>
            <a:ext cx="377100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-442080"/>
            <a:ext cx="777240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90720" y="1368000"/>
            <a:ext cx="3771000" cy="4110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50720" y="1368000"/>
            <a:ext cx="377100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950720" y="3514680"/>
            <a:ext cx="377100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-442080"/>
            <a:ext cx="777240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90720" y="1368000"/>
            <a:ext cx="377100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50720" y="1368000"/>
            <a:ext cx="377100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90720" y="3514680"/>
            <a:ext cx="7727760" cy="196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0" y="1063800"/>
            <a:ext cx="9144000" cy="0"/>
          </a:xfrm>
          <a:prstGeom prst="line">
            <a:avLst/>
          </a:prstGeom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-442080"/>
            <a:ext cx="777240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0720" y="1368000"/>
            <a:ext cx="7727760" cy="4110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00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-442080"/>
            <a:ext cx="777240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990720" y="1368000"/>
            <a:ext cx="7727760" cy="4110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00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09520"/>
            <a:ext cx="7772400" cy="766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ARTILAGE &amp; BONE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990720" y="1368000"/>
            <a:ext cx="7727760" cy="3684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Objectiv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 the end of this lecture, the student should describe th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microscopic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ructure,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distribut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growth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of the different types of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(1) Cartilag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(2) Bon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78920"/>
            <a:ext cx="7772400" cy="75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BONE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94840" y="1117080"/>
            <a:ext cx="8224920" cy="578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one is a specialized type of C.T. with a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har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matrix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Types: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 typ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Compact and spongy (ca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ncellous(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bon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Components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Bone Cells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: 4 types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Bone Matrix (calcified osteoid tissue)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 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hard because it is calcified </a:t>
            </a:r>
            <a:r>
              <a:rPr b="0" lang="en-GB" sz="2000" spc="-1" strike="noStrike">
                <a:solidFill>
                  <a:srgbClr val="ffc000"/>
                </a:solidFill>
                <a:latin typeface="Arial"/>
                <a:ea typeface="Times New Roman"/>
              </a:rPr>
              <a:t>(Calcium salts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 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It contains </a:t>
            </a:r>
            <a:r>
              <a:rPr b="0" lang="en-GB" sz="2000" spc="-1" strike="noStrike" u="sng">
                <a:solidFill>
                  <a:srgbClr val="ffc000"/>
                </a:solidFill>
                <a:uFillTx/>
                <a:latin typeface="Arial"/>
                <a:ea typeface="Times New Roman"/>
              </a:rPr>
              <a:t>type I collagen</a:t>
            </a:r>
            <a:r>
              <a:rPr b="0" lang="en-GB" sz="2000" spc="-1" strike="noStrike">
                <a:solidFill>
                  <a:srgbClr val="ffc000"/>
                </a:solidFill>
                <a:latin typeface="Arial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fibe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 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It forms </a:t>
            </a:r>
            <a:r>
              <a:rPr b="1" lang="en-GB" sz="2000" spc="-1" strike="noStrike">
                <a:solidFill>
                  <a:srgbClr val="00ff00"/>
                </a:solidFill>
                <a:latin typeface="Arial"/>
                <a:ea typeface="Times New Roman"/>
              </a:rPr>
              <a:t>bone lamellae and trabeculae</a:t>
            </a:r>
            <a:r>
              <a:rPr b="0" lang="en-GB" sz="2000" spc="-1" strike="noStrike">
                <a:solidFill>
                  <a:srgbClr val="92d050"/>
                </a:solidFill>
                <a:latin typeface="Arial"/>
                <a:ea typeface="Times New Roman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Periosteu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Endosteu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Function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body suppor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protection of vital organs as brain &amp; bone marro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calcium stor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5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Bone Cells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8240" y="1285920"/>
            <a:ext cx="6689520" cy="504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762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  <a:ea typeface="Traditional Arabic"/>
              </a:rPr>
              <a:t>1-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  <a:ea typeface="Traditional Arabic"/>
              </a:rPr>
              <a:t>	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  <a:ea typeface="Traditional Arabic"/>
              </a:rPr>
              <a:t> </a:t>
            </a:r>
            <a:r>
              <a:rPr b="1" lang="en-GB" sz="28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Osteogenic Cells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  <a:ea typeface="Traditional Arabic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52560" indent="-285840"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in periosteum &amp; endosteum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52560" indent="-285840"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Fate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: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give rise to osteoblas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762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  <a:ea typeface="Traditional Arabic"/>
              </a:rPr>
              <a:t>2-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  <a:ea typeface="Traditional Arabic"/>
              </a:rPr>
              <a:t>	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  <a:ea typeface="Traditional Arabic"/>
              </a:rPr>
              <a:t> </a:t>
            </a:r>
            <a:r>
              <a:rPr b="1" lang="en-GB" sz="28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Osteoblasts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: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Traditional Arabic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52560" indent="-285840"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in periosteum &amp; endosteu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52560" indent="-285840"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Origin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: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osteogenic cell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52560" indent="-285840"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Function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: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They secrete the bone matrix &amp; deposit Ca salts in i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52560" indent="-285840"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Fate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: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change to osteocyt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Picture 11" descr="F:\HISTOLOGY\Pics\MyImages\Bone\Cells.JPG"/>
          <p:cNvPicPr/>
          <p:nvPr/>
        </p:nvPicPr>
        <p:blipFill>
          <a:blip r:embed="rId1"/>
          <a:srcRect l="0" t="0" r="72457" b="31766"/>
          <a:stretch/>
        </p:blipFill>
        <p:spPr>
          <a:xfrm>
            <a:off x="6788160" y="3457440"/>
            <a:ext cx="2109600" cy="19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5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Bone Cells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59840" y="1285920"/>
            <a:ext cx="5843880" cy="4184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762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  <a:ea typeface="Traditional Arabic"/>
              </a:rPr>
              <a:t>3-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  <a:ea typeface="Traditional Arabic"/>
              </a:rPr>
              <a:t>	</a:t>
            </a:r>
            <a:r>
              <a:rPr b="1" lang="en-GB" sz="28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Osteocytes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 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  <a:ea typeface="Traditional Arabic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52560" indent="-28584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Branched cells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52560" indent="-28584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Present singly in 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lacunae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. Their branches run in the 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canaliculi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52560" indent="-28584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Origin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: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osteoblas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52560" indent="-28584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Function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: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They maintain the bone matrix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Picture 4" descr="F:\HISTOLOGY\Pics\MyImages\Bone\Cells.JPG"/>
          <p:cNvPicPr/>
          <p:nvPr/>
        </p:nvPicPr>
        <p:blipFill>
          <a:blip r:embed="rId1"/>
          <a:srcRect l="23218" t="0" r="39524" b="23578"/>
          <a:stretch/>
        </p:blipFill>
        <p:spPr>
          <a:xfrm>
            <a:off x="6051600" y="2176560"/>
            <a:ext cx="2862360" cy="22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5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Bone Cells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82520" y="1218960"/>
            <a:ext cx="6454800" cy="5127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762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  <a:ea typeface="Traditional Arabic"/>
              </a:rPr>
              <a:t>4-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  <a:ea typeface="Traditional Arabic"/>
              </a:rPr>
              <a:t>	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  <a:ea typeface="Traditional Arabic"/>
              </a:rPr>
              <a:t> </a:t>
            </a:r>
            <a:r>
              <a:rPr b="1" lang="en-GB" sz="28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Osteoclasts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: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Traditional Arabic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52560" indent="-28584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Large multinucleated cells on bony surfaces, in 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Howship’s lacunae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52560" indent="-28584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They have striated or ruffled bord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52560" indent="-28584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Cytoplasm is rich in lysosomes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52560" indent="-28584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Origin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: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blood monocyt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52560" indent="-28584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Function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: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bone resorp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Picture 4" descr="F:\HISTOLOGY\Pics\MyImages\Bone\Cells.JPG"/>
          <p:cNvPicPr/>
          <p:nvPr/>
        </p:nvPicPr>
        <p:blipFill>
          <a:blip r:embed="rId1"/>
          <a:srcRect l="59302" t="0" r="3467" b="22706"/>
          <a:stretch/>
        </p:blipFill>
        <p:spPr>
          <a:xfrm>
            <a:off x="6359400" y="1709640"/>
            <a:ext cx="2551320" cy="20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5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ompact Bone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59920" y="1440000"/>
            <a:ext cx="5180040" cy="492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It is found in the 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diaphysis of long bones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Consists of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	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1-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	</a:t>
            </a:r>
            <a:r>
              <a:rPr b="1" lang="en-GB" sz="28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Periosteum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: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Traditional Arabic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Outer fibrous layer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Inner osteogenic layer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	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2-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	</a:t>
            </a:r>
            <a:r>
              <a:rPr b="1" lang="en-GB" sz="28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Endosteum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	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3-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	</a:t>
            </a:r>
            <a:r>
              <a:rPr b="1" lang="en-GB" sz="28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Bone Lamellae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4- 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Bone Cell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Picture 6" descr="F:\HISTOLOGY\Pics\MyImages\Bone\Compact.JPG"/>
          <p:cNvPicPr/>
          <p:nvPr/>
        </p:nvPicPr>
        <p:blipFill>
          <a:blip r:embed="rId1"/>
          <a:srcRect l="48087" t="0" r="4513" b="18319"/>
          <a:stretch/>
        </p:blipFill>
        <p:spPr>
          <a:xfrm>
            <a:off x="5532480" y="1609560"/>
            <a:ext cx="3392280" cy="4257720"/>
          </a:xfrm>
          <a:prstGeom prst="rect">
            <a:avLst/>
          </a:prstGeom>
          <a:ln w="0">
            <a:noFill/>
          </a:ln>
        </p:spPr>
      </p:pic>
      <p:sp>
        <p:nvSpPr>
          <p:cNvPr id="128" name="Line 7"/>
          <p:cNvSpPr/>
          <p:nvPr/>
        </p:nvSpPr>
        <p:spPr>
          <a:xfrm flipV="1">
            <a:off x="4632480" y="2666520"/>
            <a:ext cx="990360" cy="16765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Line 9"/>
          <p:cNvSpPr/>
          <p:nvPr/>
        </p:nvSpPr>
        <p:spPr>
          <a:xfrm flipV="1">
            <a:off x="4160880" y="2484360"/>
            <a:ext cx="1431720" cy="1341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Line 7"/>
          <p:cNvSpPr/>
          <p:nvPr/>
        </p:nvSpPr>
        <p:spPr>
          <a:xfrm>
            <a:off x="3413160" y="5013360"/>
            <a:ext cx="2789280" cy="579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5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ompact Bone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0320" y="1292040"/>
            <a:ext cx="5629320" cy="5570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Bone Lamellae</a:t>
            </a:r>
            <a:r>
              <a:rPr b="0" lang="en-GB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8592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1-  </a:t>
            </a:r>
            <a:r>
              <a:rPr b="1" lang="en-GB" sz="2200" spc="-1" strike="noStrike" u="sng">
                <a:solidFill>
                  <a:srgbClr val="ffc000"/>
                </a:solidFill>
                <a:uFillTx/>
                <a:latin typeface="Arial"/>
                <a:ea typeface="Times New Roman"/>
              </a:rPr>
              <a:t>Haversian Systems (Osteons)</a:t>
            </a:r>
            <a:r>
              <a:rPr b="1" lang="en-GB" sz="2200" spc="-1" strike="noStrike">
                <a:solidFill>
                  <a:srgbClr val="ffc000"/>
                </a:solidFill>
                <a:latin typeface="Arial"/>
                <a:ea typeface="Times New Roman"/>
              </a:rPr>
              <a:t>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Longitudinal cylinder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Each is formed of </a:t>
            </a:r>
            <a:r>
              <a:rPr b="0" lang="en-GB" sz="2200" spc="-1" strike="noStrike">
                <a:solidFill>
                  <a:srgbClr val="00ff00"/>
                </a:solidFill>
                <a:latin typeface="Arial"/>
                <a:ea typeface="Times New Roman"/>
              </a:rPr>
              <a:t>concentric bone lamellae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 &amp; a </a:t>
            </a:r>
            <a:r>
              <a:rPr b="0" lang="en-GB" sz="2200" spc="-1" strike="noStrike" u="sng">
                <a:solidFill>
                  <a:srgbClr val="00ff00"/>
                </a:solidFill>
                <a:uFillTx/>
                <a:latin typeface="Arial"/>
                <a:ea typeface="Times New Roman"/>
              </a:rPr>
              <a:t>Haversian canal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, running in the center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 u="sng">
                <a:solidFill>
                  <a:srgbClr val="00ff00"/>
                </a:solidFill>
                <a:uFillTx/>
                <a:latin typeface="Arial"/>
                <a:ea typeface="Times New Roman"/>
              </a:rPr>
              <a:t>Volkmann’s canals:</a:t>
            </a:r>
            <a:r>
              <a:rPr b="0" lang="en-GB" sz="2200" spc="-1" strike="noStrike">
                <a:solidFill>
                  <a:srgbClr val="00ff00"/>
                </a:solidFill>
                <a:latin typeface="Arial"/>
                <a:ea typeface="Times New Roman"/>
              </a:rPr>
              <a:t>                 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connect the Haversian canals together.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 They run obliquely or transversely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8592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2.  </a:t>
            </a:r>
            <a:r>
              <a:rPr b="1" lang="en-GB" sz="22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External Circumferential Lamellae</a:t>
            </a:r>
            <a:r>
              <a:rPr b="1" lang="en-GB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8592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3-  </a:t>
            </a:r>
            <a:r>
              <a:rPr b="1" lang="en-GB" sz="22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Internal Circumferential Lamellae</a:t>
            </a:r>
            <a:r>
              <a:rPr b="1" lang="en-GB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8592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4-  </a:t>
            </a:r>
            <a:r>
              <a:rPr b="1" lang="en-GB" sz="22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Interstitial Lamellae</a:t>
            </a:r>
            <a:r>
              <a:rPr b="1" lang="en-GB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: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between osteon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Picture 4" descr="F:\HISTOLOGY\Pics\MyImages\Bone\Compact.JPG"/>
          <p:cNvPicPr/>
          <p:nvPr/>
        </p:nvPicPr>
        <p:blipFill>
          <a:blip r:embed="rId1"/>
          <a:srcRect l="48087" t="0" r="4513" b="18123"/>
          <a:stretch/>
        </p:blipFill>
        <p:spPr>
          <a:xfrm>
            <a:off x="5587920" y="1457280"/>
            <a:ext cx="3336840" cy="4197240"/>
          </a:xfrm>
          <a:prstGeom prst="rect">
            <a:avLst/>
          </a:prstGeom>
          <a:ln w="0">
            <a:noFill/>
          </a:ln>
        </p:spPr>
      </p:pic>
      <p:sp>
        <p:nvSpPr>
          <p:cNvPr id="134" name="Line 9"/>
          <p:cNvSpPr/>
          <p:nvPr/>
        </p:nvSpPr>
        <p:spPr>
          <a:xfrm>
            <a:off x="4784760" y="2087640"/>
            <a:ext cx="2617920" cy="684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Line 9"/>
          <p:cNvSpPr/>
          <p:nvPr/>
        </p:nvSpPr>
        <p:spPr>
          <a:xfrm>
            <a:off x="4816440" y="2103480"/>
            <a:ext cx="988920" cy="668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Line 9"/>
          <p:cNvSpPr/>
          <p:nvPr/>
        </p:nvSpPr>
        <p:spPr>
          <a:xfrm flipV="1">
            <a:off x="4830840" y="3177720"/>
            <a:ext cx="1468440" cy="174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Line 9"/>
          <p:cNvSpPr/>
          <p:nvPr/>
        </p:nvSpPr>
        <p:spPr>
          <a:xfrm flipV="1">
            <a:off x="3584520" y="3551400"/>
            <a:ext cx="2968560" cy="5997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5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ompact Bone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39" name="Picture 6" descr="F:\HISTOLOGY\Pics\MyImages\Bone\Compact.JPG"/>
          <p:cNvPicPr/>
          <p:nvPr/>
        </p:nvPicPr>
        <p:blipFill>
          <a:blip r:embed="rId1"/>
          <a:stretch/>
        </p:blipFill>
        <p:spPr>
          <a:xfrm>
            <a:off x="838080" y="1254240"/>
            <a:ext cx="7380360" cy="53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766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Times New Roman"/>
              </a:rPr>
              <a:t>Spongy (Cancellous) Bone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52280" y="1252080"/>
            <a:ext cx="4554720" cy="501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n flat bones &amp; epiphysis   of of long bon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Consists of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Periosteu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ndosteu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Irregular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bone trabecula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Many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irregular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bone marrow spac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Bone Cell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No Haversian systems </a:t>
            </a:r>
            <a:r>
              <a:rPr b="1" lang="en-GB" sz="20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(no osteons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Picture 1029" descr="F:\HISTOLOGY\Pics\MyImages\Bone\Spongy.JPG"/>
          <p:cNvPicPr/>
          <p:nvPr/>
        </p:nvPicPr>
        <p:blipFill>
          <a:blip r:embed="rId1"/>
          <a:srcRect l="3113" t="0" r="5119" b="8716"/>
          <a:stretch/>
        </p:blipFill>
        <p:spPr>
          <a:xfrm>
            <a:off x="3992400" y="1366920"/>
            <a:ext cx="489276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0680"/>
            <a:ext cx="7772400" cy="766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Growth of Bone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93840" y="1406520"/>
            <a:ext cx="4952880" cy="444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Appositional growth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 produced by the activity of osteoblas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leads to </a:t>
            </a: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increase in width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Growth in length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 produced by the activity of epiphyseal plate of cartilag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Picture 2" descr="F:\Bone New Pictures\GROWTH%20PLATE%20COMPOSITE%202[1].jpg"/>
          <p:cNvPicPr/>
          <p:nvPr/>
        </p:nvPicPr>
        <p:blipFill>
          <a:blip r:embed="rId1"/>
          <a:stretch/>
        </p:blipFill>
        <p:spPr>
          <a:xfrm>
            <a:off x="5307120" y="1568520"/>
            <a:ext cx="3510000" cy="2711520"/>
          </a:xfrm>
          <a:prstGeom prst="rect">
            <a:avLst/>
          </a:prstGeom>
          <a:ln w="0">
            <a:noFill/>
          </a:ln>
        </p:spPr>
      </p:pic>
      <p:cxnSp>
        <p:nvCxnSpPr>
          <p:cNvPr id="146" name="Straight Arrow Connector 6"/>
          <p:cNvCxnSpPr/>
          <p:nvPr/>
        </p:nvCxnSpPr>
        <p:spPr>
          <a:xfrm flipV="1">
            <a:off x="4340160" y="3222360"/>
            <a:ext cx="2075760" cy="242424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7772400" cy="1751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66ff"/>
                </a:solidFill>
                <a:latin typeface="Times New Roman"/>
              </a:rPr>
              <a:t>Thank you</a:t>
            </a:r>
            <a:br>
              <a:rPr sz="5400"/>
            </a:br>
            <a:endParaRPr b="1" lang="en-US" sz="5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48" name="Picture 2" descr="C:\Program Files (x86)\Microsoft Office\MEDIA\CAGCAT10\j0315447.jpg"/>
          <p:cNvPicPr/>
          <p:nvPr/>
        </p:nvPicPr>
        <p:blipFill>
          <a:blip r:embed="rId1"/>
          <a:stretch/>
        </p:blipFill>
        <p:spPr>
          <a:xfrm>
            <a:off x="2865600" y="1787400"/>
            <a:ext cx="2831760" cy="397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766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ARTILAGE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08120" y="979200"/>
            <a:ext cx="7727760" cy="575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50000"/>
              </a:lnSpc>
              <a:spcBef>
                <a:spcPts val="1199"/>
              </a:spcBef>
              <a:buClr>
                <a:srgbClr val="ff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rtilage is a specialized type of C.T. with a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rigi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matrix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199"/>
              </a:spcBef>
              <a:buClr>
                <a:srgbClr val="ff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rtilage is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usuall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nonvascular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(avascular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199"/>
              </a:spcBef>
              <a:buClr>
                <a:srgbClr val="ff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3 Typ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Hyaline cartilag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Elastic cartilag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Fibrocartilag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5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Hyaline Cartilage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1280" y="1285920"/>
            <a:ext cx="5801040" cy="5199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  <a:ea typeface="Traditional Arabic"/>
              </a:rPr>
              <a:t>1-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  <a:ea typeface="Traditional Arabic"/>
              </a:rPr>
              <a:t>	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  <a:ea typeface="Traditional Arabic"/>
              </a:rPr>
              <a:t> </a:t>
            </a:r>
            <a:r>
              <a:rPr b="1" lang="en-GB" sz="2800" spc="-1" strike="noStrike" u="sng">
                <a:solidFill>
                  <a:srgbClr val="ffff00"/>
                </a:solidFill>
                <a:uFillTx/>
                <a:latin typeface="Arial"/>
                <a:ea typeface="Traditional Arabic"/>
              </a:rPr>
              <a:t>Perichondrium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  <a:ea typeface="Traditional Arabic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Vascular C.T. membrane formed of 2 layer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ffff"/>
                </a:solidFill>
                <a:uFillTx/>
                <a:latin typeface="Arial"/>
              </a:rPr>
              <a:t>Outer fibrous layer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br>
              <a:rPr sz="2800"/>
            </a:b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ense fibrous C.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ffff"/>
                </a:solidFill>
                <a:uFillTx/>
                <a:latin typeface="Arial"/>
              </a:rPr>
              <a:t>Inner chondrogenic layer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br>
              <a:rPr sz="2800"/>
            </a:b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ontains chondroblasts ( no lacunae). They secrete cartilage matrix and give rise to chondrocyt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" name="Picture 5" descr="F:\HISTOLOGY\Pics\MyImages\Cartilage\Hyaline.JPG"/>
          <p:cNvPicPr/>
          <p:nvPr/>
        </p:nvPicPr>
        <p:blipFill>
          <a:blip r:embed="rId1"/>
          <a:srcRect l="25438" t="0" r="27031" b="0"/>
          <a:stretch/>
        </p:blipFill>
        <p:spPr>
          <a:xfrm>
            <a:off x="5773680" y="1789200"/>
            <a:ext cx="3200400" cy="3800520"/>
          </a:xfrm>
          <a:prstGeom prst="rect">
            <a:avLst/>
          </a:prstGeom>
          <a:ln w="0">
            <a:noFill/>
          </a:ln>
        </p:spPr>
      </p:pic>
      <p:sp>
        <p:nvSpPr>
          <p:cNvPr id="91" name="Line 7"/>
          <p:cNvSpPr/>
          <p:nvPr/>
        </p:nvSpPr>
        <p:spPr>
          <a:xfrm flipV="1">
            <a:off x="5264280" y="2423880"/>
            <a:ext cx="1209600" cy="1484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Line 9"/>
          <p:cNvSpPr/>
          <p:nvPr/>
        </p:nvSpPr>
        <p:spPr>
          <a:xfrm flipV="1">
            <a:off x="4516560" y="2261880"/>
            <a:ext cx="1609560" cy="7887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5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Hyaline Cartilage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5920" y="1276200"/>
            <a:ext cx="5354640" cy="567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  <a:ea typeface="Traditional Arabic"/>
              </a:rPr>
              <a:t>2-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  <a:ea typeface="Traditional Arabic"/>
              </a:rPr>
              <a:t>	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  <a:ea typeface="Traditional Arabic"/>
              </a:rPr>
              <a:t> </a:t>
            </a:r>
            <a:r>
              <a:rPr b="1" lang="en-GB" sz="2800" spc="-1" strike="noStrike" u="sng">
                <a:solidFill>
                  <a:srgbClr val="ffff00"/>
                </a:solidFill>
                <a:uFillTx/>
                <a:latin typeface="Arial"/>
                <a:ea typeface="Traditional Arabic"/>
              </a:rPr>
              <a:t>Cells (Chondrocytes)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  <a:ea typeface="Traditional Arabic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Found in spaces called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lacuna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c000"/>
                </a:solidFill>
                <a:latin typeface="Arial"/>
                <a:ea typeface="Times New Roman"/>
              </a:rPr>
              <a:t>Young chondrocytes:         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re small &amp; present singly in their lacuna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c000"/>
                </a:solidFill>
                <a:latin typeface="Arial"/>
                <a:ea typeface="Times New Roman"/>
              </a:rPr>
              <a:t>Mature chondrocytes:</a:t>
            </a:r>
            <a:r>
              <a:rPr b="1" lang="en-GB" sz="2400" spc="-1" strike="noStrike">
                <a:solidFill>
                  <a:srgbClr val="c00000"/>
                </a:solidFill>
                <a:latin typeface="Arial"/>
                <a:ea typeface="Times New Roman"/>
              </a:rPr>
              <a:t>        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are large, and are found </a:t>
            </a:r>
            <a:r>
              <a:rPr b="0" lang="en-GB" sz="2400" spc="-1" strike="noStrike">
                <a:solidFill>
                  <a:srgbClr val="00ff00"/>
                </a:solidFill>
                <a:latin typeface="Arial"/>
                <a:ea typeface="Times New Roman"/>
              </a:rPr>
              <a:t>singly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or in groups of 2, 4 or 6 cells in their lacunae </a:t>
            </a:r>
            <a:r>
              <a:rPr b="0" lang="en-GB" sz="2400" spc="-1" strike="noStrike">
                <a:solidFill>
                  <a:srgbClr val="00ff00"/>
                </a:solidFill>
                <a:latin typeface="Arial"/>
                <a:ea typeface="Times New Roman"/>
              </a:rPr>
              <a:t>(</a:t>
            </a:r>
            <a:r>
              <a:rPr b="0" lang="en-GB" sz="2400" spc="-1" strike="noStrike" u="sng">
                <a:solidFill>
                  <a:srgbClr val="00ff00"/>
                </a:solidFill>
                <a:uFillTx/>
                <a:latin typeface="Arial"/>
                <a:ea typeface="Times New Roman"/>
              </a:rPr>
              <a:t>cell nests</a:t>
            </a:r>
            <a:r>
              <a:rPr b="0" lang="en-GB" sz="2400" spc="-1" strike="noStrike">
                <a:solidFill>
                  <a:srgbClr val="00ff00"/>
                </a:solidFill>
                <a:latin typeface="Arial"/>
                <a:ea typeface="Times New Roman"/>
              </a:rPr>
              <a:t>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  <a:ea typeface="Traditional Arabic"/>
              </a:rPr>
              <a:t>3- </a:t>
            </a:r>
            <a:r>
              <a:rPr b="1" lang="en-GB" sz="2800" spc="-1" strike="noStrike" u="sng">
                <a:solidFill>
                  <a:srgbClr val="ffff00"/>
                </a:solidFill>
                <a:uFillTx/>
                <a:latin typeface="Arial"/>
                <a:ea typeface="Traditional Arabic"/>
              </a:rPr>
              <a:t>Matrix</a:t>
            </a:r>
            <a:r>
              <a:rPr b="1" lang="en-GB" sz="2800" spc="-1" strike="noStrike">
                <a:solidFill>
                  <a:srgbClr val="ffff00"/>
                </a:solidFill>
                <a:latin typeface="Arial"/>
                <a:ea typeface="Traditional Arabic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Homogeneous and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basophilic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Contains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collagen type II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Picture 4" descr="F:\HISTOLOGY\Pics\MyImages\Cartilage\Hyaline.JPG"/>
          <p:cNvPicPr/>
          <p:nvPr/>
        </p:nvPicPr>
        <p:blipFill>
          <a:blip r:embed="rId1"/>
          <a:srcRect l="25438" t="0" r="27031" b="0"/>
          <a:stretch/>
        </p:blipFill>
        <p:spPr>
          <a:xfrm>
            <a:off x="5497560" y="1774800"/>
            <a:ext cx="3457440" cy="4105440"/>
          </a:xfrm>
          <a:prstGeom prst="rect">
            <a:avLst/>
          </a:prstGeom>
          <a:ln w="9360">
            <a:solidFill>
              <a:srgbClr val="f57b49"/>
            </a:solidFill>
            <a:miter/>
          </a:ln>
        </p:spPr>
      </p:pic>
      <p:sp>
        <p:nvSpPr>
          <p:cNvPr id="96" name="Line 9"/>
          <p:cNvSpPr/>
          <p:nvPr/>
        </p:nvSpPr>
        <p:spPr>
          <a:xfrm flipV="1">
            <a:off x="4470480" y="4543560"/>
            <a:ext cx="2176560" cy="522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Line 9"/>
          <p:cNvSpPr/>
          <p:nvPr/>
        </p:nvSpPr>
        <p:spPr>
          <a:xfrm>
            <a:off x="4441680" y="5065560"/>
            <a:ext cx="1349640" cy="9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Line 9"/>
          <p:cNvSpPr/>
          <p:nvPr/>
        </p:nvSpPr>
        <p:spPr>
          <a:xfrm flipV="1">
            <a:off x="5151600" y="5138640"/>
            <a:ext cx="1785600" cy="682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99" name="Straight Arrow Connector 10"/>
          <p:cNvCxnSpPr/>
          <p:nvPr/>
        </p:nvCxnSpPr>
        <p:spPr>
          <a:xfrm flipV="1">
            <a:off x="5138280" y="3744360"/>
            <a:ext cx="986760" cy="494280"/>
          </a:xfrm>
          <a:prstGeom prst="straightConnector1">
            <a:avLst/>
          </a:prstGeom>
          <a:ln w="38160">
            <a:solidFill>
              <a:srgbClr val="00ff00"/>
            </a:solidFill>
            <a:miter/>
            <a:tailEnd len="med" type="arrow" w="med"/>
          </a:ln>
        </p:spPr>
      </p:cxnSp>
      <p:cxnSp>
        <p:nvCxnSpPr>
          <p:cNvPr id="100" name="Straight Arrow Connector 19"/>
          <p:cNvCxnSpPr/>
          <p:nvPr/>
        </p:nvCxnSpPr>
        <p:spPr>
          <a:xfrm>
            <a:off x="4252680" y="2553840"/>
            <a:ext cx="1973880" cy="523080"/>
          </a:xfrm>
          <a:prstGeom prst="straightConnector1">
            <a:avLst/>
          </a:prstGeom>
          <a:ln w="38160">
            <a:solidFill>
              <a:srgbClr val="e700e7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5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Hyaline Cartilage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2" name="Picture 6" descr="F:\HISTOLOGY\Pics\MyImages\Cartilage\Hyaline.JPG"/>
          <p:cNvPicPr/>
          <p:nvPr/>
        </p:nvPicPr>
        <p:blipFill>
          <a:blip r:embed="rId1"/>
          <a:stretch/>
        </p:blipFill>
        <p:spPr>
          <a:xfrm>
            <a:off x="492120" y="1665360"/>
            <a:ext cx="8158320" cy="46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5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Hyaline Cartilage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64920" y="1515600"/>
            <a:ext cx="6165720" cy="3576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66"/>
                </a:solidFill>
                <a:uFillTx/>
                <a:latin typeface="Arial"/>
              </a:rPr>
              <a:t>Sites of hyaline cartilage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Foetal skelet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Costal cartilag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Articular surfaces of bon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Nose, trachea &amp; bronchi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766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Elastic Cartilage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39840" y="1368000"/>
            <a:ext cx="3744720" cy="3986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Similar to hyaline cartilage + </a:t>
            </a:r>
            <a:r>
              <a:rPr b="0" lang="en-GB" sz="32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elastic fibres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in the matrix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799"/>
              </a:spcBef>
              <a:buClr>
                <a:srgbClr val="ff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ffff66"/>
                </a:solidFill>
                <a:uFillTx/>
                <a:latin typeface="Arial"/>
                <a:ea typeface="Times New Roman"/>
              </a:rPr>
              <a:t>Sites</a:t>
            </a:r>
            <a:r>
              <a:rPr b="1" lang="en-GB" sz="3200" spc="-1" strike="noStrike">
                <a:solidFill>
                  <a:srgbClr val="ffff66"/>
                </a:solidFill>
                <a:latin typeface="Arial"/>
                <a:ea typeface="Times New Roman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External ea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Epiglotti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Picture 4" descr="F:\HISTOLOGY\Pics\MyImages\Cartilage\Elastic.JPG"/>
          <p:cNvPicPr/>
          <p:nvPr/>
        </p:nvPicPr>
        <p:blipFill>
          <a:blip r:embed="rId1"/>
          <a:stretch/>
        </p:blipFill>
        <p:spPr>
          <a:xfrm>
            <a:off x="4246560" y="1413000"/>
            <a:ext cx="4616280" cy="40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766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Fibrocartilage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8560" y="1368000"/>
            <a:ext cx="4165560" cy="3801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No perichondrium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Rows of chondrocytes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in lacunae separated by parallel 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bundles of collagen fibers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 (type I)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199"/>
              </a:spcBef>
              <a:buClr>
                <a:srgbClr val="ff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ffff66"/>
                </a:solidFill>
                <a:uFillTx/>
                <a:latin typeface="Arial"/>
                <a:ea typeface="Times New Roman"/>
              </a:rPr>
              <a:t>Sites</a:t>
            </a:r>
            <a:r>
              <a:rPr b="1" lang="en-GB" sz="2800" spc="-1" strike="noStrike">
                <a:solidFill>
                  <a:srgbClr val="ffff66"/>
                </a:solidFill>
                <a:latin typeface="Arial"/>
                <a:ea typeface="Times New Roman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.g. Intervertebral disk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Picture 4" descr="F:\HISTOLOGY\Pics\MyImages\Cartilage\Fibro.JPG"/>
          <p:cNvPicPr/>
          <p:nvPr/>
        </p:nvPicPr>
        <p:blipFill>
          <a:blip r:embed="rId1"/>
          <a:stretch/>
        </p:blipFill>
        <p:spPr>
          <a:xfrm>
            <a:off x="4359240" y="1544760"/>
            <a:ext cx="4618080" cy="38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06280"/>
            <a:ext cx="7772400" cy="766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imes New Roman"/>
              </a:rPr>
              <a:t>Growth of cartilage</a:t>
            </a:r>
            <a:endParaRPr b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212760" y="1368000"/>
            <a:ext cx="8718480" cy="497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1.  Appositional growth: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 produced by the activity of Chondroblasts in the inner chondrogenic lay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leads to </a:t>
            </a: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increase in width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2.  Interstitial growth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 produced by division and activity of mature chondrocyt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00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leads to </a:t>
            </a: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increase in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length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6" descr="F:\HISTOLOGY\Pics\MyImages\Cartilage\Hyaline.JPG"/>
          <p:cNvPicPr/>
          <p:nvPr/>
        </p:nvPicPr>
        <p:blipFill>
          <a:blip r:embed="rId1"/>
          <a:stretch/>
        </p:blipFill>
        <p:spPr>
          <a:xfrm>
            <a:off x="5910120" y="2647800"/>
            <a:ext cx="3033720" cy="196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1T07:21:01Z</dcterms:created>
  <dc:creator>Mohammad Atteya</dc:creator>
  <dc:description/>
  <dc:language>en-US</dc:language>
  <cp:lastModifiedBy>Aly Mohamed</cp:lastModifiedBy>
  <dcterms:modified xsi:type="dcterms:W3CDTF">2015-11-23T07:08:51Z</dcterms:modified>
  <cp:revision>446</cp:revision>
  <dc:subject/>
  <dc:title>Cartilage</dc:title>
</cp:coreProperties>
</file>