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2960" y="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87480" y="731520"/>
            <a:ext cx="487512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F374-3115-4938-A0DE-E2AA2F4BA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2506-008F-45CB-8445-8D962AA949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286D-54A1-4C7D-BD0D-CC74E1A6D7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y maintain the bone matrix,.by continuous deposition of calcium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C59E-216B-4101-AF32-881065D9D0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3EA1-7F9D-448E-9BC0-77F00669CE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A3BC-F409-433D-A477-25197A5CB3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88C1-27FE-4140-A5F9-D8BE2B9F3F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s of perichondriu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. Nutritive function (by diffusion from its blood vessel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. Chondrogenic func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. Gives attachment to muscles &amp; tend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A934-FA19-48FC-968A-6A04C659ED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7C73-7009-4D32-A429-8D59552F4F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s the skeleton of the foe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ction of bony surfaces, at j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eps the respiratory tract open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06A5-E84A-4A21-98FA-275BD73FCB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063800"/>
            <a:ext cx="914400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095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RTILAGE &amp;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1368000"/>
            <a:ext cx="7727760" cy="368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end of this lecture, the student should describ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croscopic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strib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row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different types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1)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2) B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89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4840" y="1117080"/>
            <a:ext cx="8224920" cy="578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ne is a specialized type of C.T. with 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a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ri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ype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pact and spongy (ca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cellous(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bo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omponent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one Cell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4 typ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one Matrix (calcified osteoid tissue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ard because it is calcified </a:t>
            </a:r>
            <a:r>
              <a:rPr b="0" lang="en-GB" sz="2000" spc="-1" strike="noStrike">
                <a:solidFill>
                  <a:srgbClr val="ffc000"/>
                </a:solidFill>
                <a:latin typeface="Arial"/>
                <a:ea typeface="Times New Roman"/>
              </a:rPr>
              <a:t>(Calcium salt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t contains </a:t>
            </a:r>
            <a:r>
              <a:rPr b="0" lang="en-GB" sz="2000" spc="-1" strike="noStrike" u="sng">
                <a:solidFill>
                  <a:srgbClr val="ffc000"/>
                </a:solidFill>
                <a:uFillTx/>
                <a:latin typeface="Arial"/>
                <a:ea typeface="Times New Roman"/>
              </a:rPr>
              <a:t>type I collagen</a:t>
            </a:r>
            <a:r>
              <a:rPr b="0" lang="en-GB" sz="2000" spc="-1" strike="noStrike">
                <a:solidFill>
                  <a:srgbClr val="ffc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i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t forms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bone lamellae and trabeculae</a:t>
            </a:r>
            <a:r>
              <a:rPr b="0" lang="en-GB" sz="2000" spc="-1" strike="noStrike">
                <a:solidFill>
                  <a:srgbClr val="92d05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erioste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doste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unc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ody suppo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tection of vital organs as brain &amp; bone marro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alcium st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one Cell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8240" y="1285920"/>
            <a:ext cx="6689520" cy="50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steogenic Cell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 periosteum &amp; endosteu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at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give rise to osteobla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steoblast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 periosteum &amp; endoste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rigi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osteogenic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unc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y secrete the bone matrix &amp; deposit Ca salts i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at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hange to osteocy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1" descr="F:\HISTOLOGY\Pics\MyImages\Bone\Cells.JPG"/>
          <p:cNvPicPr/>
          <p:nvPr/>
        </p:nvPicPr>
        <p:blipFill>
          <a:blip r:embed="rId1"/>
          <a:srcRect l="0" t="0" r="72457" b="31766"/>
          <a:stretch/>
        </p:blipFill>
        <p:spPr>
          <a:xfrm>
            <a:off x="6788160" y="3457440"/>
            <a:ext cx="210960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one Cell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840" y="1285920"/>
            <a:ext cx="5843880" cy="418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steocytes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nched cell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 singly in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acuna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Their branches run in th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analicul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rigi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osteobla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unc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They maintain the bone matri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F:\HISTOLOGY\Pics\MyImages\Bone\Cells.JPG"/>
          <p:cNvPicPr/>
          <p:nvPr/>
        </p:nvPicPr>
        <p:blipFill>
          <a:blip r:embed="rId1"/>
          <a:srcRect l="23218" t="0" r="39524" b="23578"/>
          <a:stretch/>
        </p:blipFill>
        <p:spPr>
          <a:xfrm>
            <a:off x="6051600" y="2176560"/>
            <a:ext cx="28623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one Cell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2520" y="1218960"/>
            <a:ext cx="6454800" cy="512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4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steoclast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rge multinucleated cells on bony surfaces, in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Howship’s lacuna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y have striated or ruffled bor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ytoplasm is rich in lysosom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rigi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blood monocy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unc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one resorp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F:\HISTOLOGY\Pics\MyImages\Bone\Cells.JPG"/>
          <p:cNvPicPr/>
          <p:nvPr/>
        </p:nvPicPr>
        <p:blipFill>
          <a:blip r:embed="rId1"/>
          <a:srcRect l="59302" t="0" r="3467" b="22706"/>
          <a:stretch/>
        </p:blipFill>
        <p:spPr>
          <a:xfrm>
            <a:off x="6359400" y="1709640"/>
            <a:ext cx="255132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mpact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9920" y="1440000"/>
            <a:ext cx="5180040" cy="492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t is found in th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aphysis of long bon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sist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1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erioste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uter fibrous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ner osteogenic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2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ndoste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Bone Lamella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4-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Bone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F:\HISTOLOGY\Pics\MyImages\Bone\Compact.JPG"/>
          <p:cNvPicPr/>
          <p:nvPr/>
        </p:nvPicPr>
        <p:blipFill>
          <a:blip r:embed="rId1"/>
          <a:srcRect l="48087" t="0" r="4513" b="18319"/>
          <a:stretch/>
        </p:blipFill>
        <p:spPr>
          <a:xfrm>
            <a:off x="5532480" y="1609560"/>
            <a:ext cx="3392280" cy="4257720"/>
          </a:xfrm>
          <a:prstGeom prst="rect">
            <a:avLst/>
          </a:prstGeom>
          <a:ln w="0">
            <a:noFill/>
          </a:ln>
        </p:spPr>
      </p:pic>
      <p:sp>
        <p:nvSpPr>
          <p:cNvPr id="128" name="Line 7"/>
          <p:cNvSpPr/>
          <p:nvPr/>
        </p:nvSpPr>
        <p:spPr>
          <a:xfrm flipV="1">
            <a:off x="4632480" y="2666520"/>
            <a:ext cx="99036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 flipV="1">
            <a:off x="4160880" y="2484360"/>
            <a:ext cx="1431720" cy="1341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3413160" y="5013360"/>
            <a:ext cx="2789280" cy="579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mpact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0320" y="1292040"/>
            <a:ext cx="5629320" cy="557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Bone Lamellae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-  </a:t>
            </a:r>
            <a:r>
              <a:rPr b="1" lang="en-GB" sz="2200" spc="-1" strike="noStrike" u="sng">
                <a:solidFill>
                  <a:srgbClr val="ffc000"/>
                </a:solidFill>
                <a:uFillTx/>
                <a:latin typeface="Arial"/>
                <a:ea typeface="Times New Roman"/>
              </a:rPr>
              <a:t>Haversian Systems (Osteons)</a:t>
            </a:r>
            <a:r>
              <a:rPr b="1" lang="en-GB" sz="2200" spc="-1" strike="noStrike">
                <a:solidFill>
                  <a:srgbClr val="ffc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Longitudinal cylinde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ach is formed of </a:t>
            </a:r>
            <a:r>
              <a:rPr b="0" lang="en-GB" sz="2200" spc="-1" strike="noStrike">
                <a:solidFill>
                  <a:srgbClr val="00ff00"/>
                </a:solidFill>
                <a:latin typeface="Arial"/>
                <a:ea typeface="Times New Roman"/>
              </a:rPr>
              <a:t>concentric bone lamella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&amp; a </a:t>
            </a:r>
            <a:r>
              <a:rPr b="0" lang="en-GB" sz="2200" spc="-1" strike="noStrike" u="sng">
                <a:solidFill>
                  <a:srgbClr val="00ff00"/>
                </a:solidFill>
                <a:uFillTx/>
                <a:latin typeface="Arial"/>
                <a:ea typeface="Times New Roman"/>
              </a:rPr>
              <a:t>Haversian canal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, running in the cent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ff00"/>
                </a:solidFill>
                <a:uFillTx/>
                <a:latin typeface="Arial"/>
                <a:ea typeface="Times New Roman"/>
              </a:rPr>
              <a:t>Volkmann’s canals:</a:t>
            </a:r>
            <a:r>
              <a:rPr b="0" lang="en-GB" sz="2200" spc="-1" strike="noStrike">
                <a:solidFill>
                  <a:srgbClr val="00ff00"/>
                </a:solidFill>
                <a:latin typeface="Arial"/>
                <a:ea typeface="Times New Roman"/>
              </a:rPr>
              <a:t>           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nnect the Haversian canals together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They run obliquely or transverse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. 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xternal Circumferential Lamellae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- 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ernal Circumferential Lamellae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- 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erstitial Lamellae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etween oste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F:\HISTOLOGY\Pics\MyImages\Bone\Compact.JPG"/>
          <p:cNvPicPr/>
          <p:nvPr/>
        </p:nvPicPr>
        <p:blipFill>
          <a:blip r:embed="rId1"/>
          <a:srcRect l="48087" t="0" r="4513" b="18123"/>
          <a:stretch/>
        </p:blipFill>
        <p:spPr>
          <a:xfrm>
            <a:off x="5587920" y="1457280"/>
            <a:ext cx="3336840" cy="4197240"/>
          </a:xfrm>
          <a:prstGeom prst="rect">
            <a:avLst/>
          </a:prstGeom>
          <a:ln w="0">
            <a:noFill/>
          </a:ln>
        </p:spPr>
      </p:pic>
      <p:sp>
        <p:nvSpPr>
          <p:cNvPr id="134" name="Line 9"/>
          <p:cNvSpPr/>
          <p:nvPr/>
        </p:nvSpPr>
        <p:spPr>
          <a:xfrm>
            <a:off x="4784760" y="2087640"/>
            <a:ext cx="2617920" cy="68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4816440" y="2103480"/>
            <a:ext cx="988920" cy="668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4830840" y="3177720"/>
            <a:ext cx="1468440" cy="17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3584520" y="3551400"/>
            <a:ext cx="2968560" cy="599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mpact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9" name="Picture 6" descr="F:\HISTOLOGY\Pics\MyImages\Bone\Compact.JPG"/>
          <p:cNvPicPr/>
          <p:nvPr/>
        </p:nvPicPr>
        <p:blipFill>
          <a:blip r:embed="rId1"/>
          <a:stretch/>
        </p:blipFill>
        <p:spPr>
          <a:xfrm>
            <a:off x="838080" y="1254240"/>
            <a:ext cx="73803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Spongy (Cancellous)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252080"/>
            <a:ext cx="4554720" cy="50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 flat bones &amp; epiphysis   of of long b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sists of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rioste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doste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rreg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bone trabecula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rreg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bone marrow spa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n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No Haversian system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(no osteon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029" descr="F:\HISTOLOGY\Pics\MyImages\Bone\Spongy.JPG"/>
          <p:cNvPicPr/>
          <p:nvPr/>
        </p:nvPicPr>
        <p:blipFill>
          <a:blip r:embed="rId1"/>
          <a:srcRect l="3113" t="0" r="5119" b="8716"/>
          <a:stretch/>
        </p:blipFill>
        <p:spPr>
          <a:xfrm>
            <a:off x="3992400" y="1366920"/>
            <a:ext cx="48927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rowth of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93840" y="1406520"/>
            <a:ext cx="4952880" cy="44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ppositional grow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roduced by the activity of osteobla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leads to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crease in wid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Growth in leng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roduced by the activity of epiphyseal plate of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F:\Bone New Pictures\GROWTH%20PLATE%20COMPOSITE%202[1].jpg"/>
          <p:cNvPicPr/>
          <p:nvPr/>
        </p:nvPicPr>
        <p:blipFill>
          <a:blip r:embed="rId1"/>
          <a:stretch/>
        </p:blipFill>
        <p:spPr>
          <a:xfrm>
            <a:off x="5307120" y="1568520"/>
            <a:ext cx="3510000" cy="2711520"/>
          </a:xfrm>
          <a:prstGeom prst="rect">
            <a:avLst/>
          </a:prstGeom>
          <a:ln w="0">
            <a:noFill/>
          </a:ln>
        </p:spPr>
      </p:pic>
      <p:cxnSp>
        <p:nvCxnSpPr>
          <p:cNvPr id="146" name="Straight Arrow Connector 6"/>
          <p:cNvCxnSpPr/>
          <p:nvPr/>
        </p:nvCxnSpPr>
        <p:spPr>
          <a:xfrm flipV="1">
            <a:off x="4340160" y="3222360"/>
            <a:ext cx="2075760" cy="24242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ff"/>
                </a:solidFill>
                <a:latin typeface="Times New Roman"/>
              </a:rPr>
              <a:t>Thank you</a:t>
            </a:r>
            <a:br>
              <a:rPr sz="5400"/>
            </a:br>
            <a:endParaRPr b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8" name="Picture 2" descr="C:\Program Files (x86)\Microsoft Office\MEDIA\CAGCAT10\j0315447.jpg"/>
          <p:cNvPicPr/>
          <p:nvPr/>
        </p:nvPicPr>
        <p:blipFill>
          <a:blip r:embed="rId1"/>
          <a:stretch/>
        </p:blipFill>
        <p:spPr>
          <a:xfrm>
            <a:off x="2865600" y="1787400"/>
            <a:ext cx="283176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08120" y="979200"/>
            <a:ext cx="7727760" cy="57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ilage is a specialized type of C.T. with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ig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tri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ilage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ua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nvascular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(avascular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 Typ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Hyaline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Elastic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Fibro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yaline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280" y="1285920"/>
            <a:ext cx="5801040" cy="51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Perichondri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ascular C.T. membrane formed of 2 lay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Outer fibrous laye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nse fibrous C.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Inner chondrogenic laye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ains chondroblasts ( no lacunae). They secrete cartilage matrix and give rise to chondrocy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5" descr="F:\HISTOLOGY\Pics\MyImages\Cartilage\Hyaline.JPG"/>
          <p:cNvPicPr/>
          <p:nvPr/>
        </p:nvPicPr>
        <p:blipFill>
          <a:blip r:embed="rId1"/>
          <a:srcRect l="25438" t="0" r="27031" b="0"/>
          <a:stretch/>
        </p:blipFill>
        <p:spPr>
          <a:xfrm>
            <a:off x="5773680" y="1789200"/>
            <a:ext cx="3200400" cy="3800520"/>
          </a:xfrm>
          <a:prstGeom prst="rect">
            <a:avLst/>
          </a:prstGeom>
          <a:ln w="0">
            <a:noFill/>
          </a:ln>
        </p:spPr>
      </p:pic>
      <p:sp>
        <p:nvSpPr>
          <p:cNvPr id="91" name="Line 7"/>
          <p:cNvSpPr/>
          <p:nvPr/>
        </p:nvSpPr>
        <p:spPr>
          <a:xfrm flipV="1">
            <a:off x="5264280" y="2423880"/>
            <a:ext cx="1209600" cy="1484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9"/>
          <p:cNvSpPr/>
          <p:nvPr/>
        </p:nvSpPr>
        <p:spPr>
          <a:xfrm flipV="1">
            <a:off x="4516560" y="2261880"/>
            <a:ext cx="1609560" cy="788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yaline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920" y="1276200"/>
            <a:ext cx="5354640" cy="567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Cells (Chondrocytes)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und in spaces calle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acuna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Young chondrocytes: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e small &amp; present singly in their lacuna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Mature chondrocytes:</a:t>
            </a:r>
            <a:r>
              <a:rPr b="1" lang="en-GB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re large, and are found 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sing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or in groups of 2, 4 or 6 cells in their lacunae 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(</a:t>
            </a:r>
            <a:r>
              <a:rPr b="0" lang="en-GB" sz="2400" spc="-1" strike="noStrike" u="sng">
                <a:solidFill>
                  <a:srgbClr val="00ff00"/>
                </a:solidFill>
                <a:uFillTx/>
                <a:latin typeface="Arial"/>
                <a:ea typeface="Times New Roman"/>
              </a:rPr>
              <a:t>cell nests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Matrix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mogeneous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basophil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tains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ollagen type II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F:\HISTOLOGY\Pics\MyImages\Cartilage\Hyaline.JPG"/>
          <p:cNvPicPr/>
          <p:nvPr/>
        </p:nvPicPr>
        <p:blipFill>
          <a:blip r:embed="rId1"/>
          <a:srcRect l="25438" t="0" r="27031" b="0"/>
          <a:stretch/>
        </p:blipFill>
        <p:spPr>
          <a:xfrm>
            <a:off x="5497560" y="1774800"/>
            <a:ext cx="3457440" cy="4105440"/>
          </a:xfrm>
          <a:prstGeom prst="rect">
            <a:avLst/>
          </a:prstGeom>
          <a:ln w="9360">
            <a:solidFill>
              <a:srgbClr val="f57b49"/>
            </a:solidFill>
            <a:miter/>
          </a:ln>
        </p:spPr>
      </p:pic>
      <p:sp>
        <p:nvSpPr>
          <p:cNvPr id="96" name="Line 9"/>
          <p:cNvSpPr/>
          <p:nvPr/>
        </p:nvSpPr>
        <p:spPr>
          <a:xfrm flipV="1">
            <a:off x="4470480" y="4543560"/>
            <a:ext cx="2176560" cy="52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9"/>
          <p:cNvSpPr/>
          <p:nvPr/>
        </p:nvSpPr>
        <p:spPr>
          <a:xfrm>
            <a:off x="4441680" y="5065560"/>
            <a:ext cx="1349640" cy="9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5151600" y="5138640"/>
            <a:ext cx="1785600" cy="68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Straight Arrow Connector 10"/>
          <p:cNvCxnSpPr/>
          <p:nvPr/>
        </p:nvCxnSpPr>
        <p:spPr>
          <a:xfrm flipV="1">
            <a:off x="5138280" y="3744360"/>
            <a:ext cx="986760" cy="49428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100" name="Straight Arrow Connector 19"/>
          <p:cNvCxnSpPr/>
          <p:nvPr/>
        </p:nvCxnSpPr>
        <p:spPr>
          <a:xfrm>
            <a:off x="4252680" y="2553840"/>
            <a:ext cx="1973880" cy="523080"/>
          </a:xfrm>
          <a:prstGeom prst="straightConnector1">
            <a:avLst/>
          </a:prstGeom>
          <a:ln w="38160">
            <a:solidFill>
              <a:srgbClr val="e700e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yaline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6" descr="F:\HISTOLOGY\Pics\MyImages\Cartilage\Hyaline.JPG"/>
          <p:cNvPicPr/>
          <p:nvPr/>
        </p:nvPicPr>
        <p:blipFill>
          <a:blip r:embed="rId1"/>
          <a:stretch/>
        </p:blipFill>
        <p:spPr>
          <a:xfrm>
            <a:off x="492120" y="1665360"/>
            <a:ext cx="815832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yaline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4920" y="1515600"/>
            <a:ext cx="6165720" cy="35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Sites of hyaline cartilage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oetal skelet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stal cartil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rticular surfaces of b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se, trachea &amp; bronch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astic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9840" y="1368000"/>
            <a:ext cx="3744720" cy="398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imilar to hyaline cartilage +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lastic fibr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in the matri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Sites</a:t>
            </a:r>
            <a:r>
              <a:rPr b="1" lang="en-GB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ternal 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piglott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F:\HISTOLOGY\Pics\MyImages\Cartilage\Elastic.JPG"/>
          <p:cNvPicPr/>
          <p:nvPr/>
        </p:nvPicPr>
        <p:blipFill>
          <a:blip r:embed="rId1"/>
          <a:stretch/>
        </p:blipFill>
        <p:spPr>
          <a:xfrm>
            <a:off x="4246560" y="1413000"/>
            <a:ext cx="461628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bro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8560" y="1368000"/>
            <a:ext cx="4165560" cy="380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o perichondriu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ows of chondrocyt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lacunae separated by paralle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undles of collagen fiber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(type I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Sites</a:t>
            </a:r>
            <a:r>
              <a:rPr b="1" lang="en-GB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Intervertebral dis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F:\HISTOLOGY\Pics\MyImages\Cartilage\Fibro.JPG"/>
          <p:cNvPicPr/>
          <p:nvPr/>
        </p:nvPicPr>
        <p:blipFill>
          <a:blip r:embed="rId1"/>
          <a:stretch/>
        </p:blipFill>
        <p:spPr>
          <a:xfrm>
            <a:off x="4359240" y="1544760"/>
            <a:ext cx="461808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Growth of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2760" y="1368000"/>
            <a:ext cx="8718480" cy="49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.  Appositional growth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roduced by the activity of Chondroblasts in the inner chondrogenic lay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leads to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crease in wid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.  Interstitial growth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roduced by division and activity of mature chondrocy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leads to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crease in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length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F:\HISTOLOGY\Pics\MyImages\Cartilage\Hyaline.JPG"/>
          <p:cNvPicPr/>
          <p:nvPr/>
        </p:nvPicPr>
        <p:blipFill>
          <a:blip r:embed="rId1"/>
          <a:stretch/>
        </p:blipFill>
        <p:spPr>
          <a:xfrm>
            <a:off x="5910120" y="2647800"/>
            <a:ext cx="303372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7:21:01Z</dcterms:created>
  <dc:creator>Mohammad Atteya</dc:creator>
  <dc:description/>
  <dc:language>en-US</dc:language>
  <cp:lastModifiedBy>Aly Mohamed</cp:lastModifiedBy>
  <dcterms:modified xsi:type="dcterms:W3CDTF">2015-11-23T07:08:51Z</dcterms:modified>
  <cp:revision>446</cp:revision>
  <dc:subject/>
  <dc:title>Cartilage</dc:title>
</cp:coreProperties>
</file>