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7709-D99F-44DF-950E-53C09C7E3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6FD-32D1-4F07-A36C-1DE00B5CC0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eated by antithyroid, radioactive iodine or surg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D82A-6515-43C6-ABF9-27EE7E019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561-51CC-43F4-9064-E347FD4C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106-48CB-44CF-B9CD-CF4255E1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87F-A42D-4D4A-BD7A-B92221BE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B02-8D3B-444F-8BA7-E168E8DD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6C2-1C3F-4A5C-ACF7-FEA0D8B8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D41-9189-4A11-B5BF-E597AB54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7CC-7A6B-4E6D-9037-1388489B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AC2-F2C8-4338-B779-66CC5282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544-6BD2-4754-9DF0-01AC3ED5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48E-40FC-479A-9BBD-229E5B9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051-FBBF-488A-B42F-9011F67E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8A9F-3EBE-4B17-BB9E-7693E2E4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d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C3CF-5A7F-40ED-B01C-147C47CA7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564920" y="2057400"/>
            <a:ext cx="606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Autoimmune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286000" y="41911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mmunolog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Department of Pat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College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380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2.  Myasthenia Grav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80880" y="1371600"/>
            <a:ext cx="8610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ce1"/>
                </a:solidFill>
                <a:latin typeface="Arial Rounded MT Bold"/>
              </a:rPr>
              <a:t>Clinically characterised by weakness and fatigability on sustained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ce1"/>
                </a:solidFill>
                <a:latin typeface="Arial Rounded MT Bold"/>
              </a:rPr>
              <a:t>Antibodies directed against acetylcholine receptor (ACh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ce1"/>
                </a:solidFill>
                <a:latin typeface="Arial Rounded MT Bold"/>
              </a:rPr>
              <a:t>IgG Ab interact with the postsynaptic AChR at the nicotinic neuromuscular junction (NMJ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ce1"/>
                </a:solidFill>
                <a:latin typeface="Arial Rounded MT Bold"/>
              </a:rPr>
              <a:t>There is reduction in the number of functional AChR receptors by increasing complement mediated degradation of recep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476440" y="565200"/>
            <a:ext cx="5143680" cy="6292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58128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Myasthenia gr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8680" y="4038480"/>
            <a:ext cx="23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Motor end-plates of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V="1">
            <a:off x="2133720" y="259056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33520" y="152280"/>
            <a:ext cx="7396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Rounded MT Bold"/>
              </a:rPr>
              <a:t>Systemic Autoimmune Immune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Systemic lupus erythematosis (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</a:rPr>
              <a:t>S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09480" y="1600200"/>
            <a:ext cx="419112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ystemic lupus erythematosis is the most common autoimmune dis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characteristic “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butterfly rash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” is made worse by exposure to sun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upus is a potentially fatal autoimmun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figure_13_11"/>
          <p:cNvPicPr/>
          <p:nvPr/>
        </p:nvPicPr>
        <p:blipFill>
          <a:blip r:embed="rId1"/>
          <a:stretch/>
        </p:blipFill>
        <p:spPr>
          <a:xfrm>
            <a:off x="5205240" y="1371600"/>
            <a:ext cx="393876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6019920" y="3505320"/>
            <a:ext cx="243828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819520" y="2057400"/>
            <a:ext cx="304560" cy="369720"/>
          </a:xfrm>
          <a:prstGeom prst="rect">
            <a:avLst/>
          </a:prstGeom>
          <a:solidFill>
            <a:srgbClr val="4596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Auto antib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80880" y="1295280"/>
            <a:ext cx="441972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anti-nuclear antibody (ANA) test is the best screening test for SLE and is determined by </a:t>
            </a:r>
            <a:r>
              <a:rPr b="1" lang="en-GB" sz="2400" spc="-1" strike="noStrike">
                <a:solidFill>
                  <a:srgbClr val="ffff00"/>
                </a:solidFill>
                <a:latin typeface="Arial Rounded MT Bold"/>
              </a:rPr>
              <a:t>immunofluorescenc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or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ELISA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ANA is positive in significant titer (usually 1:160 or higher) in virtually all patients with 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0" t="0" r="66731" b="0"/>
          <a:stretch/>
        </p:blipFill>
        <p:spPr>
          <a:xfrm>
            <a:off x="4800600" y="1219320"/>
            <a:ext cx="434340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5867280" y="5486400"/>
            <a:ext cx="3049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Elbow Connector 7"/>
          <p:cNvCxnSpPr/>
          <p:nvPr/>
        </p:nvCxnSpPr>
        <p:spPr>
          <a:xfrm>
            <a:off x="4343400" y="3047760"/>
            <a:ext cx="1296000" cy="229320"/>
          </a:xfrm>
          <a:prstGeom prst="bentConnector3">
            <a:avLst>
              <a:gd name="adj1" fmla="val 49986"/>
            </a:avLst>
          </a:prstGeom>
          <a:ln w="889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3200400" y="4125960"/>
            <a:ext cx="228600" cy="36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762120" y="2209680"/>
            <a:ext cx="7696080" cy="4572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987480" y="228600"/>
            <a:ext cx="72896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Other investig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762120" y="1676520"/>
            <a:ext cx="76197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ti-double-stranded DNA t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omplement Levels (CH50, C3, C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omplement Spli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ecreased complement C1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33520" y="1905120"/>
            <a:ext cx="830556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NS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(Non-steroidal anti-inflammatory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timalarials (Hydroxychloroqu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mmunosuppressive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2.  Rheumatoid Arthr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29528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Rheumatoid arthritis is an autoimmune disease in which the normal immune response is directed against an individual's own tissue, including th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Ten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Resulting in inflammation and destruction of these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To know that the inflammatory processes in auto immune diseases are mediated by hypersensitivity reactions (type II, III and I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To know that autoimmune diseases can be either organ specific or may be generalized involving many organs or tiss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Rounded MT Bold"/>
              </a:rPr>
              <a:t>To understand that the manifestations of autoimmune diseases depend upon the organ and the degree of damage inflicted on the target tissu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914400" y="1828800"/>
            <a:ext cx="73915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 cause of rheumatoid arthritis is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not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Investigating possibilities of a foreign antigen, such as a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 flipV="1" rot="10800000">
            <a:off x="762120" y="426600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oth prevalence and incidence are 2-3 times greater in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wome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than i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62120" y="533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Rheumatoid Arthritis (</a:t>
            </a:r>
            <a:r>
              <a:rPr b="0" i="1" lang="en-US" sz="3600" spc="-1" strike="noStrike">
                <a:solidFill>
                  <a:srgbClr val="ffff00"/>
                </a:solidFill>
                <a:latin typeface="Arial Rounded MT Bold"/>
              </a:rPr>
              <a:t>Contd.</a:t>
            </a: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990720" y="2222640"/>
            <a:ext cx="73911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In rheumatoid arthritis, many individuals produce a group of auto-antibodies known as </a:t>
            </a:r>
            <a:r>
              <a:rPr b="1" lang="en-GB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rheumatoid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se antibodies react with determinants in the 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F</a:t>
            </a:r>
            <a:r>
              <a:rPr b="0" lang="en-GB" sz="2800" spc="-1" strike="noStrike" baseline="-30000">
                <a:solidFill>
                  <a:srgbClr val="ffff00"/>
                </a:solidFill>
                <a:latin typeface="Arial Rounded MT Bold"/>
                <a:ea typeface="Times New Roman"/>
              </a:rPr>
              <a:t>C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region of I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1523880" y="533520"/>
            <a:ext cx="6019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(Type III hypersensitivity re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ra3.bmp"/>
          <p:cNvPicPr/>
          <p:nvPr/>
        </p:nvPicPr>
        <p:blipFill>
          <a:blip r:embed="rId1"/>
          <a:stretch/>
        </p:blipFill>
        <p:spPr>
          <a:xfrm>
            <a:off x="2754360" y="990720"/>
            <a:ext cx="6389640" cy="58672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2057400" y="152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Rheumatoid 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28600" y="2286000"/>
            <a:ext cx="259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 clas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rheumatoid factor is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gM </a:t>
            </a: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nti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with this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of reac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838080" y="205740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uch auto-antibodies bind to normal circulating IgG, forming </a:t>
            </a:r>
            <a:r>
              <a:rPr b="0" lang="en-GB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gM-IgG complexes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which may be deposited in joi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is leads to activation of synovial macroph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 macrophages engulf the immune complexes and then release TNF and other pro-inflammatory cytokines e.g., IL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623960" y="457200"/>
            <a:ext cx="5203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(Type III hypersensitivity re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62120" y="2057400"/>
            <a:ext cx="777240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NF induces the secretion of </a:t>
            </a:r>
            <a:r>
              <a:rPr b="0" lang="en-GB" sz="32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metalloproteinases</a:t>
            </a:r>
            <a:r>
              <a:rPr b="0" lang="en-GB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; which are known to cause joint 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 cell activation due to unknown antigens also contributes to the inflammation in 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80880" y="533520"/>
            <a:ext cx="80773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(Type III hypersensitivity re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33520" y="990720"/>
            <a:ext cx="7924680" cy="8254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heumatoid arthritis (RA) affects peripheral joints and may cause destruction of both cartilage and b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imp-hand"/>
          <p:cNvPicPr/>
          <p:nvPr/>
        </p:nvPicPr>
        <p:blipFill>
          <a:blip r:embed="rId1"/>
          <a:stretch/>
        </p:blipFill>
        <p:spPr>
          <a:xfrm>
            <a:off x="4594320" y="2743200"/>
            <a:ext cx="4549680" cy="373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0" name="Picture 4" descr="Synovium"/>
          <p:cNvPicPr/>
          <p:nvPr/>
        </p:nvPicPr>
        <p:blipFill>
          <a:blip r:embed="rId2"/>
          <a:stretch/>
        </p:blipFill>
        <p:spPr>
          <a:xfrm>
            <a:off x="0" y="2743200"/>
            <a:ext cx="4606920" cy="3776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362320" y="152280"/>
            <a:ext cx="47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Rounded MT Bold"/>
              </a:rPr>
              <a:t>Rheumatoid 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533520" y="609480"/>
            <a:ext cx="792468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iagnos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Rheumatoid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Anti–citrullinated protein (ACP) anti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NSAIDS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 (Non-steroidal anti-inflammatory dru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Disease-modifying drugs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(eg, gold, hydroxychloroquine, sulfasalazine, penicillamin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mmunosuppressive therapy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Corticoster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ethotrex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Physical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The spectrum of autoimmune disorders is wide ranging from single organ involvement to a systemic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The disease process is usually prolonged and is generally associated with significant morbidity and mort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The mainstay of the treatment is to maintain immuno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214720" y="264312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Rounded MT Bold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00040" y="1643040"/>
            <a:ext cx="835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Disease processes and tissue damage are due to Type II Type III and Type IV hypersensitivity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6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54" name="Picture 4" descr="T20-0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pic>
          <p:nvPicPr>
            <p:cNvPr id="55" name="Picture 5" descr="T20-01"/>
            <p:cNvPicPr/>
            <p:nvPr/>
          </p:nvPicPr>
          <p:blipFill>
            <a:blip r:embed="rId2"/>
            <a:srcRect l="18306" t="0" r="0" b="95130"/>
            <a:stretch/>
          </p:blipFill>
          <p:spPr>
            <a:xfrm>
              <a:off x="273240" y="0"/>
              <a:ext cx="7469640" cy="33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utoimmunity spectrum"/>
          <p:cNvPicPr/>
          <p:nvPr/>
        </p:nvPicPr>
        <p:blipFill>
          <a:blip r:embed="rId1"/>
          <a:stretch/>
        </p:blipFill>
        <p:spPr>
          <a:xfrm>
            <a:off x="1371600" y="-6480"/>
            <a:ext cx="678168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roup 105" descr=""/>
          <p:cNvPicPr/>
          <p:nvPr/>
        </p:nvPicPr>
        <p:blipFill>
          <a:blip r:embed="rId1"/>
          <a:stretch/>
        </p:blipFill>
        <p:spPr>
          <a:xfrm>
            <a:off x="-165240" y="-30240"/>
            <a:ext cx="9309240" cy="6943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99"/>
          <p:cNvSpPr/>
          <p:nvPr/>
        </p:nvSpPr>
        <p:spPr>
          <a:xfrm>
            <a:off x="4495680" y="5791320"/>
            <a:ext cx="4648320" cy="36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5"/>
          <p:cNvSpPr/>
          <p:nvPr/>
        </p:nvSpPr>
        <p:spPr>
          <a:xfrm>
            <a:off x="4495680" y="6095880"/>
            <a:ext cx="4648320" cy="3700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6"/>
          <p:cNvSpPr/>
          <p:nvPr/>
        </p:nvSpPr>
        <p:spPr>
          <a:xfrm>
            <a:off x="4495680" y="6400800"/>
            <a:ext cx="4648320" cy="36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7"/>
          <p:cNvSpPr/>
          <p:nvPr/>
        </p:nvSpPr>
        <p:spPr>
          <a:xfrm>
            <a:off x="4495680" y="6488280"/>
            <a:ext cx="4648320" cy="36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533520" y="1905120"/>
            <a:ext cx="8458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Mediated by</a:t>
            </a:r>
            <a:r>
              <a:rPr b="0" lang="en-GB" sz="3200" spc="-1" strike="noStrike">
                <a:solidFill>
                  <a:srgbClr val="ffff00"/>
                </a:solidFill>
                <a:latin typeface="Arial Rounded MT Bold"/>
              </a:rPr>
              <a:t> stimulating </a:t>
            </a: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or</a:t>
            </a:r>
            <a:r>
              <a:rPr b="0" lang="en-GB" sz="3200" spc="-1" strike="noStrike">
                <a:solidFill>
                  <a:srgbClr val="ffff00"/>
                </a:solidFill>
                <a:latin typeface="Arial Rounded MT Bold"/>
              </a:rPr>
              <a:t> bloc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Rounded MT Bold"/>
              </a:rPr>
              <a:t>auto-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Graves’ disease (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Stimulating antibodies</a:t>
            </a: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Rounded MT Bold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Myasthenia gravis (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Blocking Antibodies</a:t>
            </a:r>
            <a:r>
              <a:rPr b="0" lang="en-GB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066680" y="228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Organ Specif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Autoimmune Dis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143000" y="-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1.  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Graves’ Disease (Thyrotoxic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F20-04"/>
          <p:cNvPicPr/>
          <p:nvPr/>
        </p:nvPicPr>
        <p:blipFill>
          <a:blip r:embed="rId1"/>
          <a:stretch/>
        </p:blipFill>
        <p:spPr>
          <a:xfrm>
            <a:off x="3733920" y="1066680"/>
            <a:ext cx="5410080" cy="5618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228600" y="1295280"/>
            <a:ext cx="3429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roduction of thyroid hormones is regulated by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hyroid-stimulating hormones (T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binding of TSH to a receptor on thyroid cells stimulates the synthesis of two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hyroid hormone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: thyroxine and triiodothyro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4724280" y="609480"/>
            <a:ext cx="4419720" cy="60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 person with Graves’ Disease makes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auto-antibodies to the receptor for TSH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Binding of these auto-antibodies to the receptor 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</a:rPr>
              <a:t>mimics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 the normal action of TSH leading to over-stimulation of the thyroid g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834279-878672-230.jpg"/>
          <p:cNvPicPr/>
          <p:nvPr/>
        </p:nvPicPr>
        <p:blipFill>
          <a:blip r:embed="rId1"/>
          <a:stretch/>
        </p:blipFill>
        <p:spPr>
          <a:xfrm>
            <a:off x="152280" y="914400"/>
            <a:ext cx="4480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3:29:38Z</dcterms:created>
  <dc:creator>DR. ZAHID</dc:creator>
  <dc:description/>
  <dc:language>en-US</dc:language>
  <cp:lastModifiedBy>3422</cp:lastModifiedBy>
  <dcterms:modified xsi:type="dcterms:W3CDTF">2015-12-23T06:53:36Z</dcterms:modified>
  <cp:revision>147</cp:revision>
  <dc:subject/>
  <dc:title>Slide 1</dc:title>
</cp:coreProperties>
</file>