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4374-0CEA-4CA5-9436-80CCDA7D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39B-04AB-4A49-AA0C-D72EF080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209A-8FB8-425C-BA17-D67BE4585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A74-FE7A-40D8-BF9B-DF3C4789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BB30-9C08-4977-86E7-F87D9ADDF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64961-141B-4D7D-8A1E-3CA5E251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EE9E-E604-49FA-9A53-1A7D66B4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0664-07F5-4CAF-B11B-4D7F5288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B006-896C-4301-ACB6-D99AD368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70E1-69A7-4BDB-8C22-8E1F7EDD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0022-C55D-4162-A8C8-4749FF06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2BA6-59A0-482F-9FDB-F18283B6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5E2A-9B55-43C7-8C4D-AF07F824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4A57-37D5-4286-8F4C-FF6C0FE8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2E5D-D3B1-4392-A09E-B03480A5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F10F-412C-4682-A3C0-579B6660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765B-F075-4778-80D8-1C8FE15D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3BF49-2AC5-4B32-AF26-A1BF991D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ED530-BD1D-473E-AB26-9E5145BB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BE24A-0846-4866-8E95-94A05E39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E6F4F-20BF-4D74-A9CA-FF39EC727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F32F1-F77A-4356-87C4-AF2DF782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38DA-62D7-4A24-A015-AB691517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86F38-5297-4709-8C76-1E174B63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AED7E-FD4D-4814-A6C4-B6A94B8B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9ABB6-D3CC-495F-9E03-43C0F38E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46084-D248-4ADA-A6CF-E1738EEA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1A6D2-38DE-4DDA-9AF2-9B8FFB08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0D7E3-03BD-4A52-BB4E-73DDDFBD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9BE41-1848-427F-9096-4F55031C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26102-58F3-4CA1-AB36-DF2FAA1D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3DC5F-EDD6-450B-A214-134A9C28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7FC09-9691-46DE-AB2B-FD7048F5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3B2B-34FD-434F-931F-45B15012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812CF-8BEB-4BF5-B717-5BD6EE3F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BA1C3-16FA-4B3B-AD0E-BBE58ACC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BE577-A103-4974-A3EB-7A5A1BE4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29952-9301-428F-BC90-69644921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977F3-7698-4A1F-9BDF-40C7265A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FF043-8998-474E-9330-E052CA45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C6574-5D32-4DC3-964B-B78D4A61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2D9AD-F470-4B7D-8A5B-492FE838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F3C99-3CE5-4207-B021-38E14E7C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15D06-9B63-4CC0-AC45-B195C9C1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C8AE-9AE2-41A2-A56F-8709AE2E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E9FB4-88A2-4B89-A9E7-B732708C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5CC1B-23BE-47AC-B07C-FC8BAB96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19917-F1E5-4DE3-8805-9E03AA2E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B3273-867E-4775-AE0A-86D2A925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53A12-F6E2-46B3-9A4C-647276A9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615D8-E598-4D32-A4A3-30C1D935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9E8CB-461D-4719-B0D0-21D7D8FB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E138D-59AD-49B3-BA23-07185E7E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8AD51-94AC-4529-934C-B16175EA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AE7CE-836F-4EB8-9BCB-84D6EE1B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6AE8-DBFB-4B11-977E-A4A69AC11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C0686-6288-438B-AE7E-909E92B0C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5CA0A-EB32-410E-A170-8644260A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FCA47-0F73-44F2-AE31-CD8ACF60C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E5668-E742-49B0-83DF-35C2F8F5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E7C89-53FA-4E45-9F92-23B80CF5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98743-2156-4F54-8269-3254FB3D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670DC-0027-449D-AE10-5216A8E2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0D884-179B-40B7-B034-2889F393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BEEA9-732F-4BAC-86FC-0E5CB960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33F70-AA0D-475D-BF48-BCC44BF0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B8D2-CCC0-48E5-B317-18CDCC93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5F4E3-439F-4EB7-A408-2B5C6A5F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EA5CF-89E9-4437-A76C-7B1E51B2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D224A-3B06-4360-B147-57F022F2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F6481-75E9-48A8-878F-6F672D95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6211B-4F28-4B3D-9915-EC4943C2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C9835-CE27-4901-A669-ED3BCA73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4EBA9-28A5-41CC-9D2F-EE84A828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42E5F-3852-40BC-AC0E-0041AAA8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A4BD3-42C6-4853-99AE-B7D93725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5AFA6-9635-468D-99B3-1C0D92C6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756-A877-4D1D-AEF4-45B6C35A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AB882-7E39-404D-9D46-093083DB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E0660-17F4-42E9-BADD-98BA1838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26251-3C9C-4CB2-B3F3-E382D541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C0510-9D6C-4A13-A047-C130D018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492E6-868B-4EE8-B124-D5A1A3A3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0EC12-D936-4E41-BC86-B7F9D9E7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D5DBC-A0D2-4755-8654-258D09F2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AB4FF-F5D8-44A1-A453-F40309B7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8C532-F91B-479C-9A59-F797F624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89776-32ED-46EC-987F-DEB6CE6A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EF47-5066-4CD3-B3AD-A947F860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9DFBE-C453-4756-9257-85E88F26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DBD82-266B-4130-B6C1-885A9D7A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D007A-42D8-4094-898D-BFB1FEDD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3175C-5ECD-4A84-8F84-2936CB73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7B35F-8EF6-4088-99A6-B2768DE6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02A60-AF96-4840-916B-16D17E53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2AC73-6794-4CA7-BB46-DCE4036B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ACE0-4D22-4372-BD8C-1BC302702F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40E7-5062-485E-9295-901742DA098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B3DC-8EC9-40D9-84E5-2C7BB1F6B4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622F-AD4C-462F-9DFF-A12FD12064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2162-76DC-4973-BD37-66061D4193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9CFB-E368-497E-A14C-AD45C342F6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8D1B-7C9B-478B-B370-D7BB6D95A1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C39B-FA0C-4985-B62D-A72F1C6C3E7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4" descr=""/>
          <p:cNvPicPr/>
          <p:nvPr/>
        </p:nvPicPr>
        <p:blipFill>
          <a:blip r:embed="rId1"/>
          <a:stretch/>
        </p:blipFill>
        <p:spPr>
          <a:xfrm>
            <a:off x="536400" y="298440"/>
            <a:ext cx="8120160" cy="7682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249120" y="1217520"/>
            <a:ext cx="864864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lassification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pherally acting (Neuromuscular blockers)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ntrally acting skeletal muscle relaxan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Baclofen - Diazepam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cting skeletal muscle relaxant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Dantrolen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250920" y="371520"/>
            <a:ext cx="8642160" cy="60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racuriu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potent as curare (1.5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rmediate duration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action (30 min)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ed by non enzymatic chemical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adation in plasma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spontaneous hydrolysis at body pH)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liver failure &amp; kidney failure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drug of choice)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erate histamine 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ransient hypotension), bronchospasm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histamine pretreatment may prevent these side effects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ffect on muscarinic receptor nor ganglia 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1"/>
          <p:cNvSpPr/>
          <p:nvPr/>
        </p:nvSpPr>
        <p:spPr>
          <a:xfrm>
            <a:off x="1071720" y="1214280"/>
            <a:ext cx="714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racuriam should be avoided in asthma patients b/c it causes bronchospasm  due to histamine rel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522360" y="542520"/>
            <a:ext cx="81532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ivacuriu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ly related to atracurium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 onset of action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by pseudo cholinesterases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ortest duration of action of all the nondepolarzing drugs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5 min)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er duration in patient with liver disease or genetic cholinesterase deficiency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ent hypotension (histamine release, similar to atracurium)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3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1"/>
          <p:cNvSpPr/>
          <p:nvPr/>
        </p:nvSpPr>
        <p:spPr>
          <a:xfrm>
            <a:off x="395280" y="1214280"/>
            <a:ext cx="828036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vacuriuam induced prolonged  muscle paralysis can be reversed by acetycholinesterase inhibitors such as endrophoniu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etycholinesterase inhibitors increase the Ach level in NMJ and displace Mivacuriam from nicotinic receptors in NMJ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689040" y="474840"/>
            <a:ext cx="8275680" cy="53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ncuronium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 than curare ( 6 times 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in liver and excretion is renal ( 80 % 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duration of action 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tabolic products have some  NM blocking activiti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hycard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772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 action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atropine like effects)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772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s muscarinic receptor in SA node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772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release from adrenergic nerve endings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772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void in patient with coronary disease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688680" y="474480"/>
            <a:ext cx="7769160" cy="54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curonium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tent than tubocurarine ( 6 times 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mainly by live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retion mainly in bil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diate duration of ac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few side effect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024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istamine release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024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ganglion block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3024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ntimuscarinic action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3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3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08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179280" y="115920"/>
          <a:ext cx="8785440" cy="6014880"/>
        </p:xfrm>
        <a:graphic>
          <a:graphicData uri="http://schemas.openxmlformats.org/drawingml/2006/table">
            <a:tbl>
              <a:tblPr/>
              <a:tblGrid>
                <a:gridCol w="1944720"/>
                <a:gridCol w="1568520"/>
                <a:gridCol w="2482920"/>
                <a:gridCol w="2789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2400" spc="-1" strike="noStrike">
                          <a:solidFill>
                            <a:srgbClr val="ff0000"/>
                          </a:solidFill>
                          <a:latin typeface="Monotype Corsiva"/>
                          <a:ea typeface="Times New Roman"/>
                        </a:rPr>
                        <a:t>Dru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ur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ide e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2400" spc="-1" strike="noStrike">
                          <a:solidFill>
                            <a:srgbClr val="ff0000"/>
                          </a:solidFill>
                          <a:latin typeface="Monotype Corsiva"/>
                          <a:ea typeface="Times New Roman"/>
                        </a:rPr>
                        <a:t>No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bocurar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-2 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otens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Renal failu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ncuron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-2 h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chycardi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Renal failu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racur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 mi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ient hypotens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istamine rele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ontaneous degrada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d in liver and kidney failu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n-C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curon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0 mi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w side effect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iver failur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vacur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 mi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milar to atracuriu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tabolized by pseudocholinester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holine esterase defici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cciny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li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 min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erkalemi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rhythmi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IOP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VS Diseas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Glaucom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#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Liver dise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5040" indent="-25560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</a:tr>
            </a:tbl>
          </a:graphicData>
        </a:graphic>
      </p:graphicFrame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493560" y="463680"/>
            <a:ext cx="8156880" cy="6094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26960" y="453960"/>
            <a:ext cx="8337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polarizing Neuromuscular Block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of Action 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hase I ( Depolarizing )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 and activates nicotinic receptors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polarization of motor  end plat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itial muscle twitching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se I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sistent depolarizatio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aralysis (Phase II  clinically resembeles non-depolarizing muscle relaxants 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500"/>
                                        <p:tgtEl>
                                          <p:spTgt spid="3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426960" y="388800"/>
            <a:ext cx="833760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42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ccinylcholine (suxamethonium)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harmacological Actions (due to depolarization of muscle)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542880" indent="-54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K. muscl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 fasciculatio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astic paralysi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2880" indent="-54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yperkalemia (due to sk muscle contraction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 Cardiac arrest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2880" indent="-54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y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aocular pressure (depolarization and contraction of extraocular muscle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2880" indent="-54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ragastric pressu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gurgitation of gastric content to esophagus. Difficulty in opening mouth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2880" indent="-5428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V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 arrhythmia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542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49120" y="390240"/>
            <a:ext cx="8648640" cy="61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Neuromuscular blockers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lassification: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Competitive (non depolarizing blockers)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Depolarizing blockers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Depolarizing muscle relaxants act as acetylcholine (ACh) receptor agonists, whereas nondepolarizing muscle relaxants function as competitive antagonists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533520" y="549360"/>
            <a:ext cx="815328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harmacokinetics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onset of action (1 min.)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duration of action (5-10 min.)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troyed by pseudocholinesterase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f life is prolonged in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onates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derly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cholinesterase deficiency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3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3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26960" y="414000"/>
            <a:ext cx="83376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ide Effects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kalemia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S arrhythmia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P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#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ucoma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produce malignant hyperthermia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cause succinylcholine apnea due to deficiency of pseudocholinesterase by: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 diseas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nutritio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ophosphorous poisoning 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etylcholinestera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hibiti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5" dur="5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3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2" dur="500"/>
                                        <p:tgtEl>
                                          <p:spTgt spid="3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3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3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3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9" descr="C:\Users\Admin\Desktop\nmj.gif"/>
          <p:cNvPicPr/>
          <p:nvPr/>
        </p:nvPicPr>
        <p:blipFill>
          <a:blip r:embed="rId1"/>
          <a:stretch/>
        </p:blipFill>
        <p:spPr>
          <a:xfrm>
            <a:off x="785880" y="1214280"/>
            <a:ext cx="8001000" cy="4967280"/>
          </a:xfrm>
          <a:prstGeom prst="rect">
            <a:avLst/>
          </a:prstGeom>
          <a:ln w="0">
            <a:noFill/>
          </a:ln>
        </p:spPr>
      </p:pic>
      <p:sp>
        <p:nvSpPr>
          <p:cNvPr id="400" name="TextBox 6"/>
          <p:cNvSpPr/>
          <p:nvPr/>
        </p:nvSpPr>
        <p:spPr>
          <a:xfrm>
            <a:off x="5143680" y="34290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uccinycho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8"/>
          <p:cNvSpPr/>
          <p:nvPr/>
        </p:nvSpPr>
        <p:spPr>
          <a:xfrm>
            <a:off x="285840" y="3500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tracur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9"/>
          <p:cNvSpPr/>
          <p:nvPr/>
        </p:nvSpPr>
        <p:spPr>
          <a:xfrm>
            <a:off x="642960" y="28584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sm of non-depolarizing and depolarizings muscle relax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63680" y="407880"/>
            <a:ext cx="8242200" cy="7257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80600" y="1557000"/>
            <a:ext cx="81802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bility to bind calcium by sarcoplasmic reticulum in  some patients  due to genetic  defect 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sitive to some drug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 anesthesia e.g. halotha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muscular blockers e.g. suxamethonium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 release, intense muscle spasm, severe rise in body temperatur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82400" y="493200"/>
            <a:ext cx="8180280" cy="560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asmolytics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reduce muscle spasm in spastic stat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clofen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ly acting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A agonist – acts on spinal cord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azepam (Benzodiazepines):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ally acting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 GABA action on CNS.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ntrolene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action on skeletal muscl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treatment of malignant hyperthermi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5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500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4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4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500"/>
                                        <p:tgtEl>
                                          <p:spTgt spid="4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4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4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4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4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4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4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496440" y="620640"/>
            <a:ext cx="815364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ses of spasmolytics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reduce muscle spasm in spastic states produced by 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nal cord injur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k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bral pals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250560" y="493200"/>
            <a:ext cx="8412120" cy="560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 algn="ctr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ntrolen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nterferes with the release of calcium from its stores in  skeletal muscle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sarcoplasmic reticulum)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nhibits excitation-contraction coupling in the muscle fibe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lcium is released from the sarcoplasmic reticulum via a calcium channel, called the 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ryanodine receptor (RyR) channel and dantrolene blocks the opening of these channel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ses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lignant Hyperthermia. And Spastic state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IV, orally 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5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250920" y="493200"/>
            <a:ext cx="8642160" cy="60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gs and diseases that modify NM blockers effect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glycosides (e.g streptomycin) enhances the effects of NM blocker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linesterase inhibitors may enhance the effect of depolarizing relaxants but  decrease the effect of  nondepolarzing relaxant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ease states such as </a:t>
            </a:r>
            <a:r>
              <a:rPr b="1" lang="en-US" sz="2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mysthania grav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parkinso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odify the response to muscle relaxants.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sium sulphate may antagonize the effect of  muscle relaxant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4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http://accessmedicine.com/loadBinary.aspx?name=morg&amp;filename=morg_c009f001.gif"/>
          <p:cNvPicPr/>
          <p:nvPr/>
        </p:nvPicPr>
        <p:blipFill>
          <a:blip r:embed="rId1"/>
          <a:stretch/>
        </p:blipFill>
        <p:spPr>
          <a:xfrm>
            <a:off x="611280" y="692280"/>
            <a:ext cx="8208720" cy="5400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536400" y="328680"/>
            <a:ext cx="8156880" cy="87156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80600" y="1700280"/>
            <a:ext cx="8180280" cy="41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Competitive (Nondepolarizing) NM blockers</a:t>
            </a:r>
            <a:r>
              <a:rPr b="1" lang="en-US" sz="2300" spc="-1" strike="noStrike">
                <a:solidFill>
                  <a:srgbClr val="da1f28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-tubocurarine (prototype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acuriu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vacuriu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curonium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curoniu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Depolarizing NM blockers</a:t>
            </a:r>
            <a:r>
              <a:rPr b="1" lang="en-US" sz="2400" spc="-1" strike="noStrike">
                <a:solidFill>
                  <a:srgbClr val="ffff00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inylcholin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3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480600" y="530280"/>
            <a:ext cx="8180280" cy="51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Uses of NMB blockers</a:t>
            </a: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convulsion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ectroshock therapy in psychotic patient 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eve of tetanus and epileptic convulsion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 endoscopy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djuvant in general anesthesia to induce muscle relaxation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590400" indent="-5904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hopedic surgery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493560" y="255600"/>
            <a:ext cx="8156880" cy="7747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423800"/>
            <a:ext cx="871380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chanism of Action 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competitive antagonists for Ach at the nicotinic receptors present in postjunctional membrane of motor end plate.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depolarization of  postjunctional membrane.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linesterase inhibitors can reverse blockade (Neostigmine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80600" y="558360"/>
            <a:ext cx="8412120" cy="55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kinetics </a:t>
            </a: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re polar compoun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e orally &amp; taken parenterally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cross placenta &amp; CNS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1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imination depend upon kidney or live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xcep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vacurium</a:t>
            </a:r>
            <a:r>
              <a:rPr b="1" lang="en-US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degraded by acetylcholinesterase enzyme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1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acurium  </a:t>
            </a:r>
            <a:r>
              <a:rPr b="1" i="1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spontaneous degradation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179280" y="244440"/>
            <a:ext cx="8785440" cy="57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armacological action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letal muscle relaxation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produce different effects on CV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release histamine and produce hypotension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0000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.Tubocurarine (not used clinically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0000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tracurium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0000"/>
              </a:buClr>
              <a:buSzPct val="7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ivacurium</a:t>
            </a:r>
            <a:r>
              <a:rPr b="1" lang="en-US" sz="30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 produce tachycardia (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.R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0000"/>
              </a:buClr>
              <a:buSzPct val="85000"/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ancuronium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82400" y="469440"/>
            <a:ext cx="8180280" cy="533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 – Tubocurarine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type skeletal muscle relaxant (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irst muscle relaxant used clinically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used now clinically due to adverse effects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amine releaser  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spasm 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ension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cks autonomic ganglia </a:t>
            </a:r>
            <a:r>
              <a:rPr b="1" i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Hypotension)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safer derivatives are now available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>
    <p:wedg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08:21:56Z</dcterms:created>
  <dc:creator>administrator</dc:creator>
  <dc:description/>
  <dc:language>en-US</dc:language>
  <cp:lastModifiedBy>Ishfaq</cp:lastModifiedBy>
  <dcterms:modified xsi:type="dcterms:W3CDTF">2012-12-08T07:33:10Z</dcterms:modified>
  <cp:revision>272</cp:revision>
  <dc:subject/>
  <dc:title>GENERAL PHARMACOLOGY</dc:title>
</cp:coreProperties>
</file>