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426-CFCD-4419-9F30-494D6A2F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2B5-230A-4AF4-86D7-1369933B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A2C-CB75-45E8-ADB2-A9644551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976-C886-470D-8E6B-68522E11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959-B9DF-496F-B3CA-F104D98B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D7C-C846-4050-BB7D-8051AF9B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AEDB-E180-4737-8790-78F075D9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A94-DBE9-431F-A13F-25ADA50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EB4-B2C9-4BA4-8AC2-20AB8314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22AF-0C13-4757-AD09-A6F652C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CB0-338C-446F-A4D2-ADFBBA3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3AC-91BA-4E74-981A-9F954A7B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C8E8-4ECA-4E0A-A3C3-BCF7E4F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7E35-6381-48AA-BD73-FD04201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562-2936-4E49-9DB0-71D9A434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A11-FC73-497A-B8E4-A4E7BA99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8D9-5585-4AB2-AF67-8A360B7E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BC7A-2C57-4BCC-A3B3-299CD33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23DC-81D6-439B-983B-F9BE060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04FF-FB68-467B-A2CE-2E2B4C1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1324-9B12-4801-9A43-1D97DD2E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665C-F2D0-48FF-B51C-18CD0BB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EBA-3F80-4EAF-A300-A16BFD1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D1C1-DAE1-4070-AB89-F7F44D3E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77FE-D162-4A1F-BF77-03D4709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C472-99C6-418F-B9EB-9798F53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EB3C-4922-476F-997F-9E5FCA5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D2DC-C85A-49E7-80E2-3F19443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27EC-EE79-4F43-8B7B-4DB9E2DC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0512-46FF-47CA-9D38-5D5CB897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D152-3D4C-47B9-B7AB-6D6FCB80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936F-E1DF-4CD6-B1EA-C71CCACF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3BCE-E7FF-4A1F-B40E-C1CD0CB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FDA-1CC7-43B6-8C20-C9C4835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FB09-1B72-491B-A6C6-DECA62E1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DC69-A0E7-4CBF-A1CB-EF6E618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3600-2975-4D9B-BB6D-BAEABBC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33F9-4D46-4B12-ACFF-CC31F61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3CA7-81D1-4F8F-B691-28691B0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76FA-AC53-45C7-A159-0FB0B9D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CBDF-1FF9-42A1-A6C4-BE88DFF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DB99-1E35-4DC0-8C4C-40DCF35B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5220-375D-4D25-947F-7BF4D971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CA65-4CC3-40B5-94FB-1AFF03E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4F9-C7D2-4E9F-BF78-7FC98E61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8244-FAB8-4C43-8701-6F3B4B2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0DBE-7B3F-4DFE-B88B-77A3900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D7AE-6082-43D4-8734-ADA81C09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242D-C78B-4A28-A43A-2E7D024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065A-7781-4B95-90CB-8F083A6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621A-E512-4E55-9573-459C2D6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2024-239B-4120-9C58-E8D5B79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B3CD-52F7-487A-9ABA-970ED78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82B5-9CBC-44BC-853D-0A97BA7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FAF6-A180-4176-81B1-40C8B2AC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364-970F-4DD1-95DD-10D07B6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8C41-42EB-4B7A-83F3-5067A6F2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5819-5E1F-47C9-B6F8-DBB9FB1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2A23-505E-492D-866A-37418D0B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F8E0-104E-4249-912F-4DE14FD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063E-F234-4124-B713-B9D11380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3477-95CB-4DC7-99AA-27A0E37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83B0-99F8-4E85-821A-99D0FE6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0C9B-B743-4E25-AC49-E5A0ECB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F980-1048-4B6F-9915-B0B73FE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0732-009D-4AA4-BCA9-F58AB1D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0F0-D1B0-43ED-B337-B80B5E6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E902-4133-48A2-904D-B4E9C7F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5AE6-DA7F-4318-87A7-8ED4E346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AE28F-9EA6-45DE-BF03-2E2B2B0A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090C-5309-4068-BF81-AC060229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149B-18C2-4E3B-85DC-F453A32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E413D-34B1-4C20-BAB8-C0E7E8C5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5F8E-6BFD-4127-9346-E3A498F5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D5BC7-B046-493C-95D2-9FD9D8C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BCDF5-26E4-48C6-8846-ACFE6E88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64CC-AC37-4463-B8E4-51A70F3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68A-91A6-4886-82DA-8AAE824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18796-B05C-466D-8A3D-39EC50E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9D9F6-DA46-404A-A20E-90EDDB8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B2BE-F4B8-4D05-AC65-6E5EA9E2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5E685-8CA7-46F0-8B5E-016419C4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782E-67DE-4DDD-92D5-A9662B16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1D13-78F3-4ED9-9F36-A276A47D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1953-8EBB-4D3A-8E73-BCB8AA07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1869-890F-4D99-9C9E-433F205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87847-E089-45D7-8915-80EEE2D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8CDAC-2C68-4FB0-86D6-87045C5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8E3-BACC-4F8A-A68F-D68346B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1D9A-15F9-436C-826B-983D0F5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B31A8-723E-4FEE-8D10-7AB49BE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F5F24-071B-4272-AAB9-FB5B140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220A-706A-4D2A-BBC8-4ED36AD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B7BDC-C043-4571-A508-1CF18D78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37E4-C476-4FF5-AA73-34CA5328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B5EA-8F74-4D6C-A573-0E514B1E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AC4-85AC-4F87-9E13-876D3864EC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1FB-C129-4098-AD72-F6FD2B4978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7E6-6072-4F74-AFE2-A2AF725242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E58-01D8-4317-A37D-0AFB9EF9FB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98FD-5E58-467D-8D52-D3A1280EF8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F65F-34C9-4510-86D7-173CF7F903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CFA-3B3C-4C83-8829-1B4FFE65C3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2115-C268-4931-B2AF-EAC1EC480A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4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8120160" cy="768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49120" y="1217520"/>
            <a:ext cx="86486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ly acting (Neuromuscular blocker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ally acting skeletal muscle relaxa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Baclofen - Diazep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cting skeletal muscle relaxa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antrole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250920" y="371520"/>
            <a:ext cx="864216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otent as curare (1.5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mediate duratio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tion (30 min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non enzymatic chemical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in plasm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pontaneous hydrolysis at body pH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liver failure &amp; kidney failu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rug of choice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ate histamine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ansient hypotension), bronchospasm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histamine pretreatment may prevent these side effect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ffect on muscarinic receptor nor ganglia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071720" y="1214280"/>
            <a:ext cx="71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racuriam should be avoided in asthma patients b/c it causes bronchospasm  due to histamine rel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522360" y="542520"/>
            <a:ext cx="8153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v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ly related to atracurium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 cholinesterase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est duration of action of all the nondepolarzing drug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 min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in patient with liver disease or genetic cholinesterase deficiency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hypotension (histamine release, similar to atracurium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395280" y="1214280"/>
            <a:ext cx="828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vacuriuam induced prolonged  muscle paralysis can be reversed by acetycholinesterase inhibitors such as endrophoni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tycholinesterase inhibitors increase the Ach level in NMJ and displace Mivacuriam from nicotinic receptors in NM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9040" y="474840"/>
            <a:ext cx="8275680" cy="53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curon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curare ( 6 time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in liver and excretion is renal ( 80 %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 products have some  NM blocking activit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action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tropine like effects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muscarinic receptor in SA nod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release from adrenergic nerve ending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oid in patient with coronary disea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8680" y="474480"/>
            <a:ext cx="776916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curoniu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tubocurarine ( 6 time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mainly by liv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mainly in bi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duration of a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few side effec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istamine releas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nglion block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muscarinic ac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79280" y="115920"/>
          <a:ext cx="8785440" cy="6014880"/>
        </p:xfrm>
        <a:graphic>
          <a:graphicData uri="http://schemas.openxmlformats.org/drawingml/2006/table">
            <a:tbl>
              <a:tblPr/>
              <a:tblGrid>
                <a:gridCol w="1944720"/>
                <a:gridCol w="1568520"/>
                <a:gridCol w="2482920"/>
                <a:gridCol w="278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cur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ent 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amine rel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degrad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in liver and kidney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w side eff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v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ilar to atracuriu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by pseudo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oline esterase defici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iny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erkale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hyth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O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VS Dise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lauc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93560" y="463680"/>
            <a:ext cx="8156880" cy="609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26960" y="453960"/>
            <a:ext cx="8337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polarizing Neuromuscular Bloc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se I ( Depolarizing )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and activates nicotinic receptors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olarization of motor  end plat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 muscle twitching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sistent depolariz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aralysis (Phase II  clinically resembeles non-depolarizing muscle relaxants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26960" y="388800"/>
            <a:ext cx="8337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4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ylcholine (suxamethoniu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Actions (due to depolarization of muscle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. musc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fascicu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stic paralysi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kalemia (due to sk muscle contractio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Cardiac arre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y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ocular pressure (depolarization and contraction of extraocular musc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gastric pressu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urgitation of gastric content to esophagus. Difficulty in opening mouth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V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arrhythmi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9120" y="390240"/>
            <a:ext cx="86486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uromuscular blockers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lassification: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Competitive (non depolarizing blockers)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Depolarizing blocker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epolarizing muscle relaxants act as acetylcholine (ACh) receptor agonists, whereas nondepolarizing muscle relaxants function as competitive antagonist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kinetic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onset of action (1 min.)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5-10 min.)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ed by pseudocholinesteras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life is prolonged in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cholinesterase deficiency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6960" y="414000"/>
            <a:ext cx="83376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arrhythmi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P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#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malignant hyperthermi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ause succinylcholine apnea due to deficiency of pseudocholinesterase by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nutri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phosphorous poisoning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lcholinester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ib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9" descr="C:\Users\Admin\Desktop\nmj.gif"/>
          <p:cNvPicPr/>
          <p:nvPr/>
        </p:nvPicPr>
        <p:blipFill>
          <a:blip r:embed="rId1"/>
          <a:stretch/>
        </p:blipFill>
        <p:spPr>
          <a:xfrm>
            <a:off x="785880" y="1214280"/>
            <a:ext cx="8001000" cy="49672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6"/>
          <p:cNvSpPr/>
          <p:nvPr/>
        </p:nvSpPr>
        <p:spPr>
          <a:xfrm>
            <a:off x="514368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ccinycho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285840" y="35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racu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642960" y="28584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non-depolarizing and depolarizings muscle relax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63680" y="407880"/>
            <a:ext cx="8242200" cy="725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80600" y="1557000"/>
            <a:ext cx="8180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bind calcium by sarcoplasmic reticulum in  some patients  due to genetic  defect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e to some drug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 anesthesia e.g. halotha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ers e.g. suxamethoniu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release, intense muscle spasm, severe rise in body tempera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82400" y="493200"/>
            <a:ext cx="81802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asmolytic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lofe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 agonist – acts on spinal cord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zepam (Benzodiazepines)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GABA action on CN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trolen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on on skeletal musc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eatment of malignant hypertherm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96440" y="620640"/>
            <a:ext cx="81536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 of spasmolytic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 produced by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cord inju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pals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50560" y="493200"/>
            <a:ext cx="841212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trolen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erferes with the release of calcium from its stores in  skeletal muscl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arcoplasmic reticulum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hibits excitation-contraction coupling in the muscle fib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lcium is released from the sarcoplasmic reticulum via a calcium channel, called the 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yanodine receptor (RyR) channel and dantrolene blocks the opening of these channel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hermia. And Spastic sta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V, orally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493200"/>
            <a:ext cx="864216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and diseases that modify NM blockers effe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(e.g streptomycin) enhances the effects of NM block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inhibitors may enhance the effect of depolarizing relaxants but  decrease the effect of  nondepolarzing relaxa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such as </a:t>
            </a:r>
            <a:r>
              <a:rPr b="1" lang="en-US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mysthania grav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parkins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ify the response to muscle relaxa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may antagonize the effect of  muscle relaxa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http://accessmedicine.com/loadBinary.aspx?name=morg&amp;filename=morg_c009f001.gif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156880" cy="8715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0600" y="1700280"/>
            <a:ext cx="818028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ompetitive (Nondepolarizing) NM blockers</a:t>
            </a: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tubocurarine (prototyp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uronium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uron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Depolarizing NM blockers</a:t>
            </a:r>
            <a:r>
              <a:rPr b="1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inylcho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80600" y="530280"/>
            <a:ext cx="81802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 of NMB blockers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convulsion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ctroshock therapy in psychotic patient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ve of tetanus and epileptic convul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endoscop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djuvant in general anesthesia to induce muscle relaxa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urgery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93560" y="255600"/>
            <a:ext cx="8156880" cy="774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423800"/>
            <a:ext cx="87138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mpetitive antagonists for Ach at the nicotinic receptors present in postjunctional membrane of motor end plate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polarization of  postjunctional membrane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inhibitors can reverse blockade (Neostigmin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80600" y="558360"/>
            <a:ext cx="841212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polar compoun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orally &amp; taken parenterall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placenta &amp; CN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on depend upon kidney or live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graded by acetylcholinesterase enzym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 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pontaneous degrada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9280" y="244440"/>
            <a:ext cx="878544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relaxa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different effects on CV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lease histamine and produce 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.Tubocurarine (not used clinically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tracurium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vacurium</a:t>
            </a:r>
            <a:r>
              <a:rPr b="1" lang="en-US" sz="3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produce tachycardia (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8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ancuronium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82400" y="469440"/>
            <a:ext cx="81802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– Tubocurari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skeletal muscle relaxant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 muscle relaxant used clinicall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now clinically due to adverse effect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releaser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autonomic ganglia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ypotension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afer derivatives are now availab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2-12-08T07:33:10Z</dcterms:modified>
  <cp:revision>272</cp:revision>
  <dc:subject/>
  <dc:title>GENERAL PHARMACOLOGY</dc:title>
</cp:coreProperties>
</file>