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2A5-7302-4942-B4D2-10C1A9B2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06C-49AD-4DF5-A10C-0ABD6141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46BE-0129-4EB7-BAC4-5F71BCA0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EABA-075F-4F55-9EDB-9D9DCB4C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F85-1212-42A0-AADE-2DF38280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9B6-0C6E-427F-8169-91E75679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3630-A488-4830-85E8-1EDEA2EB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8019-F541-42CF-ACFE-EBF781DF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002-65E2-4BB9-BD81-93E412AE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C760-807F-47F6-BDEB-F32D3C01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EBAB-3145-4396-B0D7-C647C679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793A-95F3-49DE-94DD-7103C15D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3321-F54D-4F48-A338-0221B519B6C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F0BBF-E280-407C-AD55-2C66DDBF9E90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404640"/>
            <a:ext cx="7818480" cy="235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d0d0d"/>
                </a:solidFill>
                <a:latin typeface="Lucida Calligraphy"/>
              </a:rPr>
              <a:t>Physiology of Bone</a:t>
            </a: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3284280"/>
            <a:ext cx="6369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Dr Taha Sadig Ahmed</a:t>
            </a:r>
            <a:r>
              <a:rPr b="0" lang="en-US" sz="32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Physiology Depar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College of Medicine , King Saud University</a:t>
            </a:r>
            <a:r>
              <a:rPr b="0" lang="en-US" sz="2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Bone Re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is refers to the continuous processes of bone absorption ( by osteoclasts) &amp; then its deposition ( by osteoblasts 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is results in a 10% turnover of the adult bone mass per ye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Endocrine signals to resting osteoblasts generate paracrine signals to osteocla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Osteoclasts digest and resorb and area of mineralized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en local macrophages clean up debr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en  osteoblasts  are recruited to site and deposit new matrix which will be  mineraliz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New bone replaces previously resorbed bo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Bone remodling affected by;-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1-mechanical stress on bone stimulates formation of stronger bone</a:t>
            </a:r>
            <a:br>
              <a:rPr sz="2400"/>
            </a:b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2- PTH and 1,25 Dihydroxycholecalciferol( active Vit D)  stimulate activity &amp; formation of osteoclasts</a:t>
            </a:r>
            <a:br>
              <a:rPr sz="2400"/>
            </a:b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3- Calcitonin inhibits activity of osteocl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  <a:ea typeface="Times New Roman"/>
              </a:rPr>
              <a:t>Osteopor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549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Men have more total bone mass than women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During childhood, bone formation exc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resorption, and the total bone mass peaks at 25-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years of age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Therefter , because of falling levels of the anabo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steroids ( oestrogen &amp; progesterone , which stimu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osteoblasts ) , we get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</a:rPr>
              <a:t>osteoporosis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, which me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reduced bone density and m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This leads to increased susceptibility to fractu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Osteoporosis occurs earlier in life for women th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men ( especially women around menopause ) . B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eventually both genders succumb to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Date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B2FB-8054-4984-A6A1-AD886E03396A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6B05-651B-43CA-80B0-59C40E52F5B1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90792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31240" cy="59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rtl="1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t the end of this lecture the student should be able to:-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Define bone &amp; differentiate between types of bone    (cortical &amp; trabecula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State Ca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++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centration and its forms in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the ECF ; its relation to PO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Differentiate between the types of bon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cells &amp; appreciate their functions 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Describe bone formation &amp; remodeling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Understand what is osteoporosis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 Appreciate the effects of different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hormones on b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ED6B-1726-4FF6-AF91-80E86F0EB50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50B1-F8F5-4AFD-8F49-331E6BB1807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836280"/>
            <a:ext cx="8462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Functions of bon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ne is a living, growing tissue which has several functions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tects vital org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vides support for soft t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Allows &amp; facilitates mov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ains bone marr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Reservoir for Calcium &amp; Phosph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D87F-870D-48C3-B5C2-625A00E0B02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E081-83FB-4AD9-8E31-A4A792EEB98B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Users\USER\Desktop\New Picture.png"/>
          <p:cNvPicPr/>
          <p:nvPr/>
        </p:nvPicPr>
        <p:blipFill>
          <a:blip r:embed="rId1"/>
          <a:stretch/>
        </p:blipFill>
        <p:spPr>
          <a:xfrm>
            <a:off x="1908000" y="2174760"/>
            <a:ext cx="4932360" cy="4683240"/>
          </a:xfrm>
          <a:prstGeom prst="rect">
            <a:avLst/>
          </a:prstGeom>
          <a:ln w="0">
            <a:noFill/>
          </a:ln>
        </p:spPr>
      </p:pic>
      <p:sp>
        <p:nvSpPr>
          <p:cNvPr id="50" name="TextBox 7"/>
          <p:cNvSpPr/>
          <p:nvPr/>
        </p:nvSpPr>
        <p:spPr>
          <a:xfrm>
            <a:off x="0" y="530064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7236000" y="4005360"/>
            <a:ext cx="19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becular b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9"/>
          <p:cNvCxnSpPr/>
          <p:nvPr/>
        </p:nvCxnSpPr>
        <p:spPr>
          <a:xfrm flipV="1">
            <a:off x="1476000" y="5660640"/>
            <a:ext cx="2304360" cy="144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11"/>
          <p:cNvCxnSpPr/>
          <p:nvPr/>
        </p:nvCxnSpPr>
        <p:spPr>
          <a:xfrm flipH="1" flipV="1">
            <a:off x="5363280" y="3933000"/>
            <a:ext cx="1801080" cy="35964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4" name="Rectangle 3"/>
          <p:cNvSpPr/>
          <p:nvPr/>
        </p:nvSpPr>
        <p:spPr>
          <a:xfrm>
            <a:off x="0" y="0"/>
            <a:ext cx="9144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</a:rPr>
              <a:t>Structure of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(1) Organic matrix made of collagen , called osteoid , makes 30% of bone  , on which is laid the</a:t>
            </a:r>
            <a:r>
              <a:rPr b="0" lang="en-US" sz="18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(2) Inorganic ( mineral ) bone component </a:t>
            </a:r>
            <a:r>
              <a:rPr b="0" lang="en-US" sz="18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 called hydroxyapatite ,  made of CaP0</a:t>
            </a:r>
            <a:r>
              <a:rPr b="0" lang="en-US" sz="1800" spc="-1" strike="noStrike" baseline="-25000">
                <a:solidFill>
                  <a:srgbClr val="0d0d0d"/>
                </a:solidFill>
                <a:latin typeface="Comic Sans MS"/>
              </a:rPr>
              <a:t>4 </a:t>
            </a:r>
            <a:r>
              <a:rPr b="0" lang="en-US" sz="1800" spc="-1" strike="noStrike">
                <a:solidFill>
                  <a:srgbClr val="0d0d0d"/>
                </a:solidFill>
                <a:latin typeface="Comic Sans MS"/>
              </a:rPr>
              <a:t>crystals , that constitutes the remaining 70% of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832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 u="sng">
                <a:solidFill>
                  <a:srgbClr val="1e1c11"/>
                </a:solidFill>
                <a:uFillTx/>
                <a:latin typeface="Calibri"/>
              </a:rPr>
              <a:t>Bone is 2 types :</a:t>
            </a:r>
            <a:br>
              <a:rPr sz="2400"/>
            </a:br>
            <a:r>
              <a:rPr b="1" lang="en-US" sz="2400" spc="-1" strike="noStrike" u="sng">
                <a:solidFill>
                  <a:srgbClr val="1e1c11"/>
                </a:solidFill>
                <a:uFillTx/>
                <a:latin typeface="Calibri"/>
              </a:rPr>
              <a:t>(1) Cortical  ( Compact ) Bone</a:t>
            </a:r>
            <a:r>
              <a:rPr b="1" lang="en-US" sz="2400" spc="-1" strike="noStrike" u="sng">
                <a:solidFill>
                  <a:srgbClr val="1e1c11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1e1c11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-360" y="1052280"/>
            <a:ext cx="3708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Also called compact b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Forms a protective outer shell of bone 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Comprises 80 % of total body bone mas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Has a slow turnover rat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Has high resistance to bending and tor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55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d0d0d"/>
                </a:solidFill>
                <a:latin typeface="Comic Sans MS"/>
              </a:rPr>
              <a:t>It is composesd of overlapping circular structures (formations)  called Harvesian Systems or Osteons </a:t>
            </a:r>
            <a:r>
              <a:rPr b="0" lang="en-US" sz="2000" spc="-1" strike="noStrike">
                <a:solidFill>
                  <a:srgbClr val="0d0d0d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Users\USER\Desktop\New Picture.png"/>
          <p:cNvPicPr/>
          <p:nvPr/>
        </p:nvPicPr>
        <p:blipFill>
          <a:blip r:embed="rId1"/>
          <a:stretch/>
        </p:blipFill>
        <p:spPr>
          <a:xfrm>
            <a:off x="3763800" y="0"/>
            <a:ext cx="5380200" cy="451944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611280" y="4844880"/>
            <a:ext cx="8137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Each osteon has a central canal called Osteonic Canal or Haversain Ca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e Osteonic Canal contain blood vessels ( capillaries, arterioles, venules ),  nerves and lympha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Between Harvesian systems are concentric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yers of mineralized bone called 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interstitial lamella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10"/>
          <p:cNvCxnSpPr/>
          <p:nvPr/>
        </p:nvCxnSpPr>
        <p:spPr>
          <a:xfrm flipH="1" flipV="1">
            <a:off x="6372000" y="764280"/>
            <a:ext cx="792720" cy="3817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d0d0d"/>
                </a:solidFill>
                <a:uFillTx/>
                <a:latin typeface="Calibri"/>
              </a:rPr>
              <a:t>(</a:t>
            </a:r>
            <a:r>
              <a:rPr b="0" lang="en-US" sz="2900" spc="-1" strike="noStrike" u="sng">
                <a:solidFill>
                  <a:srgbClr val="0d0d0d"/>
                </a:solidFill>
                <a:uFillTx/>
                <a:latin typeface="Calibri"/>
              </a:rPr>
              <a:t>B</a:t>
            </a:r>
            <a:r>
              <a:rPr b="0" lang="en-US" sz="2900" spc="-1" strike="noStrike" u="sng">
                <a:solidFill>
                  <a:srgbClr val="0d0d0d"/>
                </a:solidFill>
                <a:uFillTx/>
                <a:latin typeface="Calibri"/>
              </a:rPr>
              <a:t>) </a:t>
            </a:r>
            <a:r>
              <a:rPr b="0" lang="en-US" sz="2900" spc="-1" strike="noStrike" u="sng">
                <a:solidFill>
                  <a:srgbClr val="0d0d0d"/>
                </a:solidFill>
                <a:uFillTx/>
                <a:latin typeface="Calibri"/>
              </a:rPr>
              <a:t>Trabecular Bone</a:t>
            </a:r>
            <a:r>
              <a:rPr b="0" lang="en-US" sz="3400" spc="-1" strike="noStrike" u="sng">
                <a:solidFill>
                  <a:srgbClr val="0d0d0d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360" y="475920"/>
            <a:ext cx="6443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Comprises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20%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 of total bone mas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Present in the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interior 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of bones &amp; has spongy appearancfe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ough it represents only 20% of the skeletal mass, it has 5 times greater surface area than cortical b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Because of its large surfac, it has faster turnover rate than cortical bone ; hence it is more important than cortical bone in terms o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cium turnov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ared to cortical bone , it i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1) less dens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2) more elastic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3) has a higher turnover rate than compact bon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enter of the bone contains red, yellow marrow, bone cells and other tissue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USER\Desktop\New Picture - Copy.png"/>
          <p:cNvPicPr/>
          <p:nvPr/>
        </p:nvPicPr>
        <p:blipFill>
          <a:blip r:embed="rId1"/>
          <a:stretch/>
        </p:blipFill>
        <p:spPr>
          <a:xfrm>
            <a:off x="6489720" y="0"/>
            <a:ext cx="2654280" cy="6670800"/>
          </a:xfrm>
          <a:prstGeom prst="rect">
            <a:avLst/>
          </a:prstGeom>
          <a:ln w="0">
            <a:noFill/>
          </a:ln>
        </p:spPr>
      </p:pic>
      <p:cxnSp>
        <p:nvCxnSpPr>
          <p:cNvPr id="63" name="Straight Arrow Connector 7"/>
          <p:cNvCxnSpPr/>
          <p:nvPr/>
        </p:nvCxnSpPr>
        <p:spPr>
          <a:xfrm flipV="1">
            <a:off x="3563640" y="1196640"/>
            <a:ext cx="4033080" cy="144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Arial"/>
                <a:ea typeface="Times New Roman"/>
              </a:rPr>
              <a:t>Extracellular Fluid ( ECF) Calc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785520"/>
            <a:ext cx="89298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Ca</a:t>
            </a:r>
            <a:r>
              <a:rPr b="0" lang="en-US" sz="2800" spc="-1" strike="noStrike" baseline="30000">
                <a:solidFill>
                  <a:srgbClr val="0d0d0d"/>
                </a:solidFill>
                <a:latin typeface="Comic Sans MS"/>
                <a:ea typeface="Times New Roman"/>
              </a:rPr>
              <a:t>++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 level in plasma is 8.5-10 mg/dL 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It exists in 3 fractions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(1) Ionized calcium </a:t>
            </a:r>
            <a:r>
              <a:rPr b="0" lang="en-US" sz="28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</a:rPr>
              <a:t>50% 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of total ECF calci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(2) Protein-bound calcium </a:t>
            </a:r>
            <a:r>
              <a:rPr b="0" lang="en-US" sz="28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</a:rPr>
              <a:t>40% 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of total ECF calciu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Most of this is bound to albumi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And much less is bound to globul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(3) The remaining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</a:rPr>
              <a:t>10%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</a:rPr>
              <a:t> of plasma calcium bound to citrate &amp; phosph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Only the free, </a:t>
            </a:r>
            <a:r>
              <a:rPr b="0" lang="en-US" sz="2800" spc="-1" strike="noStrike" u="sng">
                <a:solidFill>
                  <a:srgbClr val="0d0d0d"/>
                </a:solidFill>
                <a:uFillTx/>
                <a:latin typeface="Comic Sans MS"/>
                <a:ea typeface="Times New Roman"/>
              </a:rPr>
              <a:t>ionized Ca</a:t>
            </a:r>
            <a:r>
              <a:rPr b="0" lang="en-US" sz="2800" spc="-1" strike="noStrike" u="sng" baseline="30000">
                <a:solidFill>
                  <a:srgbClr val="0d0d0d"/>
                </a:solidFill>
                <a:uFillTx/>
                <a:latin typeface="Comic Sans MS"/>
                <a:ea typeface="Times New Roman"/>
              </a:rPr>
              <a:t>2</a:t>
            </a:r>
            <a:r>
              <a:rPr b="0" lang="en-US" sz="2800" spc="-1" strike="noStrike" baseline="30000">
                <a:solidFill>
                  <a:srgbClr val="0d0d0d"/>
                </a:solidFill>
                <a:latin typeface="Comic Sans MS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 { ( 1) above }  is biologically activ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395280" y="0"/>
            <a:ext cx="8748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Comic Sans MS"/>
              </a:rPr>
              <a:t>Binding of calcium to albumin is pH-dependent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Comic Sans MS"/>
              </a:rPr>
              <a:t>Alkalosis increases calcium binding to protein </a:t>
            </a:r>
            <a:r>
              <a:rPr b="0" lang="en-US" sz="26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d0d0d"/>
                </a:solidFill>
                <a:latin typeface="Comic Sans MS"/>
              </a:rPr>
              <a:t> thereby decreases ionized calcium lev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Calcium is tightly regulated with Phosphorous in the body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PO</a:t>
            </a:r>
            <a:r>
              <a:rPr b="0" lang="en-US" sz="2600" spc="-1" strike="noStrike" baseline="-30000">
                <a:solidFill>
                  <a:srgbClr val="0d0d0d"/>
                </a:solidFill>
                <a:latin typeface="Comic Sans MS"/>
                <a:ea typeface="Times New Roman"/>
              </a:rPr>
              <a:t>4</a:t>
            </a:r>
            <a:r>
              <a:rPr b="0" lang="en-US" sz="26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  plasma concentration is 3.0-4.5 mg/d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4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d0d0d"/>
                </a:solidFill>
                <a:uFillTx/>
                <a:latin typeface="Comic Sans MS"/>
                <a:ea typeface="Times New Roman"/>
              </a:rPr>
              <a:t>Bone Cel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ere are 3 types of bone cells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1) Osteoblast :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one-forming cell 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retes osteoid ( bone matrix , mainly collagen ) on which Ca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mic Sans MS"/>
              </a:rPr>
              <a:t>++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</a:t>
            </a:r>
            <a:r>
              <a:rPr b="0" lang="en-US" sz="2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are precipitated .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imulated by anabolic steroid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2) Osteoclast :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one-resorbing ( removing ) cell,stimulated by PTH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mic Sans MS"/>
              </a:rPr>
              <a:t>(3) Osteocyte :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ransfers of calcium from canaliculi to the ECF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400" y="0"/>
            <a:ext cx="87152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d0d0d"/>
                </a:solidFill>
                <a:uFillTx/>
                <a:latin typeface="Comic Sans MS"/>
                <a:ea typeface="Times New Roman"/>
              </a:rPr>
              <a:t>Bone Formation &amp; Mineralization</a:t>
            </a:r>
            <a:r>
              <a:rPr b="1" lang="en-US" sz="2800" spc="-1" strike="noStrike">
                <a:solidFill>
                  <a:srgbClr val="0d0d0d"/>
                </a:solidFill>
                <a:latin typeface="Comic Sans MS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6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First osteoblasts synthesize bone matrix ( osteoid , mainly collagen ) </a:t>
            </a:r>
            <a:r>
              <a:rPr b="0" lang="en-US" sz="24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6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which will then be mineralized by deposition of Calcium Phosphate on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is mineralization is dependent on Vitamin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Alkaline phosphatase and osteocalcin play roles in bone 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eir plasma levels are indicators of osteoblast activ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  <a:ea typeface="Times New Roman"/>
              </a:rPr>
              <a:t>Bone Resorption (Osteolysis 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Involves BOTH </a:t>
            </a:r>
            <a:r>
              <a:rPr b="0" lang="en-US" sz="24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(1) calcium exraction ( demineralization ) , &amp; then </a:t>
            </a:r>
            <a:r>
              <a:rPr b="0" lang="en-US" sz="24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(2) removal of the osteoid matrix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Cells responsible for resorption are osteocla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Bone resorptopn is stimulated by parathyroid hormonne (PTH) , which stimulates osteoclasts </a:t>
            </a:r>
            <a:r>
              <a:rPr b="0" lang="en-US" sz="24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 leads to release of calcium from bone into the EC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8:24:00Z</dcterms:created>
  <dc:creator>Dr. Ahmad</dc:creator>
  <dc:description/>
  <dc:language>en-US</dc:language>
  <cp:lastModifiedBy>USER</cp:lastModifiedBy>
  <dcterms:modified xsi:type="dcterms:W3CDTF">2012-07-30T09:05:33Z</dcterms:modified>
  <cp:revision>351</cp:revision>
  <dc:subject/>
  <dc:title>Slide 1</dc:title>
</cp:coreProperties>
</file>