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FD6-1B9F-4260-AE18-757B06D6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250-5C23-4EA6-AAFF-E7BC82E8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EB9-546C-4AF9-A7EA-0FADAD8D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EF7-1F99-4071-BE67-E7331FA2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371-715A-4DAE-80EE-EBADACC7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C07-F7A4-4558-81C0-48039B0E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8D7-E6C8-4CA6-A3E7-7B9F80F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A2E-49BA-4E83-893A-966F7249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C1C-868B-4BEF-8092-4B7DA314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A1D-4B83-4002-B788-B9802364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5FD-A96D-4346-8DC6-4E19BB4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22E-B82D-44BD-8B28-32BD0224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1C2A-EA71-438E-92B1-D37B3698181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5B65-EC8F-4A37-BCCB-40314DB9945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04640"/>
            <a:ext cx="7818480" cy="235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d0d0d"/>
                </a:solidFill>
                <a:latin typeface="Lucida Calligraphy"/>
              </a:rPr>
              <a:t>Physiology of Bone</a:t>
            </a: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284280"/>
            <a:ext cx="6369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Dr Taha Sadig Ahmed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Physiology De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College of Medicine , King Saud University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Bone R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is refers to the continuous processes of bone absorption ( by osteoclasts) &amp; then its deposition ( by osteoblasts 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is results in a 10% turnover of the adult bone mass per ye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Endocrine signals to resting osteoblasts generate paracrine signals to osteocla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Osteoclasts digest and resorb and area of mineralized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n local macrophages clean up debr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n  osteoblasts  are recruited to site and deposit new matrix which will be  minera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New bone replaces previously resorbed b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Bone remodling affected by;-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1-mechanical stress on bone stimulates formation of stronger bone</a:t>
            </a:r>
            <a:br>
              <a:rPr sz="2400"/>
            </a:b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2- PTH and 1,25 Dihydroxycholecalciferol( active Vit D)  stimulate activity &amp; formation of osteoclasts</a:t>
            </a:r>
            <a:br>
              <a:rPr sz="2400"/>
            </a:b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3- Calcitonin inhibits activity of osteocl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  <a:ea typeface="Times New Roman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549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Men have more total bone mass than women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During childhood, bone formation exc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resorption, and the total bone mass peaks at 25-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years of age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Therefter , because of falling levels of the anabo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steroids ( oestrogen &amp; progesterone , which stimu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osteoblasts ) , we get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osteoporosis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, which m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reduced bone density and 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This leads to increased susceptibility to fract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Osteoporosis occurs earlier in life for women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men ( especially women around menopause ) . B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eventually both genders succumb t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510-6ED1-4AB6-AE10-286BFD9BEF7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F69E-E75F-4759-A717-4B0D3FE512C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31240" cy="59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the end of this lecture the student should be able to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Define bone &amp; differentiate between types of bone    (cortical &amp; trabecula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State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++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ion and its forms i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the ECF ; its relation to P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Differentiate between the types of bon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cells &amp; appreciate their functions 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Describe bone formation &amp; remodel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Understand what is osteoporosi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Appreciate the effects of differen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hormones on b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2CB0-7738-403C-BD9E-89DA6397192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C55B-BF4F-448C-BAF6-D0D1C9F55A0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462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Functions of b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ne is a living, growing tissue which has several function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s vital org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support for soft t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Allows &amp; facilitates mov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ins bone marr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Reservoir for Calcium &amp; Phosph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1102-0B26-40F4-BE56-3144359C3C5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2D4-D93B-4D37-8F65-98A01839F07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USER\Desktop\New Picture.png"/>
          <p:cNvPicPr/>
          <p:nvPr/>
        </p:nvPicPr>
        <p:blipFill>
          <a:blip r:embed="rId1"/>
          <a:stretch/>
        </p:blipFill>
        <p:spPr>
          <a:xfrm>
            <a:off x="1908000" y="2174760"/>
            <a:ext cx="4932360" cy="468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0" y="530064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236000" y="400536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ecular 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9"/>
          <p:cNvCxnSpPr/>
          <p:nvPr/>
        </p:nvCxnSpPr>
        <p:spPr>
          <a:xfrm flipV="1">
            <a:off x="1476000" y="5660640"/>
            <a:ext cx="2304360" cy="144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1"/>
          <p:cNvCxnSpPr/>
          <p:nvPr/>
        </p:nvCxnSpPr>
        <p:spPr>
          <a:xfrm flipH="1" flipV="1">
            <a:off x="5363280" y="3933000"/>
            <a:ext cx="1801080" cy="3596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4" name="Rectangle 3"/>
          <p:cNvSpPr/>
          <p:nvPr/>
        </p:nvSpPr>
        <p:spPr>
          <a:xfrm>
            <a:off x="0" y="0"/>
            <a:ext cx="9144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Structure of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(1) Organic matrix made of collagen , called osteoid , makes 30% of bone  , on which is laid the</a:t>
            </a:r>
            <a:r>
              <a:rPr b="0" lang="en-US" sz="18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(2) Inorganic ( mineral ) bone component </a:t>
            </a:r>
            <a:r>
              <a:rPr b="0" lang="en-US" sz="18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 called hydroxyapatite ,  made of CaP0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4 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crystals , that constitutes the remaining 70% of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 u="sng">
                <a:solidFill>
                  <a:srgbClr val="1e1c11"/>
                </a:solidFill>
                <a:uFillTx/>
                <a:latin typeface="Calibri"/>
              </a:rPr>
              <a:t>Bone is 2 types :</a:t>
            </a:r>
            <a:br>
              <a:rPr sz="2400"/>
            </a:br>
            <a:r>
              <a:rPr b="1" lang="en-US" sz="2400" spc="-1" strike="noStrike" u="sng">
                <a:solidFill>
                  <a:srgbClr val="1e1c11"/>
                </a:solidFill>
                <a:uFillTx/>
                <a:latin typeface="Calibri"/>
              </a:rPr>
              <a:t>(1) Cortical  ( Compact ) Bone</a:t>
            </a:r>
            <a:r>
              <a:rPr b="1" lang="en-US" sz="2400" spc="-1" strike="noStrike" u="sng">
                <a:solidFill>
                  <a:srgbClr val="1e1c11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360" y="1052280"/>
            <a:ext cx="3708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Also called compact b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Forms a protective outer shell of bone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Comprises 80 % of total body bone mas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Has a slow turnover ra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Has high resistance to bending and to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It is composesd of overlapping circular structures (formations)  called Harvesian Systems or Osteons 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New Picture.png"/>
          <p:cNvPicPr/>
          <p:nvPr/>
        </p:nvPicPr>
        <p:blipFill>
          <a:blip r:embed="rId1"/>
          <a:stretch/>
        </p:blipFill>
        <p:spPr>
          <a:xfrm>
            <a:off x="3763800" y="0"/>
            <a:ext cx="5380200" cy="4519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611280" y="4844880"/>
            <a:ext cx="8137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Each osteon has a central canal called Osteonic Canal or Haversain Ca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 Osteonic Canal contain blood vessels ( capillaries, arterioles, venules ),  nerves and lympha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Between Harvesian systems are concentr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s of mineralized bone called 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interstitial lamell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0"/>
          <p:cNvCxnSpPr/>
          <p:nvPr/>
        </p:nvCxnSpPr>
        <p:spPr>
          <a:xfrm flipH="1" flipV="1">
            <a:off x="6372000" y="764280"/>
            <a:ext cx="792720" cy="381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d0d0d"/>
                </a:solidFill>
                <a:uFillTx/>
                <a:latin typeface="Calibri"/>
              </a:rPr>
              <a:t>(</a:t>
            </a:r>
            <a:r>
              <a:rPr b="0" lang="en-US" sz="2900" spc="-1" strike="noStrike" u="sng">
                <a:solidFill>
                  <a:srgbClr val="0d0d0d"/>
                </a:solidFill>
                <a:uFillTx/>
                <a:latin typeface="Calibri"/>
              </a:rPr>
              <a:t>B</a:t>
            </a:r>
            <a:r>
              <a:rPr b="0" lang="en-US" sz="2900" spc="-1" strike="noStrike" u="sng">
                <a:solidFill>
                  <a:srgbClr val="0d0d0d"/>
                </a:solidFill>
                <a:uFillTx/>
                <a:latin typeface="Calibri"/>
              </a:rPr>
              <a:t>) </a:t>
            </a:r>
            <a:r>
              <a:rPr b="0" lang="en-US" sz="2900" spc="-1" strike="noStrike" u="sng">
                <a:solidFill>
                  <a:srgbClr val="0d0d0d"/>
                </a:solidFill>
                <a:uFillTx/>
                <a:latin typeface="Calibri"/>
              </a:rPr>
              <a:t>Trabecular Bone</a:t>
            </a:r>
            <a:r>
              <a:rPr b="0" lang="en-US" sz="3400" spc="-1" strike="noStrike" u="sng">
                <a:solidFill>
                  <a:srgbClr val="0d0d0d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475920"/>
            <a:ext cx="6443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Comprises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20%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of total bone ma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Present in the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interior 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of bones &amp; has spongy appearancf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ough it represents only 20% of the skeletal mass, it has 5 times greater surface area than cortical b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Because of its large surfac, it has faster turnover rate than cortical bone ; hence it is more important than cortical bone in terms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ium turnov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ed to cortical bone , it 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) less den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more elastic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) has a higher turnover rate than compact bon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nter of the bone contains red, yellow marrow, bone cells and other tissu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USER\Desktop\New Picture - Copy.png"/>
          <p:cNvPicPr/>
          <p:nvPr/>
        </p:nvPicPr>
        <p:blipFill>
          <a:blip r:embed="rId1"/>
          <a:stretch/>
        </p:blipFill>
        <p:spPr>
          <a:xfrm>
            <a:off x="6489720" y="0"/>
            <a:ext cx="2654280" cy="66708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7"/>
          <p:cNvCxnSpPr/>
          <p:nvPr/>
        </p:nvCxnSpPr>
        <p:spPr>
          <a:xfrm flipV="1">
            <a:off x="3563640" y="1196640"/>
            <a:ext cx="4033080" cy="144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Extracellular Fluid ( ECF) 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78552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Ca</a:t>
            </a:r>
            <a:r>
              <a:rPr b="0" lang="en-US" sz="2800" spc="-1" strike="noStrike" baseline="30000">
                <a:solidFill>
                  <a:srgbClr val="0d0d0d"/>
                </a:solidFill>
                <a:latin typeface="Comic Sans MS"/>
                <a:ea typeface="Times New Roman"/>
              </a:rPr>
              <a:t>++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 level in plasma is 8.5-10 mg/dL 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It exists in 3 fraction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(1) Ionized calcium </a:t>
            </a:r>
            <a:r>
              <a:rPr b="0" lang="en-US" sz="28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50% 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of total ECF calci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(2) Protein-bound calcium </a:t>
            </a:r>
            <a:r>
              <a:rPr b="0" lang="en-US" sz="28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40% 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of total ECF calci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Most of this is bound to albumi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And much less is bound to globul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(3) The remaining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10%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of plasma calcium bound to citrate &amp; phosph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Only the free,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ionized Ca</a:t>
            </a:r>
            <a:r>
              <a:rPr b="0" lang="en-US" sz="2800" spc="-1" strike="noStrike" u="sng" baseline="30000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0d0d0d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 { ( 1) above }  is biologically acti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Comic Sans MS"/>
              </a:rPr>
              <a:t>Binding of calcium to albumin is pH-dependent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Comic Sans MS"/>
              </a:rPr>
              <a:t>Alkalosis increases calcium binding to protein </a:t>
            </a:r>
            <a:r>
              <a:rPr b="0" lang="en-US" sz="26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d0d0d"/>
                </a:solidFill>
                <a:latin typeface="Comic Sans MS"/>
              </a:rPr>
              <a:t> thereby decreases ionized calcium lev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Calcium is tightly regulated with Phosphorous in the body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PO</a:t>
            </a:r>
            <a:r>
              <a:rPr b="0" lang="en-US" sz="2600" spc="-1" strike="noStrike" baseline="-30000">
                <a:solidFill>
                  <a:srgbClr val="0d0d0d"/>
                </a:solidFill>
                <a:latin typeface="Comic Sans MS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  plasma concentration is 3.0-4.5 mg/d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Bone Cel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3 types of bone cell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1) Osteoblast :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one-forming cell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retes osteoid ( bone matrix , mainly collagen ) on which C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++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re precipitated 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imulated by anabolic steroid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2) Osteoclast :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one-resorbing ( removing ) cell,stimulated by PT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3) Osteocyte :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ransfers of calcium from canaliculi to the ECF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Bone Formation &amp; Mineralization</a:t>
            </a:r>
            <a:r>
              <a:rPr b="1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First osteoblasts synthesize bone matrix ( osteoid , mainly collagen ) </a:t>
            </a:r>
            <a:r>
              <a:rPr b="0" lang="en-US" sz="24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which will then be mineralized by deposition of Calcium Phosphate on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is mineralization is dependent on Vitamin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Alkaline phosphatase and osteocalcin play roles in bone 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ir plasma levels are indicators of osteoblast acti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Bone Resorption (Osteolysis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Involves BOTH </a:t>
            </a:r>
            <a:r>
              <a:rPr b="0" lang="en-US" sz="24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(1) calcium exraction ( demineralization ) , &amp; then </a:t>
            </a:r>
            <a:r>
              <a:rPr b="0" lang="en-US" sz="24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(2) removal of the osteoid matri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Cells responsible for resorption are osteocl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Bone resorptopn is stimulated by parathyroid hormonne (PTH) , which stimulates osteoclasts </a:t>
            </a:r>
            <a:r>
              <a:rPr b="0" lang="en-US" sz="24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leads to release of calcium from bone into the EC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24:00Z</dcterms:created>
  <dc:creator>Dr. Ahmad</dc:creator>
  <dc:description/>
  <dc:language>en-US</dc:language>
  <cp:lastModifiedBy>USER</cp:lastModifiedBy>
  <dcterms:modified xsi:type="dcterms:W3CDTF">2012-07-30T09:05:33Z</dcterms:modified>
  <cp:revision>351</cp:revision>
  <dc:subject/>
  <dc:title>Slide 1</dc:title>
</cp:coreProperties>
</file>