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A93-0F90-4439-B4E0-39DA22CF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8592-01E4-4B44-ACC5-39BE6F5377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F62-DAED-4EB8-92EA-BD3857139E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2091-CABA-4C09-8272-3DD547976F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C424-E040-41B9-95FD-E978AE289A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42D-E4B3-4EB4-94B9-A8686065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0CE-5442-45DD-867A-7F9E289F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A19-285C-47E8-827E-DC096DAF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6E2-6940-4F8B-83B0-86865529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3BA-A75E-4003-A6B7-AA57CC9C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0B8-307E-4EFB-91A9-21E4941F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D7B-1A44-41CB-A9A6-53A79EFA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446-8C13-4C05-A2D3-CA3035ED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A16-44C5-44B3-9AD0-46852012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0CD-372E-41EF-B134-0BA9929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B9A-416F-476E-AB68-3DA435F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24E-346C-4B96-ACDD-CB2A68F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992E-8798-450E-8EA4-EAE455DF389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57FA-1DAC-4C21-AE27-B7344CED99A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Physiology of the Motor Unit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gency FB"/>
              </a:rPr>
              <a:t>Dr Taha Sadig Ahm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MBBS ( Medicine  Bachelor and Bachelor of Surgery, University of Khartoum 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PhD Clinical Physiology ( England)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MANM ( USA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ngsana New"/>
              </a:rPr>
              <a:t>Consultant in Clinical Physio9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F:\EMG total\Aaaaaaaaaaaaaa\PSL Pr\PSL Pr 010.jpg"/>
          <p:cNvPicPr/>
          <p:nvPr/>
        </p:nvPicPr>
        <p:blipFill>
          <a:blip r:embed="rId1"/>
          <a:stretch/>
        </p:blipFill>
        <p:spPr>
          <a:xfrm>
            <a:off x="2987640" y="0"/>
            <a:ext cx="3429000" cy="1996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EMG total\Aaaaaaaaaaaaaa\PSL Pr\PSL Pr 011.jpg"/>
          <p:cNvPicPr/>
          <p:nvPr/>
        </p:nvPicPr>
        <p:blipFill>
          <a:blip r:embed="rId2"/>
          <a:stretch/>
        </p:blipFill>
        <p:spPr>
          <a:xfrm>
            <a:off x="228600" y="3200400"/>
            <a:ext cx="3429000" cy="267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EMG total\Aaaaaaaaaaaaaa\PSL Pr\PSL Pr 012.jpg"/>
          <p:cNvPicPr/>
          <p:nvPr/>
        </p:nvPicPr>
        <p:blipFill>
          <a:blip r:embed="rId3"/>
          <a:stretch/>
        </p:blipFill>
        <p:spPr>
          <a:xfrm>
            <a:off x="4932360" y="3213000"/>
            <a:ext cx="3524400" cy="2695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1979640" y="20606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mic Sans MS"/>
              </a:rPr>
              <a:t>Motor Unit potentials ( MUPs) During Mild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79280" y="587700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ring Moderate 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067280" y="587700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uring Maximum Voluntaryn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0"/>
            <a:ext cx="40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ctivation of one motor neuron will result in a weak but distributed muscle contra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ctivation of more motor neurons will result in more muscle fibers being activated, and therefore a stronger muscle contra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higher the motor unit recruitment , the stronger the muscle contraction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force produced by a single motor unit is determined  b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 the number of muscle fibers in the unit , &amp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the frequency with which the muscle fibers are stimulated by their innervating ax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D34B-8849-4DC0-8687-B34AE9E1461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40360" y="5965920"/>
            <a:ext cx="4752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, this allows a 2 to 4-fold change in for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USER\Desktop\Pictures\New Picture (3).png"/>
          <p:cNvPicPr/>
          <p:nvPr/>
        </p:nvPicPr>
        <p:blipFill>
          <a:blip r:embed="rId1"/>
          <a:stretch/>
        </p:blipFill>
        <p:spPr>
          <a:xfrm>
            <a:off x="4859280" y="0"/>
            <a:ext cx="338472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ank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FFB-28F8-4F0D-BA14-E8149E68A92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264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Calibri"/>
                <a:ea typeface="Times New Roman"/>
              </a:rPr>
              <a:t>  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هو عصبون القرن الأمامي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؟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trior Horn Cell ( AHC )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BB08-BD91-4210-80A8-9115C976D3F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3CF-50F3-4C5D-9141-EE1AF0A53C8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nterior horn cells"/>
          <p:cNvPicPr/>
          <p:nvPr/>
        </p:nvPicPr>
        <p:blipFill>
          <a:blip r:embed="rId1"/>
          <a:stretch/>
        </p:blipFill>
        <p:spPr>
          <a:xfrm>
            <a:off x="2411280" y="952560"/>
            <a:ext cx="5764320" cy="5905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0" y="2349360"/>
            <a:ext cx="27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HC is the motor nerve that controls the  skeletal muscle cell con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333360"/>
            <a:ext cx="42116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When the axon of the motor nerve enters the muscle , it divides into many branches  inside 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The ending ( terminal ) of each of these branches is enlarged , contains vesicles of ACh and it supplies  (innervates ) only one muscle cell ( muscle fiber 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Thus each muscle cell is supplied by only one AHC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On the other hand,one AHC , through the branches of its axon , supplies several muscle cell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Comic Sans MS"/>
              </a:rPr>
              <a:t>Q 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at is the motor unit 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  <a:cs typeface="Arial"/>
              </a:rPr>
              <a:t>الوحدة الحركية 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F96-4881-48B2-996C-85DCC5BC256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5034-8646-4444-B5E7-0CE64AC45A4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Anterior horn cells"/>
          <p:cNvPicPr/>
          <p:nvPr/>
        </p:nvPicPr>
        <p:blipFill>
          <a:blip r:embed="rId1"/>
          <a:stretch/>
        </p:blipFill>
        <p:spPr>
          <a:xfrm>
            <a:off x="4716360" y="620640"/>
            <a:ext cx="4427640" cy="532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F56-47CC-40C5-9E4A-63B6A753616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BFB6-B04A-4F9E-B556-B4EBD307FB8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3851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Q:What is a Motor Uni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It is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(Anterior Ho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Cell , AHC )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all the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fibers it innerv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omic Sans MS"/>
              </a:rPr>
              <a:t>(suppl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C:\Users\USER\Desktop\New Picture (6).png"/>
          <p:cNvPicPr/>
          <p:nvPr/>
        </p:nvPicPr>
        <p:blipFill>
          <a:blip r:embed="rId1"/>
          <a:stretch/>
        </p:blipFill>
        <p:spPr>
          <a:xfrm>
            <a:off x="3780000" y="0"/>
            <a:ext cx="536400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549360"/>
            <a:ext cx="406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Q: What is th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neuromuscular jun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 NMJ)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the place where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xon terminal conta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muscle ce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What is the chemic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ransmitter released by 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xon of the motor nerve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t is Acetylcholine (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F8D8-FC52-4651-BD2B-33237782C6B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58A9-6F43-40B9-9C58-A6A6C3DFD3A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USER\Desktop\New Picture (6).png"/>
          <p:cNvPicPr/>
          <p:nvPr/>
        </p:nvPicPr>
        <p:blipFill>
          <a:blip r:embed="rId1"/>
          <a:stretch/>
        </p:blipFill>
        <p:spPr>
          <a:xfrm>
            <a:off x="4052880" y="260280"/>
            <a:ext cx="509112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4857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ally speaking  ,  muscles can be considered as being made of consist of a number of motor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otor unit is the motor neuron and all muscle fibers within the muscle it innervates (supplied with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uscles consist of a number of motor units and the fibers belonging to a motor unit are dispersed and intermingle amongst fibers of other uni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se fibers will be of the same type (either fast twitch or slow twitch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C:\Users\USER\Desktop\Pictures\New Picture (2).png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989440"/>
          </a:xfrm>
          <a:prstGeom prst="rect">
            <a:avLst/>
          </a:prstGeom>
          <a:ln w="0">
            <a:noFill/>
          </a:ln>
        </p:spPr>
      </p:pic>
      <p:sp>
        <p:nvSpPr>
          <p:cNvPr id="69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908-5AF0-4006-B757-14B6D6DBD0B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3"/>
          <p:cNvSpPr/>
          <p:nvPr/>
        </p:nvSpPr>
        <p:spPr>
          <a:xfrm>
            <a:off x="4357800" y="2928960"/>
            <a:ext cx="47862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 motor unit is activated, all of its fibers con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s of motor units often work together to coordinate the contractions of a single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 motor units that subserve a single muscle are considered a motor unit 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muscle fibers within each motor  unit can v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 , the smaller the motor unit (i.e., the smaller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muscle fibers controlled  by a single motor neu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at unit ) , the more accurate &amp; precise  the action of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cle which contains that unit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fore , muscles  that carry  gross , big mov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e.g., muscles that mediate trunk flexion , extension 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large units ( many muscle fibers per one motor neur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versely , muscles  that carry  fine ,  refined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e.g., eye muscles ) or skilful , manipulative  movements ( e.g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 muscles ) or of facial expression ,have small motor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aining relatively small number of muscle fibers p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H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1308-CBAD-4712-AE4C-13EF408DDB2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electrodiagnostic testing (EMG , electromyography)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patient with weakness, careful analysis of the motor unit action potential (MUAP) size, shape, and recruitment pattern can help in distinguishing a myopathy from  neuropathy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tor unit recrui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ruitment of motor units is the progressive activation of a muscle by successive recruitment of contractile units (motor units) to accomplish increasing  degrees of contractile strength ( force 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a motor neuron is activated, all of the muscle fibers innervated by the motor neuron are stimulated and contrac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72ED-B415-47B1-A194-85A22A5D3F6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3"/>
          <p:cNvSpPr/>
          <p:nvPr/>
        </p:nvSpPr>
        <p:spPr>
          <a:xfrm>
            <a:off x="4859280" y="3068640"/>
            <a:ext cx="428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the AHC fires at slow rates , MUPs will be at slow rtae , &amp; the force of muscle muscle contraction is wea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AHCs fire at very fast rat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ast MUP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onger con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maximumum effor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 get in the EMG interference patter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C:\Users\USER\Desktop\New Picture.png"/>
          <p:cNvPicPr/>
          <p:nvPr/>
        </p:nvPicPr>
        <p:blipFill>
          <a:blip r:embed="rId1"/>
          <a:stretch/>
        </p:blipFill>
        <p:spPr>
          <a:xfrm>
            <a:off x="4869000" y="0"/>
            <a:ext cx="4275000" cy="164160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8"/>
          <p:cNvCxnSpPr/>
          <p:nvPr/>
        </p:nvCxnSpPr>
        <p:spPr>
          <a:xfrm>
            <a:off x="5148360" y="1915920"/>
            <a:ext cx="3456720" cy="108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78" name="TextBox 10"/>
          <p:cNvSpPr/>
          <p:nvPr/>
        </p:nvSpPr>
        <p:spPr>
          <a:xfrm>
            <a:off x="4859280" y="2060640"/>
            <a:ext cx="42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ing frequency of action potent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ing in stronger force of con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D33-2E58-4870-A64F-96448FABB6A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USER\Documents\EMG Summaries 3.1.2011\PP\emg pics internet Repeated\mupftr.gif"/>
          <p:cNvPicPr/>
          <p:nvPr/>
        </p:nvPicPr>
        <p:blipFill>
          <a:blip r:embed="rId1"/>
          <a:stretch/>
        </p:blipFill>
        <p:spPr>
          <a:xfrm>
            <a:off x="5267160" y="1197000"/>
            <a:ext cx="3969000" cy="3081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USER\Desktop\New Picture (1).png"/>
          <p:cNvPicPr/>
          <p:nvPr/>
        </p:nvPicPr>
        <p:blipFill>
          <a:blip r:embed="rId2"/>
          <a:stretch/>
        </p:blipFill>
        <p:spPr>
          <a:xfrm>
            <a:off x="179280" y="1197000"/>
            <a:ext cx="418320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1763640" y="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myogram ( EMG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\Desktop\New Picture (3).png"/>
          <p:cNvPicPr/>
          <p:nvPr/>
        </p:nvPicPr>
        <p:blipFill>
          <a:blip r:embed="rId3"/>
          <a:stretch/>
        </p:blipFill>
        <p:spPr>
          <a:xfrm>
            <a:off x="5580000" y="5300640"/>
            <a:ext cx="1295640" cy="1111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4606920" y="45086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Comic Sans MS"/>
              </a:rPr>
              <a:t>Motor Unit potentials ( MU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24:00Z</dcterms:created>
  <dc:creator>Dr. Ahmad</dc:creator>
  <dc:description/>
  <dc:language>en-US</dc:language>
  <cp:lastModifiedBy>USER</cp:lastModifiedBy>
  <dcterms:modified xsi:type="dcterms:W3CDTF">2015-11-22T03:03:28Z</dcterms:modified>
  <cp:revision>359</cp:revision>
  <dc:subject/>
  <dc:title>Slide 1</dc:title>
</cp:coreProperties>
</file>