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7480-C1E5-4BD4-8981-81431694B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6479-5820-471A-BD40-C3FCD677CEF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CD1E-4DCC-458F-85E7-A44011A5545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8162-471E-43D1-B637-165AFFB71C9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02D2-2C40-4BAA-8DA9-95A814E495D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2FCD-00FA-4475-9F3A-37CB765C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060-6CA6-4055-B562-E356BE19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D361-8EA1-4505-BB20-C70B9414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E54D-B453-4CB8-AEB0-5C9F3A49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387-AFB7-4112-B53C-31A08D9C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D498-F138-4267-A7BE-F18691FB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0F1-AFAB-4BC3-8E49-580C7811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2C7-4956-471A-9478-6FA231ED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E525-CE5A-4479-9C7A-DC33F1B2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2058-43C5-4C0E-8D95-315D5F79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ADA-8F63-4770-A0C4-88565976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45D-02DA-4C90-A451-845DF270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BFE5-BFAE-4D8F-9330-0190FA78A06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86D9-29AF-4D82-B93E-9C477F341ED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Physiology of the Motor Unit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gency FB"/>
              </a:rPr>
              <a:t>Dr Taha Sadig Ahme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ngsana New"/>
              </a:rPr>
              <a:t>MBBS ( Medicine  Bachelor and Bachelor of Surgery, University of Khartoum 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ngsana New"/>
              </a:rPr>
              <a:t>PhD Clinical Physiology ( England)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ngsana New"/>
              </a:rPr>
              <a:t>MANM ( USA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ngsana New"/>
              </a:rPr>
              <a:t>Consultant in Clinical Physio9lo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F:\EMG total\Aaaaaaaaaaaaaa\PSL Pr\PSL Pr 010.jpg"/>
          <p:cNvPicPr/>
          <p:nvPr/>
        </p:nvPicPr>
        <p:blipFill>
          <a:blip r:embed="rId1"/>
          <a:stretch/>
        </p:blipFill>
        <p:spPr>
          <a:xfrm>
            <a:off x="2987640" y="0"/>
            <a:ext cx="3429000" cy="1996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F:\EMG total\Aaaaaaaaaaaaaa\PSL Pr\PSL Pr 011.jpg"/>
          <p:cNvPicPr/>
          <p:nvPr/>
        </p:nvPicPr>
        <p:blipFill>
          <a:blip r:embed="rId2"/>
          <a:stretch/>
        </p:blipFill>
        <p:spPr>
          <a:xfrm>
            <a:off x="228600" y="3200400"/>
            <a:ext cx="3429000" cy="2670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F:\EMG total\Aaaaaaaaaaaaaa\PSL Pr\PSL Pr 012.jpg"/>
          <p:cNvPicPr/>
          <p:nvPr/>
        </p:nvPicPr>
        <p:blipFill>
          <a:blip r:embed="rId3"/>
          <a:stretch/>
        </p:blipFill>
        <p:spPr>
          <a:xfrm>
            <a:off x="4932360" y="3213000"/>
            <a:ext cx="3524400" cy="269568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1979640" y="206064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Comic Sans MS"/>
              </a:rPr>
              <a:t>Motor Unit potentials ( MUPs) During Mild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79280" y="5877000"/>
            <a:ext cx="340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uring Moderate 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4067280" y="5877000"/>
            <a:ext cx="50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uring Maximum Voluntaryn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0" y="0"/>
            <a:ext cx="4067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activation of one motor neuron will result in a weak but distributed muscle contrac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activation of more motor neurons will result in more muscle fibers being activated, and therefore a stronger muscle contrac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higher the motor unit recruitment , the stronger the muscle contraction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force produced by a single motor unit is determined  b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 the number of muscle fibers in the unit , &amp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the frequency with which the muscle fibers are stimulated by their innervating ax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4647-7DCF-4556-8C28-4170E9E0E9F8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140360" y="5965920"/>
            <a:ext cx="475272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rally, this allows a 2 to 4-fold change in for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C:\Users\USER\Desktop\Pictures\New Picture (3).png"/>
          <p:cNvPicPr/>
          <p:nvPr/>
        </p:nvPicPr>
        <p:blipFill>
          <a:blip r:embed="rId1"/>
          <a:stretch/>
        </p:blipFill>
        <p:spPr>
          <a:xfrm>
            <a:off x="4859280" y="0"/>
            <a:ext cx="338472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Thank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EC7C-AD8D-4B88-8211-6C528B5B8A60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62643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Calibri"/>
                <a:ea typeface="Times New Roman"/>
              </a:rPr>
              <a:t>   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هو عصبون القرن الأمامي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؟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ntrior Horn Cell ( AHC )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B17F-3291-4A8B-AE9F-5E1C9D637C4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7FE8-6960-49E3-A574-8E54248682B6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Anterior horn cells"/>
          <p:cNvPicPr/>
          <p:nvPr/>
        </p:nvPicPr>
        <p:blipFill>
          <a:blip r:embed="rId1"/>
          <a:stretch/>
        </p:blipFill>
        <p:spPr>
          <a:xfrm>
            <a:off x="2411280" y="952560"/>
            <a:ext cx="5764320" cy="5905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8"/>
          <p:cNvSpPr/>
          <p:nvPr/>
        </p:nvSpPr>
        <p:spPr>
          <a:xfrm>
            <a:off x="0" y="2349360"/>
            <a:ext cx="27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HC is the motor nerve that controls the  skeletal muscle cell contr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-360" y="333360"/>
            <a:ext cx="42116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omic Sans MS"/>
              </a:rPr>
              <a:t>When the axon of the motor nerve enters the muscle , it divides into many branches  inside i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omic Sans MS"/>
              </a:rPr>
              <a:t>The ending ( terminal ) of each of these branches is enlarged , contains vesicles of ACh and it supplies  (innervates ) only one muscle cell ( muscle fiber 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omic Sans MS"/>
              </a:rPr>
              <a:t>Thus each muscle cell is supplied by only one AHC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omic Sans MS"/>
              </a:rPr>
              <a:t>On the other hand,one AHC , through the branches of its axon , supplies several muscle cells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omic Sans MS"/>
              </a:rPr>
              <a:t>Q :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at is the motor unit ?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  <a:cs typeface="Arial"/>
              </a:rPr>
              <a:t>الوحدة الحركية 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4F2D-00C7-4C02-A74B-DCF322C1972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3A3A-4901-496F-99CC-E407F9876048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Anterior horn cells"/>
          <p:cNvPicPr/>
          <p:nvPr/>
        </p:nvPicPr>
        <p:blipFill>
          <a:blip r:embed="rId1"/>
          <a:stretch/>
        </p:blipFill>
        <p:spPr>
          <a:xfrm>
            <a:off x="4716360" y="620640"/>
            <a:ext cx="4427640" cy="532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E711-A4DE-4820-B6C6-1E8FAB98AB8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62F1-B83F-4211-A472-AB615626DCE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38512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omic Sans MS"/>
              </a:rPr>
              <a:t>Q:What is a Motor Unit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omic Sans MS"/>
              </a:rPr>
              <a:t>It is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omic Sans MS"/>
              </a:rPr>
              <a:t>Motor Neur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omic Sans MS"/>
              </a:rPr>
              <a:t>(Anterior Ho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omic Sans MS"/>
              </a:rPr>
              <a:t>Cell , AHC )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Comic Sans MS"/>
              </a:rPr>
              <a:t>all the mus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omic Sans MS"/>
              </a:rPr>
              <a:t>fibers it innerv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omic Sans MS"/>
              </a:rPr>
              <a:t>(suppli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C:\Users\USER\Desktop\New Picture (6).png"/>
          <p:cNvPicPr/>
          <p:nvPr/>
        </p:nvPicPr>
        <p:blipFill>
          <a:blip r:embed="rId1"/>
          <a:stretch/>
        </p:blipFill>
        <p:spPr>
          <a:xfrm>
            <a:off x="3780000" y="0"/>
            <a:ext cx="5364000" cy="566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549360"/>
            <a:ext cx="406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Q: What is th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neuromuscular junc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( NMJ) 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t is the place where th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xon terminal conta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muscle cel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What is the chemic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ransmitter released by th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xon of the motor nerve 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t is Acetylcholine (A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9D48-014D-41C9-9530-DB3E88C25B5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1F48-20DC-4602-9BE5-6C772FFF1643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C:\Users\USER\Desktop\New Picture (6).png"/>
          <p:cNvPicPr/>
          <p:nvPr/>
        </p:nvPicPr>
        <p:blipFill>
          <a:blip r:embed="rId1"/>
          <a:stretch/>
        </p:blipFill>
        <p:spPr>
          <a:xfrm>
            <a:off x="4052880" y="260280"/>
            <a:ext cx="5091120" cy="537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0"/>
            <a:ext cx="48578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ally speaking  ,  muscles can be considered as being made of consist of a number of motor un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otor unit is the motor neuron and all muscle fibers within the muscle it innervates (supplied with i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muscles consist of a number of motor units and the fibers belonging to a motor unit are dispersed and intermingle amongst fibers of other uni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of these fibers will be of the same type (either fast twitch or slow twitch)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C:\Users\USER\Desktop\Pictures\New Picture (2).png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2989440"/>
          </a:xfrm>
          <a:prstGeom prst="rect">
            <a:avLst/>
          </a:prstGeom>
          <a:ln w="0">
            <a:noFill/>
          </a:ln>
        </p:spPr>
      </p:pic>
      <p:sp>
        <p:nvSpPr>
          <p:cNvPr id="69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9CD4-B8B0-49A6-8B80-1F39C5FE525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tent Placeholder 3"/>
          <p:cNvSpPr/>
          <p:nvPr/>
        </p:nvSpPr>
        <p:spPr>
          <a:xfrm>
            <a:off x="4357800" y="2928960"/>
            <a:ext cx="478620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a motor unit is activated, all of its fibers contr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oups of motor units often work together to coordinate the contractions of a single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of the motor units that subserve a single muscle are considered a motor unit p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umber of muscle fibers within each motor  unit can va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general , the smaller the motor unit (i.e., the smaller t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muscle fibers controlled  by a single motor neur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at unit ) , the more accurate &amp; precise  the action of t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cle which contains that unit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fore , muscles  that carry  gross , big move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e.g., muscles that mediate trunk flexion , extension ,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large units ( many muscle fibers per one motor neuro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sely , muscles  that carry  fine ,  refined mov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e.g., eye muscles ) or skilful , manipulative  movements ( e.g.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nd muscles ) or of facial expression ,have small motor un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aining relatively small number of muscle fibers per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H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58F5-319E-45FE-AAA5-FECEE74168F6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0"/>
            <a:ext cx="4859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electrodiagnostic testing (EMG , electromyography) f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patient with weakness, careful analysis of the motor unit action potential (MUAP) size, shape, and recruitment pattern can help in distinguishing a myopathy from  neuropathy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Motor unit recruit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cruitment of motor units is the progressive activation of a muscle by successive recruitment of contractile units (motor units) to accomplish increasing  degrees of contractile strength ( force 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en a motor neuron is activated, all of the muscle fibers innervated by the motor neuron are stimulated and contrac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7CE2-9D21-420A-9AC2-5A100315FD05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ontent Placeholder 3"/>
          <p:cNvSpPr/>
          <p:nvPr/>
        </p:nvSpPr>
        <p:spPr>
          <a:xfrm>
            <a:off x="4859280" y="3068640"/>
            <a:ext cx="4284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the AHC fires at slow rates , MUPs will be at slow rtae , &amp; the force of muscle muscle contraction is weak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AHCs fire at very fast rat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ast MUP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tronger contr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maximumum effor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e get in the EMG interference pattern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C:\Users\USER\Desktop\New Picture.png"/>
          <p:cNvPicPr/>
          <p:nvPr/>
        </p:nvPicPr>
        <p:blipFill>
          <a:blip r:embed="rId1"/>
          <a:stretch/>
        </p:blipFill>
        <p:spPr>
          <a:xfrm>
            <a:off x="4869000" y="0"/>
            <a:ext cx="4275000" cy="1641600"/>
          </a:xfrm>
          <a:prstGeom prst="rect">
            <a:avLst/>
          </a:prstGeom>
          <a:ln w="0">
            <a:noFill/>
          </a:ln>
        </p:spPr>
      </p:pic>
      <p:cxnSp>
        <p:nvCxnSpPr>
          <p:cNvPr id="77" name="Straight Arrow Connector 8"/>
          <p:cNvCxnSpPr/>
          <p:nvPr/>
        </p:nvCxnSpPr>
        <p:spPr>
          <a:xfrm>
            <a:off x="5148360" y="1915920"/>
            <a:ext cx="3456720" cy="108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78" name="TextBox 10"/>
          <p:cNvSpPr/>
          <p:nvPr/>
        </p:nvSpPr>
        <p:spPr>
          <a:xfrm>
            <a:off x="4859280" y="2060640"/>
            <a:ext cx="42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ing frequency of action potent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ing in stronger force of con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2729-7496-4C2C-85C9-C835FC249316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Users\USER\Documents\EMG Summaries 3.1.2011\PP\emg pics internet Repeated\mupftr.gif"/>
          <p:cNvPicPr/>
          <p:nvPr/>
        </p:nvPicPr>
        <p:blipFill>
          <a:blip r:embed="rId1"/>
          <a:stretch/>
        </p:blipFill>
        <p:spPr>
          <a:xfrm>
            <a:off x="5267160" y="1197000"/>
            <a:ext cx="3969000" cy="3081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Users\USER\Desktop\New Picture (1).png"/>
          <p:cNvPicPr/>
          <p:nvPr/>
        </p:nvPicPr>
        <p:blipFill>
          <a:blip r:embed="rId2"/>
          <a:stretch/>
        </p:blipFill>
        <p:spPr>
          <a:xfrm>
            <a:off x="179280" y="1197000"/>
            <a:ext cx="4183200" cy="309564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1763640" y="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myogram ( EMG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USER\Desktop\New Picture (3).png"/>
          <p:cNvPicPr/>
          <p:nvPr/>
        </p:nvPicPr>
        <p:blipFill>
          <a:blip r:embed="rId3"/>
          <a:stretch/>
        </p:blipFill>
        <p:spPr>
          <a:xfrm>
            <a:off x="5580000" y="5300640"/>
            <a:ext cx="1295640" cy="111132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4606920" y="45086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Comic Sans MS"/>
              </a:rPr>
              <a:t>Motor Unit potentials ( MUP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08:24:00Z</dcterms:created>
  <dc:creator>Dr. Ahmad</dc:creator>
  <dc:description/>
  <dc:language>en-US</dc:language>
  <cp:lastModifiedBy>USER</cp:lastModifiedBy>
  <dcterms:modified xsi:type="dcterms:W3CDTF">2015-11-22T03:03:28Z</dcterms:modified>
  <cp:revision>359</cp:revision>
  <dc:subject/>
  <dc:title>Slide 1</dc:title>
</cp:coreProperties>
</file>