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4D35-EDF9-4B3F-BAFF-C875B05E38A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93DF-780A-4D9D-A3E0-6F3A1BABFF1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A0A1-D46F-44FC-9E5D-B59C23BEA01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90F4-5A59-4044-88D3-B223F540FF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DA49-11AC-4C39-9FA6-CECCCF51645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411D-BC13-4ACC-980E-4A916D255D6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3C6C-6C97-4976-946D-2AF97464E2E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CB02-871E-4E59-9A34-B0CAE10170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DBF8-D079-4232-8EE3-C1379514489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BD3E-E5D9-4606-A6F0-4F360226F4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4E0B-FB87-4F43-B30C-0218C61ADA2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2C2B-845B-4D57-8634-DD2DAEC37B3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6987-A9A1-49E9-8CA9-993EA889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EA13-062F-434E-895D-A7DC4A76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7D8E-558C-4E2F-8C29-43DC99012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CE52-A158-45C1-A91C-511D83E60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B90-4F1F-4F60-9264-638F2FE8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30F-B3A2-4695-81F8-0A19DE3E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83EA-C0D4-412E-BB18-2A652F6B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1DC-F669-47C1-8970-54CABE5B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0E2-D2B8-49D1-A257-01B86678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F55-8B58-426A-BA07-81ED4DA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03F-9A72-41C3-941B-20AE70A7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3842-0E91-482E-BF56-F340C030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44D1-8FF2-4616-A0FD-C810B2C43DAE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B9E0-F093-4B89-AE33-6902E0F41B8B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03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i="1" lang="en-US" sz="4800" spc="-1" strike="noStrike">
                <a:solidFill>
                  <a:srgbClr val="0d0d0d"/>
                </a:solidFill>
                <a:latin typeface="Calibri"/>
              </a:rPr>
              <a:t>NMJ</a:t>
            </a:r>
            <a:br>
              <a:rPr sz="4800"/>
            </a:br>
            <a:r>
              <a:rPr b="0" i="1" lang="en-US" sz="4800" spc="-1" strike="noStrike">
                <a:solidFill>
                  <a:srgbClr val="0d0d0d"/>
                </a:solidFill>
                <a:latin typeface="Calibri"/>
              </a:rPr>
              <a:t>(Neuromuscular Junction )</a:t>
            </a:r>
            <a:r>
              <a:rPr b="0" i="1" lang="en-US" sz="4000" spc="-1" strike="noStrike">
                <a:solidFill>
                  <a:srgbClr val="0d0d0d"/>
                </a:solidFill>
                <a:latin typeface="Calibri"/>
              </a:rPr>
              <a:t> Physiology </a:t>
            </a:r>
            <a:br>
              <a:rPr sz="4000"/>
            </a:br>
            <a:r>
              <a:rPr b="0" i="1" lang="en-US" sz="4000" spc="-1" strike="noStrike">
                <a:solidFill>
                  <a:srgbClr val="0d0d0d"/>
                </a:solidFill>
                <a:latin typeface="Calibri"/>
              </a:rPr>
              <a:t>Reference Book : Guyton</a:t>
            </a:r>
            <a:br>
              <a:rPr sz="4000"/>
            </a:br>
            <a:r>
              <a:rPr b="0" lang="ar-SA" sz="4000" spc="-1" strike="noStrike">
                <a:solidFill>
                  <a:srgbClr val="0d0d0d"/>
                </a:solidFill>
                <a:latin typeface="Calibri"/>
                <a:cs typeface="Times New Roman"/>
              </a:rPr>
              <a:t>د. طه صادق أحمد</a:t>
            </a:r>
            <a:br>
              <a:rPr sz="4000"/>
            </a:br>
            <a:br>
              <a:rPr sz="4000"/>
            </a:b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473F-47F4-4E29-BED5-31E6874B8CBB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F183-DD99-40DA-95F4-B07F44E77D6B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27840" y="5589720"/>
            <a:ext cx="3116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999E-790D-4E3F-A4E0-E7F325EADB1B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A801-57C2-4A84-A206-3510CDB3567F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5" descr="C:\Users\USER\Desktop\New Picture.png"/>
          <p:cNvPicPr/>
          <p:nvPr/>
        </p:nvPicPr>
        <p:blipFill>
          <a:blip r:embed="rId1"/>
          <a:stretch/>
        </p:blipFill>
        <p:spPr>
          <a:xfrm>
            <a:off x="136440" y="1252440"/>
            <a:ext cx="887112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FDB4-344D-4A5A-A1F7-DDA43C7238A2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710B-B592-4C12-ACA8-4A8A3E75FAFA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ugs Acting on the NMJ (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1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)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Drugs that block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neuromuscular transmission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Curare and curare-like dru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( curariform drugs )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They have a chemical structure similar to ACh , but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not stimulate the receptors .They occupy acetylcho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receptors and thereby prevent ACh from acting on its recep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This leads to muscle par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 . 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Example : Tubocurarine ( Curare)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Used during some surgical operations to relax skeletal muscles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1A5B-C737-47B6-A055-E1A2640AD2DB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59C9-9373-463B-BB6C-D6D214CD4DD4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 of Drugs Acting on the NMJ(2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Drugs that inactivate Cholinesterase , cal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Anticholinesterase drugs , </a:t>
            </a: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preventing it from destro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&amp; hence allowing Ach to accunulate &amp; stimulate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muscle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Example of this drug category is Tensilon (Edrophonium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Comic Sans MS"/>
              </a:rPr>
              <a:t>which is used in to test for Myasthenia Grav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77336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anks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Date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38A3-22B6-42A0-A27B-E4F925792D91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D59C-8EB2-47D3-8D53-295753C9AF22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836280"/>
            <a:ext cx="814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the end of this lecture the student should be able to 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the anterior horn cell and motor unit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and define the structure and function of  the neuromuscular junctuion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 acetylcholine vesicles , exocytosis ,  EPP ( end-plate potential ), acetylcholinesterase , drugs that inactivate cholinesterase( e.g., neostigmine ), Myasthenia Gravi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9322-99CD-4C0F-B746-4C6CBE26AFCD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E04C-B0C5-4A78-9C7E-F6FF3AC8FE74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360" y="189000"/>
            <a:ext cx="25909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:What is a Motor Unit 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d0d0d"/>
                </a:solidFill>
                <a:latin typeface="Calibri"/>
                <a:cs typeface="Arial"/>
              </a:rPr>
              <a:t>الوحدة الحركية 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is the mo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n (Anter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rn Cell) and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uscle fib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suppl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Date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F35A3-600B-4B14-87F2-1F3A0B5FB6CF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2C35-E974-445D-B018-D92885BF84CE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هي عصبون القرن الأمام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( 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يعني العصبون الآمر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ar-SA" sz="1200" spc="-1" strike="noStrike">
                <a:solidFill>
                  <a:srgbClr val="ffff00"/>
                </a:solidFill>
                <a:latin typeface="Tahoma"/>
              </a:rPr>
              <a:t>و كل الخلايا العضلية ال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" name="Picture 3" descr="Untitled-13"/>
          <p:cNvPicPr/>
          <p:nvPr/>
        </p:nvPicPr>
        <p:blipFill>
          <a:blip r:embed="rId1"/>
          <a:stretch/>
        </p:blipFill>
        <p:spPr>
          <a:xfrm>
            <a:off x="2556000" y="0"/>
            <a:ext cx="6588000" cy="674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Date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DBD2-567A-402C-89FE-2FB7FD520BEB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214E4-EA78-4D64-A0B2-9A9339E8F673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187280" y="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d0d"/>
                </a:solidFill>
                <a:latin typeface="Comic Sans MS"/>
              </a:rPr>
              <a:t>Neuromuscular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5" descr="fig_7_6"/>
          <p:cNvPicPr/>
          <p:nvPr/>
        </p:nvPicPr>
        <p:blipFill>
          <a:blip r:embed="rId1"/>
          <a:stretch/>
        </p:blipFill>
        <p:spPr>
          <a:xfrm>
            <a:off x="324000" y="1628640"/>
            <a:ext cx="85690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3AFA-0012-4739-AD51-122C2AD181CE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3F79-3E4E-4C57-8CE4-CEC01DF83B20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Neuromuscular junction consists of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05520" y="836640"/>
            <a:ext cx="40384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 Unicode MS"/>
              </a:rPr>
              <a:t>A/ Axon Terminal :</a:t>
            </a: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 cont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ound 300,000 vesicles wh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tain the neurotransmit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cetylcholine (ACh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B/ Synaptic Cleft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0 – 30 nm ( nanometer ) sp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etween the axon terminal &amp;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uscle cell membrane. It cont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enzyme cholinesterase whi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n destroy Ach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C/ Synaptic Gutter ( Synaptic Troug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 is the muscle cell membra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ich is in contact with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rve terminal . It has many fol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lled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omic Sans MS"/>
              </a:rPr>
              <a:t>Subneural Clefts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, whi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eatly increase the surface area 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llowing for accomodation of larg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umbers of ACh receptors . A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ceptors are located here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NM junction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5689800"/>
          </a:xfrm>
          <a:prstGeom prst="rect">
            <a:avLst/>
          </a:prstGeom>
          <a:ln w="0">
            <a:noFill/>
          </a:ln>
        </p:spPr>
      </p:pic>
      <p:cxnSp>
        <p:nvCxnSpPr>
          <p:cNvPr id="69" name="Straight Arrow Connector 7"/>
          <p:cNvCxnSpPr/>
          <p:nvPr/>
        </p:nvCxnSpPr>
        <p:spPr>
          <a:xfrm flipH="1">
            <a:off x="1978920" y="1125000"/>
            <a:ext cx="3097800" cy="1008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" name="Straight Arrow Connector 9"/>
          <p:cNvCxnSpPr/>
          <p:nvPr/>
        </p:nvCxnSpPr>
        <p:spPr>
          <a:xfrm flipH="1">
            <a:off x="3276000" y="3933720"/>
            <a:ext cx="1943640" cy="1008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1" name="Straight Arrow Connector 15"/>
          <p:cNvCxnSpPr/>
          <p:nvPr/>
        </p:nvCxnSpPr>
        <p:spPr>
          <a:xfrm flipH="1">
            <a:off x="3131280" y="5084640"/>
            <a:ext cx="2809080" cy="216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The entire structure of axon terminal , synaptic cleft and synaptic gutter is called </a:t>
            </a:r>
            <a:r>
              <a:rPr b="0" lang="en-US" sz="2400" spc="-1" strike="noStrike" u="sng">
                <a:solidFill>
                  <a:srgbClr val="0d0d0d"/>
                </a:solidFill>
                <a:uFillTx/>
                <a:latin typeface="Comic Sans MS"/>
              </a:rPr>
              <a:t>“ Motor End-Plate ” </a:t>
            </a:r>
            <a:r>
              <a:rPr b="0" lang="en-US" sz="2400" spc="-1" strike="noStrike">
                <a:solidFill>
                  <a:srgbClr val="0d0d0d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ACh is synthesized locally in the cytoplasm of the nerve terminal , from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active acetate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(acetylcoenzyme A) and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chol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he enzyme responsible is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Choline Acetyl Transferase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his enzyme is a marker of Cholinergic Neur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After being synthesized , ACh is rapidly absorbed into the synaptic vesicles and stored ther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he synaptic vesicles themselves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are made in the nerve soma (celol-body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by Golgi apparatus )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hen they are carried by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Axoplasmic Transport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o the nerve terminal , which contains around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300,000 vesicles </a:t>
            </a: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73B-8C62-45D6-8F80-C7F9F42C01B0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E308-4E66-4F7E-816F-F05A63E4FE06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978E-E334-471F-A192-2468144963FB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B628-377E-418E-99D3-C61C2F54183A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03280" y="0"/>
            <a:ext cx="4140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When a nerve impu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reaches the nerv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terminal , it opens calc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hannels </a:t>
            </a:r>
            <a:r>
              <a:rPr b="0" lang="en-GB" sz="20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alcium diffuses fr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the ECF into the ax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terminal </a:t>
            </a:r>
            <a:r>
              <a:rPr b="0" lang="en-GB" sz="20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 Ca++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ACh from vesicles 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a process cal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Exocytosis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ACh combines with 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receptors in the subneur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lef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This opens sodium Na+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hannels </a:t>
            </a:r>
            <a:r>
              <a:rPr b="0" lang="en-GB" sz="2000" spc="-1" strike="noStrike">
                <a:solidFill>
                  <a:srgbClr val="0d0d0d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 &amp; Na+ diffu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into the muscle causing 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l</a:t>
            </a:r>
            <a:r>
              <a:rPr b="0" lang="en-GB" sz="2000" spc="-1" strike="noStrike" u="sng">
                <a:solidFill>
                  <a:srgbClr val="0d0d0d"/>
                </a:solidFill>
                <a:uFillTx/>
                <a:latin typeface="Comic Sans MS"/>
              </a:rPr>
              <a:t>ocal,non-propag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d0d0d"/>
                </a:solidFill>
                <a:uFillTx/>
                <a:latin typeface="Comic Sans MS"/>
              </a:rPr>
              <a:t>potential 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called th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“ 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End-Plate Potential (EPP)”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d0d0d"/>
                </a:solidFill>
                <a:latin typeface="Comic Sans MS"/>
              </a:rPr>
              <a:t>whos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value is 50 – 75 mV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7" descr="C:\Users\USER\Desktop\New Picture (2).png"/>
          <p:cNvPicPr/>
          <p:nvPr/>
        </p:nvPicPr>
        <p:blipFill>
          <a:blip r:embed="rId1"/>
          <a:stretch/>
        </p:blipFill>
        <p:spPr>
          <a:xfrm>
            <a:off x="0" y="0"/>
            <a:ext cx="51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69B1-ED8B-43CE-AF33-DB169EC86191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Date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60A7-B4D8-45C9-AF2A-6A440CD65974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003280" y="0"/>
            <a:ext cx="4140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This EPP triggers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muscle AP which sprea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inside the muscle to m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it c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One nerve impulse 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release </a:t>
            </a: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125 ACh vesicles 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which is more than enoug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omic Sans MS"/>
              </a:rPr>
              <a:t>to generate produce o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d0d0d"/>
                </a:solidFill>
                <a:uFillTx/>
                <a:latin typeface="Comic Sans MS"/>
              </a:rPr>
              <a:t>End-Plate Potential (EPP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C:\Users\USER\Desktop\New Picture (2).png"/>
          <p:cNvPicPr/>
          <p:nvPr/>
        </p:nvPicPr>
        <p:blipFill>
          <a:blip r:embed="rId1"/>
          <a:stretch/>
        </p:blipFill>
        <p:spPr>
          <a:xfrm>
            <a:off x="0" y="0"/>
            <a:ext cx="51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FG08_020"/>
          <p:cNvPicPr/>
          <p:nvPr/>
        </p:nvPicPr>
        <p:blipFill>
          <a:blip r:embed="rId1"/>
          <a:srcRect l="10800" t="0" r="6000" b="0"/>
          <a:stretch/>
        </p:blipFill>
        <p:spPr>
          <a:xfrm>
            <a:off x="0" y="260280"/>
            <a:ext cx="3933720" cy="4248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FG08_021"/>
          <p:cNvPicPr/>
          <p:nvPr/>
        </p:nvPicPr>
        <p:blipFill>
          <a:blip r:embed="rId2"/>
          <a:srcRect l="9600" t="0" r="8400" b="0"/>
          <a:stretch/>
        </p:blipFill>
        <p:spPr>
          <a:xfrm>
            <a:off x="3995640" y="260280"/>
            <a:ext cx="5148360" cy="4321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9640" y="46684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0d0d"/>
                </a:solidFill>
                <a:latin typeface="Calibri"/>
              </a:rPr>
              <a:t>After ACh acts on the receptors , it is destroyed (hydrolyzed) by the enzyme Acetylcholinesterase ( also called cholinesterase ) into Acetate &amp; Choline . The Choline is actively reabsorbed into the nerve terminal to be used again to form ACh. This whole process of Ach release, action &amp; destruction takes about 5-10 m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9EC9-F332-4B8C-8458-391F0B0657CA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Date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F999-9F53-461E-86A6-C79CA291AC9D}" type="datetime">
              <a:rPr b="0" lang="en-US" sz="1200" spc="-1" strike="noStrike">
                <a:solidFill>
                  <a:srgbClr val="898989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7:27:17Z</dcterms:created>
  <dc:creator>Family</dc:creator>
  <dc:description/>
  <dc:language>en-US</dc:language>
  <cp:lastModifiedBy>USER</cp:lastModifiedBy>
  <dcterms:modified xsi:type="dcterms:W3CDTF">2015-11-30T03:14:19Z</dcterms:modified>
  <cp:revision>182</cp:revision>
  <dc:subject/>
  <dc:title>Excitable Tisuues ( Nerve and Muscle )</dc:title>
</cp:coreProperties>
</file>