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F137-B49B-4B9B-9C2C-9940AEDE83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C25D-357F-4FE6-91B8-4982001271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020-585D-42E7-925E-46A19A1D24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9894-7034-4078-ACFA-4659E82412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7CDB-CC49-4334-BCFB-D1B4D947B2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284-004B-47C0-8486-C19CF85CFF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6C95-4A61-455F-8B18-8F45FFE675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FA1-A27A-4C55-A198-1C9B43BBA8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0A9-F748-4472-8911-A906BA4846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8842-1A3A-4360-82A7-24860BF21A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A25-9BD0-4985-8A35-5E0F8E7388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9A4-DE35-4A93-8599-B1D153F7CE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361-FADD-4C6A-9B3D-57AAB67C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3E5-E356-4AED-993F-A180027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0DD-6261-49CA-84A1-3EEA466F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6B7-C417-4DBA-AA46-2429B57B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F0E-CD85-4408-9E7B-012FA786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197-3D9A-441C-B5B1-F1B23E9C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107-E29E-4F7B-B518-ADEA7E9B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F0C-4119-4A2C-8550-8549E80E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7D5-2D0F-47E8-A7B0-889C6639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B38-214B-4A56-8582-B0B8BCA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7A7-DB20-4390-BE5E-818CA55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E6F-AC19-4D01-A966-B176F4A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B98-2655-40AA-B51A-79A9C3964042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07D5-3484-4412-98F7-A2ED436D8500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0d0d0d"/>
                </a:solidFill>
                <a:latin typeface="Calibri"/>
              </a:rPr>
              <a:t>NMJ</a:t>
            </a:r>
            <a:br>
              <a:rPr sz="4800"/>
            </a:br>
            <a:r>
              <a:rPr b="0" i="1" lang="en-US" sz="4800" spc="-1" strike="noStrike">
                <a:solidFill>
                  <a:srgbClr val="0d0d0d"/>
                </a:solidFill>
                <a:latin typeface="Calibri"/>
              </a:rPr>
              <a:t>(Neuromuscular Junction )</a:t>
            </a:r>
            <a:r>
              <a:rPr b="0" i="1" lang="en-US" sz="4000" spc="-1" strike="noStrike">
                <a:solidFill>
                  <a:srgbClr val="0d0d0d"/>
                </a:solidFill>
                <a:latin typeface="Calibri"/>
              </a:rPr>
              <a:t> Physiology </a:t>
            </a:r>
            <a:br>
              <a:rPr sz="4000"/>
            </a:br>
            <a:r>
              <a:rPr b="0" i="1" lang="en-US" sz="4000" spc="-1" strike="noStrike">
                <a:solidFill>
                  <a:srgbClr val="0d0d0d"/>
                </a:solidFill>
                <a:latin typeface="Calibri"/>
              </a:rPr>
              <a:t>Reference Book : Guyton</a:t>
            </a:r>
            <a:br>
              <a:rPr sz="4000"/>
            </a:br>
            <a:r>
              <a:rPr b="0" lang="ar-SA" sz="4000" spc="-1" strike="noStrike">
                <a:solidFill>
                  <a:srgbClr val="0d0d0d"/>
                </a:solidFill>
                <a:latin typeface="Calibri"/>
                <a:cs typeface="Times New Roman"/>
              </a:rPr>
              <a:t>د. طه صادق أحمد</a:t>
            </a:r>
            <a:br>
              <a:rPr sz="4000"/>
            </a:b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893C-920A-46A4-ACFD-DBDDD61C5A48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1D69-1E5F-40B7-90D8-DAD6FAE409E6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27840" y="5589720"/>
            <a:ext cx="311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DED-459C-4DC8-8544-9D709A8F2E27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031-F8AF-4A3F-8613-E2BF5772794A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5" descr="C:\Users\USER\Desktop\New Picture.png"/>
          <p:cNvPicPr/>
          <p:nvPr/>
        </p:nvPicPr>
        <p:blipFill>
          <a:blip r:embed="rId1"/>
          <a:stretch/>
        </p:blipFill>
        <p:spPr>
          <a:xfrm>
            <a:off x="136440" y="1252440"/>
            <a:ext cx="8871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91B-027B-4E3F-A68F-985DD867B41B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232-DAFB-47C3-86C6-29F015E257BB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ugs Acting on the NMJ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1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)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Drugs that block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neuromuscular transmission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Curare and curare-like dr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( curariform drugs 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They have a chemical structure similar to ACh , but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not stimulate the receptors .They occupy acetylcho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receptors and thereby prevent ACh from acting on its recep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This leads to muscle par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 . 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Example : Tubocurarine ( Curare)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Used during some surgical operations to relax skeletal muscles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D1E-8C84-4012-B9DD-9D802182BEEA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523-3AF9-40B9-8B0F-A67AA3964DD9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Drugs Acting on the NMJ(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Drugs that inactivate Cholinesterase ,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Anticholinesterase drugs , 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preventing it from destro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&amp; hence allowing Ach to accunulate &amp; stimulate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muscle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Example of this drug category is Tensilon (Edrophonium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which is used in to test for Myasthenia Gra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773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anks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46C-2712-402A-AF04-40B985594463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3260-D35D-478E-8E5F-0E9E9D083028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end of this lecture the student should be able to 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anterior horn cell and motor uni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and define the structure and function of  the neuromuscular junctuion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acetylcholine vesicles , exocytosis ,  EPP ( end-plate potential ), acetylcholinesterase , drugs that inactivate cholinesterase( e.g., neostigmine ), Myasthenia Gravi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998-731B-4507-B467-26D4D32A7824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2D75-8371-4562-8223-685045053925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189000"/>
            <a:ext cx="25909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:What is a Motor Uni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  <a:cs typeface="Arial"/>
              </a:rPr>
              <a:t>الوحدة الحركية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mo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n (Anter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n Cell) and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uscle fib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u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FA74-D6E5-4062-B144-0D6E64E6F67B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F4B-1844-4E06-9699-53C57F1E1AA2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هي عصبون القرن الأمام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(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يعني العصبون الآمر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و كل الخلايا العضلية ا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3" descr="Untitled-13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674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6102-4485-471D-9AF8-4EC601288D63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D6E8-8BC1-49AB-91EB-530F33B02C6F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187280" y="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Neuromuscular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5" descr="fig_7_6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C52F-36ED-4BD2-BBC5-447B4A36CAF7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B31D-9582-46C9-8D0A-6F75FA66184F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Neuromuscular junction consists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836640"/>
            <a:ext cx="40384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/ Axon Terminal :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cont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ound 300,000 vesicles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tain the neurotransmi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cetylcholine (ACh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B/ Synaptic Clef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0 – 30 nm ( nanometer )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tween the axon terminal &amp;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uscle cell membrane. It cont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enzyme cholinesterase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destroy A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C/ Synaptic Gutter ( Synaptic Tr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is the muscle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ich is in contact with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rve terminal . It has many fo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ubneural Clef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, whi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eatly increase the surface area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owing for accomodation of lar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mbers of ACh receptors . 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eptors are located her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NM junction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68980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7"/>
          <p:cNvCxnSpPr/>
          <p:nvPr/>
        </p:nvCxnSpPr>
        <p:spPr>
          <a:xfrm flipH="1">
            <a:off x="1978920" y="1125000"/>
            <a:ext cx="3097800" cy="1008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>
            <a:off x="3276000" y="3933720"/>
            <a:ext cx="1943640" cy="1008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Straight Arrow Connector 15"/>
          <p:cNvCxnSpPr/>
          <p:nvPr/>
        </p:nvCxnSpPr>
        <p:spPr>
          <a:xfrm flipH="1">
            <a:off x="3131280" y="5084640"/>
            <a:ext cx="2809080" cy="21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 entire structure of axon terminal , synaptic cleft and synaptic gutter is called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“ Motor End-Plate ” 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ACh is synthesized locally in the cytoplasm of the nerve terminal , from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active acetate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(acetylcoenzyme A) and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cho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e enzyme responsible is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Choline Acetyl Transferase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is enzyme is a marker of Cholinergic Neur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After being synthesized , ACh is rapidly absorbed into the synaptic vesicles and stored the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e synaptic vesicles themselves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are made in the nerve soma (celol-body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by Golgi apparatus 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en they are carried by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Axoplasmic Transport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o the nerve terminal , which contains around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300,000 vesicles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295F-EF2A-4EFA-B091-0C4890A6C9C9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9CD-9B43-4AA6-8971-626426F4CF55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F017-41FE-4A36-B14B-CB5063943024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4FF-3CFA-4FDB-8D9F-340A29FE08E3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When a nerve impu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reaches the ner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erminal , it opens 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hannels </a:t>
            </a:r>
            <a:r>
              <a:rPr b="0" lang="en-GB" sz="20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alcium diffuses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he ECF into the ax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erminal </a:t>
            </a:r>
            <a:r>
              <a:rPr b="0" lang="en-GB" sz="20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 Ca++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ACh from vesicles 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a process cal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Exocytosi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ACh combines with 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receptors in the subne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lef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his opens sodium Na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hannels </a:t>
            </a:r>
            <a:r>
              <a:rPr b="0" lang="en-GB" sz="20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 &amp; Na+ diff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into the muscle causing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l</a:t>
            </a:r>
            <a:r>
              <a:rPr b="0" lang="en-GB" sz="2000" spc="-1" strike="noStrike" u="sng">
                <a:solidFill>
                  <a:srgbClr val="0d0d0d"/>
                </a:solidFill>
                <a:uFillTx/>
                <a:latin typeface="Comic Sans MS"/>
              </a:rPr>
              <a:t>ocal,non-propag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d0d0d"/>
                </a:solidFill>
                <a:uFillTx/>
                <a:latin typeface="Comic Sans MS"/>
              </a:rPr>
              <a:t>potential 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alled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“ 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End-Plate Potential (EPP)”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wh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value is 50 – 75 mV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C:\Users\USER\Desktop\New Picture (2).png"/>
          <p:cNvPicPr/>
          <p:nvPr/>
        </p:nvPicPr>
        <p:blipFill>
          <a:blip r:embed="rId1"/>
          <a:stretch/>
        </p:blipFill>
        <p:spPr>
          <a:xfrm>
            <a:off x="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0BA-EBAC-487C-BDF1-F1BA82F411E7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4F7A-63E7-44CB-A6EC-C14CE7687CBB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This EPP trigger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muscle AP which sp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inside the muscle to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it c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One nerve impulse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release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125 ACh vesicles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which is more than en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o generate produc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End-Plate Potential (EPP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C:\Users\USER\Desktop\New Picture (2).png"/>
          <p:cNvPicPr/>
          <p:nvPr/>
        </p:nvPicPr>
        <p:blipFill>
          <a:blip r:embed="rId1"/>
          <a:stretch/>
        </p:blipFill>
        <p:spPr>
          <a:xfrm>
            <a:off x="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G08_020"/>
          <p:cNvPicPr/>
          <p:nvPr/>
        </p:nvPicPr>
        <p:blipFill>
          <a:blip r:embed="rId1"/>
          <a:srcRect l="10800" t="0" r="6000" b="0"/>
          <a:stretch/>
        </p:blipFill>
        <p:spPr>
          <a:xfrm>
            <a:off x="0" y="260280"/>
            <a:ext cx="393372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G08_021"/>
          <p:cNvPicPr/>
          <p:nvPr/>
        </p:nvPicPr>
        <p:blipFill>
          <a:blip r:embed="rId2"/>
          <a:srcRect l="9600" t="0" r="8400" b="0"/>
          <a:stretch/>
        </p:blipFill>
        <p:spPr>
          <a:xfrm>
            <a:off x="3995640" y="260280"/>
            <a:ext cx="5148360" cy="432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46684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alibri"/>
              </a:rPr>
              <a:t>After ACh acts on the receptors , it is destroyed (hydrolyzed) by the enzyme Acetylcholinesterase ( also called cholinesterase ) into Acetate &amp; Choline . The Choline is actively reabsorbed into the nerve terminal to be used again to form ACh. This whole process of Ach release, action &amp; destruction takes about 5-10 m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1E82-1CF1-4294-9BCD-54572AB7CEC1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673-5C21-43B7-A9E7-31F4D8BF1C7D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7:27:17Z</dcterms:created>
  <dc:creator>Family</dc:creator>
  <dc:description/>
  <dc:language>en-US</dc:language>
  <cp:lastModifiedBy>USER</cp:lastModifiedBy>
  <dcterms:modified xsi:type="dcterms:W3CDTF">2015-11-30T03:14:19Z</dcterms:modified>
  <cp:revision>182</cp:revision>
  <dc:subject/>
  <dc:title>Excitable Tisuues ( Nerve and Muscle )</dc:title>
</cp:coreProperties>
</file>