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EC46-DF0D-4B9E-ADCE-0EFA7DF8E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68E9-C0F0-49D1-970F-7D014F22E7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56FF-0F07-452F-92FC-ADD8264D62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DD0-C0F0-4963-A887-E0C9556E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B6B-59B6-4C16-AF0C-70073079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B19-1706-44F1-8013-8357FDE9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758-D60A-4B3A-9C0B-4C7F42BF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78AE-D652-4B31-92BC-24FE16DF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3798-E0A8-4768-9329-7E077F14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A75E-3856-4CB1-A394-D8368B74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3912-75EE-4BD4-BE52-90C3C2FA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0611-C135-4E0F-B4A7-7334C8F6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0326-B736-4A19-993A-2BFD1898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5161-C795-4C34-A783-309EF68C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73F-9086-4496-BF53-C0239420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022D-ED09-45D6-8189-8944E56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86D6-EC7F-497D-ABFF-1DB0439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6B46-A0C3-47E9-B63B-56933288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3007-AA91-4EF1-82AA-361F7D84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DC37-7C87-414D-A587-E8475C97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8E7-5963-45EF-ADFE-063B09AD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FB6-2DEA-48BA-9996-1F1596A6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9E7-9989-4C21-8916-B531BAC5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7A9-3E8F-4030-A323-94FE6997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51E-8219-4466-B8C9-610C6232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E81-3292-406B-A91F-62677C68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B69-012D-4FD3-BD0B-BCA2CD06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3076-2C01-43A1-A0EA-2CEE873B0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. Saeed Maka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CB75-1FCF-4413-BA4D-F7270F6EC2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ismillah_458"/>
          <p:cNvPicPr/>
          <p:nvPr/>
        </p:nvPicPr>
        <p:blipFill>
          <a:blip r:embed="rId1"/>
          <a:stretch/>
        </p:blipFill>
        <p:spPr>
          <a:xfrm>
            <a:off x="2743200" y="2438280"/>
            <a:ext cx="37339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2"/>
          <p:cNvGrpSpPr/>
          <p:nvPr/>
        </p:nvGrpSpPr>
        <p:grpSpPr>
          <a:xfrm>
            <a:off x="1103400" y="176040"/>
            <a:ext cx="6583320" cy="605160"/>
            <a:chOff x="1103400" y="176040"/>
            <a:chExt cx="6583320" cy="605160"/>
          </a:xfrm>
        </p:grpSpPr>
        <p:pic>
          <p:nvPicPr>
            <p:cNvPr id="144" name="Rectangle 2" descr=""/>
            <p:cNvPicPr/>
            <p:nvPr/>
          </p:nvPicPr>
          <p:blipFill>
            <a:blip r:embed="rId1"/>
            <a:stretch/>
          </p:blipFill>
          <p:spPr>
            <a:xfrm>
              <a:off x="1103400" y="176040"/>
              <a:ext cx="658332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116000" y="189000"/>
              <a:ext cx="6551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"/>
                  <a:ea typeface="Aharoni"/>
                </a:rPr>
                <a:t>RESPIRATORY MUCOS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508640"/>
            <a:ext cx="8424720" cy="2349360"/>
          </a:xfrm>
          <a:prstGeom prst="rect">
            <a:avLst/>
          </a:prstGeom>
          <a:gradFill rotWithShape="0">
            <a:gsLst>
              <a:gs pos="0">
                <a:srgbClr val="688b98"/>
              </a:gs>
              <a:gs pos="100000">
                <a:srgbClr val="b5e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ck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iliated highly vascular and contains mucous glands &amp; goblet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 line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er part </a:t>
            </a: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of the nasal ca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functions to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oiste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lea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161616"/>
                </a:solidFill>
                <a:uFillTx/>
                <a:latin typeface="Arial"/>
              </a:rPr>
              <a:t>warm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the inspired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moiste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secretion of numerous serous gl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clea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removal of the dust particles by the ciliary action of the columnar ciliated epithelium that covers the m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is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warmed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b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submucous venous plexu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Vestibule is lin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k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BA02-C318-4D13-9CBB-5521D7E5D7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9347834A"/>
          <p:cNvPicPr/>
          <p:nvPr/>
        </p:nvPicPr>
        <p:blipFill>
          <a:blip r:embed="rId2"/>
          <a:srcRect l="2020" t="6816" r="3041" b="4550"/>
          <a:stretch/>
        </p:blipFill>
        <p:spPr>
          <a:xfrm>
            <a:off x="395280" y="836640"/>
            <a:ext cx="7632720" cy="36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0" y="685800"/>
            <a:ext cx="300816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Nerve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3160440" cy="5440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lfactory mucosa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upplied by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olfactory n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erves of general sensation are derived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maxillary n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Autonomic fi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0" descr="F66122-008-f232"/>
          <p:cNvPicPr/>
          <p:nvPr/>
        </p:nvPicPr>
        <p:blipFill>
          <a:blip r:embed="rId1"/>
          <a:stretch/>
        </p:blipFill>
        <p:spPr>
          <a:xfrm>
            <a:off x="3654360" y="2057400"/>
            <a:ext cx="5489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19360" y="761760"/>
            <a:ext cx="42670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supp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3352680" cy="5516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Rounded MT Bold"/>
              </a:rPr>
              <a:t>Arterial Suppl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Branches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maxillar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faci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ophthalmic arte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arteries make a rich anastomosis in the region of the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vestibule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and anterior portion of the sept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Rounded MT Bold"/>
              </a:rPr>
              <a:t>Venous Drainag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rain into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faci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spheno-palatine vei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F66122-008-f230"/>
          <p:cNvPicPr/>
          <p:nvPr/>
        </p:nvPicPr>
        <p:blipFill>
          <a:blip r:embed="rId1"/>
          <a:stretch/>
        </p:blipFill>
        <p:spPr>
          <a:xfrm>
            <a:off x="3886200" y="2438280"/>
            <a:ext cx="5111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05320" cy="7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  <a:ea typeface="Tahoma"/>
              </a:rPr>
              <a:t>Lymphatic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lymphatics from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Vestibu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bmandibul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Rest of the cavit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upper deep cerv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F66122-008-f233"/>
          <p:cNvPicPr/>
          <p:nvPr/>
        </p:nvPicPr>
        <p:blipFill>
          <a:blip r:embed="rId1"/>
          <a:stretch/>
        </p:blipFill>
        <p:spPr>
          <a:xfrm>
            <a:off x="3575160" y="1584360"/>
            <a:ext cx="51116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Paranasal Sin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ir filled caviti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ocated in the bones around the nasal cavity: 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  <a:ea typeface="Tahoma"/>
              </a:rPr>
              <a:t>Ethmoid, Sphenoid, Frontal bones Maxilla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ned by respiratory mucos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which is continuous with the mucosa of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Drain into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Rounded MT Bold"/>
              </a:rPr>
              <a:t>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ghten the sk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ct as resonant chambers for spee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r conditioning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respiratory mucosal lining helps in warming, cleaning and moistening the incoming ai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ClipArt Placeholder 6" descr="pns"/>
          <p:cNvPicPr/>
          <p:nvPr/>
        </p:nvPicPr>
        <p:blipFill>
          <a:blip r:embed="rId1"/>
          <a:srcRect l="3457" t="12704" r="2000" b="3383"/>
          <a:stretch/>
        </p:blipFill>
        <p:spPr>
          <a:xfrm>
            <a:off x="5103720" y="1600200"/>
            <a:ext cx="39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86200" y="762120"/>
          <a:ext cx="4952880" cy="4657680"/>
        </p:xfrm>
        <a:graphic>
          <a:graphicData uri="http://schemas.openxmlformats.org/drawingml/2006/table">
            <a:tbl>
              <a:tblPr/>
              <a:tblGrid>
                <a:gridCol w="1371600"/>
                <a:gridCol w="3581280"/>
              </a:tblGrid>
              <a:tr h="125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Spheno ethmoidal re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phen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</a:tr>
              <a:tr h="102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p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ahoma"/>
                          <a:ea typeface="Tahoma"/>
                        </a:rPr>
                        <a:t>posterior ethm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ethmoidal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xillary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ontal &amp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e anterior ethmoidal sinus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</a:tr>
              <a:tr h="75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nasolacrimal duc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162" name="Picture 7" descr="F66122-008-f226c"/>
          <p:cNvPicPr/>
          <p:nvPr/>
        </p:nvPicPr>
        <p:blipFill>
          <a:blip r:embed="rId1"/>
          <a:srcRect l="0" t="3318" r="0" b="5000"/>
          <a:stretch/>
        </p:blipFill>
        <p:spPr>
          <a:xfrm>
            <a:off x="380880" y="1066680"/>
            <a:ext cx="3353040" cy="426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27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Rounded MT Bold"/>
                <a:ea typeface="Arial Unicode MS"/>
              </a:rPr>
              <a:t>Pharyn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724640" cy="5410080"/>
          </a:xfrm>
          <a:prstGeom prst="rect">
            <a:avLst/>
          </a:prstGeom>
          <a:solidFill>
            <a:srgbClr val="8be0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Muscular tube lying behind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ral cav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laryn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Exten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rom the base of the skull to level of the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6</a:t>
            </a:r>
            <a:r>
              <a:rPr b="0" lang="en-US" sz="2400" spc="-1" strike="noStrike" u="sng" baseline="30000">
                <a:solidFill>
                  <a:srgbClr val="ff0066"/>
                </a:solidFill>
                <a:uFillTx/>
                <a:latin typeface="Arial"/>
              </a:rPr>
              <a:t>th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 cervica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verteb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where it is continuous with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he anterior wall is deficient and shows (from above downwar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erior nasal apertur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pening of the or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ryngeal in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he muscles arranged in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ir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ongitudinal layer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:\Documents and Settings\user\My Documents\My Pictures\pharynx1.jpg"/>
          <p:cNvPicPr/>
          <p:nvPr/>
        </p:nvPicPr>
        <p:blipFill>
          <a:blip r:embed="rId1"/>
          <a:srcRect l="-434" t="1720" r="7410" b="28506"/>
          <a:stretch/>
        </p:blipFill>
        <p:spPr>
          <a:xfrm>
            <a:off x="4952880" y="304920"/>
            <a:ext cx="3200400" cy="2890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1"/>
          <p:cNvSpPr/>
          <p:nvPr/>
        </p:nvSpPr>
        <p:spPr>
          <a:xfrm>
            <a:off x="601992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60199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6" descr="C:\Documents and Settings\user\My Documents\My Pictures\phnx.jpg"/>
          <p:cNvPicPr/>
          <p:nvPr/>
        </p:nvPicPr>
        <p:blipFill>
          <a:blip r:embed="rId2"/>
          <a:srcRect l="0" t="2520" r="0" b="6602"/>
          <a:stretch/>
        </p:blipFill>
        <p:spPr>
          <a:xfrm>
            <a:off x="5029200" y="3352680"/>
            <a:ext cx="31240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169" name="Straight Arrow Connector 12"/>
          <p:cNvCxnSpPr/>
          <p:nvPr/>
        </p:nvCxnSpPr>
        <p:spPr>
          <a:xfrm>
            <a:off x="6933240" y="1219320"/>
            <a:ext cx="76680" cy="1219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TextBox 1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phnx"/>
          <p:cNvPicPr/>
          <p:nvPr/>
        </p:nvPicPr>
        <p:blipFill>
          <a:blip r:embed="rId1"/>
          <a:srcRect l="4108" t="6849" r="4108" b="2740"/>
          <a:stretch/>
        </p:blipFill>
        <p:spPr>
          <a:xfrm>
            <a:off x="4648320" y="838080"/>
            <a:ext cx="3646440" cy="3276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Circular (Constrictor)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10480" cy="21337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 the bolus of food down into the esophag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ibers of the inferior constrictor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icopharyg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ct as a sphincter, preventing the entry of air into the esophagus between the acts of swallow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64771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640080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6400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80880" y="838080"/>
            <a:ext cx="4114800" cy="3200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ree in numb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perior constrict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ddle constrictor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ferior constri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three muscles overlap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Longitudinal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4000" cy="45720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yl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ping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latpharyn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Fun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 the larynx &amp; pharynx during swall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K:\Student Gray\8. Head and neck\F66122-008-f190b.jpg"/>
          <p:cNvPicPr/>
          <p:nvPr/>
        </p:nvPicPr>
        <p:blipFill>
          <a:blip r:embed="rId1"/>
          <a:srcRect l="8014" t="0" r="8188" b="3597"/>
          <a:stretch/>
        </p:blipFill>
        <p:spPr>
          <a:xfrm>
            <a:off x="4876920" y="1143000"/>
            <a:ext cx="3744720" cy="5183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7543800" y="4952880"/>
            <a:ext cx="838080" cy="457200"/>
          </a:xfrm>
          <a:prstGeom prst="rect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2"/>
          <p:cNvSpPr/>
          <p:nvPr/>
        </p:nvSpPr>
        <p:spPr>
          <a:xfrm>
            <a:off x="7391520" y="4343400"/>
            <a:ext cx="1066680" cy="3049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3"/>
          <p:cNvSpPr/>
          <p:nvPr/>
        </p:nvSpPr>
        <p:spPr>
          <a:xfrm>
            <a:off x="7543800" y="3735360"/>
            <a:ext cx="1077840" cy="455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4800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harynx is divided into three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sopharynx</a:t>
            </a: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opharynx</a:t>
            </a: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ryng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257800" y="1219320"/>
            <a:ext cx="3616200" cy="3516120"/>
          </a:xfrm>
          <a:prstGeom prst="rect">
            <a:avLst/>
          </a:prstGeom>
          <a:ln w="0">
            <a:noFill/>
          </a:ln>
        </p:spPr>
      </p:pic>
      <p:sp>
        <p:nvSpPr>
          <p:cNvPr id="186" name="Oval 4"/>
          <p:cNvSpPr/>
          <p:nvPr/>
        </p:nvSpPr>
        <p:spPr>
          <a:xfrm>
            <a:off x="6324480" y="3962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64771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64771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Nose, Nasal cavity, </a:t>
            </a: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Paranasal Sinuses &amp; Pharyn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Rectangle 4" descr=""/>
          <p:cNvPicPr/>
          <p:nvPr/>
        </p:nvPicPr>
        <p:blipFill>
          <a:blip r:embed="rId1"/>
          <a:stretch/>
        </p:blipFill>
        <p:spPr>
          <a:xfrm>
            <a:off x="-334800" y="4651200"/>
            <a:ext cx="97963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00600" y="228600"/>
            <a:ext cx="419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Nas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4419720" cy="678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s from the base of skull to the soft pal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nasal cavity through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posterior nasal aper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aryngeal tonsil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denoides) present in the submucosa covering the ro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Lateral wall sh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ing of auditory tu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bal elevat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oduced by posterior margin of the auditory tub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ton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ryngeal re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alpingopharyngeal fol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aised by salpingo-pharyngeus musc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105520" y="762120"/>
            <a:ext cx="3200400" cy="3111480"/>
          </a:xfrm>
          <a:prstGeom prst="rect">
            <a:avLst/>
          </a:prstGeom>
          <a:ln w="0">
            <a:noFill/>
          </a:ln>
        </p:spPr>
      </p:pic>
      <p:pic>
        <p:nvPicPr>
          <p:cNvPr id="192" name="ClipArt Placeholder 6" descr="C:\Documents and Settings\user\My Documents\My Pictures\jhu.jpg"/>
          <p:cNvPicPr/>
          <p:nvPr/>
        </p:nvPicPr>
        <p:blipFill>
          <a:blip r:embed="rId2"/>
          <a:srcRect l="0" t="0" r="0" b="30226"/>
          <a:stretch/>
        </p:blipFill>
        <p:spPr>
          <a:xfrm>
            <a:off x="4699080" y="3429000"/>
            <a:ext cx="4444920" cy="28195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4699080" y="4038480"/>
            <a:ext cx="1092240" cy="533520"/>
          </a:xfrm>
          <a:prstGeom prst="rect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67080" y="228240"/>
            <a:ext cx="42703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Or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3810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es behind the mouth, communicates with the oral cavity through the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opharyngeal isth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oft pal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upper border of epiglot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ateral wall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pharyngeal f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glossal f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ine tonsi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between them in                      a depression called the ‘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onsilla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ossa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’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Straight Arrow Connector 9"/>
          <p:cNvCxnSpPr/>
          <p:nvPr/>
        </p:nvCxnSpPr>
        <p:spPr>
          <a:xfrm flipH="1" flipV="1">
            <a:off x="5866920" y="2971440"/>
            <a:ext cx="1067760" cy="1448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97" name="Picture 8" descr="C:\Users\galmadani\Pictures\Picture5.jpg"/>
          <p:cNvPicPr/>
          <p:nvPr/>
        </p:nvPicPr>
        <p:blipFill>
          <a:blip r:embed="rId1"/>
          <a:srcRect l="0" t="2676" r="3143" b="1011"/>
          <a:stretch/>
        </p:blipFill>
        <p:spPr>
          <a:xfrm>
            <a:off x="4572000" y="1828800"/>
            <a:ext cx="41911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latine tons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Content Placeholder 4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57600" cy="469116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Two masses of lymphoid tissue located in the lateral wall of the oropharynx in the tonsillar foss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Each one is covered by mucous membrane and laterally by fibrous tissue (capsu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It reaches a maximum size during childhood,  after puberty it diminishes in siz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baed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1447560"/>
            <a:ext cx="4343400" cy="5257800"/>
          </a:xfrm>
          <a:prstGeom prst="rect">
            <a:avLst/>
          </a:prstGeom>
          <a:solidFill>
            <a:srgbClr val="8be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nteriorly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alatoglossal ar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osteriorly: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alatopharyngeal ar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uperiorl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soft pal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nferiorly: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osterior 1\3 of the tong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edially</a:t>
            </a:r>
            <a:r>
              <a:rPr b="1" lang="en-US" sz="20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cavity of the oropharyn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Laterall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superior constrictor of the pharynx separated from it by lose connective tissue through which descends the external palatine vein ,                                          , loop of the facial artery and                                                                             , the internal carotid artery which lies behind and lateral to the tonsils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4827600" y="2057400"/>
            <a:ext cx="40147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Content Placeholder 5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112000" cy="3057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200400" cy="4889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terial supply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onsillar artery from the fascial, lingual and greater palat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enous drainag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oin external palatine pharyngeal and fascial ve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ymphatic drainag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o the upper deep cervical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jugulodigastric nod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3962520" y="853920"/>
            <a:ext cx="5048280" cy="1914840"/>
          </a:xfrm>
          <a:prstGeom prst="rect">
            <a:avLst/>
          </a:prstGeom>
          <a:ln w="0">
            <a:noFill/>
          </a:ln>
        </p:spPr>
      </p:pic>
      <p:sp>
        <p:nvSpPr>
          <p:cNvPr id="207" name="Oval 5"/>
          <p:cNvSpPr/>
          <p:nvPr/>
        </p:nvSpPr>
        <p:spPr>
          <a:xfrm>
            <a:off x="8229600" y="4419720"/>
            <a:ext cx="45720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498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Laryng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953240" cy="624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Lies behind the laryngeal inlet &amp; the posterior surface of laryn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communicates with the larynx  throug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eal in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tends from upper border of epiglottis to lower border of cricoid cartil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A small depression situated on either side of the laryngeal inlet is call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riform Fossa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It is a common site for the lodging of foreign bo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Branches of internal laryngeal &amp; recurrent laryngeal nerves lie deep to the mucous membrane of the fossa and are vulnerable to injury during removal of a foreign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486400" y="228600"/>
            <a:ext cx="3381480" cy="328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Documents and Settings\user\My Documents\My Pictures\vfd.png"/>
          <p:cNvPicPr/>
          <p:nvPr/>
        </p:nvPicPr>
        <p:blipFill>
          <a:blip r:embed="rId2"/>
          <a:stretch/>
        </p:blipFill>
        <p:spPr>
          <a:xfrm>
            <a:off x="5638680" y="3581280"/>
            <a:ext cx="2971800" cy="2989440"/>
          </a:xfrm>
          <a:prstGeom prst="rect">
            <a:avLst/>
          </a:prstGeom>
          <a:ln w="0">
            <a:noFill/>
          </a:ln>
        </p:spPr>
      </p:pic>
      <p:cxnSp>
        <p:nvCxnSpPr>
          <p:cNvPr id="212" name="Straight Arrow Connector 6"/>
          <p:cNvCxnSpPr/>
          <p:nvPr/>
        </p:nvCxnSpPr>
        <p:spPr>
          <a:xfrm flipV="1">
            <a:off x="6552000" y="4800240"/>
            <a:ext cx="7628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28240" y="228240"/>
            <a:ext cx="3809880" cy="6248520"/>
          </a:xfrm>
          <a:prstGeom prst="rect">
            <a:avLst/>
          </a:prstGeom>
          <a:solidFill>
            <a:srgbClr val="d2f4f4"/>
          </a:solidFill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 Rounded MT Bold"/>
              </a:rPr>
              <a:t>Nerve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Nasopharynx: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xillary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Oropharynx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lossopharyngeal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Laryngopharynx: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gus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tor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All the muscles of pharynx are supplied by the pharyngeal plexus. </a:t>
            </a:r>
            <a:r>
              <a:rPr b="0" lang="en-US" sz="2000" spc="-1" strike="noStrike" u="sng">
                <a:solidFill>
                  <a:srgbClr val="161616"/>
                </a:solidFill>
                <a:uFillTx/>
                <a:latin typeface="Arial"/>
              </a:rPr>
              <a:t>Except ;</a:t>
            </a: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Stylopharyngeus is supplied by the glossopharyngeal ner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62520" y="-360"/>
            <a:ext cx="4876560" cy="2971800"/>
          </a:xfrm>
          <a:prstGeom prst="rect">
            <a:avLst/>
          </a:prstGeom>
          <a:solidFill>
            <a:srgbClr val="baedff"/>
          </a:solidFill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 Rounded MT Bold"/>
              </a:rPr>
              <a:t>Arterial supply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branches of the following arte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haryng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alat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xil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g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114800" y="3124080"/>
            <a:ext cx="4724280" cy="12956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Arial Rounded MT Bold"/>
              </a:rPr>
              <a:t>Vein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in into pharyngeal venous plexus, which drains in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l jugular v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114800" y="4495680"/>
            <a:ext cx="472428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rial Rounded MT Bold"/>
              </a:rPr>
              <a:t>lymphatic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drain into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ep cervical lymph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nodes either directly, or indirectly via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ropharyngea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paratracheal lymph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illy4"/>
          <p:cNvPicPr/>
          <p:nvPr/>
        </p:nvPicPr>
        <p:blipFill>
          <a:blip r:embed="rId1"/>
          <a:stretch/>
        </p:blipFill>
        <p:spPr>
          <a:xfrm>
            <a:off x="2286000" y="1719360"/>
            <a:ext cx="4191120" cy="31352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1981080" y="22096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cript MT Bold"/>
              </a:rPr>
              <a:t>Thank You &amp; Good Lu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295280"/>
            <a:ext cx="8540640" cy="38102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t the end of the lecture, the students should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boundaries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nasal conchae and mea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the openings in each me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aranasal sinuses and thei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harynx and its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Rounded MT Bold"/>
              </a:rPr>
              <a:t>N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cathnose"/>
          <p:cNvPicPr/>
          <p:nvPr/>
        </p:nvPicPr>
        <p:blipFill>
          <a:blip r:embed="rId1"/>
          <a:stretch/>
        </p:blipFill>
        <p:spPr>
          <a:xfrm>
            <a:off x="6172200" y="914400"/>
            <a:ext cx="2682720" cy="2614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7696080" y="9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553080" y="2133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3152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705720" y="274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7543800" y="2362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Straight Arrow Connector 13"/>
          <p:cNvCxnSpPr/>
          <p:nvPr/>
        </p:nvCxnSpPr>
        <p:spPr>
          <a:xfrm flipH="1" flipV="1">
            <a:off x="7543080" y="2742480"/>
            <a:ext cx="1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7" descr="C:\Documents and Settings\user\My Documents\My Pictures\nasalcartilages.gif"/>
          <p:cNvPicPr/>
          <p:nvPr/>
        </p:nvPicPr>
        <p:blipFill>
          <a:blip r:embed="rId2"/>
          <a:stretch/>
        </p:blipFill>
        <p:spPr>
          <a:xfrm>
            <a:off x="3962520" y="2819520"/>
            <a:ext cx="2133360" cy="368460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19"/>
          <p:cNvCxnSpPr/>
          <p:nvPr/>
        </p:nvCxnSpPr>
        <p:spPr>
          <a:xfrm flipH="1">
            <a:off x="5638320" y="4572000"/>
            <a:ext cx="61056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4" name="Straight Arrow Connector 20"/>
          <p:cNvCxnSpPr/>
          <p:nvPr/>
        </p:nvCxnSpPr>
        <p:spPr>
          <a:xfrm flipH="1">
            <a:off x="5257440" y="4570920"/>
            <a:ext cx="99144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Rectangle 3"/>
          <p:cNvSpPr/>
          <p:nvPr/>
        </p:nvSpPr>
        <p:spPr>
          <a:xfrm>
            <a:off x="0" y="358128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152280" y="914400"/>
            <a:ext cx="3733920" cy="17524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 ) na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r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nostrils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ead to the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432240" cy="121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77000"/>
          </a:bodyPr>
          <a:p>
            <a:pPr lvl="1"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above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ony skel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44956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47242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44197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Placeholder 5"/>
          <p:cNvSpPr/>
          <p:nvPr/>
        </p:nvSpPr>
        <p:spPr>
          <a:xfrm>
            <a:off x="6248520" y="3962520"/>
            <a:ext cx="213336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bel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y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  <a:ea typeface="Tahoma"/>
              </a:rPr>
              <a:t>plates of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20"/>
          <p:cNvCxnSpPr/>
          <p:nvPr/>
        </p:nvCxnSpPr>
        <p:spPr>
          <a:xfrm>
            <a:off x="3657240" y="3352680"/>
            <a:ext cx="1067400" cy="153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3" name="Straight Arrow Connector 22"/>
          <p:cNvCxnSpPr/>
          <p:nvPr/>
        </p:nvCxnSpPr>
        <p:spPr>
          <a:xfrm>
            <a:off x="3656520" y="3352680"/>
            <a:ext cx="762840" cy="14486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asal Ca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429000" cy="518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xtends from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) nar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o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posterior nares (choana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vided into right &amp; left halves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ach half has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Later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edial wall (sept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b8"/>
          <p:cNvPicPr/>
          <p:nvPr/>
        </p:nvPicPr>
        <p:blipFill>
          <a:blip r:embed="rId1"/>
          <a:srcRect l="3159" t="0" r="1451" b="15961"/>
          <a:stretch/>
        </p:blipFill>
        <p:spPr>
          <a:xfrm>
            <a:off x="4343400" y="3581280"/>
            <a:ext cx="4545000" cy="289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user\My Documents\My Pictures\xx.jpg"/>
          <p:cNvPicPr/>
          <p:nvPr/>
        </p:nvPicPr>
        <p:blipFill>
          <a:blip r:embed="rId2"/>
          <a:stretch/>
        </p:blipFill>
        <p:spPr>
          <a:xfrm>
            <a:off x="4495680" y="762120"/>
            <a:ext cx="3810240" cy="276228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6"/>
          <p:cNvSpPr/>
          <p:nvPr/>
        </p:nvSpPr>
        <p:spPr>
          <a:xfrm flipH="1">
            <a:off x="6629400" y="4572000"/>
            <a:ext cx="7632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9"/>
          <p:cNvSpPr/>
          <p:nvPr/>
        </p:nvSpPr>
        <p:spPr>
          <a:xfrm>
            <a:off x="6629400" y="6019920"/>
            <a:ext cx="5335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11"/>
          <p:cNvSpPr/>
          <p:nvPr/>
        </p:nvSpPr>
        <p:spPr>
          <a:xfrm>
            <a:off x="6780960" y="4572000"/>
            <a:ext cx="38124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14"/>
          <p:cNvSpPr/>
          <p:nvPr/>
        </p:nvSpPr>
        <p:spPr>
          <a:xfrm>
            <a:off x="6705720" y="4572000"/>
            <a:ext cx="75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24280" y="685440"/>
            <a:ext cx="419112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arrow &amp; formed (from behind forward) by th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Body of spheno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ribriform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rontal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bone &amp; cartilag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57200" y="762120"/>
            <a:ext cx="4194000" cy="3504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990720" y="4495680"/>
            <a:ext cx="6476760" cy="13716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Separates it from the oral cav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Formed by the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  <a:ea typeface="Tahoma"/>
              </a:rPr>
              <a:t>hard (bony) palat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52480" y="1600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209680" y="1371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7432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Straight Arrow Connector 9"/>
          <p:cNvCxnSpPr/>
          <p:nvPr/>
        </p:nvCxnSpPr>
        <p:spPr>
          <a:xfrm flipH="1" flipV="1">
            <a:off x="2286000" y="3351960"/>
            <a:ext cx="766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35812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Tahoma"/>
              </a:rPr>
              <a:t>Medial Wall (Nasal Sept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steocartilagino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part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Perpendicular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Vom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eptal carti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114800" y="1523880"/>
            <a:ext cx="437688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172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3244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4864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457200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Lateral W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hows three horizontal bony projections,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amp;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conch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cavity below each concha is called a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meat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and are named as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, middle &amp; inferior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rresponding to the conch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Picture1"/>
          <p:cNvPicPr/>
          <p:nvPr/>
        </p:nvPicPr>
        <p:blipFill>
          <a:blip r:embed="rId1"/>
          <a:stretch/>
        </p:blipFill>
        <p:spPr>
          <a:xfrm>
            <a:off x="4648320" y="838080"/>
            <a:ext cx="4384440" cy="3318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04920" y="4419720"/>
            <a:ext cx="8686800" cy="243828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The small space above the superior concha is the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ha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increase the surface area of the nas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ess &amp; meati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ceive the openings of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aranasal sin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asolacrimal duct</a:t>
            </a:r>
            <a:r>
              <a:rPr b="0" lang="en-US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816360" cy="647640"/>
          </a:xfrm>
          <a:prstGeom prst="rect">
            <a:avLst/>
          </a:prstGeom>
          <a:gradFill rotWithShape="0">
            <a:gsLst>
              <a:gs pos="0">
                <a:srgbClr val="90f1f1"/>
              </a:gs>
              <a:gs pos="100000">
                <a:srgbClr val="dff9f9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74ff"/>
                </a:solidFill>
                <a:latin typeface="Arial"/>
              </a:rPr>
              <a:t>Nasal mu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999720"/>
            <a:ext cx="4143240" cy="5597640"/>
          </a:xfrm>
          <a:prstGeom prst="rect">
            <a:avLst/>
          </a:prstGeom>
          <a:gradFill rotWithShape="0">
            <a:gsLst>
              <a:gs pos="0">
                <a:srgbClr val="91b7d6"/>
              </a:gs>
              <a:gs pos="100000">
                <a:srgbClr val="dfe9f1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Olfactory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ic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ontains olfactory nerv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present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upper part of nasal ca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of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n the later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upper surfac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con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n the medi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139C-1D01-4121-981D-C233E64DB2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F0929065"/>
          <p:cNvPicPr/>
          <p:nvPr/>
        </p:nvPicPr>
        <p:blipFill>
          <a:blip r:embed="rId1"/>
          <a:srcRect l="1761" t="4538" r="44954" b="5452"/>
          <a:stretch/>
        </p:blipFill>
        <p:spPr>
          <a:xfrm>
            <a:off x="4419720" y="3809880"/>
            <a:ext cx="4278240" cy="2895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2" name="Picture 10" descr="F66122-008-f232"/>
          <p:cNvPicPr/>
          <p:nvPr/>
        </p:nvPicPr>
        <p:blipFill>
          <a:blip r:embed="rId2"/>
          <a:srcRect l="0" t="4142" r="-3043" b="4807"/>
          <a:stretch/>
        </p:blipFill>
        <p:spPr>
          <a:xfrm>
            <a:off x="4572000" y="152280"/>
            <a:ext cx="4114800" cy="3540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08:28Z</dcterms:created>
  <dc:creator>Dr. Zeenat Zaidi</dc:creator>
  <dc:description/>
  <dc:language>en-US</dc:language>
  <cp:lastModifiedBy>Gamilah H. Al-Madani</cp:lastModifiedBy>
  <dcterms:modified xsi:type="dcterms:W3CDTF">2016-01-18T05:32:33Z</dcterms:modified>
  <cp:revision>164</cp:revision>
  <dc:subject/>
  <dc:title>Nose, Nasal cavity &amp; Paranasal sinuses &amp; Pharynx</dc:title>
</cp:coreProperties>
</file>