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B417-34F3-47D5-87BA-EA64FCBB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366-4EE3-4279-A9EA-8058CB88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056-72EC-4E5D-A94E-0F2E5D6B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8ED-F39F-4854-BE1D-BB43C761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1923-9769-48C8-A9A1-71B65B9B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07E-5FB0-41C2-92A4-3A97985E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210B-E4B9-45FD-ADF7-430457FD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9A4-8204-4864-AA8F-7658E950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B6A3-1CAE-4DD3-985C-06F4F557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A103-07F9-48F0-99A3-434E563F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88F-4FF4-480B-A4FF-A45DD27B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1A89-6965-429D-AA68-20148E2C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0AF7-C8D7-4AEE-ACF8-FAE90A717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wiley-vch.e-bookshelf.de/products/reading-epub/product-id/595166/title/anatomy+at+a+glance.html?lang=dt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37720" y="4723920"/>
            <a:ext cx="5715000" cy="1752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B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Prof. Ahmed Fathalla 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Dr. Sanaa Alshara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Title 1" descr=""/>
          <p:cNvPicPr/>
          <p:nvPr/>
        </p:nvPicPr>
        <p:blipFill>
          <a:blip r:embed="rId1"/>
          <a:stretch/>
        </p:blipFill>
        <p:spPr>
          <a:xfrm>
            <a:off x="517680" y="-249120"/>
            <a:ext cx="878508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ORIGIN OF DIAPHRAG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1)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Costal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lower 6 costal cartilages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3) Sternal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xiphoid process of stern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Content Placeholder 7" descr="respiration 004.jpg"/>
          <p:cNvPicPr/>
          <p:nvPr/>
        </p:nvPicPr>
        <p:blipFill>
          <a:blip r:embed="rId1"/>
          <a:stretch/>
        </p:blipFill>
        <p:spPr>
          <a:xfrm>
            <a:off x="228600" y="2174760"/>
            <a:ext cx="4343400" cy="4454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5080" y="1294920"/>
            <a:ext cx="42703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46c0a"/>
                </a:solidFill>
                <a:latin typeface="Calibri"/>
              </a:rPr>
              <a:t>2) Vertebral: </a:t>
            </a: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upper 3 lumbar vertebra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(right &amp; left crus + arcuate ligament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4956480" y="6248520"/>
            <a:ext cx="12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Posterior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ight Arrow 11"/>
          <p:cNvSpPr/>
          <p:nvPr/>
        </p:nvSpPr>
        <p:spPr>
          <a:xfrm>
            <a:off x="1371600" y="5867280"/>
            <a:ext cx="304920" cy="2286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eft Arrow 12"/>
          <p:cNvSpPr/>
          <p:nvPr/>
        </p:nvSpPr>
        <p:spPr>
          <a:xfrm>
            <a:off x="3429000" y="5791320"/>
            <a:ext cx="380880" cy="22860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4724280" y="571500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al arcuate lig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Content Placeholder 17" descr="respiration 003.jpg"/>
          <p:cNvPicPr/>
          <p:nvPr/>
        </p:nvPicPr>
        <p:blipFill>
          <a:blip r:embed="rId2"/>
          <a:stretch/>
        </p:blipFill>
        <p:spPr>
          <a:xfrm>
            <a:off x="4854600" y="2174760"/>
            <a:ext cx="3984480" cy="4454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7" name="TextBox 18"/>
          <p:cNvSpPr/>
          <p:nvPr/>
        </p:nvSpPr>
        <p:spPr>
          <a:xfrm>
            <a:off x="4879440" y="624852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4805280" y="5715000"/>
            <a:ext cx="173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dial arcuate lig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7163280" y="5715000"/>
            <a:ext cx="17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ateral arcuate lig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26"/>
          <p:cNvCxnSpPr/>
          <p:nvPr/>
        </p:nvCxnSpPr>
        <p:spPr>
          <a:xfrm flipH="1" flipV="1">
            <a:off x="7085880" y="5485680"/>
            <a:ext cx="305640" cy="305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1" name="Straight Arrow Connector 32"/>
          <p:cNvCxnSpPr/>
          <p:nvPr/>
        </p:nvCxnSpPr>
        <p:spPr>
          <a:xfrm flipV="1">
            <a:off x="5867280" y="5409360"/>
            <a:ext cx="534240" cy="3819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2" name="TextBox 15"/>
          <p:cNvSpPr/>
          <p:nvPr/>
        </p:nvSpPr>
        <p:spPr>
          <a:xfrm>
            <a:off x="268200" y="5562720"/>
            <a:ext cx="146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ateral arcuate liga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22"/>
          <p:cNvCxnSpPr/>
          <p:nvPr/>
        </p:nvCxnSpPr>
        <p:spPr>
          <a:xfrm flipV="1">
            <a:off x="1599120" y="5028480"/>
            <a:ext cx="610200" cy="6102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4" name="TextBox 21"/>
          <p:cNvSpPr/>
          <p:nvPr/>
        </p:nvSpPr>
        <p:spPr>
          <a:xfrm>
            <a:off x="3605040" y="5486400"/>
            <a:ext cx="97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edial arcu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iga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Straight Arrow Connector 24"/>
          <p:cNvCxnSpPr/>
          <p:nvPr/>
        </p:nvCxnSpPr>
        <p:spPr>
          <a:xfrm flipH="1" flipV="1">
            <a:off x="2819160" y="5028840"/>
            <a:ext cx="915120" cy="5342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6" name="Picture 4" descr="C1E11E6"/>
          <p:cNvPicPr/>
          <p:nvPr/>
        </p:nvPicPr>
        <p:blipFill>
          <a:blip r:embed="rId3"/>
          <a:srcRect l="26710" t="31106" r="0" b="39089"/>
          <a:stretch/>
        </p:blipFill>
        <p:spPr>
          <a:xfrm>
            <a:off x="4786200" y="2214720"/>
            <a:ext cx="4071960" cy="4429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http://download.e-bookshelf.de/download/0000/5951/66/L-X-0000595166-0001311118.XHTML/images/c04_image003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200" y="2214720"/>
            <a:ext cx="4357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INSERTION OF DIAPHRAGM</a:t>
            </a:r>
            <a:br>
              <a:rPr sz="4900"/>
            </a:b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(CENTRAL TENDON)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ontent Placeholder 7" descr="respiration 005.jpg"/>
          <p:cNvPicPr/>
          <p:nvPr/>
        </p:nvPicPr>
        <p:blipFill>
          <a:blip r:embed="rId1"/>
          <a:stretch/>
        </p:blipFill>
        <p:spPr>
          <a:xfrm>
            <a:off x="4648320" y="2362320"/>
            <a:ext cx="426708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0" name="Content Placeholder 9" descr="respiration 006.jpg"/>
          <p:cNvPicPr/>
          <p:nvPr/>
        </p:nvPicPr>
        <p:blipFill>
          <a:blip r:embed="rId2"/>
          <a:stretch/>
        </p:blipFill>
        <p:spPr>
          <a:xfrm>
            <a:off x="228600" y="2362320"/>
            <a:ext cx="426708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1" name="TextBox 4"/>
          <p:cNvSpPr/>
          <p:nvPr/>
        </p:nvSpPr>
        <p:spPr>
          <a:xfrm>
            <a:off x="500040" y="178596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(lies at  the level of xiphisternal joint, at 9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thoracic Vertebr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DIAPHRAG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46c0a"/>
                </a:solidFill>
                <a:latin typeface="Calibri"/>
              </a:rPr>
              <a:t>A musculotendinous partition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between thoracic &amp; abdominal ca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Convex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 toward thoracic &amp;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concave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 toward abdominal ca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Attached to: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sternum, costal cartilages,12</a:t>
            </a:r>
            <a:r>
              <a:rPr b="1" lang="en-US" sz="2700" spc="-1" strike="noStrike" baseline="30000">
                <a:solidFill>
                  <a:srgbClr val="0070c0"/>
                </a:solidFill>
                <a:latin typeface="Calibri"/>
              </a:rPr>
              <a:t>th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 rib &amp; lumbar vertebra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Fibers converge to join the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central tend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Nerve supply: </a:t>
            </a:r>
            <a:r>
              <a:rPr b="1" lang="en-US" sz="2700" spc="-1" strike="noStrike">
                <a:solidFill>
                  <a:srgbClr val="e46c0a"/>
                </a:solidFill>
                <a:latin typeface="Calibri"/>
              </a:rPr>
              <a:t>phrenic nerve (C3,4,5),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penetrates diaphragm &amp; innervates it from abdominal surf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Action: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contraction (descent) of diaphragm increase vertical diameter of thoracic cavity </a:t>
            </a:r>
            <a:r>
              <a:rPr b="1" lang="en-US" sz="2700" spc="-1" strike="noStrike">
                <a:solidFill>
                  <a:srgbClr val="e46c0a"/>
                </a:solidFill>
                <a:latin typeface="Calibri"/>
              </a:rPr>
              <a:t>(essential for normal breathing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EXTERNAL INTERCOSTAL</a:t>
            </a:r>
            <a:br>
              <a:rPr sz="4900"/>
            </a:b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(Inspiratory Musc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0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Calibri"/>
              </a:rPr>
              <a:t>Attachments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from lower border of rib above to upper border of rib belo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Calibri"/>
              </a:rPr>
              <a:t>Direction of fibers: 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downward &amp; medi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Content Placeholder 7" descr="F66122-003-f027.jpg"/>
          <p:cNvPicPr/>
          <p:nvPr/>
        </p:nvPicPr>
        <p:blipFill>
          <a:blip r:embed="rId1"/>
          <a:stretch/>
        </p:blipFill>
        <p:spPr>
          <a:xfrm>
            <a:off x="457200" y="3098880"/>
            <a:ext cx="4040280" cy="3759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5080" y="1447920"/>
            <a:ext cx="41940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Calibri"/>
              </a:rPr>
              <a:t>Nerve supply: 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intercostal n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Calibri"/>
              </a:rPr>
              <a:t>Action: 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rib elevators (inspirator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Content Placeholder 8" descr="F66122-003-f026a.jpg"/>
          <p:cNvPicPr/>
          <p:nvPr/>
        </p:nvPicPr>
        <p:blipFill>
          <a:blip r:embed="rId2"/>
          <a:stretch/>
        </p:blipFill>
        <p:spPr>
          <a:xfrm>
            <a:off x="5105520" y="2906640"/>
            <a:ext cx="3398760" cy="3951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9" name="Up Arrow 6"/>
          <p:cNvSpPr/>
          <p:nvPr/>
        </p:nvSpPr>
        <p:spPr>
          <a:xfrm>
            <a:off x="1295280" y="3276720"/>
            <a:ext cx="152640" cy="152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142560"/>
            <a:ext cx="4190760" cy="95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CALENE MUSCLES</a:t>
            </a:r>
            <a:br>
              <a:rPr sz="3600"/>
            </a:b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(In  Forced Inspir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ontent Placeholder 11" descr="respiration 010.jpg"/>
          <p:cNvPicPr/>
          <p:nvPr/>
        </p:nvPicPr>
        <p:blipFill>
          <a:blip r:embed="rId1"/>
          <a:stretch/>
        </p:blipFill>
        <p:spPr>
          <a:xfrm>
            <a:off x="4952880" y="457200"/>
            <a:ext cx="3962520" cy="583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65760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Origin: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cervical vertebr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Insertion: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1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alibri"/>
              </a:rPr>
              <a:t>st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&amp; 2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alibri"/>
              </a:rPr>
              <a:t>nd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ri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Action: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elevates 1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alibri"/>
              </a:rPr>
              <a:t>st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&amp; 2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alibri"/>
              </a:rPr>
              <a:t>nd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ribs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(inspirato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6785640" y="68580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5- Scalenus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6. Scalenus me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7. Scalenus pos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3"/>
          <p:cNvSpPr/>
          <p:nvPr/>
        </p:nvSpPr>
        <p:spPr>
          <a:xfrm>
            <a:off x="6714360" y="441972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r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4"/>
          <p:cNvSpPr/>
          <p:nvPr/>
        </p:nvSpPr>
        <p:spPr>
          <a:xfrm>
            <a:off x="6794280" y="502920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r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7012080" y="220968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Cervical vertebr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17"/>
          <p:cNvCxnSpPr>
            <a:stCxn id="136" idx="1"/>
          </p:cNvCxnSpPr>
          <p:nvPr/>
        </p:nvCxnSpPr>
        <p:spPr>
          <a:xfrm flipH="1" flipV="1">
            <a:off x="6476400" y="1523160"/>
            <a:ext cx="533880" cy="870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PECTORALIS MAJOR</a:t>
            </a:r>
            <a:br>
              <a:rPr sz="5400"/>
            </a:b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(In Forced Inspir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535040"/>
            <a:ext cx="4343400" cy="128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Origin: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sternum + costal cartil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Insertion:</a:t>
            </a: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Content Placeholder 9" descr="F66122-007-f113d.jpg"/>
          <p:cNvPicPr/>
          <p:nvPr/>
        </p:nvPicPr>
        <p:blipFill>
          <a:blip r:embed="rId1"/>
          <a:stretch/>
        </p:blipFill>
        <p:spPr>
          <a:xfrm>
            <a:off x="228600" y="3200400"/>
            <a:ext cx="4268880" cy="3354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4720" y="1295280"/>
            <a:ext cx="404172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Action: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increases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antero-posterior diameter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f thoracic cavity, when arm is fixed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(inspirato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Content Placeholder 10" descr="F66122-003-f017.jpg"/>
          <p:cNvPicPr/>
          <p:nvPr/>
        </p:nvPicPr>
        <p:blipFill>
          <a:blip r:embed="rId2"/>
          <a:stretch/>
        </p:blipFill>
        <p:spPr>
          <a:xfrm>
            <a:off x="4648320" y="3200400"/>
            <a:ext cx="4270320" cy="3397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EXPIRATORY MUSC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Act only during forced expi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Calibri"/>
              </a:rPr>
              <a:t>Rib depresso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Internal intercost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Innermost intercost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Subcost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Transversus thoraci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Calibri"/>
              </a:rPr>
              <a:t>Anterior abdominal wall musc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External obl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Internal obl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Transversus abdomin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Rectus abdomin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RIB DEPRESSORS: REST OF INTERCOSTAL MUSC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. Internal intercos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. Innermost intercos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Direction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upward &amp; medi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Content Placeholder 8" descr="F66122-003-f027.jpg"/>
          <p:cNvPicPr/>
          <p:nvPr/>
        </p:nvPicPr>
        <p:blipFill>
          <a:blip r:embed="rId1"/>
          <a:stretch/>
        </p:blipFill>
        <p:spPr>
          <a:xfrm>
            <a:off x="304920" y="2870280"/>
            <a:ext cx="4343400" cy="3987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81480" y="1447920"/>
            <a:ext cx="37339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marL="41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3. Subcos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4. Transversus thorac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Nerve supply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ntercostal nerves     (ventral rami of T1-T11)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Content Placeholder 9" descr="F66122-003-f028.jpg"/>
          <p:cNvPicPr/>
          <p:nvPr/>
        </p:nvPicPr>
        <p:blipFill>
          <a:blip r:embed="rId2"/>
          <a:stretch/>
        </p:blipFill>
        <p:spPr>
          <a:xfrm>
            <a:off x="5410080" y="2895480"/>
            <a:ext cx="3353040" cy="3962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0" name="Down Arrow 7"/>
          <p:cNvSpPr/>
          <p:nvPr/>
        </p:nvSpPr>
        <p:spPr>
          <a:xfrm>
            <a:off x="609480" y="533412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Up Arrow 10"/>
          <p:cNvSpPr/>
          <p:nvPr/>
        </p:nvSpPr>
        <p:spPr>
          <a:xfrm>
            <a:off x="762120" y="6095880"/>
            <a:ext cx="152280" cy="228600"/>
          </a:xfrm>
          <a:prstGeom prst="up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ight Arrow 11"/>
          <p:cNvSpPr/>
          <p:nvPr/>
        </p:nvSpPr>
        <p:spPr>
          <a:xfrm>
            <a:off x="5638680" y="4800600"/>
            <a:ext cx="304920" cy="7632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own Arrow 12"/>
          <p:cNvSpPr/>
          <p:nvPr/>
        </p:nvSpPr>
        <p:spPr>
          <a:xfrm>
            <a:off x="6858000" y="6477120"/>
            <a:ext cx="76320" cy="15228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NTERIOR ABDOMINAL WAL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4724280" cy="103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External oblique (outer lay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Direction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downward &amp; medi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Content Placeholder 9" descr="respiration 013.jpg"/>
          <p:cNvPicPr/>
          <p:nvPr/>
        </p:nvPicPr>
        <p:blipFill>
          <a:blip r:embed="rId1"/>
          <a:stretch/>
        </p:blipFill>
        <p:spPr>
          <a:xfrm>
            <a:off x="533520" y="2514600"/>
            <a:ext cx="3581280" cy="4179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419360" y="12189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nternal oblique (middle lay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Direction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upward &amp; medi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Content Placeholder 10" descr="respiration 015.jpg"/>
          <p:cNvPicPr/>
          <p:nvPr/>
        </p:nvPicPr>
        <p:blipFill>
          <a:blip r:embed="rId2"/>
          <a:stretch/>
        </p:blipFill>
        <p:spPr>
          <a:xfrm>
            <a:off x="4648320" y="2514600"/>
            <a:ext cx="3200400" cy="4179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9" name="Down Arrow 6"/>
          <p:cNvSpPr/>
          <p:nvPr/>
        </p:nvSpPr>
        <p:spPr>
          <a:xfrm>
            <a:off x="3733920" y="3733920"/>
            <a:ext cx="228600" cy="3045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8156880" y="4191120"/>
            <a:ext cx="6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Li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al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4"/>
          <p:cNvSpPr/>
          <p:nvPr/>
        </p:nvSpPr>
        <p:spPr>
          <a:xfrm flipH="1" flipV="1">
            <a:off x="7772400" y="4495320"/>
            <a:ext cx="38088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own Arrow 16"/>
          <p:cNvSpPr/>
          <p:nvPr/>
        </p:nvSpPr>
        <p:spPr>
          <a:xfrm>
            <a:off x="838080" y="396252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ight Arrow 17"/>
          <p:cNvSpPr/>
          <p:nvPr/>
        </p:nvSpPr>
        <p:spPr>
          <a:xfrm>
            <a:off x="4952880" y="4724280"/>
            <a:ext cx="381240" cy="1526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NTERIOR ABDOMINAL WAL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4974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70c0"/>
                </a:solidFill>
                <a:latin typeface="Calibri"/>
              </a:rPr>
              <a:t>Transversus abdominis (inner layer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Direction: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transve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5080" y="1371600"/>
            <a:ext cx="4270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Rectus abdomini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Direction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ver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Content Placeholder 11" descr="respiration 018.jpg"/>
          <p:cNvPicPr/>
          <p:nvPr/>
        </p:nvPicPr>
        <p:blipFill>
          <a:blip r:embed="rId1"/>
          <a:stretch/>
        </p:blipFill>
        <p:spPr>
          <a:xfrm>
            <a:off x="152280" y="2666880"/>
            <a:ext cx="3886200" cy="403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8" name="Content Placeholder 6" descr="respiration 017.jpg"/>
          <p:cNvPicPr/>
          <p:nvPr/>
        </p:nvPicPr>
        <p:blipFill>
          <a:blip r:embed="rId2"/>
          <a:stretch/>
        </p:blipFill>
        <p:spPr>
          <a:xfrm>
            <a:off x="7010280" y="2666880"/>
            <a:ext cx="1919520" cy="3951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9" name="TextBox 12"/>
          <p:cNvSpPr/>
          <p:nvPr/>
        </p:nvSpPr>
        <p:spPr>
          <a:xfrm>
            <a:off x="4500720" y="388620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Rectus abdomi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33"/>
          <p:cNvSpPr/>
          <p:nvPr/>
        </p:nvSpPr>
        <p:spPr>
          <a:xfrm>
            <a:off x="6477120" y="4114800"/>
            <a:ext cx="114300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8"/>
          <p:cNvSpPr/>
          <p:nvPr/>
        </p:nvSpPr>
        <p:spPr>
          <a:xfrm flipV="1">
            <a:off x="7619400" y="388584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40"/>
          <p:cNvSpPr/>
          <p:nvPr/>
        </p:nvSpPr>
        <p:spPr>
          <a:xfrm>
            <a:off x="7619400" y="411480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1"/>
          <p:cNvSpPr/>
          <p:nvPr/>
        </p:nvSpPr>
        <p:spPr>
          <a:xfrm>
            <a:off x="4187880" y="487692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Transversus abdomi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43"/>
          <p:cNvSpPr/>
          <p:nvPr/>
        </p:nvSpPr>
        <p:spPr>
          <a:xfrm flipV="1">
            <a:off x="6705720" y="4952880"/>
            <a:ext cx="68580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45"/>
          <p:cNvSpPr/>
          <p:nvPr/>
        </p:nvSpPr>
        <p:spPr>
          <a:xfrm>
            <a:off x="1143000" y="4952880"/>
            <a:ext cx="5335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ight Arrow 46"/>
          <p:cNvSpPr/>
          <p:nvPr/>
        </p:nvSpPr>
        <p:spPr>
          <a:xfrm>
            <a:off x="228600" y="49528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50"/>
          <p:cNvSpPr/>
          <p:nvPr/>
        </p:nvSpPr>
        <p:spPr>
          <a:xfrm flipH="1" flipV="1">
            <a:off x="1905120" y="5029200"/>
            <a:ext cx="2286000" cy="47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ight Arrow 51"/>
          <p:cNvSpPr/>
          <p:nvPr/>
        </p:nvSpPr>
        <p:spPr>
          <a:xfrm>
            <a:off x="304920" y="54864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53"/>
          <p:cNvSpPr/>
          <p:nvPr/>
        </p:nvSpPr>
        <p:spPr>
          <a:xfrm flipV="1">
            <a:off x="1143000" y="5333760"/>
            <a:ext cx="12193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eft Arrow 58"/>
          <p:cNvSpPr/>
          <p:nvPr/>
        </p:nvSpPr>
        <p:spPr>
          <a:xfrm>
            <a:off x="3505320" y="4267080"/>
            <a:ext cx="380880" cy="22860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62"/>
          <p:cNvSpPr/>
          <p:nvPr/>
        </p:nvSpPr>
        <p:spPr>
          <a:xfrm flipH="1" flipV="1">
            <a:off x="8077320" y="4343400"/>
            <a:ext cx="3045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eft Arrow 66"/>
          <p:cNvSpPr/>
          <p:nvPr/>
        </p:nvSpPr>
        <p:spPr>
          <a:xfrm>
            <a:off x="8839080" y="4267080"/>
            <a:ext cx="304920" cy="152640"/>
          </a:xfrm>
          <a:prstGeom prst="leftArrow">
            <a:avLst>
              <a:gd name="adj1" fmla="val 50000"/>
              <a:gd name="adj2" fmla="val 4994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OBJECTIV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933c"/>
                </a:solidFill>
                <a:latin typeface="Calibri"/>
              </a:rPr>
              <a:t>At the end of the lecture, students should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components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 of the </a:t>
            </a:r>
            <a:r>
              <a:rPr b="1" i="1" lang="en-US" sz="3000" spc="-1" strike="noStrike" u="sng">
                <a:solidFill>
                  <a:srgbClr val="0070c0"/>
                </a:solidFill>
                <a:uFillTx/>
                <a:latin typeface="Calibri"/>
              </a:rPr>
              <a:t>thoracic cage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and their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articul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Describe in brief the </a:t>
            </a:r>
            <a:r>
              <a:rPr b="1" i="1" lang="en-US" sz="3000" spc="-1" strike="noStrike" u="sng">
                <a:solidFill>
                  <a:srgbClr val="0070c0"/>
                </a:solidFill>
                <a:uFillTx/>
                <a:latin typeface="Calibri"/>
              </a:rPr>
              <a:t>respiratory movements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List the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muscles involved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in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inspiration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and in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expiration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attachments of each muscle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to the thoracic cage and its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nerve supp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Describe the origin, insertion, nerve supply of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diaphragm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nterior abdominal wal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s formed of 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3 layers  of muscles of  fibers running in different directions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(to increase strength of anterior abdominal wal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he 3 muscles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form a sheath in which a fourth muscles lies (rectus abdomin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uscles are attached to: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sternum, costal cartilages and ribs 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+ hip b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he aponeurosis of the 3 muscles on both sides fuse in the midline  to form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linea al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Action (during forced expiration):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ompression of abdominal viscera to help in ascent of diaphragm (during forced expir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Nerve supply: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lower  intercostal nerves (T7 – T11), subcostal nerve (T12) and first lumbar ner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C:\Program Files\Microsoft Office\MEDIA\CAGCAT10\j0281904.wmf"/>
          <p:cNvPicPr/>
          <p:nvPr/>
        </p:nvPicPr>
        <p:blipFill>
          <a:blip r:embed="rId1"/>
          <a:stretch/>
        </p:blipFill>
        <p:spPr>
          <a:xfrm>
            <a:off x="225360" y="122400"/>
            <a:ext cx="8693280" cy="66927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1"/>
          <p:cNvSpPr/>
          <p:nvPr/>
        </p:nvSpPr>
        <p:spPr>
          <a:xfrm>
            <a:off x="1447920" y="2514600"/>
            <a:ext cx="647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b0f0"/>
                </a:solidFill>
                <a:latin typeface="comic"/>
                <a:ea typeface="Times New Roman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THORACIC CAG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6" descr="respiration.jpg"/>
          <p:cNvPicPr/>
          <p:nvPr/>
        </p:nvPicPr>
        <p:blipFill>
          <a:blip r:embed="rId1"/>
          <a:stretch/>
        </p:blipFill>
        <p:spPr>
          <a:xfrm>
            <a:off x="228600" y="1600200"/>
            <a:ext cx="4267080" cy="4495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7" name="Content Placeholder 7" descr="respiration 001.jpg"/>
          <p:cNvPicPr/>
          <p:nvPr/>
        </p:nvPicPr>
        <p:blipFill>
          <a:blip r:embed="rId2"/>
          <a:stretch/>
        </p:blipFill>
        <p:spPr>
          <a:xfrm>
            <a:off x="4648320" y="1600200"/>
            <a:ext cx="4190760" cy="4495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" name="Down Arrow 12"/>
          <p:cNvSpPr/>
          <p:nvPr/>
        </p:nvSpPr>
        <p:spPr>
          <a:xfrm>
            <a:off x="4038480" y="25909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eft Arrow 13"/>
          <p:cNvSpPr/>
          <p:nvPr/>
        </p:nvSpPr>
        <p:spPr>
          <a:xfrm>
            <a:off x="3733920" y="3733920"/>
            <a:ext cx="304560" cy="152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4"/>
          <p:cNvSpPr/>
          <p:nvPr/>
        </p:nvSpPr>
        <p:spPr>
          <a:xfrm>
            <a:off x="3352680" y="4952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6"/>
          <p:cNvSpPr/>
          <p:nvPr/>
        </p:nvSpPr>
        <p:spPr>
          <a:xfrm flipH="1" flipV="1">
            <a:off x="3048120" y="4723920"/>
            <a:ext cx="30456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eft Arrow 21"/>
          <p:cNvSpPr/>
          <p:nvPr/>
        </p:nvSpPr>
        <p:spPr>
          <a:xfrm>
            <a:off x="3733920" y="5029200"/>
            <a:ext cx="304560" cy="152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2"/>
          <p:cNvSpPr/>
          <p:nvPr/>
        </p:nvSpPr>
        <p:spPr>
          <a:xfrm>
            <a:off x="7771680" y="2438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erte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 flipH="1" flipV="1">
            <a:off x="6552720" y="20574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own Arrow 25"/>
          <p:cNvSpPr/>
          <p:nvPr/>
        </p:nvSpPr>
        <p:spPr>
          <a:xfrm>
            <a:off x="8077320" y="2209680"/>
            <a:ext cx="228600" cy="3049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eft Arrow 26"/>
          <p:cNvSpPr/>
          <p:nvPr/>
        </p:nvSpPr>
        <p:spPr>
          <a:xfrm>
            <a:off x="3581280" y="1828800"/>
            <a:ext cx="457200" cy="304920"/>
          </a:xfrm>
          <a:prstGeom prst="leftArrow">
            <a:avLst>
              <a:gd name="adj1" fmla="val 50000"/>
              <a:gd name="adj2" fmla="val 49980"/>
            </a:avLst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Up Arrow 27"/>
          <p:cNvSpPr/>
          <p:nvPr/>
        </p:nvSpPr>
        <p:spPr>
          <a:xfrm>
            <a:off x="1752480" y="5562720"/>
            <a:ext cx="304920" cy="3045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THORACIC CAG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Conical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 sha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Has 2 apertures (opening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Superior </a:t>
            </a: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(thoracic outlet):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arrow, open,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continuous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with n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Inferior: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wide,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closed by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diaphrag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ormed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Sternum &amp; costal cartilages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: 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anterio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Twelve pairs of ribs: 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ater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Twelve thoracic vertebrae: 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posterio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ARTICULA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6" descr="respiration 002.jpg"/>
          <p:cNvPicPr/>
          <p:nvPr/>
        </p:nvPicPr>
        <p:blipFill>
          <a:blip r:embed="rId1"/>
          <a:stretch/>
        </p:blipFill>
        <p:spPr>
          <a:xfrm>
            <a:off x="1905120" y="1447920"/>
            <a:ext cx="5410080" cy="505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2" name="TextBox 8"/>
          <p:cNvSpPr/>
          <p:nvPr/>
        </p:nvSpPr>
        <p:spPr>
          <a:xfrm>
            <a:off x="228600" y="4000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ernoco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228600" y="535788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stochond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8"/>
          <p:cNvSpPr/>
          <p:nvPr/>
        </p:nvSpPr>
        <p:spPr>
          <a:xfrm>
            <a:off x="7313040" y="403848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stovert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ight Arrow 1"/>
          <p:cNvSpPr/>
          <p:nvPr/>
        </p:nvSpPr>
        <p:spPr>
          <a:xfrm>
            <a:off x="1598760" y="4484520"/>
            <a:ext cx="1677960" cy="763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4f81b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2"/>
          <p:cNvSpPr/>
          <p:nvPr/>
        </p:nvSpPr>
        <p:spPr>
          <a:xfrm>
            <a:off x="1785960" y="5289480"/>
            <a:ext cx="1795320" cy="12060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4f81b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eft Arrow 3"/>
          <p:cNvSpPr/>
          <p:nvPr/>
        </p:nvSpPr>
        <p:spPr>
          <a:xfrm>
            <a:off x="5867280" y="4222800"/>
            <a:ext cx="1524240" cy="46080"/>
          </a:xfrm>
          <a:prstGeom prst="leftArrow">
            <a:avLst>
              <a:gd name="adj1" fmla="val 50000"/>
              <a:gd name="adj2" fmla="val 49923"/>
            </a:avLst>
          </a:prstGeom>
          <a:solidFill>
            <a:srgbClr val="4f81b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7429680" y="4357800"/>
            <a:ext cx="1571400" cy="70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are plane synovial joi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ween heads of ribs &amp; thoracic vertebra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0" y="4286160"/>
            <a:ext cx="1643040" cy="115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stal cartilage: articulates with manubrium by a primary cartilaginous j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7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artilages articulate with sternum by synovial j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142920" y="5715000"/>
            <a:ext cx="150012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ween the costal cartilage and  the ri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tilagenous j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ARTICULA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F66122-003-f002.jpg"/>
          <p:cNvPicPr/>
          <p:nvPr/>
        </p:nvPicPr>
        <p:blipFill>
          <a:blip r:embed="rId1"/>
          <a:stretch/>
        </p:blipFill>
        <p:spPr>
          <a:xfrm>
            <a:off x="1987560" y="1600200"/>
            <a:ext cx="5168880" cy="4525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3" name="TextBox 4"/>
          <p:cNvSpPr/>
          <p:nvPr/>
        </p:nvSpPr>
        <p:spPr>
          <a:xfrm>
            <a:off x="7315560" y="533412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ernoco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8"/>
          <p:cNvCxnSpPr>
            <a:stCxn id="73" idx="1"/>
          </p:cNvCxnSpPr>
          <p:nvPr/>
        </p:nvCxnSpPr>
        <p:spPr>
          <a:xfrm flipH="1" flipV="1">
            <a:off x="6095160" y="4876200"/>
            <a:ext cx="1220040" cy="64188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5" name="TextBox 9"/>
          <p:cNvSpPr/>
          <p:nvPr/>
        </p:nvSpPr>
        <p:spPr>
          <a:xfrm>
            <a:off x="7545600" y="441972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stochond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11"/>
          <p:cNvCxnSpPr>
            <a:stCxn id="75" idx="1"/>
          </p:cNvCxnSpPr>
          <p:nvPr/>
        </p:nvCxnSpPr>
        <p:spPr>
          <a:xfrm flipH="1">
            <a:off x="6857280" y="4603680"/>
            <a:ext cx="686520" cy="453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7" name="TextBox 12"/>
          <p:cNvSpPr/>
          <p:nvPr/>
        </p:nvSpPr>
        <p:spPr>
          <a:xfrm>
            <a:off x="226440" y="251460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stovert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traight Arrow Connector 14"/>
          <p:cNvCxnSpPr/>
          <p:nvPr/>
        </p:nvCxnSpPr>
        <p:spPr>
          <a:xfrm flipV="1">
            <a:off x="1752120" y="2590560"/>
            <a:ext cx="2210760" cy="1087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RESPIRATORY MOVEMENTS</a:t>
            </a:r>
            <a:br>
              <a:rPr sz="4400"/>
            </a:b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- MOVEMENTS OF DIAPHRAG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5" descr="respiration 004.jpg"/>
          <p:cNvPicPr/>
          <p:nvPr/>
        </p:nvPicPr>
        <p:blipFill>
          <a:blip r:embed="rId1"/>
          <a:stretch/>
        </p:blipFill>
        <p:spPr>
          <a:xfrm>
            <a:off x="533520" y="1523880"/>
            <a:ext cx="4432320" cy="4525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1" name="Down Arrow 6"/>
          <p:cNvSpPr/>
          <p:nvPr/>
        </p:nvSpPr>
        <p:spPr>
          <a:xfrm>
            <a:off x="3048120" y="2819520"/>
            <a:ext cx="761760" cy="5331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Up Arrow 8"/>
          <p:cNvSpPr/>
          <p:nvPr/>
        </p:nvSpPr>
        <p:spPr>
          <a:xfrm>
            <a:off x="2666880" y="4038480"/>
            <a:ext cx="762120" cy="762120"/>
          </a:xfrm>
          <a:prstGeom prst="up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5562720" y="2057400"/>
            <a:ext cx="29718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ontraction (descent) of diaphra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5041800" y="3505320"/>
            <a:ext cx="38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ncrease of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vertical diame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f  thorac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15"/>
          <p:cNvSpPr/>
          <p:nvPr/>
        </p:nvSpPr>
        <p:spPr>
          <a:xfrm>
            <a:off x="6705720" y="3048120"/>
            <a:ext cx="228600" cy="3045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6026760" y="1523880"/>
            <a:ext cx="1774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I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6255360" y="6095880"/>
            <a:ext cx="1684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Ex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4800600" y="5105520"/>
            <a:ext cx="472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Relaxation (asce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f diaphrag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50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RESPIRATORY MOVEMENTS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B- MOVEMENTS OF RIBS</a:t>
            </a:r>
            <a:br>
              <a:rPr sz="4000"/>
            </a:b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(In Normal Inspir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04028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PUMP HANDLE M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Elevation of rib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Increase in antero-posterior diameter of thoracic cavit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Content Placeholder 7" descr="F66122-003-f034a.jpg"/>
          <p:cNvPicPr/>
          <p:nvPr/>
        </p:nvPicPr>
        <p:blipFill>
          <a:blip r:embed="rId1"/>
          <a:stretch/>
        </p:blipFill>
        <p:spPr>
          <a:xfrm>
            <a:off x="304920" y="3657600"/>
            <a:ext cx="4039920" cy="2819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174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BUCKET HANDLE M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Elevation of rib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Increase in lateral diameter of thoracic cavit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8" descr="F66122-003-f034b.jpg"/>
          <p:cNvPicPr/>
          <p:nvPr/>
        </p:nvPicPr>
        <p:blipFill>
          <a:blip r:embed="rId2"/>
          <a:stretch/>
        </p:blipFill>
        <p:spPr>
          <a:xfrm>
            <a:off x="4724280" y="3340080"/>
            <a:ext cx="4041720" cy="3517920"/>
          </a:xfrm>
          <a:prstGeom prst="rect">
            <a:avLst/>
          </a:prstGeom>
          <a:ln w="0">
            <a:noFill/>
          </a:ln>
        </p:spPr>
      </p:pic>
      <p:sp>
        <p:nvSpPr>
          <p:cNvPr id="94" name="Down Arrow 6"/>
          <p:cNvSpPr/>
          <p:nvPr/>
        </p:nvSpPr>
        <p:spPr>
          <a:xfrm>
            <a:off x="2209680" y="2514600"/>
            <a:ext cx="53352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9"/>
          <p:cNvSpPr/>
          <p:nvPr/>
        </p:nvSpPr>
        <p:spPr>
          <a:xfrm>
            <a:off x="6477120" y="2438280"/>
            <a:ext cx="53316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SPIRATORY MUSC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Diaphragm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Calibri"/>
              </a:rPr>
              <a:t>most important muscle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Rib elevators: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external intercostal mus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ccessory muscles (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Calibri"/>
              </a:rPr>
              <a:t>only during forced inspiration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uscles attaching cervical vertebrae to first &amp; second rib: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scalene mus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uscles attaching thoracic cage to upper limb: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pectoralis maj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08:25:16Z</dcterms:created>
  <dc:creator>user</dc:creator>
  <dc:description/>
  <dc:language>en-US</dc:language>
  <cp:lastModifiedBy>Sanaa Alsharawi</cp:lastModifiedBy>
  <dcterms:modified xsi:type="dcterms:W3CDTF">2016-01-18T05:57:07Z</dcterms:modified>
  <cp:revision>133</cp:revision>
  <dc:subject/>
  <dc:title>MUSCLES INVOLVED IN RESPIRATION</dc:title>
</cp:coreProperties>
</file>