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027E-F164-49BF-9151-486D3E725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9EF0-9FDA-4CC9-822E-25DEC6E80B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2685-611F-4738-A815-48DB65661D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E62-69F0-49FB-8EEB-5C9ABF60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6D0-5DE1-441C-84D1-78D4AD39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F2A-6A27-454C-9CF9-368E5168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357-DB31-4BCC-99E4-360E2AEE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6C91-5670-4E7C-910D-07A0607C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AD8A-999B-4FAA-9C05-D1DFAE48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5FF4-C704-4DE8-B0E9-093B0E80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B25E-2DF5-4E92-A947-E6340EC0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5AB5-B16C-4EA1-96AC-4C3DEC4C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63B7-ACB8-47DB-A16E-0424CCD9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F788-A26F-4D92-BB38-EDB31ACF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626-C00B-4B87-853C-FE6D71C6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768A-194D-4D4E-87C2-D3DE83C2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456B-D837-4562-944C-37295C06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ACAE-F9C3-4F0A-86B4-DD9BA6A4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B028-A2D3-4AAE-8AF4-E51E4409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687B-FC47-4039-B28F-97FBFD71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D247A-CCEE-4B2D-BC98-F56EF871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DA3B4-6971-4246-B166-CD055D16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0B51-471D-47AF-8F1D-00F31E89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FD61-09F1-40DF-9EE4-9969FB3E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F8E39-5308-459B-AD51-0C765505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364-9FD0-458E-81DE-62B72426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1209B-23B2-4BCE-83A1-5F528947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3C594-4327-4768-8D62-29F60297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3DFF3-FD4B-4BA5-B1DE-2B78EF7D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7C6DB-4798-4AAD-BF96-48A2F8C6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98FF-A6F1-4C58-8AF0-74E89329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EE38-E69E-4E58-9517-2BF7D80D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03EB9-E0E2-4750-8CF7-E51967AB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21DB7-FA25-4EC9-965A-727C747B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799B9-4BD0-4756-AC0A-8C965291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B050B-7B5D-4DB0-9F77-ECBEA2C2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327-F4C8-4FE9-9966-3E0F4525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BD1F7-D64E-48D5-8672-32EBBF71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A04E8-4476-4A2A-A930-237EBA13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06E19-35E8-407A-92B1-3BF35405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A2FFC-F185-43D2-A6F0-CB1CD23E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9B869-CA97-41A0-9EC6-5B1785E2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88675-13AF-43A2-AF29-B9F48398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BBB77-3779-4514-A5CA-B67D2CDE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BA2FB-290B-40BA-BA3D-4D061996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CDF46-5D6B-4785-B836-13C57082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D43-DE96-4C16-B8B1-C4328A9A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840-B1B6-4DCD-94B6-1918F6B0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0E1-BB8A-4EDF-AFDA-928C9DD5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7C9-73B5-480A-ADBB-5646CC68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1C5-D150-4F57-A4A2-1D88662C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34D9-C493-400F-9626-D1845A3D6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6F05-6045-4D3A-9178-A1AEF02751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11DD-3C01-43D4-8734-299A02806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3D3A-07BF-4AFC-A4EF-BEA0286AC85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124080" cy="228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40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leura &amp;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u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Lower respiratory tract"/>
          <p:cNvPicPr/>
          <p:nvPr/>
        </p:nvPicPr>
        <p:blipFill>
          <a:blip r:embed="rId1"/>
          <a:srcRect l="30832" t="4169" r="6454" b="10417"/>
          <a:stretch/>
        </p:blipFill>
        <p:spPr>
          <a:xfrm>
            <a:off x="3657600" y="838080"/>
            <a:ext cx="510552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TextBox 4"/>
          <p:cNvSpPr/>
          <p:nvPr/>
        </p:nvSpPr>
        <p:spPr>
          <a:xfrm>
            <a:off x="228600" y="4952880"/>
            <a:ext cx="3429000" cy="1191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Saeed Abuel Maka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Sanaa  Al Shara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RFACE ANATOMY OF L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4120" y="1219320"/>
            <a:ext cx="3581280" cy="548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pex, anterior border and posterior bord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 nearly to the lines of pleura but are slightl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way from the median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ferior margin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pleura but more horizontally  and finally reaching to </a:t>
            </a:r>
            <a:r>
              <a:rPr b="1" lang="en-US" sz="1800" spc="-1" strike="noStrike" u="sng">
                <a:solidFill>
                  <a:srgbClr val="cc00ff"/>
                </a:solidFill>
                <a:uFillTx/>
                <a:latin typeface="Arial"/>
              </a:rPr>
              <a:t>the 10</a:t>
            </a:r>
            <a:r>
              <a:rPr b="1" lang="en-US" sz="1800" spc="-1" strike="noStrike" u="sng" baseline="30000">
                <a:solidFill>
                  <a:srgbClr val="cc00ff"/>
                </a:solidFill>
                <a:uFillTx/>
                <a:latin typeface="Arial"/>
              </a:rPr>
              <a:t>th</a:t>
            </a:r>
            <a:r>
              <a:rPr b="1" lang="en-US" sz="1800" spc="-1" strike="noStrike" u="sng">
                <a:solidFill>
                  <a:srgbClr val="cc00ff"/>
                </a:solidFill>
                <a:uFillTx/>
                <a:latin typeface="Arial"/>
              </a:rPr>
              <a:t> thoracic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blique fissu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by a line extending fr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3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horacic sp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bliquel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ding at 6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ransverse fissure: 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ly in the right lun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by a line exten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om 4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ght costal cartil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mee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oblique fis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Gray965.png"/>
          <p:cNvPicPr/>
          <p:nvPr/>
        </p:nvPicPr>
        <p:blipFill>
          <a:blip r:embed="rId1"/>
          <a:stretch/>
        </p:blipFill>
        <p:spPr>
          <a:xfrm>
            <a:off x="228600" y="1295280"/>
            <a:ext cx="495288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2" name="Picture 2" descr="E:\dad\Student Gray\3. Thorax\F66122-003-f104b.jpg"/>
          <p:cNvPicPr/>
          <p:nvPr/>
        </p:nvPicPr>
        <p:blipFill>
          <a:blip r:embed="rId2"/>
          <a:srcRect l="10251" t="6439" r="0" b="20000"/>
          <a:stretch/>
        </p:blipFill>
        <p:spPr>
          <a:xfrm>
            <a:off x="304920" y="1066680"/>
            <a:ext cx="8610480" cy="579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4191120" cy="7621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eural Effu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00600" y="761760"/>
            <a:ext cx="4191120" cy="57150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It i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normal accumul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eural fluid about 300 ml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Costodiaphragmatic pleural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ss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 , (normally 5-10 ml fluid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us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ammation, TB, congestive heart disease and maligna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The lung is </a:t>
            </a: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compress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the bronchi are narr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uscultat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veal on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int &amp; decreased breathing so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compressed or collapsed lung lo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Dullnes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 percu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he eff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599_Pleural_Effusion"/>
          <p:cNvPicPr/>
          <p:nvPr/>
        </p:nvPicPr>
        <p:blipFill>
          <a:blip r:embed="rId1"/>
          <a:stretch/>
        </p:blipFill>
        <p:spPr>
          <a:xfrm>
            <a:off x="152280" y="1125360"/>
            <a:ext cx="4572000" cy="537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244440"/>
            <a:ext cx="2286000" cy="822240"/>
          </a:xfrm>
          <a:prstGeom prst="rect">
            <a:avLst/>
          </a:prstGeom>
          <a:solidFill>
            <a:srgbClr val="1ff95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ndalus"/>
              </a:rPr>
              <a:t>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5840" y="1295280"/>
            <a:ext cx="3371760" cy="527688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oc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racic 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e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n each s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st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lung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ical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in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vered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by the visceral ple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spended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free in its own pleural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tached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to the mediastinum only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by its root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C3FF4"/>
          <p:cNvPicPr/>
          <p:nvPr/>
        </p:nvPicPr>
        <p:blipFill>
          <a:blip r:embed="rId1"/>
          <a:srcRect l="4619" t="63865" r="2572" b="0"/>
          <a:stretch/>
        </p:blipFill>
        <p:spPr>
          <a:xfrm>
            <a:off x="4357800" y="2071800"/>
            <a:ext cx="4495680" cy="219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9" name="Picture 5" descr="E:\dad\Student Gray\3. Thorax\F66122-003-f043a.jpg"/>
          <p:cNvPicPr/>
          <p:nvPr/>
        </p:nvPicPr>
        <p:blipFill>
          <a:blip r:embed="rId2"/>
          <a:srcRect l="0" t="3017" r="0" b="10636"/>
          <a:stretch/>
        </p:blipFill>
        <p:spPr>
          <a:xfrm>
            <a:off x="3581280" y="990720"/>
            <a:ext cx="5419800" cy="533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00440" y="304920"/>
            <a:ext cx="2438280" cy="76176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72200" y="1447560"/>
            <a:ext cx="281952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Each lung has: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ex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p and bottom of the lung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al surfac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rounded by the ribs from front &amp; bac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dial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ere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bronch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blood vess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lymph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ssels enter the lung a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i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so rel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stin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lobesofleftlung"/>
          <p:cNvPicPr/>
          <p:nvPr/>
        </p:nvPicPr>
        <p:blipFill>
          <a:blip r:embed="rId1"/>
          <a:stretch/>
        </p:blipFill>
        <p:spPr>
          <a:xfrm>
            <a:off x="3124080" y="228600"/>
            <a:ext cx="304812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Picture 5" descr="lobesofrightlung"/>
          <p:cNvPicPr/>
          <p:nvPr/>
        </p:nvPicPr>
        <p:blipFill>
          <a:blip r:embed="rId2"/>
          <a:stretch/>
        </p:blipFill>
        <p:spPr>
          <a:xfrm>
            <a:off x="304920" y="2286000"/>
            <a:ext cx="274320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Picture 4" descr="FE2FD7AB"/>
          <p:cNvPicPr/>
          <p:nvPr/>
        </p:nvPicPr>
        <p:blipFill>
          <a:blip r:embed="rId3"/>
          <a:srcRect l="51992" t="46687" r="16670" b="14271"/>
          <a:stretch/>
        </p:blipFill>
        <p:spPr>
          <a:xfrm>
            <a:off x="3581280" y="4572000"/>
            <a:ext cx="21337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943600" y="274320"/>
            <a:ext cx="2286000" cy="71748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86040" y="1294920"/>
            <a:ext cx="3429000" cy="52578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Apex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Projects into 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root of the ne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(1/2 an inch  above medial 1/3 of clavicle).                                                 </a:t>
            </a:r>
            <a:r>
              <a:rPr b="1" lang="en-US" sz="2200" spc="-1" strike="noStrike" u="sng">
                <a:solidFill>
                  <a:srgbClr val="cc00ff"/>
                </a:solidFill>
                <a:uFillTx/>
                <a:latin typeface="Garamond"/>
              </a:rPr>
              <a:t>It is covered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by cervical ple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ff"/>
                </a:solidFill>
                <a:latin typeface="Garamond"/>
              </a:rPr>
              <a:t>    </a:t>
            </a:r>
            <a:r>
              <a:rPr b="1" i="1" lang="en-US" sz="2200" spc="-1" strike="noStrike">
                <a:solidFill>
                  <a:srgbClr val="cc00ff"/>
                </a:solidFill>
                <a:latin typeface="Garamond"/>
              </a:rPr>
              <a:t>It is grooved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anteriorly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by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subclavian art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Bas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ior  or diaphragmatic surface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ca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rests  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aphrag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lobesofrightlung"/>
          <p:cNvPicPr/>
          <p:nvPr/>
        </p:nvPicPr>
        <p:blipFill>
          <a:blip r:embed="rId1"/>
          <a:stretch/>
        </p:blipFill>
        <p:spPr>
          <a:xfrm>
            <a:off x="2209680" y="228600"/>
            <a:ext cx="3200400" cy="346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5" descr="lobesofleftlung"/>
          <p:cNvPicPr/>
          <p:nvPr/>
        </p:nvPicPr>
        <p:blipFill>
          <a:blip r:embed="rId2"/>
          <a:stretch/>
        </p:blipFill>
        <p:spPr>
          <a:xfrm>
            <a:off x="304920" y="3352680"/>
            <a:ext cx="2743200" cy="32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9" name="Picture 4" descr="FE2FD7AB"/>
          <p:cNvPicPr/>
          <p:nvPr/>
        </p:nvPicPr>
        <p:blipFill>
          <a:blip r:embed="rId3"/>
          <a:srcRect l="51992" t="46687" r="16670" b="14271"/>
          <a:stretch/>
        </p:blipFill>
        <p:spPr>
          <a:xfrm>
            <a:off x="3048120" y="4114800"/>
            <a:ext cx="21333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7160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ord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Anterior &amp;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43600" y="1294920"/>
            <a:ext cx="32004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nterior bord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arp, th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overlaps the he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nterior border of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eft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s a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cardiac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notch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its lower end, has a thin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roj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ed the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lingu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ow the cardiac no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sterior bor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un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lies beside the vertebral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lobesofleftlung"/>
          <p:cNvPicPr/>
          <p:nvPr/>
        </p:nvPicPr>
        <p:blipFill>
          <a:blip r:embed="rId1"/>
          <a:stretch/>
        </p:blipFill>
        <p:spPr>
          <a:xfrm>
            <a:off x="2971800" y="1295280"/>
            <a:ext cx="289548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5" descr="lobesofrightlung"/>
          <p:cNvPicPr/>
          <p:nvPr/>
        </p:nvPicPr>
        <p:blipFill>
          <a:blip r:embed="rId2"/>
          <a:stretch/>
        </p:blipFill>
        <p:spPr>
          <a:xfrm>
            <a:off x="228600" y="2438280"/>
            <a:ext cx="274320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" name="AutoShape 8"/>
          <p:cNvSpPr/>
          <p:nvPr/>
        </p:nvSpPr>
        <p:spPr>
          <a:xfrm>
            <a:off x="3200400" y="45720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rfaces: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tal &amp; Mediastin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81480" y="990720"/>
            <a:ext cx="3810240" cy="58672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al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ed b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al ple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parates lung from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bs, costal cartilages &amp; intercostal musc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edial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divided into 2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ff"/>
                </a:solidFill>
                <a:uFillTx/>
                <a:latin typeface="Arial"/>
              </a:rPr>
              <a:t>Anterior (mediastinal) part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hilu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(it is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 depressi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onch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s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r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ing  the root of l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ff"/>
                </a:solidFill>
                <a:uFillTx/>
                <a:latin typeface="Arial"/>
              </a:rPr>
              <a:t>Posterior (vertebral) part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t is related t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ies of thoracic vertebra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rtebral disc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intercostal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athetic tru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FE2FD7AB"/>
          <p:cNvPicPr/>
          <p:nvPr/>
        </p:nvPicPr>
        <p:blipFill>
          <a:blip r:embed="rId1"/>
          <a:srcRect l="18629" t="45855" r="16670" b="7627"/>
          <a:stretch/>
        </p:blipFill>
        <p:spPr>
          <a:xfrm>
            <a:off x="228600" y="1295280"/>
            <a:ext cx="487692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Text Box 6"/>
          <p:cNvSpPr/>
          <p:nvPr/>
        </p:nvSpPr>
        <p:spPr>
          <a:xfrm>
            <a:off x="228600" y="5867280"/>
            <a:ext cx="4952880" cy="39888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 &amp; medial surfaces of  right 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209680" cy="170640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IGHT LUNG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48520" y="2438280"/>
            <a:ext cx="2666880" cy="3200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2 bronc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er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lmonary art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ulmonary v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ferior and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rootofrightlung"/>
          <p:cNvPicPr/>
          <p:nvPr/>
        </p:nvPicPr>
        <p:blipFill>
          <a:blip r:embed="rId1"/>
          <a:srcRect l="0" t="3611" r="0" b="3611"/>
          <a:stretch/>
        </p:blipFill>
        <p:spPr>
          <a:xfrm>
            <a:off x="380880" y="228600"/>
            <a:ext cx="57913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629040" y="274320"/>
            <a:ext cx="2057400" cy="16304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FT LUNG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6760" y="2361960"/>
            <a:ext cx="2438280" cy="3809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ne bronc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lmonary art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ulmonary v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ferior and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rootofleftlung"/>
          <p:cNvPicPr/>
          <p:nvPr/>
        </p:nvPicPr>
        <p:blipFill>
          <a:blip r:embed="rId1"/>
          <a:stretch/>
        </p:blipFill>
        <p:spPr>
          <a:xfrm>
            <a:off x="533520" y="228600"/>
            <a:ext cx="571500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324480" y="274320"/>
            <a:ext cx="2438640" cy="147780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ight lu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324120" y="1828800"/>
            <a:ext cx="259092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rger &amp; shor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left l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d by                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2 fissur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lique &amp; horison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nto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3 lob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upper, middle and lower lob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FE2FD7AB"/>
          <p:cNvPicPr/>
          <p:nvPr/>
        </p:nvPicPr>
        <p:blipFill>
          <a:blip r:embed="rId1"/>
          <a:srcRect l="18629" t="45855" r="16670" b="7627"/>
          <a:stretch/>
        </p:blipFill>
        <p:spPr>
          <a:xfrm>
            <a:off x="228600" y="304920"/>
            <a:ext cx="594360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74680"/>
            <a:ext cx="7772400" cy="792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y the end of the lecture, the student should be able t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Describe the  anatomy of the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ple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subdivisions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into parietal &amp; visceral pleurae,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nerve supply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of each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List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parts of parietal pleura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nd its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re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surface anatomy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of both pleurae and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</a:rPr>
              <a:t>anatomy of lungs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: shape, relations, nerve supply &amp; blood su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difference between right &amp; left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the form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onchopulmonary seg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in character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each segment in the l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5520" y="380520"/>
            <a:ext cx="2746440" cy="12956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ung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19560" y="1828440"/>
            <a:ext cx="28954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d by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one oblique fis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o -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2 lob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pper and 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i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 cardia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notc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r pa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i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erior b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899839F1"/>
          <p:cNvPicPr/>
          <p:nvPr/>
        </p:nvPicPr>
        <p:blipFill>
          <a:blip r:embed="rId1"/>
          <a:srcRect l="28434" t="27857" r="5882" b="30716"/>
          <a:stretch/>
        </p:blipFill>
        <p:spPr>
          <a:xfrm>
            <a:off x="304920" y="228600"/>
            <a:ext cx="556236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astinal surface of right lu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715000" y="1142640"/>
            <a:ext cx="3200400" cy="53341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On the mediastinal surface of the right lung,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find these struc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zygos ve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ts ar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sterior and over the root of the l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gus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 of the lu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ophagu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renic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 to the root of the 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diac impre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 atri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Below hilum and in front of pulmonary ligament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ove f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.V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relationshipsofrightrootoflung"/>
          <p:cNvPicPr/>
          <p:nvPr/>
        </p:nvPicPr>
        <p:blipFill>
          <a:blip r:embed="rId1"/>
          <a:stretch/>
        </p:blipFill>
        <p:spPr>
          <a:xfrm>
            <a:off x="304920" y="1143000"/>
            <a:ext cx="52578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Text Box 6"/>
          <p:cNvSpPr/>
          <p:nvPr/>
        </p:nvSpPr>
        <p:spPr>
          <a:xfrm>
            <a:off x="685800" y="4343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diac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920" y="1643040"/>
            <a:ext cx="1643040" cy="1571760"/>
          </a:xfrm>
          <a:prstGeom prst="rect">
            <a:avLst/>
          </a:prstGeom>
          <a:solidFill>
            <a:srgbClr val="1ff953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stinal surface of the right 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Copy of Picture2"/>
          <p:cNvPicPr/>
          <p:nvPr/>
        </p:nvPicPr>
        <p:blipFill>
          <a:blip r:embed="rId1"/>
          <a:srcRect l="0" t="5131" r="40990" b="4876"/>
          <a:stretch/>
        </p:blipFill>
        <p:spPr>
          <a:xfrm>
            <a:off x="2000160" y="285840"/>
            <a:ext cx="6929640" cy="638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astinal surface of  left lu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5000" y="1294920"/>
            <a:ext cx="3276720" cy="52578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On the mediastinal surface of the left lung,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find these struc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scending aor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gus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 of the 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ch of the aor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root of the l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oove for left common carotid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ft subclavian arte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renic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 to the root of the 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diac impre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ft ventr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relationshipswithleftrootoflung"/>
          <p:cNvPicPr/>
          <p:nvPr/>
        </p:nvPicPr>
        <p:blipFill>
          <a:blip r:embed="rId1"/>
          <a:stretch/>
        </p:blipFill>
        <p:spPr>
          <a:xfrm>
            <a:off x="228600" y="1066680"/>
            <a:ext cx="533412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0" name="Text Box 6"/>
          <p:cNvSpPr/>
          <p:nvPr/>
        </p:nvSpPr>
        <p:spPr>
          <a:xfrm>
            <a:off x="3276720" y="41148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diac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86720" y="1285560"/>
            <a:ext cx="2071440" cy="1857240"/>
          </a:xfrm>
          <a:prstGeom prst="rect">
            <a:avLst/>
          </a:prstGeom>
          <a:solidFill>
            <a:srgbClr val="1ff953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stinal surface of the left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7" descr="Picture2"/>
          <p:cNvPicPr/>
          <p:nvPr/>
        </p:nvPicPr>
        <p:blipFill>
          <a:blip r:embed="rId1"/>
          <a:srcRect l="45235" t="6660" r="0" b="2836"/>
          <a:stretch/>
        </p:blipFill>
        <p:spPr>
          <a:xfrm>
            <a:off x="285840" y="214200"/>
            <a:ext cx="6286320" cy="645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3" name="AutoShape 17"/>
          <p:cNvSpPr/>
          <p:nvPr/>
        </p:nvSpPr>
        <p:spPr>
          <a:xfrm>
            <a:off x="3635280" y="220500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86832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od supply of 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ronchial arterie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From descending aort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. It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supplies oxygenated bloo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o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bronchi , lung tissue &amp; visceral ple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Bronchial veins :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drain into azygos &amp; hemiazyg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v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ulmonary artery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which carries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-oxygenated bloo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ght ventri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ng alve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2 pulmonary veins :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ygenated bloo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ng alve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ft atr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rve Supply of the lu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1055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ulmonary plex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root of lung….is formed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onomic N.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sympathetic &amp; parasympathetic fi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1- Sympathetic  Fibe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… 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sympathetic tru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tion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roncho-dilatatio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and 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vasoconstr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2- Parasympathetic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…..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Vagus ner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tion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roncho-constr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retomo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ronchial glands /and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vasodila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43600" y="244080"/>
            <a:ext cx="2743200" cy="59364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Bronc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715000" y="990720"/>
            <a:ext cx="3276720" cy="58672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trachea divides into 2 main bronc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Right main bronchus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ich                          divides  before entering the  hi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gives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uperi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bar (secondary) bronchu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 entering hilum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divides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dd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amp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obar 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eft main bronchus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 entering hi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divides int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up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obar 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0" descr="EB275CB7"/>
          <p:cNvPicPr/>
          <p:nvPr/>
        </p:nvPicPr>
        <p:blipFill>
          <a:blip r:embed="rId1"/>
          <a:srcRect l="26710" t="45634" r="5444" b="27275"/>
          <a:stretch/>
        </p:blipFill>
        <p:spPr>
          <a:xfrm>
            <a:off x="0" y="3429000"/>
            <a:ext cx="533412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1" name="Picture 5" descr="E:\dad\Student Gray\3. Thorax\F66122-003-f043a.jpg"/>
          <p:cNvPicPr/>
          <p:nvPr/>
        </p:nvPicPr>
        <p:blipFill>
          <a:blip r:embed="rId2"/>
          <a:srcRect l="0" t="3017" r="0" b="10636"/>
          <a:stretch/>
        </p:blipFill>
        <p:spPr>
          <a:xfrm>
            <a:off x="0" y="0"/>
            <a:ext cx="533412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nchopulmonary seg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3760" y="914400"/>
            <a:ext cx="38098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to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unc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surg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of the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ach lobar (secondary) bronch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gmental (tertiary) 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ach segmental bronch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s repeatedly into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nchioles divide into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terminal bronchiole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ich show delicate outpouchings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‘the respiratory bronchiole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1B6F5EDD"/>
          <p:cNvPicPr/>
          <p:nvPr/>
        </p:nvPicPr>
        <p:blipFill>
          <a:blip r:embed="rId1"/>
          <a:srcRect l="23529" t="23632" r="1959" b="1968"/>
          <a:stretch/>
        </p:blipFill>
        <p:spPr>
          <a:xfrm>
            <a:off x="304920" y="914400"/>
            <a:ext cx="502920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5" name="Picture 5" descr="Lungs"/>
          <p:cNvPicPr/>
          <p:nvPr/>
        </p:nvPicPr>
        <p:blipFill>
          <a:blip r:embed="rId2"/>
          <a:srcRect l="25928" t="0" r="0" b="0"/>
          <a:stretch/>
        </p:blipFill>
        <p:spPr>
          <a:xfrm>
            <a:off x="2666880" y="2971800"/>
            <a:ext cx="251460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68580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nchopulmonary seg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638680" y="990720"/>
            <a:ext cx="3353040" cy="4952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The respiratory bronchi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d by branching into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lveolar du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lead into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lveolar sa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The alveolar sa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ist of several alveoli,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ach alveolus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rround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twork of bloo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illar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gas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Picture of the Human Lungs"/>
          <p:cNvPicPr/>
          <p:nvPr/>
        </p:nvPicPr>
        <p:blipFill>
          <a:blip r:embed="rId1"/>
          <a:stretch/>
        </p:blipFill>
        <p:spPr>
          <a:xfrm>
            <a:off x="228600" y="1066680"/>
            <a:ext cx="46483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2590920" cy="6699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e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200400" cy="556272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layered serous membrane enclosing the l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wo la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rietal laye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lines the thoracic w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sceral laye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overs the surfaces of the lu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layers continue with each other around the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ro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it forms a loose cuf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nging dow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lmonary liga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sp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two layer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pleural cavit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a thin film of pleural fluid ( 5-10 ml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ClipArt Placeholder 4" descr="C3FF4"/>
          <p:cNvPicPr/>
          <p:nvPr/>
        </p:nvPicPr>
        <p:blipFill>
          <a:blip r:embed="rId1"/>
          <a:srcRect l="5307" t="64175" r="-175" b="0"/>
          <a:stretch/>
        </p:blipFill>
        <p:spPr>
          <a:xfrm>
            <a:off x="3733920" y="304920"/>
            <a:ext cx="5270400" cy="617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6" name="Line 8"/>
          <p:cNvSpPr/>
          <p:nvPr/>
        </p:nvSpPr>
        <p:spPr>
          <a:xfrm>
            <a:off x="7358040" y="6143760"/>
            <a:ext cx="2872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E:\dad\Student Gray\3. Thorax\F66122-003-f041a.jpg"/>
          <p:cNvPicPr/>
          <p:nvPr/>
        </p:nvPicPr>
        <p:blipFill>
          <a:blip r:embed="rId2"/>
          <a:srcRect l="0" t="0" r="0" b="6152"/>
          <a:stretch/>
        </p:blipFill>
        <p:spPr>
          <a:xfrm>
            <a:off x="3419640" y="304920"/>
            <a:ext cx="5724360" cy="62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8" name="Left Arrow 10"/>
          <p:cNvSpPr/>
          <p:nvPr/>
        </p:nvSpPr>
        <p:spPr>
          <a:xfrm>
            <a:off x="7238880" y="4648320"/>
            <a:ext cx="990720" cy="75960"/>
          </a:xfrm>
          <a:prstGeom prst="leftArrow">
            <a:avLst>
              <a:gd name="adj1" fmla="val 50000"/>
              <a:gd name="adj2" fmla="val 501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1"/>
          <p:cNvSpPr/>
          <p:nvPr/>
        </p:nvSpPr>
        <p:spPr>
          <a:xfrm>
            <a:off x="8229600" y="4495680"/>
            <a:ext cx="914400" cy="39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lmonary liga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391520" cy="83808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nchopulmonary seg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52520" y="1143000"/>
            <a:ext cx="4038840" cy="54100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The main characteristics of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subdivision of a lung lo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pyramidal shaped, i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pex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ward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ng ro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rround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ve tissue sep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gmental bronchu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gmental arte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ymph vess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nom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The segmental vein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s in the inter- segmenta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.T. sep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the seg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diseased seg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removed surgically, because it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tructural un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48BC38F4"/>
          <p:cNvPicPr/>
          <p:nvPr/>
        </p:nvPicPr>
        <p:blipFill>
          <a:blip r:embed="rId1"/>
          <a:srcRect l="30685" t="17097" r="0" b="31720"/>
          <a:stretch/>
        </p:blipFill>
        <p:spPr>
          <a:xfrm>
            <a:off x="0" y="838080"/>
            <a:ext cx="487692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2" name="Picture 6" descr="https://encrypted-tbn1.gstatic.com/images?q=tbn:ANd9GcTl-Cf3jvMH7L1afAYQ0JSxbQ1q7jZtvdGRHV3RQ6QtwHgcElYN"/>
          <p:cNvPicPr/>
          <p:nvPr/>
        </p:nvPicPr>
        <p:blipFill>
          <a:blip r:embed="rId2"/>
          <a:srcRect l="0" t="0" r="0" b="41715"/>
          <a:stretch/>
        </p:blipFill>
        <p:spPr>
          <a:xfrm>
            <a:off x="0" y="838080"/>
            <a:ext cx="48769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71480" y="244080"/>
            <a:ext cx="3429000" cy="755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ietal Ple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13840" y="1428480"/>
            <a:ext cx="8643960" cy="314316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 is divided according to the region in which it lies and the surfaces it covers,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- Cerv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- Co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- Media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- Diaphrag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ClipArt Placeholder 4" descr="C3FF4"/>
          <p:cNvPicPr/>
          <p:nvPr/>
        </p:nvPicPr>
        <p:blipFill>
          <a:blip r:embed="rId1"/>
          <a:srcRect l="5307" t="64175" r="-175" b="0"/>
          <a:stretch/>
        </p:blipFill>
        <p:spPr>
          <a:xfrm>
            <a:off x="3657600" y="2590920"/>
            <a:ext cx="520056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3" name="Picture 7" descr="partsofparietalpleura"/>
          <p:cNvPicPr/>
          <p:nvPr/>
        </p:nvPicPr>
        <p:blipFill>
          <a:blip r:embed="rId2"/>
          <a:stretch/>
        </p:blipFill>
        <p:spPr>
          <a:xfrm>
            <a:off x="3733920" y="2590920"/>
            <a:ext cx="51814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Box 6"/>
          <p:cNvSpPr/>
          <p:nvPr/>
        </p:nvSpPr>
        <p:spPr>
          <a:xfrm>
            <a:off x="4343400" y="2590920"/>
            <a:ext cx="838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v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2895480" cy="99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ietal Ple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13840" y="1447560"/>
            <a:ext cx="3443400" cy="464796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rvical Pleura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up into the neck abou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e inch abo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l1/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lav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t lin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der surfac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suprapleural membran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al pleur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 back of t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nu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s &amp; costal cartilag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stal spaces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s of vertebral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E:\dad\Student Gray\3. Thorax\F66122-003-f036.jpg"/>
          <p:cNvPicPr/>
          <p:nvPr/>
        </p:nvPicPr>
        <p:blipFill>
          <a:blip r:embed="rId1"/>
          <a:srcRect l="0" t="0" r="0" b="4063"/>
          <a:stretch/>
        </p:blipFill>
        <p:spPr>
          <a:xfrm>
            <a:off x="3733920" y="285840"/>
            <a:ext cx="5195880" cy="596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8" name="AutoShape 8"/>
          <p:cNvSpPr/>
          <p:nvPr/>
        </p:nvSpPr>
        <p:spPr>
          <a:xfrm>
            <a:off x="4343400" y="5335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396252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https://encrypted-tbn1.gstatic.com/images?q=tbn:ANd9GcRC2iy3OL3nHOx4d7tIZlbslAjVxcY3b-LGke5S2VsMbksb2xvuNg"/>
          <p:cNvPicPr/>
          <p:nvPr/>
        </p:nvPicPr>
        <p:blipFill>
          <a:blip r:embed="rId2"/>
          <a:stretch/>
        </p:blipFill>
        <p:spPr>
          <a:xfrm>
            <a:off x="3809880" y="109440"/>
            <a:ext cx="510552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2895480" cy="1203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ietal Ple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840" y="1523880"/>
            <a:ext cx="2909880" cy="472464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ediastinal pleur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o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mediastin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t the hil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t is reflected on to the 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vess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bronch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continuous with the visceral ple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iaphragmatic pleur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o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horacic (upper)  surface of the diaphrag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E:\dad\Student Gray\3. Thorax\F66122-003-f035.jpg"/>
          <p:cNvPicPr/>
          <p:nvPr/>
        </p:nvPicPr>
        <p:blipFill>
          <a:blip r:embed="rId1"/>
          <a:srcRect l="15017" t="17232" r="12627" b="4355"/>
          <a:stretch/>
        </p:blipFill>
        <p:spPr>
          <a:xfrm>
            <a:off x="3276720" y="1219320"/>
            <a:ext cx="5638680" cy="5105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44440"/>
            <a:ext cx="2819520" cy="5414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ural Re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124080" cy="51814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odiaphragmati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lit like spa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twe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al and diaphragmatic pleurae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long the inferior bor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lung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enters through it in deep in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omediastinal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lit like spa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stal and mediastinal pleurae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long the anterior bor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lu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enters through it  in deep  in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ClipArt Placeholder 8" descr="C4FF13"/>
          <p:cNvPicPr/>
          <p:nvPr/>
        </p:nvPicPr>
        <p:blipFill>
          <a:blip r:embed="rId1"/>
          <a:srcRect l="30055" t="3655" r="3180" b="55733"/>
          <a:stretch/>
        </p:blipFill>
        <p:spPr>
          <a:xfrm>
            <a:off x="3124080" y="533520"/>
            <a:ext cx="5805720" cy="603864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8"/>
          <p:cNvSpPr/>
          <p:nvPr/>
        </p:nvSpPr>
        <p:spPr>
          <a:xfrm>
            <a:off x="4495680" y="556272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391520" y="2590920"/>
            <a:ext cx="1447560" cy="53316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3619800" cy="5414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eura: Nerve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114800" cy="558144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Parietal ple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t is sensitiv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abic Transparent"/>
              </a:rPr>
              <a:t>to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p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ain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abic Transparent"/>
              </a:rPr>
              <a:t>,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p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ressure,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t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emperature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,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t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o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t is supplied </a:t>
            </a:r>
            <a:r>
              <a:rPr b="0" lang="en-US" sz="18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as follows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abic Transparent"/>
              </a:rPr>
              <a:t>Costal pleura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s segmentally supplied by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intercostal ner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abic Transparent"/>
              </a:rPr>
              <a:t>Mediastinal pleura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s supplied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phrenic ner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abic Transparent"/>
              </a:rPr>
              <a:t>Diaphragmatic pleura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s supplied over the domes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phrenic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nerves, around the periphery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lowe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r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6 intercostal nerves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  <a:ea typeface="Arabic Transparent"/>
              </a:rPr>
              <a:t>Visceral pleura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sensitive to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stretch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 only and is supplied by the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autonomic fibers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from the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pulmonary plex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C3FF8"/>
          <p:cNvPicPr/>
          <p:nvPr/>
        </p:nvPicPr>
        <p:blipFill>
          <a:blip r:embed="rId1"/>
          <a:stretch/>
        </p:blipFill>
        <p:spPr>
          <a:xfrm>
            <a:off x="4643280" y="1000080"/>
            <a:ext cx="4308480" cy="5000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E:\dad\Student Gray\3. Thorax\F66122-003-f015.jpg"/>
          <p:cNvPicPr/>
          <p:nvPr/>
        </p:nvPicPr>
        <p:blipFill>
          <a:blip r:embed="rId2"/>
          <a:srcRect l="0" t="0" r="0" b="10917"/>
          <a:stretch/>
        </p:blipFill>
        <p:spPr>
          <a:xfrm>
            <a:off x="4343400" y="428760"/>
            <a:ext cx="4514760" cy="566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FACE ANATOMY OF PLE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95320" y="1066680"/>
            <a:ext cx="4496040" cy="55627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pex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e in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the medial 1/3 of the clav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Right pleura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anterior marg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 vertically from sternoclavicular joint t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6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Left pleura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anterior marg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 from sternoclavicular joint to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deviates for about 1 inch to left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cost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til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rdiac notc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Inferior marg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around the chest wall,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b in midclavicular line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b i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d-axillary li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nally reaching  to </a:t>
            </a: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the last thoracic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osterior marg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long the vertebral colum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rior mar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E:\dad\Student Gray\3. Thorax\F66122-003-f104a.jpg"/>
          <p:cNvPicPr/>
          <p:nvPr/>
        </p:nvPicPr>
        <p:blipFill>
          <a:blip r:embed="rId1"/>
          <a:srcRect l="4266" t="7762" r="0" b="9876"/>
          <a:stretch/>
        </p:blipFill>
        <p:spPr>
          <a:xfrm>
            <a:off x="228600" y="1295280"/>
            <a:ext cx="396252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6" name="TextBox 4"/>
          <p:cNvSpPr/>
          <p:nvPr/>
        </p:nvSpPr>
        <p:spPr>
          <a:xfrm>
            <a:off x="1905120" y="34290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2209680" y="2743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2286000" y="34290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8:00:14Z</dcterms:created>
  <dc:creator>Amilo</dc:creator>
  <dc:description/>
  <dc:language>en-US</dc:language>
  <cp:lastModifiedBy>Sanaa Alsharawi</cp:lastModifiedBy>
  <dcterms:modified xsi:type="dcterms:W3CDTF">2015-01-28T05:08:32Z</dcterms:modified>
  <cp:revision>888</cp:revision>
  <dc:subject/>
  <dc:title>Slide 1</dc:title>
</cp:coreProperties>
</file>