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8F70-8B92-40DE-A703-CDFE0694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88D0-7C64-4135-AEA9-C772783EF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B45-DDB4-46F4-846D-8FC3E14FE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2A4-FBFD-4919-BE15-0911EEE5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C12-B8A4-4550-9C9B-9B629D6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E5F-A1EA-4A6E-9466-866FF2A9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729-D39B-4962-A8A4-D85D752B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C1CA-BD5D-4CEC-881F-140FB795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22C-BBFD-4DB2-ADFA-F976930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56F-6EEC-494E-A930-B2D9A8A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3E0F-FFD5-440B-AC5C-91561D83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AA72-6362-49CA-846A-15C818B9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9A6-B32C-4A61-B998-3AD32DD4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EAA9-4ECF-46F7-B603-10FE4C3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ECF-5222-4D28-8FC9-5A10C87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D92-F3BC-42BE-9421-E5C0B57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9036-7DC1-48A3-A77C-37100EF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C9FA-D194-4957-AE8D-D1BF9A0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689-B6E1-4B8B-897A-DCD9826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B202-7F98-4CB4-8402-1491776C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AA83-39D2-43B8-A043-68D493B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2804-5BD6-4EE0-834D-AD9BDAA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A289-84E7-4CEA-891B-3BF6647A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72E3-0802-4049-9303-DA0FE103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29CD-DD31-45E7-B845-5FE6741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DA3-3093-4892-9675-C232788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56E6-8AA6-416F-A662-E7B62E1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D459-76CB-4DD2-8C2A-5EB80D4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ABB2-DDF6-43D7-8A81-896A469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45B3-C1FA-4DEE-9A37-EE3ABA7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1CE5-A4DA-4DE9-9EBD-DA613B8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3CB5-89AF-4F6E-8635-E8D8FE39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24D3-0E92-4717-8594-32647A24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FE66-F028-4069-88E2-5B264D4E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228C-BCFB-4AAB-B261-EC801579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3921-DDF7-4EA9-AF2D-8FAC1A76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585-71B9-4CB7-AD87-C0F7D06B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A6E8-B3C8-4FEB-BDB0-D44E005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2F08-4EF3-439D-AA62-E0414C7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2789-1D39-425B-9DDD-4EEB9E3A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4E6C-A9EE-408B-BE2B-3836F01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454B-60A0-4323-AD5B-61070E8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0B5E-11A1-4E6A-BFD0-736D721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FB07-B30B-4DEB-9E54-993361C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5108-FF97-4DA7-B4BB-35227D6B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1C96-D912-44F5-A599-BC4164B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D9A-AE51-4F33-90B9-F891DE6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FE6-DF4E-47A9-9F77-1ABD95E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F4F-D81C-41FD-A8E7-A514A3B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87F-9FCC-4453-BD3E-DA2DE5E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11E-97F3-4142-A53C-89A71B4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77E-7E57-40AD-97C9-B5288F65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390-E33F-4C66-8FDF-8178C72927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AFB-A236-4BC9-A4B8-C215A4F74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1C4-4E60-4295-980F-6D6949E6B09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42900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anaa  Al Shara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the 10</a:t>
            </a:r>
            <a:r>
              <a:rPr b="1" lang="en-US" sz="1800" spc="-1" strike="noStrike" u="sng" baseline="30000">
                <a:solidFill>
                  <a:srgbClr val="cc00ff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Gray965.png"/>
          <p:cNvPicPr/>
          <p:nvPr/>
        </p:nvPicPr>
        <p:blipFill>
          <a:blip r:embed="rId1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2" descr="E:\dad\Student Gray\3. Thorax\F66122-003-f104b.jpg"/>
          <p:cNvPicPr/>
          <p:nvPr/>
        </p:nvPicPr>
        <p:blipFill>
          <a:blip r:embed="rId2"/>
          <a:srcRect l="10251" t="6439" r="0" b="20000"/>
          <a:stretch/>
        </p:blipFill>
        <p:spPr>
          <a:xfrm>
            <a:off x="304920" y="1066680"/>
            <a:ext cx="861048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600" y="761760"/>
            <a:ext cx="4191120" cy="5715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ullnes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 percu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1ff95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5840" y="1295280"/>
            <a:ext cx="3371760" cy="52768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racic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 each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ical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spend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ach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o the mediastinum only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by its root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9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72200" y="1447560"/>
            <a:ext cx="281952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from front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ymph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ssels enter the lung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so rel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5" descr="lobesofrightlung"/>
          <p:cNvPicPr/>
          <p:nvPr/>
        </p:nvPicPr>
        <p:blipFill>
          <a:blip r:embed="rId2"/>
          <a:stretch/>
        </p:blipFill>
        <p:spPr>
          <a:xfrm>
            <a:off x="304920" y="22860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581280" y="4572000"/>
            <a:ext cx="2133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root of the n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Garamond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 or 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048120" y="4114800"/>
            <a:ext cx="213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43600" y="1294920"/>
            <a:ext cx="32004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cardia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notch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s lower end, has a thi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j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ing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rfaces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al &amp; Mediastin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81480" y="990720"/>
            <a:ext cx="381024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depressi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Text Box 6"/>
          <p:cNvSpPr/>
          <p:nvPr/>
        </p:nvSpPr>
        <p:spPr>
          <a:xfrm>
            <a:off x="228600" y="5867280"/>
            <a:ext cx="4952880" cy="39888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096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243828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24120" y="1828800"/>
            <a:ext cx="2590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so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the student should be able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 &amp;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19560" y="1828440"/>
            <a:ext cx="28954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00400" cy="5334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ophag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atri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Text Box 6"/>
          <p:cNvSpPr/>
          <p:nvPr/>
        </p:nvSpPr>
        <p:spPr>
          <a:xfrm>
            <a:off x="685800" y="4343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643040" cy="157176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Copy of Picture2"/>
          <p:cNvPicPr/>
          <p:nvPr/>
        </p:nvPicPr>
        <p:blipFill>
          <a:blip r:embed="rId1"/>
          <a:srcRect l="0" t="5131" r="40990" b="4876"/>
          <a:stretch/>
        </p:blipFill>
        <p:spPr>
          <a:xfrm>
            <a:off x="2000160" y="285840"/>
            <a:ext cx="692964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ese stru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ove for left common carot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0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86720" y="1285560"/>
            <a:ext cx="2071440" cy="185724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upplies 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 pulmonary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Vagus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5000" y="990720"/>
            <a:ext cx="327672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0" y="3429000"/>
            <a:ext cx="5334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1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0" y="0"/>
            <a:ext cx="53341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t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un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ur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gmental (tertiary)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segmental bronch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repeatedly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oles divide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35304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rround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work of bl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llar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259092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00400" cy="55627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e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iet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scer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lmonary lig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two layer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leural cav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733920" y="304920"/>
            <a:ext cx="527040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0" t="0" r="0" b="6152"/>
          <a:stretch/>
        </p:blipFill>
        <p:spPr>
          <a:xfrm>
            <a:off x="3419640" y="304920"/>
            <a:ext cx="572436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Left Arrow 10"/>
          <p:cNvSpPr/>
          <p:nvPr/>
        </p:nvSpPr>
        <p:spPr>
          <a:xfrm>
            <a:off x="7238880" y="4648320"/>
            <a:ext cx="990720" cy="75960"/>
          </a:xfrm>
          <a:prstGeom prst="leftArrow">
            <a:avLst>
              <a:gd name="adj1" fmla="val 50000"/>
              <a:gd name="adj2" fmla="val 501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8229600" y="4495680"/>
            <a:ext cx="91440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monary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8380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410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main characteristics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yramidal shaped,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rround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seased seg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emoved surgically, because 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0" y="838080"/>
            <a:ext cx="48769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6" descr="https://encrypted-tbn1.gstatic.com/images?q=tbn:ANd9GcTl-Cf3jvMH7L1afAYQ0JSxbQ1q7jZtvdGRHV3RQ6QtwHgcElYN"/>
          <p:cNvPicPr/>
          <p:nvPr/>
        </p:nvPicPr>
        <p:blipFill>
          <a:blip r:embed="rId2"/>
          <a:srcRect l="0" t="0" r="0" b="41715"/>
          <a:stretch/>
        </p:blipFill>
        <p:spPr>
          <a:xfrm>
            <a:off x="0" y="838080"/>
            <a:ext cx="4876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- Cerv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- C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- Media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 Diaph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657600" y="2590920"/>
            <a:ext cx="52005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7" descr="partsofparietalpleura"/>
          <p:cNvPicPr/>
          <p:nvPr/>
        </p:nvPicPr>
        <p:blipFill>
          <a:blip r:embed="rId2"/>
          <a:stretch/>
        </p:blipFill>
        <p:spPr>
          <a:xfrm>
            <a:off x="3733920" y="2590920"/>
            <a:ext cx="51814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Box 6"/>
          <p:cNvSpPr/>
          <p:nvPr/>
        </p:nvSpPr>
        <p:spPr>
          <a:xfrm>
            <a:off x="4343400" y="2590920"/>
            <a:ext cx="83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89548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3840" y="1447560"/>
            <a:ext cx="3443400" cy="464796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vical Pleu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neck abo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e inch ab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t li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back of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 &amp; 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https://encrypted-tbn1.gstatic.com/images?q=tbn:ANd9GcRC2iy3OL3nHOx4d7tIZlbslAjVxcY3b-LGke5S2VsMbksb2xvuNg"/>
          <p:cNvPicPr/>
          <p:nvPr/>
        </p:nvPicPr>
        <p:blipFill>
          <a:blip r:embed="rId2"/>
          <a:stretch/>
        </p:blipFill>
        <p:spPr>
          <a:xfrm>
            <a:off x="3809880" y="109440"/>
            <a:ext cx="51055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2895480" cy="1203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840" y="1523880"/>
            <a:ext cx="2909880" cy="47246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stin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t the hi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 is reflected on to the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aphragmatic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horacic (upper) 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E:\dad\Student Gray\3. Thorax\F66122-003-f035.jpg"/>
          <p:cNvPicPr/>
          <p:nvPr/>
        </p:nvPicPr>
        <p:blipFill>
          <a:blip r:embed="rId1"/>
          <a:srcRect l="15017" t="17232" r="12627" b="4355"/>
          <a:stretch/>
        </p:blipFill>
        <p:spPr>
          <a:xfrm>
            <a:off x="3276720" y="1219320"/>
            <a:ext cx="563868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281952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124080" cy="51814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and diaphragmatic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lu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stal and mediastinal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ant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u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124080" y="533520"/>
            <a:ext cx="5805720" cy="6038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Cost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Mediastin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Diaphragmatic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428760"/>
            <a:ext cx="4514760" cy="56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496040" cy="5562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i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long the vertebral colum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1295280"/>
            <a:ext cx="396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TextBox 4"/>
          <p:cNvSpPr/>
          <p:nvPr/>
        </p:nvSpPr>
        <p:spPr>
          <a:xfrm>
            <a:off x="190512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209680" y="2743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28600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Sanaa Alsharawi</cp:lastModifiedBy>
  <dcterms:modified xsi:type="dcterms:W3CDTF">2015-01-28T05:08:32Z</dcterms:modified>
  <cp:revision>888</cp:revision>
  <dc:subject/>
  <dc:title>Slide 1</dc:title>
</cp:coreProperties>
</file>