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538-40AA-4CFB-B83D-7CA280F7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90F-87B2-4A22-B539-1C5820BC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08B-6A06-4674-A9FC-DC7E2F2E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502-D789-4A83-959A-F1CF9511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C2F8-CFAF-41E8-8A8B-0CD9A9F0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8E6D-667B-412F-943E-B9380D3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5827-CF5E-4A2C-A76E-C8074A5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BCA8-C47B-4F18-ADD6-9ED0DC62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96AD-BEA1-4FC3-A097-AC9EA400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1FA-C05B-4144-BC65-2144E6A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3E2B-4A1B-4DC2-A825-C7049C9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8F7-F32C-43C4-953A-E457382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E6A7-5B3E-4F6A-8F78-57DAF6A2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E008-4818-47D2-9A54-750680C7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8A2C-A759-4360-8871-0D64753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7C01-EBD6-4BB7-99A0-0C852986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9B93-3B4C-4482-B24B-7C58BB58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9A8-5585-46A1-9CCF-6639D36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E4127-12F1-4F89-B1B5-7C559801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E48B0-8F5E-4FF0-AA6C-F06F2671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6156A-8D36-4754-83F1-1FC74C90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336-ABD9-4DA7-AFB8-276C074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356F1-F802-4281-BCD3-7C18C588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423E5D-47E2-4BBF-9226-84ED0914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19167-7D14-4CF4-A81F-AFD8492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9A765-281D-4B9F-BD4E-67EC4C7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6E04E-1AD9-407A-824B-308118E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AB741-8A4B-44EB-8562-7D447E6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BB947-9FDB-487A-86A9-99E0861C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37A8C-BFF3-480F-8589-28699DF1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0E0FE-4A81-43D5-A9B6-D3AE0D17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20438-C396-4AEC-91C5-90E45310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7DB-62A7-4B08-917A-8644C8B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18A6E2-C3F9-47D6-A0B4-860DC3D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BF595B-B4B8-4201-8CD7-D0568B2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FE9B6-8361-4AB2-A32A-A734A45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E47F1-F740-41B8-A92B-2F449B23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C85FA-CA20-44F5-9607-0E1C93B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39A96-77C6-4F85-ACF9-88787655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414AB-B7F4-4CB6-8F98-364EFBC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243BC-DB22-43CB-8C96-8F05B2A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B20B6-DAFF-4BCD-B9EE-3A5A4C2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630530-F1A9-4741-B0D8-77AAD4E0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600-388D-4143-8E5A-E6218D4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E45C3-BEEA-43B5-8F6E-C87F52FA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587-1C08-485E-B647-03CF639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64-E311-4C40-B0F9-46C0DDA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5A4-A3E0-4770-B179-110959D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AC97-8068-4763-913C-E8BEFF255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D148-5C18-4962-92B0-1421E5BD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65C8-E7C2-482F-A853-54A1387F9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21E1-05D1-4172-B12F-F39559CEB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know the different types of hemoglobin and difference between normal and abnormal hem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شهد</cp:lastModifiedBy>
  <dcterms:modified xsi:type="dcterms:W3CDTF">2016-01-23T11:00:28Z</dcterms:modified>
  <cp:revision>162</cp:revision>
  <dc:subject/>
  <dc:title>Globular Proteins</dc:title>
</cp:coreProperties>
</file>