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29FA-0F90-4E05-B006-1B64FE768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C479-D689-4CD9-BD10-AB90D5DB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DF72-504E-4ECB-9C2F-B0D527218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F40D-2A11-49ED-8E78-57819C6D5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73A3-698F-4F90-BD8C-11DB1567A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A0D4-2759-4A62-A0AF-640BFFAE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97FD-FD7C-4022-8110-67812B03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195A-823F-4877-9A62-5D3ABFBA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5E13-731C-40CC-AC9B-8BB04A73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1214-378F-4116-9F53-BBFEB9E0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2670-618D-4209-93DA-82E83624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BCE5-3B90-4321-A24B-7DD93A03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B5EC-EC23-4C18-8EA0-A1D6675A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5341-BC6F-4500-A99F-DFBED06A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8E65-59AD-4EB1-9D21-2322FE3C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941D-25F5-4341-AB42-BCBC57AE0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96B0-5443-4CCB-949C-F79196D7A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CA9A-1F5C-4051-8C39-C70EE00A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A7A25B-D836-4340-93EE-0516860A6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811404-257D-4029-A2A8-6BB12AB7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DD66DF-2FCB-4256-8B06-4C183879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188C-E06E-48AD-91CD-5C14402B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38DEFA-4763-434E-8FED-B41CB53D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3BC0F3-D83B-4543-A569-89AA3AF6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18156C-A3A1-47F2-A58A-2DDAF717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EF94D6-B422-4698-B869-A450FCC4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CBCAE0-9C0D-4111-B105-FCEC0063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60E144-0ED5-4E89-A173-9C4CDB7F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FD3A22-708C-45B5-928E-0A53A368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6C5F47-7659-4684-917C-C733A85FF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572EA4-5976-4C86-81F0-38AC70C79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04CEF6-7975-4360-8794-9BF55DAB4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9A50-D15A-421F-BE69-81F6ADBD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F9F05D-D9B9-489F-990D-EBFFDB56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86F8E9-7378-4A91-8B66-C6840877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66828A-E4BD-4594-B788-82B9A2CB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13D94B-648E-4F86-B35F-B9BADD47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FEFB71-9C20-4387-961E-84C73E3A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C5081B-F303-487E-BA46-8DFA2D33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E74E5A-0AD5-4ED5-A9A1-ACBE70AC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387CBA-75E8-4CCA-B412-80829B9F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EA8F7E-D556-422F-843F-5681D9A4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F864B2-73A9-46AE-9D0C-1835F9469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C16D-1859-4C1B-87CB-5CE52075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8D4648-6FBC-491F-86FE-0AD401A09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8E10-13C3-4069-8369-46665C78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69C6-C842-4F98-B8F7-655D27EE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C0C6-FAC6-46F8-93E0-BEF34F65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4C59-836C-470F-BD7C-0B398CE5E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E7C6-E18D-4DD4-92F7-A660BDF87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1904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7"/>
          </p:nvPr>
        </p:nvSpPr>
        <p:spPr>
          <a:xfrm rot="16200000">
            <a:off x="-1028520" y="4991040"/>
            <a:ext cx="2819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et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iochemistr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3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4 John Wiley &amp; Sons, Inc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6CAF-EF51-4E96-89B4-A5F83C191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7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FBAE-780B-437D-B0DE-C082F5FA66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alibri"/>
              </a:rPr>
              <a:t>Globular Protein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066320" y="4349520"/>
            <a:ext cx="7162920" cy="15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spiratory  Block  |  1 Lect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2743200" y="152280"/>
            <a:ext cx="31939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Types of hemoglobi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etal hemoglobin (HbF)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jor hemoglobin found in the fetus and newbor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Tetramer with two </a:t>
            </a: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 and two </a:t>
            </a: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 chai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gher affinity for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than Hb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Transfers O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 from maternal to fetal circulation across placent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Types of hemoglobi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b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ppears ~12 weeks after birt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Constitutes ~2% of total Hb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mposed of two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nd two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globin chai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  <a:ea typeface="ＭＳ Ｐゴシック"/>
              </a:rPr>
              <a:t>Types of hemoglobi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b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1c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bA undergoes non-enzymatic glycosyl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Glycosylation depends on plasma glucose level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bA1c levels are high in patients with diabetes mellit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3" name="Picture 2" descr="C:\Documents and Settings\Fatma\Desktop\chapter03\jpg\0315_Formation_HbA1C.jpg"/>
          <p:cNvPicPr/>
          <p:nvPr/>
        </p:nvPicPr>
        <p:blipFill>
          <a:blip r:embed="rId1"/>
          <a:stretch/>
        </p:blipFill>
        <p:spPr>
          <a:xfrm>
            <a:off x="5857920" y="1371600"/>
            <a:ext cx="2905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Abnormal Hb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nable to transport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due to abnormal structur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Carboxy-Hb: CO replaces O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 and binds 200X tighter than O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Calibri"/>
              </a:rPr>
              <a:t>2 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(in smoker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t-Hb: Contains oxidized F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3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(~2%) that cannot carry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Sulf-HB: Forms due to high sulfur levels in blood (irreversible reaction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opathi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Disorders of hemoglobin caused by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Synthesis of structurally abnormal Hb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Synthesis of insufficient quantities of normal Hb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Combination of bot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opathi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  <a:ea typeface="ＭＳ Ｐゴシック"/>
              </a:rPr>
              <a:t>Sickle cell (HbS) dise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aused by a single mutation in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-globin ge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Glutamic acid at position 6 in HbA is replaced by vali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e mutant HbS contains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  <a:ea typeface="ＭＳ Ｐゴシック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chai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e shape of RBCs become sickl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auses sickle cell anem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0" name="Picture 4" descr="tumblr_lbwj8cQJ7M1qaqphpo1_400"/>
          <p:cNvPicPr/>
          <p:nvPr/>
        </p:nvPicPr>
        <p:blipFill>
          <a:blip r:embed="rId1"/>
          <a:stretch/>
        </p:blipFill>
        <p:spPr>
          <a:xfrm>
            <a:off x="6705720" y="39625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opathi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  <a:ea typeface="ＭＳ Ｐゴシック"/>
              </a:rPr>
              <a:t>Hemoglobin C diseas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aused by a single mutation in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-globin ge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Glutamic acid at position 6 in HbA is replaced by lysi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auses a mild form of hemolytic anem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opathi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Methemoglobinemia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used by oxidation of Hb to ferric (F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3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) sta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themoglobin cannot bind oxyg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used by certain drugs, reactive oxygen species and NADH-cytochrome b5 reductase deficienc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ocolate cyanosis: brownish-blue color of the skin and bloo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opathi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Thalassemia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fective synthesis of eithe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o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globin chain due to gene mut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-thalassemia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Synthesis of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-globin chain is decreased or abs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Causes mild to moderate hemolytic anemi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-thalassemia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Synthesis of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-globin chain is decreased or abs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Causes severe anemi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Patients need regular blood transfu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8377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To describe the globular proteins using common examples like hemoglobin and myoglobin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To study the structure and functions of globular proteins like-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Hemoglobin (a major globular protein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Myoglobin, and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Symbol"/>
                <a:ea typeface="Symbol"/>
              </a:rPr>
              <a:t></a:t>
            </a: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-globulins (immunoglobulins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To know the different types of hemoglobin and difference between normal and abnormal hemoglobi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To understand the diseases associated with globular protei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5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75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Myoglobi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 globular hemeprotein in heart and musc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  <a:ea typeface="ＭＳ Ｐゴシック"/>
              </a:rPr>
              <a:t>Stores and supplies oxygen to the heart and muscle onl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ntains a single polypeptide chain forming a single subunit with eight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-helix structur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  <a:ea typeface="ＭＳ Ｐゴシック"/>
              </a:rPr>
              <a:t>The interior of the subunit is composed of nonpolar amino aci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971800" y="579096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ucture of myoglob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2009880" y="419040"/>
            <a:ext cx="5122800" cy="510552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4"/>
          <p:cNvSpPr/>
          <p:nvPr/>
        </p:nvSpPr>
        <p:spPr>
          <a:xfrm rot="16200000">
            <a:off x="-145440" y="4760280"/>
            <a:ext cx="83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age 328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Myoglobi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charged amino acids are located on the surfa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The heme group is present at the center of the molecu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yoglobin gives red color to skeletal muscl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Supplies oxygen during aerobic exerci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Myoglobin in disease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yoglobinuria: Myoglobin is excreted in urine due to muscle damage (rhabdomyolysi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May cause acute renal fail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pecific marker for muscle inju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Less specific marker for heart attac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Immunoglobulin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219320"/>
            <a:ext cx="44956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fensive proteins produced by the B-cells of the immune syste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Y-shaped structure with 2 heavy and 2 light polypeptide chai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utralize bacteria and virus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Types: IgA, IgD, IgE, IgG, Ig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8" name="Picture 1" descr=""/>
          <p:cNvPicPr/>
          <p:nvPr/>
        </p:nvPicPr>
        <p:blipFill>
          <a:blip r:embed="rId1"/>
          <a:stretch/>
        </p:blipFill>
        <p:spPr>
          <a:xfrm>
            <a:off x="5278320" y="1511280"/>
            <a:ext cx="357372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Take Home Messag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mino acid chains fold into shapes that resemble spheres are called globular protein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Fibrous proteins are mainly insoluble, while globular proteins are soluble structural protein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b, Myoglobin, globulines and enzymes are examples of globular protein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Functionally, Hb is for O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 and CO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 transpor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bA, HbA2 and HbF are examples of normal Hb, in which the tetrameric structure is composed of 2α constant subunits with 2 changeable </a:t>
            </a:r>
            <a:r>
              <a:rPr b="0" lang="el-GR" sz="2800" spc="-1" strike="noStrike">
                <a:solidFill>
                  <a:srgbClr val="ffffff"/>
                </a:solidFill>
                <a:latin typeface="Calibri"/>
              </a:rPr>
              <a:t>β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subunits according to Hb typ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Take Home Messag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bA1C is a HbA which undergoes non-enzymatic glycosylation, depending on plasma glucose level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Carboxy-Hb, Met-Hb and Sulf-Hb are examples of abnormal Hb, in which O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 molecules are not transported due to abnormal Hb structur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sorders of Hb caused by synthesis of structurally abnormal Hb and/or insufficient quantities of normal Hb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Sickle cell (HbS) and HbC diseases are caused by a single mutation in β-globin gen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Take Home Messag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lu6 in HbS is replaced by Val, while it is replaced by Lys in HbC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Methemoglobinemia is caused by oxidation of Hb, inhibiting O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 binding leading to chocolate cyanosi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alassemia is caused by a defect in synthesis of either α- or β-globulin chain, as a result of gene mutat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α-Thalassemia causes less sever anemia than β-Thalassemi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yoglobin is a globular hemeprotein, which stores and supplies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to the heart and muscle only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Take Home Messag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5238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Hb is composed of 4 chains (subunits), while Myoglobin is composed of a single chai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yoglobinuria is a specific marker for muscle injury and may cause acute renal failur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Immunoglobulins are defensive proteins produced by the B-cell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mmunoglobulins consist of 5 types: IgA, IgD, IgE, IgG and IgM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Referenc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llustrations in Biochemistry by Lippincott 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edi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Globular protein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mino acid chains fold into shapes that resemble spheres are called globular protei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This type of folding increases solubility of proteins in wate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Polar groups on the protein</a:t>
            </a:r>
            <a:r>
              <a:rPr b="0" lang="ja-JP" sz="2600" spc="-1" strike="noStrike">
                <a:solidFill>
                  <a:srgbClr val="ffcc00"/>
                </a:solidFill>
                <a:latin typeface="Arial"/>
                <a:ea typeface="MS PGothic"/>
              </a:rPr>
              <a:t>’</a:t>
            </a:r>
            <a:r>
              <a:rPr b="0" lang="en-US" sz="2600" spc="-1" strike="noStrike">
                <a:solidFill>
                  <a:srgbClr val="ffcc00"/>
                </a:solidFill>
                <a:latin typeface="Calibri"/>
                <a:ea typeface="MS PGothic"/>
              </a:rPr>
              <a:t>s surfac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Hydrophobic groups in the interio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brous proteins are mainly insoluble structural protei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Globular protein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810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Hemoglobin: oxygen transport func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Myoglobin: oxygen storage/supply function in 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                          </a:t>
            </a: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heart and muscl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-globulins: various functio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Symbol"/>
                <a:ea typeface="Symbol"/>
              </a:rPr>
              <a:t></a:t>
            </a: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-globulins (immunoglobulins): immune func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nzymes: catalysis of biochemical reactio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 major globular protein in huma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  <a:ea typeface="ＭＳ Ｐゴシック"/>
              </a:rPr>
              <a:t>Composed of four polypeptide chains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Two </a:t>
            </a:r>
            <a:r>
              <a:rPr b="0" lang="en-US" sz="26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 and two </a:t>
            </a:r>
            <a:r>
              <a:rPr b="0" lang="en-US" sz="2600" spc="-1" strike="noStrike">
                <a:solidFill>
                  <a:srgbClr val="ffcc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 chain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ntains two dimers o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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subuni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  <a:ea typeface="ＭＳ Ｐゴシック"/>
              </a:rPr>
              <a:t>    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  <a:ea typeface="ＭＳ Ｐゴシック"/>
              </a:rPr>
              <a:t>Held together by non-covalent interac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Each chain is a subunit with a heme group in the center that carries oxyg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  <a:ea typeface="ＭＳ Ｐゴシック"/>
              </a:rPr>
              <a:t>A Hb molecule contains 4 heme groups and carries 4 molecules of O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Calibri"/>
                <a:ea typeface="ＭＳ Ｐゴシック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3" descr="Figure3-8.jpg"/>
          <p:cNvPicPr/>
          <p:nvPr/>
        </p:nvPicPr>
        <p:blipFill>
          <a:blip r:embed="rId1"/>
          <a:stretch/>
        </p:blipFill>
        <p:spPr>
          <a:xfrm>
            <a:off x="1295280" y="228600"/>
            <a:ext cx="63248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Types of Hb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600200" y="1541520"/>
          <a:ext cx="6095880" cy="44798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Calibri"/>
                        </a:rPr>
                        <a:t>Normal: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18720">
                      <a:solidFill>
                        <a:srgbClr val="2b5481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bA (97%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18720">
                      <a:solidFill>
                        <a:srgbClr val="2b5481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7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1872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HbA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2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 (2%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1872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bF (1%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HbA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1c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Calibri"/>
                        </a:rPr>
                        <a:t>Abnormal: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boxy H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 H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lf H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bA structure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381880" cy="377172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"/>
          <p:cNvSpPr/>
          <p:nvPr/>
        </p:nvSpPr>
        <p:spPr>
          <a:xfrm>
            <a:off x="262800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Calibri"/>
              </a:rPr>
              <a:t>Oxygen binding to hemoglobi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 functio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807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rries oxygen from the lungs to tiss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Carries carbon dioxide from tissues back to the lung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rmal level (g/dL)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les: 14-16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emales: 13-15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1:27:42Z</dcterms:created>
  <dc:creator>Usman Ghani</dc:creator>
  <dc:description/>
  <dc:language>en-US</dc:language>
  <cp:lastModifiedBy>شهد</cp:lastModifiedBy>
  <dcterms:modified xsi:type="dcterms:W3CDTF">2016-01-23T11:00:28Z</dcterms:modified>
  <cp:revision>162</cp:revision>
  <dc:subject/>
  <dc:title>Globular Proteins</dc:title>
</cp:coreProperties>
</file>