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E15-D0A6-42A7-B000-71678047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6CF-8441-4CD4-A9F3-7637420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8BE-B279-4676-8AB7-EAB53AFF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B6A-486D-4E6C-A314-A0D94E70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608-DA5A-4AF9-829D-11EA1CB0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CB0C6-D468-41E3-863D-0062F96C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5D848-25FB-4593-8509-C950E16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68458-4A7F-4D8A-BAF2-C6A6D332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B124C-5BA4-437B-9EFD-EA8CF647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5F652-AC82-4BCE-BA61-A467B957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CAB-0EAA-4D97-927F-FDFB03D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EE065-F25F-413F-9546-76CB4198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E0817-6CF7-45D9-97C5-4B20190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AB401-A3DA-4B7A-B009-EBD9BA1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C8761-BC10-43CA-BD9E-5C94AF4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E5DF8-0B74-48CF-B66F-3B72B28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32641-DC1E-4CE2-81C2-ACADEB5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02C10-2D08-447D-B7C1-34C2B706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D8C-0FAD-42B0-8C8A-2339096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565-90E7-4672-8488-08343FA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FD5-71D8-4DA9-8385-A55EE8F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612-7071-44BB-B5A7-40DBA6E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C3E-1978-4417-8D01-5102FA9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092-FE7A-4C03-8BC0-8446ABE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58B-1D12-4E71-A6D6-867315005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B76C-4FBA-4D25-981A-EF82415C3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TCA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/>
            <a:ahLst/>
            <a:rect l="l" t="t" r="r" b="b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8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8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2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2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bfbfbf">
              <a:alpha val="3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 that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bul fatma</dc:creator>
  <dc:description/>
  <dc:language>en-US</dc:language>
  <cp:lastModifiedBy>amal</cp:lastModifiedBy>
  <dcterms:modified xsi:type="dcterms:W3CDTF">2016-02-01T11:51:35Z</dcterms:modified>
  <cp:revision>19</cp:revision>
  <dc:subject/>
  <dc:title>Slide 1</dc:title>
</cp:coreProperties>
</file>