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51E-9096-4F4E-89DE-361489EA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6CD3-0BB8-4D4D-8081-897B1011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491-F1F9-4072-831F-069E41ED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F45-C0AA-416C-930F-9BB729D2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ED9-695A-4E54-B480-DD2ADCD9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E2C1E0-620C-4746-A974-B96CB14E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6C12E4-707C-4892-92D4-C38945CD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CB3D64-E5D1-4797-9FB1-8DF6371D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A4E690-EBC3-42A2-9C35-67C38683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0E9B17-6448-4055-B8AA-44B87E97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87DD-A121-4572-8E09-C9E71557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5A1207-19F0-4319-B303-BDE9A9E7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176D9D-107F-435A-B287-3EB13D62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0AC3F5-EEE8-46BC-891D-4EA71452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57BA6B-91D4-4C18-9942-0A4FC4D0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E1E4E7-B603-4F80-B1DE-5B5FCD43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AA1955-7E9F-4E98-A14E-5BDD9A11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884CE5-4AD3-4B23-9F00-E9A83567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A70-DFE6-44ED-BBEF-144A03A0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5B55-6265-4B63-9F89-9CC29263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65C-6841-4EF4-A51D-2F970B64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91B-3C2A-40CF-8AD5-0ECF45BD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FE0-48FD-41EC-A85F-E3D972EF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AFE-0EBD-42A4-8FEC-2469F958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4EC6-2A83-45BA-9BBE-84B60B505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1904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 rot="16200000">
            <a:off x="-1028520" y="499104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e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John Wiley &amp; Sons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9389-A9F0-420F-8099-C48BB99A3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lectron Transport Chai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(Respiratory Chai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Sumbul Fat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iratory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lex I – NADH Dehydrogen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omplex collects the pair of electrons from NADH and passes them to Co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Complex II – Succinate dehydrogen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also a part of the TCA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ansfers electrons to Co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enzyme Q (CoQ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so called ubiquinone (ubiquitous in biological syst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non-protein member of the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pid soluble and mob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ytochr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ytochrome is a protein that con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me group (porphyrin ring + iron in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cytochromes accept elec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converted to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2+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reoxidized to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when it donates electrons to the next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lex III and 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lex III: Cytochrome bc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lex IV: Cytochrome a +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low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Q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mplex III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yt. 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mplex 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-specific inhibitors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83440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ETC is coupled to proton transport for ATP synth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nergy of electron transfer is used to drive the protons out of the matr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done by complexes I, III and IV (proton pum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reates a proton gradient across the IMM to synthesize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lectron Transport Chain (ET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ystem of electron transport that uses respiratory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o finally produce ATP (ener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cated in the inner mitochondrial membr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al common pathway of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rom food metabolism are transported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s maximum amount of body’s oxy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pling of electron transport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reen arro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ATP syn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685800" y="1824120"/>
            <a:ext cx="7772400" cy="2295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 rot="16200000">
            <a:off x="-145440" y="47307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8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TP synth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P synthase (Complex V) synthesizes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ists of two domai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membrane spanning dom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extramembranous doma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 of prot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143000" y="1925640"/>
            <a:ext cx="68580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nergetics of ATP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nergy required for phosphorylation of ADP to ATP = 7.3kcal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gy produced from the transport of a pair of electrons from NADH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52.58 k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. of ATP molecules produced is 3 (NADH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ess energy is used for other reactions or released as h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:O rat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TP made per O atom reduc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r NAD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:O = 3: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r FADH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:O = 2: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Inhibitors of ATP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ligomyc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nds to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omain of ATP synthase and closes the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hanne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coupling proteins (UCP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eate proton leaks (allow protons to reenter the matrix without ATP syn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ergy is released as heat (nonshivering thermogen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711520" y="1036800"/>
            <a:ext cx="3720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Metabolic breakdown of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energy-yielding molecu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335400" y="1600200"/>
            <a:ext cx="247320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Oval Callout 7"/>
          <p:cNvSpPr/>
          <p:nvPr/>
        </p:nvSpPr>
        <p:spPr>
          <a:xfrm>
            <a:off x="5791320" y="2133720"/>
            <a:ext cx="2666880" cy="990360"/>
          </a:xfrm>
          <a:prstGeom prst="wedgeEllipseCallout">
            <a:avLst>
              <a:gd name="adj1" fmla="val -55615"/>
              <a:gd name="adj2" fmla="val 64675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ergy-rich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own Arrow 12"/>
          <p:cNvSpPr/>
          <p:nvPr/>
        </p:nvSpPr>
        <p:spPr>
          <a:xfrm>
            <a:off x="2743200" y="1981080"/>
            <a:ext cx="228600" cy="358164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380880" y="33526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(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) lose their fre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6400800" y="53341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xcess energy generat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2-Point Star 17"/>
          <p:cNvSpPr/>
          <p:nvPr/>
        </p:nvSpPr>
        <p:spPr>
          <a:xfrm>
            <a:off x="5867280" y="4876920"/>
            <a:ext cx="3276720" cy="1676160"/>
          </a:xfrm>
          <a:custGeom>
            <a:avLst/>
            <a:gdLst/>
            <a:ahLst/>
            <a:rect l="l" t="t" r="r" b="b"/>
            <a:pathLst>
              <a:path w="3276600" h="1676400">
                <a:moveTo>
                  <a:pt x="0" y="838200"/>
                </a:moveTo>
                <a:lnTo>
                  <a:pt x="451443" y="675493"/>
                </a:lnTo>
                <a:lnTo>
                  <a:pt x="219491" y="419100"/>
                </a:lnTo>
                <a:lnTo>
                  <a:pt x="769460" y="393677"/>
                </a:lnTo>
                <a:lnTo>
                  <a:pt x="819150" y="112298"/>
                </a:lnTo>
                <a:lnTo>
                  <a:pt x="1320283" y="230971"/>
                </a:lnTo>
                <a:lnTo>
                  <a:pt x="1638300" y="0"/>
                </a:lnTo>
                <a:lnTo>
                  <a:pt x="1956317" y="230971"/>
                </a:lnTo>
                <a:lnTo>
                  <a:pt x="2457450" y="112298"/>
                </a:lnTo>
                <a:lnTo>
                  <a:pt x="2507140" y="393677"/>
                </a:lnTo>
                <a:lnTo>
                  <a:pt x="3057109" y="419100"/>
                </a:lnTo>
                <a:lnTo>
                  <a:pt x="2825157" y="675493"/>
                </a:lnTo>
                <a:lnTo>
                  <a:pt x="3276600" y="838200"/>
                </a:lnTo>
                <a:lnTo>
                  <a:pt x="2825157" y="1000907"/>
                </a:lnTo>
                <a:lnTo>
                  <a:pt x="3057109" y="1257300"/>
                </a:lnTo>
                <a:lnTo>
                  <a:pt x="2507140" y="1282723"/>
                </a:lnTo>
                <a:lnTo>
                  <a:pt x="2457450" y="1564102"/>
                </a:lnTo>
                <a:lnTo>
                  <a:pt x="1956317" y="1445429"/>
                </a:lnTo>
                <a:lnTo>
                  <a:pt x="1638300" y="1676400"/>
                </a:lnTo>
                <a:lnTo>
                  <a:pt x="1320283" y="1445429"/>
                </a:lnTo>
                <a:lnTo>
                  <a:pt x="819150" y="1564102"/>
                </a:lnTo>
                <a:lnTo>
                  <a:pt x="769460" y="1282723"/>
                </a:lnTo>
                <a:lnTo>
                  <a:pt x="219491" y="1257300"/>
                </a:lnTo>
                <a:lnTo>
                  <a:pt x="451443" y="1000907"/>
                </a:lnTo>
                <a:lnTo>
                  <a:pt x="0" y="838200"/>
                </a:lnTo>
                <a:close/>
              </a:path>
            </a:pathLst>
          </a:custGeom>
          <a:solidFill>
            <a:srgbClr val="bfbfbf">
              <a:alpha val="3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lectron micrograph of an animal mitochondr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8120" y="419040"/>
            <a:ext cx="5387760" cy="5105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 rot="16200000">
            <a:off x="-145440" y="47289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7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away diagram of a mitochondr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941400" y="419040"/>
            <a:ext cx="7259760" cy="5105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 rot="16200000">
            <a:off x="-145440" y="47289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7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Mitochondr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0" t="3038" r="0" b="4311"/>
          <a:stretch/>
        </p:blipFill>
        <p:spPr>
          <a:xfrm>
            <a:off x="5638680" y="23760"/>
            <a:ext cx="2514600" cy="6757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ular Callout 6"/>
          <p:cNvSpPr/>
          <p:nvPr/>
        </p:nvSpPr>
        <p:spPr>
          <a:xfrm>
            <a:off x="1981080" y="4419720"/>
            <a:ext cx="2667240" cy="1676160"/>
          </a:xfrm>
          <a:prstGeom prst="wedgeRectCallout">
            <a:avLst>
              <a:gd name="adj1" fmla="val 105875"/>
              <a:gd name="adj2" fmla="val -106671"/>
            </a:avLst>
          </a:prstGeom>
          <a:solidFill>
            <a:srgbClr val="ffff00">
              <a:alpha val="4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ristae increase the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onents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members/components are located in the inner mitochondrial membrane (IM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M contains 5 complex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x I, II, III, IV (part of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x V (ATP synthase that catalyzes ATP syn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bile electron carr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ytochrome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rganization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omplex accepts or donates electrons to mobile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riers accept electrons from donors and then donate to the next carrier in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inally combine with oxygen and protons to form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xygen is required as a final acceptor (respiratory ch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umbul fatma</dc:creator>
  <dc:description/>
  <dc:language>en-US</dc:language>
  <cp:lastModifiedBy>amal</cp:lastModifiedBy>
  <dcterms:modified xsi:type="dcterms:W3CDTF">2016-02-01T11:51:35Z</dcterms:modified>
  <cp:revision>19</cp:revision>
  <dc:subject/>
  <dc:title>Slide 1</dc:title>
</cp:coreProperties>
</file>