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jpeg" ContentType="image/jpeg"/>
  <Override PartName="/ppt/media/image10.png" ContentType="image/png"/>
  <Override PartName="/ppt/media/image5.png" ContentType="image/png"/>
  <Override PartName="/ppt/media/image29.jpeg" ContentType="image/jpeg"/>
  <Override PartName="/ppt/media/image3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8.png" ContentType="image/png"/>
  <Override PartName="/ppt/media/image28.jpeg" ContentType="image/jpeg"/>
  <Override PartName="/ppt/media/image20.jpeg" ContentType="image/jpeg"/>
  <Override PartName="/ppt/media/image19.png" ContentType="image/png"/>
  <Override PartName="/ppt/media/image21.jpeg" ContentType="image/jpeg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4BCDF-30D6-421C-AC69-2CAC00938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D35B5-F746-42D5-8D2F-1298C98CDA8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E188-E92D-424F-8F0F-BE1A13D06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D9DB-7953-481A-8017-6D5CDD80E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151C-E30A-4C36-84F8-73B352054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3EE4-95E4-4F8C-AAAB-22FE78E0C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20EAB-9E4D-473B-9EC2-6CAF8593B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E0CC6-97F7-4A14-86BE-D2B5CC4D6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D11C0-3B14-41C3-8D0E-955AF23A4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C4127-7DCE-40CA-BAE8-58315D77B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FEBA4-AF0F-4B8B-B4ED-866ED2775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A0103-9981-4AAD-AEF8-63D509722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4CA28-C4CE-47D3-8BAC-A3180B78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ED10-FD1A-434C-BE31-B5A8C211D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57F2E-D46E-4F38-A7DA-BBB7DB8B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83AC5-8DF5-4C6D-9D64-4A175EA1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FAFC2-E6C6-4EEF-923B-7EDAD65CE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175A8-8041-4366-A72D-1EED9E5A3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55BEC-5AFC-4712-A1A9-E5D072E70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E60F-43C1-4A2D-BA1E-F2AC1E9CB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1A03-AB1E-4CE6-A5B2-6D5412C57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7C21-CD28-490D-9CBE-983A8F0E5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CC9F-CE1E-4651-B884-9FA6219B2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CC0F-323A-47EA-BDA1-1E8FE2D9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3DB0-26BF-4D96-A4BE-865BFE04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D5D9-72E3-45E4-94AA-44ED4C6D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92A69-6436-410C-9CBD-B92BEF0D7F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72822-185C-4BBB-9461-3ED3392E45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hyperlink" Target="http://www.google.com.sa/url?sa=i&amp;rct=j&amp;q=&amp;esrc=s&amp;source=images&amp;cd=&amp;cad=rja&amp;uact=8&amp;ved=0CAcQjRw&amp;url=http%3A%2F%2Fwww.e-lfh.org.uk%2Fe-learning-sessions%2Frcoa-novice%2Fcontent%2Fsessions%2F01_02_02%2Fd%2FELFH_Session%2F554%2Ftab_613.html&amp;ei=J3TGVL35CcPaaoaZgdgE&amp;psig=AFQjCNFTdgKgOtOH60vGPiptEQ7FQQFFTg&amp;ust=1422378395873191" TargetMode="External"/><Relationship Id="rId4" Type="http://schemas.openxmlformats.org/officeDocument/2006/relationships/hyperlink" Target="http://www.google.com.sa/url?sa=i&amp;rct=j&amp;q=&amp;esrc=s&amp;source=images&amp;cd=&amp;cad=rja&amp;uact=8&amp;ved=0CAcQjRw&amp;url=http%3A%2F%2Fwww.e-lfh.org.uk%2Fe-learning-sessions%2Frcoa-novice%2Fcontent%2Fsessions%2F01_02_02%2Fd%2FELFH_Session%2F554%2Ftab_613.html&amp;ei=J3TGVL35CcPaaoaZgdgE&amp;psig=AFQjCNFTdgKgOtOH60vGPiptEQ7FQQFFTg&amp;ust=1422378395873191" TargetMode="External"/><Relationship Id="rId5" Type="http://schemas.openxmlformats.org/officeDocument/2006/relationships/hyperlink" Target="http://www.google.com.sa/url?sa=i&amp;rct=j&amp;q=&amp;esrc=s&amp;source=images&amp;cd=&amp;cad=rja&amp;uact=8&amp;ved=0CAcQjRw&amp;url=http%3A%2F%2Fwww.e-lfh.org.uk%2Fe-learning-sessions%2Frcoa-novice%2Fcontent%2Fsessions%2F01_02_02%2Fd%2FELFH_Session%2F554%2Ftab_613.html&amp;ei=53TGVNbwOMvtaKjlgfAK&amp;psig=AFQjCNFTdgKgOtOH60vGPiptEQ7FQQFFTg&amp;ust=1422378395873191" TargetMode="External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7.jpeg"/><Relationship Id="rId3" Type="http://schemas.openxmlformats.org/officeDocument/2006/relationships/hyperlink" Target="http://www.google.com.sa/url?sa=i&amp;rct=j&amp;q=&amp;esrc=s&amp;source=images&amp;cd=&amp;cad=rja&amp;uact=8&amp;ved=0CAcQjRw&amp;url=http%3A%2F%2Ffaculty.southwest.tn.edu%2Frburkett%2Fresp_sys_lab.htm&amp;ei=03_GVLhtk89oho6C-Ao&amp;psig=AFQjCNHL6XIOZXRH_UlYiqHUBIiGM9V-xg&amp;ust=1422381333930230" TargetMode="External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haroni"/>
                <a:ea typeface="Aharoni"/>
              </a:rPr>
              <a:t>Development of Respiratory System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Aharoni"/>
                <a:ea typeface="Aharoni"/>
              </a:rPr>
              <a:t>Dr. Saeed Voh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Aharoni"/>
                <a:ea typeface="Aharoni"/>
              </a:rPr>
              <a:t>&amp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Aharoni"/>
                <a:ea typeface="Aharoni"/>
              </a:rPr>
              <a:t>Dr. Sanaa Alshaaraw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Aharoni"/>
                <a:ea typeface="Aharon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Rectangle 2"/>
          <p:cNvGrpSpPr/>
          <p:nvPr/>
        </p:nvGrpSpPr>
        <p:grpSpPr>
          <a:xfrm>
            <a:off x="-60480" y="-115920"/>
            <a:ext cx="9259920" cy="878040"/>
            <a:chOff x="-60480" y="-115920"/>
            <a:chExt cx="9259920" cy="878040"/>
          </a:xfrm>
        </p:grpSpPr>
        <p:pic>
          <p:nvPicPr>
            <p:cNvPr id="184" name="Rectangle 2" descr=""/>
            <p:cNvPicPr/>
            <p:nvPr/>
          </p:nvPicPr>
          <p:blipFill>
            <a:blip r:embed="rId1"/>
            <a:stretch/>
          </p:blipFill>
          <p:spPr>
            <a:xfrm>
              <a:off x="-60480" y="-115920"/>
              <a:ext cx="925992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Development of the Trachea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52280" y="1143000"/>
            <a:ext cx="4724640" cy="54864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ndodermal lining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f the </a:t>
            </a:r>
            <a:r>
              <a:rPr b="1" lang="en-US" sz="3200" spc="-1" strike="noStrike">
                <a:solidFill>
                  <a:srgbClr val="66ffff"/>
                </a:solidFill>
                <a:latin typeface="Times New Roman"/>
              </a:rPr>
              <a:t>laryngotracheal tub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stal to the larynx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ifferentiates into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epithelium and glands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f the trachea and pulmonary epithel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</a:t>
            </a: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 cartilages, connective tissu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 and </a:t>
            </a: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muscles of the trachea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r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rived from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esoder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Picture 6" descr="C:\Users\user\Pictures\hhh.png"/>
          <p:cNvPicPr/>
          <p:nvPr/>
        </p:nvPicPr>
        <p:blipFill>
          <a:blip r:embed="rId2"/>
          <a:srcRect l="4460" t="42347" r="42417" b="5985"/>
          <a:stretch/>
        </p:blipFill>
        <p:spPr>
          <a:xfrm>
            <a:off x="5105520" y="3960720"/>
            <a:ext cx="3657600" cy="28209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C:\Users\user\Pictures\hhh.png"/>
          <p:cNvPicPr/>
          <p:nvPr/>
        </p:nvPicPr>
        <p:blipFill>
          <a:blip r:embed="rId3"/>
          <a:srcRect l="56171" t="0" r="0" b="57897"/>
          <a:stretch/>
        </p:blipFill>
        <p:spPr>
          <a:xfrm>
            <a:off x="5105520" y="1100160"/>
            <a:ext cx="36576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Rectangle 2"/>
          <p:cNvGrpSpPr/>
          <p:nvPr/>
        </p:nvGrpSpPr>
        <p:grpSpPr>
          <a:xfrm>
            <a:off x="-60480" y="-73080"/>
            <a:ext cx="9259920" cy="908280"/>
            <a:chOff x="-60480" y="-73080"/>
            <a:chExt cx="9259920" cy="908280"/>
          </a:xfrm>
        </p:grpSpPr>
        <p:pic>
          <p:nvPicPr>
            <p:cNvPr id="190" name="Rectangle 2" descr=""/>
            <p:cNvPicPr/>
            <p:nvPr/>
          </p:nvPicPr>
          <p:blipFill>
            <a:blip r:embed="rId1"/>
            <a:stretch/>
          </p:blipFill>
          <p:spPr>
            <a:xfrm>
              <a:off x="-60480" y="-73080"/>
              <a:ext cx="9259920" cy="9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0" y="0"/>
              <a:ext cx="9144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Development of the Bronchi &amp; Lungs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04560" y="1066680"/>
            <a:ext cx="4343400" cy="54864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Times New Roman"/>
              </a:rPr>
              <a:t>The 2 primary bronchial buds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row laterally into the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ericardio-peritoneal canals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part of the intraembryonic celome), </a:t>
            </a: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the primordia of pleural cav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ronchial bud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ivid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re-divid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to give the </a:t>
            </a: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bronchial tre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Picture 6" descr="C:\Users\user\Pictures\hgfhfgh - Copy.png"/>
          <p:cNvPicPr/>
          <p:nvPr/>
        </p:nvPicPr>
        <p:blipFill>
          <a:blip r:embed="rId2"/>
          <a:srcRect l="55101" t="10470" r="1670" b="10470"/>
          <a:stretch/>
        </p:blipFill>
        <p:spPr>
          <a:xfrm>
            <a:off x="5943600" y="3886200"/>
            <a:ext cx="2743200" cy="2590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C:\Users\user\Pictures\hgfhfgh - Copy.png"/>
          <p:cNvPicPr/>
          <p:nvPr/>
        </p:nvPicPr>
        <p:blipFill>
          <a:blip r:embed="rId3"/>
          <a:srcRect l="3815" t="11635" r="50415" b="9306"/>
          <a:stretch/>
        </p:blipFill>
        <p:spPr>
          <a:xfrm>
            <a:off x="5943600" y="1219320"/>
            <a:ext cx="27432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142560" y="533520"/>
            <a:ext cx="4505400" cy="5681520"/>
          </a:xfrm>
          <a:prstGeom prst="rect">
            <a:avLst/>
          </a:prstGeom>
          <a:noFill/>
          <a:ln w="9360">
            <a:solidFill>
              <a:srgbClr val="00cccc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The right main bronchus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s slightly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larger (wider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than the left one and is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oriented more vertica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embryonic relationship persists in the adul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The main bronchi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ubdivide into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ar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ertiar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gmental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ronchi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ich give rise to further branch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Picture 6" descr="C:\Users\user\Pictures\xxcxccxcxcx - Copy (2).png"/>
          <p:cNvPicPr/>
          <p:nvPr/>
        </p:nvPicPr>
        <p:blipFill>
          <a:blip r:embed="rId1"/>
          <a:srcRect l="0" t="0" r="66006" b="62615"/>
          <a:stretch/>
        </p:blipFill>
        <p:spPr>
          <a:xfrm>
            <a:off x="4952880" y="457200"/>
            <a:ext cx="3505320" cy="24382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C:\Users\user\Pictures\ffbg.png"/>
          <p:cNvPicPr/>
          <p:nvPr/>
        </p:nvPicPr>
        <p:blipFill>
          <a:blip r:embed="rId2"/>
          <a:stretch/>
        </p:blipFill>
        <p:spPr>
          <a:xfrm>
            <a:off x="4724280" y="3809880"/>
            <a:ext cx="3841920" cy="2819520"/>
          </a:xfrm>
          <a:prstGeom prst="rect">
            <a:avLst/>
          </a:prstGeom>
          <a:ln w="0">
            <a:noFill/>
          </a:ln>
        </p:spPr>
      </p:pic>
      <p:sp>
        <p:nvSpPr>
          <p:cNvPr id="198" name="Frame 6"/>
          <p:cNvSpPr/>
          <p:nvPr/>
        </p:nvSpPr>
        <p:spPr>
          <a:xfrm>
            <a:off x="4800600" y="4876920"/>
            <a:ext cx="609480" cy="533160"/>
          </a:xfrm>
          <a:prstGeom prst="pie">
            <a:avLst/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Frame 7"/>
          <p:cNvSpPr/>
          <p:nvPr/>
        </p:nvSpPr>
        <p:spPr>
          <a:xfrm>
            <a:off x="4724280" y="5791320"/>
            <a:ext cx="762120" cy="685800"/>
          </a:xfrm>
          <a:prstGeom prst="pie">
            <a:avLst/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Frame 8"/>
          <p:cNvSpPr/>
          <p:nvPr/>
        </p:nvSpPr>
        <p:spPr>
          <a:xfrm>
            <a:off x="4724280" y="4038480"/>
            <a:ext cx="1828800" cy="381240"/>
          </a:xfrm>
          <a:prstGeom prst="pie">
            <a:avLst/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Frame 9"/>
          <p:cNvSpPr/>
          <p:nvPr/>
        </p:nvSpPr>
        <p:spPr>
          <a:xfrm>
            <a:off x="6934320" y="4038480"/>
            <a:ext cx="1600200" cy="381240"/>
          </a:xfrm>
          <a:prstGeom prst="pie">
            <a:avLst/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AutoShape 10">
            <a:hlinkClick r:id="rId3"/>
          </p:cNvPr>
          <p:cNvSpPr/>
          <p:nvPr/>
        </p:nvSpPr>
        <p:spPr>
          <a:xfrm>
            <a:off x="54000" y="-1812960"/>
            <a:ext cx="4552920" cy="37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AutoShape 12">
            <a:hlinkClick r:id="rId4"/>
          </p:cNvPr>
          <p:cNvSpPr/>
          <p:nvPr/>
        </p:nvSpPr>
        <p:spPr>
          <a:xfrm>
            <a:off x="54000" y="-1812960"/>
            <a:ext cx="4552920" cy="37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Picture 14" descr="https://encrypted-tbn2.gstatic.com/images?q=tbn:ANd9GcR_Vi_1uXXDFVsbQM0C8IybhjiSXzL49_XSVNDz9M_ISq6La7bNvA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786200" y="428760"/>
            <a:ext cx="3786480" cy="33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228240" y="380520"/>
            <a:ext cx="4419720" cy="5410440"/>
          </a:xfrm>
          <a:prstGeom prst="rect">
            <a:avLst/>
          </a:prstGeom>
          <a:noFill/>
          <a:ln w="9360">
            <a:solidFill>
              <a:srgbClr val="00cccc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e segmental bronchi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0 in right lung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8 or 9 in the left lung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egin to form by th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7th we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surrounding mesenchyme also divid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Each </a:t>
            </a:r>
            <a:r>
              <a:rPr b="1" lang="en-US" sz="2800" spc="-1" strike="noStrike" u="sng">
                <a:solidFill>
                  <a:srgbClr val="66ff33"/>
                </a:solidFill>
                <a:uFillTx/>
                <a:latin typeface="Times New Roman"/>
              </a:rPr>
              <a:t>segmental bronchus 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with its </a:t>
            </a:r>
            <a:r>
              <a:rPr b="1" lang="en-US" sz="2800" spc="-1" strike="noStrike" u="sng">
                <a:solidFill>
                  <a:srgbClr val="66ff33"/>
                </a:solidFill>
                <a:uFillTx/>
                <a:latin typeface="Times New Roman"/>
              </a:rPr>
              <a:t>surrounding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 mass of </a:t>
            </a:r>
            <a:r>
              <a:rPr b="1" lang="en-US" sz="2800" spc="-1" strike="noStrike" u="sng">
                <a:solidFill>
                  <a:srgbClr val="66ff33"/>
                </a:solidFill>
                <a:uFillTx/>
                <a:latin typeface="Times New Roman"/>
              </a:rPr>
              <a:t>mesenchyme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s the primordium of a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bronchopulmonary seg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" name="Content Placeholder 8" descr="C:\Users\user\Pictures\ffbg.png"/>
          <p:cNvPicPr/>
          <p:nvPr/>
        </p:nvPicPr>
        <p:blipFill>
          <a:blip r:embed="rId1"/>
          <a:stretch/>
        </p:blipFill>
        <p:spPr>
          <a:xfrm>
            <a:off x="4800600" y="1486080"/>
            <a:ext cx="42512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3"/>
          <p:cNvSpPr/>
          <p:nvPr/>
        </p:nvSpPr>
        <p:spPr>
          <a:xfrm>
            <a:off x="228600" y="1592280"/>
            <a:ext cx="3809880" cy="3933360"/>
          </a:xfrm>
          <a:prstGeom prst="rect">
            <a:avLst/>
          </a:prstGeom>
          <a:noFill/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the lungs develop they acquire a layer of 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visceral pleura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rom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splanchnic mesenchy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horacic body wall becomes lined by a layer of 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parietal pleura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rived from the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somatic mesode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8" name="Picture 2" descr="C:\Documents and Settings\Free User\My Documents\My Pictures\Pleura.bmp"/>
          <p:cNvPicPr/>
          <p:nvPr/>
        </p:nvPicPr>
        <p:blipFill>
          <a:blip r:embed="rId1"/>
          <a:srcRect l="2003" t="1998" r="2003" b="4287"/>
          <a:stretch/>
        </p:blipFill>
        <p:spPr>
          <a:xfrm>
            <a:off x="4419720" y="838080"/>
            <a:ext cx="4308480" cy="3124440"/>
          </a:xfrm>
          <a:prstGeom prst="rect">
            <a:avLst/>
          </a:prstGeom>
          <a:ln w="9360">
            <a:solidFill>
              <a:srgbClr val="00cccc"/>
            </a:solidFill>
            <a:miter/>
          </a:ln>
        </p:spPr>
      </p:pic>
      <p:pic>
        <p:nvPicPr>
          <p:cNvPr id="209" name="Picture 6" descr="C:\Users\user\Pictures\hgfhfgh - Copy.png"/>
          <p:cNvPicPr/>
          <p:nvPr/>
        </p:nvPicPr>
        <p:blipFill>
          <a:blip r:embed="rId2"/>
          <a:srcRect l="3815" t="11635" r="50415" b="9306"/>
          <a:stretch/>
        </p:blipFill>
        <p:spPr>
          <a:xfrm>
            <a:off x="4419720" y="4267080"/>
            <a:ext cx="2514600" cy="23623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C:\Users\user\Pictures\hgfhfgh - Copy.png"/>
          <p:cNvPicPr/>
          <p:nvPr/>
        </p:nvPicPr>
        <p:blipFill>
          <a:blip r:embed="rId3"/>
          <a:srcRect l="55101" t="10470" r="1670" b="10470"/>
          <a:stretch/>
        </p:blipFill>
        <p:spPr>
          <a:xfrm>
            <a:off x="7010280" y="4267080"/>
            <a:ext cx="1905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80880" y="838080"/>
            <a:ext cx="8382240" cy="3200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turation of lung i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divided into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4 period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Pseudoglandular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5 - 17 week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Canalicular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16 - 25 week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Terminal sac      </a:t>
            </a: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24 weeks - birth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Alveolar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late fetal period -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hildhood)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hese periods overlap each other because the cranial segments of the lungs mature faster than the caudal 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2" name="Picture 7" descr="https://encrypted-tbn3.gstatic.com/images?q=tbn:ANd9GcRvYMHRnfUOQ0z6JjQSRGmWqZzCE3dFu7FtdmXnPD1PftFSSFp_Ig"/>
          <p:cNvPicPr/>
          <p:nvPr/>
        </p:nvPicPr>
        <p:blipFill>
          <a:blip r:embed="rId1"/>
          <a:srcRect l="0" t="0" r="0" b="29041"/>
          <a:stretch/>
        </p:blipFill>
        <p:spPr>
          <a:xfrm>
            <a:off x="304920" y="4419720"/>
            <a:ext cx="5410080" cy="20574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http://learninggnm.com/extimages/Lung%20Alveoli%20Website.jpg"/>
          <p:cNvPicPr/>
          <p:nvPr/>
        </p:nvPicPr>
        <p:blipFill>
          <a:blip r:embed="rId2"/>
          <a:stretch/>
        </p:blipFill>
        <p:spPr>
          <a:xfrm>
            <a:off x="6095880" y="4181400"/>
            <a:ext cx="2648160" cy="2600280"/>
          </a:xfrm>
          <a:prstGeom prst="rect">
            <a:avLst/>
          </a:prstGeom>
          <a:ln w="0">
            <a:noFill/>
          </a:ln>
        </p:spPr>
      </p:pic>
      <p:grpSp>
        <p:nvGrpSpPr>
          <p:cNvPr id="214" name="Rectangle 2"/>
          <p:cNvGrpSpPr/>
          <p:nvPr/>
        </p:nvGrpSpPr>
        <p:grpSpPr>
          <a:xfrm>
            <a:off x="-79200" y="-73080"/>
            <a:ext cx="9259560" cy="908280"/>
            <a:chOff x="-79200" y="-73080"/>
            <a:chExt cx="9259560" cy="908280"/>
          </a:xfrm>
        </p:grpSpPr>
        <p:pic>
          <p:nvPicPr>
            <p:cNvPr id="215" name="Rectangle 2" descr=""/>
            <p:cNvPicPr/>
            <p:nvPr/>
          </p:nvPicPr>
          <p:blipFill>
            <a:blip r:embed="rId3"/>
            <a:stretch/>
          </p:blipFill>
          <p:spPr>
            <a:xfrm>
              <a:off x="-79200" y="-73080"/>
              <a:ext cx="9259560" cy="9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-17640" y="0"/>
              <a:ext cx="9144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Maturation of the Lungs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151920" y="1447560"/>
            <a:ext cx="4953240" cy="472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veloping lungs somewhat resembles an exocrine gland during this perio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y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17 week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ll major elements of the lung have formed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cept 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those involved with gas exchange (alveoli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spiration is </a:t>
            </a:r>
            <a:r>
              <a:rPr b="1" lang="en-US" sz="2800" spc="-1" strike="noStrike" u="sng">
                <a:solidFill>
                  <a:srgbClr val="ff66ff"/>
                </a:solidFill>
                <a:uFillTx/>
                <a:latin typeface="Times New Roman"/>
              </a:rPr>
              <a:t>NO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possib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Fetuses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born during this period are 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unable to surviv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8" name="Picture 5" descr="C:\Users\user\Pictures\zz.png"/>
          <p:cNvPicPr/>
          <p:nvPr/>
        </p:nvPicPr>
        <p:blipFill>
          <a:blip r:embed="rId1"/>
          <a:srcRect l="0" t="5700" r="8269" b="0"/>
          <a:stretch/>
        </p:blipFill>
        <p:spPr>
          <a:xfrm>
            <a:off x="5334120" y="1976400"/>
            <a:ext cx="3657600" cy="2976480"/>
          </a:xfrm>
          <a:prstGeom prst="rect">
            <a:avLst/>
          </a:prstGeom>
          <a:ln w="0">
            <a:noFill/>
          </a:ln>
        </p:spPr>
      </p:pic>
      <p:grpSp>
        <p:nvGrpSpPr>
          <p:cNvPr id="219" name="Rectangle 2"/>
          <p:cNvGrpSpPr/>
          <p:nvPr/>
        </p:nvGrpSpPr>
        <p:grpSpPr>
          <a:xfrm>
            <a:off x="-79200" y="-73080"/>
            <a:ext cx="9259560" cy="908280"/>
            <a:chOff x="-79200" y="-73080"/>
            <a:chExt cx="9259560" cy="908280"/>
          </a:xfrm>
        </p:grpSpPr>
        <p:pic>
          <p:nvPicPr>
            <p:cNvPr id="220" name="Rectangle 2" descr=""/>
            <p:cNvPicPr/>
            <p:nvPr/>
          </p:nvPicPr>
          <p:blipFill>
            <a:blip r:embed="rId2"/>
            <a:stretch/>
          </p:blipFill>
          <p:spPr>
            <a:xfrm>
              <a:off x="-79200" y="-73080"/>
              <a:ext cx="9259560" cy="9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-17640" y="0"/>
              <a:ext cx="9144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2060"/>
                  </a:solidFill>
                  <a:latin typeface="Times New Roman"/>
                </a:rPr>
                <a:t>Pseudoglandular Period (5-17 weeks)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Rectangle 2"/>
          <p:cNvGrpSpPr/>
          <p:nvPr/>
        </p:nvGrpSpPr>
        <p:grpSpPr>
          <a:xfrm>
            <a:off x="-60480" y="-73080"/>
            <a:ext cx="9259920" cy="908280"/>
            <a:chOff x="-60480" y="-73080"/>
            <a:chExt cx="9259920" cy="908280"/>
          </a:xfrm>
        </p:grpSpPr>
        <p:pic>
          <p:nvPicPr>
            <p:cNvPr id="223" name="Rectangle 2" descr=""/>
            <p:cNvPicPr/>
            <p:nvPr/>
          </p:nvPicPr>
          <p:blipFill>
            <a:blip r:embed="rId1"/>
            <a:stretch/>
          </p:blipFill>
          <p:spPr>
            <a:xfrm>
              <a:off x="-60480" y="-73080"/>
              <a:ext cx="9259920" cy="9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0" y="0"/>
              <a:ext cx="9144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2060"/>
                  </a:solidFill>
                  <a:latin typeface="Times New Roman"/>
                </a:rPr>
                <a:t>Canalicular Period (16-25 weeks)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151920" y="1523520"/>
            <a:ext cx="4876920" cy="4800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ng tissue becomes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ighly vascul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mina of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ronchi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erminal bronchiole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com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arg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y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4 week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ch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erminal bronchio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ha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given ris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two or more </a:t>
            </a: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respiratory bronchio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respiratory bronchiole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divid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o 3 to 6 tubular passages called </a:t>
            </a: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alveolar duc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Som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n-walled </a:t>
            </a: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terminal sacs (primordial alveoli)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t the end of respiratory bronchio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" name="Picture 5" descr="C:\Users\user\Pictures\xzc.png"/>
          <p:cNvPicPr/>
          <p:nvPr/>
        </p:nvPicPr>
        <p:blipFill>
          <a:blip r:embed="rId2"/>
          <a:srcRect l="5717" t="0" r="0" b="0"/>
          <a:stretch/>
        </p:blipFill>
        <p:spPr>
          <a:xfrm>
            <a:off x="5334120" y="990720"/>
            <a:ext cx="3195360" cy="2590560"/>
          </a:xfrm>
          <a:prstGeom prst="rect">
            <a:avLst/>
          </a:prstGeom>
          <a:ln w="0">
            <a:noFill/>
          </a:ln>
        </p:spPr>
      </p:pic>
      <p:sp>
        <p:nvSpPr>
          <p:cNvPr id="227" name="Content Placeholder 3"/>
          <p:cNvSpPr/>
          <p:nvPr/>
        </p:nvSpPr>
        <p:spPr>
          <a:xfrm>
            <a:off x="5105520" y="3733920"/>
            <a:ext cx="3809880" cy="2743200"/>
          </a:xfrm>
          <a:prstGeom prst="rect">
            <a:avLst/>
          </a:prstGeom>
          <a:noFill/>
          <a:ln w="936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ffff"/>
                </a:solidFill>
                <a:latin typeface="Times New Roman"/>
              </a:rPr>
              <a:t>Respiration is possible at the end of this perio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Fetu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born at the end of this period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may surviv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f given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intensive car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(but </a:t>
            </a:r>
            <a:r>
              <a:rPr b="0" lang="en-US" sz="2400" spc="-1" strike="noStrike" u="sng">
                <a:solidFill>
                  <a:srgbClr val="ff66ff"/>
                </a:solidFill>
                <a:uFillTx/>
                <a:latin typeface="Times New Roman"/>
              </a:rPr>
              <a:t>usually di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ecause of the immaturity of respiratory as well as other system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Frame 5"/>
          <p:cNvSpPr/>
          <p:nvPr/>
        </p:nvSpPr>
        <p:spPr>
          <a:xfrm>
            <a:off x="5334120" y="2362320"/>
            <a:ext cx="685800" cy="380880"/>
          </a:xfrm>
          <a:prstGeom prst="pie">
            <a:avLst/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Frame 6"/>
          <p:cNvSpPr/>
          <p:nvPr/>
        </p:nvSpPr>
        <p:spPr>
          <a:xfrm>
            <a:off x="5334120" y="1905120"/>
            <a:ext cx="685800" cy="457200"/>
          </a:xfrm>
          <a:prstGeom prst="pie">
            <a:avLst/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Frame 7"/>
          <p:cNvSpPr/>
          <p:nvPr/>
        </p:nvSpPr>
        <p:spPr>
          <a:xfrm>
            <a:off x="7696080" y="990720"/>
            <a:ext cx="762120" cy="228600"/>
          </a:xfrm>
          <a:prstGeom prst="pie">
            <a:avLst/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Rectangle 2"/>
          <p:cNvGrpSpPr/>
          <p:nvPr/>
        </p:nvGrpSpPr>
        <p:grpSpPr>
          <a:xfrm>
            <a:off x="-60480" y="-36360"/>
            <a:ext cx="9259920" cy="950760"/>
            <a:chOff x="-60480" y="-36360"/>
            <a:chExt cx="9259920" cy="950760"/>
          </a:xfrm>
        </p:grpSpPr>
        <p:pic>
          <p:nvPicPr>
            <p:cNvPr id="232" name="Rectangle 2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0" y="0"/>
              <a:ext cx="9144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2060"/>
                  </a:solidFill>
                  <a:latin typeface="Times New Roman"/>
                </a:rPr>
                <a:t>Terminal Sac Period (24 weeks - birth)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75960" y="990360"/>
            <a:ext cx="5562360" cy="55623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Many more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erminal sacs develo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ir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pithelium becomes very thi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Capillaries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egin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to bulge into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veloping alveol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47ffff"/>
                </a:solidFill>
                <a:latin typeface="Times New Roman"/>
              </a:rPr>
              <a:t>epithelia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lls of the </a:t>
            </a:r>
            <a:r>
              <a:rPr b="0" lang="en-US" sz="2800" spc="-1" strike="noStrike">
                <a:solidFill>
                  <a:srgbClr val="ff66ff"/>
                </a:solidFill>
                <a:latin typeface="Times New Roman"/>
              </a:rPr>
              <a:t>alveol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the </a:t>
            </a:r>
            <a:r>
              <a:rPr b="0" lang="en-US" sz="2800" spc="-1" strike="noStrike">
                <a:solidFill>
                  <a:srgbClr val="47ffff"/>
                </a:solidFill>
                <a:latin typeface="Times New Roman"/>
              </a:rPr>
              <a:t>endothelia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lls of the </a:t>
            </a:r>
            <a:r>
              <a:rPr b="0" lang="en-US" sz="2800" spc="-1" strike="noStrike">
                <a:solidFill>
                  <a:srgbClr val="ff66ff"/>
                </a:solidFill>
                <a:latin typeface="Times New Roman"/>
              </a:rPr>
              <a:t>capillari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me in intimate contact and establish the 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blood-air barri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Adequate gas exchange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an occur which allows the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prematurely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orn fetus to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surv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Picture 5" descr="C:\Users\user\Pictures\asas.png"/>
          <p:cNvPicPr/>
          <p:nvPr/>
        </p:nvPicPr>
        <p:blipFill>
          <a:blip r:embed="rId2"/>
          <a:srcRect l="2377" t="2237" r="3967" b="2237"/>
          <a:stretch/>
        </p:blipFill>
        <p:spPr>
          <a:xfrm>
            <a:off x="5715000" y="2193840"/>
            <a:ext cx="335268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Rectangle 2"/>
          <p:cNvGrpSpPr/>
          <p:nvPr/>
        </p:nvGrpSpPr>
        <p:grpSpPr>
          <a:xfrm>
            <a:off x="-60480" y="-73080"/>
            <a:ext cx="9259920" cy="908280"/>
            <a:chOff x="-60480" y="-73080"/>
            <a:chExt cx="9259920" cy="908280"/>
          </a:xfrm>
        </p:grpSpPr>
        <p:pic>
          <p:nvPicPr>
            <p:cNvPr id="237" name="Rectangle 2" descr=""/>
            <p:cNvPicPr/>
            <p:nvPr/>
          </p:nvPicPr>
          <p:blipFill>
            <a:blip r:embed="rId1"/>
            <a:stretch/>
          </p:blipFill>
          <p:spPr>
            <a:xfrm>
              <a:off x="-60480" y="-73080"/>
              <a:ext cx="9259920" cy="9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0" y="0"/>
              <a:ext cx="9144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2b"/>
                  </a:solidFill>
                  <a:latin typeface="Times New Roman"/>
                </a:rPr>
                <a:t>Alveolar Period (32 weeks – 8 years)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 txBox="1"/>
          <p:nvPr/>
        </p:nvSpPr>
        <p:spPr>
          <a:xfrm>
            <a:off x="76320" y="928800"/>
            <a:ext cx="5333760" cy="35719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 the beginning of the alveolar period, 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each respiratory bronchiol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erminat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 a cluster of thin-walled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erminal saccul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eparated from one another by loose connective tissu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se terminal saccule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repres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uture alveolar sac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Picture 6" descr="65FD5C54"/>
          <p:cNvPicPr/>
          <p:nvPr/>
        </p:nvPicPr>
        <p:blipFill>
          <a:blip r:embed="rId2"/>
          <a:srcRect l="18572" t="13219" r="52797" b="44746"/>
          <a:stretch/>
        </p:blipFill>
        <p:spPr>
          <a:xfrm>
            <a:off x="5638680" y="928800"/>
            <a:ext cx="3505320" cy="2286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8" descr="https://encrypted-tbn0.gstatic.com/images?q=tbn:ANd9GcRkgfu3cOqLN5vWBKX_vFxbIbXmLhAnVJXilbp4o0iSQeic9a--">
            <a:hlinkClick r:id="rId3"/>
          </p:cNvPr>
          <p:cNvPicPr/>
          <p:nvPr/>
        </p:nvPicPr>
        <p:blipFill>
          <a:blip r:embed="rId4"/>
          <a:srcRect l="0" t="15079" r="39501" b="3896"/>
          <a:stretch/>
        </p:blipFill>
        <p:spPr>
          <a:xfrm>
            <a:off x="6072120" y="3357720"/>
            <a:ext cx="2714760" cy="30715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https://www.rsvprotection.com/_assets/images/fullterm-preterm-lungs.jpg"/>
          <p:cNvPicPr/>
          <p:nvPr/>
        </p:nvPicPr>
        <p:blipFill>
          <a:blip r:embed="rId5"/>
          <a:stretch/>
        </p:blipFill>
        <p:spPr>
          <a:xfrm>
            <a:off x="285840" y="4572000"/>
            <a:ext cx="505764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At the end of the lecture the students should be able t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dentify the development of the 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laryngeotracheal (respiratory) diverticulum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dentify the development of the 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larynx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dentify the development of the 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trache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dentify the development of the 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bronchi &amp; Lu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scribe the periods of the 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maturation of the lu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dentify the 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most congenital anomal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3"/>
          <p:cNvSpPr/>
          <p:nvPr/>
        </p:nvSpPr>
        <p:spPr>
          <a:xfrm>
            <a:off x="457200" y="533520"/>
            <a:ext cx="4191120" cy="3200400"/>
          </a:xfrm>
          <a:prstGeom prst="rect">
            <a:avLst/>
          </a:prstGeom>
          <a:solidFill>
            <a:srgbClr val="7030a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Characteristic mature alveoli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o not form until after birth.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95% of alveoli develop postnatall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About 50 million alveoli,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e sixth of the adult number are present in the lungs of a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ull-term newborn infa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380880" y="3962520"/>
            <a:ext cx="8077320" cy="1904760"/>
          </a:xfrm>
          <a:prstGeom prst="rect">
            <a:avLst/>
          </a:prstGeom>
          <a:solidFill>
            <a:srgbClr val="7030a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rom 3-8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year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or so,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he number of alveoli continues to increase, forming additional primordial alveol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y about th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ighth year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the 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adult complement of 300 million alveoli is pres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5" name="Picture 8" descr="https://encrypted-tbn0.gstatic.com/images?q=tbn:ANd9GcRkgfu3cOqLN5vWBKX_vFxbIbXmLhAnVJXilbp4o0iSQeic9a--"/>
          <p:cNvPicPr/>
          <p:nvPr/>
        </p:nvPicPr>
        <p:blipFill>
          <a:blip r:embed="rId1"/>
          <a:srcRect l="0" t="15079" r="39501" b="3896"/>
          <a:stretch/>
        </p:blipFill>
        <p:spPr>
          <a:xfrm>
            <a:off x="5286240" y="714240"/>
            <a:ext cx="271476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51920" y="228240"/>
            <a:ext cx="3124440" cy="5181480"/>
          </a:xfrm>
          <a:prstGeom prst="rect">
            <a:avLst/>
          </a:prstGeom>
          <a:solidFill>
            <a:srgbClr val="7030a0"/>
          </a:solidFill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Breathing Mov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ccu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efore birt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ar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ot continuou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crease as the time of delivery approach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lp in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nditioning the respiratory musc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timulate lung development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ar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ssential for normal lung develop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3352680" y="228600"/>
            <a:ext cx="5639040" cy="3733920"/>
          </a:xfrm>
          <a:prstGeom prst="rect">
            <a:avLst/>
          </a:prstGeom>
          <a:solidFill>
            <a:srgbClr val="7030a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Lungs at bir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47ffff"/>
                </a:solidFill>
                <a:latin typeface="Times New Roman"/>
              </a:rPr>
              <a:t>lungs are half filled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th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luid derived from the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amniotic fluid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nd from the lungs &amp; tracheal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gl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fluid in the lungs i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leared at birt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b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sure on the fetal thorax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ring deliver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bsorption into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ulmonary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pillaries and lymphatic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304560" y="1752120"/>
            <a:ext cx="4267080" cy="3581640"/>
          </a:xfrm>
          <a:prstGeom prst="rect">
            <a:avLst/>
          </a:prstGeom>
          <a:solidFill>
            <a:srgbClr val="7030a0"/>
          </a:solidFill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Factors important fo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normal lung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dequate thoracic spac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lung growt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etal breathing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me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dequate amniotic flui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olu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4724280" y="1066680"/>
            <a:ext cx="4191120" cy="5181840"/>
          </a:xfrm>
          <a:prstGeom prst="rect">
            <a:avLst/>
          </a:prstGeom>
          <a:solidFill>
            <a:srgbClr val="7030a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Developmental anomal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yngeal atres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Tracheoesophageal fistul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cheal stenosis &amp; atres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genital lung cys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esis of lu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ung hypoplas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cessory lu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Rectangle 2"/>
          <p:cNvGrpSpPr/>
          <p:nvPr/>
        </p:nvGrpSpPr>
        <p:grpSpPr>
          <a:xfrm>
            <a:off x="-60480" y="-115920"/>
            <a:ext cx="9259920" cy="878040"/>
            <a:chOff x="-60480" y="-115920"/>
            <a:chExt cx="9259920" cy="878040"/>
          </a:xfrm>
        </p:grpSpPr>
        <p:pic>
          <p:nvPicPr>
            <p:cNvPr id="251" name="Rectangle 2" descr=""/>
            <p:cNvPicPr/>
            <p:nvPr/>
          </p:nvPicPr>
          <p:blipFill>
            <a:blip r:embed="rId1"/>
            <a:stretch/>
          </p:blipFill>
          <p:spPr>
            <a:xfrm>
              <a:off x="-60480" y="-115920"/>
              <a:ext cx="925992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Aharoni"/>
                </a:rPr>
                <a:t>Tracheoesophageal Fistula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 txBox="1"/>
          <p:nvPr/>
        </p:nvSpPr>
        <p:spPr>
          <a:xfrm>
            <a:off x="228240" y="914400"/>
            <a:ext cx="4724280" cy="5105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bnormal passag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etween the trachea and esophagu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sults from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ncomplete divisio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f the cranial part of the foregut into respiratory and esophageal part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ccurs once in 3000 to 4500 live birth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st affected infants ar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 more than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85% of cases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fistula i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ssociated with </a:t>
            </a: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esophageal atresia (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sophagus ends in a blind-ended pouch rather than connecting normally to the stomach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4" name="Picture 5" descr="C:\Users\user\Pictures\xcvbnm - Copy.png"/>
          <p:cNvPicPr/>
          <p:nvPr/>
        </p:nvPicPr>
        <p:blipFill>
          <a:blip r:embed="rId2"/>
          <a:srcRect l="0" t="0" r="15795" b="0"/>
          <a:stretch/>
        </p:blipFill>
        <p:spPr>
          <a:xfrm>
            <a:off x="5029200" y="914400"/>
            <a:ext cx="2971800" cy="56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5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Snap ITC"/>
              </a:rPr>
              <a:t>Thank You</a:t>
            </a:r>
            <a:endParaRPr b="0" lang="en-US" sz="88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Rectangle 2"/>
          <p:cNvGrpSpPr/>
          <p:nvPr/>
        </p:nvGrpSpPr>
        <p:grpSpPr>
          <a:xfrm>
            <a:off x="-60480" y="-60480"/>
            <a:ext cx="9259920" cy="895680"/>
            <a:chOff x="-60480" y="-60480"/>
            <a:chExt cx="9259920" cy="895680"/>
          </a:xfrm>
        </p:grpSpPr>
        <p:pic>
          <p:nvPicPr>
            <p:cNvPr id="158" name="Rectangle 2" descr=""/>
            <p:cNvPicPr/>
            <p:nvPr/>
          </p:nvPicPr>
          <p:blipFill>
            <a:blip r:embed="rId1"/>
            <a:stretch/>
          </p:blipFill>
          <p:spPr>
            <a:xfrm>
              <a:off x="-60480" y="-60480"/>
              <a:ext cx="9259920" cy="8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0" y="0"/>
              <a:ext cx="9144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Respiratory System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28600" y="114264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Upper respiratory trac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sal cavity &amp; paranasal sinu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aryn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ower respiratory trac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yn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che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onch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u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5" descr="C:\Documents and Settings\Free User\My Documents\My Pictures\fcdf.jpg"/>
          <p:cNvPicPr/>
          <p:nvPr/>
        </p:nvPicPr>
        <p:blipFill>
          <a:blip r:embed="rId2"/>
          <a:stretch/>
        </p:blipFill>
        <p:spPr>
          <a:xfrm>
            <a:off x="4724280" y="1295280"/>
            <a:ext cx="4132440" cy="457200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4"/>
          <p:cNvSpPr/>
          <p:nvPr/>
        </p:nvSpPr>
        <p:spPr>
          <a:xfrm>
            <a:off x="6705720" y="1600200"/>
            <a:ext cx="1981080" cy="1295280"/>
          </a:xfrm>
          <a:prstGeom prst="rect">
            <a:avLst/>
          </a:prstGeom>
          <a:solidFill>
            <a:srgbClr val="00cccc">
              <a:alpha val="8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6705720" y="2971800"/>
            <a:ext cx="1981080" cy="2666880"/>
          </a:xfrm>
          <a:prstGeom prst="rect">
            <a:avLst/>
          </a:prstGeom>
          <a:solidFill>
            <a:srgbClr val="ff0000">
              <a:alpha val="1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Rectangle 1026"/>
          <p:cNvGrpSpPr/>
          <p:nvPr/>
        </p:nvGrpSpPr>
        <p:grpSpPr>
          <a:xfrm>
            <a:off x="-176040" y="-115920"/>
            <a:ext cx="9521640" cy="878040"/>
            <a:chOff x="-176040" y="-115920"/>
            <a:chExt cx="9521640" cy="878040"/>
          </a:xfrm>
        </p:grpSpPr>
        <p:pic>
          <p:nvPicPr>
            <p:cNvPr id="165" name="Rectangle 1026" descr=""/>
            <p:cNvPicPr/>
            <p:nvPr/>
          </p:nvPicPr>
          <p:blipFill>
            <a:blip r:embed="rId1"/>
            <a:stretch/>
          </p:blipFill>
          <p:spPr>
            <a:xfrm>
              <a:off x="-176040" y="-115920"/>
              <a:ext cx="952164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Development of the Lower Respiratory Tract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28240" y="1066680"/>
            <a:ext cx="4267080" cy="5029200"/>
          </a:xfrm>
          <a:prstGeom prst="rect">
            <a:avLst/>
          </a:prstGeom>
          <a:noFill/>
          <a:ln w="9360">
            <a:solidFill>
              <a:srgbClr val="00cccc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gins to form during the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en-US" sz="2800" spc="-1" strike="noStrike" baseline="30000">
                <a:solidFill>
                  <a:srgbClr val="ffff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week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gins as a median outgrowth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laryngotracheal groove)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om the 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caudal par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the 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ventral wal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the 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primitive pharyn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groove envaginates and forms the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aryngotracheal (respiratory) diverticul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6" descr="C:\Users\user\Pictures\sed.png"/>
          <p:cNvPicPr/>
          <p:nvPr/>
        </p:nvPicPr>
        <p:blipFill>
          <a:blip r:embed="rId2"/>
          <a:srcRect l="0" t="17909" r="0" b="14431"/>
          <a:stretch/>
        </p:blipFill>
        <p:spPr>
          <a:xfrm>
            <a:off x="4800600" y="1143000"/>
            <a:ext cx="4019400" cy="2971800"/>
          </a:xfrm>
          <a:prstGeom prst="rect">
            <a:avLst/>
          </a:prstGeom>
          <a:ln w="9360">
            <a:solidFill>
              <a:srgbClr val="00cccc"/>
            </a:solidFill>
            <a:miter/>
          </a:ln>
        </p:spPr>
      </p:pic>
      <p:sp>
        <p:nvSpPr>
          <p:cNvPr id="169" name="Rectangle 1"/>
          <p:cNvSpPr/>
          <p:nvPr/>
        </p:nvSpPr>
        <p:spPr>
          <a:xfrm>
            <a:off x="4876920" y="1295280"/>
            <a:ext cx="1066680" cy="6098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51920" y="762120"/>
            <a:ext cx="3962520" cy="5029200"/>
          </a:xfrm>
          <a:prstGeom prst="rect">
            <a:avLst/>
          </a:prstGeom>
          <a:noFill/>
          <a:ln w="9360">
            <a:solidFill>
              <a:srgbClr val="00cccc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ongitudinal 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tracheo-esophageal septu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evelops an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ivid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iverticulum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o 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orsal por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primordium of the 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oropharynx and esophag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Ventral por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primordium of 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larynx, trachea, bronchi and lu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Picture 4" descr="C:\Users\user\Pictures\cdcd.png"/>
          <p:cNvPicPr/>
          <p:nvPr/>
        </p:nvPicPr>
        <p:blipFill>
          <a:blip r:embed="rId1"/>
          <a:srcRect l="0" t="6754" r="4025" b="3799"/>
          <a:stretch/>
        </p:blipFill>
        <p:spPr>
          <a:xfrm>
            <a:off x="4343400" y="1523880"/>
            <a:ext cx="44118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228240" y="761760"/>
            <a:ext cx="3962520" cy="5257800"/>
          </a:xfrm>
          <a:prstGeom prst="rect">
            <a:avLst/>
          </a:prstGeom>
          <a:noFill/>
          <a:ln w="9360">
            <a:solidFill>
              <a:srgbClr val="00cccc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The proximal par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th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respiratory diverticulu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emains tubular</a:t>
            </a:r>
            <a:r>
              <a:rPr b="0" lang="en-US" sz="28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forms 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laryn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&amp; 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trache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The distal en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the diverticulum dilates to form 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lung bud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divides to give rise to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ung buds (primary bronchial bud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4" descr="C:\Users\user\Pictures\cdcd.png"/>
          <p:cNvPicPr/>
          <p:nvPr/>
        </p:nvPicPr>
        <p:blipFill>
          <a:blip r:embed="rId1"/>
          <a:srcRect l="0" t="6754" r="4025" b="3799"/>
          <a:stretch/>
        </p:blipFill>
        <p:spPr>
          <a:xfrm>
            <a:off x="4267080" y="1523880"/>
            <a:ext cx="44118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038480"/>
          </a:xfrm>
          <a:prstGeom prst="rect">
            <a:avLst/>
          </a:prstGeom>
          <a:noFill/>
          <a:ln w="9360">
            <a:solidFill>
              <a:srgbClr val="00cccc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47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47ffff"/>
                </a:solidFill>
                <a:latin typeface="Times New Roman"/>
              </a:rPr>
              <a:t>endoderm</a:t>
            </a:r>
            <a:r>
              <a:rPr b="0" lang="en-US" sz="3200" spc="-1" strike="noStrike">
                <a:solidFill>
                  <a:srgbClr val="47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ing th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laryngotracheal diverticulum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gives rise to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Epithelium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 &amp; </a:t>
            </a: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Glands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 the respiratory tra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urrounding </a:t>
            </a:r>
            <a:r>
              <a:rPr b="1" lang="en-US" sz="3200" spc="-1" strike="noStrike">
                <a:solidFill>
                  <a:srgbClr val="47ffff"/>
                </a:solidFill>
                <a:latin typeface="Times New Roman"/>
              </a:rPr>
              <a:t>splanchnic mesoderm</a:t>
            </a:r>
            <a:r>
              <a:rPr b="0" lang="en-US" sz="3200" spc="-1" strike="noStrike">
                <a:solidFill>
                  <a:srgbClr val="47ffff"/>
                </a:solidFill>
                <a:latin typeface="Times New Roman"/>
              </a:rPr>
              <a:t>         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gives rise to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Connective tissue, Cartilag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&amp; </a:t>
            </a: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Smooth muscle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 the respiratory tra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ectangle 2"/>
          <p:cNvGrpSpPr/>
          <p:nvPr/>
        </p:nvGrpSpPr>
        <p:grpSpPr>
          <a:xfrm>
            <a:off x="-60480" y="-115920"/>
            <a:ext cx="9259920" cy="878040"/>
            <a:chOff x="-60480" y="-115920"/>
            <a:chExt cx="9259920" cy="878040"/>
          </a:xfrm>
        </p:grpSpPr>
        <p:pic>
          <p:nvPicPr>
            <p:cNvPr id="176" name="Rectangle 2" descr=""/>
            <p:cNvPicPr/>
            <p:nvPr/>
          </p:nvPicPr>
          <p:blipFill>
            <a:blip r:embed="rId1"/>
            <a:stretch/>
          </p:blipFill>
          <p:spPr>
            <a:xfrm>
              <a:off x="-60480" y="-115920"/>
              <a:ext cx="925992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Development of the Larynx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75960" y="1219320"/>
            <a:ext cx="4724280" cy="5333760"/>
          </a:xfrm>
          <a:prstGeom prst="rect">
            <a:avLst/>
          </a:prstGeom>
          <a:noFill/>
          <a:ln w="9360">
            <a:solidFill>
              <a:srgbClr val="00cccc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he opening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the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aryngotracheal diverticulum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o the primitive foregu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become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laryngeal orifi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pithelium &amp; gland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derived from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endoderm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yngeal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uscl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&amp; the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artilage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the larynx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except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66ff33"/>
                </a:solidFill>
                <a:uFillTx/>
                <a:latin typeface="Times New Roman"/>
              </a:rPr>
              <a:t>Epiglotti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at develop from the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mesoderm of 4</a:t>
            </a:r>
            <a:r>
              <a:rPr b="1" lang="en-US" sz="2800" spc="-1" strike="noStrike" baseline="30000">
                <a:solidFill>
                  <a:srgbClr val="ff66ff"/>
                </a:solidFill>
                <a:latin typeface="Times New Roman"/>
              </a:rPr>
              <a:t>th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amp;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800" spc="-1" strike="noStrike" baseline="30000">
                <a:solidFill>
                  <a:srgbClr val="ff66ff"/>
                </a:solidFill>
                <a:latin typeface="Times New Roman"/>
              </a:rPr>
              <a:t>th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 pairs of pharyngeal arch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Picture 6" descr="C:\Users\user\Pictures\sfdfdgdf - Copy.png"/>
          <p:cNvPicPr/>
          <p:nvPr/>
        </p:nvPicPr>
        <p:blipFill>
          <a:blip r:embed="rId2"/>
          <a:stretch/>
        </p:blipFill>
        <p:spPr>
          <a:xfrm>
            <a:off x="4968720" y="1752480"/>
            <a:ext cx="40230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228240" y="1143000"/>
            <a:ext cx="4419720" cy="5486400"/>
          </a:xfrm>
          <a:prstGeom prst="rect">
            <a:avLst/>
          </a:prstGeom>
          <a:noFill/>
          <a:ln w="9360">
            <a:solidFill>
              <a:srgbClr val="00cccc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laryngeal epitheliu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roliferates rapidly resulting in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temporary occlusion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 the laryngeal lum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ecanaliz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larynx normally occurs by the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Times New Roman"/>
              </a:rPr>
              <a:t>th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wee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yngeal </a:t>
            </a: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ventricl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vocal fold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vestibular fold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e formed during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canalization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Picture 4" descr="C:\Documents and Settings\Free User\My Documents\My Pictures\Copy of Gray954.png"/>
          <p:cNvPicPr/>
          <p:nvPr/>
        </p:nvPicPr>
        <p:blipFill>
          <a:blip r:embed="rId1"/>
          <a:stretch/>
        </p:blipFill>
        <p:spPr>
          <a:xfrm>
            <a:off x="4800600" y="762120"/>
            <a:ext cx="3657600" cy="5883120"/>
          </a:xfrm>
          <a:prstGeom prst="rect">
            <a:avLst/>
          </a:prstGeom>
          <a:ln w="9360">
            <a:solidFill>
              <a:srgbClr val="00cccc"/>
            </a:solidFill>
            <a:miter/>
          </a:ln>
        </p:spPr>
      </p:pic>
      <p:sp>
        <p:nvSpPr>
          <p:cNvPr id="182" name="TextBox 3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canalization of laryn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07:22:38Z</dcterms:created>
  <dc:creator>Dr. Zeenat Zaidi</dc:creator>
  <dc:description/>
  <dc:language>en-US</dc:language>
  <cp:lastModifiedBy>user</cp:lastModifiedBy>
  <dcterms:modified xsi:type="dcterms:W3CDTF">2015-01-26T18:09:00Z</dcterms:modified>
  <cp:revision>236</cp:revision>
  <dc:subject>Embryology</dc:subject>
  <dc:title>Development of Respiratory System</dc:title>
</cp:coreProperties>
</file>