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9620-ADC0-46CA-97B4-159553CD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4B5-D134-4E40-84DB-111ACD4B4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CA8-94C1-4E3F-94AF-420832B9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C1C-18ED-433D-B033-60E317BA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380-3A44-4537-89BE-09FF5BC2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F9C-835E-4821-80F1-6D1113F3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42D-D8E7-4F5B-B885-79AF5C17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93FD-2C1E-4699-AD04-0D10F20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934-7A7B-415E-AD8E-44BD573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D9B-4C67-407B-9797-0CBBC63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FC19-0034-4F2E-A136-A0B8890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04C-B56D-46A4-A2DF-A90E831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867-3440-4737-9CF2-DA482DE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E9E-7174-424E-9400-5AF8A922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F8AD-EC13-469E-A0AA-35C0BE2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E5D-6FB2-4897-9FEF-B1D30DE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9865-A11E-41A2-8456-650FF59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5011-2928-4E2B-B5FD-1F877754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1E3D-8487-4F4E-A710-8D46615C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C17-7D6A-45B0-B297-30B2588A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44E-FEB7-4341-940D-BDC0C43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7D1-3C90-4E22-A709-114445FF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6F6-8385-45B8-92D2-A65D5FE0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C27-FC8A-48D6-A775-50C4EBA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803-F966-4353-BFD2-47F845E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413-35F8-42F1-8586-7CCCB8A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B9B-D161-4D5A-8BC0-3108A1EA7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635-8398-4C92-AED5-9416F4478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53TGVNbwOMvtaKjlgfAK&amp;psig=AFQjCNFTdgKgOtOH60vGPiptEQ7FQQFFTg&amp;ust=142237839587319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hyperlink" Target="http://www.google.com.sa/url?sa=i&amp;rct=j&amp;q=&amp;esrc=s&amp;source=images&amp;cd=&amp;cad=rja&amp;uact=8&amp;ved=0CAcQjRw&amp;url=http%3A%2F%2Ffaculty.southwest.tn.edu%2Frburkett%2Fresp_sys_lab.htm&amp;ei=03_GVLhtk89oho6C-Ao&amp;psig=AFQjCNHL6XIOZXRH_UlYiqHUBIiGM9V-xg&amp;ust=1422381333930230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haroni"/>
                <a:ea typeface="Aharoni"/>
              </a:rPr>
              <a:t>Development of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eed Voh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naa Alshaara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84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Trache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724640" cy="5486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dodermal lin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laryngotracheal tu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al to the laryn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iates in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 and glan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trachea and pulmona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tilages, connective tiss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uscles of the trache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rived fr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sod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C:\Users\user\Pictures\hhh.png"/>
          <p:cNvPicPr/>
          <p:nvPr/>
        </p:nvPicPr>
        <p:blipFill>
          <a:blip r:embed="rId2"/>
          <a:srcRect l="4460" t="42347" r="42417" b="5985"/>
          <a:stretch/>
        </p:blipFill>
        <p:spPr>
          <a:xfrm>
            <a:off x="5105520" y="3960720"/>
            <a:ext cx="365760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Pictures\hhh.png"/>
          <p:cNvPicPr/>
          <p:nvPr/>
        </p:nvPicPr>
        <p:blipFill>
          <a:blip r:embed="rId3"/>
          <a:srcRect l="56171" t="0" r="0" b="57897"/>
          <a:stretch/>
        </p:blipFill>
        <p:spPr>
          <a:xfrm>
            <a:off x="5105520" y="1100160"/>
            <a:ext cx="36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190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Bronchi &amp;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e 2 primary bronchial bu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 laterally into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icardio-peritoneal canal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rt of the intraembryonic celome)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primordia of pleural ca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al bud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-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give 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bronchial tre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C:\Users\user\Pictures\hgfhfgh - Copy.png"/>
          <p:cNvPicPr/>
          <p:nvPr/>
        </p:nvPicPr>
        <p:blipFill>
          <a:blip r:embed="rId2"/>
          <a:srcRect l="55101" t="10470" r="1670" b="10470"/>
          <a:stretch/>
        </p:blipFill>
        <p:spPr>
          <a:xfrm>
            <a:off x="5943600" y="388620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Pictures\hgfhfgh - Copy.png"/>
          <p:cNvPicPr/>
          <p:nvPr/>
        </p:nvPicPr>
        <p:blipFill>
          <a:blip r:embed="rId3"/>
          <a:srcRect l="3815" t="11635" r="50415" b="9306"/>
          <a:stretch/>
        </p:blipFill>
        <p:spPr>
          <a:xfrm>
            <a:off x="5943600" y="1219320"/>
            <a:ext cx="27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2560" y="533520"/>
            <a:ext cx="4505400" cy="56815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right main bronchu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slightl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r (wider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n the left one and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ented more ver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mbryonic relationship persists in the ad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main 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divide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ti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gmental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give rise to further bran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C:\Users\user\Pictures\xxcxccxcxcx - Copy (2).png"/>
          <p:cNvPicPr/>
          <p:nvPr/>
        </p:nvPicPr>
        <p:blipFill>
          <a:blip r:embed="rId1"/>
          <a:srcRect l="0" t="0" r="66006" b="62615"/>
          <a:stretch/>
        </p:blipFill>
        <p:spPr>
          <a:xfrm>
            <a:off x="4952880" y="45720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user\Pictures\ffbg.png"/>
          <p:cNvPicPr/>
          <p:nvPr/>
        </p:nvPicPr>
        <p:blipFill>
          <a:blip r:embed="rId2"/>
          <a:stretch/>
        </p:blipFill>
        <p:spPr>
          <a:xfrm>
            <a:off x="4724280" y="3809880"/>
            <a:ext cx="3841920" cy="2819520"/>
          </a:xfrm>
          <a:prstGeom prst="rect">
            <a:avLst/>
          </a:prstGeom>
          <a:ln w="0">
            <a:noFill/>
          </a:ln>
        </p:spPr>
      </p:pic>
      <p:sp>
        <p:nvSpPr>
          <p:cNvPr id="198" name="Frame 6"/>
          <p:cNvSpPr/>
          <p:nvPr/>
        </p:nvSpPr>
        <p:spPr>
          <a:xfrm>
            <a:off x="4800600" y="4876920"/>
            <a:ext cx="609480" cy="53316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ame 7"/>
          <p:cNvSpPr/>
          <p:nvPr/>
        </p:nvSpPr>
        <p:spPr>
          <a:xfrm>
            <a:off x="4724280" y="5791320"/>
            <a:ext cx="762120" cy="6858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ame 8"/>
          <p:cNvSpPr/>
          <p:nvPr/>
        </p:nvSpPr>
        <p:spPr>
          <a:xfrm>
            <a:off x="4724280" y="4038480"/>
            <a:ext cx="18288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ame 9"/>
          <p:cNvSpPr/>
          <p:nvPr/>
        </p:nvSpPr>
        <p:spPr>
          <a:xfrm>
            <a:off x="6934320" y="4038480"/>
            <a:ext cx="16002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3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2">
            <a:hlinkClick r:id="rId4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4" descr="https://encrypted-tbn2.gstatic.com/images?q=tbn:ANd9GcR_Vi_1uXXDFVsbQM0C8IybhjiSXzL49_XSVNDz9M_ISq6La7bNv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428760"/>
            <a:ext cx="3786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240" y="380520"/>
            <a:ext cx="4419720" cy="541044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segmental bronch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0 in righ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 or 9 in the lef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gin to form by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th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urrounding mesenchyme also divid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egmental bronchu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ith its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urroundi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ass of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mesenchyme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the primordium of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ronchopulmonary seg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ontent Placeholder 8" descr="C:\Users\user\Pictures\ffbg.png"/>
          <p:cNvPicPr/>
          <p:nvPr/>
        </p:nvPicPr>
        <p:blipFill>
          <a:blip r:embed="rId1"/>
          <a:stretch/>
        </p:blipFill>
        <p:spPr>
          <a:xfrm>
            <a:off x="4800600" y="1486080"/>
            <a:ext cx="425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28600" y="1592280"/>
            <a:ext cx="3809880" cy="393336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lungs develop they acquire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iscer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lanchnic mesench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oracic body wall becomes lined by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ariet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rived from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matic mesod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C:\Documents and Settings\Free User\My Documents\My Pictures\Pleura.bmp"/>
          <p:cNvPicPr/>
          <p:nvPr/>
        </p:nvPicPr>
        <p:blipFill>
          <a:blip r:embed="rId1"/>
          <a:srcRect l="2003" t="1998" r="2003" b="4287"/>
          <a:stretch/>
        </p:blipFill>
        <p:spPr>
          <a:xfrm>
            <a:off x="4419720" y="838080"/>
            <a:ext cx="4308480" cy="31244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209" name="Picture 6" descr="C:\Users\user\Pictures\hgfhfgh - Copy.png"/>
          <p:cNvPicPr/>
          <p:nvPr/>
        </p:nvPicPr>
        <p:blipFill>
          <a:blip r:embed="rId2"/>
          <a:srcRect l="3815" t="11635" r="50415" b="9306"/>
          <a:stretch/>
        </p:blipFill>
        <p:spPr>
          <a:xfrm>
            <a:off x="4419720" y="42670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user\Pictures\hgfhfgh - Copy.png"/>
          <p:cNvPicPr/>
          <p:nvPr/>
        </p:nvPicPr>
        <p:blipFill>
          <a:blip r:embed="rId3"/>
          <a:srcRect l="55101" t="10470" r="1670" b="10470"/>
          <a:stretch/>
        </p:blipFill>
        <p:spPr>
          <a:xfrm>
            <a:off x="7010280" y="426708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uration of lung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d in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perio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Pseudoglandu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5 - 17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analicular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6 - 25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4 weeks -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ate fetal period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hood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se periods overlap each other because the cranial segments of the lungs mature faster than the caudal 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https://encrypted-tbn3.gstatic.com/images?q=tbn:ANd9GcRvYMHRnfUOQ0z6JjQSRGmWqZzCE3dFu7FtdmXnPD1PftFSSFp_Ig"/>
          <p:cNvPicPr/>
          <p:nvPr/>
        </p:nvPicPr>
        <p:blipFill>
          <a:blip r:embed="rId1"/>
          <a:srcRect l="0" t="0" r="0" b="29041"/>
          <a:stretch/>
        </p:blipFill>
        <p:spPr>
          <a:xfrm>
            <a:off x="304920" y="4419720"/>
            <a:ext cx="541008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learninggnm.com/extimages/Lung%20Alveoli%20Website.jpg"/>
          <p:cNvPicPr/>
          <p:nvPr/>
        </p:nvPicPr>
        <p:blipFill>
          <a:blip r:embed="rId2"/>
          <a:stretch/>
        </p:blipFill>
        <p:spPr>
          <a:xfrm>
            <a:off x="6095880" y="4181400"/>
            <a:ext cx="264816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14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15" name="Rectangle 2" descr=""/>
            <p:cNvPicPr/>
            <p:nvPr/>
          </p:nvPicPr>
          <p:blipFill>
            <a:blip r:embed="rId3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turation of the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953240" cy="472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ing lungs somewhat resembles an exocrine gland during this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7 week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major elements of the lung have form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cept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ose involved with gas exchange (alveol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 is </a:t>
            </a:r>
            <a:r>
              <a:rPr b="1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etus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born during this period ar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unable to surv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C:\Users\user\Pictures\zz.png"/>
          <p:cNvPicPr/>
          <p:nvPr/>
        </p:nvPicPr>
        <p:blipFill>
          <a:blip r:embed="rId1"/>
          <a:srcRect l="0" t="5700" r="8269" b="0"/>
          <a:stretch/>
        </p:blipFill>
        <p:spPr>
          <a:xfrm>
            <a:off x="5334120" y="1976400"/>
            <a:ext cx="3657600" cy="2976480"/>
          </a:xfrm>
          <a:prstGeom prst="rect">
            <a:avLst/>
          </a:prstGeom>
          <a:ln w="0">
            <a:noFill/>
          </a:ln>
        </p:spPr>
      </p:pic>
      <p:grpSp>
        <p:nvGrpSpPr>
          <p:cNvPr id="219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Pseudoglandular Period (5-17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23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Canalicular Period (16-25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4876920" cy="480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ng tissue becom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ghly vas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 of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week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iven ri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wo or more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piratory bronchio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3 to 6 tubular passages c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 du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-w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s (primordial alveoli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the end of 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5" descr="C:\Users\user\Pictures\xzc.png"/>
          <p:cNvPicPr/>
          <p:nvPr/>
        </p:nvPicPr>
        <p:blipFill>
          <a:blip r:embed="rId2"/>
          <a:srcRect l="5717" t="0" r="0" b="0"/>
          <a:stretch/>
        </p:blipFill>
        <p:spPr>
          <a:xfrm>
            <a:off x="5334120" y="990720"/>
            <a:ext cx="3195360" cy="259056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3"/>
          <p:cNvSpPr/>
          <p:nvPr/>
        </p:nvSpPr>
        <p:spPr>
          <a:xfrm>
            <a:off x="5105520" y="3733920"/>
            <a:ext cx="3809880" cy="2743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ff"/>
                </a:solidFill>
                <a:latin typeface="Times New Roman"/>
              </a:rPr>
              <a:t>Respiration is possible at the end of this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e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orn at the end of this perio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y surv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given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ntensive c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ut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usually di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cause of the immaturity of respiratory as well as other syste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ame 5"/>
          <p:cNvSpPr/>
          <p:nvPr/>
        </p:nvSpPr>
        <p:spPr>
          <a:xfrm>
            <a:off x="5334120" y="2362320"/>
            <a:ext cx="685800" cy="38088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ame 6"/>
          <p:cNvSpPr/>
          <p:nvPr/>
        </p:nvSpPr>
        <p:spPr>
          <a:xfrm>
            <a:off x="5334120" y="1905120"/>
            <a:ext cx="685800" cy="4572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ame 7"/>
          <p:cNvSpPr/>
          <p:nvPr/>
        </p:nvSpPr>
        <p:spPr>
          <a:xfrm>
            <a:off x="7696080" y="990720"/>
            <a:ext cx="762120" cy="2286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-60480" y="-36360"/>
            <a:ext cx="9259920" cy="950760"/>
            <a:chOff x="-60480" y="-36360"/>
            <a:chExt cx="9259920" cy="950760"/>
          </a:xfrm>
        </p:grpSpPr>
        <p:pic>
          <p:nvPicPr>
            <p:cNvPr id="232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Terminal Sac Period (24 weeks - birth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960" y="990360"/>
            <a:ext cx="5562360" cy="556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ny mo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s deve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becomes very th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pillari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g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bulge in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alve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pi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ndo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in intimate contact and establish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lood-air barr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dequate gas exchang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occur which allows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mature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rn fetus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5" descr="C:\Users\user\Pictures\asas.png"/>
          <p:cNvPicPr/>
          <p:nvPr/>
        </p:nvPicPr>
        <p:blipFill>
          <a:blip r:embed="rId2"/>
          <a:srcRect l="2377" t="2237" r="3967" b="2237"/>
          <a:stretch/>
        </p:blipFill>
        <p:spPr>
          <a:xfrm>
            <a:off x="5715000" y="2193840"/>
            <a:ext cx="33526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37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b"/>
                  </a:solidFill>
                  <a:latin typeface="Times New Roman"/>
                </a:rPr>
                <a:t>Alveolar Period (32 weeks – 8 year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76320" y="928800"/>
            <a:ext cx="5333760" cy="3571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beginning of the alveolar period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ach respiratory bronchio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m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cluster of thin-w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cu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parated from one another by loose connective tiss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terminal saccu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re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ture alveolar sa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65FD5C54"/>
          <p:cNvPicPr/>
          <p:nvPr/>
        </p:nvPicPr>
        <p:blipFill>
          <a:blip r:embed="rId2"/>
          <a:srcRect l="18572" t="13219" r="52797" b="44746"/>
          <a:stretch/>
        </p:blipFill>
        <p:spPr>
          <a:xfrm>
            <a:off x="5638680" y="9288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s://encrypted-tbn0.gstatic.com/images?q=tbn:ANd9GcRkgfu3cOqLN5vWBKX_vFxbIbXmLhAnVJXilbp4o0iSQeic9a--">
            <a:hlinkClick r:id="rId3"/>
          </p:cNvPr>
          <p:cNvPicPr/>
          <p:nvPr/>
        </p:nvPicPr>
        <p:blipFill>
          <a:blip r:embed="rId4"/>
          <a:srcRect l="0" t="15079" r="39501" b="3896"/>
          <a:stretch/>
        </p:blipFill>
        <p:spPr>
          <a:xfrm>
            <a:off x="6072120" y="335772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https://www.rsvprotection.com/_assets/images/fullterm-preterm-lungs.jpg"/>
          <p:cNvPicPr/>
          <p:nvPr/>
        </p:nvPicPr>
        <p:blipFill>
          <a:blip r:embed="rId5"/>
          <a:stretch/>
        </p:blipFill>
        <p:spPr>
          <a:xfrm>
            <a:off x="285840" y="4572000"/>
            <a:ext cx="50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At the end of the lecture the students should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geotracheal (respiratory) diverticulu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rach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bronchi &amp;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 the periods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aturation of the lu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ost congenital anoma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7200" y="533520"/>
            <a:ext cx="4191120" cy="320040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haracteristic mature alveol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 not form until after birth.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95% of alveoli develop postnat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bout 50 million alveoli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ixth of the adult number are present in the lungs of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ll-term newborn inf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0880" y="3962520"/>
            <a:ext cx="8077320" cy="190476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3-8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so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number of alveoli continues to increase, forming additional primordial alveo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ghth 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dult complement of 300 million alveoli is pres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8" descr="https://encrypted-tbn0.gstatic.com/images?q=tbn:ANd9GcRkgfu3cOqLN5vWBKX_vFxbIbXmLhAnVJXilbp4o0iSQeic9a--"/>
          <p:cNvPicPr/>
          <p:nvPr/>
        </p:nvPicPr>
        <p:blipFill>
          <a:blip r:embed="rId1"/>
          <a:srcRect l="0" t="15079" r="39501" b="3896"/>
          <a:stretch/>
        </p:blipFill>
        <p:spPr>
          <a:xfrm>
            <a:off x="5286240" y="71424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124440" cy="518148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Breathing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fore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t continu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rease as the time of delivery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ditioning the respiratory musc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ate lung developm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sential for normal lung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352680" y="228600"/>
            <a:ext cx="5639040" cy="373392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ungs at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47ffff"/>
                </a:solidFill>
                <a:latin typeface="Times New Roman"/>
              </a:rPr>
              <a:t>lungs are half fil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uid derived from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niotic flui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from the lungs &amp; tracheal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g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uid in the lungs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eared at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ure on the fetal thor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in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lmonar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pillaries and lympha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267080" cy="35816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actors importan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ormal lung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thoracic sp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lung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tal breath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amniotic flu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724280" y="1066680"/>
            <a:ext cx="4191120" cy="51818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velopmental anoma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acheoesophageal fist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l stenosis &amp;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lung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esis of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hyp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ory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haroni"/>
                </a:rPr>
                <a:t>Tracheoesophageal Fistul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228240" y="914400"/>
            <a:ext cx="4724280" cy="5105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normal pass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trachea and esophag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 fro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omplete divi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the cranial part of the foregut into respiratory and esophageal par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s once in 3000 to 4500 live bir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ffected infants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more th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5% of case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stula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sociated with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sophageal atresia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ophagus ends in a blind-ended pouch rather than connecting normally to the stoma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C:\Users\user\Pictures\xcvbnm - Copy.png"/>
          <p:cNvPicPr/>
          <p:nvPr/>
        </p:nvPicPr>
        <p:blipFill>
          <a:blip r:embed="rId2"/>
          <a:srcRect l="0" t="0" r="15795" b="0"/>
          <a:stretch/>
        </p:blipFill>
        <p:spPr>
          <a:xfrm>
            <a:off x="5029200" y="914400"/>
            <a:ext cx="2971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nap ITC"/>
              </a:rPr>
              <a:t>Thank You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Rectangle 2"/>
          <p:cNvGrpSpPr/>
          <p:nvPr/>
        </p:nvGrpSpPr>
        <p:grpSpPr>
          <a:xfrm>
            <a:off x="-60480" y="-60480"/>
            <a:ext cx="9259920" cy="895680"/>
            <a:chOff x="-60480" y="-60480"/>
            <a:chExt cx="9259920" cy="895680"/>
          </a:xfrm>
        </p:grpSpPr>
        <p:pic>
          <p:nvPicPr>
            <p:cNvPr id="158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60480"/>
              <a:ext cx="92599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Respiratory Syste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pp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cavity &amp;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w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C:\Documents and Settings\Free User\My Documents\My Pictures\fcdf.jpg"/>
          <p:cNvPicPr/>
          <p:nvPr/>
        </p:nvPicPr>
        <p:blipFill>
          <a:blip r:embed="rId2"/>
          <a:stretch/>
        </p:blipFill>
        <p:spPr>
          <a:xfrm>
            <a:off x="4724280" y="1295280"/>
            <a:ext cx="413244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705720" y="1600200"/>
            <a:ext cx="1981080" cy="1295280"/>
          </a:xfrm>
          <a:prstGeom prst="rect">
            <a:avLst/>
          </a:prstGeom>
          <a:solidFill>
            <a:srgbClr val="00cccc">
              <a:alpha val="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05720" y="2971800"/>
            <a:ext cx="1981080" cy="2666880"/>
          </a:xfrm>
          <a:prstGeom prst="rect">
            <a:avLst/>
          </a:prstGeom>
          <a:solidFill>
            <a:srgbClr val="ff0000">
              <a:alpha val="1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026"/>
          <p:cNvGrpSpPr/>
          <p:nvPr/>
        </p:nvGrpSpPr>
        <p:grpSpPr>
          <a:xfrm>
            <a:off x="-176040" y="-115920"/>
            <a:ext cx="9521640" cy="878040"/>
            <a:chOff x="-176040" y="-115920"/>
            <a:chExt cx="9521640" cy="878040"/>
          </a:xfrm>
        </p:grpSpPr>
        <p:pic>
          <p:nvPicPr>
            <p:cNvPr id="165" name="Rectangle 1026" descr=""/>
            <p:cNvPicPr/>
            <p:nvPr/>
          </p:nvPicPr>
          <p:blipFill>
            <a:blip r:embed="rId1"/>
            <a:stretch/>
          </p:blipFill>
          <p:spPr>
            <a:xfrm>
              <a:off x="-176040" y="-115920"/>
              <a:ext cx="95216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evelopment of the Lower Respiratory Trac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form during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e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as a median outgrow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aryngotracheal groove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aud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tral wa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imitiv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oove envaginates and forms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(respiratory) diver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C:\Users\user\Pictures\sed.png"/>
          <p:cNvPicPr/>
          <p:nvPr/>
        </p:nvPicPr>
        <p:blipFill>
          <a:blip r:embed="rId2"/>
          <a:srcRect l="0" t="17909" r="0" b="14431"/>
          <a:stretch/>
        </p:blipFill>
        <p:spPr>
          <a:xfrm>
            <a:off x="4800600" y="1143000"/>
            <a:ext cx="4019400" cy="297180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69" name="Rectangle 1"/>
          <p:cNvSpPr/>
          <p:nvPr/>
        </p:nvSpPr>
        <p:spPr>
          <a:xfrm>
            <a:off x="4876920" y="1295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396252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ngitudinal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racheo-esophageal sep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s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id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rs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the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ropharynx and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ntr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arynx, trachea, bronchi and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34340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761760"/>
            <a:ext cx="3962520" cy="52578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proxim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piratory diverticu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mains tubular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orm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aryn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rache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distal e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diverticulum dilates to form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ung bu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divides to give rise to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ung buds (primary bronchial bu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26708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end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th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ryngotracheal diverticulu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Gland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rrounding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splanchnic mes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Connective tissue, Cartilag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Smooth musc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Laryn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533376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pen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the primitive foreg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laryngeal ori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&amp; gla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derived from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endod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til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laryn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xcep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Epiglott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develop from the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esoderm of 4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pairs of pharyngeal arc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6" descr="C:\Users\user\Pictures\sfdfdgdf - Copy.png"/>
          <p:cNvPicPr/>
          <p:nvPr/>
        </p:nvPicPr>
        <p:blipFill>
          <a:blip r:embed="rId2"/>
          <a:stretch/>
        </p:blipFill>
        <p:spPr>
          <a:xfrm>
            <a:off x="4968720" y="1752480"/>
            <a:ext cx="4023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laryngeal epithel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liferates rapidly resulting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temporary occlu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laryngeal 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arynx normally occurs by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ntric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ocal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stibular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ormed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C:\Documents and Settings\Free User\My Documents\My Pictures\Copy of Gray954.png"/>
          <p:cNvPicPr/>
          <p:nvPr/>
        </p:nvPicPr>
        <p:blipFill>
          <a:blip r:embed="rId1"/>
          <a:stretch/>
        </p:blipFill>
        <p:spPr>
          <a:xfrm>
            <a:off x="4800600" y="762120"/>
            <a:ext cx="3657600" cy="588312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82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nalization of l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22:38Z</dcterms:created>
  <dc:creator>Dr. Zeenat Zaidi</dc:creator>
  <dc:description/>
  <dc:language>en-US</dc:language>
  <cp:lastModifiedBy>user</cp:lastModifiedBy>
  <dcterms:modified xsi:type="dcterms:W3CDTF">2015-01-26T18:09:00Z</dcterms:modified>
  <cp:revision>236</cp:revision>
  <dc:subject>Embryology</dc:subject>
  <dc:title>Development of Respiratory System</dc:title>
</cp:coreProperties>
</file>