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BD1-CDF5-4B07-9EA6-3907136D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E53-3916-4A54-B77E-113DECD1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A3B-D65A-4F54-8F25-7DE5822B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B6F-FF01-42AB-8E96-D8962686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D28-AD11-40EA-90AB-1B872FC0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7AE-0FA6-428D-9479-384D270D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A85-1D8D-456F-A806-A77A51FD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EC4B-D9C6-4E88-9735-C0C7DFC52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6639-15EB-4BE5-AA0D-8DA16769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648-3D4F-4639-A70E-4757D7DE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255-D7A5-4B05-BB90-A8C41450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2CD-7499-49F2-B698-9CE619FA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47DA-4E99-42C7-A79F-FA14184CDE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logy of the Upper Respiratory Trac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asal cavity, Paranasal sinuses and Laryn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5800" y="990720"/>
            <a:ext cx="73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ESPIRATORY SYSTEM ( I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Extrinsic and intrinsic muscles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rt-mo3013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1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arynx"/>
          <p:cNvPicPr/>
          <p:nvPr/>
        </p:nvPicPr>
        <p:blipFill>
          <a:blip r:embed="rId2"/>
          <a:stretch/>
        </p:blipFill>
        <p:spPr>
          <a:xfrm>
            <a:off x="5791320" y="4889520"/>
            <a:ext cx="335268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sp04s"/>
          <p:cNvPicPr/>
          <p:nvPr/>
        </p:nvPicPr>
        <p:blipFill>
          <a:blip r:embed="rId3"/>
          <a:stretch/>
        </p:blipFill>
        <p:spPr>
          <a:xfrm>
            <a:off x="6019920" y="2209680"/>
            <a:ext cx="3124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thelium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Respiratory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stratified ciliated columnar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obl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Non keratinized stratified squamous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:    -Vocal 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uperior surface of epiglot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esp04s"/>
          <p:cNvPicPr/>
          <p:nvPr/>
        </p:nvPicPr>
        <p:blipFill>
          <a:blip r:embed="rId1"/>
          <a:stretch/>
        </p:blipFill>
        <p:spPr>
          <a:xfrm>
            <a:off x="4952880" y="3892680"/>
            <a:ext cx="41911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2 pairs of shelf-like mucosal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Vestibular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immo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/M: a-  Respiratory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ose C.T. with seromucous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hoid elements &amp; adipos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VOCAL FOLDS (CORDS)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Epithelium: non keratinized stratified squam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C.T. containing bundles of  elastic    fibers and skeletal musc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.B. No lymphoid no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o seromucous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"/>
          <p:cNvPicPr/>
          <p:nvPr/>
        </p:nvPicPr>
        <p:blipFill>
          <a:blip r:embed="rId1"/>
          <a:stretch/>
        </p:blipFill>
        <p:spPr>
          <a:xfrm>
            <a:off x="6705720" y="762120"/>
            <a:ext cx="2438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yroid carti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Elastic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lot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scle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arynx"/>
          <p:cNvPicPr/>
          <p:nvPr/>
        </p:nvPicPr>
        <p:blipFill>
          <a:blip r:embed="rId1"/>
          <a:stretch/>
        </p:blipFill>
        <p:spPr>
          <a:xfrm>
            <a:off x="4600440" y="4191120"/>
            <a:ext cx="454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EPITHEL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</a:t>
            </a:r>
            <a:r>
              <a:rPr b="1" lang="en-US" sz="32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with goble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Types of cell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ll touch the basement membr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iliated columnar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blet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are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DNES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.g. seroto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E2122D2"/>
          <p:cNvPicPr/>
          <p:nvPr/>
        </p:nvPicPr>
        <p:blipFill>
          <a:blip r:embed="rId1"/>
          <a:srcRect l="32845" t="40339" r="11394" b="32773"/>
          <a:stretch/>
        </p:blipFill>
        <p:spPr>
          <a:xfrm>
            <a:off x="4952880" y="4114800"/>
            <a:ext cx="3810240" cy="26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retmc"/>
          <p:cNvPicPr/>
          <p:nvPr/>
        </p:nvPicPr>
        <p:blipFill>
          <a:blip r:embed="rId2"/>
          <a:stretch/>
        </p:blipFill>
        <p:spPr>
          <a:xfrm>
            <a:off x="533520" y="43434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17_01"/>
          <p:cNvPicPr/>
          <p:nvPr/>
        </p:nvPicPr>
        <p:blipFill>
          <a:blip r:embed="rId1"/>
          <a:stretch/>
        </p:blipFill>
        <p:spPr>
          <a:xfrm>
            <a:off x="1447920" y="1905120"/>
            <a:ext cx="434340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969560" y="380880"/>
            <a:ext cx="48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Arial"/>
              </a:rPr>
              <a:t>RESPIRATORY SYSTEM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94800" y="842760"/>
            <a:ext cx="78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Histology of the Lower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(Trachea, Bronchi, Bronchioles) &amp; the 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cc"/>
                </a:solidFill>
                <a:latin typeface="Arial"/>
              </a:rPr>
              <a:t>TRAC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wall of trachea is form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b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ventit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tra11he"/>
          <p:cNvPicPr/>
          <p:nvPr/>
        </p:nvPicPr>
        <p:blipFill>
          <a:blip r:embed="rId1"/>
          <a:stretch/>
        </p:blipFill>
        <p:spPr>
          <a:xfrm>
            <a:off x="304920" y="3809880"/>
            <a:ext cx="3514680" cy="2719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C:\Documents and Settings\Raisa\My Documents\My Pictures\trachea--7.jpg"/>
          <p:cNvPicPr/>
          <p:nvPr/>
        </p:nvPicPr>
        <p:blipFill>
          <a:blip r:embed="rId2"/>
          <a:stretch/>
        </p:blipFill>
        <p:spPr>
          <a:xfrm>
            <a:off x="3962520" y="3657600"/>
            <a:ext cx="2342880" cy="3124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Documents and Settings\Raisa\My Documents\My Pictures\trachea--5.jpg"/>
          <p:cNvPicPr/>
          <p:nvPr/>
        </p:nvPicPr>
        <p:blipFill>
          <a:blip r:embed="rId3"/>
          <a:stretch/>
        </p:blipFill>
        <p:spPr>
          <a:xfrm>
            <a:off x="6324480" y="1676520"/>
            <a:ext cx="26924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MUCOSA OF TRAC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762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pithelium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spiratory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3) Elastic la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formed of elastic fi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separates lamina propria from submuc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retmc"/>
          <p:cNvPicPr/>
          <p:nvPr/>
        </p:nvPicPr>
        <p:blipFill>
          <a:blip r:embed="rId1"/>
          <a:stretch/>
        </p:blipFill>
        <p:spPr>
          <a:xfrm>
            <a:off x="4648320" y="4114800"/>
            <a:ext cx="3697200" cy="2481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Raisa\My Documents\My Pictures\trachea--2.jpg"/>
          <p:cNvPicPr/>
          <p:nvPr/>
        </p:nvPicPr>
        <p:blipFill>
          <a:blip r:embed="rId2"/>
          <a:stretch/>
        </p:blipFill>
        <p:spPr>
          <a:xfrm>
            <a:off x="914400" y="41148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Documents and Settings\Raisa\My Documents\My Pictures\trachea--1.jpg"/>
          <p:cNvPicPr/>
          <p:nvPr/>
        </p:nvPicPr>
        <p:blipFill>
          <a:blip r:embed="rId3"/>
          <a:stretch/>
        </p:blipFill>
        <p:spPr>
          <a:xfrm>
            <a:off x="5867280" y="1219320"/>
            <a:ext cx="289584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SUBMUCOSA OF TRAC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- C.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- Numerous mucous &amp; seromuc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3- Lymphoid el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C:\Documents and Settings\Raisa\My Documents\My Pictures\trachea --3.jpg"/>
          <p:cNvPicPr/>
          <p:nvPr/>
        </p:nvPicPr>
        <p:blipFill>
          <a:blip r:embed="rId1"/>
          <a:stretch/>
        </p:blipFill>
        <p:spPr>
          <a:xfrm>
            <a:off x="4800600" y="3429000"/>
            <a:ext cx="3657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Arial"/>
              </a:rPr>
              <a:t>ADVENTITIA OF TRACH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- Fibroelastic C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- C-shaped rings (12-16) of hyaline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chealis muscle (bundle of smooth muscle fibers) connects the 2 ends of each C-shaped (incomplete) rings of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C:\Documents and Settings\Raisa\My Documents\My Pictures\trachea--5.jpg"/>
          <p:cNvPicPr/>
          <p:nvPr/>
        </p:nvPicPr>
        <p:blipFill>
          <a:blip r:embed="rId1"/>
          <a:stretch/>
        </p:blipFill>
        <p:spPr>
          <a:xfrm>
            <a:off x="4724280" y="39625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Documents and Settings\Raisa\My Documents\My Pictures\trachea ---6.jpg"/>
          <p:cNvPicPr/>
          <p:nvPr/>
        </p:nvPicPr>
        <p:blipFill>
          <a:blip r:embed="rId2"/>
          <a:stretch/>
        </p:blipFill>
        <p:spPr>
          <a:xfrm>
            <a:off x="838080" y="4267080"/>
            <a:ext cx="31244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6868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 the end of this lecture the student should be able to describe the microscopic struc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nasal ca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sep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of the paranasa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in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908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ucting por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Nas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soph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L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ac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- Primary bronchi (extrapulmonary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 Intrapulmonary bronch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2ry bronchi (lobar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3ry bronchi  (segmental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 Primary bronchioles (preterminal bronchio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- Terminal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Respiratory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 Alveolar 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 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Pulmonary alve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7_01"/>
          <p:cNvPicPr/>
          <p:nvPr/>
        </p:nvPicPr>
        <p:blipFill>
          <a:blip r:embed="rId1"/>
          <a:stretch/>
        </p:blipFill>
        <p:spPr>
          <a:xfrm>
            <a:off x="6705720" y="990720"/>
            <a:ext cx="198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CAVITY (N.C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erior portion of N.C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rior portion of N.C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The nasal septum divides the nasal cavity into two halves (right and le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rt-mo3013"/>
          <p:cNvPicPr/>
          <p:nvPr/>
        </p:nvPicPr>
        <p:blipFill>
          <a:blip r:embed="rId1"/>
          <a:stretch/>
        </p:blipFill>
        <p:spPr>
          <a:xfrm>
            <a:off x="5029200" y="1143000"/>
            <a:ext cx="3657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OF N.C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s lined with thin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dermi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eratinized stratified Squamous epithel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Der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issa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stiff 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ancellous (spongy) b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 REGION (AREA) OF NASAL CAV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with goblet cells (Respiratory epithel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 ( Sub-epithelial C.T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Large arterial plexuse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ous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ighly vascularized C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Many seromucous glands (ac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Abundant lymphoid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luding occasional lymphoid nod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a cells &amp; ma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reignm"/>
          <p:cNvPicPr/>
          <p:nvPr/>
        </p:nvPicPr>
        <p:blipFill>
          <a:blip r:embed="rId1"/>
          <a:stretch/>
        </p:blipFill>
        <p:spPr>
          <a:xfrm>
            <a:off x="5562720" y="2286000"/>
            <a:ext cx="3352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NASAL SIN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 Respiratory epith. (Mention…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us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17_02"/>
          <p:cNvPicPr/>
          <p:nvPr/>
        </p:nvPicPr>
        <p:blipFill>
          <a:blip r:embed="rId1"/>
          <a:stretch/>
        </p:blipFill>
        <p:spPr>
          <a:xfrm>
            <a:off x="3505320" y="3276720"/>
            <a:ext cx="5202000" cy="32986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5561640" y="2057040"/>
            <a:ext cx="6865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 (AREA) OF NASAL CAV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M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Roof of nasal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Upper part of nasal sep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over superior conch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olumnar epit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nerve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pporting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amidal in shape, bas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and act as stem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   Lamina propr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ighly (richly) vascularized loose to dense C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Bowman’s glands ( olfactory glands) : are serous ac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Bundles of unmyelinated nerv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axons of olfactory nerve cells + Schwann-like cells (glial cel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) Rich vascular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) Numerous lymphoi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17_05"/>
          <p:cNvPicPr/>
          <p:nvPr/>
        </p:nvPicPr>
        <p:blipFill>
          <a:blip r:embed="rId1"/>
          <a:stretch/>
        </p:blipFill>
        <p:spPr>
          <a:xfrm>
            <a:off x="4876920" y="1225440"/>
            <a:ext cx="3809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pola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dri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as olfactory vesicle that has nonmotile  c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re unmyelinated with Schwann-lik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 will collect in the lamina propria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of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will collect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olfactory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24280"/>
            <a:ext cx="914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(supporting)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olumna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cal support and nourishment for olfacto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reomlm"/>
          <p:cNvPicPr/>
          <p:nvPr/>
        </p:nvPicPr>
        <p:blipFill>
          <a:blip r:embed="rId1"/>
          <a:srcRect l="0" t="19597" r="0" b="0"/>
          <a:stretch/>
        </p:blipFill>
        <p:spPr>
          <a:xfrm>
            <a:off x="4800600" y="2976480"/>
            <a:ext cx="3429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09:20Z</dcterms:created>
  <dc:creator>Aly Mohamed</dc:creator>
  <dc:description/>
  <dc:language>en-US</dc:language>
  <cp:lastModifiedBy>rmohammad</cp:lastModifiedBy>
  <dcterms:modified xsi:type="dcterms:W3CDTF">2016-01-17T07:41:51Z</dcterms:modified>
  <cp:revision>290</cp:revision>
  <dc:subject/>
  <dc:title>RESPIRATORY SYSTEM</dc:title>
</cp:coreProperties>
</file>