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C96-FE36-417A-B959-D68137C9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693-45B2-4F3A-A2A6-C5CDF9F8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EDF-D650-4848-9F20-EB969199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60F-69E9-472C-A3BD-9D09CCC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BD6-1359-496F-9694-7D706B4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901-97A1-4966-BC30-0451B6B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989-2EDC-4022-BDD4-C3A71C3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200-978E-48CA-8CE7-114BC80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EA0-45E0-42E7-81C1-846BAB8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59F-A546-46F0-9EA3-E694B12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5A3-62F9-4945-BF93-95C2D1B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E78-8BDD-4809-B9F8-5A42B81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A8E-65B8-4A95-8B5D-474C11EF18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4952880" y="4114800"/>
            <a:ext cx="381024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53352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17_01"/>
          <p:cNvPicPr/>
          <p:nvPr/>
        </p:nvPicPr>
        <p:blipFill>
          <a:blip r:embed="rId1"/>
          <a:stretch/>
        </p:blipFill>
        <p:spPr>
          <a:xfrm>
            <a:off x="1447920" y="190512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969560" y="38088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RESPIRATORY SYSTEM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4800" y="842760"/>
            <a:ext cx="78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Histology of the Lower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(Trachea, Bronchi, Bronchioles) &amp; the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Arial"/>
              </a:rPr>
              <a:t>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wall of trachea is form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nti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ra11he"/>
          <p:cNvPicPr/>
          <p:nvPr/>
        </p:nvPicPr>
        <p:blipFill>
          <a:blip r:embed="rId1"/>
          <a:stretch/>
        </p:blipFill>
        <p:spPr>
          <a:xfrm>
            <a:off x="304920" y="3809880"/>
            <a:ext cx="3514680" cy="27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Documents and Settings\Raisa\My Documents\My Pictures\trachea--7.jpg"/>
          <p:cNvPicPr/>
          <p:nvPr/>
        </p:nvPicPr>
        <p:blipFill>
          <a:blip r:embed="rId2"/>
          <a:stretch/>
        </p:blipFill>
        <p:spPr>
          <a:xfrm>
            <a:off x="3962520" y="3657600"/>
            <a:ext cx="234288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Raisa\My Documents\My Pictures\trachea--5.jpg"/>
          <p:cNvPicPr/>
          <p:nvPr/>
        </p:nvPicPr>
        <p:blipFill>
          <a:blip r:embed="rId3"/>
          <a:stretch/>
        </p:blipFill>
        <p:spPr>
          <a:xfrm>
            <a:off x="6324480" y="167652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MUCOS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thelium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piratory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3) Elastic la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formed of elastic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separates lamina propria from subm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retmc"/>
          <p:cNvPicPr/>
          <p:nvPr/>
        </p:nvPicPr>
        <p:blipFill>
          <a:blip r:embed="rId1"/>
          <a:stretch/>
        </p:blipFill>
        <p:spPr>
          <a:xfrm>
            <a:off x="4648320" y="4114800"/>
            <a:ext cx="3697200" cy="248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Raisa\My Documents\My Pictures\trachea--2.jpg"/>
          <p:cNvPicPr/>
          <p:nvPr/>
        </p:nvPicPr>
        <p:blipFill>
          <a:blip r:embed="rId2"/>
          <a:stretch/>
        </p:blipFill>
        <p:spPr>
          <a:xfrm>
            <a:off x="914400" y="4114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Raisa\My Documents\My Pictures\trachea--1.jpg"/>
          <p:cNvPicPr/>
          <p:nvPr/>
        </p:nvPicPr>
        <p:blipFill>
          <a:blip r:embed="rId3"/>
          <a:stretch/>
        </p:blipFill>
        <p:spPr>
          <a:xfrm>
            <a:off x="5867280" y="1219320"/>
            <a:ext cx="2895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SUBMUCOS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- C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 Numerous mucous &amp; seromuc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- Lymphoid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Raisa\My Documents\My Pictures\trachea --3.jpg"/>
          <p:cNvPicPr/>
          <p:nvPr/>
        </p:nvPicPr>
        <p:blipFill>
          <a:blip r:embed="rId1"/>
          <a:stretch/>
        </p:blipFill>
        <p:spPr>
          <a:xfrm>
            <a:off x="4800600" y="342900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ADVENTITI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- Fibroelastic C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- C-shaped rings (12-16) of hyaline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healis muscle (bundle of smooth muscle fibers) connects the 2 ends of each C-shaped (incomplete) rings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Raisa\My Documents\My Pictures\trachea--5.jpg"/>
          <p:cNvPicPr/>
          <p:nvPr/>
        </p:nvPicPr>
        <p:blipFill>
          <a:blip r:embed="rId1"/>
          <a:stretch/>
        </p:blipFill>
        <p:spPr>
          <a:xfrm>
            <a:off x="472428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Raisa\My Documents\My Pictures\trachea ---6.jpg"/>
          <p:cNvPicPr/>
          <p:nvPr/>
        </p:nvPicPr>
        <p:blipFill>
          <a:blip r:embed="rId2"/>
          <a:stretch/>
        </p:blipFill>
        <p:spPr>
          <a:xfrm>
            <a:off x="838080" y="4267080"/>
            <a:ext cx="31244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67057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029200" y="11430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562720" y="228600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05320" y="3276720"/>
            <a:ext cx="5202000" cy="32986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4876920" y="122544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800600" y="2976480"/>
            <a:ext cx="3429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rmohammad</cp:lastModifiedBy>
  <dcterms:modified xsi:type="dcterms:W3CDTF">2016-01-17T07:41:51Z</dcterms:modified>
  <cp:revision>290</cp:revision>
  <dc:subject/>
  <dc:title>RESPIRATORY SYSTEM</dc:title>
</cp:coreProperties>
</file>