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B07-D096-4FEA-813A-6797BDFA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92D-C0BC-4A7C-AD3D-E59384ED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7B5-2376-4D08-B235-123F3702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B47-53AE-4080-8F2C-EEE30338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57A0-54A4-45AC-AAF4-7D0B773E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CD85-40E4-4381-B4D0-7CFB0B74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EDF8-5724-437A-93D7-1A8712CE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3ACB-5EED-4294-BFF7-A75E139F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C3A2-3378-4CB3-B626-16F86560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C0CE-5A49-49C7-9080-D4B147B8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D833-9FE3-4C23-ADB6-6A2C06F2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A00-2DB3-4D3B-BDD2-054F45A0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73B1-2B5E-4E25-9653-B4492357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9804-7E75-4BB5-A34F-7EAA1E9B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EBEC-3EE1-4493-94E6-34A50896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C59B-986D-4123-A31B-1652EE90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E129-FF0E-476F-AA4B-1C7A9270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F6E-951E-4797-ACF5-38C81B9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EB7-447D-4616-9478-D47C7BB4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17B-F0FC-4FB8-9D9D-8AD82E70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3E2-77EC-4B29-9DE1-AD8F84CE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2C9-5CAF-4BB9-9C8A-ADFB05C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144-CE72-4D04-B783-82BC1AD4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39D-8DE7-485E-B3FD-496A57F6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012-A6EA-4C42-A404-6D49265E114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4E07-5659-4FFD-AB90-D8C6990E748B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so-cdn.bestpractice.bmj.com/best-practice/images/bp/720-1-hlight_default.jpg&amp;imgrefurl=http://bestpractice.bmj.com/best-practice/monograph/720/resources/image/bp/1.html&amp;usg=__y6zzuBb9fiUqU4O3qEN-tn_t6A0=&amp;h=306&amp;w=450&amp;sz=39&amp;hl=en&amp;start=14&amp;zoom=1&amp;tbnid=B2AxVa52l1MOEM:&amp;tbnh=86&amp;tbnw=127&amp;ei=l2I1TczfE9KZhQfIvMmkCw&amp;prev=/images%3Fq%3Dhospital%2Bacquired%2Bpneumonia%26hl%3Den%26safe%3Dactive%26gbv%3D2%26tbs%3Disch:1&amp;itb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nlm.nih.gov/medlineplus/ency/images/ency/fullsize/17276.jpg&amp;imgrefurl=http://www.nlm.nih.gov/medlineplus/ency/imagepages/17276.htm&amp;usg=__7-iMrx4X7xz4VRSxig2Gn9Iao6U=&amp;h=320&amp;w=400&amp;sz=14&amp;hl=en&amp;start=3&amp;zoom=1&amp;tbnid=9UXX-DdECD4cxM:&amp;tbnh=99&amp;tbnw=124&amp;ei=l2I1TczfE9KZhQfIvMmkCw&amp;prev=/images%3Fq%3Dhospital%2Bacquired%2Bpneumonia%26hl%3Den%26safe%3Dactive%26gbv%3D2%26tbs%3Disch:1&amp;itbs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com/imgres?imgurl=http://scienceline.org/wp-content/uploads/2006/10/pneumonia.JPG&amp;imgrefurl=http://www.scienceline.org/2006/10/bio-zielinska-hospitals/&amp;usg=__OxhLbwv7MeCkz5lgD59V9LTdV4k=&amp;h=396&amp;w=440&amp;sz=52&amp;hl=en&amp;start=13&amp;zoom=1&amp;tbnid=og8ljJjgKB02fM:&amp;tbnh=114&amp;tbnw=127&amp;ei=l2I1TczfE9KZhQfIvMmkCw&amp;prev=/images%3Fq%3Dhospital%2Bacquired%2Bpneumonia%26hl%3Den%26safe%3Dactive%26gbv%3D2%26tbs%3Disch:1&amp;itbs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asyshealthcare.com/bird/products/images/TBird_VS1.jpg&amp;imgrefurl=http://www.viasyshealthcare.com/bird/products/TBird_VS.htm&amp;usg=__-LYHLP9O9cO-fnTcxSlRLrHDINI=&amp;h=254&amp;w=261&amp;sz=17&amp;hl=en&amp;start=7&amp;zoom=1&amp;tbnid=_oUZ0ejTJUArxM:&amp;tbnh=109&amp;tbnw=112&amp;ei=GGI1Tc6ZEsmbhQeo-YipCw&amp;prev=/images%3Fq%3Dventilators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2.bp.blogspot.com/_FGHdkrEsceI/TDel9yp52vI/AAAAAAAAAAU/b6TBL23ysNY/s1600/ventilator.jpg&amp;imgrefurl=http://lisanance-pedspulm.blogspot.com/2010_07_01_archive.html&amp;usg=__W3mCj-5doucQAnyjeqt5g3rimdI=&amp;h=540&amp;w=459&amp;sz=42&amp;hl=en&amp;start=2&amp;zoom=1&amp;tbnid=vr8g_dM1jerBnM:&amp;tbnh=132&amp;tbnw=112&amp;ei=HJl0TZaRPJmAhAfnj_hA&amp;prev=/images%3Fq%3Dventilator%26hl%3Den%26safe%3Dactive%26sa%3DN%26gbv%3D2%26tbs%3Disch:1&amp;itbs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firehow.com/images/stories/users/80/pneumonia.jpg&amp;imgrefurl=http://www.firehow.com/20090318668/how-to-cure-pneumonia-naturally.html&amp;usg=__0Sh-K7phAhEnqbunv50TDFmjDqE=&amp;h=450&amp;w=422&amp;sz=21&amp;hl=en&amp;start=4&amp;zoom=1&amp;tbnid=EhygMP9aVZYZ4M:&amp;tbnh=127&amp;tbnw=119&amp;ei=WWo1TbOGIZKGhQf2-4GpCw&amp;prev=/images%3Fq%3DPNEUMONIA%26hl%3Den%26safe%3Dactive%26gbv%3D2%26tbs%3Disch:1&amp;itbs=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google.com/imgres?imgurl=http://www.corposaun.com/wp-content/uploads/2009/12/pneumonia.jpg&amp;imgrefurl=http://sandsofgold.com/catalog/yhf.php%3Fq%3Dpneumonia-symptoms&amp;usg=__nOWquPuSUwynJ6N7i-DZ0xTw-Fw=&amp;h=450&amp;w=500&amp;sz=21&amp;hl=en&amp;start=6&amp;zoom=1&amp;tbnid=fnou4RqwQSQKDM:&amp;tbnh=117&amp;tbnw=130&amp;ei=WWo1TbOGIZKGhQf2-4GpCw&amp;prev=/images%3Fq%3DPNEUMONIA%26hl%3Den%26safe%3Dactive%26gbv%3D2%26tbs%3Disch:1&amp;itbs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habirhospital.in/images/icu_bed_space.gif&amp;imgrefurl=http://mahabirhospital.in/facilities.php&amp;usg=__LMupEcGXNhhScr3A-OPJsoUuUKM=&amp;h=354&amp;w=472&amp;sz=131&amp;hl=en&amp;start=11&amp;zoom=1&amp;tbnid=XWlKjuvliHh1eM:&amp;tbnh=97&amp;tbnw=129&amp;ei=G5h0TcCvLIuYhQemwtgx&amp;prev=/images%3Fq%3Dintensive%2Bcare%2Bunit%26hl%3Den%26safe%3Dactive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ealth Care Associated  </a:t>
            </a:r>
            <a:r>
              <a:rPr b="1" lang="en-US" sz="4800" spc="-1" strike="noStrike">
                <a:solidFill>
                  <a:srgbClr val="4d004d"/>
                </a:solidFill>
                <a:latin typeface="Tahoma"/>
              </a:rPr>
              <a:t>Pneumonia</a:t>
            </a:r>
            <a:br>
              <a:rPr sz="4800"/>
            </a:br>
            <a:r>
              <a:rPr b="1" lang="en-US" sz="2800" spc="-1" strike="noStrike">
                <a:solidFill>
                  <a:srgbClr val="4d4d86"/>
                </a:solidFill>
                <a:latin typeface="Tahoma"/>
              </a:rPr>
              <a:t>Respiratory Bloc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BY 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A.M.KAMBA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L and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HANAN HABIB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ahoma"/>
              </a:rPr>
              <a:t>Department of Pathology, KSU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n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ventilated patient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0-fold high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han non-ventilated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ported crude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ortalit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or HAP is 30% to greater than 70%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2736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178160" y="5486400"/>
            <a:ext cx="446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--- Medical Clinics of North Americ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Therapy of Nosocomial pneumonia</a:t>
            </a: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 2001 vol.85 1583-9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2" name="Picture 4" descr="http://t2.gstatic.com/images?q=tbn:B2AxVa52l1MOEM:http://eso-cdn.bestpractice.bmj.com/best-practice/images/bp/720-1-hlight_defaul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0536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t2.gstatic.com/images?q=tbn:9UXX-DdECD4cxM:http://www.nlm.nih.gov/medlineplus/ency/images/ency/fullsize/1727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t2.gstatic.com/images?q=tbn:og8ljJjgKB02fM:http://scienceline.org/wp-content/uploads/2006/10/pneumon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005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pneumonia to occur, at least one of the following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ree condi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st occur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. Significant impairment of hos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. Introduction of a sufficient-size inoculum to overwhelm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the host's lower respiratory trac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3. The introduction of highly virulent organisms into the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lower respiratory trac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common is microaspiration of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oropharyngeal secre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onized with pathogenic bacteri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8" name="Picture 4" descr="C:\Documents and Settings\k\桌面\HAP--1.jpg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419360"/>
          </a:xfrm>
          <a:prstGeom prst="rect">
            <a:avLst/>
          </a:prstGeom>
          <a:ln w="38160">
            <a:solidFill>
              <a:srgbClr val="545472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1600200" y="624852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s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Early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during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rst 4 day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ually is due to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S. pneumonia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MSSA (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ethicilli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nsitive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S.aureus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H. Influenz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or 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Late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re than 4 day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re commonly by Gram negative organisms, especially: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P. aeruginosa, Acinetobacter, Enterobacteriaceae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Klebsiella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Enterobacter, Serrat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or MRSA.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Enteric Gram negative bacilli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re isolated most frequently particularly in patients with late-onset disease and in patients with serious underlying disease often already on broad-spectrum antibiotic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or use of broad-spectrum antibiotics and an immunocompromised state make resistant Gram-negative organisms more likel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P. aeruginosa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Acinetobac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are common causes of late-onset pneumonia, particularly in th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ventilated patient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ahoma"/>
              </a:rPr>
              <a:t>S. aureus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isolated in about 20~40% of cases and is particularly common in 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Ventilated patients after head trauma, neurosurgery, and wound infection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In patients who had received prior antibiotics or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longed care in IC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RSA(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methicillin resistant </a:t>
            </a: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S.aureus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s seen more commonly in patients wh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eived corticosteroi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dergone mechanical ventilation &gt;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ented with chronic lung dise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d prior antibiotics therap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re common in patients predisposed to aspiration 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286"/>
                </a:solidFill>
                <a:latin typeface="Tahoma"/>
              </a:rPr>
              <a:t>Ventilator associated pneumonia (VAP 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th anaerobes occurred more often with oropharyngeal intubation than nasopharyngeal intub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1" name="Picture 6" descr="http://t2.gstatic.com/images?q=tbn:_oUZ0ejTJUArxM:http://www.viasyshealthcare.com/bird/products/images/TBird_V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t2.gstatic.com/images?q=tbn:ANd9GcRC1Ee0iSqxl88UKAt6rvm2T3-fLzo07_HPnrTXw-bz26ntRtioyaZuUa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860640"/>
            <a:ext cx="2521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iv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fine the terms, pneumonia, community acquired pneumonia,  health care associated pneumon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 HCAP)  and ventilator associated pneumonia  (VAP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scribe the pathogenesis of the health care associated pneumonia (hospital associated pneumonia ) and VA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assify HCAP according to the time of onset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fini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socomial pneumonia that has developed in patient who are receiving mechanical ventil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ica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Early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thin 48-72 hours after tracheal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intubation,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hich complicates the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intubation proces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Late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fter 72 hou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quires 2 important proces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Bacterial colonization of the aerodigestive tra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Aspiration of contaminated secretion into t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ower airw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vents mechanical clearance by cough and the mucociliary escalat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for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oral regimen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topical Gentamicin, Colistin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Vancomycin cream  given every 6h for 3 week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eating oropharyngeal colonization could prevent VA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Prevention of VAP by oral decontamination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merican journal of respiratory critical care medicine2001 164:382-8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n-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ive hand washing and use of protective gowns and glo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emirecumbent posi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ance of large gastric volu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Oral (non-nasal) intub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inuous subglottic suc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Humidification with heat and moisture exchang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ture chan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97568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-ulcer prophylax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bination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hlorhexidine oral rin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treatment of neutropenic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Vacc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89936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st initial therapy is empiric because no pathogen is identified or results are not available when antimicrobial decisions are made in most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itially be treated with a broad-spectrum antibiotic regimen aimed at covering all likely bacterial path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his regimen should subsequently be narrowed, according to the result of cul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athogen may be influenced by coexisting illnesses, prior treatment, and length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frequency of ICU-acquired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. aeruginosa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rriage or colonization/infection was 23.4% at 7 days and 57.8% at 14 day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mortality can be reduced with early appropriate empiric therap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Form 30 % with appropriate therapy to more than 90 % with inappropriate therapy)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delines  by American Thoracic Society has divided patients in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three group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each with a set of probable pathoge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early-onset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late-onset or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iv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ame the different causative bacterial agents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assify and describe types of VA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ognize the ways by which VAP is prevented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scribe the different chemotherapeutic  anti microbial agents used for the treatment of health care associated pneumonia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valuate response to treatment and recognize reasons for failure of treatmen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ild-to-moder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monotherap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s been shown to be effectiv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eve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 in which infection with resistant organisms is likely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mbinati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rapy probably should be instituted until culture result are availabl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tients with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. aureu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ection, agents against this organism are necessary, including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ancomyci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f MRSA is suspected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inezolid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comparable with Vancomycin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dvantage of Linezolid is less possible nephrotoxici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bination of antipseudomonal drugs is controversial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70c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Traditional: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ae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with an Aminoglycoside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. Synergy but potential nephrotoxici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Another approach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 with a Fluoroquinolone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 benefit of synergy but reduce  concern of nephrotoxicity, and quinolone gets into the lungs at higher concentra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1" name="Picture 5" descr="http://t2.gstatic.com/images?q=tbn:XHlfonKhvKbM3M:http://img.tradeprince.com/100/20090713/2869321f-29c5-452b-9881-a4bd0a3831a5.jpg"/>
          <p:cNvPicPr/>
          <p:nvPr/>
        </p:nvPicPr>
        <p:blipFill>
          <a:blip r:embed="rId2"/>
          <a:stretch/>
        </p:blipFill>
        <p:spPr>
          <a:xfrm>
            <a:off x="7308720" y="836640"/>
            <a:ext cx="111456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http://t2.gstatic.com/images?q=tbn:vy8HRq-GS9NdPM:http://www.connexions-rochdale.org.uk/images/Injection-Syringe-Medicine.gif"/>
          <p:cNvPicPr/>
          <p:nvPr/>
        </p:nvPicPr>
        <p:blipFill>
          <a:blip r:embed="rId3"/>
          <a:stretch/>
        </p:blipFill>
        <p:spPr>
          <a:xfrm>
            <a:off x="7308720" y="2637000"/>
            <a:ext cx="99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sponse to Therap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no clinical response is noted or deterioration occurs, we need to consider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ctious cause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Resistant pathoge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uperinfectio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nusual pathoge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 abs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xtrapulmonary infection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oninfectious event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Heart: congestive heart failure (CHF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: fibroproliferative acute respiratory distress syndrome (ARDS), pulmonary emboli, Atelectesi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Definition of Pneumonia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Infection of the pulmonary Parenchym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4" name="Picture 7" descr="http://t2.gstatic.com/images?q=tbn:EhygMP9aVZYZ4M:http://www.firehow.com/images/stories/users/80/pneumon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http://t2.gstatic.com/images?q=tbn:fnou4RqwQSQKDM:http://www.corposaun.com/wp-content/uploads/2009/12/pneumon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3789360"/>
            <a:ext cx="252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NEUMONIA can be 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A-Community acquir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in the community, by community acquired organism, 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Streptococcus pneumoniae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usually susceptible to antibioti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B-Health care associat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48-72 hours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fter  admission to health care institutions eg. pneumonia caused by organisms in hospital which are usually resistant to antibiotics-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socomial pneumoni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is defined as hospital associated pneumonia (HAP) or health care associated pneumonia (HCAP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ring at least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48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hour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fter admission and not incubating at the time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- Hospital Acquired Pneumonia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H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B-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 Ventilator Associated Pneumonia 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V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 in patients with assisted respiration for a period of 48 hou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0a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 most comm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ospital-acquired infections after urinary tract infection.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ccounting for 31 % of all nosocomial infection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leading cause of de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hospital-acquired infec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s highest in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C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intensive care unit)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C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5" name="Picture 2" descr="http://t3.gstatic.com/images?q=tbn:ANd9GcQJgQ01y3lGpssbyxlNUmQAUjl-a-bB5vPQAcjkFpIZ22n_oqUBP8afg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4319280" cy="381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blogs.jwatch.org/PaulSax/wp-content/uploads/2008/12/icu1.jpg"/>
          <p:cNvPicPr/>
          <p:nvPr/>
        </p:nvPicPr>
        <p:blipFill>
          <a:blip r:embed="rId3"/>
          <a:stretch/>
        </p:blipFill>
        <p:spPr>
          <a:xfrm>
            <a:off x="5076720" y="1916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aaa</dc:creator>
  <dc:description/>
  <dc:language>en-US</dc:language>
  <cp:lastModifiedBy>aaaa</cp:lastModifiedBy>
  <dcterms:modified xsi:type="dcterms:W3CDTF">2016-02-01T15:52:50Z</dcterms:modified>
  <cp:revision>92</cp:revision>
  <dc:subject/>
  <dc:title>PowerPoint Presentation</dc:title>
</cp:coreProperties>
</file>