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1A58-934A-427C-939D-26EF84A5C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281E-9083-4865-B8B6-38B3EB5F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27D5-D7AB-4B55-ACB6-675E27EB6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D6F9-1D7B-465F-AEAA-2B85C994B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A73B-B7EE-43B8-8C2C-8F37FE5C8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1F91-CDFE-42CB-B8C1-17B3CD4C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BCB3-FEDC-4015-8C5D-81BF5BDB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A931-CFEB-4C91-8986-A86D9936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847D-0DD8-44B2-9546-95EA92BB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4C4F-8E05-4C92-A3F7-0634FDCD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7B81-FEA1-4458-9A37-73FF057D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5D1F-4648-4BAB-B4CE-F5959695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97EF-D8B7-47D1-A34C-A597AEBF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6CF7-F5B3-4027-BB00-F127C9F5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76C4-BA9C-4FD7-AC47-84963A51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4234-6F2F-41BB-8657-D16F13B42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FA3C-BA2A-42A0-8168-AC374C766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D33B-244D-4416-88DC-8EFAA4F1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EA4B-058F-42B4-970C-0308C77D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C1D6-FF4A-47E3-84DE-4E6A633D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10D7-A393-418B-8192-D051DE0E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888F-9B95-4B0A-95FC-B74EE473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78A4-AB9F-4DEF-9AA4-226BE9CA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B485-ACB3-4756-906F-E88000AD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4DE3-5566-4DA0-901C-33E5E941B4A2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8842-2CC3-49E1-B35A-449847A23348}" type="slidenum">
              <a:rPr b="0" lang="zh-TW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eso-cdn.bestpractice.bmj.com/best-practice/images/bp/720-1-hlight_default.jpg&amp;imgrefurl=http://bestpractice.bmj.com/best-practice/monograph/720/resources/image/bp/1.html&amp;usg=__y6zzuBb9fiUqU4O3qEN-tn_t6A0=&amp;h=306&amp;w=450&amp;sz=39&amp;hl=en&amp;start=14&amp;zoom=1&amp;tbnid=B2AxVa52l1MOEM:&amp;tbnh=86&amp;tbnw=127&amp;ei=l2I1TczfE9KZhQfIvMmkCw&amp;prev=/images%3Fq%3Dhospital%2Bacquired%2Bpneumonia%26hl%3Den%26safe%3Dactive%26gbv%3D2%26tbs%3Disch:1&amp;itbs=1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google.com/imgres?imgurl=http://www.nlm.nih.gov/medlineplus/ency/images/ency/fullsize/17276.jpg&amp;imgrefurl=http://www.nlm.nih.gov/medlineplus/ency/imagepages/17276.htm&amp;usg=__7-iMrx4X7xz4VRSxig2Gn9Iao6U=&amp;h=320&amp;w=400&amp;sz=14&amp;hl=en&amp;start=3&amp;zoom=1&amp;tbnid=9UXX-DdECD4cxM:&amp;tbnh=99&amp;tbnw=124&amp;ei=l2I1TczfE9KZhQfIvMmkCw&amp;prev=/images%3Fq%3Dhospital%2Bacquired%2Bpneumonia%26hl%3Den%26safe%3Dactive%26gbv%3D2%26tbs%3Disch:1&amp;itbs=1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www.google.com/imgres?imgurl=http://scienceline.org/wp-content/uploads/2006/10/pneumonia.JPG&amp;imgrefurl=http://www.scienceline.org/2006/10/bio-zielinska-hospitals/&amp;usg=__OxhLbwv7MeCkz5lgD59V9LTdV4k=&amp;h=396&amp;w=440&amp;sz=52&amp;hl=en&amp;start=13&amp;zoom=1&amp;tbnid=og8ljJjgKB02fM:&amp;tbnh=114&amp;tbnw=127&amp;ei=l2I1TczfE9KZhQfIvMmkCw&amp;prev=/images%3Fq%3Dhospital%2Bacquired%2Bpneumonia%26hl%3Den%26safe%3Dactive%26gbv%3D2%26tbs%3Disch:1&amp;itbs=1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viasyshealthcare.com/bird/products/images/TBird_VS1.jpg&amp;imgrefurl=http://www.viasyshealthcare.com/bird/products/TBird_VS.htm&amp;usg=__-LYHLP9O9cO-fnTcxSlRLrHDINI=&amp;h=254&amp;w=261&amp;sz=17&amp;hl=en&amp;start=7&amp;zoom=1&amp;tbnid=_oUZ0ejTJUArxM:&amp;tbnh=109&amp;tbnw=112&amp;ei=GGI1Tc6ZEsmbhQeo-YipCw&amp;prev=/images%3Fq%3Dventilators%26hl%3Den%26safe%3Dactive%26sa%3DG%26gbv%3D2%26tbs%3Disch:1&amp;itbs=1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google.com/imgres?imgurl=http://2.bp.blogspot.com/_FGHdkrEsceI/TDel9yp52vI/AAAAAAAAAAU/b6TBL23ysNY/s1600/ventilator.jpg&amp;imgrefurl=http://lisanance-pedspulm.blogspot.com/2010_07_01_archive.html&amp;usg=__W3mCj-5doucQAnyjeqt5g3rimdI=&amp;h=540&amp;w=459&amp;sz=42&amp;hl=en&amp;start=2&amp;zoom=1&amp;tbnid=vr8g_dM1jerBnM:&amp;tbnh=132&amp;tbnw=112&amp;ei=HJl0TZaRPJmAhAfnj_hA&amp;prev=/images%3Fq%3Dventilator%26hl%3Den%26safe%3Dactive%26sa%3DN%26gbv%3D2%26tbs%3Disch:1&amp;itbs=1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oogle.com/imgres?imgurl=http://www.firehow.com/images/stories/users/80/pneumonia.jpg&amp;imgrefurl=http://www.firehow.com/20090318668/how-to-cure-pneumonia-naturally.html&amp;usg=__0Sh-K7phAhEnqbunv50TDFmjDqE=&amp;h=450&amp;w=422&amp;sz=21&amp;hl=en&amp;start=4&amp;zoom=1&amp;tbnid=EhygMP9aVZYZ4M:&amp;tbnh=127&amp;tbnw=119&amp;ei=WWo1TbOGIZKGhQf2-4GpCw&amp;prev=/images%3Fq%3DPNEUMONIA%26hl%3Den%26safe%3Dactive%26gbv%3D2%26tbs%3Disch:1&amp;itbs=1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www.google.com/imgres?imgurl=http://www.corposaun.com/wp-content/uploads/2009/12/pneumonia.jpg&amp;imgrefurl=http://sandsofgold.com/catalog/yhf.php%3Fq%3Dpneumonia-symptoms&amp;usg=__nOWquPuSUwynJ6N7i-DZ0xTw-Fw=&amp;h=450&amp;w=500&amp;sz=21&amp;hl=en&amp;start=6&amp;zoom=1&amp;tbnid=fnou4RqwQSQKDM:&amp;tbnh=117&amp;tbnw=130&amp;ei=WWo1TbOGIZKGhQf2-4GpCw&amp;prev=/images%3Fq%3DPNEUMONIA%26hl%3Den%26safe%3Dactive%26gbv%3D2%26tbs%3Disch:1&amp;itbs=1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mahabirhospital.in/images/icu_bed_space.gif&amp;imgrefurl=http://mahabirhospital.in/facilities.php&amp;usg=__LMupEcGXNhhScr3A-OPJsoUuUKM=&amp;h=354&amp;w=472&amp;sz=131&amp;hl=en&amp;start=11&amp;zoom=1&amp;tbnid=XWlKjuvliHh1eM:&amp;tbnh=97&amp;tbnw=129&amp;ei=G5h0TcCvLIuYhQemwtgx&amp;prev=/images%3Fq%3Dintensive%2Bcare%2Bunit%26hl%3Den%26safe%3Dactive%26gbv%3D2%26tbs%3Disch:1&amp;itbs=1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9797b7"/>
            </a:outerShdw>
          </a:effectLst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Health Care Associated  </a:t>
            </a:r>
            <a:r>
              <a:rPr b="1" lang="en-US" sz="4800" spc="-1" strike="noStrike">
                <a:solidFill>
                  <a:srgbClr val="4d004d"/>
                </a:solidFill>
                <a:latin typeface="Tahoma"/>
              </a:rPr>
              <a:t>Pneumonia</a:t>
            </a:r>
            <a:br>
              <a:rPr sz="4800"/>
            </a:br>
            <a:r>
              <a:rPr b="1" lang="en-US" sz="2800" spc="-1" strike="noStrike">
                <a:solidFill>
                  <a:srgbClr val="4d4d86"/>
                </a:solidFill>
                <a:latin typeface="Tahoma"/>
              </a:rPr>
              <a:t>Respiratory Block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ahoma"/>
              </a:rPr>
              <a:t>BY PROF .</a:t>
            </a:r>
            <a:r>
              <a:rPr b="1" i="1" lang="en-US" sz="2000" spc="-1" strike="noStrike">
                <a:solidFill>
                  <a:srgbClr val="545472"/>
                </a:solidFill>
                <a:latin typeface="Tahoma"/>
              </a:rPr>
              <a:t>A.M.KAMBA</a:t>
            </a:r>
            <a:r>
              <a:rPr b="1" lang="en-US" sz="2000" spc="-1" strike="noStrike">
                <a:solidFill>
                  <a:srgbClr val="545472"/>
                </a:solidFill>
                <a:latin typeface="Tahoma"/>
              </a:rPr>
              <a:t>L and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ahoma"/>
              </a:rPr>
              <a:t>PROF .</a:t>
            </a:r>
            <a:r>
              <a:rPr b="1" i="1" lang="en-US" sz="2000" spc="-1" strike="noStrike">
                <a:solidFill>
                  <a:srgbClr val="545472"/>
                </a:solidFill>
                <a:latin typeface="Tahoma"/>
              </a:rPr>
              <a:t>HANAN HABIB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Tahoma"/>
              </a:rPr>
              <a:t>Department of Pathology, KSU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incidence of nosocomial pneumonia in </a:t>
            </a:r>
            <a:r>
              <a:rPr b="0" lang="en-US" sz="2800" spc="-1" strike="noStrike">
                <a:solidFill>
                  <a:srgbClr val="ff0aff"/>
                </a:solidFill>
                <a:latin typeface="Tahoma"/>
              </a:rPr>
              <a:t>ventilated patients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was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10-fold higher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than non-ventilated patien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reported crude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mortality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for HAP is 30% to greater than 70%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727360" y="495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4178160" y="5486400"/>
            <a:ext cx="4461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--- Medical Clinics of North America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ahoma"/>
              </a:rPr>
              <a:t>    </a:t>
            </a:r>
            <a:r>
              <a:rPr b="1" lang="en-US" sz="1200" spc="-1" strike="noStrike">
                <a:solidFill>
                  <a:srgbClr val="545472"/>
                </a:solidFill>
                <a:latin typeface="Tahoma"/>
              </a:rPr>
              <a:t>Therapy of Nosocomial pneumonia</a:t>
            </a: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 2001 vol.85 1583-94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9797b7"/>
            </a:outerShdw>
          </a:effectLst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athogenes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2" name="Picture 4" descr="http://t2.gstatic.com/images?q=tbn:B2AxVa52l1MOEM:http://eso-cdn.bestpractice.bmj.com/best-practice/images/bp/720-1-hlight_defaul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4005360"/>
            <a:ext cx="2664000" cy="2016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http://t2.gstatic.com/images?q=tbn:9UXX-DdECD4cxM:http://www.nlm.nih.gov/medlineplus/ency/images/ency/fullsize/17276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64000" y="3933720"/>
            <a:ext cx="3024000" cy="2087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http://t2.gstatic.com/images?q=tbn:og8ljJjgKB02fM:http://scienceline.org/wp-content/uploads/2006/10/pneumonia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948360" y="400536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athogenes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For pneumonia to occur, at least one of the following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three conditions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ust occur: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. Significant impairment of host defense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2. Introduction of a sufficient-size inoculum to overwhelm 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the host's lower respiratory tract defense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3. The introduction of highly virulent organisms into the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lower respiratory tract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ost common is microaspiration of 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oropharyngeal secretions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lonized with pathogenic bacteria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athogenes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8" name="Picture 4" descr="C:\Documents and Settings\k\桌面\HAP--1.jpg"/>
          <p:cNvPicPr/>
          <p:nvPr/>
        </p:nvPicPr>
        <p:blipFill>
          <a:blip r:embed="rId1"/>
          <a:stretch/>
        </p:blipFill>
        <p:spPr>
          <a:xfrm>
            <a:off x="1066680" y="1676520"/>
            <a:ext cx="6782040" cy="4419360"/>
          </a:xfrm>
          <a:prstGeom prst="rect">
            <a:avLst/>
          </a:prstGeom>
          <a:ln w="38160">
            <a:solidFill>
              <a:srgbClr val="545472"/>
            </a:solidFill>
            <a:miter/>
          </a:ln>
        </p:spPr>
      </p:pic>
      <p:sp>
        <p:nvSpPr>
          <p:cNvPr id="169" name="Text Box 5"/>
          <p:cNvSpPr/>
          <p:nvPr/>
        </p:nvSpPr>
        <p:spPr>
          <a:xfrm>
            <a:off x="1600200" y="6248520"/>
            <a:ext cx="754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          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 The Prevention of Ventilator-Associated Pneumonia  Vol.340  Feb 25, 1999  NEJ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lassific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Early-onset nosocomial pneumonia: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Occurs during the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first 4 days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of admission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Usually is due to </a:t>
            </a:r>
            <a:r>
              <a:rPr b="0" i="1" lang="en-US" sz="2400" spc="-1" strike="noStrike">
                <a:solidFill>
                  <a:srgbClr val="545472"/>
                </a:solidFill>
                <a:latin typeface="Tahoma"/>
              </a:rPr>
              <a:t>S. pneumoniae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, MSSA (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Methicillin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sensitive </a:t>
            </a:r>
            <a:r>
              <a:rPr b="0" i="1" lang="en-US" sz="1600" spc="-1" strike="noStrike">
                <a:solidFill>
                  <a:srgbClr val="545472"/>
                </a:solidFill>
                <a:latin typeface="Tahoma"/>
              </a:rPr>
              <a:t>S.aureus</a:t>
            </a: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), </a:t>
            </a:r>
            <a:r>
              <a:rPr b="0" i="1" lang="en-US" sz="2400" spc="-1" strike="noStrike">
                <a:solidFill>
                  <a:srgbClr val="545472"/>
                </a:solidFill>
                <a:latin typeface="Tahoma"/>
              </a:rPr>
              <a:t>H. Influenz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, or anaerobes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Late-onset nosocomial pneumonia: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occurs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m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ore than 4 days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of admission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More commonly by Gram negative organisms, especially: </a:t>
            </a:r>
            <a:r>
              <a:rPr b="0" i="1" lang="en-US" sz="2400" spc="-1" strike="noStrike">
                <a:solidFill>
                  <a:srgbClr val="545472"/>
                </a:solidFill>
                <a:latin typeface="Tahoma"/>
              </a:rPr>
              <a:t>P. aeruginosa, Acinetobacter, Enterobacteriaceae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545472"/>
                </a:solidFill>
                <a:latin typeface="Tahoma"/>
              </a:rPr>
              <a:t>Klebsiella</a:t>
            </a: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, </a:t>
            </a:r>
            <a:r>
              <a:rPr b="0" i="1" lang="en-US" sz="1600" spc="-1" strike="noStrike">
                <a:solidFill>
                  <a:srgbClr val="545472"/>
                </a:solidFill>
                <a:latin typeface="Tahoma"/>
              </a:rPr>
              <a:t>Enterobacter, Serrati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) or MRSA.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ausative Ag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Enteric Gram negative bacilli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re isolated most frequently particularly in patients with late-onset disease and in patients with serious underlying disease often already on broad-spectrum antibiotic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ior use of broad-spectrum antibiotics and an immunocompromised state make resistant Gram-negative organisms more likely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ausative Ag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45472"/>
                </a:solidFill>
                <a:latin typeface="Tahoma"/>
              </a:rPr>
              <a:t>P. aeruginosa</a:t>
            </a: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nd </a:t>
            </a:r>
            <a:r>
              <a:rPr b="1" i="1" lang="en-US" sz="2800" spc="-1" strike="noStrike">
                <a:solidFill>
                  <a:srgbClr val="545472"/>
                </a:solidFill>
                <a:latin typeface="Tahoma"/>
              </a:rPr>
              <a:t>Acinetobacter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are common causes of late-onset pneumonia, particularly in the 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ventilated patients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ausative Ag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Tahoma"/>
              </a:rPr>
              <a:t>S. aureus</a:t>
            </a:r>
            <a:r>
              <a:rPr b="0" i="1" lang="en-US" sz="2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s isolated in about 20~40% of cases and is particularly common in 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859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1. Ventilated patients after head trauma, neurosurgery, and wound infection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859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2. In patients who had received prior antibiotics or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859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rolonged care in ICU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501480" indent="-501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MRSA(</a:t>
            </a:r>
            <a:r>
              <a:rPr b="1" lang="en-US" sz="1800" spc="-1" strike="noStrike">
                <a:solidFill>
                  <a:srgbClr val="c00000"/>
                </a:solidFill>
                <a:latin typeface="Tahoma"/>
              </a:rPr>
              <a:t>methicillin resistant </a:t>
            </a:r>
            <a:r>
              <a:rPr b="1" i="1" lang="en-US" sz="1800" spc="-1" strike="noStrike">
                <a:solidFill>
                  <a:srgbClr val="c00000"/>
                </a:solidFill>
                <a:latin typeface="Tahoma"/>
              </a:rPr>
              <a:t>S.aureus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is seen more commonly in patients who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888ae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Received corticosteroid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Undergone mechanical ventilation &gt;5 day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resented with chronic lung diseas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Had prior antibiotics therapy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99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ausative Ag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Anaerobes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are common in patients predisposed to aspiration 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7286"/>
                </a:solidFill>
                <a:latin typeface="Tahoma"/>
              </a:rPr>
              <a:t>Ventilator associated pneumonia (VAP )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with anaerobes occurred more often with oropharyngeal intubation than nasopharyngeal intubation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9797b7"/>
            </a:outerShdw>
          </a:effectLst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Ventilator-associated Pneumonia (VAP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81" name="Picture 6" descr="http://t2.gstatic.com/images?q=tbn:_oUZ0ejTJUArxM:http://www.viasyshealthcare.com/bird/products/images/TBird_VS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3860640"/>
            <a:ext cx="3168720" cy="2160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http://t2.gstatic.com/images?q=tbn:ANd9GcRC1Ee0iSqxl88UKAt6rvm2T3-fLzo07_HPnrTXw-bz26ntRtioyaZuUa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58920" y="3860640"/>
            <a:ext cx="252108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jective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efine the terms, pneumonia, community acquired pneumonia,  health care associated pneumonia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( HCAP)  and ventilator associated pneumonia  (VAP)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escribe the pathogenesis of the health care associated pneumonia (hospital associated pneumonia ) and VAP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lassify HCAP according to the time of onset 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Ventilator-associated Pneumonia (VAP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efinition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Nosocomial pneumonia that has developed in patient who are receiving mechanical ventilation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lassification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Early-onset</a:t>
            </a: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within 48-72 hours after tracheal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intubation,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which complicates the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intubation proces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Late-onset</a:t>
            </a: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after 72 hour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athogenes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Requires 2 important processes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1. Bacterial colonization of the aerodigestive tract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2. Aspiration of contaminated secretion into th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Lower airway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events mechanical clearance by cough and the mucociliary escalator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evention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 for 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VA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oral regimen 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c00000"/>
                </a:solidFill>
                <a:latin typeface="Tahoma"/>
              </a:rPr>
              <a:t>topical Gentamicin, Colistin</a:t>
            </a:r>
            <a:r>
              <a:rPr b="0" lang="en-US" sz="2800" spc="-1" strike="noStrike">
                <a:solidFill>
                  <a:srgbClr val="8888ae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c00000"/>
                </a:solidFill>
                <a:latin typeface="Tahoma"/>
              </a:rPr>
              <a:t>Vancomycin cream  given every 6h for 3 weeks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reating oropharyngeal colonization could prevent VAP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                                                    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 </a:t>
            </a:r>
            <a:r>
              <a:rPr b="1" lang="en-US" sz="1400" spc="-1" strike="noStrike">
                <a:solidFill>
                  <a:srgbClr val="545472"/>
                </a:solidFill>
                <a:latin typeface="Tahoma"/>
              </a:rPr>
              <a:t>Prevention of VAP by oral decontamination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                                        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American journal of respiratory critical care medicine2001 164:382-8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eventions for VA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Non-pharmacologic strategi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Effective hand washing and use of protective gowns and glove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88ae"/>
                </a:solidFill>
                <a:latin typeface="Tahoma"/>
              </a:rPr>
              <a:t>Semirecumbent positioning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Avoidance of large gastric volum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88ae"/>
                </a:solidFill>
                <a:latin typeface="Tahoma"/>
              </a:rPr>
              <a:t>Oral (non-nasal) intubatio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ontinuous subglottic suctioning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88ae"/>
                </a:solidFill>
                <a:latin typeface="Tahoma"/>
              </a:rPr>
              <a:t>Humidification with heat and moisture exchanger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osture chang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975680" y="6248520"/>
            <a:ext cx="71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 The Prevention of Ventilator-Associated Pneumonia  Vol.340  Feb 25, 1999  NEJ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eventions for VA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Pharmacologic strategi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tress-ulcer prophylaxi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Combination antibiotic therap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ophylactic antibiotic therap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Chlorhexidine oral rins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ophylactic treatment of neutropenic patien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Vaccin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899360" y="6248520"/>
            <a:ext cx="71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 The Prevention of Ventilator-Associated Pneumonia  Vol.340  Feb 25, 1999  NEJ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Most initial therapy is empiric because no pathogen is identified or results are not available when antimicrobial decisions are made in most patient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Initially be treated with a broad-spectrum antibiotic regimen aimed at covering all likely bacterial pathoge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This regimen should subsequently be narrowed, according to the result of cultur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831600"/>
            <a:ext cx="7772400" cy="99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pathogen may be influenced by coexisting illnesses, prior treatment, and length of hospitalization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frequency of ICU-acquired </a:t>
            </a: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P. aeruginosa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arriage or colonization/infection was 23.4% at 7 days and 57.8% at 14 day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- Current opinion in infectious disease 2002, 15:387-94, copyright LWW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mortality can be reduced with early appropriate empiric therapy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(Form 30 % with appropriate therapy to more than 90 % with inappropriate therapy) 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- 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Guidelines  by American Thoracic Society has divided patients into 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three groups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, each with a set of probable pathogen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Group 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: mild to moderate HAP with no risk factor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Group 2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: mild to moderate HAP with risk factor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Group 3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: severe HAP, early-onset with no risk factor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Group 3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: severe HAP, late-onset or with risk factor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jective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Name the different causative bacterial agents 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lassify and describe types of VAP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Recognize the ways by which VAP is prevented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escribe the different chemotherapeutic  anti microbial agents used for the treatment of health care associated pneumonia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Evaluate response to treatment and recognize reasons for failure of treatment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For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mild-to-moderate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HAP, 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monotherapy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has been shown to be effective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For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evere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HAP in which infection with resistant organisms is likely, 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combination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rapy probably should be instituted until culture result are available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atients with </a:t>
            </a: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S. aureus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nfection, agents against this organism are necessary, including 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Vancomycin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if MRSA is suspected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Linezolid</a:t>
            </a:r>
            <a:r>
              <a:rPr b="0" lang="en-US" sz="2800" spc="-1" strike="noStrike">
                <a:solidFill>
                  <a:srgbClr val="8888ae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s comparable with Vancomycin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advantage of Linezolid is less possible nephrotoxicity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                                 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- current opinion in infectious disease 2002, 15:387-94, copyright LWW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mbination of antipseudomonal drugs is controversial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0070c0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Traditional:</a:t>
            </a:r>
            <a:r>
              <a:rPr b="0" lang="en-US" sz="2400" spc="-1" strike="noStrike">
                <a:solidFill>
                  <a:srgbClr val="0070c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888ae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8888ae"/>
                </a:solidFill>
                <a:latin typeface="Tahoma"/>
              </a:rPr>
              <a:t>antipseudomonal Beta-lactam</a:t>
            </a:r>
            <a:r>
              <a:rPr b="0" lang="en-US" sz="2000" spc="-1" strike="noStrike">
                <a:solidFill>
                  <a:srgbClr val="8888ae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8888ae"/>
                </a:solidFill>
                <a:latin typeface="Tahoma"/>
              </a:rPr>
              <a:t>with an Aminoglycoside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. Synergy but potential nephrotoxicity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2.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Another approach</a:t>
            </a:r>
            <a:r>
              <a:rPr b="0" lang="en-US" sz="2400" spc="-1" strike="noStrike">
                <a:solidFill>
                  <a:srgbClr val="0070c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8888ae"/>
                </a:solidFill>
                <a:latin typeface="Tahoma"/>
              </a:rPr>
              <a:t>antipseudomonal Beta-lactam with a Fluoroquinolone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No benefit of synergy but reduce  concern of nephrotoxicity, and quinolone gets into the lungs at higher concentrations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11" name="Picture 5" descr="http://t2.gstatic.com/images?q=tbn:XHlfonKhvKbM3M:http://img.tradeprince.com/100/20090713/2869321f-29c5-452b-9881-a4bd0a3831a5.jpg"/>
          <p:cNvPicPr/>
          <p:nvPr/>
        </p:nvPicPr>
        <p:blipFill>
          <a:blip r:embed="rId2"/>
          <a:stretch/>
        </p:blipFill>
        <p:spPr>
          <a:xfrm>
            <a:off x="7308720" y="836640"/>
            <a:ext cx="1114560" cy="1228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http://t2.gstatic.com/images?q=tbn:vy8HRq-GS9NdPM:http://www.connexions-rochdale.org.uk/images/Injection-Syringe-Medicine.gif"/>
          <p:cNvPicPr/>
          <p:nvPr/>
        </p:nvPicPr>
        <p:blipFill>
          <a:blip r:embed="rId3"/>
          <a:stretch/>
        </p:blipFill>
        <p:spPr>
          <a:xfrm>
            <a:off x="7308720" y="2637000"/>
            <a:ext cx="990720" cy="7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76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Response to Therap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If no clinical response is noted or deterioration occurs, we need to consider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1.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Infectious causes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Resistant pathoge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    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Superinfectio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    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Unusual pathogen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    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Lung absces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    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Extrapulmonary infection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2.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Noninfectious events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Heart: congestive heart failure (CHF)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    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Lung: fibroproliferative acute respiratory distress syndrome (ARDS), pulmonary emboli, Atelectesis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Health Care Associated Pneumon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60"/>
                </a:solidFill>
                <a:latin typeface="Tahoma"/>
              </a:rPr>
              <a:t>Definition of Pneumonia: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60"/>
                </a:solidFill>
                <a:latin typeface="Tahoma"/>
              </a:rPr>
              <a:t>Infection of the pulmonary Parenchyma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4" name="Picture 7" descr="http://t2.gstatic.com/images?q=tbn:EhygMP9aVZYZ4M:http://www.firehow.com/images/stories/users/80/pneumoni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3860640"/>
            <a:ext cx="2448000" cy="2232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http://t2.gstatic.com/images?q=tbn:fnou4RqwQSQKDM:http://www.corposaun.com/wp-content/uploads/2009/12/pneumonia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79640" y="3789360"/>
            <a:ext cx="25210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PNEUMONIA can be 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196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Tahoma"/>
              </a:rPr>
              <a:t>A-Community acquired Pneumonia </a:t>
            </a: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acquired in the community, by community acquired organism, eg. </a:t>
            </a:r>
            <a:r>
              <a:rPr b="0" i="1" lang="en-GB" sz="2800" spc="-1" strike="noStrike">
                <a:solidFill>
                  <a:srgbClr val="545472"/>
                </a:solidFill>
                <a:latin typeface="Tahoma"/>
              </a:rPr>
              <a:t>Streptococcus pneumoniae </a:t>
            </a: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usually susceptible to antibiotic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Tahoma"/>
              </a:rPr>
              <a:t>B-Health care associated pneumonia </a:t>
            </a: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acquired </a:t>
            </a: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48-72 hours </a:t>
            </a: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after  admission to health care institutions eg. pneumonia caused by organisms in hospital which are usually resistant to antibiotics-eg. </a:t>
            </a:r>
            <a:r>
              <a:rPr b="0" i="1" lang="en-GB" sz="2800" spc="-1" strike="noStrike">
                <a:solidFill>
                  <a:srgbClr val="545472"/>
                </a:solidFill>
                <a:latin typeface="Tahoma"/>
              </a:rPr>
              <a:t>Pseudomonas aeruginos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Nosocomial pneumonia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: is defined as hospital associated pneumonia (HAP) or health care associated pneumonia (HCAP)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Occurring at least </a:t>
            </a:r>
            <a:r>
              <a:rPr b="1" lang="en-US" sz="2800" spc="-1" strike="noStrike">
                <a:solidFill>
                  <a:srgbClr val="0070c0"/>
                </a:solidFill>
                <a:latin typeface="Tahoma"/>
              </a:rPr>
              <a:t>48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 hours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fter admission and not incubating at the time of hospitalization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Health care associated Pneumonia 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45472"/>
                </a:solidFill>
                <a:latin typeface="Tahoma"/>
              </a:rPr>
              <a:t>A</a:t>
            </a: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- Hospital Acquired Pneumonia(</a:t>
            </a:r>
            <a:r>
              <a:rPr b="1" lang="en-GB" sz="3200" spc="-1" strike="noStrike">
                <a:solidFill>
                  <a:srgbClr val="545472"/>
                </a:solidFill>
                <a:latin typeface="Tahoma"/>
              </a:rPr>
              <a:t>HAP</a:t>
            </a: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45472"/>
                </a:solidFill>
                <a:latin typeface="Tahoma"/>
              </a:rPr>
              <a:t>B-</a:t>
            </a: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 Ventilator Associated Pneumonia (</a:t>
            </a:r>
            <a:r>
              <a:rPr b="1" lang="en-GB" sz="3200" spc="-1" strike="noStrike">
                <a:solidFill>
                  <a:srgbClr val="545472"/>
                </a:solidFill>
                <a:latin typeface="Tahoma"/>
              </a:rPr>
              <a:t>VAP</a:t>
            </a: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) in patients with assisted respiration for a period of 48 hour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osocomial pneumonia is the </a:t>
            </a:r>
            <a:r>
              <a:rPr b="0" lang="en-US" sz="2800" spc="-1" strike="noStrike">
                <a:solidFill>
                  <a:srgbClr val="ff0aff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ff0aff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ff0aff"/>
                </a:solidFill>
                <a:latin typeface="Tahoma"/>
              </a:rPr>
              <a:t> most common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hospital-acquired infections after urinary tract infection.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Accounting for 31 % of all nosocomial infection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osocomial pneumonia is the </a:t>
            </a:r>
            <a:r>
              <a:rPr b="0" lang="en-US" sz="2800" spc="-1" strike="noStrike">
                <a:solidFill>
                  <a:srgbClr val="ff0aff"/>
                </a:solidFill>
                <a:latin typeface="Tahoma"/>
              </a:rPr>
              <a:t>leading cause of death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from hospital-acquired infection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incidence of nosocomial pneumonia is highest in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ICU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(intensive care unit) patient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IC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5" name="Picture 2" descr="http://t3.gstatic.com/images?q=tbn:ANd9GcQJgQ01y3lGpssbyxlNUmQAUjl-a-bB5vPQAcjkFpIZ22n_oqUBP8afgL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060640"/>
            <a:ext cx="4319280" cy="3816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http://blogs.jwatch.org/PaulSax/wp-content/uploads/2008/12/icu1.jpg"/>
          <p:cNvPicPr/>
          <p:nvPr/>
        </p:nvPicPr>
        <p:blipFill>
          <a:blip r:embed="rId3"/>
          <a:stretch/>
        </p:blipFill>
        <p:spPr>
          <a:xfrm>
            <a:off x="5076720" y="1916280"/>
            <a:ext cx="38880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aaa</dc:creator>
  <dc:description/>
  <dc:language>en-US</dc:language>
  <cp:lastModifiedBy>aaaa</cp:lastModifiedBy>
  <dcterms:modified xsi:type="dcterms:W3CDTF">2016-02-01T15:52:50Z</dcterms:modified>
  <cp:revision>92</cp:revision>
  <dc:subject/>
  <dc:title>PowerPoint Presentation</dc:title>
</cp:coreProperties>
</file>