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3828-BC33-48A9-8BF3-FEC94449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711-8DB2-48CE-B538-60435A2D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98E-F7BD-4267-AF2A-F6F14236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436-97E4-4A81-B2FD-A8F6B74AC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246-8B92-4DD7-AE91-870629A7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B4A0-A037-4E4A-B410-64361CBF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0D4-56E4-49EE-BF46-45DE437E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1DD5-38D3-4FBE-8E5E-30F6FDAC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0DD-16C6-4EB6-B2ED-8D570286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627-6273-41D4-A4BF-0DFFA59C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DB3-EA43-49EE-9B00-8CD062CF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0AA-D5AD-424D-808A-12454F72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B792-1AA8-4740-AEA8-AF7C66737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-sdc.med.nagasaki-u.ac.jp/n50/disaster/Lung-a-big.gif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Pneumonia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ommunity acquired pneumon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203640" y="522936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e7"/>
                </a:solidFill>
                <a:latin typeface="Blackadder ITC"/>
              </a:rPr>
              <a:t>Dr fawzia Alotaib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Content Placeholder 2"/>
          <p:cNvGrpSpPr/>
          <p:nvPr/>
        </p:nvGrpSpPr>
        <p:grpSpPr>
          <a:xfrm>
            <a:off x="146160" y="1133640"/>
            <a:ext cx="8716680" cy="5541840"/>
            <a:chOff x="146160" y="1133640"/>
            <a:chExt cx="8716680" cy="5541840"/>
          </a:xfrm>
        </p:grpSpPr>
        <p:pic>
          <p:nvPicPr>
            <p:cNvPr id="7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46160" y="1133640"/>
              <a:ext cx="8716680" cy="55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50920" y="1197000"/>
              <a:ext cx="850716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cd5b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d5b5"/>
                  </a:solidFill>
                  <a:latin typeface="Footlight MT Light"/>
                  <a:ea typeface="SimSun"/>
                </a:rPr>
                <a:t>Anatom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Lobar:  entire lob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Bronchopneumoni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Interstiti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cd5b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d5b5"/>
                  </a:solidFill>
                  <a:latin typeface="Footlight MT Light"/>
                  <a:ea typeface="SimSun"/>
                </a:rPr>
                <a:t>Pathogen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2d050"/>
                  </a:solidFill>
                  <a:uFillTx/>
                  <a:latin typeface="Footlight MT Light"/>
                  <a:ea typeface="SimSun"/>
                </a:rPr>
                <a:t>Gram-positive</a:t>
              </a:r>
              <a:r>
                <a:rPr b="0" lang="en-US" sz="2000" spc="-1" strike="noStrike">
                  <a:solidFill>
                    <a:srgbClr val="17375e"/>
                  </a:solidFill>
                  <a:latin typeface="Footlight MT Light"/>
                  <a:ea typeface="SimSun"/>
                </a:rPr>
                <a:t> :</a:t>
              </a:r>
              <a:r>
                <a:rPr b="0" i="1" lang="en-US" sz="2000" spc="-1" strike="noStrike">
                  <a:solidFill>
                    <a:srgbClr val="17375e"/>
                  </a:solidFill>
                  <a:latin typeface="Footlight MT Light"/>
                  <a:ea typeface="SimSun"/>
                </a:rPr>
                <a:t>Streptococcus pneumoniae , Staphylococcus aureus</a:t>
              </a:r>
              <a:r>
                <a:rPr b="0" lang="en-US" sz="2000" spc="-1" strike="noStrike">
                  <a:solidFill>
                    <a:srgbClr val="17375e"/>
                  </a:solidFill>
                  <a:latin typeface="Footlight MT Light"/>
                  <a:ea typeface="SimSun"/>
                </a:rPr>
                <a:t>, Group A hemolytic streptococc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2d050"/>
                  </a:solidFill>
                  <a:uFillTx/>
                  <a:latin typeface="Footlight MT Light"/>
                  <a:ea typeface="SimSun"/>
                </a:rPr>
                <a:t>Gram-negative</a:t>
              </a:r>
              <a:r>
                <a:rPr b="0" lang="en-US" sz="2000" spc="-1" strike="noStrike">
                  <a:solidFill>
                    <a:srgbClr val="ffc000"/>
                  </a:solidFill>
                  <a:latin typeface="Footlight MT Light"/>
                  <a:ea typeface="SimSun"/>
                </a:rPr>
                <a:t> :</a:t>
              </a:r>
              <a:r>
                <a:rPr b="0" i="1" lang="en-US" sz="2000" spc="-1" strike="noStrike">
                  <a:solidFill>
                    <a:srgbClr val="ffc000"/>
                  </a:solidFill>
                  <a:latin typeface="Footlight MT Light"/>
                  <a:ea typeface="SimSun"/>
                </a:rPr>
                <a:t>Klebsiella  pneumoniae, Hemophilus  influenzae, </a:t>
              </a:r>
              <a:r>
                <a:rPr b="0" i="1" lang="en-US" sz="2000" spc="-1" strike="noStrike">
                  <a:solidFill>
                    <a:srgbClr val="ffc000"/>
                  </a:solidFill>
                  <a:latin typeface="Footlight MT Light"/>
                </a:rPr>
                <a:t>Moraxella catarrhal and </a:t>
              </a:r>
              <a:r>
                <a:rPr b="0" i="1" lang="en-US" sz="2000" spc="-1" strike="noStrike">
                  <a:solidFill>
                    <a:srgbClr val="ffc000"/>
                  </a:solidFill>
                  <a:latin typeface="Footlight MT Light"/>
                  <a:ea typeface="SimSun"/>
                </a:rPr>
                <a:t>Escherichia  col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2d050"/>
                  </a:solidFill>
                  <a:uFillTx/>
                  <a:latin typeface="Footlight MT Light"/>
                  <a:ea typeface="SimSun"/>
                </a:rPr>
                <a:t>Atypical Bacteria </a:t>
              </a:r>
              <a:r>
                <a:rPr b="0" i="1" lang="en-US" sz="2000" spc="-1" strike="noStrike">
                  <a:solidFill>
                    <a:srgbClr val="ffc000"/>
                  </a:solidFill>
                  <a:latin typeface="Footlight MT Light"/>
                  <a:ea typeface="SimSun"/>
                </a:rPr>
                <a:t>:Mycoplasma pneumoniae, chlamydophila pneumoniae and legionella</a:t>
              </a:r>
              <a:r>
                <a:rPr b="0" i="1" lang="en-US" sz="2000" spc="-1" strike="noStrike">
                  <a:solidFill>
                    <a:srgbClr val="c00000"/>
                  </a:solidFill>
                  <a:latin typeface="Footlight MT Light"/>
                  <a:ea typeface="SimSun"/>
                </a:rPr>
                <a:t>. </a:t>
              </a: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Anaerobic bacteria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Viral  and fungal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cd5b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d5b5"/>
                  </a:solidFill>
                  <a:latin typeface="Footlight MT Light"/>
                  <a:ea typeface="SimSun"/>
                </a:rPr>
                <a:t>Acquired environment: </a:t>
              </a: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community ,hospital ,nursing home acquired and immunocompromised host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itle 1"/>
          <p:cNvSpPr/>
          <p:nvPr/>
        </p:nvSpPr>
        <p:spPr>
          <a:xfrm>
            <a:off x="250920" y="333360"/>
            <a:ext cx="8497800" cy="838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pp 3"/>
          <p:cNvPicPr/>
          <p:nvPr/>
        </p:nvPicPr>
        <p:blipFill>
          <a:blip r:embed="rId1"/>
          <a:stretch/>
        </p:blipFill>
        <p:spPr>
          <a:xfrm>
            <a:off x="179280" y="907920"/>
            <a:ext cx="3097440" cy="3313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78" name="Picture 6" descr="pneumonias 10"/>
          <p:cNvPicPr/>
          <p:nvPr/>
        </p:nvPicPr>
        <p:blipFill>
          <a:blip r:embed="rId2"/>
          <a:stretch/>
        </p:blipFill>
        <p:spPr>
          <a:xfrm>
            <a:off x="3203640" y="907920"/>
            <a:ext cx="2808360" cy="3313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79" name="Picture 3" descr="ipf 3"/>
          <p:cNvPicPr/>
          <p:nvPr/>
        </p:nvPicPr>
        <p:blipFill>
          <a:blip r:embed="rId3"/>
          <a:stretch/>
        </p:blipFill>
        <p:spPr>
          <a:xfrm>
            <a:off x="6012000" y="907920"/>
            <a:ext cx="2952720" cy="3300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grpSp>
        <p:nvGrpSpPr>
          <p:cNvPr id="80" name="TextBox 4"/>
          <p:cNvGrpSpPr/>
          <p:nvPr/>
        </p:nvGrpSpPr>
        <p:grpSpPr>
          <a:xfrm>
            <a:off x="365040" y="4595760"/>
            <a:ext cx="2244960" cy="598680"/>
            <a:chOff x="365040" y="4595760"/>
            <a:chExt cx="2244960" cy="598680"/>
          </a:xfrm>
        </p:grpSpPr>
        <p:pic>
          <p:nvPicPr>
            <p:cNvPr id="81" name="TextBox 4" descr=""/>
            <p:cNvPicPr/>
            <p:nvPr/>
          </p:nvPicPr>
          <p:blipFill>
            <a:blip r:embed="rId4"/>
            <a:stretch/>
          </p:blipFill>
          <p:spPr>
            <a:xfrm>
              <a:off x="365040" y="4595760"/>
              <a:ext cx="2244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68360" y="46530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Lobar pneumoni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TextBox 6"/>
          <p:cNvGrpSpPr/>
          <p:nvPr/>
        </p:nvGrpSpPr>
        <p:grpSpPr>
          <a:xfrm>
            <a:off x="3243240" y="4664160"/>
            <a:ext cx="2286000" cy="596880"/>
            <a:chOff x="3243240" y="4664160"/>
            <a:chExt cx="2286000" cy="596880"/>
          </a:xfrm>
        </p:grpSpPr>
        <p:pic>
          <p:nvPicPr>
            <p:cNvPr id="84" name="TextBox 6" descr=""/>
            <p:cNvPicPr/>
            <p:nvPr/>
          </p:nvPicPr>
          <p:blipFill>
            <a:blip r:embed="rId5"/>
            <a:stretch/>
          </p:blipFill>
          <p:spPr>
            <a:xfrm>
              <a:off x="3243240" y="4664160"/>
              <a:ext cx="22860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348000" y="472428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Bronchopneumoni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TextBox 7"/>
          <p:cNvGrpSpPr/>
          <p:nvPr/>
        </p:nvGrpSpPr>
        <p:grpSpPr>
          <a:xfrm>
            <a:off x="6126120" y="4664160"/>
            <a:ext cx="2676600" cy="596880"/>
            <a:chOff x="6126120" y="4664160"/>
            <a:chExt cx="2676600" cy="596880"/>
          </a:xfrm>
        </p:grpSpPr>
        <p:pic>
          <p:nvPicPr>
            <p:cNvPr id="87" name="TextBox 7" descr=""/>
            <p:cNvPicPr/>
            <p:nvPr/>
          </p:nvPicPr>
          <p:blipFill>
            <a:blip r:embed="rId6"/>
            <a:stretch/>
          </p:blipFill>
          <p:spPr>
            <a:xfrm>
              <a:off x="6126120" y="4664160"/>
              <a:ext cx="26766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227640" y="4724280"/>
              <a:ext cx="25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nterstitial pneumoni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Bell MT"/>
                <a:ea typeface="SimSun"/>
              </a:rPr>
              <a:t>Pathoge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SimSu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Content Placeholder 2"/>
          <p:cNvGrpSpPr/>
          <p:nvPr/>
        </p:nvGrpSpPr>
        <p:grpSpPr>
          <a:xfrm>
            <a:off x="262080" y="1225440"/>
            <a:ext cx="8480160" cy="5450040"/>
            <a:chOff x="262080" y="1225440"/>
            <a:chExt cx="8480160" cy="5450040"/>
          </a:xfrm>
        </p:grpSpPr>
        <p:pic>
          <p:nvPicPr>
            <p:cNvPr id="9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62080" y="1225440"/>
              <a:ext cx="8480160" cy="545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57200" y="1413000"/>
              <a:ext cx="822960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f497d"/>
                  </a:solidFill>
                  <a:latin typeface="Baskerville Old Face"/>
                  <a:ea typeface="SimSun"/>
                </a:rPr>
                <a:t>Bacterial pneumonia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649"/>
                </a:spcBef>
                <a:buClr>
                  <a:srgbClr val="1f497d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1f497d"/>
                  </a:solidFill>
                  <a:latin typeface="Baskerville Old Face"/>
                  <a:ea typeface="SimSun"/>
                </a:rPr>
                <a:t>Typical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51"/>
                </a:spcBef>
                <a:buClr>
                  <a:srgbClr val="9bbb59"/>
                </a:buClr>
                <a:buFont typeface="Baskerville Old Face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bbb59"/>
                  </a:solidFill>
                  <a:latin typeface="Baskerville Old Face"/>
                  <a:ea typeface="SimSun"/>
                </a:rPr>
                <a:t>Gram-positive bacteria as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49"/>
                </a:spcBef>
                <a:buClr>
                  <a:srgbClr val="262626"/>
                </a:buClr>
                <a:buFont typeface="Baskerville Old Fac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262626"/>
                  </a:solidFill>
                  <a:latin typeface="Baskerville Old Face"/>
                  <a:ea typeface="SimSun"/>
                </a:rPr>
                <a:t>Streptococcus pneumoniae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Baskerville Old Fac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Staphylococcus aureus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Baskerville Old Fac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Group A hemolytic streptococci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(2) </a:t>
              </a:r>
              <a:r>
                <a:rPr b="1" lang="en-US" sz="3000" spc="-1" strike="noStrike">
                  <a:solidFill>
                    <a:srgbClr val="9bbb59"/>
                  </a:solidFill>
                  <a:latin typeface="Baskerville Old Face"/>
                  <a:ea typeface="SimSun"/>
                </a:rPr>
                <a:t>Gram-negative bacteria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    Klebsiella  pneumonia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    Hemophilus  influenza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    </a:t>
              </a: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Moraxella catarrhal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    Escherichia  col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(3)  </a:t>
              </a:r>
              <a:r>
                <a:rPr b="1" lang="en-US" sz="3000" spc="-1" strike="noStrike">
                  <a:solidFill>
                    <a:srgbClr val="9bbb59"/>
                  </a:solidFill>
                  <a:latin typeface="Baskerville Old Face"/>
                  <a:ea typeface="SimSun"/>
                </a:rPr>
                <a:t>Anaerobic bacteria</a:t>
              </a:r>
              <a:r>
                <a:rPr b="0" lang="en-US" sz="3000" spc="-1" strike="noStrike">
                  <a:solidFill>
                    <a:srgbClr val="9bbb59"/>
                  </a:solidFill>
                  <a:latin typeface="Baskerville Old Face"/>
                  <a:ea typeface="SimSu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9bbb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Content Placeholder 2"/>
          <p:cNvGrpSpPr/>
          <p:nvPr/>
        </p:nvGrpSpPr>
        <p:grpSpPr>
          <a:xfrm>
            <a:off x="268200" y="225360"/>
            <a:ext cx="4943520" cy="6016680"/>
            <a:chOff x="268200" y="225360"/>
            <a:chExt cx="4943520" cy="6016680"/>
          </a:xfrm>
        </p:grpSpPr>
        <p:pic>
          <p:nvPicPr>
            <p:cNvPr id="9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68200" y="225360"/>
              <a:ext cx="4943520" cy="60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7200" y="333360"/>
              <a:ext cx="4619520" cy="58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Atypical pneumon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Legionnaies pneumonia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Mycoplasmal pneumonia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Chlamydia pneumoni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Rickettsia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Fungal pneumon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Candid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Aspergilosi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neumocystis carni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TextBox 3"/>
          <p:cNvGrpSpPr/>
          <p:nvPr/>
        </p:nvGrpSpPr>
        <p:grpSpPr>
          <a:xfrm>
            <a:off x="4968720" y="304920"/>
            <a:ext cx="3907080" cy="3932640"/>
            <a:chOff x="4968720" y="304920"/>
            <a:chExt cx="3907080" cy="3932640"/>
          </a:xfrm>
        </p:grpSpPr>
        <p:pic>
          <p:nvPicPr>
            <p:cNvPr id="97" name="TextBox 3" descr=""/>
            <p:cNvPicPr/>
            <p:nvPr/>
          </p:nvPicPr>
          <p:blipFill>
            <a:blip r:embed="rId2"/>
            <a:stretch/>
          </p:blipFill>
          <p:spPr>
            <a:xfrm>
              <a:off x="4968720" y="304920"/>
              <a:ext cx="3907080" cy="37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148360" y="333360"/>
              <a:ext cx="3671640" cy="39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Viral pneumoni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askerville Old Face"/>
                </a:rPr>
                <a:t>the most common cause of pneumonia in children &lt; than 5 year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Adenoviruse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Respiratory syncytial viru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Influenza viru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Cytomegalovir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Herpes simplex viru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TextBox 4"/>
          <p:cNvSpPr/>
          <p:nvPr/>
        </p:nvSpPr>
        <p:spPr>
          <a:xfrm>
            <a:off x="5508720" y="4581360"/>
            <a:ext cx="2519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2"/>
          <p:cNvGrpSpPr/>
          <p:nvPr/>
        </p:nvGrpSpPr>
        <p:grpSpPr>
          <a:xfrm>
            <a:off x="4998960" y="3962520"/>
            <a:ext cx="3876840" cy="2279520"/>
            <a:chOff x="4998960" y="3962520"/>
            <a:chExt cx="3876840" cy="2279520"/>
          </a:xfrm>
        </p:grpSpPr>
        <p:pic>
          <p:nvPicPr>
            <p:cNvPr id="101" name="Rectangle 2" descr=""/>
            <p:cNvPicPr/>
            <p:nvPr/>
          </p:nvPicPr>
          <p:blipFill>
            <a:blip r:embed="rId3"/>
            <a:stretch/>
          </p:blipFill>
          <p:spPr>
            <a:xfrm>
              <a:off x="4998960" y="3962520"/>
              <a:ext cx="38768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8360" y="4005360"/>
              <a:ext cx="367164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Pneumonia caused by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other pathoge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Baskerville Old Fac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arasi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protoz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100"/>
              </a:b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1152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CA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Content Placeholder 2"/>
          <p:cNvGrpSpPr/>
          <p:nvPr/>
        </p:nvGrpSpPr>
        <p:grpSpPr>
          <a:xfrm>
            <a:off x="281160" y="1517760"/>
            <a:ext cx="8643600" cy="3719520"/>
            <a:chOff x="281160" y="1517760"/>
            <a:chExt cx="8643600" cy="3719520"/>
          </a:xfrm>
        </p:grpSpPr>
        <p:pic>
          <p:nvPicPr>
            <p:cNvPr id="10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81160" y="1517760"/>
              <a:ext cx="8643600" cy="37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68360" y="1628640"/>
              <a:ext cx="822960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b9cde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b9cde5"/>
                  </a:solidFill>
                  <a:uFillTx/>
                  <a:latin typeface="Baskerville Old Face"/>
                  <a:ea typeface="SimSun"/>
                </a:rPr>
                <a:t>CAP</a:t>
              </a: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:  </a:t>
              </a:r>
              <a:r>
                <a:rPr b="0" lang="en-US" sz="3200" spc="-1" strike="noStrike">
                  <a:solidFill>
                    <a:srgbClr val="17375e"/>
                  </a:solidFill>
                  <a:latin typeface="Baskerville Old Face"/>
                  <a:ea typeface="SimSun"/>
                </a:rPr>
                <a:t>pneumonia acquired outside of hospitals or extended-care facilities </a:t>
              </a:r>
              <a:r>
                <a:rPr b="0" lang="en-US" sz="3200" spc="-1" strike="noStrike">
                  <a:solidFill>
                    <a:srgbClr val="17375e"/>
                  </a:solidFill>
                  <a:latin typeface="Baskerville Old Face"/>
                </a:rPr>
                <a:t>for &gt; 14 days before onset of symptoms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dbeef4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beef4"/>
                  </a:solidFill>
                  <a:latin typeface="Baskerville Old Face"/>
                  <a:ea typeface="SimSun"/>
                </a:rPr>
                <a:t>Streptococcus pneumoniae </a:t>
              </a:r>
              <a:r>
                <a:rPr b="0" lang="en-US" sz="2800" spc="-1" strike="noStrike">
                  <a:solidFill>
                    <a:srgbClr val="dbeef4"/>
                  </a:solidFill>
                  <a:latin typeface="Baskerville Old Face"/>
                  <a:ea typeface="SimSun"/>
                </a:rPr>
                <a:t>(most common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  <a:ea typeface="SimSun"/>
                </a:rPr>
                <a:t>Drug resistance streptococcus pneumoniae(DRSP) is a major concern</a:t>
              </a:r>
              <a:r>
                <a:rPr b="0" lang="en-US" sz="3200" spc="-1" strike="noStrike">
                  <a:solidFill>
                    <a:srgbClr val="92d050"/>
                  </a:solidFill>
                  <a:latin typeface="Baskerville Old Face"/>
                  <a:ea typeface="SimSu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Content Placeholder 4"/>
          <p:cNvGrpSpPr/>
          <p:nvPr/>
        </p:nvGrpSpPr>
        <p:grpSpPr>
          <a:xfrm>
            <a:off x="176040" y="1328760"/>
            <a:ext cx="4395960" cy="5273640"/>
            <a:chOff x="176040" y="1328760"/>
            <a:chExt cx="4395960" cy="5273640"/>
          </a:xfrm>
        </p:grpSpPr>
        <p:pic>
          <p:nvPicPr>
            <p:cNvPr id="108" name="Content Placeholder 4" descr=""/>
            <p:cNvPicPr/>
            <p:nvPr/>
          </p:nvPicPr>
          <p:blipFill>
            <a:blip r:embed="rId1"/>
            <a:stretch/>
          </p:blipFill>
          <p:spPr>
            <a:xfrm>
              <a:off x="176040" y="1328760"/>
              <a:ext cx="4395960" cy="52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24000" y="1413000"/>
              <a:ext cx="419076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Childre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92d05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d050"/>
                  </a:solidFill>
                  <a:latin typeface="Footlight MT Light"/>
                </a:rPr>
                <a:t>Vir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Respiratory syncetial vir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Parainfluenza vir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Human metapneumovir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92d05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d050"/>
                  </a:solidFill>
                  <a:latin typeface="Footlight MT Light"/>
                </a:rPr>
                <a:t>Bacteri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ootlight MT Light"/>
                </a:rPr>
                <a:t>S.pneumonia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ootlight MT Light"/>
                </a:rPr>
                <a:t>H.influenza type 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ootlight MT Light"/>
                </a:rPr>
                <a:t>Group B streptococci in neona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Content Placeholder 5"/>
          <p:cNvGrpSpPr/>
          <p:nvPr/>
        </p:nvGrpSpPr>
        <p:grpSpPr>
          <a:xfrm>
            <a:off x="4346640" y="1274760"/>
            <a:ext cx="4674960" cy="5327640"/>
            <a:chOff x="4346640" y="1274760"/>
            <a:chExt cx="4674960" cy="5327640"/>
          </a:xfrm>
        </p:grpSpPr>
        <p:pic>
          <p:nvPicPr>
            <p:cNvPr id="111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4346640" y="1274760"/>
              <a:ext cx="4674960" cy="53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00720" y="1413000"/>
              <a:ext cx="446400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Adult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Footlight MT Light"/>
                </a:rPr>
                <a:t>S.pneumonia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Mycoplasma pneumoniae, chlamydophila pneumoniae 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respiratory viruses depending on the season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Special conditions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Footlight MT Light"/>
                </a:rPr>
                <a:t>Chronic lung diseases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Footlight MT Light"/>
                </a:rPr>
                <a:t>S.pneumonia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Footlight MT Light"/>
                </a:rPr>
                <a:t>H.influenz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Recently hospitalized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Footlight MT Light"/>
                </a:rPr>
                <a:t>Gram negativ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Footlight MT Light"/>
                </a:rPr>
                <a:t>, legionella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Recent inflenza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Footlight MT Light"/>
                </a:rPr>
                <a:t>S.pneumonia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Footlight MT Light"/>
                </a:rPr>
                <a:t>S.aureu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What is the most common cause of community-acquired pneumon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24000" y="1219320"/>
          <a:ext cx="8640720" cy="54496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yp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Eti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.pneumoniae, H.influ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ycoplasma pneumoniae, chlamydophila pneumoniae , legionella, TB, viral or fun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3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linical 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den onset of fever, chill, productive cough, shortness of breath and chest p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ual onset headache, sore throat and body 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Gram  Sta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f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less (no cell wal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Radiogra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bar infilt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matic changes: patchy or intersti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reatment with penicil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15" name="Title 4"/>
          <p:cNvSpPr/>
          <p:nvPr/>
        </p:nvSpPr>
        <p:spPr>
          <a:xfrm>
            <a:off x="304920" y="228600"/>
            <a:ext cx="8686800" cy="968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otlight MT Light"/>
              </a:rPr>
              <a:t>What is the difference between typical and atypical community-acquired pneumon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Clinical manifestation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lobar pneumoni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Content Placeholder 2"/>
          <p:cNvGrpSpPr/>
          <p:nvPr/>
        </p:nvGrpSpPr>
        <p:grpSpPr>
          <a:xfrm>
            <a:off x="281160" y="1450800"/>
            <a:ext cx="8472240" cy="5151600"/>
            <a:chOff x="281160" y="1450800"/>
            <a:chExt cx="8472240" cy="5151600"/>
          </a:xfrm>
        </p:grpSpPr>
        <p:pic>
          <p:nvPicPr>
            <p:cNvPr id="11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81160" y="1450800"/>
              <a:ext cx="84722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68360" y="1557360"/>
              <a:ext cx="8229600" cy="49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The onset is acut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ffff"/>
                  </a:solidFill>
                  <a:uFillTx/>
                  <a:latin typeface="Baskerville Old Face"/>
                </a:rPr>
                <a:t>Prior viral upper respiratory infec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f497d"/>
                  </a:solidFill>
                  <a:latin typeface="Baskerville Old Face"/>
                  <a:ea typeface="SimSun"/>
                </a:rPr>
                <a:t>Respiratory symptom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Fev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shaking chill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cough with sputum production (rusty-sputum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Chest pain- or pleuris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Shortness of breath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Dr.Fauzia\My Documents\My Pictures\pneumonia-12.jpg"/>
          <p:cNvPicPr/>
          <p:nvPr/>
        </p:nvPicPr>
        <p:blipFill>
          <a:blip r:embed="rId1"/>
          <a:stretch/>
        </p:blipFill>
        <p:spPr>
          <a:xfrm>
            <a:off x="468360" y="189000"/>
            <a:ext cx="8064360" cy="5904000"/>
          </a:xfrm>
          <a:prstGeom prst="rect">
            <a:avLst/>
          </a:prstGeom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grpSp>
        <p:nvGrpSpPr>
          <p:cNvPr id="121" name="TextBox 2"/>
          <p:cNvGrpSpPr/>
          <p:nvPr/>
        </p:nvGrpSpPr>
        <p:grpSpPr>
          <a:xfrm>
            <a:off x="3127320" y="6089760"/>
            <a:ext cx="2743200" cy="901440"/>
            <a:chOff x="3127320" y="6089760"/>
            <a:chExt cx="2743200" cy="901440"/>
          </a:xfrm>
        </p:grpSpPr>
        <p:pic>
          <p:nvPicPr>
            <p:cNvPr id="122" name="TextBox 2" descr=""/>
            <p:cNvPicPr/>
            <p:nvPr/>
          </p:nvPicPr>
          <p:blipFill>
            <a:blip r:embed="rId2"/>
            <a:stretch/>
          </p:blipFill>
          <p:spPr>
            <a:xfrm>
              <a:off x="3127320" y="6089760"/>
              <a:ext cx="27432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276720" y="6165720"/>
              <a:ext cx="24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Lobar pneumonia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Content Placeholder 2"/>
          <p:cNvGrpSpPr/>
          <p:nvPr/>
        </p:nvGrpSpPr>
        <p:grpSpPr>
          <a:xfrm>
            <a:off x="73080" y="23760"/>
            <a:ext cx="4479840" cy="3700440"/>
            <a:chOff x="73080" y="23760"/>
            <a:chExt cx="4479840" cy="3700440"/>
          </a:xfrm>
        </p:grpSpPr>
        <p:pic>
          <p:nvPicPr>
            <p:cNvPr id="12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73080" y="23760"/>
              <a:ext cx="447984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50920" y="189000"/>
              <a:ext cx="424980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f497d"/>
                  </a:solidFill>
                  <a:latin typeface="Baskerville Old Face"/>
                  <a:ea typeface="SimSun"/>
                </a:rPr>
                <a:t>Diagnosis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linic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History &amp; physic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X-ray examina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Laborator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CBC- leukocyto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Sputum Gram stain-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15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Blood culture-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5-14%</a:t>
              </a: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leural effusion cul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224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224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  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7" name="Picture 2" descr="C:\Documents and Settings\Dr.Fauzia\My Documents\My Pictures\pneu.jpg"/>
          <p:cNvPicPr/>
          <p:nvPr/>
        </p:nvPicPr>
        <p:blipFill>
          <a:blip r:embed="rId2"/>
          <a:stretch/>
        </p:blipFill>
        <p:spPr>
          <a:xfrm>
            <a:off x="4572000" y="189000"/>
            <a:ext cx="4176720" cy="3527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28" name="Picture 2" descr="C:\Documents and Settings\Dr.Fauzia\My Documents\My Pictures\Spalpha.jpg"/>
          <p:cNvPicPr/>
          <p:nvPr/>
        </p:nvPicPr>
        <p:blipFill>
          <a:blip r:embed="rId3"/>
          <a:stretch/>
        </p:blipFill>
        <p:spPr>
          <a:xfrm>
            <a:off x="250920" y="3789360"/>
            <a:ext cx="4249800" cy="27860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29" name="Picture 3" descr="C:\Documents and Settings\Dr.Fauzia\My Documents\My Pictures\s-pneumoniae.jpg"/>
          <p:cNvPicPr/>
          <p:nvPr/>
        </p:nvPicPr>
        <p:blipFill>
          <a:blip r:embed="rId4"/>
          <a:stretch/>
        </p:blipFill>
        <p:spPr>
          <a:xfrm>
            <a:off x="4572000" y="3716280"/>
            <a:ext cx="43052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30" name="TextBox 8"/>
          <p:cNvGrpSpPr/>
          <p:nvPr/>
        </p:nvGrpSpPr>
        <p:grpSpPr>
          <a:xfrm>
            <a:off x="5102280" y="3657600"/>
            <a:ext cx="3193920" cy="762480"/>
            <a:chOff x="5102280" y="3657600"/>
            <a:chExt cx="3193920" cy="762480"/>
          </a:xfrm>
        </p:grpSpPr>
        <p:pic>
          <p:nvPicPr>
            <p:cNvPr id="131" name="TextBox 8" descr=""/>
            <p:cNvPicPr/>
            <p:nvPr/>
          </p:nvPicPr>
          <p:blipFill>
            <a:blip r:embed="rId5"/>
            <a:stretch/>
          </p:blipFill>
          <p:spPr>
            <a:xfrm>
              <a:off x="5102280" y="3657600"/>
              <a:ext cx="31939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219640" y="3716280"/>
              <a:ext cx="302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askerville Old Face"/>
                </a:rPr>
                <a:t>Pneumococcal pneumonia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882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Content Placeholder 2"/>
          <p:cNvGrpSpPr/>
          <p:nvPr/>
        </p:nvGrpSpPr>
        <p:grpSpPr>
          <a:xfrm>
            <a:off x="334800" y="1042920"/>
            <a:ext cx="8589960" cy="5559480"/>
            <a:chOff x="334800" y="1042920"/>
            <a:chExt cx="8589960" cy="5559480"/>
          </a:xfrm>
        </p:grpSpPr>
        <p:pic>
          <p:nvPicPr>
            <p:cNvPr id="46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34800" y="1042920"/>
              <a:ext cx="8589960" cy="55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68360" y="1125360"/>
              <a:ext cx="835164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inflammation of the parenchyma of the lung 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the alveoli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Common in winter month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It is the sixth leading cause of death in U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over 3 million people develop pneumonia each year and</a:t>
              </a:r>
              <a:r>
                <a:rPr b="0" lang="en-US" sz="2400" spc="-1" strike="noStrike">
                  <a:solidFill>
                    <a:srgbClr val="0070c0"/>
                  </a:solidFill>
                  <a:latin typeface="Footlight MT Light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600,000 hospitalized in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United Sta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Morbidity and mortality of pneumonia are high especially in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askerville Old Face"/>
                  <a:ea typeface="SimSun"/>
                </a:rPr>
                <a:t>old peop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askerville Old Face"/>
                </a:rPr>
                <a:t>Almost 1 million annual episodes of CAP in adults 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Baskerville Old Face"/>
                </a:rPr>
                <a:t>&gt;</a:t>
              </a:r>
              <a:r>
                <a:rPr b="0" lang="en-US" sz="2200" spc="-1" strike="noStrike">
                  <a:solidFill>
                    <a:srgbClr val="ffffff"/>
                  </a:solidFill>
                  <a:latin typeface="Baskerville Old Face"/>
                </a:rPr>
                <a:t> 65 yrs in the U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Histologic spectrum vary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c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Baskerville Old Face"/>
                </a:rPr>
                <a:t>fibrinopurulent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 alveolar exudate (acute bacterial)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c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Baskerville Old Face"/>
                </a:rPr>
                <a:t>interstitial infiltrates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(viral and other atypical pneumonias)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c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Baskerville Old Face"/>
                </a:rPr>
                <a:t>granulomas and cavitation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(chronic pneumonia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561440" cy="777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Drug Resistant Strep Pneumonia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Content Placeholder 4"/>
          <p:cNvGrpSpPr/>
          <p:nvPr/>
        </p:nvGrpSpPr>
        <p:grpSpPr>
          <a:xfrm>
            <a:off x="622440" y="1127160"/>
            <a:ext cx="7899120" cy="5334120"/>
            <a:chOff x="622440" y="1127160"/>
            <a:chExt cx="7899120" cy="5334120"/>
          </a:xfrm>
        </p:grpSpPr>
        <p:pic>
          <p:nvPicPr>
            <p:cNvPr id="135" name="Content Placeholder 4" descr=""/>
            <p:cNvPicPr/>
            <p:nvPr/>
          </p:nvPicPr>
          <p:blipFill>
            <a:blip r:embed="rId1"/>
            <a:stretch/>
          </p:blipFill>
          <p:spPr>
            <a:xfrm>
              <a:off x="622440" y="1127160"/>
              <a:ext cx="789912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55640" y="1268280"/>
              <a:ext cx="7561440" cy="51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40% of U.S.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askerville Old Face"/>
                </a:rPr>
                <a:t>Strep pneumo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AP has some antibiotic resistance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PCN, cephalosporins, macrolides, tetracyclines, clinda, bactrim, quinolon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All MDR strains are sensitive to vancomycin or linezolid; most are sensitive to respiratory quinolone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β-lactam resistance – Not for meningitis (CSF drug level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PCN is effective against pneumococcal Pneumonia at concentrations that would fail for meningitis or otitis med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For Pneumonia, pneumococcal resistance to β-lactams is relative and can usually be overcome by increasing β-lactam doses (not for meningitis!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24000" y="692280"/>
          <a:ext cx="8381880" cy="3157560"/>
        </p:xfrm>
        <a:graphic>
          <a:graphicData uri="http://schemas.openxmlformats.org/drawingml/2006/table">
            <a:tbl>
              <a:tblPr/>
              <a:tblGrid>
                <a:gridCol w="1581120"/>
                <a:gridCol w="1977840"/>
                <a:gridCol w="2390760"/>
                <a:gridCol w="2432160"/>
              </a:tblGrid>
              <a:tr h="76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N Minimum Inhibitory Concentration (MIC) mcg/mL to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ptococcus Pneumonmonia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cepti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medi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≤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=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</a:t>
                      </a: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gt;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CAP Guideli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&lt;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</a:t>
                      </a:r>
                      <a:r>
                        <a:rPr b="0" i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gt;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ingit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&lt;0.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</a:t>
                      </a: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gt;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5"/>
          <p:cNvSpPr/>
          <p:nvPr/>
        </p:nvSpPr>
        <p:spPr>
          <a:xfrm>
            <a:off x="457200" y="4029120"/>
            <a:ext cx="81532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4343e7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  </a:t>
            </a: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Pneumococcal CAP:  Be cautious if using PCN if MIC &gt;4.  Avoid using PCN if MIC </a:t>
            </a:r>
            <a:r>
              <a:rPr b="0" lang="en-US" sz="2400" spc="-1" strike="noStrike" u="sng">
                <a:solidFill>
                  <a:srgbClr val="4343e7"/>
                </a:solidFill>
                <a:uFillTx/>
                <a:latin typeface="Baskerville Old Face"/>
              </a:rPr>
              <a:t>&gt;</a:t>
            </a: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8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343e7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  </a:t>
            </a: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Remember that if MIC &lt;1, pneumococcus is PCN-sensitive in sputum or blood (but need MIC &lt;0.06 for PCN-sensitivity in CSF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47"/>
          <p:cNvSpPr/>
          <p:nvPr/>
        </p:nvSpPr>
        <p:spPr>
          <a:xfrm>
            <a:off x="0" y="6237360"/>
            <a:ext cx="914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C Interpretive Standards for S. pneumoniae. Clinical Laboratory Standards Institute (CLSI) 2008; 28:123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Mycoplasma pneumo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Content Placeholder 2"/>
          <p:cNvGrpSpPr/>
          <p:nvPr/>
        </p:nvGrpSpPr>
        <p:grpSpPr>
          <a:xfrm>
            <a:off x="311040" y="1335240"/>
            <a:ext cx="4241880" cy="4998960"/>
            <a:chOff x="311040" y="1335240"/>
            <a:chExt cx="4241880" cy="4998960"/>
          </a:xfrm>
        </p:grpSpPr>
        <p:pic>
          <p:nvPicPr>
            <p:cNvPr id="14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11040" y="1335240"/>
              <a:ext cx="4241880" cy="49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57200" y="1484280"/>
              <a:ext cx="404028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Eaton agent (1944)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No cell wall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Mortality rate 1.4%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Rare in children and in &gt; 65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Associated with M.I. in some literature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Myocarditis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Content Placeholder 5"/>
          <p:cNvGrpSpPr/>
          <p:nvPr/>
        </p:nvGrpSpPr>
        <p:grpSpPr>
          <a:xfrm>
            <a:off x="4511520" y="1407960"/>
            <a:ext cx="4394520" cy="4797720"/>
            <a:chOff x="4511520" y="1407960"/>
            <a:chExt cx="4394520" cy="4797720"/>
          </a:xfrm>
        </p:grpSpPr>
        <p:pic>
          <p:nvPicPr>
            <p:cNvPr id="145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4511520" y="1407960"/>
              <a:ext cx="439452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645080" y="1484280"/>
              <a:ext cx="404172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Baskerville Old Face"/>
                </a:rPr>
                <a:t>Mycoplasma pneumonia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omm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people younger than 40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rowded places like schools, homeless shelters, prisons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usually mild and responds well to antibiotic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an be very seriou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may be associated with a skin rash and hemolysi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Content Placeholder 2"/>
          <p:cNvGrpSpPr/>
          <p:nvPr/>
        </p:nvGrpSpPr>
        <p:grpSpPr>
          <a:xfrm>
            <a:off x="115920" y="628560"/>
            <a:ext cx="4230720" cy="3668760"/>
            <a:chOff x="115920" y="628560"/>
            <a:chExt cx="4230720" cy="3668760"/>
          </a:xfrm>
        </p:grpSpPr>
        <p:pic>
          <p:nvPicPr>
            <p:cNvPr id="14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15920" y="628560"/>
              <a:ext cx="423072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50920" y="765000"/>
              <a:ext cx="403992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Insidious onse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askerville Old Face"/>
                </a:rPr>
                <a:t>Mild URTI to severe pneumoni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Headach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Malais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Feve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dry cough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Arthralgia / myalgia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Content Placeholder 5"/>
          <p:cNvGrpSpPr/>
          <p:nvPr/>
        </p:nvGrpSpPr>
        <p:grpSpPr>
          <a:xfrm>
            <a:off x="115920" y="4145040"/>
            <a:ext cx="4224240" cy="2603520"/>
            <a:chOff x="115920" y="4145040"/>
            <a:chExt cx="4224240" cy="2603520"/>
          </a:xfrm>
        </p:grpSpPr>
        <p:pic>
          <p:nvPicPr>
            <p:cNvPr id="151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115920" y="4145040"/>
              <a:ext cx="422424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50920" y="4221000"/>
              <a:ext cx="403380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Minim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Few crack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Rhonch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Exhaus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Low grade feve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 Placeholder 3"/>
          <p:cNvSpPr/>
          <p:nvPr/>
        </p:nvSpPr>
        <p:spPr>
          <a:xfrm>
            <a:off x="324000" y="189000"/>
            <a:ext cx="2232000" cy="503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ymp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Placeholder 4"/>
          <p:cNvSpPr/>
          <p:nvPr/>
        </p:nvSpPr>
        <p:spPr>
          <a:xfrm>
            <a:off x="250920" y="3645000"/>
            <a:ext cx="1512720" cy="504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g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C:\Documents and Settings\Dr.Fauzia\My Documents\My Pictures\mycoplasma.png"/>
          <p:cNvPicPr/>
          <p:nvPr/>
        </p:nvPicPr>
        <p:blipFill>
          <a:blip r:embed="rId3"/>
          <a:stretch/>
        </p:blipFill>
        <p:spPr>
          <a:xfrm>
            <a:off x="4427640" y="189000"/>
            <a:ext cx="4248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askerville Old Face"/>
              </a:rPr>
              <a:t>Legionella pneumoph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Content Placeholder 5"/>
          <p:cNvGrpSpPr/>
          <p:nvPr/>
        </p:nvGrpSpPr>
        <p:grpSpPr>
          <a:xfrm>
            <a:off x="2255760" y="1536840"/>
            <a:ext cx="4241880" cy="4492440"/>
            <a:chOff x="2255760" y="1536840"/>
            <a:chExt cx="4241880" cy="4492440"/>
          </a:xfrm>
        </p:grpSpPr>
        <p:pic>
          <p:nvPicPr>
            <p:cNvPr id="158" name="Content Placeholder 5" descr=""/>
            <p:cNvPicPr/>
            <p:nvPr/>
          </p:nvPicPr>
          <p:blipFill>
            <a:blip r:embed="rId1"/>
            <a:stretch/>
          </p:blipFill>
          <p:spPr>
            <a:xfrm>
              <a:off x="2255760" y="1536840"/>
              <a:ext cx="4241880" cy="44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411280" y="1628640"/>
              <a:ext cx="4032360" cy="43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Legionnaire's disease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has caused serious outbreak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Outbreaks have been linked to exposure to cooling tower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ICU admissions.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064360" cy="1079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skerville Old Face"/>
              </a:rPr>
              <a:t>Diagnosis &amp; Treatment of atypical pneumonia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Content Placeholder 2"/>
          <p:cNvGrpSpPr/>
          <p:nvPr/>
        </p:nvGrpSpPr>
        <p:grpSpPr>
          <a:xfrm>
            <a:off x="500040" y="1146240"/>
            <a:ext cx="4486320" cy="5456160"/>
            <a:chOff x="500040" y="1146240"/>
            <a:chExt cx="4486320" cy="5456160"/>
          </a:xfrm>
        </p:grpSpPr>
        <p:pic>
          <p:nvPicPr>
            <p:cNvPr id="16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500040" y="1146240"/>
              <a:ext cx="4486320" cy="54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611280" y="1268280"/>
              <a:ext cx="432108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Mild elevation WBC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U&amp;Es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ffff"/>
                  </a:solidFill>
                  <a:uFillTx/>
                  <a:latin typeface="Baskerville Old Face"/>
                </a:rPr>
                <a:t>Low  serum Na (Legionalla)</a:t>
              </a:r>
              <a:br>
                <a:rPr sz="2100"/>
              </a:br>
              <a:r>
                <a:rPr b="0" lang="en-US" sz="2100" spc="-1" strike="noStrike" u="sng">
                  <a:solidFill>
                    <a:srgbClr val="ffffff"/>
                  </a:solidFill>
                  <a:uFillTx/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Deranged LFTS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↑ </a:t>
              </a: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ALT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↑ </a:t>
              </a: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Alk Phos 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Baskerville Old Face"/>
                </a:rPr>
                <a:t>Cold agglutinins (</a:t>
              </a:r>
              <a:r>
                <a:rPr b="0" i="1" lang="en-US" sz="2100" spc="-1" strike="noStrike">
                  <a:solidFill>
                    <a:srgbClr val="ffff00"/>
                  </a:solidFill>
                  <a:latin typeface="Baskerville Old Face"/>
                </a:rPr>
                <a:t>Mycoplasma</a:t>
              </a:r>
              <a:r>
                <a:rPr b="0" lang="en-US" sz="2100" spc="-1" strike="noStrike">
                  <a:solidFill>
                    <a:srgbClr val="ffff00"/>
                  </a:solidFill>
                  <a:latin typeface="Baskerville Old Face"/>
                </a:rPr>
                <a:t>)</a:t>
              </a:r>
              <a:br>
                <a:rPr sz="2100"/>
              </a:br>
              <a:r>
                <a:rPr b="0" lang="en-US" sz="2100" spc="-1" strike="noStrike">
                  <a:solidFill>
                    <a:srgbClr val="ffff00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Baskerville Old Face"/>
                </a:rPr>
                <a:t>Serology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9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DNA detection</a:t>
              </a:r>
              <a:r>
                <a:rPr b="0" lang="en-US" sz="3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9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Content Placeholder 2"/>
          <p:cNvGrpSpPr/>
          <p:nvPr/>
        </p:nvGrpSpPr>
        <p:grpSpPr>
          <a:xfrm>
            <a:off x="4816440" y="1109520"/>
            <a:ext cx="3851280" cy="4767480"/>
            <a:chOff x="4816440" y="1109520"/>
            <a:chExt cx="3851280" cy="4767480"/>
          </a:xfrm>
        </p:grpSpPr>
        <p:pic>
          <p:nvPicPr>
            <p:cNvPr id="165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4816440" y="1109520"/>
              <a:ext cx="3851280" cy="476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003640" y="1268280"/>
              <a:ext cx="361188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Baskerville Old Face"/>
                </a:rPr>
                <a:t>Macrolide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Rifampicicn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Quinolones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Treat for 10-14 days 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324000" y="189000"/>
            <a:ext cx="856908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Bell MT"/>
              </a:rPr>
              <a:t>Importance of history taking in patient with community-Acquired pneumo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4920" y="1197000"/>
          <a:ext cx="8686800" cy="543240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415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7174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 organ transp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y pathogen Bacterial , viral, fungal,or parasi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161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eumocystis jerove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43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 to some area in 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emic Myc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0252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 air-conditioning, cooling towers, hot tub, hotel stay, grocery sore mist mach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ionella pneumoph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1784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 Turkeys, chickens, ducks or parro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lamydia psitt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777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 contaminated bat ca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toplasma capsula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5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sheep, goat  or c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xiella burnet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161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 rab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ella tularen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5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cu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cobacterium tuberculosis, H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04000" cy="1354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Evaluate the severity &amp; degree of pneumo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Content Placeholder 2"/>
          <p:cNvGrpSpPr/>
          <p:nvPr/>
        </p:nvGrpSpPr>
        <p:grpSpPr>
          <a:xfrm>
            <a:off x="549360" y="1878120"/>
            <a:ext cx="7978680" cy="3821040"/>
            <a:chOff x="549360" y="1878120"/>
            <a:chExt cx="7978680" cy="3821040"/>
          </a:xfrm>
        </p:grpSpPr>
        <p:pic>
          <p:nvPicPr>
            <p:cNvPr id="17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549360" y="1878120"/>
              <a:ext cx="7978680" cy="38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55640" y="1989000"/>
              <a:ext cx="7715160" cy="36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2d050"/>
                  </a:solidFill>
                  <a:latin typeface="Baskerville Old Face"/>
                  <a:ea typeface="SimSun"/>
                </a:rPr>
                <a:t>Is the patient will require hospital admission?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atient characteristic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SimSu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comorbid illnes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hysical examination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basic laboratory finding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Content Placeholder 2"/>
          <p:cNvGrpSpPr/>
          <p:nvPr/>
        </p:nvGrpSpPr>
        <p:grpSpPr>
          <a:xfrm>
            <a:off x="6480" y="1279440"/>
            <a:ext cx="8985240" cy="5645160"/>
            <a:chOff x="6480" y="1279440"/>
            <a:chExt cx="8985240" cy="5645160"/>
          </a:xfrm>
        </p:grpSpPr>
        <p:pic>
          <p:nvPicPr>
            <p:cNvPr id="17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6480" y="1279440"/>
              <a:ext cx="898524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50920" y="1413000"/>
              <a:ext cx="8686800" cy="53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Footlight MT Light"/>
                  <a:ea typeface="SimSun"/>
                </a:rPr>
                <a:t>Physical examination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Respiratory signs on consolid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Other system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Footlight MT Light"/>
                  <a:ea typeface="SimSun"/>
                </a:rPr>
                <a:t>Chest x-ray examin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Laboratory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CBC- leukocytos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Electrolytes (↓Na in legionella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Urea, creatinine, LFT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Title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MT"/>
              </a:rPr>
              <a:t>Diagn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Content Placeholder 2"/>
          <p:cNvGrpSpPr/>
          <p:nvPr/>
        </p:nvGrpSpPr>
        <p:grpSpPr>
          <a:xfrm>
            <a:off x="122400" y="725400"/>
            <a:ext cx="8796240" cy="6066000"/>
            <a:chOff x="122400" y="725400"/>
            <a:chExt cx="8796240" cy="6066000"/>
          </a:xfrm>
        </p:grpSpPr>
        <p:pic>
          <p:nvPicPr>
            <p:cNvPr id="17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22400" y="725400"/>
              <a:ext cx="8796240" cy="60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79280" y="836640"/>
              <a:ext cx="8686800" cy="58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Footlight MT Light"/>
                </a:rPr>
                <a:t>Sputum Gram stain- 15%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Footlight MT Light"/>
                </a:rPr>
                <a:t>Sputum culture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Bronchoscopic specimen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Footlight MT Light"/>
                  <a:ea typeface="SimSun"/>
                </a:rPr>
                <a:t>Blood culture 6</a:t>
              </a: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Footlight MT Light"/>
                </a:rPr>
                <a:t>-10%</a:t>
              </a: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Footlight MT Light"/>
                  <a:ea typeface="SimSu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NP swab for respiratory virus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92d050"/>
                  </a:solidFill>
                  <a:latin typeface="Footlight MT Light"/>
                  <a:ea typeface="SimSun"/>
                </a:rPr>
                <a:t>Legionella</a:t>
              </a:r>
              <a:r>
                <a:rPr b="0" lang="en-US" sz="3200" spc="-1" strike="noStrike">
                  <a:solidFill>
                    <a:srgbClr val="92d050"/>
                  </a:solidFill>
                  <a:latin typeface="Footlight MT Light"/>
                  <a:ea typeface="SimSu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urine antige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Footlight MT Light"/>
                  <a:ea typeface="SimSun"/>
                </a:rPr>
                <a:t>Serology</a:t>
              </a: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 for </a:t>
              </a:r>
              <a:r>
                <a:rPr b="0" i="1" lang="en-US" sz="3200" spc="-1" strike="noStrike">
                  <a:solidFill>
                    <a:srgbClr val="93cddd"/>
                  </a:solidFill>
                  <a:latin typeface="Footlight MT Light"/>
                  <a:ea typeface="SimSun"/>
                </a:rPr>
                <a:t>M.pneumoniae, 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 C.pneumonia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Cold agglutination 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M.pneumonia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More Invasive procedure in sick patient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Title 1"/>
          <p:cNvSpPr/>
          <p:nvPr/>
        </p:nvSpPr>
        <p:spPr>
          <a:xfrm>
            <a:off x="179280" y="76320"/>
            <a:ext cx="8640720" cy="760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Picture6"/>
          <p:cNvPicPr/>
          <p:nvPr/>
        </p:nvPicPr>
        <p:blipFill>
          <a:blip r:embed="rId2"/>
          <a:stretch/>
        </p:blipFill>
        <p:spPr>
          <a:xfrm>
            <a:off x="5364000" y="0"/>
            <a:ext cx="3600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Defini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Content Placeholder 2"/>
          <p:cNvGrpSpPr/>
          <p:nvPr/>
        </p:nvGrpSpPr>
        <p:grpSpPr>
          <a:xfrm>
            <a:off x="42840" y="1616040"/>
            <a:ext cx="5072040" cy="3906720"/>
            <a:chOff x="42840" y="1616040"/>
            <a:chExt cx="5072040" cy="3906720"/>
          </a:xfrm>
        </p:grpSpPr>
        <p:pic>
          <p:nvPicPr>
            <p:cNvPr id="50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2840" y="1616040"/>
              <a:ext cx="5072040" cy="39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50920" y="1773360"/>
              <a:ext cx="460836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SimSun"/>
                </a:rPr>
                <a:t>• 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Acute infection of the parenchyma of the lung alveoli  (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onsolidation and exudation) caused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by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</a:t>
              </a:r>
              <a:r>
                <a:rPr b="0" lang="en-US" sz="2800" spc="-1" strike="noStrike">
                  <a:solidFill>
                    <a:srgbClr val="ffc000"/>
                  </a:solidFill>
                  <a:latin typeface="Baskerville Old Face"/>
                  <a:ea typeface="SimSun"/>
                </a:rPr>
                <a:t>bacteria, fungi, virus, parasite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Baskerville Old Face"/>
                </a:rPr>
                <a:t>Acute (Fulmin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Baskerville Old Face"/>
                </a:rPr>
                <a:t>Chroni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•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Other factors chemical, allergen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Picture 6" descr="pneumonias 5"/>
          <p:cNvPicPr/>
          <p:nvPr/>
        </p:nvPicPr>
        <p:blipFill>
          <a:blip r:embed="rId2"/>
          <a:stretch/>
        </p:blipFill>
        <p:spPr>
          <a:xfrm>
            <a:off x="4932360" y="1773360"/>
            <a:ext cx="4032360" cy="3671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Content Placeholder 2"/>
          <p:cNvGrpSpPr/>
          <p:nvPr/>
        </p:nvGrpSpPr>
        <p:grpSpPr>
          <a:xfrm>
            <a:off x="60480" y="1420920"/>
            <a:ext cx="8986680" cy="4735440"/>
            <a:chOff x="60480" y="1420920"/>
            <a:chExt cx="8986680" cy="4735440"/>
          </a:xfrm>
        </p:grpSpPr>
        <p:pic>
          <p:nvPicPr>
            <p:cNvPr id="183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60480" y="1420920"/>
              <a:ext cx="8986680" cy="47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04920" y="1554120"/>
              <a:ext cx="86868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Footlight MT Light"/>
                </a:rPr>
                <a:t>Outpatient or inpatient (hypotension, confusion and oxygenation) and ag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Footlight MT Light"/>
                </a:rPr>
                <a:t>Previous treatment in the past 3 month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Footlight MT Light"/>
                </a:rPr>
                <a:t>Resistance patterns in the community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Title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Broadway"/>
              </a:rPr>
              <a:t>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04920" y="1554120"/>
          <a:ext cx="8686800" cy="453888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  <a:gridCol w="2171520"/>
                <a:gridCol w="2171880"/>
              </a:tblGrid>
              <a:tr h="1109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crolide (Azithromycin or clathromyc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luoroquinolone(F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ftriaxone (</a:t>
                      </a:r>
                      <a:r>
                        <a:rPr b="1" lang="el-G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β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ct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363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at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7827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atient with comorbidity and or macrolides treat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macrol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366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atient Non I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macrol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732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atient  I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macrolide or F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187" name="Title 1"/>
          <p:cNvSpPr/>
          <p:nvPr/>
        </p:nvSpPr>
        <p:spPr>
          <a:xfrm>
            <a:off x="304920" y="457200"/>
            <a:ext cx="8686800" cy="1100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Antibiotics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04920" y="1554120"/>
          <a:ext cx="8686800" cy="481644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5205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tibio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3737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Pseudomo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rolide + ceftazime or FQ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205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M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comycin or linazol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471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hlamydophila psitta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rolide or tetracyc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471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oxiella burnet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rolide or tetracyc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205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Legion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ythromy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89" name="Title 1"/>
          <p:cNvSpPr/>
          <p:nvPr/>
        </p:nvSpPr>
        <p:spPr>
          <a:xfrm>
            <a:off x="304920" y="457200"/>
            <a:ext cx="8686800" cy="102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  <a:ea typeface="Arabic Transparent"/>
              </a:rPr>
              <a:t>Other Conc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29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The diagnostic standard of sever pneumo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Content Placeholder 2"/>
          <p:cNvGrpSpPr/>
          <p:nvPr/>
        </p:nvGrpSpPr>
        <p:grpSpPr>
          <a:xfrm>
            <a:off x="268200" y="1444680"/>
            <a:ext cx="8589960" cy="4761000"/>
            <a:chOff x="268200" y="1444680"/>
            <a:chExt cx="8589960" cy="4761000"/>
          </a:xfrm>
        </p:grpSpPr>
        <p:pic>
          <p:nvPicPr>
            <p:cNvPr id="19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68200" y="1444680"/>
              <a:ext cx="858996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Altered mental statu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a02&lt;60mmHg. PaO2/FiO2&lt;300, needing MV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Respiratory rate&gt;30/mi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Blood pressure&lt;90/60mmHg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Chest X-ray shows that bilateral infiltration, multilobar infiltration and  the infiltrations enlarge more than 50% within 48h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Renal function: U&lt;20ml/h, and &lt;80ml/4h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Content Placeholder 2"/>
          <p:cNvGrpSpPr/>
          <p:nvPr/>
        </p:nvGrpSpPr>
        <p:grpSpPr>
          <a:xfrm>
            <a:off x="30240" y="1407960"/>
            <a:ext cx="9016920" cy="5035680"/>
            <a:chOff x="30240" y="1407960"/>
            <a:chExt cx="9016920" cy="5035680"/>
          </a:xfrm>
        </p:grpSpPr>
        <p:pic>
          <p:nvPicPr>
            <p:cNvPr id="19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0240" y="1407960"/>
              <a:ext cx="9016920" cy="50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04920" y="1554120"/>
              <a:ext cx="86868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Footlight MT Light"/>
                </a:rPr>
                <a:t>Death 10% , 40% (ICU) within 5 day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Footlight MT Light"/>
                </a:rPr>
                <a:t>Mainly old age with sever pneumonia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Footlight MT Light"/>
                </a:rPr>
                <a:t>Respiratory and cardiac failu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Footlight MT Light"/>
                </a:rPr>
                <a:t>Empyema 10%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Title 1"/>
          <p:cNvSpPr/>
          <p:nvPr/>
        </p:nvSpPr>
        <p:spPr>
          <a:xfrm>
            <a:off x="457200" y="380880"/>
            <a:ext cx="8362800" cy="838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ll MT"/>
              </a:rPr>
              <a:t>Complic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Content Placeholder 2"/>
          <p:cNvGrpSpPr/>
          <p:nvPr/>
        </p:nvGrpSpPr>
        <p:grpSpPr>
          <a:xfrm>
            <a:off x="60480" y="1420920"/>
            <a:ext cx="8986680" cy="4833720"/>
            <a:chOff x="60480" y="1420920"/>
            <a:chExt cx="8986680" cy="4833720"/>
          </a:xfrm>
        </p:grpSpPr>
        <p:pic>
          <p:nvPicPr>
            <p:cNvPr id="199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60480" y="1420920"/>
              <a:ext cx="898668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04920" y="1554120"/>
              <a:ext cx="86868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Vaccin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Influenz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ffff"/>
                  </a:solidFill>
                  <a:latin typeface="Footlight MT Light"/>
                </a:rPr>
                <a:t>S.pneumonia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Prevention of Aspir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Head Posi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Teeth cleaning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Title 1"/>
          <p:cNvSpPr/>
          <p:nvPr/>
        </p:nvSpPr>
        <p:spPr>
          <a:xfrm>
            <a:off x="250920" y="476280"/>
            <a:ext cx="8686800" cy="838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skerville Old Face"/>
              </a:rPr>
              <a:t>Preven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7100"/>
          <p:cNvPicPr/>
          <p:nvPr/>
        </p:nvPicPr>
        <p:blipFill>
          <a:blip r:embed="rId1"/>
          <a:stretch/>
        </p:blipFill>
        <p:spPr>
          <a:xfrm>
            <a:off x="179280" y="2205000"/>
            <a:ext cx="4287960" cy="410220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pic>
        <p:nvPicPr>
          <p:cNvPr id="54" name="Picture 6" descr="Lung-a-bi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205000"/>
            <a:ext cx="4343400" cy="410364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55" name="Rectangle 2"/>
          <p:cNvSpPr/>
          <p:nvPr/>
        </p:nvSpPr>
        <p:spPr>
          <a:xfrm>
            <a:off x="395280" y="620640"/>
            <a:ext cx="8229600" cy="1219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ell MT"/>
                <a:ea typeface="Times New Roman"/>
              </a:rPr>
              <a:t>Lung Anat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35164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Epidemiolog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Content Placeholder 2"/>
          <p:cNvGrpSpPr/>
          <p:nvPr/>
        </p:nvGrpSpPr>
        <p:grpSpPr>
          <a:xfrm>
            <a:off x="176040" y="1378080"/>
            <a:ext cx="4335480" cy="4863960"/>
            <a:chOff x="176040" y="1378080"/>
            <a:chExt cx="4335480" cy="4863960"/>
          </a:xfrm>
        </p:grpSpPr>
        <p:pic>
          <p:nvPicPr>
            <p:cNvPr id="5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76040" y="1378080"/>
              <a:ext cx="4335480" cy="48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24000" y="1484280"/>
              <a:ext cx="4039920" cy="46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c3d69b"/>
                  </a:solidFill>
                  <a:uFillTx/>
                  <a:latin typeface="Baskerville Old Face"/>
                  <a:ea typeface="SimSun"/>
                </a:rPr>
                <a:t>Risk factor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Age &lt; 2 yrs, &gt; 65 yr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prior influenz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HIV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alcoholism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smoking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Asthm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Immunosuppress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Footlight MT Light"/>
                </a:rPr>
                <a:t>Chronic lung and heart  (</a:t>
              </a:r>
              <a:r>
                <a:rPr b="0" i="1" lang="en-US" sz="2600" spc="-1" strike="noStrike">
                  <a:solidFill>
                    <a:srgbClr val="ffffff"/>
                  </a:solidFill>
                  <a:latin typeface="Footlight MT Light"/>
                </a:rPr>
                <a:t>S. pneumoniae)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Content Placeholder 5"/>
          <p:cNvGrpSpPr/>
          <p:nvPr/>
        </p:nvGrpSpPr>
        <p:grpSpPr>
          <a:xfrm>
            <a:off x="4443480" y="1407960"/>
            <a:ext cx="4286160" cy="4834080"/>
            <a:chOff x="4443480" y="1407960"/>
            <a:chExt cx="4286160" cy="4834080"/>
          </a:xfrm>
        </p:grpSpPr>
        <p:pic>
          <p:nvPicPr>
            <p:cNvPr id="61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4443480" y="1407960"/>
              <a:ext cx="4286160" cy="48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500720" y="1484280"/>
              <a:ext cx="4174920" cy="46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c3d69b"/>
                  </a:solidFill>
                  <a:uFillTx/>
                  <a:latin typeface="Baskerville Old Face"/>
                </a:rPr>
                <a:t>Risk factor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institutionaliza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Recent hotel :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Baskerville Old Face"/>
                </a:rPr>
                <a:t>Legionell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Times New Roman"/>
                </a:rPr>
                <a:t>Travel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Times New Roman"/>
                </a:rPr>
                <a:t>occupational exposures-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55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birds </a:t>
              </a: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(</a:t>
              </a:r>
              <a:r>
                <a:rPr b="0" lang="en-US" sz="2200" spc="-1" strike="noStrike">
                  <a:solidFill>
                    <a:srgbClr val="ffff00"/>
                  </a:solidFill>
                  <a:latin typeface="Calibri"/>
                </a:rPr>
                <a:t>C-</a:t>
              </a:r>
              <a:r>
                <a:rPr b="1" lang="en-US" sz="22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0" lang="en-US" sz="2200" spc="-1" strike="noStrike">
                  <a:solidFill>
                    <a:srgbClr val="ffff00"/>
                  </a:solidFill>
                  <a:latin typeface="Baskerville Old Face"/>
                </a:rPr>
                <a:t>psittaci</a:t>
              </a:r>
              <a:r>
                <a:rPr b="0" lang="en-US" sz="22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Aspira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OPD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dement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icture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Pathogenes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Content Placeholder 2"/>
          <p:cNvGrpSpPr/>
          <p:nvPr/>
        </p:nvGrpSpPr>
        <p:grpSpPr>
          <a:xfrm>
            <a:off x="42840" y="1590840"/>
            <a:ext cx="4071960" cy="3286080"/>
            <a:chOff x="42840" y="1590840"/>
            <a:chExt cx="4071960" cy="3286080"/>
          </a:xfrm>
        </p:grpSpPr>
        <p:pic>
          <p:nvPicPr>
            <p:cNvPr id="66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2840" y="1590840"/>
              <a:ext cx="407196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50920" y="1700280"/>
              <a:ext cx="375588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Two factors involved in the formation of pneumon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athogen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host defenses.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Picture 7" descr="pneumonias 2"/>
          <p:cNvPicPr/>
          <p:nvPr/>
        </p:nvPicPr>
        <p:blipFill>
          <a:blip r:embed="rId2"/>
          <a:stretch/>
        </p:blipFill>
        <p:spPr>
          <a:xfrm>
            <a:off x="4067280" y="1413000"/>
            <a:ext cx="4897440" cy="525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30" descr="pneumonias 1"/>
          <p:cNvPicPr/>
          <p:nvPr/>
        </p:nvPicPr>
        <p:blipFill>
          <a:blip r:embed="rId1"/>
          <a:stretch/>
        </p:blipFill>
        <p:spPr>
          <a:xfrm>
            <a:off x="414360" y="304920"/>
            <a:ext cx="8315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Content Placeholder 2"/>
          <p:cNvGrpSpPr/>
          <p:nvPr/>
        </p:nvGrpSpPr>
        <p:grpSpPr>
          <a:xfrm>
            <a:off x="231840" y="573120"/>
            <a:ext cx="8461440" cy="5668920"/>
            <a:chOff x="231840" y="573120"/>
            <a:chExt cx="8461440" cy="5668920"/>
          </a:xfrm>
        </p:grpSpPr>
        <p:pic>
          <p:nvPicPr>
            <p:cNvPr id="7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31840" y="573120"/>
              <a:ext cx="8461440" cy="56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68360" y="692280"/>
              <a:ext cx="8147160" cy="54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Baskerville Old Face"/>
                </a:rPr>
                <a:t>Pathophysiology :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Inhalation or aspiration of pulmonary pathogenic organisms into a lung segment or lobe.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Secondary bacteraemia from a distant source,  Escherichia coli urinary tract infection and/or bacteraemia (Less common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8:38:47Z</dcterms:created>
  <dc:creator>Dr.Fauzia</dc:creator>
  <dc:description/>
  <dc:language>en-US</dc:language>
  <cp:lastModifiedBy>3422</cp:lastModifiedBy>
  <dcterms:modified xsi:type="dcterms:W3CDTF">2014-02-12T06:40:40Z</dcterms:modified>
  <cp:revision>6</cp:revision>
  <dc:subject/>
  <dc:title>Pneumonia</dc:title>
</cp:coreProperties>
</file>