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30.png" ContentType="image/png"/>
  <Override PartName="/ppt/media/image25.png" ContentType="image/png"/>
  <Override PartName="/ppt/media/image2.png" ContentType="image/png"/>
  <Override PartName="/ppt/media/image4.jpeg" ContentType="image/jpeg"/>
  <Override PartName="/ppt/media/image40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1.jpeg" ContentType="image/jpe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35.png" ContentType="image/png"/>
  <Override PartName="/ppt/media/image47.png" ContentType="image/png"/>
  <Override PartName="/ppt/media/image51.png" ContentType="image/png"/>
  <Override PartName="/ppt/media/image12.png" ContentType="image/png"/>
  <Override PartName="/ppt/media/image49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.jpeg" ContentType="image/jpeg"/>
  <Override PartName="/ppt/media/image50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7EB2-3CB5-4F60-BEFF-BF36D95F5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E650-CCB4-4ADF-A57B-863187400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E81D-AAE1-4C93-AD17-1D1BDDDB7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6859-EBC6-4AA4-86D2-E4AE2ACBD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068A-421B-4B2B-95C2-AB30C94C1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EC7B-F002-4E85-839E-13A9CDDD2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E99E-88E5-4412-A7F9-01E149A7C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7789-45E1-483C-90E6-2DEC05424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CCE6-DCB3-4AF8-88EB-6489F36E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E44B-1C15-4ECC-A60D-2AB2C720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1788-B4FB-43B7-86DF-F84654E0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52C9-79D2-409D-AE75-02600666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674DC-A62A-4149-BE25-56F4751166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-sdc.med.nagasaki-u.ac.jp/n50/disaster/Lung-a-big.gif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Pneumonia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Community acquired pneumoni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3203640" y="5229360"/>
            <a:ext cx="29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43e7"/>
                </a:solidFill>
                <a:latin typeface="Blackadder ITC"/>
              </a:rPr>
              <a:t>Dr fawzia Alotaib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Content Placeholder 2"/>
          <p:cNvGrpSpPr/>
          <p:nvPr/>
        </p:nvGrpSpPr>
        <p:grpSpPr>
          <a:xfrm>
            <a:off x="146160" y="1133640"/>
            <a:ext cx="8716680" cy="5541840"/>
            <a:chOff x="146160" y="1133640"/>
            <a:chExt cx="8716680" cy="5541840"/>
          </a:xfrm>
        </p:grpSpPr>
        <p:pic>
          <p:nvPicPr>
            <p:cNvPr id="74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146160" y="1133640"/>
              <a:ext cx="8716680" cy="554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250920" y="1197000"/>
              <a:ext cx="8507160" cy="540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fcd5b5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cd5b5"/>
                  </a:solidFill>
                  <a:latin typeface="Footlight MT Light"/>
                  <a:ea typeface="SimSun"/>
                </a:rPr>
                <a:t>Anatomy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ootlight MT Light"/>
                  <a:ea typeface="SimSun"/>
                </a:rPr>
                <a:t>Lobar:  entire lob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ootlight MT Light"/>
                  <a:ea typeface="SimSun"/>
                </a:rPr>
                <a:t>Bronchopneumonia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ootlight MT Light"/>
                  <a:ea typeface="SimSun"/>
                </a:rPr>
                <a:t>Interstitial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fcd5b5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cd5b5"/>
                  </a:solidFill>
                  <a:latin typeface="Footlight MT Light"/>
                  <a:ea typeface="SimSun"/>
                </a:rPr>
                <a:t>Pathogen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92d05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92d050"/>
                  </a:solidFill>
                  <a:uFillTx/>
                  <a:latin typeface="Footlight MT Light"/>
                  <a:ea typeface="SimSun"/>
                </a:rPr>
                <a:t>Gram-positive</a:t>
              </a:r>
              <a:r>
                <a:rPr b="0" lang="en-US" sz="2000" spc="-1" strike="noStrike">
                  <a:solidFill>
                    <a:srgbClr val="17375e"/>
                  </a:solidFill>
                  <a:latin typeface="Footlight MT Light"/>
                  <a:ea typeface="SimSun"/>
                </a:rPr>
                <a:t> :</a:t>
              </a:r>
              <a:r>
                <a:rPr b="0" i="1" lang="en-US" sz="2000" spc="-1" strike="noStrike">
                  <a:solidFill>
                    <a:srgbClr val="17375e"/>
                  </a:solidFill>
                  <a:latin typeface="Footlight MT Light"/>
                  <a:ea typeface="SimSun"/>
                </a:rPr>
                <a:t>Streptococcus pneumoniae , Staphylococcus aureus</a:t>
              </a:r>
              <a:r>
                <a:rPr b="0" lang="en-US" sz="2000" spc="-1" strike="noStrike">
                  <a:solidFill>
                    <a:srgbClr val="17375e"/>
                  </a:solidFill>
                  <a:latin typeface="Footlight MT Light"/>
                  <a:ea typeface="SimSun"/>
                </a:rPr>
                <a:t>, Group A hemolytic streptococci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92d05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92d050"/>
                  </a:solidFill>
                  <a:uFillTx/>
                  <a:latin typeface="Footlight MT Light"/>
                  <a:ea typeface="SimSun"/>
                </a:rPr>
                <a:t>Gram-negative</a:t>
              </a:r>
              <a:r>
                <a:rPr b="0" lang="en-US" sz="2000" spc="-1" strike="noStrike">
                  <a:solidFill>
                    <a:srgbClr val="ffc000"/>
                  </a:solidFill>
                  <a:latin typeface="Footlight MT Light"/>
                  <a:ea typeface="SimSun"/>
                </a:rPr>
                <a:t> :</a:t>
              </a:r>
              <a:r>
                <a:rPr b="0" i="1" lang="en-US" sz="2000" spc="-1" strike="noStrike">
                  <a:solidFill>
                    <a:srgbClr val="ffc000"/>
                  </a:solidFill>
                  <a:latin typeface="Footlight MT Light"/>
                  <a:ea typeface="SimSun"/>
                </a:rPr>
                <a:t>Klebsiella  pneumoniae, Hemophilus  influenzae, </a:t>
              </a:r>
              <a:r>
                <a:rPr b="0" i="1" lang="en-US" sz="2000" spc="-1" strike="noStrike">
                  <a:solidFill>
                    <a:srgbClr val="ffc000"/>
                  </a:solidFill>
                  <a:latin typeface="Footlight MT Light"/>
                </a:rPr>
                <a:t>Moraxella catarrhal and </a:t>
              </a:r>
              <a:r>
                <a:rPr b="0" i="1" lang="en-US" sz="2000" spc="-1" strike="noStrike">
                  <a:solidFill>
                    <a:srgbClr val="ffc000"/>
                  </a:solidFill>
                  <a:latin typeface="Footlight MT Light"/>
                  <a:ea typeface="SimSun"/>
                </a:rPr>
                <a:t>Escherichia  coli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92d05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92d050"/>
                  </a:solidFill>
                  <a:uFillTx/>
                  <a:latin typeface="Footlight MT Light"/>
                  <a:ea typeface="SimSun"/>
                </a:rPr>
                <a:t>Atypical Bacteria </a:t>
              </a:r>
              <a:r>
                <a:rPr b="0" i="1" lang="en-US" sz="2000" spc="-1" strike="noStrike">
                  <a:solidFill>
                    <a:srgbClr val="ffc000"/>
                  </a:solidFill>
                  <a:latin typeface="Footlight MT Light"/>
                  <a:ea typeface="SimSun"/>
                </a:rPr>
                <a:t>:Mycoplasma pneumoniae, chlamydophila pneumoniae and legionella</a:t>
              </a:r>
              <a:r>
                <a:rPr b="0" i="1" lang="en-US" sz="2000" spc="-1" strike="noStrike">
                  <a:solidFill>
                    <a:srgbClr val="c00000"/>
                  </a:solidFill>
                  <a:latin typeface="Footlight MT Light"/>
                  <a:ea typeface="SimSun"/>
                </a:rPr>
                <a:t>. </a:t>
              </a:r>
              <a:r>
                <a:rPr b="0" lang="en-US" sz="2000" spc="-1" strike="noStrike">
                  <a:solidFill>
                    <a:srgbClr val="000000"/>
                  </a:solidFill>
                  <a:latin typeface="Footlight MT Light"/>
                  <a:ea typeface="SimSun"/>
                </a:rPr>
                <a:t>Anaerobic bacteria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ootlight MT Light"/>
                  <a:ea typeface="SimSun"/>
                </a:rPr>
                <a:t>Viral  and fungal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fcd5b5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cd5b5"/>
                  </a:solidFill>
                  <a:latin typeface="Footlight MT Light"/>
                  <a:ea typeface="SimSun"/>
                </a:rPr>
                <a:t>Acquired environment: </a:t>
              </a:r>
              <a:r>
                <a:rPr b="0" lang="en-US" sz="2000" spc="-1" strike="noStrike">
                  <a:solidFill>
                    <a:srgbClr val="000000"/>
                  </a:solidFill>
                  <a:latin typeface="Footlight MT Light"/>
                  <a:ea typeface="SimSun"/>
                </a:rPr>
                <a:t>community ,hospital ,nursing home acquired and immunocompromised host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Footlight MT Light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" name="Title 1"/>
          <p:cNvSpPr/>
          <p:nvPr/>
        </p:nvSpPr>
        <p:spPr>
          <a:xfrm>
            <a:off x="250920" y="333360"/>
            <a:ext cx="8497800" cy="8380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lass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7" descr="pp 3"/>
          <p:cNvPicPr/>
          <p:nvPr/>
        </p:nvPicPr>
        <p:blipFill>
          <a:blip r:embed="rId1"/>
          <a:stretch/>
        </p:blipFill>
        <p:spPr>
          <a:xfrm>
            <a:off x="179280" y="907920"/>
            <a:ext cx="3097440" cy="33130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  <p:pic>
        <p:nvPicPr>
          <p:cNvPr id="78" name="Picture 6" descr="pneumonias 10"/>
          <p:cNvPicPr/>
          <p:nvPr/>
        </p:nvPicPr>
        <p:blipFill>
          <a:blip r:embed="rId2"/>
          <a:stretch/>
        </p:blipFill>
        <p:spPr>
          <a:xfrm>
            <a:off x="3203640" y="907920"/>
            <a:ext cx="2808360" cy="33130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  <p:pic>
        <p:nvPicPr>
          <p:cNvPr id="79" name="Picture 3" descr="ipf 3"/>
          <p:cNvPicPr/>
          <p:nvPr/>
        </p:nvPicPr>
        <p:blipFill>
          <a:blip r:embed="rId3"/>
          <a:stretch/>
        </p:blipFill>
        <p:spPr>
          <a:xfrm>
            <a:off x="6012000" y="907920"/>
            <a:ext cx="2952720" cy="3300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  <p:grpSp>
        <p:nvGrpSpPr>
          <p:cNvPr id="80" name="TextBox 4"/>
          <p:cNvGrpSpPr/>
          <p:nvPr/>
        </p:nvGrpSpPr>
        <p:grpSpPr>
          <a:xfrm>
            <a:off x="365040" y="4595760"/>
            <a:ext cx="2244960" cy="598680"/>
            <a:chOff x="365040" y="4595760"/>
            <a:chExt cx="2244960" cy="598680"/>
          </a:xfrm>
        </p:grpSpPr>
        <p:pic>
          <p:nvPicPr>
            <p:cNvPr id="81" name="TextBox 4" descr=""/>
            <p:cNvPicPr/>
            <p:nvPr/>
          </p:nvPicPr>
          <p:blipFill>
            <a:blip r:embed="rId4"/>
            <a:stretch/>
          </p:blipFill>
          <p:spPr>
            <a:xfrm>
              <a:off x="365040" y="4595760"/>
              <a:ext cx="2244960" cy="5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468360" y="4653000"/>
              <a:ext cx="20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Lobar pneumonia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" name="TextBox 6"/>
          <p:cNvGrpSpPr/>
          <p:nvPr/>
        </p:nvGrpSpPr>
        <p:grpSpPr>
          <a:xfrm>
            <a:off x="3243240" y="4664160"/>
            <a:ext cx="2286000" cy="596880"/>
            <a:chOff x="3243240" y="4664160"/>
            <a:chExt cx="2286000" cy="596880"/>
          </a:xfrm>
        </p:grpSpPr>
        <p:pic>
          <p:nvPicPr>
            <p:cNvPr id="84" name="TextBox 6" descr=""/>
            <p:cNvPicPr/>
            <p:nvPr/>
          </p:nvPicPr>
          <p:blipFill>
            <a:blip r:embed="rId5"/>
            <a:stretch/>
          </p:blipFill>
          <p:spPr>
            <a:xfrm>
              <a:off x="3243240" y="4664160"/>
              <a:ext cx="228600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3348000" y="4724280"/>
              <a:ext cx="20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Bronchopneumonia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TextBox 7"/>
          <p:cNvGrpSpPr/>
          <p:nvPr/>
        </p:nvGrpSpPr>
        <p:grpSpPr>
          <a:xfrm>
            <a:off x="6126120" y="4664160"/>
            <a:ext cx="2676600" cy="596880"/>
            <a:chOff x="6126120" y="4664160"/>
            <a:chExt cx="2676600" cy="596880"/>
          </a:xfrm>
        </p:grpSpPr>
        <p:pic>
          <p:nvPicPr>
            <p:cNvPr id="87" name="TextBox 7" descr=""/>
            <p:cNvPicPr/>
            <p:nvPr/>
          </p:nvPicPr>
          <p:blipFill>
            <a:blip r:embed="rId6"/>
            <a:stretch/>
          </p:blipFill>
          <p:spPr>
            <a:xfrm>
              <a:off x="6126120" y="4664160"/>
              <a:ext cx="267660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6227640" y="4724280"/>
              <a:ext cx="252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Interstitial pneumonia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4000" spc="-1" strike="noStrike">
                <a:solidFill>
                  <a:srgbClr val="000000"/>
                </a:solidFill>
                <a:latin typeface="Bell MT"/>
                <a:ea typeface="SimSun"/>
              </a:rPr>
              <a:t>Pathoge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Baskerville Old Face"/>
                <a:ea typeface="SimSun"/>
              </a:rPr>
              <a:t>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SimSun"/>
              </a:rPr>
              <a:t>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Content Placeholder 2"/>
          <p:cNvGrpSpPr/>
          <p:nvPr/>
        </p:nvGrpSpPr>
        <p:grpSpPr>
          <a:xfrm>
            <a:off x="262080" y="1225440"/>
            <a:ext cx="8480160" cy="5450040"/>
            <a:chOff x="262080" y="1225440"/>
            <a:chExt cx="8480160" cy="5450040"/>
          </a:xfrm>
        </p:grpSpPr>
        <p:pic>
          <p:nvPicPr>
            <p:cNvPr id="91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262080" y="1225440"/>
              <a:ext cx="8480160" cy="545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457200" y="1413000"/>
              <a:ext cx="8229600" cy="51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buClr>
                  <a:srgbClr val="1f49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1f497d"/>
                  </a:solidFill>
                  <a:latin typeface="Baskerville Old Face"/>
                  <a:ea typeface="SimSun"/>
                </a:rPr>
                <a:t>Bacterial pneumonia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80000"/>
                </a:lnSpc>
                <a:spcBef>
                  <a:spcPts val="649"/>
                </a:spcBef>
                <a:buClr>
                  <a:srgbClr val="1f497d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1f497d"/>
                  </a:solidFill>
                  <a:latin typeface="Baskerville Old Face"/>
                  <a:ea typeface="SimSun"/>
                </a:rPr>
                <a:t>Typical  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just">
                <a:lnSpc>
                  <a:spcPct val="80000"/>
                </a:lnSpc>
                <a:spcBef>
                  <a:spcPts val="751"/>
                </a:spcBef>
                <a:buClr>
                  <a:srgbClr val="9bbb59"/>
                </a:buClr>
                <a:buFont typeface="Baskerville Old Face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9bbb59"/>
                  </a:solidFill>
                  <a:latin typeface="Baskerville Old Face"/>
                  <a:ea typeface="SimSun"/>
                </a:rPr>
                <a:t>Gram-positive bacteria as 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 algn="just">
                <a:lnSpc>
                  <a:spcPct val="80000"/>
                </a:lnSpc>
                <a:spcBef>
                  <a:spcPts val="649"/>
                </a:spcBef>
                <a:buClr>
                  <a:srgbClr val="262626"/>
                </a:buClr>
                <a:buFont typeface="Baskerville Old Fac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262626"/>
                  </a:solidFill>
                  <a:latin typeface="Baskerville Old Face"/>
                  <a:ea typeface="SimSun"/>
                </a:rPr>
                <a:t>Streptococcus pneumoniae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 algn="just">
                <a:lnSpc>
                  <a:spcPct val="80000"/>
                </a:lnSpc>
                <a:spcBef>
                  <a:spcPts val="649"/>
                </a:spcBef>
                <a:buClr>
                  <a:srgbClr val="ffffff"/>
                </a:buClr>
                <a:buFont typeface="Baskerville Old Fac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Staphylococcus aureus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 algn="just">
                <a:lnSpc>
                  <a:spcPct val="80000"/>
                </a:lnSpc>
                <a:spcBef>
                  <a:spcPts val="649"/>
                </a:spcBef>
                <a:buClr>
                  <a:srgbClr val="ffffff"/>
                </a:buClr>
                <a:buFont typeface="Baskerville Old Fac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Group A hemolytic streptococci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just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(2) </a:t>
              </a:r>
              <a:r>
                <a:rPr b="1" lang="en-US" sz="3000" spc="-1" strike="noStrike">
                  <a:solidFill>
                    <a:srgbClr val="9bbb59"/>
                  </a:solidFill>
                  <a:latin typeface="Baskerville Old Face"/>
                  <a:ea typeface="SimSun"/>
                </a:rPr>
                <a:t>Gram-negative bacteria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just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-     Klebsiella  pneumonia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just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-     Hemophilus  influenza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just">
                <a:lnSpc>
                  <a:spcPct val="8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-     </a:t>
              </a:r>
              <a:r>
                <a:rPr b="0" lang="en-US" sz="2600" spc="-1" strike="noStrike">
                  <a:solidFill>
                    <a:srgbClr val="ffffff"/>
                  </a:solidFill>
                  <a:latin typeface="Baskerville Old Face"/>
                </a:rPr>
                <a:t>Moraxella catarrhal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just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-     Escherichia  coli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just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(3)  </a:t>
              </a:r>
              <a:r>
                <a:rPr b="1" lang="en-US" sz="3000" spc="-1" strike="noStrike">
                  <a:solidFill>
                    <a:srgbClr val="9bbb59"/>
                  </a:solidFill>
                  <a:latin typeface="Baskerville Old Face"/>
                  <a:ea typeface="SimSun"/>
                </a:rPr>
                <a:t>Anaerobic bacteria</a:t>
              </a:r>
              <a:r>
                <a:rPr b="0" lang="en-US" sz="3000" spc="-1" strike="noStrike">
                  <a:solidFill>
                    <a:srgbClr val="9bbb59"/>
                  </a:solidFill>
                  <a:latin typeface="Baskerville Old Face"/>
                  <a:ea typeface="SimSun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buClr>
                  <a:srgbClr val="9bbb5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Content Placeholder 2"/>
          <p:cNvGrpSpPr/>
          <p:nvPr/>
        </p:nvGrpSpPr>
        <p:grpSpPr>
          <a:xfrm>
            <a:off x="268200" y="225360"/>
            <a:ext cx="4943520" cy="6016680"/>
            <a:chOff x="268200" y="225360"/>
            <a:chExt cx="4943520" cy="6016680"/>
          </a:xfrm>
        </p:grpSpPr>
        <p:pic>
          <p:nvPicPr>
            <p:cNvPr id="94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268200" y="225360"/>
              <a:ext cx="4943520" cy="601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457200" y="333360"/>
              <a:ext cx="4619520" cy="583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Baskerville Old Face"/>
                  <a:ea typeface="SimSun"/>
                </a:rPr>
                <a:t>Atypical pneumonia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Legionnaies pneumonia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Mycoplasmal pneumonia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Chlamydia pneumonia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Rickettsia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Baskerville Old Face"/>
                  <a:ea typeface="SimSun"/>
                </a:rPr>
                <a:t>Fungal pneumonia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Candida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Aspergilosi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 algn="just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Pneumocystis carnii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TextBox 3"/>
          <p:cNvGrpSpPr/>
          <p:nvPr/>
        </p:nvGrpSpPr>
        <p:grpSpPr>
          <a:xfrm>
            <a:off x="4968720" y="304920"/>
            <a:ext cx="3907080" cy="3932640"/>
            <a:chOff x="4968720" y="304920"/>
            <a:chExt cx="3907080" cy="3932640"/>
          </a:xfrm>
        </p:grpSpPr>
        <p:pic>
          <p:nvPicPr>
            <p:cNvPr id="97" name="TextBox 3" descr=""/>
            <p:cNvPicPr/>
            <p:nvPr/>
          </p:nvPicPr>
          <p:blipFill>
            <a:blip r:embed="rId2"/>
            <a:stretch/>
          </p:blipFill>
          <p:spPr>
            <a:xfrm>
              <a:off x="4968720" y="304920"/>
              <a:ext cx="3907080" cy="37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5148360" y="333360"/>
              <a:ext cx="3671640" cy="39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Baskerville Old Face"/>
                  <a:ea typeface="SimSun"/>
                </a:rPr>
                <a:t>Viral pneumonia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Baskerville Old Face"/>
                </a:rPr>
                <a:t>the most common cause of pneumonia in children &lt; than 5 year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- Adenoviruses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- Respiratory syncytial virus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- Influenza virus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- Cytomegaloviru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- Herpes simplex virus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" name="TextBox 4"/>
          <p:cNvSpPr/>
          <p:nvPr/>
        </p:nvSpPr>
        <p:spPr>
          <a:xfrm>
            <a:off x="5508720" y="4581360"/>
            <a:ext cx="25192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Rectangle 2"/>
          <p:cNvGrpSpPr/>
          <p:nvPr/>
        </p:nvGrpSpPr>
        <p:grpSpPr>
          <a:xfrm>
            <a:off x="4998960" y="3962520"/>
            <a:ext cx="3876840" cy="2279520"/>
            <a:chOff x="4998960" y="3962520"/>
            <a:chExt cx="3876840" cy="2279520"/>
          </a:xfrm>
        </p:grpSpPr>
        <p:pic>
          <p:nvPicPr>
            <p:cNvPr id="101" name="Rectangle 2" descr=""/>
            <p:cNvPicPr/>
            <p:nvPr/>
          </p:nvPicPr>
          <p:blipFill>
            <a:blip r:embed="rId3"/>
            <a:stretch/>
          </p:blipFill>
          <p:spPr>
            <a:xfrm>
              <a:off x="4998960" y="3962520"/>
              <a:ext cx="3876840" cy="227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8360" y="4005360"/>
              <a:ext cx="3671640" cy="21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askerville Old Face"/>
                  <a:ea typeface="SimSun"/>
                </a:rPr>
                <a:t>Pneumonia caused by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Baskerville Old Face"/>
                  <a:ea typeface="SimSun"/>
                </a:rPr>
                <a:t>other pathoge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buClr>
                  <a:srgbClr val="ffffff"/>
                </a:buClr>
                <a:buFont typeface="Baskerville Old Fac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Parasit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- protozo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100"/>
              </a:b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07280" cy="1152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Baskerville Old Face"/>
                <a:ea typeface="SimSun"/>
              </a:rPr>
              <a:t>CAP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Content Placeholder 2"/>
          <p:cNvGrpSpPr/>
          <p:nvPr/>
        </p:nvGrpSpPr>
        <p:grpSpPr>
          <a:xfrm>
            <a:off x="281160" y="1517760"/>
            <a:ext cx="8643600" cy="3719520"/>
            <a:chOff x="281160" y="1517760"/>
            <a:chExt cx="8643600" cy="3719520"/>
          </a:xfrm>
        </p:grpSpPr>
        <p:pic>
          <p:nvPicPr>
            <p:cNvPr id="105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281160" y="1517760"/>
              <a:ext cx="8643600" cy="371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468360" y="1628640"/>
              <a:ext cx="8229600" cy="352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b9cde5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u="sng">
                  <a:solidFill>
                    <a:srgbClr val="b9cde5"/>
                  </a:solidFill>
                  <a:uFillTx/>
                  <a:latin typeface="Baskerville Old Face"/>
                  <a:ea typeface="SimSun"/>
                </a:rPr>
                <a:t>CAP</a:t>
              </a:r>
              <a:r>
                <a:rPr b="0" lang="en-US" sz="32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 :  </a:t>
              </a:r>
              <a:r>
                <a:rPr b="0" lang="en-US" sz="3200" spc="-1" strike="noStrike">
                  <a:solidFill>
                    <a:srgbClr val="17375e"/>
                  </a:solidFill>
                  <a:latin typeface="Baskerville Old Face"/>
                  <a:ea typeface="SimSun"/>
                </a:rPr>
                <a:t>pneumonia acquired outside of hospitals or extended-care facilities </a:t>
              </a:r>
              <a:r>
                <a:rPr b="0" lang="en-US" sz="3200" spc="-1" strike="noStrike">
                  <a:solidFill>
                    <a:srgbClr val="17375e"/>
                  </a:solidFill>
                  <a:latin typeface="Baskerville Old Face"/>
                </a:rPr>
                <a:t>for &gt; 14 days before onset of symptoms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dbeef4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dbeef4"/>
                  </a:solidFill>
                  <a:latin typeface="Baskerville Old Face"/>
                  <a:ea typeface="SimSun"/>
                </a:rPr>
                <a:t>Streptococcus pneumoniae </a:t>
              </a:r>
              <a:r>
                <a:rPr b="0" lang="en-US" sz="2800" spc="-1" strike="noStrike">
                  <a:solidFill>
                    <a:srgbClr val="dbeef4"/>
                  </a:solidFill>
                  <a:latin typeface="Baskerville Old Face"/>
                  <a:ea typeface="SimSun"/>
                </a:rPr>
                <a:t>(most common)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92d05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92d050"/>
                  </a:solidFill>
                  <a:latin typeface="Baskerville Old Face"/>
                  <a:ea typeface="SimSun"/>
                </a:rPr>
                <a:t>Drug resistance streptococcus pneumoniae(DRSP) is a major concern</a:t>
              </a:r>
              <a:r>
                <a:rPr b="0" lang="en-US" sz="3200" spc="-1" strike="noStrike">
                  <a:solidFill>
                    <a:srgbClr val="92d050"/>
                  </a:solidFill>
                  <a:latin typeface="Baskerville Old Face"/>
                  <a:ea typeface="SimSu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92d05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Content Placeholder 4"/>
          <p:cNvGrpSpPr/>
          <p:nvPr/>
        </p:nvGrpSpPr>
        <p:grpSpPr>
          <a:xfrm>
            <a:off x="176040" y="1328760"/>
            <a:ext cx="4395960" cy="5273640"/>
            <a:chOff x="176040" y="1328760"/>
            <a:chExt cx="4395960" cy="5273640"/>
          </a:xfrm>
        </p:grpSpPr>
        <p:pic>
          <p:nvPicPr>
            <p:cNvPr id="108" name="Content Placeholder 4" descr=""/>
            <p:cNvPicPr/>
            <p:nvPr/>
          </p:nvPicPr>
          <p:blipFill>
            <a:blip r:embed="rId1"/>
            <a:stretch/>
          </p:blipFill>
          <p:spPr>
            <a:xfrm>
              <a:off x="176040" y="1328760"/>
              <a:ext cx="4395960" cy="527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324000" y="1413000"/>
              <a:ext cx="4190760" cy="51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fc000"/>
                  </a:solidFill>
                  <a:uFillTx/>
                  <a:latin typeface="Footlight MT Light"/>
                </a:rPr>
                <a:t>Childre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92d05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2d050"/>
                  </a:solidFill>
                  <a:latin typeface="Footlight MT Light"/>
                </a:rPr>
                <a:t>Viral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Footlight MT Light"/>
                </a:rPr>
                <a:t>Respiratory syncetial viru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Footlight MT Light"/>
                </a:rPr>
                <a:t>Parainfluenza viru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Footlight MT Light"/>
                </a:rPr>
                <a:t>Human metapneumoviru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92d05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2d050"/>
                  </a:solidFill>
                  <a:latin typeface="Footlight MT Light"/>
                </a:rPr>
                <a:t>Bacterial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Footlight MT Light"/>
                </a:rPr>
                <a:t>S.pneumonia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Footlight MT Light"/>
                </a:rPr>
                <a:t>H.influenza type 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Footlight MT Light"/>
                </a:rPr>
                <a:t>Group B streptococci in neonat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Content Placeholder 5"/>
          <p:cNvGrpSpPr/>
          <p:nvPr/>
        </p:nvGrpSpPr>
        <p:grpSpPr>
          <a:xfrm>
            <a:off x="4346640" y="1274760"/>
            <a:ext cx="4674960" cy="5327640"/>
            <a:chOff x="4346640" y="1274760"/>
            <a:chExt cx="4674960" cy="5327640"/>
          </a:xfrm>
        </p:grpSpPr>
        <p:pic>
          <p:nvPicPr>
            <p:cNvPr id="111" name="Content Placeholder 5" descr=""/>
            <p:cNvPicPr/>
            <p:nvPr/>
          </p:nvPicPr>
          <p:blipFill>
            <a:blip r:embed="rId2"/>
            <a:stretch/>
          </p:blipFill>
          <p:spPr>
            <a:xfrm>
              <a:off x="4346640" y="1274760"/>
              <a:ext cx="4674960" cy="532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4500720" y="1413000"/>
              <a:ext cx="4464000" cy="51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 u="sng">
                  <a:solidFill>
                    <a:srgbClr val="ffc000"/>
                  </a:solidFill>
                  <a:uFillTx/>
                  <a:latin typeface="Footlight MT Light"/>
                </a:rPr>
                <a:t>Adult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343080" indent="-343080">
                <a:lnSpc>
                  <a:spcPct val="80000"/>
                </a:lnSpc>
                <a:spcBef>
                  <a:spcPts val="55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Footlight MT Light"/>
                </a:rPr>
                <a:t>S.pneumoniae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Footlight MT Light"/>
                  <a:ea typeface="SimSun"/>
                </a:rPr>
                <a:t>Mycoplasma pneumoniae, chlamydophila pneumoniae </a:t>
              </a: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Footlight MT Light"/>
                  <a:ea typeface="SimSun"/>
                </a:rPr>
                <a:t> </a:t>
              </a:r>
              <a:r>
                <a:rPr b="0" lang="en-US" sz="1900" spc="-1" strike="noStrike">
                  <a:solidFill>
                    <a:srgbClr val="000000"/>
                  </a:solidFill>
                  <a:latin typeface="Footlight MT Light"/>
                  <a:ea typeface="SimSun"/>
                </a:rPr>
                <a:t>respiratory viruses depending on the season</a:t>
              </a: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 u="sng">
                  <a:solidFill>
                    <a:srgbClr val="ffc000"/>
                  </a:solidFill>
                  <a:uFillTx/>
                  <a:latin typeface="Footlight MT Light"/>
                </a:rPr>
                <a:t>Special conditions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Footlight MT Light"/>
                </a:rPr>
                <a:t>Chronic lung diseases</a:t>
              </a: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343080" indent="-343080">
                <a:lnSpc>
                  <a:spcPct val="8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Footlight MT Light"/>
                </a:rPr>
                <a:t>S.pneumonia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343080" indent="-343080">
                <a:lnSpc>
                  <a:spcPct val="8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Footlight MT Light"/>
                </a:rPr>
                <a:t>H.influenz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 u="sng">
                  <a:solidFill>
                    <a:srgbClr val="ffc000"/>
                  </a:solidFill>
                  <a:uFillTx/>
                  <a:latin typeface="Footlight MT Light"/>
                </a:rPr>
                <a:t>Recently hospitalized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343080" indent="-343080">
                <a:lnSpc>
                  <a:spcPct val="80000"/>
                </a:lnSpc>
                <a:spcBef>
                  <a:spcPts val="550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Footlight MT Light"/>
                </a:rPr>
                <a:t>Gram negativ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Footlight MT Light"/>
                </a:rPr>
                <a:t>, legionella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 u="sng">
                  <a:solidFill>
                    <a:srgbClr val="ffc000"/>
                  </a:solidFill>
                  <a:uFillTx/>
                  <a:latin typeface="Footlight MT Light"/>
                </a:rPr>
                <a:t>Recent inflenza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343080" indent="-343080">
                <a:lnSpc>
                  <a:spcPct val="80000"/>
                </a:lnSpc>
                <a:spcBef>
                  <a:spcPts val="550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Footlight MT Light"/>
                </a:rPr>
                <a:t>S.pneumoniae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343080" indent="-343080">
                <a:lnSpc>
                  <a:spcPct val="80000"/>
                </a:lnSpc>
                <a:spcBef>
                  <a:spcPts val="550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Footlight MT Light"/>
                </a:rPr>
                <a:t>S.aureus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640720" cy="1143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What is the most common cause of community-acquired pneumoni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324000" y="1219320"/>
          <a:ext cx="8640720" cy="5449680"/>
        </p:xfrm>
        <a:graphic>
          <a:graphicData uri="http://schemas.openxmlformats.org/drawingml/2006/table">
            <a:tbl>
              <a:tblPr/>
              <a:tblGrid>
                <a:gridCol w="2879640"/>
                <a:gridCol w="2881080"/>
                <a:gridCol w="2880000"/>
              </a:tblGrid>
              <a:tr h="40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ri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i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typi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Etiolog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.pneumoniae, H.influen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Mycoplasma pneumoniae, chlamydophila pneumoniae , legionella, TB, viral or fung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13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Clinical presen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dden onset of fever, chill, productive cough, shortness of breath and chest pa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dual onset headache, sore throat and body a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71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Diagno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Gram  Stai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f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less (no cell wal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71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Radiograph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bar infilt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amatic changes: patchy or interstit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67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Treatment with penicill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nsi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is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  <p:sp>
        <p:nvSpPr>
          <p:cNvPr id="115" name="Title 4"/>
          <p:cNvSpPr/>
          <p:nvPr/>
        </p:nvSpPr>
        <p:spPr>
          <a:xfrm>
            <a:off x="304920" y="228600"/>
            <a:ext cx="8686800" cy="9684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ootlight MT Light"/>
              </a:rPr>
              <a:t>What is the difference between typical and atypical community-acquired pneumonia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07280" cy="1143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skerville Old Face"/>
                <a:ea typeface="SimSun"/>
              </a:rPr>
              <a:t>Clinical manifestation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Baskerville Old Face"/>
                <a:ea typeface="SimSun"/>
              </a:rPr>
              <a:t>lobar pneumonia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" name="Content Placeholder 2"/>
          <p:cNvGrpSpPr/>
          <p:nvPr/>
        </p:nvGrpSpPr>
        <p:grpSpPr>
          <a:xfrm>
            <a:off x="281160" y="1450800"/>
            <a:ext cx="8472240" cy="5151600"/>
            <a:chOff x="281160" y="1450800"/>
            <a:chExt cx="8472240" cy="5151600"/>
          </a:xfrm>
        </p:grpSpPr>
        <p:pic>
          <p:nvPicPr>
            <p:cNvPr id="118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281160" y="1450800"/>
              <a:ext cx="8472240" cy="515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468360" y="1557360"/>
              <a:ext cx="8229600" cy="49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The onset is acute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u="sng">
                  <a:solidFill>
                    <a:srgbClr val="ffffff"/>
                  </a:solidFill>
                  <a:uFillTx/>
                  <a:latin typeface="Baskerville Old Face"/>
                </a:rPr>
                <a:t>Prior viral upper respiratory infection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1f49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1f497d"/>
                  </a:solidFill>
                  <a:latin typeface="Baskerville Old Face"/>
                  <a:ea typeface="SimSun"/>
                </a:rPr>
                <a:t>Respiratory symptoms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92d05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92d050"/>
                  </a:solidFill>
                  <a:latin typeface="Baskerville Old Face"/>
                </a:rPr>
                <a:t>Fever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92d05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92d050"/>
                  </a:solidFill>
                  <a:latin typeface="Baskerville Old Face"/>
                </a:rPr>
                <a:t>shaking chill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92d05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92d050"/>
                  </a:solidFill>
                  <a:latin typeface="Baskerville Old Face"/>
                </a:rPr>
                <a:t>cough with sputum production (rusty-sputum)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92d05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92d050"/>
                  </a:solidFill>
                  <a:latin typeface="Baskerville Old Face"/>
                </a:rPr>
                <a:t>Chest pain- or pleurisy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92d05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92d050"/>
                  </a:solidFill>
                  <a:latin typeface="Baskerville Old Face"/>
                </a:rPr>
                <a:t>Shortness of breath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C:\Documents and Settings\Dr.Fauzia\My Documents\My Pictures\pneumonia-12.jpg"/>
          <p:cNvPicPr/>
          <p:nvPr/>
        </p:nvPicPr>
        <p:blipFill>
          <a:blip r:embed="rId1"/>
          <a:stretch/>
        </p:blipFill>
        <p:spPr>
          <a:xfrm>
            <a:off x="468360" y="189000"/>
            <a:ext cx="8064360" cy="5904000"/>
          </a:xfrm>
          <a:prstGeom prst="rect">
            <a:avLst/>
          </a:prstGeom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  <p:grpSp>
        <p:nvGrpSpPr>
          <p:cNvPr id="121" name="TextBox 2"/>
          <p:cNvGrpSpPr/>
          <p:nvPr/>
        </p:nvGrpSpPr>
        <p:grpSpPr>
          <a:xfrm>
            <a:off x="3127320" y="6089760"/>
            <a:ext cx="2743200" cy="901440"/>
            <a:chOff x="3127320" y="6089760"/>
            <a:chExt cx="2743200" cy="901440"/>
          </a:xfrm>
        </p:grpSpPr>
        <p:pic>
          <p:nvPicPr>
            <p:cNvPr id="122" name="TextBox 2" descr=""/>
            <p:cNvPicPr/>
            <p:nvPr/>
          </p:nvPicPr>
          <p:blipFill>
            <a:blip r:embed="rId2"/>
            <a:stretch/>
          </p:blipFill>
          <p:spPr>
            <a:xfrm>
              <a:off x="3127320" y="6089760"/>
              <a:ext cx="274320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3276720" y="6165720"/>
              <a:ext cx="2447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Lobar pneumonia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Content Placeholder 2"/>
          <p:cNvGrpSpPr/>
          <p:nvPr/>
        </p:nvGrpSpPr>
        <p:grpSpPr>
          <a:xfrm>
            <a:off x="73080" y="23760"/>
            <a:ext cx="4479840" cy="3700440"/>
            <a:chOff x="73080" y="23760"/>
            <a:chExt cx="4479840" cy="3700440"/>
          </a:xfrm>
        </p:grpSpPr>
        <p:pic>
          <p:nvPicPr>
            <p:cNvPr id="125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73080" y="23760"/>
              <a:ext cx="4479840" cy="37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250920" y="189000"/>
              <a:ext cx="4249800" cy="34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1f497d"/>
                  </a:solidFill>
                  <a:latin typeface="Baskerville Old Face"/>
                  <a:ea typeface="SimSun"/>
                </a:rPr>
                <a:t>Diagnosis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Clinical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80000"/>
                </a:lnSpc>
                <a:spcBef>
                  <a:spcPts val="451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skerville Old Face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History &amp; physica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X-ray examination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askerville Old Face"/>
                </a:rPr>
                <a:t>Laboratory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80000"/>
                </a:lnSpc>
                <a:spcBef>
                  <a:spcPts val="451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Baskerville Old Face"/>
                </a:rPr>
                <a:t>CBC- leukocytosi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80000"/>
                </a:lnSpc>
                <a:spcBef>
                  <a:spcPts val="451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Baskerville Old Face"/>
                </a:rPr>
                <a:t>Sputum Gram stain-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15%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80000"/>
                </a:lnSpc>
                <a:spcBef>
                  <a:spcPts val="451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Baskerville Old Face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Blood culture-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Baskerville Old Face"/>
                </a:rPr>
                <a:t>5-14%</a:t>
              </a:r>
              <a:r>
                <a:rPr b="0" lang="en-US" sz="18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80000"/>
                </a:lnSpc>
                <a:spcBef>
                  <a:spcPts val="451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Pleural effusion cultu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80000"/>
                </a:lnSpc>
                <a:spcBef>
                  <a:spcPts val="224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80000"/>
                </a:lnSpc>
                <a:spcBef>
                  <a:spcPts val="224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</a:rPr>
                <a:t>   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24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7" name="Picture 2" descr="C:\Documents and Settings\Dr.Fauzia\My Documents\My Pictures\pneu.jpg"/>
          <p:cNvPicPr/>
          <p:nvPr/>
        </p:nvPicPr>
        <p:blipFill>
          <a:blip r:embed="rId2"/>
          <a:stretch/>
        </p:blipFill>
        <p:spPr>
          <a:xfrm>
            <a:off x="4572000" y="189000"/>
            <a:ext cx="4176720" cy="352728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128" name="Picture 2" descr="C:\Documents and Settings\Dr.Fauzia\My Documents\My Pictures\Spalpha.jpg"/>
          <p:cNvPicPr/>
          <p:nvPr/>
        </p:nvPicPr>
        <p:blipFill>
          <a:blip r:embed="rId3"/>
          <a:stretch/>
        </p:blipFill>
        <p:spPr>
          <a:xfrm>
            <a:off x="250920" y="3789360"/>
            <a:ext cx="4249800" cy="278604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  <p:pic>
        <p:nvPicPr>
          <p:cNvPr id="129" name="Picture 3" descr="C:\Documents and Settings\Dr.Fauzia\My Documents\My Pictures\s-pneumoniae.jpg"/>
          <p:cNvPicPr/>
          <p:nvPr/>
        </p:nvPicPr>
        <p:blipFill>
          <a:blip r:embed="rId4"/>
          <a:stretch/>
        </p:blipFill>
        <p:spPr>
          <a:xfrm>
            <a:off x="4572000" y="3716280"/>
            <a:ext cx="4305240" cy="2997360"/>
          </a:xfrm>
          <a:prstGeom prst="rect">
            <a:avLst/>
          </a:prstGeom>
          <a:ln w="0">
            <a:noFill/>
          </a:ln>
        </p:spPr>
      </p:pic>
      <p:grpSp>
        <p:nvGrpSpPr>
          <p:cNvPr id="130" name="TextBox 8"/>
          <p:cNvGrpSpPr/>
          <p:nvPr/>
        </p:nvGrpSpPr>
        <p:grpSpPr>
          <a:xfrm>
            <a:off x="5102280" y="3657600"/>
            <a:ext cx="3193920" cy="762480"/>
            <a:chOff x="5102280" y="3657600"/>
            <a:chExt cx="3193920" cy="762480"/>
          </a:xfrm>
        </p:grpSpPr>
        <p:pic>
          <p:nvPicPr>
            <p:cNvPr id="131" name="TextBox 8" descr=""/>
            <p:cNvPicPr/>
            <p:nvPr/>
          </p:nvPicPr>
          <p:blipFill>
            <a:blip r:embed="rId5"/>
            <a:stretch/>
          </p:blipFill>
          <p:spPr>
            <a:xfrm>
              <a:off x="5102280" y="3657600"/>
              <a:ext cx="31939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5219640" y="3716280"/>
              <a:ext cx="3024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Baskerville Old Face"/>
                </a:rPr>
                <a:t>Pneumococcal pneumonia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51640" cy="882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Introductio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" name="Content Placeholder 2"/>
          <p:cNvGrpSpPr/>
          <p:nvPr/>
        </p:nvGrpSpPr>
        <p:grpSpPr>
          <a:xfrm>
            <a:off x="334800" y="1042920"/>
            <a:ext cx="8589960" cy="5559480"/>
            <a:chOff x="334800" y="1042920"/>
            <a:chExt cx="8589960" cy="5559480"/>
          </a:xfrm>
        </p:grpSpPr>
        <p:pic>
          <p:nvPicPr>
            <p:cNvPr id="46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334800" y="1042920"/>
              <a:ext cx="8589960" cy="555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468360" y="1125360"/>
              <a:ext cx="8351640" cy="539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inflammation of the parenchyma of the lung </a:t>
              </a: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(</a:t>
              </a: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the alveoli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Footlight MT Light"/>
                </a:rPr>
                <a:t>Common in winter month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Footlight MT Light"/>
                </a:rPr>
                <a:t>It is the sixth leading cause of death in US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over 3 million people develop pneumonia each year and</a:t>
              </a:r>
              <a:r>
                <a:rPr b="0" lang="en-US" sz="2400" spc="-1" strike="noStrike">
                  <a:solidFill>
                    <a:srgbClr val="0070c0"/>
                  </a:solidFill>
                  <a:latin typeface="Footlight MT Light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Footlight MT Light"/>
                </a:rPr>
                <a:t>600,000 hospitalized in </a:t>
              </a: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United Stat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Morbidity and mortality of pneumonia are high especially in 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Baskerville Old Face"/>
                  <a:ea typeface="SimSun"/>
                </a:rPr>
                <a:t>old peop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Baskerville Old Face"/>
                </a:rPr>
                <a:t>Almost 1 million annual episodes of CAP in adults </a:t>
              </a:r>
              <a:r>
                <a:rPr b="0" lang="en-US" sz="2200" spc="-1" strike="noStrike" u="sng">
                  <a:solidFill>
                    <a:srgbClr val="ffffff"/>
                  </a:solidFill>
                  <a:uFillTx/>
                  <a:latin typeface="Baskerville Old Face"/>
                </a:rPr>
                <a:t>&gt;</a:t>
              </a:r>
              <a:r>
                <a:rPr b="0" lang="en-US" sz="2200" spc="-1" strike="noStrike">
                  <a:solidFill>
                    <a:srgbClr val="ffffff"/>
                  </a:solidFill>
                  <a:latin typeface="Baskerville Old Face"/>
                </a:rPr>
                <a:t> 65 yrs in the US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Histologic spectrum vary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ffc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000"/>
                  </a:solidFill>
                  <a:latin typeface="Baskerville Old Face"/>
                </a:rPr>
                <a:t>fibrinopurulent</a:t>
              </a: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 alveolar exudate (acute bacterial)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ffc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000"/>
                  </a:solidFill>
                  <a:latin typeface="Baskerville Old Face"/>
                </a:rPr>
                <a:t>interstitial infiltrates </a:t>
              </a: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(viral and other atypical pneumonias)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ffc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000"/>
                  </a:solidFill>
                  <a:latin typeface="Baskerville Old Face"/>
                </a:rPr>
                <a:t>granulomas and cavitation </a:t>
              </a: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(chronic pneumonias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561440" cy="7779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skerville Old Face"/>
              </a:rPr>
              <a:t>Drug Resistant Strep Pneumonia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" name="Content Placeholder 4"/>
          <p:cNvGrpSpPr/>
          <p:nvPr/>
        </p:nvGrpSpPr>
        <p:grpSpPr>
          <a:xfrm>
            <a:off x="622440" y="1127160"/>
            <a:ext cx="7899120" cy="5334120"/>
            <a:chOff x="622440" y="1127160"/>
            <a:chExt cx="7899120" cy="5334120"/>
          </a:xfrm>
        </p:grpSpPr>
        <p:pic>
          <p:nvPicPr>
            <p:cNvPr id="135" name="Content Placeholder 4" descr=""/>
            <p:cNvPicPr/>
            <p:nvPr/>
          </p:nvPicPr>
          <p:blipFill>
            <a:blip r:embed="rId1"/>
            <a:stretch/>
          </p:blipFill>
          <p:spPr>
            <a:xfrm>
              <a:off x="622440" y="1127160"/>
              <a:ext cx="7899120" cy="533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755640" y="1268280"/>
              <a:ext cx="7561440" cy="51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40% of U.S.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Baskerville Old Face"/>
                </a:rPr>
                <a:t>Strep pneumo </a:t>
              </a: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CAP has some antibiotic resistance: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PCN, cephalosporins, macrolides, tetracyclines, clinda, bactrim, quinolon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All MDR strains are sensitive to vancomycin or linezolid; most are sensitive to respiratory quinolones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β-lactam resistance – Not for meningitis (CSF drug levels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PCN is effective against pneumococcal Pneumonia at concentrations that would fail for meningitis or otitis medi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For Pneumonia, pneumococcal resistance to β-lactams is relative and can usually be overcome by increasing β-lactam doses (not for meningitis!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324000" y="692280"/>
          <a:ext cx="8381880" cy="3157560"/>
        </p:xfrm>
        <a:graphic>
          <a:graphicData uri="http://schemas.openxmlformats.org/drawingml/2006/table">
            <a:tbl>
              <a:tblPr/>
              <a:tblGrid>
                <a:gridCol w="1581120"/>
                <a:gridCol w="1977840"/>
                <a:gridCol w="2390760"/>
                <a:gridCol w="2432160"/>
              </a:tblGrid>
              <a:tr h="764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50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CN Minimum Inhibitory Concentration (MIC) mcg/mL to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eptococcus Pneumonmonia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sceptib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mediat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ista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50"/>
                    </a:solidFill>
                  </a:tcPr>
                </a:tc>
              </a:tr>
              <a:tr h="62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 ≤ 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 = 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 </a:t>
                      </a:r>
                      <a:r>
                        <a:rPr b="1" lang="en-US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&gt;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50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 CAP Guidelin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 &lt;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 </a:t>
                      </a:r>
                      <a:r>
                        <a:rPr b="0" i="1" lang="en-US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&gt;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50"/>
                    </a:solidFill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ningiti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 &lt;0.0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 </a:t>
                      </a:r>
                      <a:r>
                        <a:rPr b="1" lang="en-US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&gt;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50"/>
                    </a:solidFill>
                  </a:tcPr>
                </a:tc>
              </a:tr>
            </a:tbl>
          </a:graphicData>
        </a:graphic>
      </p:graphicFrame>
      <p:sp>
        <p:nvSpPr>
          <p:cNvPr id="138" name="Text Box 5"/>
          <p:cNvSpPr/>
          <p:nvPr/>
        </p:nvSpPr>
        <p:spPr>
          <a:xfrm>
            <a:off x="457200" y="4029120"/>
            <a:ext cx="815328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4343e7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43e7"/>
                </a:solidFill>
                <a:latin typeface="Baskerville Old Face"/>
              </a:rPr>
              <a:t>  </a:t>
            </a:r>
            <a:r>
              <a:rPr b="0" lang="en-US" sz="2400" spc="-1" strike="noStrike">
                <a:solidFill>
                  <a:srgbClr val="4343e7"/>
                </a:solidFill>
                <a:latin typeface="Baskerville Old Face"/>
              </a:rPr>
              <a:t>Pneumococcal CAP:  Be cautious if using PCN if MIC &gt;4.  Avoid using PCN if MIC </a:t>
            </a:r>
            <a:r>
              <a:rPr b="0" lang="en-US" sz="2400" spc="-1" strike="noStrike" u="sng">
                <a:solidFill>
                  <a:srgbClr val="4343e7"/>
                </a:solidFill>
                <a:uFillTx/>
                <a:latin typeface="Baskerville Old Face"/>
              </a:rPr>
              <a:t>&gt;</a:t>
            </a:r>
            <a:r>
              <a:rPr b="0" lang="en-US" sz="2400" spc="-1" strike="noStrike">
                <a:solidFill>
                  <a:srgbClr val="4343e7"/>
                </a:solidFill>
                <a:latin typeface="Baskerville Old Face"/>
              </a:rPr>
              <a:t>8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4343e7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43e7"/>
                </a:solidFill>
                <a:latin typeface="Baskerville Old Face"/>
              </a:rPr>
              <a:t>  </a:t>
            </a:r>
            <a:r>
              <a:rPr b="0" lang="en-US" sz="2400" spc="-1" strike="noStrike">
                <a:solidFill>
                  <a:srgbClr val="4343e7"/>
                </a:solidFill>
                <a:latin typeface="Baskerville Old Face"/>
              </a:rPr>
              <a:t>Remember that if MIC &lt;1, pneumococcus is PCN-sensitive in sputum or blood (but need MIC &lt;0.06 for PCN-sensitivity in CSF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147"/>
          <p:cNvSpPr/>
          <p:nvPr/>
        </p:nvSpPr>
        <p:spPr>
          <a:xfrm>
            <a:off x="0" y="6237360"/>
            <a:ext cx="91440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IC Interpretive Standards for S. pneumoniae. Clinical Laboratory Standards Institute (CLSI) 2008; 28:123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Mycoplasma pneumon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1" name="Content Placeholder 2"/>
          <p:cNvGrpSpPr/>
          <p:nvPr/>
        </p:nvGrpSpPr>
        <p:grpSpPr>
          <a:xfrm>
            <a:off x="311040" y="1335240"/>
            <a:ext cx="4241880" cy="4998960"/>
            <a:chOff x="311040" y="1335240"/>
            <a:chExt cx="4241880" cy="4998960"/>
          </a:xfrm>
        </p:grpSpPr>
        <p:pic>
          <p:nvPicPr>
            <p:cNvPr id="142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311040" y="1335240"/>
              <a:ext cx="4241880" cy="49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457200" y="1484280"/>
              <a:ext cx="4040280" cy="464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64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Baskerville Old Face"/>
                </a:rPr>
                <a:t>Eaton agent (1944)</a:t>
              </a:r>
              <a:br>
                <a:rPr sz="2600"/>
              </a:br>
              <a:r>
                <a:rPr b="0" lang="en-US" sz="2600" spc="-1" strike="noStrike">
                  <a:solidFill>
                    <a:srgbClr val="ffffff"/>
                  </a:solidFill>
                  <a:latin typeface="Baskerville Old Face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4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Baskerville Old Face"/>
                </a:rPr>
                <a:t>No cell wall</a:t>
              </a:r>
              <a:br>
                <a:rPr sz="2600"/>
              </a:br>
              <a:r>
                <a:rPr b="0" lang="en-US" sz="2600" spc="-1" strike="noStrike">
                  <a:solidFill>
                    <a:srgbClr val="ffffff"/>
                  </a:solidFill>
                  <a:latin typeface="Baskerville Old Face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4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Baskerville Old Face"/>
                </a:rPr>
                <a:t>Mortality rate 1.4%</a:t>
              </a:r>
              <a:br>
                <a:rPr sz="2600"/>
              </a:br>
              <a:r>
                <a:rPr b="0" lang="en-US" sz="2600" spc="-1" strike="noStrike">
                  <a:solidFill>
                    <a:srgbClr val="ffffff"/>
                  </a:solidFill>
                  <a:latin typeface="Baskerville Old Face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4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Baskerville Old Face"/>
                </a:rPr>
                <a:t>Rare in children and in &gt; 65</a:t>
              </a:r>
              <a:br>
                <a:rPr sz="2600"/>
              </a:br>
              <a:r>
                <a:rPr b="0" lang="en-US" sz="2600" spc="-1" strike="noStrike">
                  <a:solidFill>
                    <a:srgbClr val="ffffff"/>
                  </a:solidFill>
                  <a:latin typeface="Baskerville Old Face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4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Baskerville Old Face"/>
                </a:rPr>
                <a:t>Associated with M.I. in some literature</a:t>
              </a:r>
              <a:br>
                <a:rPr sz="2600"/>
              </a:br>
              <a:r>
                <a:rPr b="0" lang="en-US" sz="2600" spc="-1" strike="noStrike">
                  <a:solidFill>
                    <a:srgbClr val="ffffff"/>
                  </a:solidFill>
                  <a:latin typeface="Baskerville Old Face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4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Baskerville Old Face"/>
                </a:rPr>
                <a:t>Myocarditis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Content Placeholder 5"/>
          <p:cNvGrpSpPr/>
          <p:nvPr/>
        </p:nvGrpSpPr>
        <p:grpSpPr>
          <a:xfrm>
            <a:off x="4511520" y="1407960"/>
            <a:ext cx="4394520" cy="4797720"/>
            <a:chOff x="4511520" y="1407960"/>
            <a:chExt cx="4394520" cy="4797720"/>
          </a:xfrm>
        </p:grpSpPr>
        <p:pic>
          <p:nvPicPr>
            <p:cNvPr id="145" name="Content Placeholder 5" descr=""/>
            <p:cNvPicPr/>
            <p:nvPr/>
          </p:nvPicPr>
          <p:blipFill>
            <a:blip r:embed="rId2"/>
            <a:stretch/>
          </p:blipFill>
          <p:spPr>
            <a:xfrm>
              <a:off x="4511520" y="1407960"/>
              <a:ext cx="4394520" cy="479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645080" y="1484280"/>
              <a:ext cx="4041720" cy="464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Baskerville Old Face"/>
                </a:rPr>
                <a:t>Mycoplasma pneumonia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commo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people younger than 40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crowded places like schools, homeless shelters, prisons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usually mild and responds well to antibiotics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can be very serious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may be associated with a skin rash and hemolysis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Content Placeholder 2"/>
          <p:cNvGrpSpPr/>
          <p:nvPr/>
        </p:nvGrpSpPr>
        <p:grpSpPr>
          <a:xfrm>
            <a:off x="115920" y="628560"/>
            <a:ext cx="4230720" cy="3668760"/>
            <a:chOff x="115920" y="628560"/>
            <a:chExt cx="4230720" cy="3668760"/>
          </a:xfrm>
        </p:grpSpPr>
        <p:pic>
          <p:nvPicPr>
            <p:cNvPr id="148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115920" y="628560"/>
              <a:ext cx="4230720" cy="366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50920" y="765000"/>
              <a:ext cx="4039920" cy="34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Insidious onset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Baskerville Old Face"/>
                </a:rPr>
                <a:t>Mild URTI to severe pneumonia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Headach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Malais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Fever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dry cough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24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Arthralgia / myalgia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Baskerville Old Face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24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Content Placeholder 5"/>
          <p:cNvGrpSpPr/>
          <p:nvPr/>
        </p:nvGrpSpPr>
        <p:grpSpPr>
          <a:xfrm>
            <a:off x="115920" y="4145040"/>
            <a:ext cx="4224240" cy="2603520"/>
            <a:chOff x="115920" y="4145040"/>
            <a:chExt cx="4224240" cy="2603520"/>
          </a:xfrm>
        </p:grpSpPr>
        <p:pic>
          <p:nvPicPr>
            <p:cNvPr id="151" name="Content Placeholder 5" descr=""/>
            <p:cNvPicPr/>
            <p:nvPr/>
          </p:nvPicPr>
          <p:blipFill>
            <a:blip r:embed="rId2"/>
            <a:stretch/>
          </p:blipFill>
          <p:spPr>
            <a:xfrm>
              <a:off x="115920" y="4145040"/>
              <a:ext cx="4224240" cy="260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50920" y="4221000"/>
              <a:ext cx="4033800" cy="24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Minimal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8002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Few crackl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8002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Rhonchi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8002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Exhaustio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8002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Low grade fever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3" name="Text Placeholder 3"/>
          <p:cNvSpPr/>
          <p:nvPr/>
        </p:nvSpPr>
        <p:spPr>
          <a:xfrm>
            <a:off x="324000" y="189000"/>
            <a:ext cx="2232000" cy="503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ymptom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 Placeholder 4"/>
          <p:cNvSpPr/>
          <p:nvPr/>
        </p:nvSpPr>
        <p:spPr>
          <a:xfrm>
            <a:off x="250920" y="3645000"/>
            <a:ext cx="1512720" cy="504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ign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3" descr="C:\Documents and Settings\Dr.Fauzia\My Documents\My Pictures\mycoplasma.png"/>
          <p:cNvPicPr/>
          <p:nvPr/>
        </p:nvPicPr>
        <p:blipFill>
          <a:blip r:embed="rId3"/>
          <a:stretch/>
        </p:blipFill>
        <p:spPr>
          <a:xfrm>
            <a:off x="4427640" y="189000"/>
            <a:ext cx="4248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askerville Old Face"/>
              </a:rPr>
              <a:t>Legionella pneumophi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Content Placeholder 5"/>
          <p:cNvGrpSpPr/>
          <p:nvPr/>
        </p:nvGrpSpPr>
        <p:grpSpPr>
          <a:xfrm>
            <a:off x="2255760" y="1536840"/>
            <a:ext cx="4241880" cy="4492440"/>
            <a:chOff x="2255760" y="1536840"/>
            <a:chExt cx="4241880" cy="4492440"/>
          </a:xfrm>
        </p:grpSpPr>
        <p:pic>
          <p:nvPicPr>
            <p:cNvPr id="158" name="Content Placeholder 5" descr=""/>
            <p:cNvPicPr/>
            <p:nvPr/>
          </p:nvPicPr>
          <p:blipFill>
            <a:blip r:embed="rId1"/>
            <a:stretch/>
          </p:blipFill>
          <p:spPr>
            <a:xfrm>
              <a:off x="2255760" y="1536840"/>
              <a:ext cx="4241880" cy="44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2411280" y="1628640"/>
              <a:ext cx="4032360" cy="432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askerville Old Face"/>
                </a:rPr>
                <a:t>Legionnaire's disease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askerville Old Face"/>
                </a:rPr>
                <a:t>has caused serious outbreaks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askerville Old Face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Baskerville Old Face"/>
                </a:rPr>
                <a:t>Outbreaks have been linked to exposure to cooling tower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askerville Old Face"/>
                </a:rPr>
                <a:t>ICU admissions.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10920" y="189000"/>
            <a:ext cx="8064360" cy="1079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skerville Old Face"/>
              </a:rPr>
              <a:t>Diagnosis &amp; Treatment of atypical pneumonia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1" name="Content Placeholder 2"/>
          <p:cNvGrpSpPr/>
          <p:nvPr/>
        </p:nvGrpSpPr>
        <p:grpSpPr>
          <a:xfrm>
            <a:off x="500040" y="1146240"/>
            <a:ext cx="4486320" cy="5456160"/>
            <a:chOff x="500040" y="1146240"/>
            <a:chExt cx="4486320" cy="5456160"/>
          </a:xfrm>
        </p:grpSpPr>
        <p:pic>
          <p:nvPicPr>
            <p:cNvPr id="162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500040" y="1146240"/>
              <a:ext cx="4486320" cy="545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611280" y="1268280"/>
              <a:ext cx="4321080" cy="52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524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Baskerville Old Face"/>
                </a:rPr>
                <a:t>Mild elevation WBC</a:t>
              </a:r>
              <a:br>
                <a:rPr sz="2100"/>
              </a:br>
              <a:r>
                <a:rPr b="0" lang="en-US" sz="2100" spc="-1" strike="noStrike">
                  <a:solidFill>
                    <a:srgbClr val="ffffff"/>
                  </a:solidFill>
                  <a:latin typeface="Baskerville Old Face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24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Baskerville Old Face"/>
                </a:rPr>
                <a:t>U&amp;Es</a:t>
              </a:r>
              <a:br>
                <a:rPr sz="2100"/>
              </a:br>
              <a:r>
                <a:rPr b="0" lang="en-US" sz="2100" spc="-1" strike="noStrike">
                  <a:solidFill>
                    <a:srgbClr val="ffffff"/>
                  </a:solidFill>
                  <a:latin typeface="Baskerville Old Face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24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 u="sng">
                  <a:solidFill>
                    <a:srgbClr val="ffffff"/>
                  </a:solidFill>
                  <a:uFillTx/>
                  <a:latin typeface="Baskerville Old Face"/>
                </a:rPr>
                <a:t>Low  serum Na (Legionalla)</a:t>
              </a:r>
              <a:br>
                <a:rPr sz="2100"/>
              </a:br>
              <a:r>
                <a:rPr b="0" lang="en-US" sz="2100" spc="-1" strike="noStrike" u="sng">
                  <a:solidFill>
                    <a:srgbClr val="ffffff"/>
                  </a:solidFill>
                  <a:uFillTx/>
                  <a:latin typeface="Baskerville Old Face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24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Baskerville Old Face"/>
                </a:rPr>
                <a:t>Deranged LFTS</a:t>
              </a:r>
              <a:br>
                <a:rPr sz="2100"/>
              </a:br>
              <a:r>
                <a:rPr b="0" lang="en-US" sz="2100" spc="-1" strike="noStrike">
                  <a:solidFill>
                    <a:srgbClr val="ffffff"/>
                  </a:solidFill>
                  <a:latin typeface="Baskerville Old Face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24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Baskerville Old Face"/>
                </a:rPr>
                <a:t>↑ </a:t>
              </a:r>
              <a:r>
                <a:rPr b="0" lang="en-US" sz="2100" spc="-1" strike="noStrike">
                  <a:solidFill>
                    <a:srgbClr val="ffffff"/>
                  </a:solidFill>
                  <a:latin typeface="Baskerville Old Face"/>
                </a:rPr>
                <a:t>ALT</a:t>
              </a:r>
              <a:br>
                <a:rPr sz="2100"/>
              </a:br>
              <a:r>
                <a:rPr b="0" lang="en-US" sz="2100" spc="-1" strike="noStrike">
                  <a:solidFill>
                    <a:srgbClr val="ffffff"/>
                  </a:solidFill>
                  <a:latin typeface="Baskerville Old Face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24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Baskerville Old Face"/>
                </a:rPr>
                <a:t>↑ </a:t>
              </a:r>
              <a:r>
                <a:rPr b="0" lang="en-US" sz="2100" spc="-1" strike="noStrike">
                  <a:solidFill>
                    <a:srgbClr val="ffffff"/>
                  </a:solidFill>
                  <a:latin typeface="Baskerville Old Face"/>
                </a:rPr>
                <a:t>Alk Phos </a:t>
              </a:r>
              <a:br>
                <a:rPr sz="2100"/>
              </a:br>
              <a:r>
                <a:rPr b="0" lang="en-US" sz="2100" spc="-1" strike="noStrike">
                  <a:solidFill>
                    <a:srgbClr val="ffffff"/>
                  </a:solidFill>
                  <a:latin typeface="Baskerville Old Face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24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Baskerville Old Face"/>
                </a:rPr>
                <a:t>Cold agglutinins (</a:t>
              </a:r>
              <a:r>
                <a:rPr b="0" i="1" lang="en-US" sz="2100" spc="-1" strike="noStrike">
                  <a:solidFill>
                    <a:srgbClr val="ffff00"/>
                  </a:solidFill>
                  <a:latin typeface="Baskerville Old Face"/>
                </a:rPr>
                <a:t>Mycoplasma</a:t>
              </a:r>
              <a:r>
                <a:rPr b="0" lang="en-US" sz="2100" spc="-1" strike="noStrike">
                  <a:solidFill>
                    <a:srgbClr val="ffff00"/>
                  </a:solidFill>
                  <a:latin typeface="Baskerville Old Face"/>
                </a:rPr>
                <a:t>)</a:t>
              </a:r>
              <a:br>
                <a:rPr sz="2100"/>
              </a:br>
              <a:r>
                <a:rPr b="0" lang="en-US" sz="2100" spc="-1" strike="noStrike">
                  <a:solidFill>
                    <a:srgbClr val="ffff00"/>
                  </a:solidFill>
                  <a:latin typeface="Baskerville Old Face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24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Baskerville Old Face"/>
                </a:rPr>
                <a:t>Serology</a:t>
              </a: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9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Baskerville Old Face"/>
                </a:rPr>
                <a:t>DNA detection</a:t>
              </a:r>
              <a:r>
                <a:rPr b="0" lang="en-US" sz="3600" spc="-1" strike="noStrike">
                  <a:solidFill>
                    <a:srgbClr val="ffffff"/>
                  </a:solidFill>
                  <a:latin typeface="Baskerville Old Face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9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4" name="Content Placeholder 2"/>
          <p:cNvGrpSpPr/>
          <p:nvPr/>
        </p:nvGrpSpPr>
        <p:grpSpPr>
          <a:xfrm>
            <a:off x="4816440" y="1109520"/>
            <a:ext cx="3851280" cy="4767480"/>
            <a:chOff x="4816440" y="1109520"/>
            <a:chExt cx="3851280" cy="4767480"/>
          </a:xfrm>
        </p:grpSpPr>
        <p:pic>
          <p:nvPicPr>
            <p:cNvPr id="165" name="Content Placeholder 2" descr=""/>
            <p:cNvPicPr/>
            <p:nvPr/>
          </p:nvPicPr>
          <p:blipFill>
            <a:blip r:embed="rId2"/>
            <a:stretch/>
          </p:blipFill>
          <p:spPr>
            <a:xfrm>
              <a:off x="4816440" y="1109520"/>
              <a:ext cx="3851280" cy="476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5003640" y="1268280"/>
              <a:ext cx="361188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Baskerville Old Face"/>
                </a:rPr>
                <a:t>Macrolide</a:t>
              </a:r>
              <a:br>
                <a:rPr sz="3200"/>
              </a:br>
              <a:r>
                <a:rPr b="0" lang="en-US" sz="3200" spc="-1" strike="noStrike">
                  <a:solidFill>
                    <a:srgbClr val="ffffff"/>
                  </a:solidFill>
                  <a:latin typeface="Baskerville Old Face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Baskerville Old Face"/>
                </a:rPr>
                <a:t>Rifampicicn</a:t>
              </a:r>
              <a:br>
                <a:rPr sz="3200"/>
              </a:br>
              <a:r>
                <a:rPr b="0" lang="en-US" sz="3200" spc="-1" strike="noStrike">
                  <a:solidFill>
                    <a:srgbClr val="ffffff"/>
                  </a:solidFill>
                  <a:latin typeface="Baskerville Old Face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Baskerville Old Face"/>
                </a:rPr>
                <a:t>Quinolones</a:t>
              </a:r>
              <a:br>
                <a:rPr sz="3200"/>
              </a:br>
              <a:r>
                <a:rPr b="0" lang="en-US" sz="3200" spc="-1" strike="noStrike">
                  <a:solidFill>
                    <a:srgbClr val="ffffff"/>
                  </a:solidFill>
                  <a:latin typeface="Baskerville Old Face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Baskerville Old Face"/>
                </a:rPr>
                <a:t>Treat for 10-14 days </a:t>
              </a:r>
              <a:br>
                <a:rPr sz="3200"/>
              </a:br>
              <a:r>
                <a:rPr b="0" lang="en-US" sz="3200" spc="-1" strike="noStrike">
                  <a:solidFill>
                    <a:srgbClr val="ffffff"/>
                  </a:solidFill>
                  <a:latin typeface="Baskerville Old Face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"/>
          <p:cNvSpPr/>
          <p:nvPr/>
        </p:nvSpPr>
        <p:spPr>
          <a:xfrm>
            <a:off x="324000" y="189000"/>
            <a:ext cx="8569080" cy="8254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Bell MT"/>
              </a:rPr>
              <a:t>Importance of history taking in patient with community-Acquired pneumo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4920" y="1197000"/>
          <a:ext cx="8686800" cy="5432400"/>
        </p:xfrm>
        <a:graphic>
          <a:graphicData uri="http://schemas.openxmlformats.org/drawingml/2006/table">
            <a:tbl>
              <a:tblPr/>
              <a:tblGrid>
                <a:gridCol w="4343400"/>
                <a:gridCol w="4343400"/>
              </a:tblGrid>
              <a:tr h="41580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ist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71748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lid organ transpl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y pathogen Bacterial , viral, fungal,or parasi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41616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neumocystis jerove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41436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vel to some area in U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demic Myco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102528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osure to air-conditioning, cooling towers, hot tub, hotel stay, grocery sore mist mach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gionella pneumophil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71784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osure to Turkeys, chickens, ducks or parrot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lamydia psitta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47772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osure to contaminated bat ca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stoplasma capsulat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41580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osure tosheep, goat  or cat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xiella burnet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41616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osure to rab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ancisella tularen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41580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cup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cobacterium tuberculosis, H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704000" cy="13543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skerville Old Face"/>
                <a:ea typeface="SimSun"/>
              </a:rPr>
              <a:t>Evaluate the severity &amp; degree of pneumon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0" name="Content Placeholder 2"/>
          <p:cNvGrpSpPr/>
          <p:nvPr/>
        </p:nvGrpSpPr>
        <p:grpSpPr>
          <a:xfrm>
            <a:off x="549360" y="1878120"/>
            <a:ext cx="7978680" cy="3821040"/>
            <a:chOff x="549360" y="1878120"/>
            <a:chExt cx="7978680" cy="3821040"/>
          </a:xfrm>
        </p:grpSpPr>
        <p:pic>
          <p:nvPicPr>
            <p:cNvPr id="171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549360" y="1878120"/>
              <a:ext cx="7978680" cy="382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755640" y="1989000"/>
              <a:ext cx="7715160" cy="362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92d050"/>
                  </a:solidFill>
                  <a:latin typeface="Baskerville Old Face"/>
                  <a:ea typeface="SimSun"/>
                </a:rPr>
                <a:t>Is the patient will require hospital admission?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patient characteristic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SimSun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comorbid illnes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physical examination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basic laboratory finding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Content Placeholder 2"/>
          <p:cNvGrpSpPr/>
          <p:nvPr/>
        </p:nvGrpSpPr>
        <p:grpSpPr>
          <a:xfrm>
            <a:off x="6480" y="1279440"/>
            <a:ext cx="8985240" cy="5645160"/>
            <a:chOff x="6480" y="1279440"/>
            <a:chExt cx="8985240" cy="5645160"/>
          </a:xfrm>
        </p:grpSpPr>
        <p:pic>
          <p:nvPicPr>
            <p:cNvPr id="174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6480" y="1279440"/>
              <a:ext cx="8985240" cy="564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250920" y="1413000"/>
              <a:ext cx="8686800" cy="53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1001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Footlight MT Light"/>
                  <a:ea typeface="SimSun"/>
                </a:rPr>
                <a:t>Physical examination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1001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Footlight MT Light"/>
                  <a:ea typeface="SimSun"/>
                </a:rPr>
                <a:t>Respiratory signs on consolidation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1001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Footlight MT Light"/>
                  <a:ea typeface="SimSun"/>
                </a:rPr>
                <a:t>Other systems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001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Footlight MT Light"/>
                  <a:ea typeface="SimSun"/>
                </a:rPr>
                <a:t>Chest x-ray examination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Footlight MT Light"/>
                </a:rPr>
                <a:t>Laboratory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Footlight MT Light"/>
                </a:rPr>
                <a:t>CBC- leukocytosis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Footlight MT Light"/>
                </a:rPr>
                <a:t>Electrolytes (↓Na in legionella)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Footlight MT Light"/>
                </a:rPr>
                <a:t>Urea, creatinine, LFT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6" name="Title 1"/>
          <p:cNvSpPr/>
          <p:nvPr/>
        </p:nvSpPr>
        <p:spPr>
          <a:xfrm>
            <a:off x="304920" y="457200"/>
            <a:ext cx="8686800" cy="8380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odoni MT"/>
              </a:rPr>
              <a:t>Diagnosi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Content Placeholder 2"/>
          <p:cNvGrpSpPr/>
          <p:nvPr/>
        </p:nvGrpSpPr>
        <p:grpSpPr>
          <a:xfrm>
            <a:off x="122400" y="725400"/>
            <a:ext cx="8796240" cy="6066000"/>
            <a:chOff x="122400" y="725400"/>
            <a:chExt cx="8796240" cy="6066000"/>
          </a:xfrm>
        </p:grpSpPr>
        <p:pic>
          <p:nvPicPr>
            <p:cNvPr id="178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122400" y="725400"/>
              <a:ext cx="8796240" cy="60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179280" y="836640"/>
              <a:ext cx="8686800" cy="58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ffffff"/>
                  </a:solidFill>
                  <a:uFillTx/>
                  <a:latin typeface="Footlight MT Light"/>
                </a:rPr>
                <a:t>Sputum Gram stain- 15%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Footlight MT Light"/>
                </a:rPr>
                <a:t>Sputum culture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Footlight MT Light"/>
                </a:rPr>
                <a:t>Bronchoscopic specimens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ffffff"/>
                  </a:solidFill>
                  <a:uFillTx/>
                  <a:latin typeface="Footlight MT Light"/>
                  <a:ea typeface="SimSun"/>
                </a:rPr>
                <a:t>Blood culture 6</a:t>
              </a:r>
              <a:r>
                <a:rPr b="0" lang="en-US" sz="3200" spc="-1" strike="noStrike" u="sng">
                  <a:solidFill>
                    <a:srgbClr val="ffffff"/>
                  </a:solidFill>
                  <a:uFillTx/>
                  <a:latin typeface="Footlight MT Light"/>
                </a:rPr>
                <a:t>-10%</a:t>
              </a:r>
              <a:r>
                <a:rPr b="0" lang="en-US" sz="3200" spc="-1" strike="noStrike" u="sng">
                  <a:solidFill>
                    <a:srgbClr val="ffffff"/>
                  </a:solidFill>
                  <a:uFillTx/>
                  <a:latin typeface="Footlight MT Light"/>
                  <a:ea typeface="SimSu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Footlight MT Light"/>
                  <a:ea typeface="SimSun"/>
                </a:rPr>
                <a:t>NP swab for respiratory viruses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99"/>
                </a:spcBef>
                <a:buClr>
                  <a:srgbClr val="92d05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92d050"/>
                  </a:solidFill>
                  <a:latin typeface="Footlight MT Light"/>
                  <a:ea typeface="SimSun"/>
                </a:rPr>
                <a:t>Legionella</a:t>
              </a:r>
              <a:r>
                <a:rPr b="0" lang="en-US" sz="3200" spc="-1" strike="noStrike">
                  <a:solidFill>
                    <a:srgbClr val="92d050"/>
                  </a:solidFill>
                  <a:latin typeface="Footlight MT Light"/>
                  <a:ea typeface="SimSun"/>
                </a:rPr>
                <a:t> </a:t>
              </a:r>
              <a:r>
                <a:rPr b="0" lang="en-US" sz="3200" spc="-1" strike="noStrike">
                  <a:solidFill>
                    <a:srgbClr val="ffffff"/>
                  </a:solidFill>
                  <a:latin typeface="Footlight MT Light"/>
                  <a:ea typeface="SimSun"/>
                </a:rPr>
                <a:t>urine antigen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99"/>
                </a:spcBef>
                <a:buClr>
                  <a:srgbClr val="ffff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Footlight MT Light"/>
                  <a:ea typeface="SimSun"/>
                </a:rPr>
                <a:t>Serology</a:t>
              </a:r>
              <a:r>
                <a:rPr b="0" lang="en-US" sz="3200" spc="-1" strike="noStrike">
                  <a:solidFill>
                    <a:srgbClr val="ffffff"/>
                  </a:solidFill>
                  <a:latin typeface="Footlight MT Light"/>
                  <a:ea typeface="SimSun"/>
                </a:rPr>
                <a:t> for </a:t>
              </a:r>
              <a:r>
                <a:rPr b="0" i="1" lang="en-US" sz="3200" spc="-1" strike="noStrike">
                  <a:solidFill>
                    <a:srgbClr val="93cddd"/>
                  </a:solidFill>
                  <a:latin typeface="Footlight MT Light"/>
                  <a:ea typeface="SimSun"/>
                </a:rPr>
                <a:t>M.pneumoniae, </a:t>
              </a:r>
              <a:r>
                <a:rPr b="0" i="1" lang="en-US" sz="3200" spc="-1" strike="noStrike">
                  <a:solidFill>
                    <a:srgbClr val="ffffff"/>
                  </a:solidFill>
                  <a:latin typeface="Footlight MT Light"/>
                  <a:ea typeface="SimSun"/>
                </a:rPr>
                <a:t> C.pneumoniae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Footlight MT Light"/>
                  <a:ea typeface="SimSun"/>
                </a:rPr>
                <a:t>Cold agglutination </a:t>
              </a:r>
              <a:r>
                <a:rPr b="0" i="1" lang="en-US" sz="3200" spc="-1" strike="noStrike">
                  <a:solidFill>
                    <a:srgbClr val="ffffff"/>
                  </a:solidFill>
                  <a:latin typeface="Footlight MT Light"/>
                  <a:ea typeface="SimSun"/>
                </a:rPr>
                <a:t>M.pneumoniae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Footlight MT Light"/>
                  <a:ea typeface="SimSun"/>
                </a:rPr>
                <a:t>More Invasive procedure in sick patient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0" name="Title 1"/>
          <p:cNvSpPr/>
          <p:nvPr/>
        </p:nvSpPr>
        <p:spPr>
          <a:xfrm>
            <a:off x="179280" y="76320"/>
            <a:ext cx="8640720" cy="7603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ll MT"/>
              </a:rPr>
              <a:t>Diagn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2" descr="Picture6"/>
          <p:cNvPicPr/>
          <p:nvPr/>
        </p:nvPicPr>
        <p:blipFill>
          <a:blip r:embed="rId2"/>
          <a:stretch/>
        </p:blipFill>
        <p:spPr>
          <a:xfrm>
            <a:off x="5364000" y="0"/>
            <a:ext cx="36007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9223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Definitio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Content Placeholder 2"/>
          <p:cNvGrpSpPr/>
          <p:nvPr/>
        </p:nvGrpSpPr>
        <p:grpSpPr>
          <a:xfrm>
            <a:off x="42840" y="1616040"/>
            <a:ext cx="5072040" cy="3906720"/>
            <a:chOff x="42840" y="1616040"/>
            <a:chExt cx="5072040" cy="3906720"/>
          </a:xfrm>
        </p:grpSpPr>
        <p:pic>
          <p:nvPicPr>
            <p:cNvPr id="50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42840" y="1616040"/>
              <a:ext cx="5072040" cy="390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50920" y="1773360"/>
              <a:ext cx="4608360" cy="36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  <a:ea typeface="SimSun"/>
                </a:rPr>
                <a:t>•  </a:t>
              </a: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Acute infection of the parenchyma of the lung alveoli  (</a:t>
              </a: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consolidation and exudation) caused </a:t>
              </a: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by: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    </a:t>
              </a:r>
              <a:r>
                <a:rPr b="0" lang="en-US" sz="2800" spc="-1" strike="noStrike">
                  <a:solidFill>
                    <a:srgbClr val="ffc000"/>
                  </a:solidFill>
                  <a:latin typeface="Baskerville Old Face"/>
                  <a:ea typeface="SimSun"/>
                </a:rPr>
                <a:t>bacteria, fungi, virus, parasite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060"/>
                  </a:solidFill>
                  <a:latin typeface="Baskerville Old Face"/>
                </a:rPr>
                <a:t>Acute (Fulminant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060"/>
                  </a:solidFill>
                  <a:latin typeface="Baskerville Old Face"/>
                </a:rPr>
                <a:t>Chronic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 • </a:t>
              </a: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Other factors chemical, allergen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2" name="Picture 6" descr="pneumonias 5"/>
          <p:cNvPicPr/>
          <p:nvPr/>
        </p:nvPicPr>
        <p:blipFill>
          <a:blip r:embed="rId2"/>
          <a:stretch/>
        </p:blipFill>
        <p:spPr>
          <a:xfrm>
            <a:off x="4932360" y="1773360"/>
            <a:ext cx="4032360" cy="36716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Content Placeholder 2"/>
          <p:cNvGrpSpPr/>
          <p:nvPr/>
        </p:nvGrpSpPr>
        <p:grpSpPr>
          <a:xfrm>
            <a:off x="60480" y="1420920"/>
            <a:ext cx="8986680" cy="4735440"/>
            <a:chOff x="60480" y="1420920"/>
            <a:chExt cx="8986680" cy="4735440"/>
          </a:xfrm>
        </p:grpSpPr>
        <p:pic>
          <p:nvPicPr>
            <p:cNvPr id="183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60480" y="1420920"/>
              <a:ext cx="8986680" cy="473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304920" y="1554120"/>
              <a:ext cx="86868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Footlight MT Light"/>
                </a:rPr>
                <a:t>Outpatient or inpatient (hypotension, confusion and oxygenation) and age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Footlight MT Light"/>
                </a:rPr>
                <a:t>Previous treatment in the past 3 months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Footlight MT Light"/>
                </a:rPr>
                <a:t>Resistance patterns in the community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5" name="Title 1"/>
          <p:cNvSpPr/>
          <p:nvPr/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Broadway"/>
              </a:rPr>
              <a:t>Manage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304920" y="1554120"/>
          <a:ext cx="8686800" cy="4538880"/>
        </p:xfrm>
        <a:graphic>
          <a:graphicData uri="http://schemas.openxmlformats.org/drawingml/2006/table">
            <a:tbl>
              <a:tblPr/>
              <a:tblGrid>
                <a:gridCol w="2171520"/>
                <a:gridCol w="2171880"/>
                <a:gridCol w="2171520"/>
                <a:gridCol w="2171880"/>
              </a:tblGrid>
              <a:tr h="110988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crolide (Azithromycin or clathromyci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luoroquinolone(FQ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eftriaxone (</a:t>
                      </a:r>
                      <a:r>
                        <a:rPr b="1" lang="el-GR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β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acta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43632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pati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178272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patient with comorbidity and or macrolides treat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macroli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43668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patient Non IC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macroli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77328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patient  IC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macrolide or F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  <p:sp>
        <p:nvSpPr>
          <p:cNvPr id="187" name="Title 1"/>
          <p:cNvSpPr/>
          <p:nvPr/>
        </p:nvSpPr>
        <p:spPr>
          <a:xfrm>
            <a:off x="304920" y="457200"/>
            <a:ext cx="8686800" cy="11001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ll MT"/>
              </a:rPr>
              <a:t>Antibiotics 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304920" y="1554120"/>
          <a:ext cx="8686800" cy="4816440"/>
        </p:xfrm>
        <a:graphic>
          <a:graphicData uri="http://schemas.openxmlformats.org/drawingml/2006/table">
            <a:tbl>
              <a:tblPr/>
              <a:tblGrid>
                <a:gridCol w="4343400"/>
                <a:gridCol w="4343400"/>
              </a:tblGrid>
              <a:tr h="52056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rganis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ntibio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137376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Pseudomon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rolide + ceftazime or FQ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52056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MR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ncomycin or linazol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94716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Chlamydophila psittac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rolide or tetracyc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94716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Coxiella burnett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rolide or tetracyc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52056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Legionell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ythromyc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  <p:sp>
        <p:nvSpPr>
          <p:cNvPr id="189" name="Title 1"/>
          <p:cNvSpPr/>
          <p:nvPr/>
        </p:nvSpPr>
        <p:spPr>
          <a:xfrm>
            <a:off x="304920" y="457200"/>
            <a:ext cx="8686800" cy="10270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  <a:ea typeface="Arabic Transparent"/>
              </a:rPr>
              <a:t>Other Concer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2970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skerville Old Face"/>
                <a:ea typeface="SimSun"/>
              </a:rPr>
              <a:t>The diagnostic standard of sever pneumon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1" name="Content Placeholder 2"/>
          <p:cNvGrpSpPr/>
          <p:nvPr/>
        </p:nvGrpSpPr>
        <p:grpSpPr>
          <a:xfrm>
            <a:off x="268200" y="1444680"/>
            <a:ext cx="8589960" cy="4761000"/>
            <a:chOff x="268200" y="1444680"/>
            <a:chExt cx="8589960" cy="4761000"/>
          </a:xfrm>
        </p:grpSpPr>
        <p:pic>
          <p:nvPicPr>
            <p:cNvPr id="192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268200" y="1444680"/>
              <a:ext cx="858996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Altered mental status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Pa02&lt;60mmHg. PaO2/FiO2&lt;300, needing MV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Respiratory rate&gt;30/min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 </a:t>
              </a:r>
              <a:r>
                <a:rPr b="0" lang="en-US" sz="32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Blood pressure&lt;90/60mmHg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Chest X-ray shows that bilateral infiltration, multilobar infiltration and  the infiltrations enlarge more than 50% within 48h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Renal function: U&lt;20ml/h, and &lt;80ml/4h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Content Placeholder 2"/>
          <p:cNvGrpSpPr/>
          <p:nvPr/>
        </p:nvGrpSpPr>
        <p:grpSpPr>
          <a:xfrm>
            <a:off x="30240" y="1407960"/>
            <a:ext cx="9016920" cy="5035680"/>
            <a:chOff x="30240" y="1407960"/>
            <a:chExt cx="9016920" cy="5035680"/>
          </a:xfrm>
        </p:grpSpPr>
        <p:pic>
          <p:nvPicPr>
            <p:cNvPr id="195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30240" y="1407960"/>
              <a:ext cx="9016920" cy="503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304920" y="1554120"/>
              <a:ext cx="86868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110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Footlight MT Light"/>
                </a:rPr>
                <a:t>Death 10% , 40% (ICU) within 5 day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10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Footlight MT Light"/>
                </a:rPr>
                <a:t>Mainly old age with sever pneumonia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10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Footlight MT Light"/>
                </a:rPr>
                <a:t>Respiratory and cardiac failur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10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Footlight MT Light"/>
                </a:rPr>
                <a:t>Empyema 10%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7" name="Title 1"/>
          <p:cNvSpPr/>
          <p:nvPr/>
        </p:nvSpPr>
        <p:spPr>
          <a:xfrm>
            <a:off x="457200" y="380880"/>
            <a:ext cx="8362800" cy="8384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ell MT"/>
              </a:rPr>
              <a:t>Complicatio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Content Placeholder 2"/>
          <p:cNvGrpSpPr/>
          <p:nvPr/>
        </p:nvGrpSpPr>
        <p:grpSpPr>
          <a:xfrm>
            <a:off x="60480" y="1420920"/>
            <a:ext cx="8986680" cy="4833720"/>
            <a:chOff x="60480" y="1420920"/>
            <a:chExt cx="8986680" cy="4833720"/>
          </a:xfrm>
        </p:grpSpPr>
        <p:pic>
          <p:nvPicPr>
            <p:cNvPr id="199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60480" y="1420920"/>
              <a:ext cx="8986680" cy="48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304920" y="1554120"/>
              <a:ext cx="86868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10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Footlight MT Light"/>
                </a:rPr>
                <a:t>Vaccination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1001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Footlight MT Light"/>
                </a:rPr>
                <a:t>Influenza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1001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ffff"/>
                  </a:solidFill>
                  <a:latin typeface="Footlight MT Light"/>
                </a:rPr>
                <a:t>S.pneumoniae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0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Footlight MT Light"/>
                </a:rPr>
                <a:t>Prevention of Aspiration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1001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Footlight MT Light"/>
                </a:rPr>
                <a:t>Head Position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1001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Footlight MT Light"/>
                </a:rPr>
                <a:t>Teeth cleaning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1" name="Title 1"/>
          <p:cNvSpPr/>
          <p:nvPr/>
        </p:nvSpPr>
        <p:spPr>
          <a:xfrm>
            <a:off x="250920" y="476280"/>
            <a:ext cx="8686800" cy="8380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askerville Old Face"/>
              </a:rPr>
              <a:t>Preventio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17100"/>
          <p:cNvPicPr/>
          <p:nvPr/>
        </p:nvPicPr>
        <p:blipFill>
          <a:blip r:embed="rId1"/>
          <a:stretch/>
        </p:blipFill>
        <p:spPr>
          <a:xfrm>
            <a:off x="179280" y="2205000"/>
            <a:ext cx="4287960" cy="4102200"/>
          </a:xfrm>
          <a:prstGeom prst="rect">
            <a:avLst/>
          </a:prstGeom>
          <a:ln w="76320">
            <a:solidFill>
              <a:srgbClr val="000066"/>
            </a:solidFill>
            <a:miter/>
          </a:ln>
        </p:spPr>
      </p:pic>
      <p:pic>
        <p:nvPicPr>
          <p:cNvPr id="54" name="Picture 6" descr="Lung-a-bi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0" y="2205000"/>
            <a:ext cx="4343400" cy="4103640"/>
          </a:xfrm>
          <a:prstGeom prst="rect">
            <a:avLst/>
          </a:prstGeom>
          <a:ln w="76320">
            <a:solidFill>
              <a:srgbClr val="000066"/>
            </a:solidFill>
            <a:miter/>
          </a:ln>
        </p:spPr>
      </p:pic>
      <p:sp>
        <p:nvSpPr>
          <p:cNvPr id="55" name="Rectangle 2"/>
          <p:cNvSpPr/>
          <p:nvPr/>
        </p:nvSpPr>
        <p:spPr>
          <a:xfrm>
            <a:off x="395280" y="620640"/>
            <a:ext cx="8229600" cy="12193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Bell MT"/>
                <a:ea typeface="Times New Roman"/>
              </a:rPr>
              <a:t>Lung Anatom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351640" cy="1143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Epidemiology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" name="Content Placeholder 2"/>
          <p:cNvGrpSpPr/>
          <p:nvPr/>
        </p:nvGrpSpPr>
        <p:grpSpPr>
          <a:xfrm>
            <a:off x="176040" y="1378080"/>
            <a:ext cx="4335480" cy="4863960"/>
            <a:chOff x="176040" y="1378080"/>
            <a:chExt cx="4335480" cy="4863960"/>
          </a:xfrm>
        </p:grpSpPr>
        <p:pic>
          <p:nvPicPr>
            <p:cNvPr id="58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176040" y="1378080"/>
              <a:ext cx="4335480" cy="486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324000" y="1484280"/>
              <a:ext cx="4039920" cy="46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c3d69b"/>
                  </a:solidFill>
                  <a:uFillTx/>
                  <a:latin typeface="Baskerville Old Face"/>
                  <a:ea typeface="SimSun"/>
                </a:rPr>
                <a:t>Risk factors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askerville Old Face"/>
                </a:rPr>
                <a:t>Age &lt; 2 yrs, &gt; 65 yr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askerville Old Face"/>
                </a:rPr>
                <a:t>prior influenza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askerville Old Face"/>
                </a:rPr>
                <a:t>HIV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askerville Old Face"/>
                </a:rPr>
                <a:t>alcoholism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askerville Old Face"/>
                </a:rPr>
                <a:t>smoking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askerville Old Face"/>
                </a:rPr>
                <a:t>Asthma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askerville Old Face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Baskerville Old Face"/>
                </a:rPr>
                <a:t>Immunosuppression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649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Footlight MT Light"/>
                </a:rPr>
                <a:t>Chronic lung and heart  (</a:t>
              </a:r>
              <a:r>
                <a:rPr b="0" i="1" lang="en-US" sz="2600" spc="-1" strike="noStrike">
                  <a:solidFill>
                    <a:srgbClr val="ffffff"/>
                  </a:solidFill>
                  <a:latin typeface="Footlight MT Light"/>
                </a:rPr>
                <a:t>S. pneumoniae)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4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Content Placeholder 5"/>
          <p:cNvGrpSpPr/>
          <p:nvPr/>
        </p:nvGrpSpPr>
        <p:grpSpPr>
          <a:xfrm>
            <a:off x="4443480" y="1407960"/>
            <a:ext cx="4286160" cy="4834080"/>
            <a:chOff x="4443480" y="1407960"/>
            <a:chExt cx="4286160" cy="4834080"/>
          </a:xfrm>
        </p:grpSpPr>
        <p:pic>
          <p:nvPicPr>
            <p:cNvPr id="61" name="Content Placeholder 5" descr=""/>
            <p:cNvPicPr/>
            <p:nvPr/>
          </p:nvPicPr>
          <p:blipFill>
            <a:blip r:embed="rId2"/>
            <a:stretch/>
          </p:blipFill>
          <p:spPr>
            <a:xfrm>
              <a:off x="4443480" y="1407960"/>
              <a:ext cx="4286160" cy="483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4500720" y="1484280"/>
              <a:ext cx="4174920" cy="46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c3d69b"/>
                  </a:solidFill>
                  <a:uFillTx/>
                  <a:latin typeface="Baskerville Old Face"/>
                </a:rPr>
                <a:t>Risk factors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institutionalizatio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Recent hotel : </a:t>
              </a:r>
              <a:r>
                <a:rPr b="0" i="1" lang="en-US" sz="2400" spc="-1" strike="noStrike">
                  <a:solidFill>
                    <a:srgbClr val="ffff00"/>
                  </a:solidFill>
                  <a:latin typeface="Baskerville Old Face"/>
                </a:rPr>
                <a:t>Legionell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  <a:ea typeface="Times New Roman"/>
                </a:rPr>
                <a:t>Travel,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  <a:ea typeface="Times New Roman"/>
                </a:rPr>
                <a:t>occupational exposures-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550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birds </a:t>
              </a:r>
              <a:r>
                <a:rPr b="0" lang="en-US" sz="2200" spc="-1" strike="noStrike">
                  <a:solidFill>
                    <a:srgbClr val="ffffff"/>
                  </a:solidFill>
                  <a:latin typeface="Calibri"/>
                </a:rPr>
                <a:t>(</a:t>
              </a:r>
              <a:r>
                <a:rPr b="0" lang="en-US" sz="2200" spc="-1" strike="noStrike">
                  <a:solidFill>
                    <a:srgbClr val="ffff00"/>
                  </a:solidFill>
                  <a:latin typeface="Calibri"/>
                </a:rPr>
                <a:t>C-</a:t>
              </a:r>
              <a:r>
                <a:rPr b="1" lang="en-US" sz="2200" spc="-1" strike="noStrike">
                  <a:solidFill>
                    <a:srgbClr val="ffff00"/>
                  </a:solidFill>
                  <a:latin typeface="Calibri"/>
                </a:rPr>
                <a:t> </a:t>
              </a:r>
              <a:r>
                <a:rPr b="0" lang="en-US" sz="2200" spc="-1" strike="noStrike">
                  <a:solidFill>
                    <a:srgbClr val="ffff00"/>
                  </a:solidFill>
                  <a:latin typeface="Baskerville Old Face"/>
                </a:rPr>
                <a:t>psittaci</a:t>
              </a:r>
              <a:r>
                <a:rPr b="0" lang="en-US" sz="2200" spc="-1" strike="noStrike">
                  <a:solidFill>
                    <a:srgbClr val="ffff00"/>
                  </a:solidFill>
                  <a:latin typeface="Calibri"/>
                </a:rPr>
                <a:t> </a:t>
              </a:r>
              <a:r>
                <a:rPr b="0" lang="en-US" sz="2200" spc="-1" strike="noStrike">
                  <a:solidFill>
                    <a:srgbClr val="ffffff"/>
                  </a:solidFill>
                  <a:latin typeface="Calibri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Aspiratio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COPD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dementi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Picture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424720" cy="1143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Pathogenesi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Content Placeholder 2"/>
          <p:cNvGrpSpPr/>
          <p:nvPr/>
        </p:nvGrpSpPr>
        <p:grpSpPr>
          <a:xfrm>
            <a:off x="42840" y="1590840"/>
            <a:ext cx="4071960" cy="3286080"/>
            <a:chOff x="42840" y="1590840"/>
            <a:chExt cx="4071960" cy="3286080"/>
          </a:xfrm>
        </p:grpSpPr>
        <p:pic>
          <p:nvPicPr>
            <p:cNvPr id="66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42840" y="1590840"/>
              <a:ext cx="4071960" cy="32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250920" y="1700280"/>
              <a:ext cx="3755880" cy="30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Two factors involved in the formation of pneumonia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pathogen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host defenses.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8" name="Picture 7" descr="pneumonias 2"/>
          <p:cNvPicPr/>
          <p:nvPr/>
        </p:nvPicPr>
        <p:blipFill>
          <a:blip r:embed="rId2"/>
          <a:stretch/>
        </p:blipFill>
        <p:spPr>
          <a:xfrm>
            <a:off x="4067280" y="1413000"/>
            <a:ext cx="4897440" cy="5256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030" descr="pneumonias 1"/>
          <p:cNvPicPr/>
          <p:nvPr/>
        </p:nvPicPr>
        <p:blipFill>
          <a:blip r:embed="rId1"/>
          <a:stretch/>
        </p:blipFill>
        <p:spPr>
          <a:xfrm>
            <a:off x="414360" y="304920"/>
            <a:ext cx="831528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Content Placeholder 2"/>
          <p:cNvGrpSpPr/>
          <p:nvPr/>
        </p:nvGrpSpPr>
        <p:grpSpPr>
          <a:xfrm>
            <a:off x="231840" y="573120"/>
            <a:ext cx="8461440" cy="5668920"/>
            <a:chOff x="231840" y="573120"/>
            <a:chExt cx="8461440" cy="5668920"/>
          </a:xfrm>
        </p:grpSpPr>
        <p:pic>
          <p:nvPicPr>
            <p:cNvPr id="71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231840" y="573120"/>
              <a:ext cx="8461440" cy="566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468360" y="692280"/>
              <a:ext cx="8147160" cy="547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000000"/>
                  </a:solidFill>
                  <a:uFillTx/>
                  <a:latin typeface="Baskerville Old Face"/>
                </a:rPr>
                <a:t>Pathophysiology : 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Baskerville Old Face"/>
                </a:rPr>
                <a:t>Inhalation or aspiration of pulmonary pathogenic organisms into a lung segment or lobe.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Baskerville Old Face"/>
                </a:rPr>
                <a:t>Secondary bacteraemia from a distant source,  Escherichia coli urinary tract infection and/or bacteraemia (Less common)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08:38:47Z</dcterms:created>
  <dc:creator>Dr.Fauzia</dc:creator>
  <dc:description/>
  <dc:language>en-US</dc:language>
  <cp:lastModifiedBy>3422</cp:lastModifiedBy>
  <dcterms:modified xsi:type="dcterms:W3CDTF">2014-02-12T06:40:40Z</dcterms:modified>
  <cp:revision>6</cp:revision>
  <dc:subject/>
  <dc:title>Pneumonia</dc:title>
</cp:coreProperties>
</file>