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png" ContentType="image/png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58DD-0DB1-4483-ABD5-C7131C6E54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78CF-17B0-44C9-9B6F-4DCDA4C81E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9CE-E692-42CF-8FC7-D5856CB642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743C-1861-4E0D-8B9A-EBBA31C3CE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205C-2013-4268-9650-8FB33D82DE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A5F-C471-4DAF-A342-9C7760F05AF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1CB9-7335-493D-9C06-D8DC2A2701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8637-C4C0-4662-8072-BAD20E265A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E85C-4F43-49B5-AF4D-31EB0B2A14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8BDE2-9A6C-4AD5-85D7-6E225C102E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D326-52B2-4725-B79B-844E76E882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1D75-35E7-4423-A2A8-82F67C1C92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8787-FD47-46C7-B01F-34002AFAD3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137E-3F90-43A3-86D4-41FBFD58D5B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B466-9545-43DA-8E21-CE6B01640A8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CA61-6DB8-4436-9919-B64A1C9F4B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CC5-D563-411F-8C68-8676A1405A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638C-A63F-4998-83A3-047B7025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EF9-E640-4D2E-8798-35DC558F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90FFC-750C-4816-BCAE-42F3B0CD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1EBF0-301E-4776-9CE8-7B226312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EA8AD-5C59-4C13-B1FD-549546F5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F2013-BE37-4D89-8C2C-DA06B50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69BC5-7CA4-4BDB-98F8-F5E7D63D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D0BCF-70E2-4E3D-9475-80BDEFD2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B30A5-5376-4EA9-87DB-33918232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A3C15-A3CC-4A1E-9D19-7CBF939A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579A0-F3CF-4159-93B5-54E119E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2F1E1-F94C-491F-ACDD-12FC84BA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C37-C6AB-4FD9-8907-657C3A7F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22192-43DE-4CD5-ABB5-DF7B5682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2A9A5-56EC-4F4A-943D-FD0D8900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B45F-2FF7-4998-AA30-192AC61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93E78-EBBF-4596-8DAA-566F5C1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377E4-DB32-4C3C-B722-1C9D8437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DEC1C-D752-490A-8818-78CF23A4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1AB4C-1707-49F3-A8E0-AB332C68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33497-5841-4514-A716-257E7165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32D4A-712C-4DB6-94DB-E739C3FD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56B23-EEA4-49BB-8F7F-1BB9752D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1A2-08A2-49D2-AD24-DE43F289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8F565-25C1-49D6-AB8C-FA8E0103C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8CDF7-DC8C-48C0-8282-8F999C5A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DF680-48A8-4D7C-8DA6-379ADF15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B0EDE-A818-46B9-89A6-D9D3CEE5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E27B3-64E2-47C0-9AAC-1E6C802A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FAB31-CAB1-4833-98A9-16806ADC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4DE46-8655-46FC-9608-D280E52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D8985-B33C-4CC7-963E-A696CBDE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F93E7-A65A-4BB2-8034-BC115A67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43BC8-EE76-4760-B3B8-51CAEF76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926D-5E42-49D7-9DE9-61CE665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D1D7-C3D8-45EB-8274-BDEC5256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30517-25DB-4597-8B5C-1DA88A80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2899-013E-4329-B156-C81B126E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ADF98-9616-4566-B9CC-D02B4A7A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7C597-8536-49B6-B141-B65038D4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69F30-FB45-4A45-8D05-39AE302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A5164-7707-4F7E-9B20-EC923281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040CD-44FC-40C6-A4F0-29361276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97B77-0C20-4915-AA08-B91502FC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77076-E7C6-4BEB-AC06-59C6139C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060B-CFE4-4062-9384-44CD0224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7BAA-AF1C-4A98-BE42-51745D90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074D6-4BF8-4576-BE51-4101E98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25C00-E9C3-4381-B00B-25087579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D1BE6-B99F-4057-8B1F-9CEF6DAF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EFD2A-64FC-46F5-9A82-EF5680C0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ED892-A926-42CF-920A-38DA6933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D92D8-90B2-4E68-8357-41C54F21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A09A5-5562-4128-9F19-7CC7A219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7E184D-11CF-4312-A49F-1BE0D6A0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376D-979E-4835-BE1E-FDDD0FB6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4754-5E5C-483C-B671-42AE2638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2376A-7CD9-4C13-84B7-2A633AE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F4AC6-0C69-408D-BFF5-312EE24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D2DC6-B0E9-40B4-ABF3-7E3F665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0A5CA-7A62-41C0-AC14-ECD365F2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E898F-C11A-4830-A954-19765E74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945CE-CDCE-469F-93D7-1374F3A8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D925D-8E00-46FF-9217-E4572C80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4266-A137-4C5B-AED4-3A4E6A24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22F1-F9D0-4BD7-BA7A-DF15DA9F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12B9-F5DD-46D7-8F36-509B81A5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3FB9-1A36-49B9-A736-789FD49C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14B-41D8-4C86-93EF-FBCDE4BF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CB07-E83B-499B-AFED-D3C1F1FF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B649-FC18-4BE6-B967-A7F6C330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E53A-DC8B-47F0-A581-F7D41447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D1DB-4B3D-4D6C-8E04-CD60DB76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B305-9616-46B5-911E-878A65CD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E5ADD-5767-4183-9247-914BF2D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5216-2B94-441F-B0B6-6D149AB29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5FA18-C0C5-410F-BCAC-2AD31F0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5AE2F-8006-4BC0-B8E6-87A19D28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D7F72-FDCC-4C7A-A885-97FAB517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217-3366-49F0-A8D0-05E38DB7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B5C4-3A34-402F-AD8C-A7DAF51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84DA-1A81-4DE6-81B9-2535260A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3F3A-3BD4-4BD9-B2B9-05CF70E9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4EF06-E3E9-4A60-9606-90ACC72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969A5-1DA6-4C0A-9447-C8EB50E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DCFC-D47A-410F-A7AC-992295238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66A5-74AF-43EC-BBE0-4255AE5D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4CFAF-198F-4F99-AA3F-483EA756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0D7BB-9C47-45D1-BC61-4CBFF4F3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3646E-282E-43C8-8D34-45240EEF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D64-0EB6-499A-A6C1-A70BC4F1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91E8-09E0-4B72-A230-4A4D2429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FBFE5-37B2-4CA0-90C6-55B2071A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EFC33-81A3-4D2C-9C36-49BBBB28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87766-3C8D-4B13-95AC-01857853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F151-8B98-4074-99E8-98CB80B8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9A7D-DBF9-4650-90AC-ACF17B3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3076-C748-44EB-B4D9-389F0ACE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8B2CF-9397-42C2-9B0D-D72EEE31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3D7E-5AEA-4E39-ADC1-45F1D401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ADC5F-EF1B-4E0E-8F6E-9440E3A2D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B30-325F-42C0-80AF-9EF1BD4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C65A-5AB2-4FE7-A1F3-0711C420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4C565-D3C7-4EA4-828B-A5ACC844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2B406-1A4B-40A3-B5F6-D7F0D61E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CB15-3BF4-4F5F-BDB3-A6D0E86C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A5C1-5452-4937-A960-25496B75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006E-C4D4-4503-AE62-8A478A34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6BDAE-1D9A-49E1-9415-B01091C7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36C11-5E15-455D-B935-265D41F1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C3670-66A1-40D9-B2E8-B75BB37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7560-A834-4A56-B649-A6C6EB08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C73-3E0C-4215-864F-B67D3164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5B8F-4989-4F45-9A59-5FB4805A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CCFAA-4B00-47FD-86A7-31CB92CE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A074C-0205-416F-B194-F4178761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4CA5B-D000-41F3-BD04-94CB5820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3360-6DAB-4930-9AAB-09AC8AA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327A0-B154-4919-BAB6-87520A00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6F5BC-AA04-42BD-BCBC-0811130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2DDCD-C4FC-44D0-8437-FDC9EDA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3EFBA-4891-4720-BAD6-3D5923BE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5784D-7D87-461E-875B-1E484AD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E4F-8101-4203-BD4F-4D7C87B0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6493C-7AAB-4D56-AE28-BD91306D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9C55A-98A2-42BF-8B84-D6F7B72E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C57E-11E4-4D80-8F22-807703CF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8A5B3-B847-4227-AE2B-4E684019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87EE-47F5-4F3F-BED1-50F3FEA5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8052-C5E3-4BE5-894A-9CB9824D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17C00-C5C9-412B-B301-CDB774D7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D7BFA-9C1E-4B5F-88BE-3962C45D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66E2-5923-4986-8AFB-E48768B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DB3A0-3CA8-4CA2-B29F-0FE6D37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D6DC-7B0A-432F-BBB5-587A9AD1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8E795-F64A-471F-9AF5-998F060A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B71B9-69BE-4B99-82FF-10D36A1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8304-EE59-4524-8FD5-CBAB0749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374B-1B49-4988-9E3A-8C4746BC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7B322-6775-4D43-97B7-56D36193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0069-D622-48FD-9950-63028EAB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8E012-0A72-4676-A12D-0B9A7D2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A3306-A27F-4D9E-AF6C-9B6D112F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FC9D2-6B5B-4647-B280-57994FC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6452-F27E-495D-9C52-7575F746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54D-D894-48FF-96E5-4EFCF2B8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F4402-9A08-4D77-B285-79A71C45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C8E7-0C22-4331-BA79-AC2497D3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4D8E-183F-45EC-BE32-C3B1CD6C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0BB14-064B-4F93-9576-8EE880F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00C35-B948-40D2-B6D5-2F7528F3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37770-E2B0-40BA-8E71-F613AB2A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7C4AB-575A-4561-BBC5-C9246FEE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1CA95A-A88F-4470-A072-AC9F7B2B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E328E-134B-4DAF-9FDF-AB12D7C0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922E08-1FF8-4DBC-A414-02046737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BF3E-C363-4875-95B9-0D94E11CDEF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380C-09FB-4143-8C77-72E0A8AA96A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EB76-7EDB-480E-93F3-C26BEC50620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B22-CECB-42C3-9D9A-B0D702FFD40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A8C-6291-4383-B9B1-BB9473138D8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739E-0C21-467B-8142-D3255F34D4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F7A6-2101-4054-9A3D-66BF4D87DC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2957-3B45-4286-8AC3-EBD025F0BA2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3C8F-E154-4C02-8A42-C7DB1C21D20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324C-C989-4B10-9E06-F2D36E5BFD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AB0E-F2EA-4C69-B954-336B55C88AE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E21C-3CBA-42D1-8DA0-742A216D92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D103-9417-4ECB-850A-80102E5C9E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514600" y="3886200"/>
          <a:ext cx="4572000" cy="13874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3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"/>
          <p:cNvGraphicFramePr/>
          <p:nvPr/>
        </p:nvGraphicFramePr>
        <p:xfrm>
          <a:off x="103320" y="304920"/>
          <a:ext cx="8964360" cy="6400800"/>
        </p:xfrm>
        <a:graphic>
          <a:graphicData uri="http://schemas.openxmlformats.org/drawingml/2006/table">
            <a:tbl>
              <a:tblPr/>
              <a:tblGrid>
                <a:gridCol w="4932360"/>
                <a:gridCol w="403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rcular muscle of i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io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liary muscl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accommodation for near 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ydria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cycloplegi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loss of 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dycardia (    H.R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 (     H.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9" name="Line 20"/>
          <p:cNvSpPr/>
          <p:nvPr/>
        </p:nvSpPr>
        <p:spPr>
          <a:xfrm>
            <a:off x="251460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1"/>
          <p:cNvSpPr/>
          <p:nvPr/>
        </p:nvSpPr>
        <p:spPr>
          <a:xfrm flipV="1">
            <a:off x="746748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1" name=""/>
          <p:cNvGraphicFramePr/>
          <p:nvPr/>
        </p:nvGraphicFramePr>
        <p:xfrm>
          <a:off x="179280" y="76320"/>
          <a:ext cx="8785440" cy="668160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of sweat, saliva, lacrimal, bronchial, intestina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al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Diarrhe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const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oconstri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bronchial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Bronchodila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Decrease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Line 19"/>
          <p:cNvSpPr/>
          <p:nvPr/>
        </p:nvSpPr>
        <p:spPr>
          <a:xfrm>
            <a:off x="5486400" y="3276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0"/>
          <p:cNvSpPr/>
          <p:nvPr/>
        </p:nvSpPr>
        <p:spPr>
          <a:xfrm flipV="1">
            <a:off x="468360" y="29714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1"/>
          <p:cNvSpPr/>
          <p:nvPr/>
        </p:nvSpPr>
        <p:spPr>
          <a:xfrm flipV="1">
            <a:off x="457200" y="3428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2"/>
          <p:cNvSpPr/>
          <p:nvPr/>
        </p:nvSpPr>
        <p:spPr>
          <a:xfrm>
            <a:off x="5410080" y="28195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5"/>
          <p:cNvSpPr/>
          <p:nvPr/>
        </p:nvSpPr>
        <p:spPr>
          <a:xfrm flipV="1">
            <a:off x="685800" y="5638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5334120" y="5638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228600" y="1327320"/>
            <a:ext cx="8664480" cy="53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N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ed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vomiting ce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rkinsonian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basal gangl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ermia - excitement-halluc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380880" y="76320"/>
            <a:ext cx="8458200" cy="1066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rmacological effect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in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152280" y="260280"/>
            <a:ext cx="8763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ovascular system (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(increase in heart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 conduction ( + ve dromotropic effec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d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sodilatation induced by cholinomim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vasodilat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ropine flush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ronchial muscles (broncho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6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67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mydr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aralysi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of circular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oplegia  (loss of near accommo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aralysi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f ciliary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light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.O.P # glauc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Dry mout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 sk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ver in infants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pasmodi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ina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 of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6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y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urred vision – mydr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V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ycardia - atropine fl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T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pation, paralytic i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retio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ness of mouth , sandy eye, increased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dation, halluc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ation (toxic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1000"/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6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6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f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l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nvul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ing blan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ot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 ( IV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anticholinester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320" y="333000"/>
            <a:ext cx="8991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Hyoscine (scopolam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re the differences between atropine and hyos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V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depressan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emetic action used in motion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amn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179280" y="932040"/>
            <a:ext cx="878544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should be able 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classification of anticholinergic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pharmacokinetics  and dynamics of muscarinic antago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effects of atropine on the major orga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the clinical uses of muscarinic antagon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adverse effect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contraindications of anticholiner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at least one antimuscarinic agent for each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special uses: mydriasis, cyclopedia, peptic ulcer &amp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11280" y="260280"/>
            <a:ext cx="792000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closure glauc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e hypertrophy in ol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1000"/>
                                        <p:tgtEl>
                                          <p:spTgt spid="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6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304920" y="762120"/>
          <a:ext cx="8686800" cy="5883120"/>
        </p:xfrm>
        <a:graphic>
          <a:graphicData uri="http://schemas.openxmlformats.org/drawingml/2006/table">
            <a:tbl>
              <a:tblPr/>
              <a:tblGrid>
                <a:gridCol w="2320920"/>
                <a:gridCol w="1869840"/>
                <a:gridCol w="44960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yosc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Motion sickness, antispasmodic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Benz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arkinson's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om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am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Fundus examination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pra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Respiratory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9907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hma, COPD, inha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irenze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Stom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eptic ul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Glycopyyrol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s in hypermot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Oxybutyn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rinary urgency, 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s of 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anesthetic med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 (Motion sick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&amp; CO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pasm as antispasmod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u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4560" y="99072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ntimuscarinic drugs reverse th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eostigmine on skeletal mus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11" descr="j0078711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 reverse action of cholinomimetics on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ful in many applications including intestinal spasm, urinary urgency, vomiting, parkinsonism, asthma and peptic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in constipation, Prostate hypertrophy, tachycardia and glauc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efini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rugs that block cholinerg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611280" y="260280"/>
            <a:ext cx="7920000" cy="806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962520" y="990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2362320" y="175248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236232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655308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308960" y="198108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388120" y="20574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nicot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6553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548640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4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7"/>
          <p:cNvGrpSpPr/>
          <p:nvPr/>
        </p:nvGrpSpPr>
        <p:grpSpPr>
          <a:xfrm>
            <a:off x="990720" y="2590920"/>
            <a:ext cx="2819160" cy="457200"/>
            <a:chOff x="990720" y="2590920"/>
            <a:chExt cx="2819160" cy="457200"/>
          </a:xfrm>
        </p:grpSpPr>
        <p:sp>
          <p:nvSpPr>
            <p:cNvPr id="559" name="Line 11"/>
            <p:cNvSpPr/>
            <p:nvPr/>
          </p:nvSpPr>
          <p:spPr>
            <a:xfrm>
              <a:off x="22860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990720" y="304812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Straight Connector 22"/>
          <p:cNvSpPr/>
          <p:nvPr/>
        </p:nvSpPr>
        <p:spPr>
          <a:xfrm>
            <a:off x="3809160" y="3048120"/>
            <a:ext cx="180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4"/>
          <p:cNvSpPr/>
          <p:nvPr/>
        </p:nvSpPr>
        <p:spPr>
          <a:xfrm flipH="1">
            <a:off x="990720" y="3048120"/>
            <a:ext cx="288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352680" y="4724280"/>
            <a:ext cx="3124440" cy="11430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0"/>
          <p:cNvSpPr/>
          <p:nvPr/>
        </p:nvSpPr>
        <p:spPr>
          <a:xfrm>
            <a:off x="426708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gli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670572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uromuscular bloc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7"/>
          <p:cNvSpPr/>
          <p:nvPr/>
        </p:nvSpPr>
        <p:spPr>
          <a:xfrm>
            <a:off x="152280" y="4724280"/>
            <a:ext cx="3124440" cy="121932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.g. atropine, hyos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4114800" y="20574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2666880" y="2819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2"/>
          <p:cNvSpPr/>
          <p:nvPr/>
        </p:nvSpPr>
        <p:spPr>
          <a:xfrm>
            <a:off x="5486400" y="2819520"/>
            <a:ext cx="144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4"/>
          <p:cNvSpPr/>
          <p:nvPr/>
        </p:nvSpPr>
        <p:spPr>
          <a:xfrm flipH="1">
            <a:off x="2666520" y="2819520"/>
            <a:ext cx="324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4800600" y="4495680"/>
            <a:ext cx="411480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228600" y="4495680"/>
            <a:ext cx="441972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33720" y="1371600"/>
            <a:ext cx="434340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04920" y="304812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ya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olam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lood brain barrier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have CNS 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6"/>
          <p:cNvSpPr/>
          <p:nvPr/>
        </p:nvSpPr>
        <p:spPr>
          <a:xfrm>
            <a:off x="228600" y="944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atural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609480" y="76320"/>
            <a:ext cx="79200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4"/>
          <p:cNvSpPr/>
          <p:nvPr/>
        </p:nvSpPr>
        <p:spPr>
          <a:xfrm>
            <a:off x="152280" y="1219320"/>
            <a:ext cx="899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Natural alkalo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of tropic acid and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tiary am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s : Atropine - Hyosc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ipid sol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lood brain barri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(have CNS 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609480" y="76320"/>
            <a:ext cx="792504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5410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9"/>
          <p:cNvSpPr/>
          <p:nvPr/>
        </p:nvSpPr>
        <p:spPr>
          <a:xfrm>
            <a:off x="304920" y="1523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457200" y="2133720"/>
            <a:ext cx="8534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picam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ren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op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yrr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buty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" dur="5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5201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competitive blockade of muscarinic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&amp; hyoscine can block all muscarinic receptors 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(not selective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User</cp:lastModifiedBy>
  <dcterms:modified xsi:type="dcterms:W3CDTF">2016-01-19T20:23:37Z</dcterms:modified>
  <cp:revision>41</cp:revision>
  <dc:subject/>
  <dc:title>Indirect cholinergic agonists</dc:title>
</cp:coreProperties>
</file>