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6AE-D324-41A0-9F82-52DC46E782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7BBE-C6A9-4FFC-9558-03A6A9EA6D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3F0-5531-4117-A2DF-69D0239008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975-A55F-4AAD-8719-ADF285859E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B959-F156-47F0-AD59-8DA7A1795F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BDA-96C5-44B7-A292-F804D8D98A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A97-C00E-4A41-A8BF-0BF26674F9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92E-636D-47E2-AD14-DAC502CB6A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968-C344-4108-A040-BD838D9102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4D48-441D-4295-A70E-69FE5FDE2D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5C85-D0D2-4580-9D3A-569437860B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86A-9C3C-4D6D-918C-D6C1F20C2F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9F15-AA0E-4748-9CF9-768FA77D8A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436A-65F5-4C6F-B676-06B14D12E7B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4DAF-E7C9-43BE-81E5-EB091FD29D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17B7-6AFA-4C3B-92C3-34ED695CB8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7EC-DDEE-42CB-A016-74BA2D4074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DEC-C230-46F8-BD20-39C5EFD6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D04-7051-417E-9FFC-4D968AF4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88139-3D61-494E-828D-318706A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F280D-E883-4E41-88D5-44429E2C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A1DCB-AABC-49B8-80AE-7B6F6B4B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4EA3-34CC-447C-A688-CEEBAF4E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CC1AD-7320-4407-9AB1-555DBB2D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4F96A-8888-4A4F-85A0-16F4890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06329-92A7-4D7D-B250-989080F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BF389-B0BE-45D6-AC88-EA29B0E6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A1E83-1161-4A38-BA43-A07A96D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CC997-508D-4296-8FA2-A17D6324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4DB-3E71-4CBA-B80B-F2FFEACF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39021-40B9-40B5-AC7B-8E1EFCDF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3406A-B808-44C2-B291-7C2B6090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FC2C8-6338-4933-B53A-014A789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B6DE7-B0BF-4032-AF0F-F3511AEB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29533-3FDB-429F-B4DB-0F48D9D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A09C8-20E4-49D6-B947-81DC3BB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7EF0D-B1AD-462B-80F1-8DA8640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64C85-20FB-4F75-A91C-5816414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A38FA-527C-4941-B4C8-DFFDB2A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64C7B-5B05-4630-B703-487F839A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262-28BE-47B2-9F2B-A5CDE8C6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81CD0-15B9-4EB3-8829-DF77C6A1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E38BC-5191-4FF9-B935-6995B5F2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49137-5325-4625-81A2-023ADD2B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67664-DBF0-4F44-9BA6-910FF62F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0BC5E-AD36-400A-A0EA-98C6F9C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9336C-2751-44D2-836E-22D133DC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7EE41-ECB8-4B9E-A2A2-8C001A40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F8178-5E08-422B-A4AD-0AA4E1A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86C8-D1D2-4705-AB9B-1FC62F1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DD781-B0B5-47FF-ADCF-4A6DDE5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2D6-7752-42AF-A964-22C78B8B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5A68A-5C4F-4A3D-BAF1-C388CF86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5FCCC-C215-4F4F-84B5-3D38D44E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2BEF-2113-4CF2-A489-CBE32841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DE7ED-CC75-49F9-BC4F-7B11EFED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A1CD7-D1C7-42DF-98CC-D8A0B213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1DC07-7D5E-4D4C-86F0-5C4B71C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8DE97-0443-42B4-9C72-598054C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A46DE-08D3-4C80-9856-883CBF6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40468-C501-4734-9B18-3BAD46D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73798-7E1D-4BE0-B738-E183AE4C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A678-6712-4DA1-A79F-FDEE4A1F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7FE9F-3135-4496-AEFD-E8ED3DE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14C4E-AF05-438D-A30A-8EB90E5A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7A960-02F1-4FDC-BD41-C1D2B4F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4A9BA-BCFF-46D4-A72E-FD95B3E3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508AE-D412-469D-9AC0-4565AEF3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CE95E-E65B-48BF-B922-4382F0BE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7221C-32EE-477E-80E3-09BF78DE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F7013-3448-4447-A301-637F83C5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4002A-9365-4539-9C30-DA70C50A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AA128-717C-426F-A4B6-97D00184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BEFE-F3C6-4AC5-ABCE-E1A38A1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8B7AA-2B29-497D-8E2B-0616356E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B3490-989E-4F0C-9EBE-E2A2D8C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D3D7E-7399-410F-A028-CF5700E4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403A5-12A5-46CE-8A87-0F5F34B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7C507-10E0-4D4D-9623-0D0D1491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3084A-E361-47EB-A656-B7915D1E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A437F-D05B-44C5-A241-96B428A5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441-BE1C-4FE7-9A33-B4930AD2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BCB-B1E6-42FB-AE23-BDE39420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8D05-4D18-430B-9699-2608C1EA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DFE-C713-49D5-ABBC-C687571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5E8-DB37-4ABC-BF50-6A46236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440D-9403-4E12-B679-2B1E767C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7979-8DDB-4720-8F24-B9E70BE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774-DDE9-4D7D-BF98-B383D1EC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F31-35EF-4C52-9202-814A6AF9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6D14-7830-4727-8E67-AD7AA652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CBFE-0882-4389-AE8D-0E320E65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EE0C-55BC-4656-B279-6C97B0A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9EDD-A81A-462F-9C56-49BD36AF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0848-85DA-48CE-A8B0-4AF54772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615A-31A8-4277-AEAB-7AD4714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B1F-4F42-4047-A0CA-C658080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E58C-E0B5-420B-BFE6-252F4FD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D5F8-338C-4846-8B5D-2076CCD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6B6C-BAD4-449F-AC96-636BE50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DDA0-10A0-465D-9FA7-14A0845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224A-3AC4-4574-8207-50B747F0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3A1B-6527-4F9D-A912-EA95DC22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FDA2-9203-4E6C-B746-A2351304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42F1-AB48-4CE0-B000-4822E795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BA19-1074-4B33-B8F0-49EB11FF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3319-C475-42AF-AED8-9267C83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6D9-5AB2-4699-9CFD-13B0934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4495-3483-429E-A212-8E1A721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EB3D-A695-452D-8725-AAC27114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1953-12A5-4160-B451-1D8E43CF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754F-C9D9-49BF-B53D-561EBD1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EA8E-1477-4E5E-B9C3-771CA31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16F4-031A-4BB2-9633-28AD46C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52D3-A5C7-4C4A-A547-6F38A1A1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1221-C632-438D-8C47-919A96ED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3C51-959F-4E1D-AE38-3423191B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CC55-D0DD-43B0-9515-0BD790B6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838-9DEA-4E8C-8DD4-EFD17AA3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4197-39F8-4805-8DB9-DEDDEE5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913E-1662-4D24-AC0C-6AC6CCBB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6D11-7518-4313-B0E0-22002FA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1F01E-71DB-406B-BB16-8FC40886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2F1F-3033-49EF-B3FB-DC5CECF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CC3C-7D49-498E-A378-E3439839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D2CD-209C-4584-B216-8449F89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38EF-5B5A-4799-ABD6-50548C8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1B27-8007-4E28-B66F-FCF7DC5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B1CA-53E0-4C46-B8EB-5C11F467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6E7-83CA-45DB-9E71-5507B8A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1AA5-C031-44F6-A305-4042EE15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BBF1C-9005-4572-9DD3-BA32801A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E13D5-AEDC-43C5-93E7-C54F88B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3548-8283-423B-BBD9-6C6BE2B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967C-2EB8-42F0-80BE-D5316048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76BE-F5CD-4F60-B812-8EF7254D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775F-858F-4CDF-9ACD-5578DFB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3B3EA-2019-4A9B-8BF9-FE1CFF4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552B9-2732-4896-9F4F-016C445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015D8-206D-4849-BEE6-05EBA26A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830-3EDE-4E03-9C0B-1601B72B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3E7B-9CB2-4FF4-8ECB-7CDB4D6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25CD1-4BCA-4C2F-89C9-2644DC3B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9D9C4-D212-4473-B9A7-23AB458D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428B9-C362-449B-800F-D0AFEEFC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6D465-80F8-493C-A5C2-0536BAC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B74A7-117E-4588-9873-CF1BB66D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F23D-C6B5-4520-A0DE-7EC51CA1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3466C-E090-4F5C-A014-97A347BA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42BC-F7B3-4BB1-A932-243196C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81B8-C2BF-4005-8575-E4CD52C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AAD-FC8D-4808-A50C-2041C4A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B18D-59D9-4C96-A670-FA46A8CD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275F-CA2F-46BE-824A-E681911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07450-5EA5-4CBF-A551-A951F61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314D4-C4AB-4DF5-8958-FA6528C8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3AE5A-78F5-46C8-890C-7CC5D50B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EF53-7234-45F6-BAAA-2C874791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F3F6D-DAFF-49FC-9530-57E0D08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6501-9ECD-401C-8B98-18CD48C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1F494-CC1B-4522-B720-7D98C8F9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96D9-8A1F-45FE-9030-B9CAC08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8E6-4B47-4B63-B678-10FE0EA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60F4-4CB8-40BB-A504-BE9B8D89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39C05-CE31-4B98-9742-C9309ED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27A0-5466-4909-9799-66E2AA1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DEDDC-CC1C-40A3-9496-46E729E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17ED2-D08A-4F3B-B1FE-0EE24663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44C3D-37AA-4673-9A8F-3A66EC54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6B66-B697-437A-9FB7-C40DF6C0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69D43-C946-4100-B242-062F83F3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B8055-6219-4A21-96B7-C6C078C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742FC-3EDD-4443-9F4F-6004DE07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f8c4"/>
              </a:gs>
              <a:gs pos="100000">
                <a:srgbClr val="f6fbd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9AB-8CE4-4902-8C17-ACFE3492B9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6953-7B3D-43C7-AA86-3CAAD4D4407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C1C-5C80-4251-B369-1C6109CF98E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1BE-ACF1-4A3C-8ED9-EE04385890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5C5-12FB-4769-A176-13CF48E36F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5DE3-B438-436A-AFC7-CDB2BB6568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252-D3A4-45BE-9FDE-90FEAB6CBE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5C25-08A3-452D-9E4A-B01CD4333E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E436-D5C2-4BA1-8762-6CBD607496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D41C-079C-4D12-BEC7-39639322B2C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F56-471A-4F22-8EF4-948851C30E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98F-29A3-4595-B0F6-740E62E1B6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2261-D205-4F9F-9728-56B4ADFEE2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514600" y="3886200"/>
          <a:ext cx="4572000" cy="13874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103320" y="304920"/>
          <a:ext cx="8964360" cy="6400800"/>
        </p:xfrm>
        <a:graphic>
          <a:graphicData uri="http://schemas.openxmlformats.org/drawingml/2006/table">
            <a:tbl>
              <a:tblPr/>
              <a:tblGrid>
                <a:gridCol w="4932360"/>
                <a:gridCol w="403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rcular muscle of i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io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liary muscl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accommodation for near 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ydria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cycloplegi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loss of accommo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dycardia (    H.R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 (     H.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ry 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9" name="Line 20"/>
          <p:cNvSpPr/>
          <p:nvPr/>
        </p:nvSpPr>
        <p:spPr>
          <a:xfrm>
            <a:off x="251460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1"/>
          <p:cNvSpPr/>
          <p:nvPr/>
        </p:nvSpPr>
        <p:spPr>
          <a:xfrm flipV="1">
            <a:off x="746748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179280" y="76320"/>
          <a:ext cx="8785440" cy="6681600"/>
        </p:xfrm>
        <a:graphic>
          <a:graphicData uri="http://schemas.openxmlformats.org/drawingml/2006/table">
            <a:tbl>
              <a:tblPr/>
              <a:tblGrid>
                <a:gridCol w="4548240"/>
                <a:gridCol w="4237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80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of sweat, saliva, lacrimal, bronchial, intestina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 al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Diarrhe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const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nchoconstri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bronchial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Bronchodila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Decrease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Line 19"/>
          <p:cNvSpPr/>
          <p:nvPr/>
        </p:nvSpPr>
        <p:spPr>
          <a:xfrm>
            <a:off x="5486400" y="3276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468360" y="29714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1"/>
          <p:cNvSpPr/>
          <p:nvPr/>
        </p:nvSpPr>
        <p:spPr>
          <a:xfrm flipV="1">
            <a:off x="457200" y="3428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2"/>
          <p:cNvSpPr/>
          <p:nvPr/>
        </p:nvSpPr>
        <p:spPr>
          <a:xfrm>
            <a:off x="5410080" y="28195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5"/>
          <p:cNvSpPr/>
          <p:nvPr/>
        </p:nvSpPr>
        <p:spPr>
          <a:xfrm flipV="1">
            <a:off x="685800" y="5638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5334120" y="5638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228600" y="1327320"/>
            <a:ext cx="8664480" cy="53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N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ed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vomiting ce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rkinsonian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basal gangl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ermia - excitement-halluc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380880" y="76320"/>
            <a:ext cx="8458200" cy="1066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rmacological effect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ropin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152280" y="260280"/>
            <a:ext cx="8763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diovascular system (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(increase in heart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 conduction ( + ve dromotropic effec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d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sodilatation induced by cholinomim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vasodilat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ropine flush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bronchial muscles (bronchodi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67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mydr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aralysi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of circular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oplegia  (loss of near accommod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aralysi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f ciliary mus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light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.O.P # glauc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r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Dry mouth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 sk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ver in infants and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64480" cy="6369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motilit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spasmodic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ina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 of urinary blad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y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urred vision – mydr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V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ycardia - atropine fl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T: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ipation, paralytic i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retio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ness of mouth , sandy eye, increased body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dation, halluc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ation (toxic d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 of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l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onvul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ing blan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ot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stigmine  ( IV slow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ng anticholinester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320" y="333000"/>
            <a:ext cx="8991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Hyoscine (scopolam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re the differences between atropine and hyos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in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V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 depressan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emetic action used in motion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amn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179280" y="932040"/>
            <a:ext cx="878544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students should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should be able to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classification of anticholinergic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pharmacokinetics  and dynamics of muscarinic antago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effects of atropine on the major orga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the clinical uses of muscarinic antagon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dverse effect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contraindications of anticholiner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t least one antimuscarinic agent for each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special uses: mydriasis, cyclopedia, peptic ulcer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inso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611280" y="260280"/>
            <a:ext cx="792000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closure glauco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te hypertrophy in old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a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04920" y="762120"/>
          <a:ext cx="8686800" cy="5883120"/>
        </p:xfrm>
        <a:graphic>
          <a:graphicData uri="http://schemas.openxmlformats.org/drawingml/2006/table">
            <a:tbl>
              <a:tblPr/>
              <a:tblGrid>
                <a:gridCol w="2320920"/>
                <a:gridCol w="1869840"/>
                <a:gridCol w="44960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yosc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Motion sickness, antispasmodic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Benz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arkinson's dis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om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am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Fundus examination of 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Ipra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Respiratory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9907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thma, COPD, inha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irenze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Stom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eptic ul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Glycopyyrol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s in hypermot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Oxybutyn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rinary urgency, Urinary incontin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s of 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inical uses of antimuscarin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anesthetic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ins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ing (Motion sick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&amp; CO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spasm as antispasmod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u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4560" y="99072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ntimuscarinic drugs reverse th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eostigmine on skeletal mus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1" descr="j0078711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 reverse action of cholinomimetics on muscar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ful in many applications including intestinal spasm, urinary urgency, vomiting, parkinsonism, asthma and peptic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ntraindicated in constipation, Prostate hypertrophy, tachycardia and glauc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Questions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fin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rugs that block cholinerg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611280" y="260280"/>
            <a:ext cx="7920000" cy="806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962520" y="990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>
            <a:off x="2362320" y="175248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236232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655308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308960" y="198108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388120" y="20574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nicot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65530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2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548640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4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7"/>
          <p:cNvGrpSpPr/>
          <p:nvPr/>
        </p:nvGrpSpPr>
        <p:grpSpPr>
          <a:xfrm>
            <a:off x="990720" y="2590920"/>
            <a:ext cx="2819160" cy="457200"/>
            <a:chOff x="990720" y="2590920"/>
            <a:chExt cx="2819160" cy="457200"/>
          </a:xfrm>
        </p:grpSpPr>
        <p:sp>
          <p:nvSpPr>
            <p:cNvPr id="559" name="Line 11"/>
            <p:cNvSpPr/>
            <p:nvPr/>
          </p:nvSpPr>
          <p:spPr>
            <a:xfrm>
              <a:off x="2286000" y="259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990720" y="3048120"/>
              <a:ext cx="28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Straight Connector 22"/>
          <p:cNvSpPr/>
          <p:nvPr/>
        </p:nvSpPr>
        <p:spPr>
          <a:xfrm>
            <a:off x="3809160" y="3048120"/>
            <a:ext cx="180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4"/>
          <p:cNvSpPr/>
          <p:nvPr/>
        </p:nvSpPr>
        <p:spPr>
          <a:xfrm flipH="1">
            <a:off x="990720" y="3048120"/>
            <a:ext cx="288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3352680" y="4724280"/>
            <a:ext cx="3124440" cy="11430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0"/>
          <p:cNvSpPr/>
          <p:nvPr/>
        </p:nvSpPr>
        <p:spPr>
          <a:xfrm>
            <a:off x="426708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gli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670572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uromuscular bloc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7"/>
          <p:cNvSpPr/>
          <p:nvPr/>
        </p:nvSpPr>
        <p:spPr>
          <a:xfrm>
            <a:off x="152280" y="4724280"/>
            <a:ext cx="3124440" cy="121932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.g. atropine, hyos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4114800" y="20574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2666880" y="28195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2"/>
          <p:cNvSpPr/>
          <p:nvPr/>
        </p:nvSpPr>
        <p:spPr>
          <a:xfrm>
            <a:off x="5486400" y="2819520"/>
            <a:ext cx="144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4"/>
          <p:cNvSpPr/>
          <p:nvPr/>
        </p:nvSpPr>
        <p:spPr>
          <a:xfrm flipH="1">
            <a:off x="2666520" y="2819520"/>
            <a:ext cx="324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4800600" y="4495680"/>
            <a:ext cx="411480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7"/>
          <p:cNvSpPr/>
          <p:nvPr/>
        </p:nvSpPr>
        <p:spPr>
          <a:xfrm>
            <a:off x="228600" y="4495680"/>
            <a:ext cx="441972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133720" y="1371600"/>
            <a:ext cx="434340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04920" y="304812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ya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in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ola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lood brain barrier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have CNS 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228600" y="944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tural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609480" y="76320"/>
            <a:ext cx="79200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152280" y="121932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Natural alkal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of tropic acid and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tiary am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as : Atropine - Hyosc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ipid sol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lood brain barrier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have CNS 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609480" y="76320"/>
            <a:ext cx="792504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541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9"/>
          <p:cNvSpPr/>
          <p:nvPr/>
        </p:nvSpPr>
        <p:spPr>
          <a:xfrm>
            <a:off x="304920" y="1523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609480" y="76320"/>
            <a:ext cx="7925040" cy="1218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457200" y="2133720"/>
            <a:ext cx="8534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icam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enze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op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pyrr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buty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5201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competitive blockade of muscarinic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&amp; hyoscine can block all muscarinic receptors 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(not selective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23:15Z</dcterms:created>
  <dc:creator>Marcelo</dc:creator>
  <dc:description/>
  <dc:language>en-US</dc:language>
  <cp:lastModifiedBy>User</cp:lastModifiedBy>
  <dcterms:modified xsi:type="dcterms:W3CDTF">2016-01-19T20:23:37Z</dcterms:modified>
  <cp:revision>41</cp:revision>
  <dc:subject/>
  <dc:title>Indirect cholinergic agonists</dc:title>
</cp:coreProperties>
</file>