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4.png" ContentType="image/png"/>
  <Override PartName="/ppt/media/laser.wav" ContentType="audio/x-wav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51F-8A5A-4DD9-A126-003068B0A1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DD08-42EF-48DA-94C5-B8E637DEF9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8847-8D73-4631-B147-2FF692F3FC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347-0A3C-44C5-85AC-3E2E258F71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07E-5331-4194-B6E1-707314B2C7C3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F22-2A1F-4506-A6BA-F4A15F84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198-0AAC-41D4-9B66-F6C73B89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9754-7E75-464D-B460-D72100A4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94B-E32D-4183-A865-71398D8F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617C-211E-495B-A6B3-8EEC27AF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A2D7-ADE2-4975-83F3-3B07D95F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16A-740A-484A-AFEE-8B64217F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E27-BF5F-492D-9129-09D19037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F7E-85C6-4427-9523-10B2630C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1156-DC6F-4CED-B295-D5C12DB3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F0F-AABE-4E3A-8BEF-5A17663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6DF-D9AC-4E45-B1E8-3448738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9177-3D4F-4677-9612-745418BFCB0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5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use as a rescue medicatio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bronchial airway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ggers (as pollen grains, cold air and tobac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e, animal fu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1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1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9c007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okalemi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ten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1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10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10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teoporos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 from 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 as immunosuppressa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1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1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 of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1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10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6" dur="1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023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623880" y="634536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opd_2010"/>
          <p:cNvPicPr/>
          <p:nvPr/>
        </p:nvPicPr>
        <p:blipFill>
          <a:blip r:embed="rId1"/>
          <a:stretch/>
        </p:blipFill>
        <p:spPr>
          <a:xfrm>
            <a:off x="166680" y="279360"/>
            <a:ext cx="858672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676760" y="187200"/>
            <a:ext cx="43322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 e.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, leukotrie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or irri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inf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nervation of respiratory syste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da xD</dc:creator>
  <dc:description/>
  <dc:language>en-US</dc:language>
  <cp:lastModifiedBy>Hanan Hagar</cp:lastModifiedBy>
  <dcterms:modified xsi:type="dcterms:W3CDTF">2016-01-28T05:40:57Z</dcterms:modified>
  <cp:revision>228</cp:revision>
  <dc:subject/>
  <dc:title>PowerPoint Presentation</dc:title>
</cp:coreProperties>
</file>