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4.png" ContentType="image/png"/>
  <Override PartName="/ppt/media/laser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3BC6-301B-4D76-AF12-6D8D79F496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94DB-72DB-47B3-99DA-857B5B608B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6EF8-4760-4AEC-B893-90D3C0DAE5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421C-8D06-45E3-A207-FB7C03A506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4C02-D611-4C9B-8323-50E3958EE4F7}" type="slidenum">
              <a:rPr b="0" lang="ar-E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A75-FBF3-410E-B848-B9CEE4CA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FCB-952A-46E3-AE7B-DE52E6BC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3CE-15BE-4B92-B796-FB0D3374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0B0-1832-49DB-8E58-CAAA325D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B6C-39C4-4F86-93B7-A7134BC7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27B-8893-4D79-B4FE-0FC75060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06D-020E-4738-B528-954842C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392-E9FD-454E-93ED-E19A2B4E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DF1-3960-4706-8AEA-F7938CFE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B66-3FD6-447A-BE44-49007102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9FA-F171-4B43-84B1-4E967FC5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7FD-C12A-403A-A582-2464E85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1EEA-4411-4707-9B17-C80DFDCF0AB3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382920" y="2556000"/>
            <a:ext cx="2286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6" descr="respiratory"/>
          <p:cNvPicPr/>
          <p:nvPr/>
        </p:nvPicPr>
        <p:blipFill>
          <a:blip r:embed="rId1"/>
          <a:stretch/>
        </p:blipFill>
        <p:spPr>
          <a:xfrm>
            <a:off x="252360" y="249120"/>
            <a:ext cx="86518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Quick relief medications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s of asthm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Control therapy (prophylactic drug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 attacks, and nocturnal awakenings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produce rapid relief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onchodil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- isoprena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 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2160" y="166320"/>
            <a:ext cx="87836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M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creasing 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68200" y="66600"/>
            <a:ext cx="8685360" cy="66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, S.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cute anaphylaxis 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080" y="114120"/>
            <a:ext cx="8775720" cy="65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meterol, formo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5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7200" y="258840"/>
            <a:ext cx="8694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be able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drugs used for treatment of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e between treatment and prophylactic therapy for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different types of bronchodilators regarding pharmacokinetics, pharmaco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anti-inflammatory drugs for asthma in respect to kinetics, 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ute attack of asthma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rugs of choic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 due to  high lipid solubility (creates depot effec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octurnal asth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6600" y="182520"/>
            <a:ext cx="898848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disorders as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dose may produce tachycardia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 – T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(pol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enter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minimal systemic 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2160" y="175680"/>
            <a:ext cx="882828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 only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 &amp; 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use as a rescue medica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- aminophylli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nosine receptors antagonists 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63440" y="1994040"/>
            <a:ext cx="2446560" cy="8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5259240" y="977760"/>
            <a:ext cx="2490840" cy="41148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5194440" y="3230640"/>
            <a:ext cx="3112920" cy="50616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23"/>
          <p:cNvSpPr/>
          <p:nvPr/>
        </p:nvSpPr>
        <p:spPr>
          <a:xfrm flipH="1">
            <a:off x="2619000" y="245412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5508720" y="1504800"/>
            <a:ext cx="25714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+  </a:t>
            </a: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5910120" y="4362480"/>
            <a:ext cx="22640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Straight Connector 21"/>
          <p:cNvSpPr/>
          <p:nvPr/>
        </p:nvSpPr>
        <p:spPr>
          <a:xfrm>
            <a:off x="5821200" y="2898720"/>
            <a:ext cx="1438560" cy="133848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Straight Connector 23"/>
          <p:cNvSpPr/>
          <p:nvPr/>
        </p:nvSpPr>
        <p:spPr>
          <a:xfrm flipH="1">
            <a:off x="5877000" y="2754360"/>
            <a:ext cx="1170000" cy="146052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33200" y="123840"/>
            <a:ext cx="88776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2560" y="190080"/>
            <a:ext cx="8739000" cy="651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phy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 &amp; rifamp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↓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rrow safety marg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insomnia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onchial 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bronchial airway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ggers (as pollen grains, cold air and toba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, animal fu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hylactic therap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drug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ma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 - inflammatory dru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inflammation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00160" y="182520"/>
            <a:ext cx="88027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 du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cep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168120" y="157320"/>
            <a:ext cx="878688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 of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suppressant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9c007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↑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catabolism, </a:t>
            </a:r>
            <a:r>
              <a:rPr b="0" lang="en-US" sz="32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tein an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poly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ocorticoid eff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/fluid ret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otassium excre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okalemia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lood volum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erten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1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changes: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los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steoporosi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one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um absorption from G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metered-dose inhale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first pass metabo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6680" y="166680"/>
            <a:ext cx="873432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steroids should be consid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dult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ny of the following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inhaled 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gonists three times/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week or mor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ak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e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inical Uses of glucocortico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sthma, rheumatoid arthriti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ve colitis, psoriasis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fter organ or bone marrow transplantation as immunosuppressa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ncer chemotherap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  <p:sndAc>
      <p:stSnd>
        <p:snd r:embed="rId1" name="laser.wav"/>
      </p:stSnd>
    </p:sndAc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 the airways to any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,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smooth muscl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4840" y="212760"/>
            <a:ext cx="87818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due to systemic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suppress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retardation in child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ceptibility to inf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or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retention, weight gain, hyperten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distrib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ra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 of systemic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renal insufficiency syndrom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glycate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82520" y="194760"/>
            <a:ext cx="881712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airways (eosinophils, macrophages, mast cel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rachidonic aci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↑ mucus secre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mont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pran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aring eff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10600" y="132840"/>
            <a:ext cx="869004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5920" y="239760"/>
            <a:ext cx="877428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given by injection (s.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moderate to severe allergic asthma which does not respond to high doses of 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023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623880" y="634536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http://callisto.ggsrv.com/imgsrv/FastFetch/UBER1/ZI-5RLS-2012-JUN12-IDSI-2-1"/>
          <p:cNvPicPr/>
          <p:nvPr/>
        </p:nvPicPr>
        <p:blipFill>
          <a:blip r:embed="rId1"/>
          <a:stretch/>
        </p:blipFill>
        <p:spPr>
          <a:xfrm>
            <a:off x="141120" y="374760"/>
            <a:ext cx="8944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9720" y="2599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 used in chronic obstructive pulmonary disease (COP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5120" y="1436400"/>
            <a:ext cx="875376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P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hronic irreversib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flow obstruction, lung damage and inflammation of the air sacs (alveoli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high risk factor but air pollution and genetic factors can contrib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opd_2010"/>
          <p:cNvPicPr/>
          <p:nvPr/>
        </p:nvPicPr>
        <p:blipFill>
          <a:blip r:embed="rId1"/>
          <a:stretch/>
        </p:blipFill>
        <p:spPr>
          <a:xfrm>
            <a:off x="166680" y="279360"/>
            <a:ext cx="858672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3560" y="390600"/>
            <a:ext cx="87454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Treat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lly macrolides such as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zithr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the number of exacerbations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 transplant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8280" y="195120"/>
            <a:ext cx="896328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ed bronchodilator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antimuscarin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atropium &amp; tiotrop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uperior to β2 agonist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be used either alone or comb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+ ipratrop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 + Tiotropiu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ng acting-less dose frequen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>
            <a:lum bright="-18000"/>
          </a:blip>
          <a:srcRect l="21484" t="4934" r="15625" b="0"/>
          <a:stretch/>
        </p:blipFill>
        <p:spPr>
          <a:xfrm>
            <a:off x="114480" y="25560"/>
            <a:ext cx="8894520" cy="680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10960" y="274680"/>
            <a:ext cx="293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4960" y="635040"/>
          <a:ext cx="8672760" cy="5883120"/>
        </p:xfrm>
        <a:graphic>
          <a:graphicData uri="http://schemas.openxmlformats.org/drawingml/2006/table">
            <a:tbl>
              <a:tblPr/>
              <a:tblGrid>
                <a:gridCol w="3533760"/>
                <a:gridCol w="3578400"/>
                <a:gridCol w="156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2 agonists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, terbutal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in choic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 acute attack of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yl cy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, formote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acting, Prophylax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turnal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ntimuscarin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ratropium (Sho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tropium (lo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 drugs For CO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s M recepr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anthine deriv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arente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s phosphodiester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57"/>
          <p:cNvSpPr/>
          <p:nvPr/>
        </p:nvSpPr>
        <p:spPr>
          <a:xfrm>
            <a:off x="450720" y="68400"/>
            <a:ext cx="84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(relievers for bronchospa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2240" y="635040"/>
          <a:ext cx="8745480" cy="5979960"/>
        </p:xfrm>
        <a:graphic>
          <a:graphicData uri="http://schemas.openxmlformats.org/drawingml/2006/table">
            <a:tbl>
              <a:tblPr/>
              <a:tblGrid>
                <a:gridCol w="5913360"/>
                <a:gridCol w="28321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rticosteroi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hibits phospholipase A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amethasone, Fluticasone, budeson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iso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ortis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e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t stabil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moglycate (Cromolyn), Nedocro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, prophylaxis in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ysteinyl antagonis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yLT1 antagoi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firlukast, monteluk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malizumab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IgE antibod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ection,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6"/>
          <p:cNvSpPr/>
          <p:nvPr/>
        </p:nvSpPr>
        <p:spPr>
          <a:xfrm>
            <a:off x="573120" y="0"/>
            <a:ext cx="74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(prophylac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4676760" y="187200"/>
            <a:ext cx="43322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Rectangle 2"/>
          <p:cNvSpPr/>
          <p:nvPr/>
        </p:nvSpPr>
        <p:spPr>
          <a:xfrm>
            <a:off x="0" y="222120"/>
            <a:ext cx="46767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 hyper-re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genous inflammatory mediators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, leukotrie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 chemicals or irri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inf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ck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nervation of respiratory syste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da xD</dc:creator>
  <dc:description/>
  <dc:language>en-US</dc:language>
  <cp:lastModifiedBy>Hanan Hagar</cp:lastModifiedBy>
  <dcterms:modified xsi:type="dcterms:W3CDTF">2016-01-28T05:40:57Z</dcterms:modified>
  <cp:revision>228</cp:revision>
  <dc:subject/>
  <dc:title>PowerPoint Presentation</dc:title>
</cp:coreProperties>
</file>