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8DAE-2AC9-4A74-864D-F4A8A64D8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1D6C-ED1A-4809-8586-60EAF4B243DF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8057-D9B6-4931-BC7A-651E0B18ECC4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A75F-0BEA-491A-8AA5-A41590695ED4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0171-E1E9-4971-A546-972C336C58B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69B4-68BC-4061-B896-56E4855F5AFF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BBB9-6439-46FA-ABB8-F5BE4AFFB8A0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5997-3BA1-4884-8A00-76CDBA2DC5D0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0977-5FBF-44B2-84C6-25BCA9773FCE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A177-000D-4B50-BB7A-09678ABAC350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8F18-E0C4-4454-8A08-C595E3137708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E995-5835-4773-8043-4FF6E7AB72EC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F697-723E-47DC-983F-532619F6CEB2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BEB2-5037-4DC8-BD9C-396A0211E602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F04E-BCCA-47DB-9E99-B54DDD1C0F28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A32-3FF4-4081-882F-9461C903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DB6-CFA7-4B7A-BC84-99D3A00F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256-AFE7-4559-86C5-924E0D4E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07E-E64B-4837-9D87-1660A0FB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B065-3815-4C61-8F4E-A4EA61FE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6092-5CD5-4B70-934A-1335248F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7E6D-140B-4BBE-B8DB-3821745F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E007-A4C7-48C6-9781-0F75CB3E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BD00-3EC2-4540-AF6A-51EE1E36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4973-08AD-4A24-A202-24010C83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5B8B-182F-4B81-A6C7-565BBDB7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45B-2445-43FA-985D-62D2108D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0136-525D-42F8-973D-B7048FB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A05E-BC80-4E97-97BB-048F4E7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36CC-DBEF-4176-8AE6-EAD4CC04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E36E-9E6B-433F-8D75-D3EB06A7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5A4B-09FA-42D5-839A-475115AA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AE1-594E-4589-A4E1-0A33F98A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A01-1388-4252-AD3E-424CA650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F02-42C9-45A2-9290-08171E4C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890-748D-48C9-927F-81106BD3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FC6-01CC-48E1-85A3-014596CA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D29-05CC-466E-9201-483CE4FA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05C-21C7-41FA-89B1-A5882F25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52FC-C4E4-4993-B162-37B7B40684A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A743-0DBA-43F7-B398-46FDDD7B549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oduction to Antibiotic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rof. Mohammad Alhumayyd</a:t>
            </a:r>
            <a:br>
              <a:rPr sz="36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harmacology Depart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Drug All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Potential Side Effect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Drug safety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loramphenicol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a plastic ana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oroquinolones in children&amp;Preg.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tendon damag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t of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imes New Roman"/>
              </a:rPr>
              <a:t>Emperic therap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SUSES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eatment of untreatable infections ( wrong diagnos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Improper do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herapy of fever of unknown orig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Presence of  pus or necrotic tissues , or blood at the surgical si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Excessive use of prophylactic antibiotic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avel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Lack of adequate bacteriological                           inform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3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Bacterial  Resistanc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result of the widespread use of antibiotics has been the emergence of resistant pathogens that have been sensitive in the pa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onc of antibiotic required to inhibit or kill the bacteria is greater than the conc that can safely be achieved in the plas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Acquired Antibiotic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960" y="1600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Inactivation by enzyme produc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l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lactamase inactivates penicillins &amp; cephalosporins by cleaving the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lactam ring of the dru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568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cteria develops an altered receptor for the drug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Bacteria develops an altered metabolic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 Reduced bacterial permeability to antibio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 Actively transporting the drug out of the ce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evention of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only when absolutely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in adequate dosage for sufficient             perio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brief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prolonged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xceptions,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Combination of antibiotics may be required to        delay resistance (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General Principles of Chemotherapy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minister drug i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ull do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a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oper interv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by the  b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st ro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 apparent cure achieved , continue antibiotic for  about 3 days further to avoid  relap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ipping doses may decrease effectiveness of antibiotic &amp; increase the incidence  of bacterial res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Principles of Chemotherapy(con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cc"/>
                </a:solidFill>
                <a:latin typeface="Times New Roman"/>
              </a:rPr>
              <a:t>Two or more antimicrobials should not be used without good  reason, e.g.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xed bacterial (polymicrobial)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perately ill patient of unknown et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prevent emergence of resistance (e.g. TB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chieve synerg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g.piperacillin+gentamicin(p. aeruginosae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advantages of multiple antibio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sensitivity or 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colonization with a resi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ility of antago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gher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eneral principles ( Cont. 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some infections bacteriological proof of cure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rable ( e.g. TB, UTI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 of plasma conc. of antibiotics is seld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ed, except. streptomycin in renal TB; I.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tamic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ntibiotics prophylax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rgical prophylax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wel surgery, joint replacement, and some gynecological 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prevent postoperative infection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munosuppressed  Pati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ery old, very youn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abetics, Anaemics, AIDS pts ,Cancer p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ntal extr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total joint replac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cardiac abnorm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efinition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3120" y="1988640"/>
            <a:ext cx="8229600" cy="4526280"/>
          </a:xfrm>
          <a:prstGeom prst="rect">
            <a:avLst/>
          </a:prstGeom>
          <a:noFill/>
          <a:ln cap="sq" w="12600">
            <a:solidFill>
              <a:srgbClr val="ff66ff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substances produced by various microorganisms (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, fungi, actinomycetes)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at have the capacity to inhibit or destroy other microorg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Now a day they are chemically synthesiz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either kill bacteria(bactericidal) or keep more bacteria from growing(bacteriostati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ntibiotics will not cure infections caus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vir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ANTIBIOTIC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CORDING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CELL WALL SYNTHES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Penicillins, Cephalospor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PROTEIN SYNTHESIS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crolides, Tetracyc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DNA SYNTHESIS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Quinol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FOLATE METABOLIS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Sulphonamides, Trimethop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RNA synthesis by binding to RNA polymera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Rifampic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ording to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rrow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nicillin 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inoglyco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oad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picillin  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oxicil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oice of Antibio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959120" y="19000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A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Clinical 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4568"/>
                </a:solidFill>
                <a:latin typeface="Times New Roman"/>
              </a:rPr>
              <a:t>(e.g.,syphyl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 flipH="1">
            <a:off x="1547280" y="2924280"/>
            <a:ext cx="180036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36360" y="4437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Microbiological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716360" y="2997360"/>
            <a:ext cx="172728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983120" y="44928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Pharmacological 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995640" y="4941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acteriological in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xact antibiotic to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st effective and reject the one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 little or no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east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hea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cteria isolated may not be the prime cause    of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 not take in consideration site of 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 bacteria cannot be cultivated or take time     to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.g. M. Leprae, M. Tuberculosi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teriological services are not available at all       hospita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oice of Antibiotics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rmacological consi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Site o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fection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ost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) Immune system e.g. Alcoholism, diabetes, HIV, malnutrition, advanced age-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higher than usual doses or longer courses are required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) Genetic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Patients with G-6-PD deficiency treated with sulfonamides and chloramphenicol 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Hemolysis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egnancy and Lac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inoglycoside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hearing loss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racyclines     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bone deform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Age of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Grey baby Syndrome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chloramphenic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Renal fun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Aminoglycoside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renal fail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)Liver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Erythromycin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(hepatic failure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7:11:28Z</dcterms:created>
  <dc:creator>DTK</dc:creator>
  <dc:description/>
  <dc:language>en-US</dc:language>
  <cp:lastModifiedBy>kk105041</cp:lastModifiedBy>
  <cp:lastPrinted>2015-02-10T10:44:32Z</cp:lastPrinted>
  <dcterms:modified xsi:type="dcterms:W3CDTF">2016-02-04T05:05:50Z</dcterms:modified>
  <cp:revision>221</cp:revision>
  <dc:subject/>
  <dc:title>CHEMOTHERAPY</dc:title>
</cp:coreProperties>
</file>