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30B6-A880-4A29-A4DA-450A7437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7277-2B37-4AF6-8949-42D23E120A7E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3CC0-77CD-4B96-BD16-668687A6DFB4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E951-48AC-4BFD-8DA6-5EE33106DA39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B027-33F8-46A7-BD8F-B25910DB1882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6D90-5EE5-4698-93AD-F0B41869C5D5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4205-DEEF-436A-B9D3-3C2AF73E776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0D39-FBA7-4374-91DE-18D5E5D8913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22F8-9AA1-4270-A207-537A0F1083A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F044-A209-4095-9EE4-AC6A07B6C339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8CB4-BD8A-447F-AA1F-B6AE8E2F8C37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07F8-9F82-43C2-8DE3-DB4AB2E65A21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5A2D-CE23-4D87-A0C7-52A37271C4C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C7DB-1FE9-47B8-BA38-0A90FE2D7745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0227-9E5B-4792-B27E-173175E07BCE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4C8-4002-4358-B667-C4F237BEC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A55-70BC-4A3B-AC6D-442D85BF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215-8E14-402F-B23C-41D22F55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A4D-7278-4DEE-8CBC-41DC9002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A463-7C7A-49B8-9656-F30BCA2C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DCED-A592-4EDF-8033-8053BDB2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00F4-6D52-45A5-B083-982B199A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5F1-E953-436D-8870-6BBD647F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7D09-3E4A-448A-B94E-C5C69333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1D2D-D9C0-4983-8FC7-50567225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9A45-FE77-4671-92F5-8FF2CA1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58A-1D8A-4381-98D4-1A31344C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E751-5CCD-4893-BA70-DA6B5FD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858F-8985-482D-8863-89C5CECA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7B9E-F196-4C7E-927D-6C850677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9AAC-5159-4741-90FD-DD195A102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B57E-2E47-47F9-831A-2CB21A48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0C8-0029-4A76-968D-5C848592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ACD-9E6D-42B8-AC5A-CDF8D794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35D4-6A70-446E-8377-C7523DD6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C65-4E53-4466-9A6D-DB92540C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A46-0E6F-4C3C-9A59-75B12AF7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585-DDBD-4DC2-9E66-2FF36F57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A234-350F-4DC8-AA6A-450268F9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3850-B4F7-4CB7-8023-5880133760E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B518-0441-4576-8C66-78653A2E1E3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 to Antibiotic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rof. Mohammad Alhumayyd</a:t>
            </a:r>
            <a:br>
              <a:rPr sz="36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harmacology Depart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Drug All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Potential Side Effect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Drug safety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loramphenicol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a plastic ana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oroquinolones in children&amp;Preg.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tendon damag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t of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Emperic thera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SUSES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eatment of untreatable infections ( wrong diagnos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Improper do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herapy of fever of unknown orig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Presence of  pus or necrotic tissues , or blood at the surgical si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xcessive use of prophylactic antibiotic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avel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Lack of adequate bacteriological                          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3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acterial  Resist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result of the widespread use of antibiotics has been the emergence of resistant pathogens that have been sensitive in the pa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onc of antibiotic required to inhibit or kill the bacteria is greater than the conc that can safely be achieved in the plas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Acquired Antibiotic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960" y="1600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Inactivation by enzyme produc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l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lactamase inactivates penicillins &amp; cephalosporins by cleaving the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lactam ring of the dru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568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teria develops an altered receptor for the drug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Bacteria develops an altered metabolic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 Reduced bacterial permeability to antibio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 Actively transporting the drug out of the c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evention of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only when absolutely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in adequate dosage for sufficient             perio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brief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prolonged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xceptions,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Combination of antibiotics may be required to        delay resistance (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General Principles of Chemotherapy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er drug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ull do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per inter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by the  b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s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apparent cure achieved , continue antibiotic for  about 3 days further to avoid  relap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ipping doses may decrease effectiveness of antibiotic &amp; increase the incidence  of bacterial res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Principles of Chemotherapy(co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Times New Roman"/>
              </a:rPr>
              <a:t>Two or more antimicrobials should not be used without good  reason, e.g.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xed bacterial (polymicrobial)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perately ill patient of unknown et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prevent emergence of resistance (e.g. TB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synerg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g.piperacillin+gentamicin(p. aeruginosae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advantages of multiple antibio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sensitivity or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colonization with a res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ity of antago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gher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eneral principles ( Cont. 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some infections bacteriological proof of cure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rable ( e.g. TB, UTI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 of plasma conc. of antibiotics is sel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ed, except. streptomycin in renal TB; I.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tamic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ntibiotics prophyla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rgical pro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wel surgery, joint replacement, and some gynecological 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prevent postoperative infection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munosuppressed  Pat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y old, very youn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abetics, Anaemics, AIDS pts ,Cancer p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ntal extr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total joint replac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cardiac abnorm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efinition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3120" y="1988640"/>
            <a:ext cx="8229600" cy="4526280"/>
          </a:xfrm>
          <a:prstGeom prst="rect">
            <a:avLst/>
          </a:prstGeom>
          <a:noFill/>
          <a:ln cap="sq" w="1260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substances produced by various microorganisms (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, fungi, actinomycetes)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t have the capacity to inhibit or destroy other microorg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Now a day they are chemically synthesiz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either kill bacteria(bactericidal) or keep more bacteria from growing(bacteriostati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ntibiotics will not cure infections caus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vir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ANTIBIOTIC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CORDING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CELL WALL SYNTHES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Penicillins, Cephalospor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PROTEIN SYNTHESIS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crolides, Tetracyc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DNA SYNTHESIS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Quinol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FOLATE METABOLIS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Sulphonamides, Trimethop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RNA synthesis by binding to RNA polymera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Rifampic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ording to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rrow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icillin 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inoglyco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oad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picillin  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ox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oice of Antibio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959120" y="19000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Clinical 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(e.g.,syphy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1547280" y="292428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36360" y="4437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Microbiological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716360" y="2997360"/>
            <a:ext cx="1727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983120" y="4492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Pharmacological 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995640" y="4941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acteriological in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xact antibiotic to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st effective and reject the one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 little or no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ast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ea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cteria isolated may not be the prime cause    of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not take in consideration site of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 bacteria cannot be cultivated or take time     to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.g. M. Leprae, M. Tuberculosi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teriological services are not available at all      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oice of Antibiotics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rmacological consi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Site o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fectio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ost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) Immune system e.g. Alcoholism, diabetes, HIV, malnutrition, advanced age-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higher than usual doses or longer courses are required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) Genetic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Patients with G-6-PD deficiency treated with sulfonamides and chloramphenicol 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Hemolysis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egnancy and Lac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inoglycoside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hearing loss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racyclines     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bone deform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Age of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Grey baby Syndrome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chloramphenic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Renal fun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Aminoglycoside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renal fail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)Liver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Erythromycin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(hepatic failure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7:11:28Z</dcterms:created>
  <dc:creator>DTK</dc:creator>
  <dc:description/>
  <dc:language>en-US</dc:language>
  <cp:lastModifiedBy>kk105041</cp:lastModifiedBy>
  <cp:lastPrinted>2015-02-10T10:44:32Z</cp:lastPrinted>
  <dcterms:modified xsi:type="dcterms:W3CDTF">2016-02-04T05:05:50Z</dcterms:modified>
  <cp:revision>221</cp:revision>
  <dc:subject/>
  <dc:title>CHEMOTHERAPY</dc:title>
</cp:coreProperties>
</file>