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6F56-E5C8-42A1-A836-805854422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160D-A594-4492-83EE-85F95AAC04A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4DB5-7D86-48A0-BF26-DBAA5058A9E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8343-20E6-4411-A076-7FF299EB998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52EF-DD83-4C5C-A4C0-7752CAA100C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38CB-36C6-44BC-BB9A-8FC4A01BD09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4A7A-0047-49CA-BD0B-1875943DE75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CF16-9FC3-4A8E-99AF-4AEEC0654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4C4D-4B1B-43B5-8582-7819A36CC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rynx has three parts: the nasopharynx, the oropharynx, and the laryngopharyn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nsils contain lymphocytes that protect against invasion of foreign antigens that are inha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E13-D9D8-437E-9DF3-2919F67E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776-C4C8-4D56-82B7-F8C9D85D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50C-A306-4620-8786-9E19C00A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A2D-C8FF-4A05-8331-BBEC43F3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7129-918A-477C-92E8-09003441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BFD0-2A9E-4D01-B659-0F8393C3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B5CD-3DCB-49DD-B201-72A0BDE2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8EAB-8CD0-4D3D-B551-7759896E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B756-A3BF-49D1-B977-69FB7055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3400-3884-440F-AB6A-4DCE2F65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E018-D8A0-4BEB-AB61-AFADFBEB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646-7D49-49F5-A975-FAC6F1F4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6E73-6BDE-4A0E-90EB-8401A133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AA88-D1E9-4573-8CE2-D24E6370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23C0-8A08-4D21-A244-CE8C86CE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1C5D-9FFB-4CE0-9DE6-7CEF3B83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192B-E4F3-422E-BDDC-831921CA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79520-7D70-4B5F-9088-AC51C0D8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EA94-3862-48E2-931B-24C761AC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1D57F-940E-441F-B5DD-4E331A38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1B4F7-70AD-4665-868C-C707A202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5665-1E59-4D06-8D53-69B30A9E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7D6-78E8-45AE-B543-7A65BF86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A42F3-A400-4A93-B49D-DB92EAEA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92179-3D42-4BD6-A313-86517DAE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027A2-316B-401F-8140-C7AFA5C3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A634-1882-4089-902B-C5A7CDE6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C3777-7566-4E6D-B7D7-BAC07D7D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880B7-F5B4-4E38-BF1B-81F6D801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59C3-2D14-4935-9987-D4C52F26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1BE87-96C9-4518-BD54-D6BFCCCD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94E21-B969-4C53-A743-5E13C898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5B9F9-D048-4C5D-B9EA-2D471466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2D5-F5D8-490F-9A29-02A2EC5D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E9717-91EE-415B-9E91-72F967EE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B3606-C4C5-41F8-A151-2505023D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60AD5-6E56-4E3B-BB1E-1A916999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89F4B-45D4-4C65-A295-6D71B1BE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F61C6-FB1C-4940-9317-3C5B6C87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20427-6F06-468E-86BA-F1A6A9EC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6BFB6-8C16-4DA8-BDAB-E92FB13D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87E50-1C06-492C-8766-28F38C00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1C070-FD0D-4582-9DF4-B8C6D958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87B-6256-41DB-8995-05790208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714-FB3D-4E80-852C-0333A536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D06-1D31-48C1-B763-54874CF8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705-BA80-4A9D-BC66-3D505126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6CF-9E6B-49D6-9E38-F50F4CA2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0DCF-461A-435B-878E-A0DE646851C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DFC2-0A9C-45B0-998E-FFEECC41EEA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ECE5-8C8C-4391-939B-0CA6FADFDAD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7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C7B4-AAE1-412C-9B8B-785599A83B2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Treatment of Respiratory Tract Infe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066680" y="3429000"/>
            <a:ext cx="582624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rebuchet MS"/>
              </a:rPr>
              <a:t>Prof. Mohammad Alhumayyd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rebuchet MS"/>
              </a:rPr>
              <a:t>Department of Pharmacology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8046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s bacterial cell wall synth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rough inhibition of peptidoglyca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ayer of the cell wal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tericid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Pharmacokinetic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Given orally or parenterall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Not metabolized in human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Relatively lipid insolubl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Excreted mostly unchanged i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urin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Half-life 30-60 min ( increased i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renal failure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Diagram 7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37720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42f1a"/>
                </a:solidFill>
                <a:latin typeface="Trebuchet MS"/>
              </a:rPr>
              <a:t>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2120" y="2286000"/>
            <a:ext cx="6348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per respiratory tract infections, Acute otitis media especially those produced by Group A gram positive beta-hemolytic streptococci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wer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6348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Cephalosporin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7" name="Picture 2" descr="I:\2011-01-10\Fig. 45.3(1).JPG"/>
          <p:cNvPicPr/>
          <p:nvPr/>
        </p:nvPicPr>
        <p:blipFill>
          <a:blip r:embed="rId1"/>
          <a:stretch/>
        </p:blipFill>
        <p:spPr>
          <a:xfrm>
            <a:off x="565200" y="1371600"/>
            <a:ext cx="624852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 bacterial cell wall synth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tericid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3152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1</a:t>
            </a:r>
            <a:r>
              <a:rPr b="1" lang="en-US" sz="4000" spc="-1" strike="noStrike" baseline="30000">
                <a:solidFill>
                  <a:srgbClr val="c00000"/>
                </a:solidFill>
                <a:latin typeface="Trebuchet MS"/>
              </a:rPr>
              <a:t>st</a:t>
            </a: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 Generation Cephalospori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phalexin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o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against gram positive bacteria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in URT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162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2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n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Generation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160360"/>
            <a:ext cx="739152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Cefuroxime axetil , cefaclor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mainly against Gram-negative bacter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ell absorbed o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ctive against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lactamase –producing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rebuchet MS"/>
                <a:ea typeface="Tahoma"/>
              </a:rPr>
              <a:t>Uses: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per and lower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inusitis, otitis med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9343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3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r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 Generation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 /  Cefotaxime / Cefixi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against gram-negative bacill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 by intravenous rou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treatment in pneumonia produced by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-lactamase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harmacokinetics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 mainly parenterall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ral preparation 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: Cefixim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enetration into CS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creted  Mostly unchanged in the urine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ng Half-life(4-7h) 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(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gradFill rotWithShape="0">
            <a:gsLst>
              <a:gs pos="0">
                <a:srgbClr val="efea2b"/>
              </a:gs>
              <a:gs pos="50000">
                <a:srgbClr val="ffffff"/>
              </a:gs>
              <a:gs pos="100000">
                <a:srgbClr val="efea2b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Objectives of the lectur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0680" y="2163240"/>
            <a:ext cx="7510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 the end of lecture , the students should be able to understand the following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types of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antibiotics that are commonly use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treat respiratory tract infections and thei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de effec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derstand the mechanism of action, pharmacokinetics of individual dru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470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effects of 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         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9" name="Content Placeholder 3" descr=""/>
          <p:cNvPicPr/>
          <p:nvPr/>
        </p:nvPicPr>
        <p:blipFill>
          <a:blip r:embed="rId1"/>
          <a:stretch/>
        </p:blipFill>
        <p:spPr>
          <a:xfrm>
            <a:off x="450720" y="2004840"/>
            <a:ext cx="8248680" cy="47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hibit protein synthesis by binding to  50 S subunit of the bacterial ribosomes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cteriostat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ctericidal at high concentratio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arithromyc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480" y="2160360"/>
            <a:ext cx="7848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on G+ve bacter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ble at gastric acid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s cytochrome P450 syste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etabolized to active metaboli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creted in urine 20-40%unchanged or metabolite &amp; 60% in bile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lf-life 6-8 hou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zithromyc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on Gram negative  bacteri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ble at  gastric acid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ndergo some hepatic metabolism ( inactive metabolite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iliary route is the major route of elimin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nly 10-15% excreted unchanged in the ur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lf- life ( 3 days)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nce daily dos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o effect on  cytochrome  P- 45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5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5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8039"/>
                            </p:stCondLst>
                            <p:childTnLst>
                              <p:par>
                                <p:cTn id="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872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inical uses of Macrolid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09120" y="2976480"/>
            <a:ext cx="63486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hlamydial pneumo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egionella pneumo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63482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0" name="Picture 2" descr="G:\2011-01-12\Fig.32-15(1).JPG"/>
          <p:cNvPicPr/>
          <p:nvPr/>
        </p:nvPicPr>
        <p:blipFill>
          <a:blip r:embed="rId1"/>
          <a:stretch/>
        </p:blipFill>
        <p:spPr>
          <a:xfrm>
            <a:off x="533520" y="1295280"/>
            <a:ext cx="7391160" cy="4191120"/>
          </a:xfrm>
          <a:prstGeom prst="rect">
            <a:avLst/>
          </a:prstGeom>
          <a:ln w="0">
            <a:noFill/>
          </a:ln>
        </p:spPr>
      </p:pic>
      <p:sp>
        <p:nvSpPr>
          <p:cNvPr id="281" name="Title 1"/>
          <p:cNvSpPr/>
          <p:nvPr/>
        </p:nvSpPr>
        <p:spPr>
          <a:xfrm>
            <a:off x="533520" y="5722920"/>
            <a:ext cx="6086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ypersensitivity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Content Placeholder 3" descr=""/>
          <p:cNvPicPr/>
          <p:nvPr/>
        </p:nvPicPr>
        <p:blipFill>
          <a:blip r:embed="rId1"/>
          <a:stretch/>
        </p:blipFill>
        <p:spPr>
          <a:xfrm>
            <a:off x="-64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76618"/>
                </a:solidFill>
                <a:latin typeface="Trebuchet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hibit DNA Gyrase enzyme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( an enzyme involved in DNA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upercoiling)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6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2824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ntibacterial spectrum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iprofloxacin mainly effective against G –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xifloxacin &amp; Gatifloxacin G – &amp; G + &amp; given once dail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( highly active against Pseudomonas species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assification of respiratory tract infe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Upper respiratory tract infections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(URTI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wer respiratory tract infections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(LRTI)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9ca3c"/>
                </a:solidFill>
                <a:latin typeface="Trebuchet MS"/>
              </a:rPr>
              <a:t>     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harmacokinetic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04920" y="685800"/>
            <a:ext cx="883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 orally or parenter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ntrates in many tissues ( kidne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tate, lung &amp; bones/ joint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reted mainly through the ki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relatively long Half-life allows once daily (moxifloxacin &amp; Gatifloxacin) &amp; twice-daily (ciprofloxacin) do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Trebuchet MS"/>
              </a:rPr>
              <a:t>Clinical Use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0" name="Content Placeholder 4" descr=""/>
          <p:cNvPicPr/>
          <p:nvPr/>
        </p:nvPicPr>
        <p:blipFill>
          <a:blip r:embed="rId1"/>
          <a:stretch/>
        </p:blipFill>
        <p:spPr>
          <a:xfrm>
            <a:off x="701640" y="1494000"/>
            <a:ext cx="82296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 effect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4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ausea , vomiting , diarrh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NS effects ( confusion, insomnia, headache, anxiety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mage of growing cartilage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(arthropathy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hototoxicity(avoid excessive sunlight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8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Contraindication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ot recommended for patients younger than 18 yea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egnanc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reast feeding wo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743200" y="609120"/>
            <a:ext cx="4214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THANK YO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6" name="Picture 10" descr="camel"/>
          <p:cNvPicPr/>
          <p:nvPr/>
        </p:nvPicPr>
        <p:blipFill>
          <a:blip r:embed="rId1"/>
          <a:stretch/>
        </p:blipFill>
        <p:spPr>
          <a:xfrm>
            <a:off x="533520" y="1557360"/>
            <a:ext cx="8153280" cy="45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SCAN002"/>
          <p:cNvPicPr/>
          <p:nvPr/>
        </p:nvPicPr>
        <p:blipFill>
          <a:blip r:embed="rId1"/>
          <a:stretch/>
        </p:blipFill>
        <p:spPr>
          <a:xfrm>
            <a:off x="10439280" y="0"/>
            <a:ext cx="381240" cy="910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Object 2"/>
          <p:cNvGraphicFramePr/>
          <p:nvPr/>
        </p:nvGraphicFramePr>
        <p:xfrm>
          <a:off x="457200" y="990720"/>
          <a:ext cx="7848720" cy="541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78487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auses of URTI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,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Viruses</a:t>
            </a:r>
            <a:r>
              <a:rPr b="0" lang="en-US" sz="34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1" lang="en-US" sz="2400" spc="-1" strike="noStrike">
                <a:solidFill>
                  <a:srgbClr val="7030a0"/>
                </a:solidFill>
                <a:latin typeface="Trebuchet MS"/>
              </a:rPr>
              <a:t>(Should not be treated with antibiotic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reatment: rest and plenty of fluids, OTC cold, pain reliever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Bacteria</a:t>
            </a: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inly Group A streptococcus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H. influenza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reatment: Antibiotics. The type depends  o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ype of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Sensitivity te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LRTI’s</a:t>
            </a:r>
            <a:r>
              <a:rPr b="1" lang="en-US" sz="2400" spc="-1" strike="noStrike">
                <a:solidFill>
                  <a:srgbClr val="7030a0"/>
                </a:solidFill>
                <a:latin typeface="Trebuchet MS"/>
              </a:rPr>
              <a:t>(costly &amp; more difficult to treat)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240" y="6094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Bronchitis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(inflammation of major bronchi&amp; trachea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cut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hron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cute exacerbation of chronic bronchit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2800" spc="-1" strike="noStrike">
                <a:solidFill>
                  <a:srgbClr val="00b0f0"/>
                </a:solidFill>
                <a:latin typeface="Trebuchet MS"/>
              </a:rPr>
              <a:t>Causes: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viruses or bacteria(H. influenza, S. pneumonia&amp; M. catarralis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Pneumonia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(Serious infection of bronchioles &amp; alveoli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munity –acquired(CAP)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ospital-acquire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rebuchet MS"/>
              </a:rPr>
              <a:t>Causes:</a:t>
            </a:r>
            <a:r>
              <a:rPr b="1" lang="en-US" sz="2400" spc="-1" strike="noStrike">
                <a:solidFill>
                  <a:srgbClr val="00b0f0"/>
                </a:solidFill>
                <a:latin typeface="Trebuchet MS"/>
              </a:rPr>
              <a:t>Bacteria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.pneumonia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**(66%)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.influenza(20%),M.catarrhalis (20%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Antibiotics used in the treatment of RTI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eta lactam antibiotics  (Penicillins / Cephalosporins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rolid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oroquinolon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inoglycosid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oxycyclin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enicill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6" name="Picture 2" descr="I:\2011-01-10\Fig. 45.3(2).JPG"/>
          <p:cNvPicPr/>
          <p:nvPr/>
        </p:nvPicPr>
        <p:blipFill>
          <a:blip r:embed="rId1"/>
          <a:stretch/>
        </p:blipFill>
        <p:spPr>
          <a:xfrm>
            <a:off x="1295280" y="1752480"/>
            <a:ext cx="6897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Broad- spectrum penicill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Amoxicillin- Clavulanic aci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Ampicillin- Sulbactam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Piperacillin- tazobactam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cts on both gram+ve &amp; gram-v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croorganisms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05:49:35Z</dcterms:created>
  <dc:creator>Dr. Philip L. Pokorski</dc:creator>
  <dc:description/>
  <dc:language>en-US</dc:language>
  <cp:lastModifiedBy>kk105041</cp:lastModifiedBy>
  <cp:lastPrinted>2015-02-02T09:39:57Z</cp:lastPrinted>
  <dcterms:modified xsi:type="dcterms:W3CDTF">2016-02-04T04:48:56Z</dcterms:modified>
  <cp:revision>245</cp:revision>
  <dc:subject/>
  <dc:title>Respiratory System</dc:title>
</cp:coreProperties>
</file>