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A810-1D90-4B26-A22C-9ECD153B1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ABBC-78B2-4B70-9F27-579B881041F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ECEE-B740-4542-A355-B85195ADAB3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E461-6514-4B05-BC9F-F9D6D173B0E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A71A-BE76-4E67-8CCD-35F68AE6987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EC23-1C70-469F-9396-B06B7F114FD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3733-E4FB-4A5F-9F94-FF65EC9C07A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3B48-EE7C-4D48-B9B9-B61FE6489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7B8D-0554-4EE7-8CE6-458AE228D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rynx has three parts: the nasopharynx, the oropharynx, and the laryngopharyn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nsils contain lymphocytes that protect against invasion of foreign antigens that are inha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5816-CDC0-4338-A40B-632910CD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D297-1BAC-4E06-A660-C9D19E3E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2329-29D1-44CB-9154-2967CBAB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59A-565B-49EE-BE1E-249B0850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DA4E-479A-4ACF-AE3C-7C0A8BE2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5533-3C0A-4AAC-988F-DB55C333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7B19-88AA-4D7B-B673-9A350785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2A59-D326-4A6A-A75C-CC1F9985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AE71-AEFC-47D8-9461-7E182124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1E10-18DD-4D11-AD8E-ED4EF6C3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4DCD-CC2A-4B27-8044-8E1336D5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45C7-F9EA-40DB-9F8A-BEA35DE6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5886-9FCF-4C19-A1AA-737CEADC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C866-5553-4E52-A1D2-4BB3DA2C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BAA2-5CCF-4E49-AAFE-62778154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A2B01-03BF-4728-947F-AFD9C597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C863-9592-47F6-8666-7980DC1F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36E41-EB0E-44AF-A2DD-75749B92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96E4B-1FFB-4079-9D34-4423C827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66A6B-95FE-470F-843D-190B988B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DC529-DDCD-4151-BE22-D82F5C24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7DE1D-50FA-4AD9-A0E9-B42E962F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91A3-2705-489C-9F29-CC33F1BE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6300D-7A02-41F1-96B5-ACA5E12A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95834-A590-4D54-BF8C-75961012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F2EDE-F05A-4202-8113-5CF066EF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F952E-4C54-4790-9295-733C22EC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EE095-163F-4716-A1EA-4373825B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3F40F-4F65-4DBF-B080-C7FC4CA7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13E36-F12E-49D8-B44B-B10764475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E744E-B43B-4A65-86E8-165D4EA2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554FC-01A3-414A-B7CE-BE44234D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2899D-D3EA-4BBB-A1A4-EEDD025D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62E2-A5A9-44C5-9521-5EBDFF1B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01DE7-A8C7-43EE-8A6E-33BCBE6B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FC03F-6A59-450C-9951-35D71111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E3893-5195-49D6-84EF-21A6FB83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30F86-95D1-4020-A649-25F76F31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3E5D4-1731-47BA-9CF5-BB962404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A142E-ABB8-45A7-827C-9365934B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05EA8-1AFF-40EC-9AEE-4435DED1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0EAAC-95C1-4FA1-B6D4-D30D9A36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3C9AB-28A3-49AB-9E4F-A42B2F62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281D-B692-4F62-88AB-BE3381E0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44A7-B485-4F2F-8517-CE41C86C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4487-DC08-4C51-82E9-1C8041BE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0E27-A2A9-4C36-9CC4-8ABDF58E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F769-4D59-42F5-8309-B0BA85FA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66DE-6326-4753-B8C7-FB0FA66EEBF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4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E25A-B2D8-46DD-A36E-0B4F9FADCA9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2F12-C84B-4526-99C7-68FA30E5DC0C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7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0ED7-7ED8-4DE4-BAFA-B936A877ECC1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523880"/>
            <a:ext cx="64771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Book Antiqua"/>
              </a:rPr>
              <a:t>Treatment of Respiratory Tract Infec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066680" y="3429000"/>
            <a:ext cx="582624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rebuchet MS"/>
              </a:rPr>
              <a:t>Prof. Mohammad Alhumayyd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rebuchet MS"/>
              </a:rPr>
              <a:t>Department of Pharmacology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8046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s bacterial cell wall synthes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rough inhibition of peptidoglyca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ayer of the cell wal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actericid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Pharmacokinetics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Given orally or parenterall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Not metabolized in human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Relatively lipid insolubl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Excreted mostly unchanged i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urin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Half-life 30-60 min ( increased i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renal failure)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Diagram 7" descr=""/>
          <p:cNvPicPr/>
          <p:nvPr/>
        </p:nvPicPr>
        <p:blipFill>
          <a:blip r:embed="rId1"/>
          <a:stretch/>
        </p:blipFill>
        <p:spPr>
          <a:xfrm>
            <a:off x="401760" y="304920"/>
            <a:ext cx="837720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42f1a"/>
                </a:solidFill>
                <a:latin typeface="Trebuchet MS"/>
              </a:rPr>
              <a:t>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62120" y="2286000"/>
            <a:ext cx="6348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pper respiratory tract infections, Acute otitis media especially those produced by Group A gram positive beta-hemolytic streptococci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ower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63482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rebuchet MS"/>
              </a:rPr>
              <a:t>Cephalosporin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7" name="Picture 2" descr="I:\2011-01-10\Fig. 45.3(1).JPG"/>
          <p:cNvPicPr/>
          <p:nvPr/>
        </p:nvPicPr>
        <p:blipFill>
          <a:blip r:embed="rId1"/>
          <a:stretch/>
        </p:blipFill>
        <p:spPr>
          <a:xfrm>
            <a:off x="565200" y="1371600"/>
            <a:ext cx="624852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 bacterial cell wall synthes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actericid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3152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1</a:t>
            </a:r>
            <a:r>
              <a:rPr b="1" lang="en-US" sz="4000" spc="-1" strike="noStrike" baseline="30000">
                <a:solidFill>
                  <a:srgbClr val="c00000"/>
                </a:solidFill>
                <a:latin typeface="Trebuchet MS"/>
              </a:rPr>
              <a:t>st</a:t>
            </a: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 Generation Cephalospori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phalexin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iven oral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against gram positive bacteria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in URT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1629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2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nd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Generation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480" y="2160360"/>
            <a:ext cx="739152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Cefuroxime axetil , cefaclor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mainly against Gram-negative bacter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ell absorbed oral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ctive against </a:t>
            </a:r>
            <a:r>
              <a:rPr b="1" lang="el-GR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β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-lactamase –producing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rebuchet MS"/>
                <a:ea typeface="Tahoma"/>
              </a:rPr>
              <a:t>Uses: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pper and lower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inusitis, otitis med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9343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3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rd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 Generation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triaxone /  Cefotaxime / Cefixi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ive against gram-negative bacilli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iven  by intravenous rou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treatment in pneumonia produced by </a:t>
            </a:r>
            <a:r>
              <a:rPr b="1" lang="el-GR" sz="2400" spc="-1" strike="noStrike">
                <a:solidFill>
                  <a:srgbClr val="000000"/>
                </a:solidFill>
                <a:latin typeface="Trebuchet MS"/>
              </a:rPr>
              <a:t>β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-lactamase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harmacokinetics 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iven  mainly parenterally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ral preparation 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: Cefixim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enetration into CS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xcreted  Mostly unchanged in the urine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ong Half-life(4-7h) 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(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triaxone 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gradFill rotWithShape="0">
            <a:gsLst>
              <a:gs pos="0">
                <a:srgbClr val="efea2b"/>
              </a:gs>
              <a:gs pos="50000">
                <a:srgbClr val="ffffff"/>
              </a:gs>
              <a:gs pos="100000">
                <a:srgbClr val="efea2b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Objectives of the lectur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0680" y="2163240"/>
            <a:ext cx="75103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 the end of lecture , the students should be able to understand the following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types of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antibiotics that are commonly use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treat respiratory tract infections and thei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de effect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derstand the mechanism of action, pharmacokinetics of individual drug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470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effects of 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         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9" name="Content Placeholder 3" descr=""/>
          <p:cNvPicPr/>
          <p:nvPr/>
        </p:nvPicPr>
        <p:blipFill>
          <a:blip r:embed="rId1"/>
          <a:stretch/>
        </p:blipFill>
        <p:spPr>
          <a:xfrm>
            <a:off x="450720" y="2004840"/>
            <a:ext cx="8248680" cy="47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hibit protein synthesis by binding to  50 S subunit of the bacterial ribosomes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cteriostatic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ctericidal at high concentration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arithromyc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480" y="2160360"/>
            <a:ext cx="7848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ive on G+ve bacter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table at gastric acid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s cytochrome P450 syste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etabolized to active metaboli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xcreted in urine 20-40%unchanged or metabolite &amp; 60% in bile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alf-life 6-8 hou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zithromyc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ive on Gram negative  bacteria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table at  gastric acid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ndergo some hepatic metabolism ( inactive metabolite 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iliary route is the major route of elimin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nly 10-15% excreted unchanged in the ur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alf- life ( 3 days)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nce daily dos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o effect on  cytochrome  P- 45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5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5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8039"/>
                            </p:stCondLst>
                            <p:childTnLst>
                              <p:par>
                                <p:cTn id="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8720"/>
                            </p:stCondLst>
                            <p:childTnLst>
                              <p:par>
                                <p:cTn id="6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6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6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inical uses of Macrolid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09120" y="2976480"/>
            <a:ext cx="6348600" cy="25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hlamydial pneumon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egionella pneumon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63482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0" name="Picture 2" descr="G:\2011-01-12\Fig.32-15(1).JPG"/>
          <p:cNvPicPr/>
          <p:nvPr/>
        </p:nvPicPr>
        <p:blipFill>
          <a:blip r:embed="rId1"/>
          <a:stretch/>
        </p:blipFill>
        <p:spPr>
          <a:xfrm>
            <a:off x="533520" y="1295280"/>
            <a:ext cx="7391160" cy="4191120"/>
          </a:xfrm>
          <a:prstGeom prst="rect">
            <a:avLst/>
          </a:prstGeom>
          <a:ln w="0">
            <a:noFill/>
          </a:ln>
        </p:spPr>
      </p:pic>
      <p:sp>
        <p:nvSpPr>
          <p:cNvPr id="281" name="Title 1"/>
          <p:cNvSpPr/>
          <p:nvPr/>
        </p:nvSpPr>
        <p:spPr>
          <a:xfrm>
            <a:off x="533520" y="5722920"/>
            <a:ext cx="6086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ypersensitivity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Content Placeholder 3" descr=""/>
          <p:cNvPicPr/>
          <p:nvPr/>
        </p:nvPicPr>
        <p:blipFill>
          <a:blip r:embed="rId1"/>
          <a:stretch/>
        </p:blipFill>
        <p:spPr>
          <a:xfrm>
            <a:off x="-648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76618"/>
                </a:solidFill>
                <a:latin typeface="Trebuchet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hibit DNA Gyrase enzyme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( an enzyme involved in DNA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upercoiling)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6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2824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ntibacterial spectrum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iprofloxacin mainly effective against G –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xifloxacin &amp; Gatifloxacin G – &amp; G + &amp; given once daily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( highly active against Pseudomonas species 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assification of respiratory tract infec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19807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Upper respiratory tract infections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(URTI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wer respiratory tract infections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(LRTI)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9ca3c"/>
                </a:solidFill>
                <a:latin typeface="Trebuchet MS"/>
              </a:rPr>
              <a:t>     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harmacokinetic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304920" y="685800"/>
            <a:ext cx="883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n orally or parenter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ntrates in many tissues ( kidne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tate, lung &amp; bones/ joint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reted mainly through the ki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 relatively long Half-life allows once daily (moxifloxacin &amp; Gatifloxacin) &amp; twice-daily (ciprofloxacin) do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Trebuchet MS"/>
              </a:rPr>
              <a:t>Clinical Uses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0" name="Content Placeholder 4" descr=""/>
          <p:cNvPicPr/>
          <p:nvPr/>
        </p:nvPicPr>
        <p:blipFill>
          <a:blip r:embed="rId1"/>
          <a:stretch/>
        </p:blipFill>
        <p:spPr>
          <a:xfrm>
            <a:off x="701640" y="1494000"/>
            <a:ext cx="82296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 effect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948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ausea , vomiting , diarrhe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NS effects ( confusion, insomnia, headache, anxiety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amage of growing cartilage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(arthropathy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hototoxicity(avoid excessive sunlight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8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rebuchet MS"/>
              </a:rPr>
              <a:t>Contraindication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ot recommended for patients younger than 18 yea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egnanc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reast feeding wo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0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743200" y="609120"/>
            <a:ext cx="4214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THANK YOU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6" name="Picture 10" descr="camel"/>
          <p:cNvPicPr/>
          <p:nvPr/>
        </p:nvPicPr>
        <p:blipFill>
          <a:blip r:embed="rId1"/>
          <a:stretch/>
        </p:blipFill>
        <p:spPr>
          <a:xfrm>
            <a:off x="533520" y="1557360"/>
            <a:ext cx="8153280" cy="45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SCAN002"/>
          <p:cNvPicPr/>
          <p:nvPr/>
        </p:nvPicPr>
        <p:blipFill>
          <a:blip r:embed="rId1"/>
          <a:stretch/>
        </p:blipFill>
        <p:spPr>
          <a:xfrm>
            <a:off x="10439280" y="0"/>
            <a:ext cx="381240" cy="910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Object 2"/>
          <p:cNvGraphicFramePr/>
          <p:nvPr/>
        </p:nvGraphicFramePr>
        <p:xfrm>
          <a:off x="457200" y="990720"/>
          <a:ext cx="7848720" cy="541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78487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auses of URTI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,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Viruses</a:t>
            </a:r>
            <a:r>
              <a:rPr b="0" lang="en-US" sz="34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    </a:t>
            </a:r>
            <a:r>
              <a:rPr b="1" lang="en-US" sz="2400" spc="-1" strike="noStrike">
                <a:solidFill>
                  <a:srgbClr val="7030a0"/>
                </a:solidFill>
                <a:latin typeface="Trebuchet MS"/>
              </a:rPr>
              <a:t>(Should not be treated with antibiotic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reatment: rest and plenty of fluids, OTC cold, pain reliever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Bacteria</a:t>
            </a:r>
            <a:r>
              <a:rPr b="0" lang="en-US" sz="3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ainly Group A streptococcus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H. influenza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reatment: Antibiotics. The type depends  o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                  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ype of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                  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Sensitivity tes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LRTI’s</a:t>
            </a:r>
            <a:r>
              <a:rPr b="1" lang="en-US" sz="2400" spc="-1" strike="noStrike">
                <a:solidFill>
                  <a:srgbClr val="7030a0"/>
                </a:solidFill>
                <a:latin typeface="Trebuchet MS"/>
              </a:rPr>
              <a:t>(costly &amp; more difficult to treat)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8240" y="6094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Bronchitis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(inflammation of major bronchi&amp; trachea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cut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hronic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cute exacerbation of chronic bronchiti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2800" spc="-1" strike="noStrike">
                <a:solidFill>
                  <a:srgbClr val="00b0f0"/>
                </a:solidFill>
                <a:latin typeface="Trebuchet MS"/>
              </a:rPr>
              <a:t>Causes: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viruses or bacteria(H. influenza, S. pneumonia&amp; M. catarralis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Pneumonia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(Serious infection of bronchioles &amp; alveoli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mmunity –acquired(CAP)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ospital-acquire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rebuchet MS"/>
              </a:rPr>
              <a:t>Causes:</a:t>
            </a:r>
            <a:r>
              <a:rPr b="1" lang="en-US" sz="2400" spc="-1" strike="noStrike">
                <a:solidFill>
                  <a:srgbClr val="00b0f0"/>
                </a:solidFill>
                <a:latin typeface="Trebuchet MS"/>
              </a:rPr>
              <a:t>Bacteria 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.pneumonia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**(66%)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.influenza(20%),M.catarrhalis (20%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Antibiotics used in the treatment of RTI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eta lactam antibiotics  (Penicillins / Cephalosporins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crolid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luoroquinolon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inoglycosid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oxycycline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enicill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6" name="Picture 2" descr="I:\2011-01-10\Fig. 45.3(2).JPG"/>
          <p:cNvPicPr/>
          <p:nvPr/>
        </p:nvPicPr>
        <p:blipFill>
          <a:blip r:embed="rId1"/>
          <a:stretch/>
        </p:blipFill>
        <p:spPr>
          <a:xfrm>
            <a:off x="1295280" y="1752480"/>
            <a:ext cx="6897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Broad- spectrum penicill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Amoxicillin- Clavulanic aci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Ampicillin- Sulbactam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Piperacillin- tazobactam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cts on both gram+ve &amp; gram-v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icroorganisms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05:49:35Z</dcterms:created>
  <dc:creator>Dr. Philip L. Pokorski</dc:creator>
  <dc:description/>
  <dc:language>en-US</dc:language>
  <cp:lastModifiedBy>kk105041</cp:lastModifiedBy>
  <cp:lastPrinted>2015-02-02T09:39:57Z</cp:lastPrinted>
  <dcterms:modified xsi:type="dcterms:W3CDTF">2016-02-04T04:48:56Z</dcterms:modified>
  <cp:revision>245</cp:revision>
  <dc:subject/>
  <dc:title>Respiratory System</dc:title>
</cp:coreProperties>
</file>