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357F-A161-4700-9CF6-5C2EAC8B9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B962-CEB6-4DCE-B2AA-A87B0867EF5C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27C4-8C0C-4F3D-86E6-CE05A0DB1C45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CD10-A295-481E-98B9-CD4EF5F66940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404C-0867-4DBB-A0F7-C6254C35EA02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D344-C957-47F7-8661-0472C31F32EF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C129-C360-4FDF-B804-E62659D3C9CF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A2A0-DE71-473A-B217-1BD179547E57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3C30-AD31-40B9-B598-9383C0A886E5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E38-5BF1-4F37-8B4D-54042D2F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71F-33CA-4659-B727-070E6AC4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93BA-8496-45A1-BDD4-AD468864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3100-76E7-49B2-902C-E7E6FBDA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3055-3704-41E3-AA89-400902C4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FED3-DBFF-4713-B0EE-EFB78492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F2B3-BC7B-435B-A4A4-CE78B89E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C583-D17E-43AB-8A4F-2E2A1DA9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C711-08DC-43DC-8ABA-4CBE119F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10D5-7DA9-4145-B65A-F92FE2F1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56D0-76EE-4F38-AC7F-645B0E21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7CA-C085-41CD-B5EC-02AE17A8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33658-9F4B-471C-AE8B-1A95CBA0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5F94-3537-4BBF-B3FB-79BE344D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9AA8-01DB-48B9-BD93-7D2E3893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83C7-477E-4A81-A19C-AD9FB0C5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4523-B300-4724-95F6-07BA6728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17FFF-76A7-49AD-A0C5-ED87B827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F6523-02F7-4881-9DF5-0F191C1D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FD2E3-D154-4BA1-B50B-90265F1A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19A2-E508-4D8D-A27D-28C584A5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4120F-7468-4F70-8E41-D59E87C1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8695-E885-43BA-8865-1CF5A2DE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05A20-246C-4F51-947F-E0F1D2E2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69D01-2E98-450A-A84E-3D1E2C37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341B2-915E-4EE5-A6FA-EF16AFDD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13BF1-857E-4954-89E0-2BC7AB90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19242-DF44-4263-B936-A7F624C8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840A8-B274-4AC9-85F1-91B41713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E669-D51B-4B90-B0E5-C500AD9F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837-AEB6-435B-A9F1-E29FDB03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7EC-FE7D-4A94-BD8E-FC2F873A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F16-4CC3-40A2-8D64-3BCE0F48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3811-A99B-4382-B850-E5045447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277-0049-4F2B-BC1A-D9D2C50D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575-63F9-4A8E-A44E-8C169204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29DA-D51F-41DE-8AC8-07426ED102E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7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2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4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5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6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22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704D-B2E3-40B6-9FAC-891D19EF8C9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3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3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D400-7CA8-4560-8AB7-131D07389276}" type="slidenum">
              <a:rPr b="0" lang="ar-S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ho.int/tb/publications/global_report/en/index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4" descr="starv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92" name="WordArt 5"/>
          <p:cNvSpPr txBox="1"/>
          <p:nvPr/>
        </p:nvSpPr>
        <p:spPr>
          <a:xfrm>
            <a:off x="1219320" y="1676520"/>
            <a:ext cx="67816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TUBERCULOSI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1371600" y="30481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rug therapy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uberculo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mmon sites of infe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pical areas of lu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enal parenchy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Growing ends of b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eatment Of Tuberculo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eventing  development of drug resistance is the most important reason to use drug combinatio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eriods of treatment ( minimum 6 month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rugs are divided into two group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irst line                2.  Second lin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timycobacterial dru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64180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rst line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soniazid (INH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ifamp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thambut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yrazinamid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treptomycin (should not be the first line choic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Right Brace 3"/>
          <p:cNvSpPr/>
          <p:nvPr/>
        </p:nvSpPr>
        <p:spPr>
          <a:xfrm>
            <a:off x="3657600" y="2743200"/>
            <a:ext cx="380880" cy="24382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2438280"/>
              <a:gd name="textAreaBottom" fmla="*/ 242856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1"/>
                  <a:pt x="10800" y="281"/>
                </a:cubicBezTo>
                <a:lnTo>
                  <a:pt x="10800" y="10519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1"/>
                  <a:pt x="10800" y="11081"/>
                </a:cubicBezTo>
                <a:lnTo>
                  <a:pt x="10800" y="21319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4419720" y="28195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iven for first 8 weeks, followed by INH/RIF for 18 week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ever use a single drug therap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soniazid –rifampin combination administered for 9 months will cure 95-98% of cases 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ddition of pyrazinamide/ethambutol for this combination for the first 2 months allows total duration to be reduced to 6 month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soniazi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acteriostatic for resting bacilli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actericidal   for rapidly growing bacilli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 effective against intracellular  &amp; extracellular bacill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chanism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nhibits the synthesis of mycobacteria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cell wall ( inhibit the  synthesis of 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mycolic acid 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reatment of TB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reatment of Latent TB in patients with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ositive tuberculin skin t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ophylaxis against active TB in individual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ho are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 great risk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360" y="762120"/>
            <a:ext cx="888552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96320" cy="45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Peripheral neur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pin &amp; needles sensation in the feet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Optic neuritis &amp;atrophy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yridoxine should be given in both cases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imes New Roman"/>
              </a:rPr>
              <a:t>Hepatitis (toxic metabolite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epatitis with INH, is age dependent; it is rare in persons younger than 20 years , risk increases with age and alcohol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ug Interactions of IN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nzyme inhibitor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low and fast acetylato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famp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RNA synthesi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y binding to DNA dependent RNA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lymerase enzy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35000" y="2115720"/>
            <a:ext cx="7866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r. Ishfaq Bukhar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ssociate Professor of Pharmac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llege of Medicine, KS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 (similar to INH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eatment of TB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ophylax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armless red-orange discoloration of body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secretions  ( saliva, sweat, tears  …..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 Tell the patient about this effect.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n permanently stain contact lenses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epatitis less common compared to IN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lu-like syndro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molytic anem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ug Interac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nzyme induc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Clincally significsnt drug interactios such as warfarin, methadone will be metabolized fas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8480" y="9144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hambutol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or of mycobacterial arabinosyl transferase ( alters the cell barrier )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isrupts the assembly of mycobacterial cell wall.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 (similar to INH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acellular &amp; 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eatment of tuberculosis in combination with other drug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mpaired  visual acuity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red-green color blindness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thambutol is contraindicated in children under 5 yea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yrazinam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echanism of action is unknown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tive against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n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the end of lecture , the students should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etiology of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common route for transmission of the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es the out line for treatment of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drugs used in the first &amp; second line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ycobacterial  infections  mainly in multidrug resistance cas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t is important in short –course (6 month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gime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ophylaxis of TB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patotoxicity (common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yperuricemia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 gouty arthritis 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rug fever &amp; skin ras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ptomycin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7680" y="22096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ors of protein synthesis by binding to 30 S ribosomal subuni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tive mainly  on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evere , life-threating form of T.B. as meningitis, disseminated diseas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Ot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Nephr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Neuromuscular bl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8480" y="9144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dication of 2</a:t>
            </a:r>
            <a:r>
              <a:rPr b="1" lang="en-US" sz="44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line treatment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sistance to the drugs of 1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s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lin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ailure of clinical respon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re is contraindication for first line  drug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sed in typical &amp; atypical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line drugs are more toxic than 1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line dru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hionam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the synthesis of   mycolic aci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  a secondary line agent  ,treatment of TB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erratogenic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Poorly toler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Because of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eeef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ef1"/>
                </a:solidFill>
                <a:latin typeface="Times New Roman"/>
              </a:rPr>
              <a:t>Severe gastric irritation &amp;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eurological manifesta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luoroquinolones (Ciprofloxacin  </a:t>
            </a: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ffective against  multidrug- resistant tubercul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 ( continu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garding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echanism of 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erse eff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ug inter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aind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uberculosis &amp; pregnanc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uberculosis &amp; breast fee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fabut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NA inhibi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ross –resistance with rifampin is comple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nzyme inducer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ffective in prevention &amp;treatment of T.B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 prevention &amp; treatment of atypical TB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GIT intolera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range-red discoloration of body secretion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minosalicylic Acid (PAS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Folic acid synthe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 a second line agent is used in the treatment of pulmonary &amp; other forms of tuberculosi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GIT upse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Crystallur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B &amp; Pregnanc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ntreated TB represents a great risk to the pregnant woman &amp; her fetus than the treatment itsel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rst line (INH, Ethmabutol and rifampicin) drugs are given for 9 months in normal do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reptomycin not us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B &amp; Breast Fee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t is not a contraindication to receive drugs , but caution is recommend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poster_health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poster_swan"/>
          <p:cNvPicPr/>
          <p:nvPr/>
        </p:nvPicPr>
        <p:blipFill>
          <a:blip r:embed="rId1"/>
          <a:stretch/>
        </p:blipFill>
        <p:spPr>
          <a:xfrm>
            <a:off x="380880" y="45720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1007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Etiology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ycobacterium tubercul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slow growing, an acid fast bacil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bert Koch was the fir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 see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Mycobacterium tuberculo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ith his staining technique in 1882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3" name="Picture 8" descr="robert"/>
          <p:cNvPicPr/>
          <p:nvPr/>
        </p:nvPicPr>
        <p:blipFill>
          <a:blip r:embed="rId1"/>
          <a:stretch/>
        </p:blipFill>
        <p:spPr>
          <a:xfrm>
            <a:off x="5410080" y="1143000"/>
            <a:ext cx="3505320" cy="2819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132_bacillus"/>
          <p:cNvPicPr/>
          <p:nvPr/>
        </p:nvPicPr>
        <p:blipFill>
          <a:blip r:embed="rId2"/>
          <a:stretch/>
        </p:blipFill>
        <p:spPr>
          <a:xfrm>
            <a:off x="5638680" y="4495680"/>
            <a:ext cx="3505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5219640" y="1847880"/>
            <a:ext cx="374508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lnSpc>
                <a:spcPct val="12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eorgia"/>
              </a:rPr>
              <a:t>Each year, 1% of the  global population is infected.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73160" indent="-173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8532720" y="858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   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971640" y="5461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Georgia"/>
              </a:rPr>
              <a:t>Disease information: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Picture 5" descr="tuberculosis incidence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16280"/>
            <a:ext cx="4608360" cy="36003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09" name="Rectangle 7"/>
          <p:cNvSpPr/>
          <p:nvPr/>
        </p:nvSpPr>
        <p:spPr>
          <a:xfrm>
            <a:off x="228600" y="59436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re than one third of the world's population has 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uberculosi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poster_bab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poster_cough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9:22:10Z</dcterms:created>
  <dc:creator>DTK</dc:creator>
  <dc:description/>
  <dc:language>en-US</dc:language>
  <cp:lastModifiedBy>User</cp:lastModifiedBy>
  <dcterms:modified xsi:type="dcterms:W3CDTF">2016-02-04T09:48:28Z</dcterms:modified>
  <cp:revision>331</cp:revision>
  <dc:subject/>
  <dc:title>Antimycobacterial drugs</dc:title>
</cp:coreProperties>
</file>