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81DE-F044-4EA7-8709-F6A3E0FF5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83EB-C0E7-437D-8E43-85FF607C4510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FC0F-7A54-48BD-A382-FC5682CB1E01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9277-CCC9-493E-BE53-5EA246E88F60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C719-60EE-47D0-8384-E9DCA887612E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97F6-4E6A-43F8-AA7D-D93E1AA6A207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06A5-7CDB-482B-A4E9-B26F2EE9BDFF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F11-8202-43BA-8A8B-2FD0CC405889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5823-BF72-4B04-AA6F-DA9A13861D17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484-A807-4F29-A451-E9420645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BC8-F969-41AC-8C56-EE15394A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E6B-DF80-4786-A801-8F9DFC96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679-F246-4EEB-8A82-E3A61F48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DBBF-8D4C-4201-84E2-9BA7C0C0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12C0-7EE1-47E7-92EF-5CEA2DD5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390B-2CB3-4F26-AE65-1BA948BC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B44C-83E1-4108-AC0B-ECBC5C63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74B1-BA9A-471A-AB0B-5064EFF1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F8D3-E706-4DD5-A3B1-7A79C88D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9B42-BD32-465C-8E09-AB5666B7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335-8532-43B5-BDC1-156F613E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6B81-9B64-48D4-ACB4-AB47AC42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5AF7-3CB0-4D69-AFF0-D2CAA3C6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4144-1AF0-4BAD-85E1-6BCB87C7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3066-7B90-45D9-A5B4-D76081C4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8EBC-E903-4B2C-B02F-1584A38A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4894-82B1-4631-9CA3-1496F175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C2E0-5A07-46EC-8AD7-21F7DA48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CDBB0-2E93-4CE2-AA62-5BFE4561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8E51-7327-4F57-9337-5B9C1684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B901-C1B6-4CBF-9291-822C1F2C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891-2C2E-4C67-B6E2-27D2A55B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C9DE-17E6-4FC4-B412-67220C1E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2ACB-6479-4718-8724-B65B1609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7FF8D-A949-4322-9B5F-569F34F4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A8E9-D59F-453E-A30A-D96DB49E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4EC6-D89E-4C1B-9402-E1614426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BCF4-BAD8-4B97-8C61-C6B8B321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9189-38AA-4D73-B75F-8DE7767E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607-5BF1-4FBB-8333-C7CFD7C6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4DF-E19A-49C7-AB47-0E8E67D6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D94-0423-470F-A93A-01AD1C5E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47F-FE1C-4B83-8C79-28137254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330-2909-4FD8-A85C-3F489985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AD6-97A0-4DFF-8050-F5AC09D7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0E57-E521-40CD-A8F6-F41697091B7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DB8F-7F0E-4312-B9BE-09D2D7ADD39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3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3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58F3-67F1-442D-96EC-4EE4EC3E1C20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ho.int/tb/publications/global_report/en/index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4" descr="starv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92" name="WordArt 5"/>
          <p:cNvSpPr txBox="1"/>
          <p:nvPr/>
        </p:nvSpPr>
        <p:spPr>
          <a:xfrm>
            <a:off x="1219320" y="1676520"/>
            <a:ext cx="67816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UBERCULOSI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1371600" y="30481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ug therapy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sites of inf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pical areas of lu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enal parenchy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rowing ends of b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eatment Of 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eventing  development of drug resistance is the most important reason to use drug combinat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eriods of treatment ( minimum 6 month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s are divided into two group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rst line                2.  Second l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mycobacterial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64180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rst lin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oniazid (INH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ifamp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yrazinami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reptomycin (should not be the first line choi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Right Brace 3"/>
          <p:cNvSpPr/>
          <p:nvPr/>
        </p:nvSpPr>
        <p:spPr>
          <a:xfrm>
            <a:off x="3657600" y="2743200"/>
            <a:ext cx="380880" cy="24382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438280"/>
              <a:gd name="textAreaBottom" fmla="*/ 242856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1"/>
                </a:cubicBezTo>
                <a:lnTo>
                  <a:pt x="10800" y="10519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1"/>
                </a:cubicBezTo>
                <a:lnTo>
                  <a:pt x="10800" y="21319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4419720" y="2819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ven for first 8 weeks, followed by INH/RIF for 18 week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ver use a single drug therap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soniazid –rifampin combination administered for 9 months will cure 95-98% of cases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ddition of pyrazinamide/ethambutol for this combination for the first 2 months allows total duration to be reduced to 6 month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oniazi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ostatic for resting bacilli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cidal   for rapidly growing bacilli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 effective against intracellular  &amp; extracellular bacill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nhibits the synthesis of mycobacteri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ell wall ( inhibit the  synthesis of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colic acid 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TB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Latent TB in patients with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ositive tuberculin skin 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phylaxis against active TB in individual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ho ar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 great risk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360" y="762120"/>
            <a:ext cx="888552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9632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Peripheral neur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in &amp; needles sensation in the feet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Optic neuritis &amp;atrophy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yridoxine should be given in both cases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Hepatitis (toxic metabolite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patitis with INH, is age dependent; it is rare in persons younger than 20 years , risk increases with age and alcohol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 of IN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hibitor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low and fast acetylato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mp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RNA synthesi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y binding to DNA dependent RN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lymerase enzy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5000" y="2115720"/>
            <a:ext cx="7866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r. Ishfaq Bukha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ssociate Professor of Pharmac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llege of Medicine, KS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B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armless red-orange discoloration of bod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secretions  ( saliva, sweat, tears  …..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 Tell the patient about this effect.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n permanently stain contact lense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epatitis less common compared to IN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lu-like syndr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molytic anem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duc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lincally significsnt drug interactios such as warfarin, methadone will be metabolized fas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ambuto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 of mycobacterial arabinosyl transferase ( alters the cell barrier )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isrupts the assembly of mycobacterial cell wall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&amp; 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uberculosis in combination with other drug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mpaired  visual acuity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red-green color blindnes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 is contraindicated in children under 5 yea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yrazi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echanism of action is unknown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tive against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the end of lecture , the students shoul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etiology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common route for transmission of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es the out line for treatment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drugs used in the first &amp; second lin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ycobacterial  infections  mainly in multidrug resistance ca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t is important in short –course (6 month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gime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 of TB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patotoxicity (common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yperuricemi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gouty arthritis 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 fever &amp; skin ras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myci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7680" y="22096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s of protein synthesis by binding to 30 S ribosomal subuni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tive mainly  on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evere , life-threating form of T.B. as meningitis, disseminated diseas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Ot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phr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uromuscular bl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dication of 2</a:t>
            </a:r>
            <a:r>
              <a:rPr b="1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ine treatmen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sistance to the drugs of 1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li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ailure of clinical respon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re is contraindication for first line  dru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sed in typical &amp; atypical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 are more toxic than 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io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the synthesis of   mycolic aci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 a secondary line agent  ,treatment of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erratogenic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Poorly toler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Because of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ef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ef1"/>
                </a:solidFill>
                <a:latin typeface="Times New Roman"/>
              </a:rPr>
              <a:t>Severe gastric irritation &amp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urological manifest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uoroquinolones (Ciprofloxacin 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against  multidrug- resistant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( continu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garding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echanism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erse eff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 inter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ind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pregnanc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breast fee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but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NA inhibi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ross –resistance with rifampin is comple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nzyme inducer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in prevention &amp;treatment of T.B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 prevention &amp; treatment of atypical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GIT intolera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range-red discoloration of body secretio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minosalicylic Acid (PAS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Folic acid synthe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a second line agent is used in the treatment of pulmonary &amp; other forms of tuberculosi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GIT upse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rystallur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Pregna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ntreated TB represents a great risk to the pregnant woman &amp; her fetus than the treatment itsel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rst line (INH, Ethmabutol and rifampicin) drugs are given for 9 months in normal d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reptomycin not us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Breast Fee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t is not a contraindication to receive drugs , but caution is recommend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poster_health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poster_swan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1007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tiolog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cobacterium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slow growing, an acid fast bacil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Koch was the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se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ycobacterium tuberculo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his staining technique in 1882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Picture 8" descr="robert"/>
          <p:cNvPicPr/>
          <p:nvPr/>
        </p:nvPicPr>
        <p:blipFill>
          <a:blip r:embed="rId1"/>
          <a:stretch/>
        </p:blipFill>
        <p:spPr>
          <a:xfrm>
            <a:off x="5410080" y="1143000"/>
            <a:ext cx="3505320" cy="2819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132_bacillus"/>
          <p:cNvPicPr/>
          <p:nvPr/>
        </p:nvPicPr>
        <p:blipFill>
          <a:blip r:embed="rId2"/>
          <a:stretch/>
        </p:blipFill>
        <p:spPr>
          <a:xfrm>
            <a:off x="5638680" y="44956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219640" y="1847880"/>
            <a:ext cx="37450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lnSpc>
                <a:spcPct val="12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Each year, 1% of the  global population is infected.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73160" indent="-173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532720" y="858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   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971640" y="5461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eorgia"/>
              </a:rPr>
              <a:t>Disease information: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Picture 5" descr="tuberculosis incidence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4608360" cy="36003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28600" y="5943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re than one third of the world's population has 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uberculos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poster_bab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poster_cough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9:22:10Z</dcterms:created>
  <dc:creator>DTK</dc:creator>
  <dc:description/>
  <dc:language>en-US</dc:language>
  <cp:lastModifiedBy>User</cp:lastModifiedBy>
  <dcterms:modified xsi:type="dcterms:W3CDTF">2016-02-04T09:48:28Z</dcterms:modified>
  <cp:revision>331</cp:revision>
  <dc:subject/>
  <dc:title>Antimycobacterial drugs</dc:title>
</cp:coreProperties>
</file>