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A944-A784-4D14-A230-6FD68688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D504-EA64-4AF2-824D-F860980794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9429-ACEF-445E-8522-3F548BE58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03E-F412-4E79-B874-6C909BDF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413-548C-4354-9CEA-1E22D4F3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A86-CAAE-429B-B7B0-D5B8D3A0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28B8-199C-4CC4-90C3-6145873F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8452-7FB5-4AF9-86BE-D73980B6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2A61-7057-403D-8C40-E557987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B751-45FE-4B16-A931-B4EE9CA3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191C-5529-490C-97DD-D8EB456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06F2-ECC2-436D-A140-FB138CD2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6FE1-7BAC-4041-B6B3-23798D19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FE85-CBDB-4FEA-8A5C-C672FA5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6863-2FBD-469B-B629-C09BD88D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736A-A94A-4D1B-88FC-897EAD33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EC6B-D032-4A56-BFDC-B00BCCE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1F9F-3537-416E-8148-553ACED3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C72A-96CE-432C-BFDC-AE659C33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43CB-4DF8-418D-A0E2-571745EB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49F-7E95-4674-AC75-8B938D93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27C-4DF9-4B6E-8511-B216C798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1A1-BBD4-4DEF-957F-E09FEE99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CC12-AB8A-4099-9931-12F127D2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4D8-2608-4CE2-953E-EAF1AB56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583-F2B4-40CE-9A4F-3A4EA48C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976-3CE8-419E-80E7-3D035210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686A-1E53-4AB2-94BB-10A9324D0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E65-6CD6-4DFB-895B-D3493F2810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a0aff"/>
                </a:solidFill>
                <a:latin typeface="Arial"/>
              </a:rPr>
              <a:t>lateral w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per part of nasal sep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D57-839E-47FB-A628-65DA162FF5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4" descr="F0929065"/>
          <p:cNvPicPr/>
          <p:nvPr/>
        </p:nvPicPr>
        <p:blipFill>
          <a:blip r:embed="rId1"/>
          <a:srcRect l="58177" t="4538" r="2653" b="5452"/>
          <a:stretch/>
        </p:blipFill>
        <p:spPr>
          <a:xfrm>
            <a:off x="4284720" y="189000"/>
            <a:ext cx="4608360" cy="3240000"/>
          </a:xfrm>
          <a:prstGeom prst="rect">
            <a:avLst/>
          </a:prstGeom>
          <a:ln w="9360">
            <a:solidFill>
              <a:srgbClr val="0079a4"/>
            </a:solidFill>
            <a:miter/>
          </a:ln>
        </p:spPr>
      </p:pic>
      <p:pic>
        <p:nvPicPr>
          <p:cNvPr id="144" name="Picture 4" descr="F0929065"/>
          <p:cNvPicPr/>
          <p:nvPr/>
        </p:nvPicPr>
        <p:blipFill>
          <a:blip r:embed="rId2"/>
          <a:srcRect l="1761" t="4538" r="44954" b="5452"/>
          <a:stretch/>
        </p:blipFill>
        <p:spPr>
          <a:xfrm>
            <a:off x="4211640" y="3500280"/>
            <a:ext cx="4681440" cy="316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1103400" y="176040"/>
            <a:ext cx="6583320" cy="605160"/>
            <a:chOff x="1103400" y="176040"/>
            <a:chExt cx="6583320" cy="60516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1103400" y="176040"/>
              <a:ext cx="6583320" cy="6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sk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4DC5-8336-489B-A96D-F83A708D0B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228600"/>
            <a:ext cx="3160440" cy="5897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axillary division of the trigem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Anterior ethemoid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, nasopalatine and palatine branches of the ptergopalatine gangl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456840"/>
            <a:ext cx="3429000" cy="6095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Maxillary; sphenopalatine arte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Facial; superior labial 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Ophthalmic; ethmoidal  arter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vestibule, and anterior portion of the sept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ubmucosal plexus by veins accompany the arteries which drain into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4495680" y="4572000"/>
            <a:ext cx="129564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553080" y="1523880"/>
            <a:ext cx="114300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  <a:ea typeface="Tahoma"/>
              </a:rPr>
              <a:t>ethmoid, sphenoid, frontal bones &amp;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cervical 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erior nasal aper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itudinal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71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2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C:\Documents and Settings\user\My Documents\My Pictures\long.png"/>
          <p:cNvPicPr/>
          <p:nvPr/>
        </p:nvPicPr>
        <p:blipFill>
          <a:blip r:embed="rId1"/>
          <a:srcRect l="21432" t="20259" r="0" b="0"/>
          <a:stretch/>
        </p:blipFill>
        <p:spPr>
          <a:xfrm>
            <a:off x="4691160" y="1371600"/>
            <a:ext cx="4071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5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103320" y="4748040"/>
            <a:ext cx="935064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tonsils 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of auditory t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elevation 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pingopharyngeal fold 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yngeal rec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91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62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 cavity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teral wal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located between them in                      a depression called the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‘t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nsillar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fossa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4343400" y="1295280"/>
            <a:ext cx="4546440" cy="4419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6858000" y="4876920"/>
            <a:ext cx="2057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atoglossal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4038480" y="5943600"/>
            <a:ext cx="190512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ato-pharyngeal  f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324480" y="6172200"/>
            <a:ext cx="17528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nsillar fo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8" name="Straight Arrow Connector 9"/>
          <p:cNvCxnSpPr/>
          <p:nvPr/>
        </p:nvCxnSpPr>
        <p:spPr>
          <a:xfrm flipH="1" flipV="1">
            <a:off x="6324120" y="3504600"/>
            <a:ext cx="1067760" cy="14482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9" name="Straight Arrow Connector 11"/>
          <p:cNvCxnSpPr/>
          <p:nvPr/>
        </p:nvCxnSpPr>
        <p:spPr>
          <a:xfrm flipV="1">
            <a:off x="4875840" y="3733200"/>
            <a:ext cx="11437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0" name="Straight Arrow Connector 12"/>
          <p:cNvCxnSpPr/>
          <p:nvPr/>
        </p:nvCxnSpPr>
        <p:spPr>
          <a:xfrm flipH="1" flipV="1">
            <a:off x="6171480" y="3656880"/>
            <a:ext cx="762840" cy="2515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Content Placeholder 4" descr=""/>
          <p:cNvPicPr/>
          <p:nvPr/>
        </p:nvPicPr>
        <p:blipFill>
          <a:blip r:embed="rId1"/>
          <a:stretch/>
        </p:blipFill>
        <p:spPr>
          <a:xfrm>
            <a:off x="4527720" y="4038480"/>
            <a:ext cx="3809880" cy="2657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masses of lymphoid tissue located in the lateral wall of the oropharynx in the tonsillar foss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962520" y="111240"/>
            <a:ext cx="49402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latine tonsils; rel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la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gloss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alatopharyngeal ar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oft pal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posterior 1\3 of the tong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cavity of the oropharyn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ter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the superior constrictor of the pharynx separated from it by loss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3440" y="635040"/>
            <a:ext cx="30081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32637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terial 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nsillar arteries; from the lingual, fascial, ascending pharyngeal,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nous drain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external palatine, pharyngeal, and fascial vei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mphatic drain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o the upper deep cervical 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"/>
          <p:cNvSpPr/>
          <p:nvPr/>
        </p:nvSpPr>
        <p:spPr>
          <a:xfrm>
            <a:off x="7620120" y="914400"/>
            <a:ext cx="91440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7924680" y="1371600"/>
            <a:ext cx="99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7924680" y="2057400"/>
            <a:ext cx="533520" cy="152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6781680" y="2438280"/>
            <a:ext cx="45720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5334120" y="914400"/>
            <a:ext cx="457200" cy="331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5334120" y="2514600"/>
            <a:ext cx="38088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724280" y="2286000"/>
            <a:ext cx="304920" cy="228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943440" y="1371600"/>
            <a:ext cx="476280" cy="304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larynx  through 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Extends from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upper border of epiglottis </a:t>
            </a: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depression situated on either side of the laryngeal inlet is called ‘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ches of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ternal laryngeal (&amp; recurrent laryngeal) ner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23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Nas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Or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opharynx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otor Nerve Su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114440" y="304920"/>
            <a:ext cx="4724280" cy="266688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 art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66ff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4920"/>
            <a:ext cx="8540640" cy="40388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, its parts, and the related structur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hard (bony) pal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441972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057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&amp;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350496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conch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the surface area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 re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mea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eive the openings of th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Paranasal sin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Arial"/>
              </a:rPr>
              <a:t>Nasolacrimal du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Aly Mohamed</cp:lastModifiedBy>
  <dcterms:modified xsi:type="dcterms:W3CDTF">2016-01-17T08:37:14Z</dcterms:modified>
  <cp:revision>169</cp:revision>
  <dc:subject/>
  <dc:title>Nose, Nasal cavity &amp; Paranasal sinuses &amp; Pharynx</dc:title>
</cp:coreProperties>
</file>