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780E-B5E3-4DA4-ADE2-161133820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0E98-9522-4BF7-A578-B944C4D97E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3F5D-BB7B-4BF4-A351-6570C612EC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E92-7C86-4329-B276-BCA00D56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C5A-ABA6-4811-8FA2-553444F9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0A0-A126-46C3-A8E8-B01E736C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CB7-39A2-433A-B888-0B26D0B2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94C6-49AB-46D4-A4F5-AB4DDC3F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C0ED-4919-41E4-8B00-073B49DE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2E78-4134-4F23-8C88-5C0EF0CD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1472-69AE-4931-B712-42CB3492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D23E-8CAE-4649-B62F-B01475A6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9E3E-85B6-4D1F-8F65-DDB9CD7A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EDA4-F28C-4C40-8C55-9CDAFE91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F39-D74F-4EE5-B981-75163476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43C2-B394-457E-A12B-BC7714EC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3F55-84D2-48B3-B020-039A4768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63B2-3E69-466A-B1E4-3B423DE2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CD6F-2DD8-4228-B949-967F114F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559E-54B4-4A85-94F0-572C2751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D2F-8563-4B0F-A44B-D979AD73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CE9-FFE3-4990-B7A9-9B9453C1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DE4-C1C0-4484-BB4E-733338F2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0B1-28DE-472B-982D-8D64E6DC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57F-2FF1-4366-973F-B63E6330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015-5DFD-4C5A-885F-83214339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D580-3FC8-4890-9AF5-92C764EE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BCA7-4D86-4E8C-AC98-C335D953F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f. Saeed Maka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C6A8-E777-41E8-8D3C-298BB940FD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ismillah_458"/>
          <p:cNvPicPr/>
          <p:nvPr/>
        </p:nvPicPr>
        <p:blipFill>
          <a:blip r:embed="rId1"/>
          <a:stretch/>
        </p:blipFill>
        <p:spPr>
          <a:xfrm>
            <a:off x="2743200" y="2438280"/>
            <a:ext cx="37339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816360" cy="647640"/>
          </a:xfrm>
          <a:prstGeom prst="rect">
            <a:avLst/>
          </a:prstGeom>
          <a:gradFill rotWithShape="0">
            <a:gsLst>
              <a:gs pos="0">
                <a:srgbClr val="90f1f1"/>
              </a:gs>
              <a:gs pos="100000">
                <a:srgbClr val="dff9f9"/>
              </a:gs>
            </a:gsLst>
            <a:lin ang="8100000"/>
          </a:gra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74ff"/>
                </a:solidFill>
                <a:latin typeface="Arial"/>
              </a:rPr>
              <a:t>Nasal muc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99720"/>
            <a:ext cx="4143240" cy="5597640"/>
          </a:xfrm>
          <a:prstGeom prst="rect">
            <a:avLst/>
          </a:prstGeom>
          <a:gradFill rotWithShape="0">
            <a:gsLst>
              <a:gs pos="0">
                <a:srgbClr val="91b7d6"/>
              </a:gs>
              <a:gs pos="100000">
                <a:srgbClr val="dfe9f1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Olfactory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ic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contains olfactory nerv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present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oof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a0aff"/>
                </a:solidFill>
                <a:latin typeface="Arial"/>
              </a:rPr>
              <a:t>lateral w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per part of nasal sept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n the lateral w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ines the upper surfac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conch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henoethmoidal re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n the medial w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in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nasal sept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DCFC-5733-4232-9DCE-4E4298FB5A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F0929065"/>
          <p:cNvPicPr/>
          <p:nvPr/>
        </p:nvPicPr>
        <p:blipFill>
          <a:blip r:embed="rId1"/>
          <a:srcRect l="58177" t="4538" r="2653" b="5452"/>
          <a:stretch/>
        </p:blipFill>
        <p:spPr>
          <a:xfrm>
            <a:off x="4284720" y="189000"/>
            <a:ext cx="4608360" cy="3240000"/>
          </a:xfrm>
          <a:prstGeom prst="rect">
            <a:avLst/>
          </a:prstGeom>
          <a:ln w="9360">
            <a:solidFill>
              <a:srgbClr val="0079a4"/>
            </a:solidFill>
            <a:miter/>
          </a:ln>
        </p:spPr>
      </p:pic>
      <p:pic>
        <p:nvPicPr>
          <p:cNvPr id="144" name="Picture 4" descr="F0929065"/>
          <p:cNvPicPr/>
          <p:nvPr/>
        </p:nvPicPr>
        <p:blipFill>
          <a:blip r:embed="rId2"/>
          <a:srcRect l="1761" t="4538" r="44954" b="5452"/>
          <a:stretch/>
        </p:blipFill>
        <p:spPr>
          <a:xfrm>
            <a:off x="4211640" y="3500280"/>
            <a:ext cx="468144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Rectangle 2"/>
          <p:cNvGrpSpPr/>
          <p:nvPr/>
        </p:nvGrpSpPr>
        <p:grpSpPr>
          <a:xfrm>
            <a:off x="1103400" y="176040"/>
            <a:ext cx="6583320" cy="605160"/>
            <a:chOff x="1103400" y="176040"/>
            <a:chExt cx="6583320" cy="605160"/>
          </a:xfrm>
        </p:grpSpPr>
        <p:pic>
          <p:nvPicPr>
            <p:cNvPr id="146" name="Rectangle 2" descr=""/>
            <p:cNvPicPr/>
            <p:nvPr/>
          </p:nvPicPr>
          <p:blipFill>
            <a:blip r:embed="rId1"/>
            <a:stretch/>
          </p:blipFill>
          <p:spPr>
            <a:xfrm>
              <a:off x="1103400" y="176040"/>
              <a:ext cx="6583320" cy="6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116000" y="189000"/>
              <a:ext cx="65516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Arial"/>
                  <a:ea typeface="Aharoni"/>
                </a:rPr>
                <a:t>RESPIRATORY MUCOS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4508640"/>
            <a:ext cx="8424720" cy="2349360"/>
          </a:xfrm>
          <a:prstGeom prst="rect">
            <a:avLst/>
          </a:prstGeom>
          <a:gradFill rotWithShape="0">
            <a:gsLst>
              <a:gs pos="0">
                <a:srgbClr val="688b98"/>
              </a:gs>
              <a:gs pos="100000">
                <a:srgbClr val="b5ef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ck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iliated highly vascular and contains mucous glands &amp; goblet cel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t line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wer part </a:t>
            </a: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of the nasal cav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It functions to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oisten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lean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161616"/>
                </a:solidFill>
                <a:uFillTx/>
                <a:latin typeface="Arial"/>
              </a:rPr>
              <a:t>warm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the inspired a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The air 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moistened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by the secretion of numerous serous gla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It 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cleaned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by the removal of the dust particles by the ciliary action of the columnar ciliated epithelium that covers the muc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The air </a:t>
            </a:r>
            <a:r>
              <a:rPr b="0" lang="en-US" sz="1800" spc="-1" strike="noStrike">
                <a:solidFill>
                  <a:srgbClr val="6e90ad"/>
                </a:solidFill>
                <a:latin typeface="Arial"/>
              </a:rPr>
              <a:t>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warmed</a:t>
            </a:r>
            <a:r>
              <a:rPr b="0" lang="en-US" sz="1800" spc="-1" strike="noStrike">
                <a:solidFill>
                  <a:srgbClr val="6e90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b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submucous venous plexu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vestibule is lined by sk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2518-23D5-4F15-A1EA-A6B29491B2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9347834A"/>
          <p:cNvPicPr/>
          <p:nvPr/>
        </p:nvPicPr>
        <p:blipFill>
          <a:blip r:embed="rId2"/>
          <a:srcRect l="2020" t="6816" r="3041" b="4550"/>
          <a:stretch/>
        </p:blipFill>
        <p:spPr>
          <a:xfrm>
            <a:off x="395280" y="836640"/>
            <a:ext cx="7632720" cy="36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0" y="685800"/>
            <a:ext cx="300816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Nerve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228600"/>
            <a:ext cx="3160440" cy="5897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lfactory mucosa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upplied by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olfactory ner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erves of general sensation are derived fro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ophthalm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axillary division of the trigeminal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Anterior ethemoidal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, nasopalatine and palatine branches of the ptergopalatine gangl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0" descr="F66122-008-f232"/>
          <p:cNvPicPr/>
          <p:nvPr/>
        </p:nvPicPr>
        <p:blipFill>
          <a:blip r:embed="rId1"/>
          <a:stretch/>
        </p:blipFill>
        <p:spPr>
          <a:xfrm>
            <a:off x="3654360" y="2057400"/>
            <a:ext cx="54896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19360" y="761760"/>
            <a:ext cx="42670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ood supp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456840"/>
            <a:ext cx="3429000" cy="6095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Arterial Suppl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Branches of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Maxillary; sphenopalatine arte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Facial; superior labial 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Ophthalmic; ethmoidal  arter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The arteries make a rich anastomosis in the region of the vestibule, and anterior portion of the sept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Venous Drainag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ubmucosal plexus by veins accompany the arteries which drain into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faci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ophthalmi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,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spheno-palatine vei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F66122-008-f230"/>
          <p:cNvPicPr/>
          <p:nvPr/>
        </p:nvPicPr>
        <p:blipFill>
          <a:blip r:embed="rId1"/>
          <a:stretch/>
        </p:blipFill>
        <p:spPr>
          <a:xfrm>
            <a:off x="3886200" y="2438280"/>
            <a:ext cx="51116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505320" cy="71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Rounded MT Bold"/>
                <a:ea typeface="Tahoma"/>
              </a:rPr>
              <a:t>Lymphatic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lymphatics from t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Vestibul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rains into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bmandibul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lymph no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Rest of the cavit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rains into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upper deep cerv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lymph no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F66122-008-f233"/>
          <p:cNvPicPr/>
          <p:nvPr/>
        </p:nvPicPr>
        <p:blipFill>
          <a:blip r:embed="rId1"/>
          <a:stretch/>
        </p:blipFill>
        <p:spPr>
          <a:xfrm>
            <a:off x="3575160" y="1584360"/>
            <a:ext cx="5111640" cy="47401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4495680" y="4572000"/>
            <a:ext cx="1295640" cy="304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553080" y="1523880"/>
            <a:ext cx="1143000" cy="304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Rounded MT Bold"/>
              </a:rPr>
              <a:t>Paranasal Sin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48006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Air filled caviti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located in the bones around the nasal cavity: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  <a:ea typeface="Tahoma"/>
              </a:rPr>
              <a:t>ethmoid, sphenoid, frontal bones &amp; maxilla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Lined by respiratory mucos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which is continuous with the mucosa of the nasal ca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Drain into the nasal ca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Rounded MT Bold"/>
              </a:rPr>
              <a:t>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Lighten the sk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Act as resonant chambers for spee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ir conditioning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he respiratory mucosal lining helps in warming, cleaning and moistening the incoming ai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ClipArt Placeholder 6" descr="pns"/>
          <p:cNvPicPr/>
          <p:nvPr/>
        </p:nvPicPr>
        <p:blipFill>
          <a:blip r:embed="rId1"/>
          <a:srcRect l="3457" t="12704" r="2000" b="3383"/>
          <a:stretch/>
        </p:blipFill>
        <p:spPr>
          <a:xfrm>
            <a:off x="5103720" y="1600200"/>
            <a:ext cx="39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4727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Arial Rounded MT Bold"/>
                <a:ea typeface="Arial Unicode MS"/>
              </a:rPr>
              <a:t>Pharyn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724640" cy="541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ular tube lying behind th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oral cav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laryn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rom the base of the skull to level of the 6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cervical verteb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ere it is continuous with the esoph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terior wall is deficient and shows (from above downwar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terior nasal aper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pening of the oral ca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ryngeal in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uscles arranged 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ir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itudinal lay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C:\Documents and Settings\user\My Documents\My Pictures\pharynx1.jpg"/>
          <p:cNvPicPr/>
          <p:nvPr/>
        </p:nvPicPr>
        <p:blipFill>
          <a:blip r:embed="rId1"/>
          <a:srcRect l="-434" t="1720" r="7410" b="28506"/>
          <a:stretch/>
        </p:blipFill>
        <p:spPr>
          <a:xfrm>
            <a:off x="4952880" y="304920"/>
            <a:ext cx="3200400" cy="2890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1"/>
          <p:cNvSpPr/>
          <p:nvPr/>
        </p:nvSpPr>
        <p:spPr>
          <a:xfrm>
            <a:off x="601992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60199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6" descr="C:\Documents and Settings\user\My Documents\My Pictures\phnx.jpg"/>
          <p:cNvPicPr/>
          <p:nvPr/>
        </p:nvPicPr>
        <p:blipFill>
          <a:blip r:embed="rId2"/>
          <a:srcRect l="0" t="2520" r="0" b="6602"/>
          <a:stretch/>
        </p:blipFill>
        <p:spPr>
          <a:xfrm>
            <a:off x="5029200" y="3352680"/>
            <a:ext cx="31240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171" name="Straight Arrow Connector 12"/>
          <p:cNvCxnSpPr/>
          <p:nvPr/>
        </p:nvCxnSpPr>
        <p:spPr>
          <a:xfrm>
            <a:off x="6933240" y="1219320"/>
            <a:ext cx="76680" cy="1219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2" name="TextBox 1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phnx"/>
          <p:cNvPicPr/>
          <p:nvPr/>
        </p:nvPicPr>
        <p:blipFill>
          <a:blip r:embed="rId1"/>
          <a:srcRect l="4108" t="6849" r="4108" b="2740"/>
          <a:stretch/>
        </p:blipFill>
        <p:spPr>
          <a:xfrm>
            <a:off x="4648320" y="838080"/>
            <a:ext cx="3646440" cy="32767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Circular (Constrictor) Mus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10480" cy="213372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nc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l the bolus of food down into the esophag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fibers of the inferior constrictor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ricopharyge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ct as a sphincter, preventing the entry of air into the esophagus between the acts of swallow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647712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640080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6400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80880" y="838080"/>
            <a:ext cx="4114800" cy="320040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in numb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uperior constricto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iddle constrictor 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Inferior constri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muscles overlap each 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Longitudinal Mus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4000" cy="457200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in numb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ylopharyng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pingopharyng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latpharyng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Func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e the larynx &amp; pharynx during swallo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C:\Documents and Settings\user\My Documents\My Pictures\long.png"/>
          <p:cNvPicPr/>
          <p:nvPr/>
        </p:nvPicPr>
        <p:blipFill>
          <a:blip r:embed="rId1"/>
          <a:srcRect l="21432" t="20259" r="0" b="0"/>
          <a:stretch/>
        </p:blipFill>
        <p:spPr>
          <a:xfrm>
            <a:off x="4691160" y="1371600"/>
            <a:ext cx="4071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4800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harynx is divided into three 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sopharynx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opharynx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ryngopharynx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257800" y="1219320"/>
            <a:ext cx="3616200" cy="3516120"/>
          </a:xfrm>
          <a:prstGeom prst="rect">
            <a:avLst/>
          </a:prstGeom>
          <a:ln w="0">
            <a:noFill/>
          </a:ln>
        </p:spPr>
      </p:pic>
      <p:sp>
        <p:nvSpPr>
          <p:cNvPr id="185" name="Oval 4"/>
          <p:cNvSpPr/>
          <p:nvPr/>
        </p:nvSpPr>
        <p:spPr>
          <a:xfrm>
            <a:off x="6324480" y="39625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6477120" y="3352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47712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Eras Bold ITC"/>
                <a:ea typeface="Aharoni"/>
              </a:rPr>
              <a:t>Nose, Nasal cavity, </a:t>
            </a: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Eras Bold ITC"/>
                <a:ea typeface="Aharoni"/>
              </a:rPr>
              <a:t>Paranasal Sinuses &amp; Pharyn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Rectangle 4" descr=""/>
          <p:cNvPicPr/>
          <p:nvPr/>
        </p:nvPicPr>
        <p:blipFill>
          <a:blip r:embed="rId1"/>
          <a:stretch/>
        </p:blipFill>
        <p:spPr>
          <a:xfrm>
            <a:off x="-103320" y="4748040"/>
            <a:ext cx="935064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00600" y="228600"/>
            <a:ext cx="419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Nas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380520"/>
            <a:ext cx="4419720" cy="678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2"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ds from the base of skull to the soft pal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es with the nasal cavity through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posterior nasal aper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ryngeal tonsils (adenoides) present in the submucosa covering the roo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al wall show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ing of auditory tu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al elevation (produced by posterior margin of the auditory tub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al ton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pingopharyngeal fold (raised by salpingo-pharyngeus musc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yngeal rec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105520" y="762120"/>
            <a:ext cx="3200400" cy="3111480"/>
          </a:xfrm>
          <a:prstGeom prst="rect">
            <a:avLst/>
          </a:prstGeom>
          <a:ln w="0">
            <a:noFill/>
          </a:ln>
        </p:spPr>
      </p:pic>
      <p:pic>
        <p:nvPicPr>
          <p:cNvPr id="191" name="ClipArt Placeholder 6" descr="C:\Documents and Settings\user\My Documents\My Pictures\jhu.jpg"/>
          <p:cNvPicPr/>
          <p:nvPr/>
        </p:nvPicPr>
        <p:blipFill>
          <a:blip r:embed="rId2"/>
          <a:srcRect l="0" t="0" r="0" b="30226"/>
          <a:stretch/>
        </p:blipFill>
        <p:spPr>
          <a:xfrm>
            <a:off x="4699080" y="3429000"/>
            <a:ext cx="4444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67080" y="228240"/>
            <a:ext cx="427032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Or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380520"/>
            <a:ext cx="3810240" cy="62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es behind the mouth cavity, communicates with the oral cavity through the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oropharyngeal isth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from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oft pal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upper border of epiglot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teral wall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sh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opharyngeal fol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oglossal f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ine tonsil 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located between them in                      a depression called the 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‘t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onsillar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fossa’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ClipArt Placeholder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4343400" y="1295280"/>
            <a:ext cx="4546440" cy="44197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6858000" y="48769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atoglossal f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4038480" y="5943600"/>
            <a:ext cx="1905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lato-pharyngeal  f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6324480" y="6172200"/>
            <a:ext cx="17528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nsillar fos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8" name="Straight Arrow Connector 9"/>
          <p:cNvCxnSpPr/>
          <p:nvPr/>
        </p:nvCxnSpPr>
        <p:spPr>
          <a:xfrm flipH="1" flipV="1">
            <a:off x="6324120" y="3504600"/>
            <a:ext cx="1067760" cy="1448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9" name="Straight Arrow Connector 11"/>
          <p:cNvCxnSpPr/>
          <p:nvPr/>
        </p:nvCxnSpPr>
        <p:spPr>
          <a:xfrm flipV="1">
            <a:off x="4875840" y="3733200"/>
            <a:ext cx="1143720" cy="2439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0" name="Straight Arrow Connector 12"/>
          <p:cNvCxnSpPr/>
          <p:nvPr/>
        </p:nvCxnSpPr>
        <p:spPr>
          <a:xfrm flipH="1" flipV="1">
            <a:off x="6171480" y="3656880"/>
            <a:ext cx="762840" cy="25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tine tonsi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Content Placeholder 4" descr=""/>
          <p:cNvPicPr/>
          <p:nvPr/>
        </p:nvPicPr>
        <p:blipFill>
          <a:blip r:embed="rId1"/>
          <a:stretch/>
        </p:blipFill>
        <p:spPr>
          <a:xfrm>
            <a:off x="4527720" y="4038480"/>
            <a:ext cx="3809880" cy="2657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masses of lymphoid tissue located in the lateral wall of the oropharynx in the tonsillar fos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one is covered by mucous membrane and laterally by fibrous tissue (capsu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reaches a maximum size during childhood,  after puberty it diminishes in size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3962520" y="111240"/>
            <a:ext cx="49402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atine tonsils; re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1680" y="1523520"/>
            <a:ext cx="854064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relat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palatoglossal 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st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palatopharyngeal 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p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soft pal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f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posterior 1\3 of the tong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di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cavity of the oropharyn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ter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superior constrictor of the pharynx separated from it by loss connective tissue through which descends the external palatine vein ,                                          , loop of the facial artery and                                                                             , the internal carotid artery which lies behind and lateral to the tonsils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3440" y="635040"/>
            <a:ext cx="30081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Content Placeholder 5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5112000" cy="3057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3263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terial supp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onsillar arteries; from the lingual, fascial, ascending pharyngeal, and greater palati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nous drainag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external palatine, pharyngeal, and fascial vei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mphatic drain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o the upper deep cervical (jugulodigastric nod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3962520" y="853920"/>
            <a:ext cx="5048280" cy="19148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7620120" y="914400"/>
            <a:ext cx="914400" cy="152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7924680" y="1371600"/>
            <a:ext cx="997200" cy="228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7924680" y="2057400"/>
            <a:ext cx="533520" cy="152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781680" y="2438280"/>
            <a:ext cx="457200" cy="228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5334120" y="914400"/>
            <a:ext cx="457200" cy="331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5334120" y="2514600"/>
            <a:ext cx="380880" cy="228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724280" y="2286000"/>
            <a:ext cx="304920" cy="228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943440" y="1371600"/>
            <a:ext cx="476280" cy="304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498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Laryng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4953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Lies behind the laryngeal inlet &amp; the posterior surface of laryn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es with the larynx  through the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laryngeal in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Extends from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upper border of epiglottis </a:t>
            </a: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lower border of cricoid cartil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depression situated on either side of the laryngeal inlet is called ‘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riform fossa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common site for the lodging of foreign bod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nches of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ternal laryngeal (&amp; recurrent laryngeal) ner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e deep to the mucous membrane of the fossa and are vulnerable to injury during removal of a foreign bo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ClipArt Placeholder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486400" y="228600"/>
            <a:ext cx="3381480" cy="3286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:\Documents and Settings\user\My Documents\My Pictures\vfd.png"/>
          <p:cNvPicPr/>
          <p:nvPr/>
        </p:nvPicPr>
        <p:blipFill>
          <a:blip r:embed="rId2"/>
          <a:stretch/>
        </p:blipFill>
        <p:spPr>
          <a:xfrm>
            <a:off x="5638680" y="3581280"/>
            <a:ext cx="2971800" cy="2989440"/>
          </a:xfrm>
          <a:prstGeom prst="rect">
            <a:avLst/>
          </a:prstGeom>
          <a:ln w="0">
            <a:noFill/>
          </a:ln>
        </p:spPr>
      </p:pic>
      <p:cxnSp>
        <p:nvCxnSpPr>
          <p:cNvPr id="223" name="Straight Arrow Connector 6"/>
          <p:cNvCxnSpPr/>
          <p:nvPr/>
        </p:nvCxnSpPr>
        <p:spPr>
          <a:xfrm flipV="1">
            <a:off x="6552000" y="4800240"/>
            <a:ext cx="7628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240" y="228240"/>
            <a:ext cx="3809880" cy="624852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 Rounded MT Bold"/>
              </a:rPr>
              <a:t>Nerve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ens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Nasopharynx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xillary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Oropharynx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lossopharyngeal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Laryngopharynx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agus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Motor Nerve Supp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 the muscles of pharynx are supplied by the pharyngeal plexus.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cept ;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the Stylopharyngeus is supplied by the glossopharyngeal ner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114440" y="304920"/>
            <a:ext cx="4724280" cy="266688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 Rounded MT Bold"/>
              </a:rPr>
              <a:t>Arterial supply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branche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cending pharyngeal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cending palatine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ial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xillary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gual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114800" y="3124080"/>
            <a:ext cx="4724280" cy="12956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ff"/>
                </a:solidFill>
                <a:latin typeface="Arial Rounded MT Bold"/>
              </a:rPr>
              <a:t>Veins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in into pharyngeal venous plexus, which drains into the internal jugular v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114800" y="4495680"/>
            <a:ext cx="4724280" cy="19814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66ff"/>
                </a:solidFill>
                <a:latin typeface="Arial Rounded MT Bold"/>
              </a:rPr>
              <a:t>lymphatics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drain into the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deep cervical lymph 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nodes either directly, or indirectly via the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retropharyngeal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ratracheal lymph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lilly4"/>
          <p:cNvPicPr/>
          <p:nvPr/>
        </p:nvPicPr>
        <p:blipFill>
          <a:blip r:embed="rId1"/>
          <a:stretch/>
        </p:blipFill>
        <p:spPr>
          <a:xfrm>
            <a:off x="2286000" y="1719360"/>
            <a:ext cx="4191120" cy="31352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981080" y="22096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cript MT Bold"/>
              </a:rPr>
              <a:t>Thank You &amp; Good Lu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1680" y="1294920"/>
            <a:ext cx="8540640" cy="40388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t the end of the lecture, the students should be abl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boundaries of the 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nasal conchae and mea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the openings in each me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aranasal sinuses and thei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harynx, its parts, and the related structu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Rounded MT Bold"/>
              </a:rPr>
              <a:t>N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cathnose"/>
          <p:cNvPicPr/>
          <p:nvPr/>
        </p:nvPicPr>
        <p:blipFill>
          <a:blip r:embed="rId1"/>
          <a:stretch/>
        </p:blipFill>
        <p:spPr>
          <a:xfrm>
            <a:off x="6172200" y="914400"/>
            <a:ext cx="2682720" cy="2614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7696080" y="9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6553080" y="2133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3152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6705720" y="2743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7543800" y="2362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" name="Straight Arrow Connector 13"/>
          <p:cNvCxnSpPr/>
          <p:nvPr/>
        </p:nvCxnSpPr>
        <p:spPr>
          <a:xfrm flipH="1" flipV="1">
            <a:off x="7543080" y="2742480"/>
            <a:ext cx="1530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" name="Picture 7" descr="C:\Documents and Settings\user\My Documents\My Pictures\nasalcartilages.gif"/>
          <p:cNvPicPr/>
          <p:nvPr/>
        </p:nvPicPr>
        <p:blipFill>
          <a:blip r:embed="rId2"/>
          <a:stretch/>
        </p:blipFill>
        <p:spPr>
          <a:xfrm>
            <a:off x="3962520" y="2819520"/>
            <a:ext cx="2133360" cy="3684600"/>
          </a:xfrm>
          <a:prstGeom prst="rect">
            <a:avLst/>
          </a:prstGeom>
          <a:ln w="0">
            <a:noFill/>
          </a:ln>
        </p:spPr>
      </p:pic>
      <p:cxnSp>
        <p:nvCxnSpPr>
          <p:cNvPr id="103" name="Straight Arrow Connector 19"/>
          <p:cNvCxnSpPr/>
          <p:nvPr/>
        </p:nvCxnSpPr>
        <p:spPr>
          <a:xfrm flipH="1">
            <a:off x="5638320" y="4572000"/>
            <a:ext cx="610560" cy="99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4" name="Straight Arrow Connector 20"/>
          <p:cNvCxnSpPr/>
          <p:nvPr/>
        </p:nvCxnSpPr>
        <p:spPr>
          <a:xfrm flipH="1">
            <a:off x="5257440" y="4570920"/>
            <a:ext cx="99144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" name="Rectangle 3"/>
          <p:cNvSpPr/>
          <p:nvPr/>
        </p:nvSpPr>
        <p:spPr>
          <a:xfrm>
            <a:off x="0" y="3581280"/>
            <a:ext cx="3200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152280" y="914400"/>
            <a:ext cx="3733920" cy="175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external (anterior ) nar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r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 nostrils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  <a:ea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ead to the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3432240" cy="121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77000"/>
          </a:bodyPr>
          <a:p>
            <a:pPr lvl="1"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above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Bony skele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4495680" y="3048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29"/>
          <p:cNvSpPr/>
          <p:nvPr/>
        </p:nvSpPr>
        <p:spPr>
          <a:xfrm>
            <a:off x="4724280" y="3809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0"/>
          <p:cNvSpPr/>
          <p:nvPr/>
        </p:nvSpPr>
        <p:spPr>
          <a:xfrm>
            <a:off x="44197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Placeholder 5"/>
          <p:cNvSpPr/>
          <p:nvPr/>
        </p:nvSpPr>
        <p:spPr>
          <a:xfrm>
            <a:off x="6248520" y="3962520"/>
            <a:ext cx="213336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bel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by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  <a:ea typeface="Tahoma"/>
              </a:rPr>
              <a:t>plates of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hyaline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Straight Arrow Connector 20"/>
          <p:cNvCxnSpPr/>
          <p:nvPr/>
        </p:nvCxnSpPr>
        <p:spPr>
          <a:xfrm>
            <a:off x="3657240" y="3352680"/>
            <a:ext cx="1067400" cy="1533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3" name="Straight Arrow Connector 22"/>
          <p:cNvCxnSpPr/>
          <p:nvPr/>
        </p:nvCxnSpPr>
        <p:spPr>
          <a:xfrm>
            <a:off x="3656520" y="3352680"/>
            <a:ext cx="762840" cy="144864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Rounded MT Bold"/>
              </a:rPr>
              <a:t>Nasal Ca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3429000" cy="5181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xtends from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external (anterior) nar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o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posterior nares (choana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vided into right &amp; left halves by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 sept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ach half has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Latera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edial wall (septu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b8"/>
          <p:cNvPicPr/>
          <p:nvPr/>
        </p:nvPicPr>
        <p:blipFill>
          <a:blip r:embed="rId1"/>
          <a:srcRect l="3159" t="0" r="1451" b="15961"/>
          <a:stretch/>
        </p:blipFill>
        <p:spPr>
          <a:xfrm>
            <a:off x="4343400" y="3581280"/>
            <a:ext cx="4545000" cy="289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Documents and Settings\user\My Documents\My Pictures\xx.jpg"/>
          <p:cNvPicPr/>
          <p:nvPr/>
        </p:nvPicPr>
        <p:blipFill>
          <a:blip r:embed="rId2"/>
          <a:stretch/>
        </p:blipFill>
        <p:spPr>
          <a:xfrm>
            <a:off x="4495680" y="762120"/>
            <a:ext cx="3810240" cy="2762280"/>
          </a:xfrm>
          <a:prstGeom prst="rect">
            <a:avLst/>
          </a:prstGeom>
          <a:ln w="0">
            <a:noFill/>
          </a:ln>
        </p:spPr>
      </p:pic>
      <p:sp>
        <p:nvSpPr>
          <p:cNvPr id="118" name="Straight Connector 6"/>
          <p:cNvSpPr/>
          <p:nvPr/>
        </p:nvSpPr>
        <p:spPr>
          <a:xfrm flipH="1">
            <a:off x="6629400" y="4572000"/>
            <a:ext cx="7632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traight Connector 9"/>
          <p:cNvSpPr/>
          <p:nvPr/>
        </p:nvSpPr>
        <p:spPr>
          <a:xfrm>
            <a:off x="6629400" y="6019920"/>
            <a:ext cx="5335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traight Connector 11"/>
          <p:cNvSpPr/>
          <p:nvPr/>
        </p:nvSpPr>
        <p:spPr>
          <a:xfrm>
            <a:off x="6780960" y="4572000"/>
            <a:ext cx="38124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traight Connector 14"/>
          <p:cNvSpPr/>
          <p:nvPr/>
        </p:nvSpPr>
        <p:spPr>
          <a:xfrm>
            <a:off x="6705720" y="4572000"/>
            <a:ext cx="759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724280" y="685440"/>
            <a:ext cx="4191120" cy="3505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 Rounded MT Bold"/>
              </a:rPr>
              <a:t>Ro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arrow &amp; formed (from behind forward) by th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Body of spheno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Cribriform plate of ethmoid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Frontal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 bone &amp; cartilag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C:\Documents and Settings\user\My Documents\My Pictures\f0417-01.jpg"/>
          <p:cNvPicPr/>
          <p:nvPr/>
        </p:nvPicPr>
        <p:blipFill>
          <a:blip r:embed="rId1"/>
          <a:stretch/>
        </p:blipFill>
        <p:spPr>
          <a:xfrm>
            <a:off x="457200" y="762120"/>
            <a:ext cx="4194000" cy="3504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990720" y="4495680"/>
            <a:ext cx="647676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 Rounded MT Bold"/>
              </a:rPr>
              <a:t>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parates it from the oral cav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ormed by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hard (bony) pa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52480" y="1600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209680" y="1371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274320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327672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9" name="Straight Arrow Connector 9"/>
          <p:cNvCxnSpPr/>
          <p:nvPr/>
        </p:nvCxnSpPr>
        <p:spPr>
          <a:xfrm flipH="1" flipV="1">
            <a:off x="2286000" y="3351960"/>
            <a:ext cx="76680" cy="129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3581280" cy="556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 Rounded MT Bold"/>
                <a:ea typeface="Tahoma"/>
              </a:rPr>
              <a:t>Medial Wall (Nasal Sept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Osteocartilagino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part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orm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Perpendicular plate of ethmoid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Vom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eptal cartil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C:\Documents and Settings\user\My Documents\My Pictures\f0417-01.jpg"/>
          <p:cNvPicPr/>
          <p:nvPr/>
        </p:nvPicPr>
        <p:blipFill>
          <a:blip r:embed="rId1"/>
          <a:stretch/>
        </p:blipFill>
        <p:spPr>
          <a:xfrm>
            <a:off x="4114800" y="1523880"/>
            <a:ext cx="4376880" cy="365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2" name="TextBox 3"/>
          <p:cNvSpPr/>
          <p:nvPr/>
        </p:nvSpPr>
        <p:spPr>
          <a:xfrm>
            <a:off x="61722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3244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4864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1920" y="837720"/>
            <a:ext cx="441972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 Rounded MT Bold"/>
                <a:ea typeface="Tahoma"/>
              </a:rPr>
              <a:t>Lateral W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hows three horizontal bony projections,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p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iddle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&amp;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inferior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conch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Picture1"/>
          <p:cNvPicPr/>
          <p:nvPr/>
        </p:nvPicPr>
        <p:blipFill>
          <a:blip r:embed="rId1"/>
          <a:stretch/>
        </p:blipFill>
        <p:spPr>
          <a:xfrm>
            <a:off x="4648320" y="838080"/>
            <a:ext cx="4384440" cy="3318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04920" y="4419720"/>
            <a:ext cx="868680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cavity below each concha is called a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meat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and are named a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p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idd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&amp;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inf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corresponding to the conch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small space above the superior concha is the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sphenoethmoidal re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350496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concha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the surface area of the 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 rec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mea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eive the openings of th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Paranasal sin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Nasolacrimal 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886200" y="762120"/>
          <a:ext cx="4952880" cy="4657680"/>
        </p:xfrm>
        <a:graphic>
          <a:graphicData uri="http://schemas.openxmlformats.org/drawingml/2006/table">
            <a:tbl>
              <a:tblPr/>
              <a:tblGrid>
                <a:gridCol w="1371600"/>
                <a:gridCol w="3581280"/>
              </a:tblGrid>
              <a:tr h="125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ahoma"/>
                        </a:rPr>
                        <a:t>Spheno ethmoidal re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9a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phenoidal si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9a4"/>
                    </a:solidFill>
                  </a:tcPr>
                </a:tc>
              </a:tr>
              <a:tr h="102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perior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ahoma"/>
                          <a:ea typeface="Tahoma"/>
                        </a:rPr>
                        <a:t>posterior ethmoidal si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ddle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ddle ethmoidal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xillary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rontal &amp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he anterior ethmoidal sinus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</a:tr>
              <a:tr h="75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erior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nasolacrimal duc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22:08:28Z</dcterms:created>
  <dc:creator>Dr. Zeenat Zaidi</dc:creator>
  <dc:description/>
  <dc:language>en-US</dc:language>
  <cp:lastModifiedBy>Aly Mohamed</cp:lastModifiedBy>
  <dcterms:modified xsi:type="dcterms:W3CDTF">2016-01-17T08:37:14Z</dcterms:modified>
  <cp:revision>169</cp:revision>
  <dc:subject/>
  <dc:title>Nose, Nasal cavity &amp; Paranasal sinuses &amp; Pharynx</dc:title>
</cp:coreProperties>
</file>