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8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6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png" ContentType="image/png"/>
  <Override PartName="/ppt/media/image2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FF71-03A3-424C-AB77-3AAB430F5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29D8-BAA2-4A9C-841F-D63A57B3C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41B8-D1AC-45DF-84A4-34463E8E8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6CDF-0CEC-4F53-B62F-E80A19E5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1024-94CA-45B1-B83E-40BFB37B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7CB2-E44A-4C02-9294-75E3E59B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30B0-5193-4CEB-8E26-803FE72B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28EB-91CE-4D2D-850F-C1378575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E180-A147-4B4D-AA68-93F6DFB2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DB31-439B-4D76-91A7-D9C532A6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4F4D-22CB-48A7-9864-4ADDB93D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2D52-3FD2-46E0-B4D5-ED2D1F9D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6C62-3299-4A00-A71F-0BF7EADE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5032-E12D-428E-8AEE-4C7B28A7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B02C-7DC2-427F-865B-F919BA21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60B3-D530-476A-9BDB-8500650E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6471-3AA5-42C3-82D0-9E013577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84F0-3F7F-40D3-95DB-62C91C29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0625-2B8B-4A34-B2EA-BBB502AD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D4C2-12A6-4119-A891-153B939C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A9C44-1F64-4DBA-B3A7-2551A9B02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F601C-A8EA-43F9-B482-7B8AB5DC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89DC8-1A23-4C2A-A31C-D6BA75CF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92324-EC43-41C9-B36D-FAEF9A45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71E3F-C59C-48BF-87B7-08279E08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8B1A-3AF9-48C1-8EFA-AF2EF7E9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7135C-38BF-4B26-90C7-02B7875B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19AF1-F1A7-470B-BB20-32264FF2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C78DE-A95B-4A93-ACC7-A8640702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4C2CB-CB16-4D2A-9F7D-98E75574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0BF24-7CA9-4CC8-93F2-6ED85B42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B818B-4DA9-4F72-A209-ED6678B6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50A63-FAA4-4318-AB0D-380FB41ED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F4E03-FDC6-4CD3-8441-EA0947DC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ED401-F10B-43B5-852C-4CAC2C26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9E600-001A-408E-B107-4B12DAEC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908B-73C2-44A4-ADD9-38F8C722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28CE3-3ADD-4357-B74B-9D86B807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0F096-9746-4142-876A-6B70E77A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FEB3D-E406-466F-9F82-8DF1CE9E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04608-CD39-4792-B236-6A6A4407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C4E6A-5531-4216-ADBC-D3A8329E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4E64A-4EBE-4299-B8BA-ED3350ED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89D6B-E45F-453D-80F7-CC48AF72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B71DB-208F-4A18-9AA9-A9B99481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91B3C-28B9-4CB4-A1DC-CA683C55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A6EB-6DAD-434E-A9A2-7F6CCC1E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1E1A-3388-4316-B09F-BF0321A3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54FB-B0D0-41E2-9B20-B9D19E84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D7F4-8046-4B6A-AD12-08894FA0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0A27-B0E2-464C-9556-0C6EF5DB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1F47-14CD-49FE-BD86-D9E715097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79C9-36C6-4621-A80C-0A5B8A4E3F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374A-B48A-4F76-9C5C-3D1806B10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2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500F-6919-4833-9C24-B9C9178C20D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Gray965.pn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3124080" cy="228600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40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LEURA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&amp;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LU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Lower respiratory tract"/>
          <p:cNvPicPr/>
          <p:nvPr/>
        </p:nvPicPr>
        <p:blipFill>
          <a:blip r:embed="rId1"/>
          <a:srcRect l="30832" t="4169" r="6454" b="10417"/>
          <a:stretch/>
        </p:blipFill>
        <p:spPr>
          <a:xfrm>
            <a:off x="3657600" y="838080"/>
            <a:ext cx="5105520" cy="563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0" name="TextBox 4"/>
          <p:cNvSpPr/>
          <p:nvPr/>
        </p:nvSpPr>
        <p:spPr>
          <a:xfrm>
            <a:off x="228600" y="4952880"/>
            <a:ext cx="312408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eed Abuel Maka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RFACE ANATOMY OF L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4120" y="1219320"/>
            <a:ext cx="3581280" cy="5486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pex, anterior border and posterior bord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spond nearly to the lines of pleura but are slightly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away from the median pl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ferior margin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the pleura but more horizontally  and finally reaching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10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horacic sp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blique fissu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ed by a line extending fr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3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horacic sp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bliquel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nding at 6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costal carti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Transverse fissure: O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ly in the right lung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ed by a line extend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om 4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right costal cartil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 mee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oblique fis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Gray965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295280"/>
            <a:ext cx="495288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5" name="Rectangle 5"/>
          <p:cNvSpPr/>
          <p:nvPr/>
        </p:nvSpPr>
        <p:spPr>
          <a:xfrm>
            <a:off x="4191120" y="2666880"/>
            <a:ext cx="60948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E:\dad\Student Gray\3. Thorax\F66122-003-f105a.jpg"/>
          <p:cNvPicPr/>
          <p:nvPr/>
        </p:nvPicPr>
        <p:blipFill>
          <a:blip r:embed="rId3"/>
          <a:srcRect l="0" t="0" r="0" b="6754"/>
          <a:stretch/>
        </p:blipFill>
        <p:spPr>
          <a:xfrm>
            <a:off x="685800" y="1066680"/>
            <a:ext cx="7929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4191120" cy="76212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eural Effus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800600" y="380880"/>
            <a:ext cx="4191120" cy="609624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It is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bnormal accumulation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eural fluid about 300 ml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i="1" lang="en-US" sz="2400" spc="-1" strike="noStrike">
                <a:solidFill>
                  <a:srgbClr val="000000"/>
                </a:solidFill>
                <a:latin typeface="Garamond"/>
              </a:rPr>
              <a:t>Costodiaphragmatic pleural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ess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 , (normally 5-10 ml fluid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aus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ammation, TB, congestive heart disease and maligna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The lung is </a:t>
            </a:r>
            <a:r>
              <a:rPr b="0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compresse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the bronchi are narr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uscultatio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veal on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int &amp; decreased breathing sou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 compressed or collapsed lung lo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Dullness on percu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 the effu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7" descr="599_Pleural_Effusion"/>
          <p:cNvPicPr/>
          <p:nvPr/>
        </p:nvPicPr>
        <p:blipFill>
          <a:blip r:embed="rId1"/>
          <a:stretch/>
        </p:blipFill>
        <p:spPr>
          <a:xfrm>
            <a:off x="152280" y="1125360"/>
            <a:ext cx="4572000" cy="537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2120" y="244440"/>
            <a:ext cx="2286000" cy="822240"/>
          </a:xfrm>
          <a:prstGeom prst="rect">
            <a:avLst/>
          </a:prstGeom>
          <a:solidFill>
            <a:srgbClr val="e4f3f4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ndalus"/>
              </a:rPr>
              <a:t>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85480" y="1599840"/>
            <a:ext cx="3219480" cy="4971960"/>
          </a:xfrm>
          <a:prstGeom prst="rect">
            <a:avLst/>
          </a:prstGeom>
          <a:solidFill>
            <a:srgbClr val="9ed3d7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ed in the thoracic cavity, one on each side of the mediasti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lung 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Conical in sh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Covered by the visceral ple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uspended free in its own pleural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Attached to the mediastinum only by its root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C3FF4"/>
          <p:cNvPicPr/>
          <p:nvPr/>
        </p:nvPicPr>
        <p:blipFill>
          <a:blip r:embed="rId1"/>
          <a:srcRect l="4619" t="63865" r="2572" b="0"/>
          <a:stretch/>
        </p:blipFill>
        <p:spPr>
          <a:xfrm>
            <a:off x="4357800" y="2071800"/>
            <a:ext cx="4495680" cy="2193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3" name="Picture 5" descr="E:\dad\Student Gray\3. Thorax\F66122-003-f043a.jpg"/>
          <p:cNvPicPr/>
          <p:nvPr/>
        </p:nvPicPr>
        <p:blipFill>
          <a:blip r:embed="rId2"/>
          <a:srcRect l="0" t="3017" r="0" b="10636"/>
          <a:stretch/>
        </p:blipFill>
        <p:spPr>
          <a:xfrm>
            <a:off x="3581280" y="990720"/>
            <a:ext cx="5419800" cy="533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400440" y="304920"/>
            <a:ext cx="2438280" cy="76176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172200" y="1219320"/>
            <a:ext cx="2819520" cy="533376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Each lung has:</a:t>
            </a:r>
            <a:r>
              <a:rPr b="0" lang="en-US" sz="2000" spc="-1" strike="noStrike">
                <a:solidFill>
                  <a:srgbClr val="cc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pex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as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p and bottom of the lung, respec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stal surfac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rounded by the ribs and intercostal spaces from front, side &amp; bac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dial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surfac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bronchi, blood vessels, and lymphatic vessels enter or leave the lung at the hil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also related to the structures forming the mediastin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lobesofleftlung"/>
          <p:cNvPicPr/>
          <p:nvPr/>
        </p:nvPicPr>
        <p:blipFill>
          <a:blip r:embed="rId1"/>
          <a:stretch/>
        </p:blipFill>
        <p:spPr>
          <a:xfrm>
            <a:off x="3124080" y="228600"/>
            <a:ext cx="304812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7" name="Picture 5" descr="lobesofrightlung"/>
          <p:cNvPicPr/>
          <p:nvPr/>
        </p:nvPicPr>
        <p:blipFill>
          <a:blip r:embed="rId2"/>
          <a:stretch/>
        </p:blipFill>
        <p:spPr>
          <a:xfrm>
            <a:off x="228600" y="1219320"/>
            <a:ext cx="2743200" cy="41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943600" y="274320"/>
            <a:ext cx="2286000" cy="71748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486040" y="1294920"/>
            <a:ext cx="3429000" cy="525780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Albertu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9999"/>
                </a:solidFill>
                <a:uFillTx/>
                <a:latin typeface="Albertus MT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lbertus MT"/>
              </a:rPr>
              <a:t>Apex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lbertu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lbertu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lbertus MT"/>
              </a:rPr>
              <a:t>Projects into  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lbertus MT"/>
              </a:rPr>
              <a:t>root of the ne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lbertu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lbertus MT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lbertus MT"/>
              </a:rPr>
              <a:t>(1/2 an inch  above medial 1/3 of clavicle).                                                 </a:t>
            </a:r>
            <a:r>
              <a:rPr b="1" lang="en-US" sz="2200" spc="-1" strike="noStrike" u="sng">
                <a:solidFill>
                  <a:srgbClr val="cc00ff"/>
                </a:solidFill>
                <a:uFillTx/>
                <a:latin typeface="Albertus MT"/>
              </a:rPr>
              <a:t>It is covered</a:t>
            </a:r>
            <a:r>
              <a:rPr b="1" lang="en-US" sz="2200" spc="-1" strike="noStrike">
                <a:solidFill>
                  <a:srgbClr val="000000"/>
                </a:solidFill>
                <a:latin typeface="Albertus MT"/>
              </a:rPr>
              <a:t> by cervical pleu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00ff"/>
                </a:solidFill>
                <a:latin typeface="Albertus MT"/>
              </a:rPr>
              <a:t>    </a:t>
            </a:r>
            <a:r>
              <a:rPr b="1" i="1" lang="en-US" sz="2200" spc="-1" strike="noStrike">
                <a:solidFill>
                  <a:srgbClr val="cc00ff"/>
                </a:solidFill>
                <a:latin typeface="Albertus MT"/>
              </a:rPr>
              <a:t>It is grooved</a:t>
            </a:r>
            <a:r>
              <a:rPr b="1" lang="en-US" sz="2200" spc="-1" strike="noStrike">
                <a:solidFill>
                  <a:srgbClr val="000000"/>
                </a:solidFill>
                <a:latin typeface="Albertus MT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lbertus MT"/>
              </a:rPr>
              <a:t>anteriorly</a:t>
            </a:r>
            <a:r>
              <a:rPr b="1" lang="en-US" sz="2200" spc="-1" strike="noStrike">
                <a:solidFill>
                  <a:srgbClr val="000000"/>
                </a:solidFill>
                <a:latin typeface="Albertus MT"/>
              </a:rPr>
              <a:t> by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lbertus MT"/>
              </a:rPr>
              <a:t>subclavian arte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lbertu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lbertus MT"/>
              </a:rPr>
              <a:t>Ba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lbertu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lbertus MT"/>
              </a:rPr>
              <a:t>Inferior, (diaphragmatic surface) </a:t>
            </a:r>
            <a:r>
              <a:rPr b="0" lang="en-US" sz="2200" spc="-1" strike="noStrike">
                <a:solidFill>
                  <a:srgbClr val="000000"/>
                </a:solidFill>
                <a:latin typeface="Albertus MT"/>
              </a:rPr>
              <a:t>i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lbertus MT"/>
              </a:rPr>
              <a:t>concave</a:t>
            </a:r>
            <a:r>
              <a:rPr b="0" lang="en-US" sz="2200" spc="-1" strike="noStrike">
                <a:solidFill>
                  <a:srgbClr val="000000"/>
                </a:solidFill>
                <a:latin typeface="Albertus MT"/>
              </a:rPr>
              <a:t> and rests  on </a:t>
            </a:r>
            <a:r>
              <a:rPr b="0" lang="en-US" sz="2000" spc="-1" strike="noStrike">
                <a:solidFill>
                  <a:srgbClr val="000000"/>
                </a:solidFill>
                <a:latin typeface="Albertus MT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lbertus MT"/>
              </a:rPr>
              <a:t>diaphrag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lobesofrightlung"/>
          <p:cNvPicPr/>
          <p:nvPr/>
        </p:nvPicPr>
        <p:blipFill>
          <a:blip r:embed="rId1"/>
          <a:stretch/>
        </p:blipFill>
        <p:spPr>
          <a:xfrm>
            <a:off x="2209680" y="228600"/>
            <a:ext cx="3200400" cy="346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1" name="Picture 5" descr="lobesofleftlung"/>
          <p:cNvPicPr/>
          <p:nvPr/>
        </p:nvPicPr>
        <p:blipFill>
          <a:blip r:embed="rId2"/>
          <a:stretch/>
        </p:blipFill>
        <p:spPr>
          <a:xfrm>
            <a:off x="304920" y="3352680"/>
            <a:ext cx="2743200" cy="328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71604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ord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Anterior &amp; Posteri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19560" y="1066680"/>
            <a:ext cx="2971800" cy="556272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nterior bord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harp, th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overlaps the he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Anterior border of </a:t>
            </a:r>
            <a:r>
              <a:rPr b="0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left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lu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sents a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ardia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otc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its lower 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a thin projection call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gula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w the cardiac not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osterior borde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un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ic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lies beside the vertebral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lobesofleftlung"/>
          <p:cNvPicPr/>
          <p:nvPr/>
        </p:nvPicPr>
        <p:blipFill>
          <a:blip r:embed="rId1"/>
          <a:stretch/>
        </p:blipFill>
        <p:spPr>
          <a:xfrm>
            <a:off x="2971800" y="1295280"/>
            <a:ext cx="2895480" cy="381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5" name="Picture 5" descr="lobesofrightlung"/>
          <p:cNvPicPr/>
          <p:nvPr/>
        </p:nvPicPr>
        <p:blipFill>
          <a:blip r:embed="rId2"/>
          <a:stretch/>
        </p:blipFill>
        <p:spPr>
          <a:xfrm>
            <a:off x="228600" y="2438280"/>
            <a:ext cx="274320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6" name="AutoShape 8"/>
          <p:cNvSpPr/>
          <p:nvPr/>
        </p:nvSpPr>
        <p:spPr>
          <a:xfrm>
            <a:off x="3200400" y="457200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rfaces: Costal &amp; Mediastinal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181480" y="990360"/>
            <a:ext cx="3810240" cy="563868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stal surfac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ed b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stal ple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parates the lung from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bs, costal cartilages &amp; intercostal musc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Medial surfac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divided into 2 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nterior (mediastinal) par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hilum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dle (it i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 depress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ic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onch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ss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&amp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r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ing  the root of l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osterior (vertebral) par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t is related to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ies of thoracic vertebra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ertebral disc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intercostal vesse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athetic tru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FE2FD7AB"/>
          <p:cNvPicPr/>
          <p:nvPr/>
        </p:nvPicPr>
        <p:blipFill>
          <a:blip r:embed="rId1"/>
          <a:srcRect l="18629" t="45855" r="16670" b="7627"/>
          <a:stretch/>
        </p:blipFill>
        <p:spPr>
          <a:xfrm>
            <a:off x="228600" y="1295280"/>
            <a:ext cx="4876920" cy="426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0" name="Text Box 6"/>
          <p:cNvSpPr/>
          <p:nvPr/>
        </p:nvSpPr>
        <p:spPr>
          <a:xfrm>
            <a:off x="228600" y="5867280"/>
            <a:ext cx="4876920" cy="70380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ral &amp; medial surfaces of  right 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00440" y="274680"/>
            <a:ext cx="2438280" cy="170640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IGHT LUNG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48520" y="2438280"/>
            <a:ext cx="2666880" cy="3200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2 bronch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teri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Pulmonary arter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Most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superior.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ulmonary v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Ar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nterior and inf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" descr="rootofrightlung"/>
          <p:cNvPicPr/>
          <p:nvPr/>
        </p:nvPicPr>
        <p:blipFill>
          <a:blip r:embed="rId1"/>
          <a:srcRect l="0" t="3611" r="0" b="3611"/>
          <a:stretch/>
        </p:blipFill>
        <p:spPr>
          <a:xfrm>
            <a:off x="380880" y="228600"/>
            <a:ext cx="579132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629400" y="274320"/>
            <a:ext cx="2209680" cy="163044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FT LUNG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324120" y="2361960"/>
            <a:ext cx="2667240" cy="38098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One bronc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terio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Pulmonary arte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Most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superi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ulmonary v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Ar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nterior and inf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rootofleftlung"/>
          <p:cNvPicPr/>
          <p:nvPr/>
        </p:nvPicPr>
        <p:blipFill>
          <a:blip r:embed="rId1"/>
          <a:stretch/>
        </p:blipFill>
        <p:spPr>
          <a:xfrm>
            <a:off x="533520" y="228600"/>
            <a:ext cx="571500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324480" y="274320"/>
            <a:ext cx="2438640" cy="147780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ight lu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324120" y="2209680"/>
            <a:ext cx="2590920" cy="419112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rger &amp; shor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 left lu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by                 </a:t>
            </a:r>
            <a:r>
              <a:rPr b="0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2 fiss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lique &amp; horizo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nto </a:t>
            </a:r>
            <a:r>
              <a:rPr b="0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3 lob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upper, middle and lower lob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FE2FD7AB"/>
          <p:cNvPicPr/>
          <p:nvPr/>
        </p:nvPicPr>
        <p:blipFill>
          <a:blip r:embed="rId1"/>
          <a:srcRect l="18629" t="45855" r="16670" b="7627"/>
          <a:stretch/>
        </p:blipFill>
        <p:spPr>
          <a:xfrm>
            <a:off x="228600" y="304920"/>
            <a:ext cx="594360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274680"/>
            <a:ext cx="7772400" cy="7920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bjecti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By the end of the lecture, you should be abl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Describe the  anatomy of the </a:t>
            </a:r>
            <a:r>
              <a:rPr b="1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ple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1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Subdivisions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into parietal &amp; visceral pleurae, </a:t>
            </a:r>
            <a:r>
              <a:rPr b="1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nerve supply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of each part of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List the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parts of parietal pleura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and its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re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Describe the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surface anatomy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of both pleurae and lu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Describe the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</a:rPr>
              <a:t>anatomy of lungs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: shape, relations, nerve supply, blood sup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Describe the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difference between right &amp; left lu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the formation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ronchopulmonary segm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in characterist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se  segment in the lu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5520" y="380520"/>
            <a:ext cx="2746440" cy="129564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eft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ung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19560" y="2361960"/>
            <a:ext cx="2895480" cy="419076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by 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one oblique fis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-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2 lob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pper and l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fi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a cardia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notch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wer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i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terior b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899839F1"/>
          <p:cNvPicPr/>
          <p:nvPr/>
        </p:nvPicPr>
        <p:blipFill>
          <a:blip r:embed="rId1"/>
          <a:srcRect l="28434" t="27857" r="5882" b="30716"/>
          <a:stretch/>
        </p:blipFill>
        <p:spPr>
          <a:xfrm>
            <a:off x="304920" y="228600"/>
            <a:ext cx="5562360" cy="624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diastinal surface of right lu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562360" y="1142640"/>
            <a:ext cx="3352680" cy="533412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On the mediastinal surface of the right lung,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find these struct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zygos ve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ts ar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sterior and over the root of the l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agus ner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to the root of the lu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sophagu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to the ro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hrenic ner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rior to the root of the 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rdiac impres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ed to right atrium of the hea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Below hilum and in front of pulmonary ligamen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ove f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.V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relationshipsofrightrootoflung"/>
          <p:cNvPicPr/>
          <p:nvPr/>
        </p:nvPicPr>
        <p:blipFill>
          <a:blip r:embed="rId1"/>
          <a:stretch/>
        </p:blipFill>
        <p:spPr>
          <a:xfrm>
            <a:off x="152280" y="1143000"/>
            <a:ext cx="525780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6" name="Text Box 6"/>
          <p:cNvSpPr/>
          <p:nvPr/>
        </p:nvSpPr>
        <p:spPr>
          <a:xfrm>
            <a:off x="457200" y="43434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diac i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5943600" y="380880"/>
            <a:ext cx="1143000" cy="533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3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2920" y="1643040"/>
            <a:ext cx="1990800" cy="1571760"/>
          </a:xfrm>
          <a:prstGeom prst="rect">
            <a:avLst/>
          </a:prstGeom>
          <a:solidFill>
            <a:srgbClr val="9ed3d7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stinal surface of the right 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7" descr="Copy of Picture2"/>
          <p:cNvPicPr/>
          <p:nvPr/>
        </p:nvPicPr>
        <p:blipFill>
          <a:blip r:embed="rId1"/>
          <a:srcRect l="0" t="5131" r="42250" b="4876"/>
          <a:stretch/>
        </p:blipFill>
        <p:spPr>
          <a:xfrm>
            <a:off x="2209680" y="285840"/>
            <a:ext cx="6705720" cy="6383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diastinal surface of  left lu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562360" y="1294920"/>
            <a:ext cx="3352680" cy="525780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On the mediastinal surface of the left lung,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fi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se stru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scending aor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to the ro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agus ner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to the root of the 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rch of the aor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he root of the l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roove for left common carotid  and left subclavian arte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hrenic ner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rior to the root of the 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rdiac impres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ed to left ventri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relationshipswithleftrootoflung"/>
          <p:cNvPicPr/>
          <p:nvPr/>
        </p:nvPicPr>
        <p:blipFill>
          <a:blip r:embed="rId1"/>
          <a:stretch/>
        </p:blipFill>
        <p:spPr>
          <a:xfrm>
            <a:off x="228600" y="1066680"/>
            <a:ext cx="5334120" cy="556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3" name="Text Box 6"/>
          <p:cNvSpPr/>
          <p:nvPr/>
        </p:nvSpPr>
        <p:spPr>
          <a:xfrm>
            <a:off x="3276720" y="411480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diac i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6172200" y="304920"/>
            <a:ext cx="762120" cy="609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705360" y="1285560"/>
            <a:ext cx="2152440" cy="1857240"/>
          </a:xfrm>
          <a:prstGeom prst="rect">
            <a:avLst/>
          </a:prstGeom>
          <a:solidFill>
            <a:srgbClr val="9ed3d7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stinal surface of the left 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Picture2"/>
          <p:cNvPicPr/>
          <p:nvPr/>
        </p:nvPicPr>
        <p:blipFill>
          <a:blip r:embed="rId1"/>
          <a:srcRect l="45235" t="6660" r="0" b="2836"/>
          <a:stretch/>
        </p:blipFill>
        <p:spPr>
          <a:xfrm>
            <a:off x="285840" y="214200"/>
            <a:ext cx="6286320" cy="645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7" name="AutoShape 17"/>
          <p:cNvSpPr/>
          <p:nvPr/>
        </p:nvSpPr>
        <p:spPr>
          <a:xfrm>
            <a:off x="3635280" y="220500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86832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lood supply of 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4796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ronchial arterie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(From descending aorta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. It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upply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xygenated bloo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to 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bronchi , lung tissue &amp; visceral ple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ff"/>
                </a:solidFill>
                <a:latin typeface="Arial"/>
              </a:rPr>
              <a:t>Bronchial veins 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drain into azygos &amp; hemiazygo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ve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ulmonary artery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which carries                       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Arial"/>
              </a:rPr>
              <a:t>non-oxygenated blood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ght ventric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ung alveo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ff"/>
                </a:solidFill>
                <a:latin typeface="Arial"/>
              </a:rPr>
              <a:t>2 pulmonary vein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arry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oxygenated blood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ung alveol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ft atri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the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rve Supply of the lu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0552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ulmonary plex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the root of lung….is formed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tonomic N.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sympathetic &amp; parasympathetic fi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00ff"/>
                </a:solidFill>
                <a:uFillTx/>
                <a:latin typeface="Arial"/>
              </a:rPr>
              <a:t>1- Sympathetic  Fiber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… </a:t>
            </a: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Sympathetic tru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broncho-dilatatio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/and  vasoconstri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00ff"/>
                </a:solidFill>
                <a:uFillTx/>
                <a:latin typeface="Arial"/>
              </a:rPr>
              <a:t>2- Parasympathetic 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…..</a:t>
            </a:r>
            <a:r>
              <a:rPr b="1" i="1" lang="en-US" sz="3200" spc="-1" strike="noStrike">
                <a:solidFill>
                  <a:srgbClr val="009900"/>
                </a:solidFill>
                <a:latin typeface="Arial"/>
              </a:rPr>
              <a:t>Vagus</a:t>
            </a: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 nerv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on: Broncho-constri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cretomo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ronchial glands /and vasodila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43600" y="244080"/>
            <a:ext cx="2743200" cy="59364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Bronc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715000" y="990360"/>
            <a:ext cx="3276720" cy="563868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trachea divides into 2 main bronch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Right main bronchus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which                          divides  before entering the  hil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t gives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uperi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obar (secondary) bronchu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 entering hilum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divides in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idd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amp;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ferio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lobar bronc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Left main bronchus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 entering hil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t divides int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uperio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&amp;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ferio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lobar bronc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0" descr="EB275CB7"/>
          <p:cNvPicPr/>
          <p:nvPr/>
        </p:nvPicPr>
        <p:blipFill>
          <a:blip r:embed="rId1"/>
          <a:srcRect l="26710" t="45634" r="5444" b="27275"/>
          <a:stretch/>
        </p:blipFill>
        <p:spPr>
          <a:xfrm>
            <a:off x="228600" y="457200"/>
            <a:ext cx="533412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onchopulmonary segm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409720" y="990360"/>
            <a:ext cx="3581640" cy="563868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the anatomical, functional, and surgical units of the lu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Each lobar (secondary) bronch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segmental (tertiary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bronc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Each segmental bronch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vides repeatedly into 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bronchi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Bronchio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into 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terminal bronchiole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show delicate outpouchings 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‘the respiratory bronchioles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1B6F5EDD"/>
          <p:cNvPicPr/>
          <p:nvPr/>
        </p:nvPicPr>
        <p:blipFill>
          <a:blip r:embed="rId1"/>
          <a:srcRect l="23529" t="23632" r="1959" b="1968"/>
          <a:stretch/>
        </p:blipFill>
        <p:spPr>
          <a:xfrm>
            <a:off x="304920" y="914400"/>
            <a:ext cx="5029200" cy="556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8" name="Picture 5" descr="Lungs"/>
          <p:cNvPicPr/>
          <p:nvPr/>
        </p:nvPicPr>
        <p:blipFill>
          <a:blip r:embed="rId2"/>
          <a:srcRect l="25928" t="0" r="0" b="0"/>
          <a:stretch/>
        </p:blipFill>
        <p:spPr>
          <a:xfrm>
            <a:off x="2666880" y="2971800"/>
            <a:ext cx="2514600" cy="35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924680" cy="68580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ronchopulmonary seg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400440" y="990720"/>
            <a:ext cx="2590920" cy="548640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The respiratory bronchio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d by branching into 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alveolar 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lead into 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alveolar sa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The alveolar sa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ist of several alveoli, 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each alveolus 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rrounded by a network of blood capillaries for gas ex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48BC38F4"/>
          <p:cNvPicPr/>
          <p:nvPr/>
        </p:nvPicPr>
        <p:blipFill>
          <a:blip r:embed="rId1"/>
          <a:srcRect l="30685" t="17097" r="0" b="31720"/>
          <a:stretch/>
        </p:blipFill>
        <p:spPr>
          <a:xfrm>
            <a:off x="228600" y="838080"/>
            <a:ext cx="6019920" cy="579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2" name="Rectangle 4"/>
          <p:cNvSpPr/>
          <p:nvPr/>
        </p:nvSpPr>
        <p:spPr>
          <a:xfrm>
            <a:off x="685800" y="3657600"/>
            <a:ext cx="83808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3048120" cy="5936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hat is Pleu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3200400" cy="5715000"/>
          </a:xfrm>
          <a:prstGeom prst="rect">
            <a:avLst/>
          </a:prstGeom>
          <a:solidFill>
            <a:srgbClr val="9ed3d7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-layered serous membranous sac enclosing the l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two la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ietal lay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lines the thoracic wa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ceral lay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covers the surfaces of the lu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layers continue with each other around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u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ere it forms a loose cuff hanging down called the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ulmonary liga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pace betwee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s, is the pleural cavit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ontains a very thin film of pleural fluid ( 5-10 ml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ClipArt Placeholder 4" descr="C3FF4"/>
          <p:cNvPicPr/>
          <p:nvPr/>
        </p:nvPicPr>
        <p:blipFill>
          <a:blip r:embed="rId1"/>
          <a:srcRect l="5307" t="64175" r="-175" b="0"/>
          <a:stretch/>
        </p:blipFill>
        <p:spPr>
          <a:xfrm>
            <a:off x="5500800" y="304920"/>
            <a:ext cx="3503520" cy="2314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6" name="Line 8"/>
          <p:cNvSpPr/>
          <p:nvPr/>
        </p:nvSpPr>
        <p:spPr>
          <a:xfrm>
            <a:off x="7358040" y="6143760"/>
            <a:ext cx="2872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E:\dad\Student Gray\3. Thorax\F66122-003-f041a.jpg"/>
          <p:cNvPicPr/>
          <p:nvPr/>
        </p:nvPicPr>
        <p:blipFill>
          <a:blip r:embed="rId2"/>
          <a:srcRect l="10435" t="0" r="0" b="6152"/>
          <a:stretch/>
        </p:blipFill>
        <p:spPr>
          <a:xfrm>
            <a:off x="3429000" y="228600"/>
            <a:ext cx="5572080" cy="6248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cxnSp>
        <p:nvCxnSpPr>
          <p:cNvPr id="188" name="Straight Arrow Connector 3"/>
          <p:cNvCxnSpPr/>
          <p:nvPr/>
        </p:nvCxnSpPr>
        <p:spPr>
          <a:xfrm flipV="1">
            <a:off x="2895120" y="4342680"/>
            <a:ext cx="4039560" cy="686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391520" cy="685800"/>
          </a:xfrm>
          <a:prstGeom prst="rect">
            <a:avLst/>
          </a:prstGeom>
          <a:solidFill>
            <a:srgbClr val="daed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ronchopulmonary seg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52520" y="1143000"/>
            <a:ext cx="4038840" cy="510552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 main characteristics of a bronchopulmonary segment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a subdivision of a lung lob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yramidal shaped, its apex toward the lung ro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surrounded by connective tissue sep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has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gmental bronchu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gmental art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ymph vess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onom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r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 segmental v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es in the inter- segmenta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.T. sep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tween the seg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seased segment can be removed surgically, because it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tructural un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Picture of the Human Lungs"/>
          <p:cNvPicPr/>
          <p:nvPr/>
        </p:nvPicPr>
        <p:blipFill>
          <a:blip r:embed="rId1"/>
          <a:stretch/>
        </p:blipFill>
        <p:spPr>
          <a:xfrm>
            <a:off x="228600" y="1066680"/>
            <a:ext cx="4648320" cy="518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4" descr="oc26$004"/>
          <p:cNvPicPr/>
          <p:nvPr/>
        </p:nvPicPr>
        <p:blipFill>
          <a:blip r:embed="rId1"/>
          <a:stretch/>
        </p:blipFill>
        <p:spPr>
          <a:xfrm>
            <a:off x="468360" y="285840"/>
            <a:ext cx="82468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2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oc26$003"/>
          <p:cNvPicPr/>
          <p:nvPr/>
        </p:nvPicPr>
        <p:blipFill>
          <a:blip r:embed="rId1"/>
          <a:stretch/>
        </p:blipFill>
        <p:spPr>
          <a:xfrm>
            <a:off x="785880" y="357120"/>
            <a:ext cx="75722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WordArt 4"/>
          <p:cNvSpPr txBox="1"/>
          <p:nvPr/>
        </p:nvSpPr>
        <p:spPr>
          <a:xfrm>
            <a:off x="395280" y="1557360"/>
            <a:ext cx="7561440" cy="49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2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 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71480" y="244080"/>
            <a:ext cx="3429000" cy="755640"/>
          </a:xfrm>
          <a:prstGeom prst="rect">
            <a:avLst/>
          </a:prstGeom>
          <a:solidFill>
            <a:srgbClr val="e6e6e6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ietal Ple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13840" y="1428480"/>
            <a:ext cx="8643960" cy="31431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t is divided according to the region in which it lies and the surfaces it covers,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 Cerv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 Cos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 Mediasti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 Diaphragmat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ClipArt Placeholder 4" descr="C3FF4"/>
          <p:cNvPicPr/>
          <p:nvPr/>
        </p:nvPicPr>
        <p:blipFill>
          <a:blip r:embed="rId1"/>
          <a:srcRect l="6696" t="64175" r="169" b="0"/>
          <a:stretch/>
        </p:blipFill>
        <p:spPr>
          <a:xfrm>
            <a:off x="3733920" y="2590920"/>
            <a:ext cx="5105160" cy="3809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429000" cy="990720"/>
          </a:xfrm>
          <a:prstGeom prst="rect">
            <a:avLst/>
          </a:prstGeom>
          <a:solidFill>
            <a:srgbClr val="e6e6e6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ietal Pleu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13840" y="1294920"/>
            <a:ext cx="3443400" cy="5334120"/>
          </a:xfrm>
          <a:prstGeom prst="rect">
            <a:avLst/>
          </a:prstGeom>
          <a:solidFill>
            <a:srgbClr val="9ed3d7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ervical Pleur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s up into the root of the neck,  about one inch above the medial1/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clavi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lines the under surface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suprapleural membran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stal pleu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ines,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 back of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rnu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al cartilag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stal spac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es of vertebral bo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E:\dad\Student Gray\3. Thorax\F66122-003-f036.jpg"/>
          <p:cNvPicPr/>
          <p:nvPr/>
        </p:nvPicPr>
        <p:blipFill>
          <a:blip r:embed="rId1"/>
          <a:srcRect l="0" t="0" r="0" b="4063"/>
          <a:stretch/>
        </p:blipFill>
        <p:spPr>
          <a:xfrm>
            <a:off x="3733920" y="285840"/>
            <a:ext cx="5195880" cy="596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5" name="AutoShape 8"/>
          <p:cNvSpPr/>
          <p:nvPr/>
        </p:nvSpPr>
        <p:spPr>
          <a:xfrm>
            <a:off x="4343400" y="5335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3962520" y="297180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44440"/>
            <a:ext cx="3276720" cy="82224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ietal Pleu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3353040" cy="4952880"/>
          </a:xfrm>
          <a:prstGeom prst="rect">
            <a:avLst/>
          </a:prstGeom>
          <a:solidFill>
            <a:srgbClr val="9ed3d7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diastinal pleu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s the mediastin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hilum, it is reflected on to the vessels and bronchi, that enter the hilum of the 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continuous with the visceral ple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aphragmatic pleu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s the upper (thoracic) surface of the diaphrag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E:\dad\Student Gray\3. Thorax\F66122-003-f035.jpg"/>
          <p:cNvPicPr/>
          <p:nvPr/>
        </p:nvPicPr>
        <p:blipFill>
          <a:blip r:embed="rId1"/>
          <a:srcRect l="17910" t="17232" r="15565" b="4355"/>
          <a:stretch/>
        </p:blipFill>
        <p:spPr>
          <a:xfrm>
            <a:off x="3581280" y="1219320"/>
            <a:ext cx="5257800" cy="5105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44440"/>
            <a:ext cx="2743200" cy="54144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ural Re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13840" y="1066680"/>
            <a:ext cx="2909880" cy="5562720"/>
          </a:xfrm>
          <a:prstGeom prst="rect">
            <a:avLst/>
          </a:prstGeom>
          <a:solidFill>
            <a:srgbClr val="9ed3d7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stodiaphragmat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t like space between costal and diaphragmatic pleurae, along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ferior bord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lung  which enters through it in deep in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Arial"/>
              </a:rPr>
              <a:t>Costomediastin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t like space between costal and mediastinal pleurae, along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nterio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ord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lung which enters into it in deep  in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ClipArt Placeholder 8" descr="C4FF13"/>
          <p:cNvPicPr/>
          <p:nvPr/>
        </p:nvPicPr>
        <p:blipFill>
          <a:blip r:embed="rId1"/>
          <a:srcRect l="30055" t="3655" r="3180" b="55733"/>
          <a:stretch/>
        </p:blipFill>
        <p:spPr>
          <a:xfrm>
            <a:off x="3276720" y="533520"/>
            <a:ext cx="5653080" cy="60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3" name="AutoShape 8"/>
          <p:cNvSpPr/>
          <p:nvPr/>
        </p:nvSpPr>
        <p:spPr>
          <a:xfrm>
            <a:off x="4495680" y="5562720"/>
            <a:ext cx="1752840" cy="68580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7391520" y="2590920"/>
            <a:ext cx="1447560" cy="53316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244440"/>
            <a:ext cx="3619800" cy="54144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eura: Nerve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114800" cy="5581440"/>
          </a:xfrm>
          <a:prstGeom prst="rect">
            <a:avLst/>
          </a:prstGeom>
          <a:solidFill>
            <a:srgbClr val="9ed3d7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060"/>
                </a:solidFill>
                <a:uFillTx/>
                <a:latin typeface="Arial"/>
              </a:rPr>
              <a:t>Parietal pleu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It is sensitive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abic Transparent"/>
              </a:rPr>
              <a:t>to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abic Transparent"/>
              </a:rPr>
              <a:t>p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Arial"/>
                <a:ea typeface="Arabic Transparent"/>
              </a:rPr>
              <a:t>ain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abic Transparent"/>
              </a:rPr>
              <a:t>,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abic Transparent"/>
              </a:rPr>
              <a:t>p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Arial"/>
                <a:ea typeface="Arabic Transparent"/>
              </a:rPr>
              <a:t>ressure,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abic Transparent"/>
              </a:rPr>
              <a:t>t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Arial"/>
                <a:ea typeface="Arabic Transparent"/>
              </a:rPr>
              <a:t>emperature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,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abic Transparent"/>
              </a:rPr>
              <a:t>t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Arial"/>
                <a:ea typeface="Arabic Transparent"/>
              </a:rPr>
              <a:t>ou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It is supplied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ea typeface="Arabic Transparent"/>
              </a:rPr>
              <a:t>as follows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Costal pleura is segmentally supplied by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intercostal ner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Mediastinal pleura is supplied by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phrenic ner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Diaphragmatic pleura is supplied </a:t>
            </a:r>
            <a:r>
              <a:rPr b="0" lang="en-US" sz="1800" spc="-1" strike="noStrike" u="sng">
                <a:solidFill>
                  <a:srgbClr val="002060"/>
                </a:solidFill>
                <a:uFillTx/>
                <a:latin typeface="Arial"/>
                <a:ea typeface="Arabic Transparent"/>
              </a:rPr>
              <a:t>as follow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: over the domes by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phrenic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nerves, around the periphery by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lowe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r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6 intercostal nerves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2060"/>
                </a:solidFill>
                <a:uFillTx/>
                <a:latin typeface="Arial"/>
                <a:ea typeface="Arabic Transparent"/>
              </a:rPr>
              <a:t>Visceral pleura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sensitive only to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abic Transparent"/>
              </a:rPr>
              <a:t>stretch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 only and is supplied by the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 autonomic fibers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from the pulmonary plex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C3FF8"/>
          <p:cNvPicPr/>
          <p:nvPr/>
        </p:nvPicPr>
        <p:blipFill>
          <a:blip r:embed="rId1"/>
          <a:stretch/>
        </p:blipFill>
        <p:spPr>
          <a:xfrm>
            <a:off x="4643280" y="1000080"/>
            <a:ext cx="4308480" cy="5000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E:\dad\Student Gray\3. Thorax\F66122-003-f015.jpg"/>
          <p:cNvPicPr/>
          <p:nvPr/>
        </p:nvPicPr>
        <p:blipFill>
          <a:blip r:embed="rId2"/>
          <a:srcRect l="0" t="0" r="0" b="10917"/>
          <a:stretch/>
        </p:blipFill>
        <p:spPr>
          <a:xfrm>
            <a:off x="4343400" y="914400"/>
            <a:ext cx="4648320" cy="51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FACE ANATOMY OF PLE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86200" y="837720"/>
            <a:ext cx="5105520" cy="579132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pe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es one inch above the medial 1/3 of the clavi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Right pleu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anterior marg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s vertically from sternoclavicular joint t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6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costal carti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Left pleura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anterior marg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s from sternoclavicular joint to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costal cartilag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deviates for about 1 inch to left 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1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costa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rtil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orm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rdiac notc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Inferior margi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 around the chest wall, o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1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rib in midclavicular line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1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rib i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d-axillary lin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inally reaching 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last thoracic sp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osterior margi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ong the vertebral column from the  apex to the inferior mar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E:\dad\Student Gray\3. Thorax\F66122-003-f104a.jpg"/>
          <p:cNvPicPr/>
          <p:nvPr/>
        </p:nvPicPr>
        <p:blipFill>
          <a:blip r:embed="rId1"/>
          <a:srcRect l="4266" t="7762" r="0" b="9876"/>
          <a:stretch/>
        </p:blipFill>
        <p:spPr>
          <a:xfrm>
            <a:off x="228600" y="2438280"/>
            <a:ext cx="365760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8:00:14Z</dcterms:created>
  <dc:creator>Amilo</dc:creator>
  <dc:description/>
  <dc:language>en-US</dc:language>
  <cp:lastModifiedBy>Dr.Saeed abuel Makarem</cp:lastModifiedBy>
  <dcterms:modified xsi:type="dcterms:W3CDTF">2016-01-19T06:34:29Z</dcterms:modified>
  <cp:revision>852</cp:revision>
  <dc:subject/>
  <dc:title>Slide 1</dc:title>
</cp:coreProperties>
</file>