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6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media/image2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C168-E3BF-472E-AAFF-2E4533C78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7E05-60B5-47A1-85FF-FA614D543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EA15-0E94-4D5B-A2BB-1E4460008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5E7-5D78-412F-9F2F-1BE6B3CB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C18-0CAA-4D16-AB51-9C8D02E3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57C8-805D-4440-B1A7-CA71687E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1E9-D087-461A-A2F8-9AC9BC53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3DD9-DB17-44EA-A94A-B6B070C5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53E1-C6C5-4A12-AA9A-E47A4EFB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C4F9-AF95-41A3-ACB2-BED24FAC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CF3F-2123-45DB-AACC-8174DD32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1F37-40BD-4EA4-96C3-87558299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EEF7-3C71-4287-92A8-0E4BE403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0647-FB5D-4404-A8EA-3F9F5525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888F-9C0B-4166-BCFF-D68F8A8C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45F2-A45A-4D24-BF98-D66DB2FC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A831-FBA4-404C-A1FB-171D0C26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49D5-3CD9-4AD5-BBA8-245119D3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FE53-7E09-4D97-BD30-1735A2A5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777D-801D-4318-B0B9-02AB6E9B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961C4-9E49-4CF1-B5CB-E16E2F9C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76DBE-1382-401F-8193-5DDD1BA8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D85E9-439A-468E-97A8-4B88FAD1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D55A8-8BD3-4525-BCF4-A3FF3435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D5EA8-C22B-4945-97FD-19E9C67B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06C-AA4F-4723-BB8C-0195A398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72DE3-489F-4901-AD54-04A790AA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81203-8BE7-4789-923D-B59CDE1D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D0A4B-D6AF-4616-8EA9-35690929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BDCB0-6137-4FC9-B30D-672C223E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579FA-DCBA-4AB6-9C62-4ED1C64E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DFBBC-208F-4B9A-A724-F84D93D8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973E1-EDA6-4F5C-B455-EF3C0075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E4F1D-5B88-4278-9352-3B10B92B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F5ADB-5D50-46AD-A562-4027AACE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D2240-06FB-4417-8509-B368CF96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EB2-02D1-47F4-827D-91251C0A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E529D-CB67-4B22-B59D-D65D6BE8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2E14F-1CF6-4A08-BC83-168F57C2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E7FBB-EC90-4F96-B938-CCDF1CDD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B1F7C-E6F3-42F3-9C9A-77797EB4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069A7-A947-4799-9D3B-AEA131BA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23A79-2E2C-49E4-BAB1-EB2CE376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C7269-B3D1-4FE1-893F-F1100873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CCE9E-14A8-4FC6-89CF-A0A7F715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A72C5-49C5-4D66-9364-0D79F63F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B94-FEC6-444B-A3B0-140D7C93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5FD5-B691-467F-B448-26DA91A3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3871-DEBF-499B-9AD3-7277874F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915C-911C-45B0-A0D8-8522FADC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963-5210-4206-99E7-09FF2DC2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D17E-6201-4BDC-90E4-BCF70FAAC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5CF2-53A2-47FF-8088-4AA23F8432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17A0-465F-4611-A257-0F2A95621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A7D9-F8A7-405F-8450-406B1DF5916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Gray965.pn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3124080" cy="228600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40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LEURA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&amp;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U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Lower respiratory tract"/>
          <p:cNvPicPr/>
          <p:nvPr/>
        </p:nvPicPr>
        <p:blipFill>
          <a:blip r:embed="rId1"/>
          <a:srcRect l="30832" t="4169" r="6454" b="10417"/>
          <a:stretch/>
        </p:blipFill>
        <p:spPr>
          <a:xfrm>
            <a:off x="3657600" y="838080"/>
            <a:ext cx="510552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TextBox 4"/>
          <p:cNvSpPr/>
          <p:nvPr/>
        </p:nvSpPr>
        <p:spPr>
          <a:xfrm>
            <a:off x="228600" y="4952880"/>
            <a:ext cx="312408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eed Abuel Maka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RFACE ANATOMY OF L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4120" y="1219320"/>
            <a:ext cx="3581280" cy="5486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pex, anterior border and posterior bord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 nearly to the lines of pleura but are slightl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way from the median pl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ferior margin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he pleura but more horizontally  and finally reaching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10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horacic s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blique fissu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ed by a line extending fr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3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horacic sp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bliquel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ding at 6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ostal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ransverse fissure: 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ly in the right lung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ed by a line extend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om 4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right costal cartil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mee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oblique fis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Gray965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295280"/>
            <a:ext cx="495288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5" name="Rectangle 5"/>
          <p:cNvSpPr/>
          <p:nvPr/>
        </p:nvSpPr>
        <p:spPr>
          <a:xfrm>
            <a:off x="4191120" y="2666880"/>
            <a:ext cx="60948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E:\dad\Student Gray\3. Thorax\F66122-003-f105a.jpg"/>
          <p:cNvPicPr/>
          <p:nvPr/>
        </p:nvPicPr>
        <p:blipFill>
          <a:blip r:embed="rId3"/>
          <a:srcRect l="0" t="0" r="0" b="6754"/>
          <a:stretch/>
        </p:blipFill>
        <p:spPr>
          <a:xfrm>
            <a:off x="685800" y="1066680"/>
            <a:ext cx="7929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4191120" cy="76212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eural Effu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00600" y="380880"/>
            <a:ext cx="4191120" cy="609624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It is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normal accumulation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eural fluid about 300 ml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Costodiaphragmatic pleural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ess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 , (normally 5-10 ml fluid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aus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ammation, TB, congestive heart disease and maligna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The lung is </a:t>
            </a:r>
            <a:r>
              <a:rPr b="0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compress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the bronchi are narr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uscultatio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veal on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int &amp; decreased breathing so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compressed or collapsed lung lo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Dullness on percu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the eff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599_Pleural_Effusion"/>
          <p:cNvPicPr/>
          <p:nvPr/>
        </p:nvPicPr>
        <p:blipFill>
          <a:blip r:embed="rId1"/>
          <a:stretch/>
        </p:blipFill>
        <p:spPr>
          <a:xfrm>
            <a:off x="152280" y="1125360"/>
            <a:ext cx="4572000" cy="537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244440"/>
            <a:ext cx="2286000" cy="822240"/>
          </a:xfrm>
          <a:prstGeom prst="rect">
            <a:avLst/>
          </a:prstGeom>
          <a:solidFill>
            <a:srgbClr val="e4f3f4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ndalus"/>
              </a:rPr>
              <a:t>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5480" y="1599840"/>
            <a:ext cx="3219480" cy="4971960"/>
          </a:xfrm>
          <a:prstGeom prst="rect">
            <a:avLst/>
          </a:prstGeom>
          <a:solidFill>
            <a:srgbClr val="9ed3d7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d in the thoracic cavity, one on each side of the mediast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lung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onical in sh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overed by the visceral ple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uspended free in its own pleural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ttached to the mediastinum only by its root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C3FF4"/>
          <p:cNvPicPr/>
          <p:nvPr/>
        </p:nvPicPr>
        <p:blipFill>
          <a:blip r:embed="rId1"/>
          <a:srcRect l="4619" t="63865" r="2572" b="0"/>
          <a:stretch/>
        </p:blipFill>
        <p:spPr>
          <a:xfrm>
            <a:off x="4357800" y="2071800"/>
            <a:ext cx="4495680" cy="2193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3" name="Picture 5" descr="E:\dad\Student Gray\3. Thorax\F66122-003-f043a.jpg"/>
          <p:cNvPicPr/>
          <p:nvPr/>
        </p:nvPicPr>
        <p:blipFill>
          <a:blip r:embed="rId2"/>
          <a:srcRect l="0" t="3017" r="0" b="10636"/>
          <a:stretch/>
        </p:blipFill>
        <p:spPr>
          <a:xfrm>
            <a:off x="3581280" y="990720"/>
            <a:ext cx="5419800" cy="533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00440" y="304920"/>
            <a:ext cx="2438280" cy="76176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72200" y="1219320"/>
            <a:ext cx="2819520" cy="533376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Each lung has: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ex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as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p and bottom of the lung,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al surfac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rounded by the ribs and intercostal spaces from front, side &amp; bac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dial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surfac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bronchi, blood vessels, and lymphatic vessels enter or leave the lung at the hi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lso related to the structures forming the mediastin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lobesofleftlung"/>
          <p:cNvPicPr/>
          <p:nvPr/>
        </p:nvPicPr>
        <p:blipFill>
          <a:blip r:embed="rId1"/>
          <a:stretch/>
        </p:blipFill>
        <p:spPr>
          <a:xfrm>
            <a:off x="3124080" y="228600"/>
            <a:ext cx="304812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Picture 5" descr="lobesofrightlung"/>
          <p:cNvPicPr/>
          <p:nvPr/>
        </p:nvPicPr>
        <p:blipFill>
          <a:blip r:embed="rId2"/>
          <a:stretch/>
        </p:blipFill>
        <p:spPr>
          <a:xfrm>
            <a:off x="228600" y="1219320"/>
            <a:ext cx="2743200" cy="41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943600" y="274320"/>
            <a:ext cx="2286000" cy="71748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486040" y="1294920"/>
            <a:ext cx="3429000" cy="525780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9999"/>
                </a:solidFill>
                <a:uFillTx/>
                <a:latin typeface="Albertus MT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lbertus MT"/>
              </a:rPr>
              <a:t>Apex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lbertu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lbertus MT"/>
              </a:rPr>
              <a:t>Projects into 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lbertus MT"/>
              </a:rPr>
              <a:t>root of the ne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lbertus MT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lbertus MT"/>
              </a:rPr>
              <a:t>(1/2 an inch  above medial 1/3 of clavicle).                                                 </a:t>
            </a:r>
            <a:r>
              <a:rPr b="1" lang="en-US" sz="2200" spc="-1" strike="noStrike" u="sng">
                <a:solidFill>
                  <a:srgbClr val="cc00ff"/>
                </a:solidFill>
                <a:uFillTx/>
                <a:latin typeface="Albertus MT"/>
              </a:rPr>
              <a:t>It is covered</a:t>
            </a:r>
            <a:r>
              <a:rPr b="1" lang="en-US" sz="2200" spc="-1" strike="noStrike">
                <a:solidFill>
                  <a:srgbClr val="000000"/>
                </a:solidFill>
                <a:latin typeface="Albertus MT"/>
              </a:rPr>
              <a:t> by cervical pleu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ff"/>
                </a:solidFill>
                <a:latin typeface="Albertus MT"/>
              </a:rPr>
              <a:t>    </a:t>
            </a:r>
            <a:r>
              <a:rPr b="1" i="1" lang="en-US" sz="2200" spc="-1" strike="noStrike">
                <a:solidFill>
                  <a:srgbClr val="cc00ff"/>
                </a:solidFill>
                <a:latin typeface="Albertus MT"/>
              </a:rPr>
              <a:t>It is grooved</a:t>
            </a:r>
            <a:r>
              <a:rPr b="1" lang="en-US" sz="2200" spc="-1" strike="noStrike">
                <a:solidFill>
                  <a:srgbClr val="000000"/>
                </a:solidFill>
                <a:latin typeface="Albertus MT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lbertus MT"/>
              </a:rPr>
              <a:t>anteriorly</a:t>
            </a:r>
            <a:r>
              <a:rPr b="1" lang="en-US" sz="2200" spc="-1" strike="noStrike">
                <a:solidFill>
                  <a:srgbClr val="000000"/>
                </a:solidFill>
                <a:latin typeface="Albertus MT"/>
              </a:rPr>
              <a:t> by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lbertus MT"/>
              </a:rPr>
              <a:t>subclavian art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lbertus MT"/>
              </a:rPr>
              <a:t>B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MT"/>
              </a:rPr>
              <a:t>Inferior, (diaphragmatic surface) </a:t>
            </a:r>
            <a:r>
              <a:rPr b="0" lang="en-US" sz="2200" spc="-1" strike="noStrike">
                <a:solidFill>
                  <a:srgbClr val="000000"/>
                </a:solidFill>
                <a:latin typeface="Albertus MT"/>
              </a:rPr>
              <a:t>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lbertus MT"/>
              </a:rPr>
              <a:t>concave</a:t>
            </a:r>
            <a:r>
              <a:rPr b="0" lang="en-US" sz="2200" spc="-1" strike="noStrike">
                <a:solidFill>
                  <a:srgbClr val="000000"/>
                </a:solidFill>
                <a:latin typeface="Albertus MT"/>
              </a:rPr>
              <a:t> and rests  on </a:t>
            </a:r>
            <a:r>
              <a:rPr b="0" lang="en-US" sz="2000" spc="-1" strike="noStrike">
                <a:solidFill>
                  <a:srgbClr val="000000"/>
                </a:solidFill>
                <a:latin typeface="Albertus MT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lbertus MT"/>
              </a:rPr>
              <a:t>diaphrag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lobesofrightlung"/>
          <p:cNvPicPr/>
          <p:nvPr/>
        </p:nvPicPr>
        <p:blipFill>
          <a:blip r:embed="rId1"/>
          <a:stretch/>
        </p:blipFill>
        <p:spPr>
          <a:xfrm>
            <a:off x="2209680" y="228600"/>
            <a:ext cx="3200400" cy="346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1" name="Picture 5" descr="lobesofleftlung"/>
          <p:cNvPicPr/>
          <p:nvPr/>
        </p:nvPicPr>
        <p:blipFill>
          <a:blip r:embed="rId2"/>
          <a:stretch/>
        </p:blipFill>
        <p:spPr>
          <a:xfrm>
            <a:off x="304920" y="3352680"/>
            <a:ext cx="2743200" cy="32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7160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ord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Anterior &amp; Poster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19560" y="1066680"/>
            <a:ext cx="2971800" cy="55627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nterior bord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harp, th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overlaps the he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Anterior border of </a:t>
            </a:r>
            <a:r>
              <a:rPr b="0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left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lu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sents 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ardia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otc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its lower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thin projection call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gula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the cardiac not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osterior borde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un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ic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lies beside the vertebral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lobesofleftlung"/>
          <p:cNvPicPr/>
          <p:nvPr/>
        </p:nvPicPr>
        <p:blipFill>
          <a:blip r:embed="rId1"/>
          <a:stretch/>
        </p:blipFill>
        <p:spPr>
          <a:xfrm>
            <a:off x="2971800" y="1295280"/>
            <a:ext cx="2895480" cy="38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5" name="Picture 5" descr="lobesofrightlung"/>
          <p:cNvPicPr/>
          <p:nvPr/>
        </p:nvPicPr>
        <p:blipFill>
          <a:blip r:embed="rId2"/>
          <a:stretch/>
        </p:blipFill>
        <p:spPr>
          <a:xfrm>
            <a:off x="228600" y="2438280"/>
            <a:ext cx="274320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6" name="AutoShape 8"/>
          <p:cNvSpPr/>
          <p:nvPr/>
        </p:nvSpPr>
        <p:spPr>
          <a:xfrm>
            <a:off x="3200400" y="457200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rfaces: Costal &amp; Mediastinal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81480" y="990360"/>
            <a:ext cx="3810240" cy="563868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al surfac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ed b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al ple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parates the lung from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bs, costal cartilages &amp; intercostal musc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edial surfac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divided into 2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nterior (mediastinal) par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ilu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(it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 depres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ic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onch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s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&amp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r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ing  the root of l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osterior (vertebral) par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t is related t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ies of thoracic vertebra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rtebral disc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intercostal vesse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athetic tru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FE2FD7AB"/>
          <p:cNvPicPr/>
          <p:nvPr/>
        </p:nvPicPr>
        <p:blipFill>
          <a:blip r:embed="rId1"/>
          <a:srcRect l="18629" t="45855" r="16670" b="7627"/>
          <a:stretch/>
        </p:blipFill>
        <p:spPr>
          <a:xfrm>
            <a:off x="228600" y="1295280"/>
            <a:ext cx="487692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0" name="Text Box 6"/>
          <p:cNvSpPr/>
          <p:nvPr/>
        </p:nvSpPr>
        <p:spPr>
          <a:xfrm>
            <a:off x="228600" y="5867280"/>
            <a:ext cx="4876920" cy="70380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al &amp; medial surfaces of  right 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00440" y="274680"/>
            <a:ext cx="2438280" cy="170640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IGHT LUNG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48520" y="2438280"/>
            <a:ext cx="2666880" cy="3200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2 bronc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teri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ulmonary arter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ost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superior.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ulmonary v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r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nterior and inf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rootofrightlung"/>
          <p:cNvPicPr/>
          <p:nvPr/>
        </p:nvPicPr>
        <p:blipFill>
          <a:blip r:embed="rId1"/>
          <a:srcRect l="0" t="3611" r="0" b="3611"/>
          <a:stretch/>
        </p:blipFill>
        <p:spPr>
          <a:xfrm>
            <a:off x="380880" y="228600"/>
            <a:ext cx="57913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629400" y="274320"/>
            <a:ext cx="2209680" cy="163044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FT LUNG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324120" y="2361960"/>
            <a:ext cx="2667240" cy="38098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One bronc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terio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ulmonary arte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ost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superi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ulmonary v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r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nterior and inf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ootofleftlung"/>
          <p:cNvPicPr/>
          <p:nvPr/>
        </p:nvPicPr>
        <p:blipFill>
          <a:blip r:embed="rId1"/>
          <a:stretch/>
        </p:blipFill>
        <p:spPr>
          <a:xfrm>
            <a:off x="533520" y="228600"/>
            <a:ext cx="571500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324480" y="274320"/>
            <a:ext cx="2438640" cy="147780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ight lu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324120" y="2209680"/>
            <a:ext cx="2590920" cy="41911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rger &amp; shor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left l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by                 </a:t>
            </a:r>
            <a:r>
              <a:rPr b="0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2 fiss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lique &amp; horizo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nto </a:t>
            </a:r>
            <a:r>
              <a:rPr b="0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3 lob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pper, middle and lower lob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FE2FD7AB"/>
          <p:cNvPicPr/>
          <p:nvPr/>
        </p:nvPicPr>
        <p:blipFill>
          <a:blip r:embed="rId1"/>
          <a:srcRect l="18629" t="45855" r="16670" b="7627"/>
          <a:stretch/>
        </p:blipFill>
        <p:spPr>
          <a:xfrm>
            <a:off x="228600" y="304920"/>
            <a:ext cx="594360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74680"/>
            <a:ext cx="7772400" cy="7920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y the end of the lecture, you should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Describe the  anatomy of the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ple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Subdivisions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into parietal &amp; visceral pleurae,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nerve supply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of each part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List the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parts of parietal pleura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and its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re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Describe the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surface anatomy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of both pleurae and lu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Describe the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</a:rPr>
              <a:t>anatomy of lungs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: shape, relations, nerve supply, blood su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Describe the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difference between right &amp; left lu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the formatio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onchopulmonary seg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in characteris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se  segment in the l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5520" y="380520"/>
            <a:ext cx="2746440" cy="129564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ung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19560" y="2361960"/>
            <a:ext cx="2895480" cy="419076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by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one oblique fis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-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2 lob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pper and l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fi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a cardi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notch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er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i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terior b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899839F1"/>
          <p:cNvPicPr/>
          <p:nvPr/>
        </p:nvPicPr>
        <p:blipFill>
          <a:blip r:embed="rId1"/>
          <a:srcRect l="28434" t="27857" r="5882" b="30716"/>
          <a:stretch/>
        </p:blipFill>
        <p:spPr>
          <a:xfrm>
            <a:off x="304920" y="228600"/>
            <a:ext cx="556236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diastinal surface of right lu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562360" y="1142640"/>
            <a:ext cx="3352680" cy="53341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On the mediastinal surface of the right lung,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find these struc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zygos ve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ts ar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sterior and over the root of the l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agus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 of the lu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sophag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hrenic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 to the root of the 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diac impres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ed to right atrium of the hea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Below hilum and in front of pulmonary ligamen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ove f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.V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relationshipsofrightrootoflung"/>
          <p:cNvPicPr/>
          <p:nvPr/>
        </p:nvPicPr>
        <p:blipFill>
          <a:blip r:embed="rId1"/>
          <a:stretch/>
        </p:blipFill>
        <p:spPr>
          <a:xfrm>
            <a:off x="152280" y="1143000"/>
            <a:ext cx="525780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6" name="Text Box 6"/>
          <p:cNvSpPr/>
          <p:nvPr/>
        </p:nvSpPr>
        <p:spPr>
          <a:xfrm>
            <a:off x="457200" y="43434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diac i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5943600" y="380880"/>
            <a:ext cx="1143000" cy="533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920" y="1643040"/>
            <a:ext cx="1990800" cy="1571760"/>
          </a:xfrm>
          <a:prstGeom prst="rect">
            <a:avLst/>
          </a:prstGeom>
          <a:solidFill>
            <a:srgbClr val="9ed3d7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stinal surface of the right 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Copy of Picture2"/>
          <p:cNvPicPr/>
          <p:nvPr/>
        </p:nvPicPr>
        <p:blipFill>
          <a:blip r:embed="rId1"/>
          <a:srcRect l="0" t="5131" r="42250" b="4876"/>
          <a:stretch/>
        </p:blipFill>
        <p:spPr>
          <a:xfrm>
            <a:off x="2209680" y="285840"/>
            <a:ext cx="6705720" cy="6383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diastinal surface of  left lu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562360" y="1294920"/>
            <a:ext cx="3352680" cy="525780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On the mediastinal surface of the left lung,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fi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se stru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scending aor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agus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 of the 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ch of the aor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he root of the l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roove for left common carotid  and left subclavian arte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hrenic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 to the root of the 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diac impres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ed to left ventr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relationshipswithleftrootoflung"/>
          <p:cNvPicPr/>
          <p:nvPr/>
        </p:nvPicPr>
        <p:blipFill>
          <a:blip r:embed="rId1"/>
          <a:stretch/>
        </p:blipFill>
        <p:spPr>
          <a:xfrm>
            <a:off x="228600" y="1066680"/>
            <a:ext cx="533412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3" name="Text Box 6"/>
          <p:cNvSpPr/>
          <p:nvPr/>
        </p:nvSpPr>
        <p:spPr>
          <a:xfrm>
            <a:off x="3276720" y="41148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diac i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6172200" y="304920"/>
            <a:ext cx="76212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705360" y="1285560"/>
            <a:ext cx="2152440" cy="1857240"/>
          </a:xfrm>
          <a:prstGeom prst="rect">
            <a:avLst/>
          </a:prstGeom>
          <a:solidFill>
            <a:srgbClr val="9ed3d7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stinal surface of the left 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Picture2"/>
          <p:cNvPicPr/>
          <p:nvPr/>
        </p:nvPicPr>
        <p:blipFill>
          <a:blip r:embed="rId1"/>
          <a:srcRect l="45235" t="6660" r="0" b="2836"/>
          <a:stretch/>
        </p:blipFill>
        <p:spPr>
          <a:xfrm>
            <a:off x="285840" y="214200"/>
            <a:ext cx="6286320" cy="645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7" name="AutoShape 17"/>
          <p:cNvSpPr/>
          <p:nvPr/>
        </p:nvSpPr>
        <p:spPr>
          <a:xfrm>
            <a:off x="3635280" y="220500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86832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lood supply of 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ronchial arterie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From descending aort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. It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upply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xygenated bloo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to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bronchi , lung tissue &amp; visceral ple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Arial"/>
              </a:rPr>
              <a:t>Bronchial veins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drain into azygos &amp; hemiazygo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ve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ulmonary artery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which carries                       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Arial"/>
              </a:rPr>
              <a:t>non-oxygenated blood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ght ventric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ung alveo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Arial"/>
              </a:rPr>
              <a:t>2 pulmonary vein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rr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oxygenated bloo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ung alve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ft atri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he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rve Supply of the lu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ulmonary plex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he root of lung….is formed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tonomic N.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sympathetic &amp; parasympathetic fi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00ff"/>
                </a:solidFill>
                <a:uFillTx/>
                <a:latin typeface="Arial"/>
              </a:rPr>
              <a:t>1- Sympathetic  Fibe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… </a:t>
            </a: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Sympathetic tru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roncho-dilatatio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and  vasoconstri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00ff"/>
                </a:solidFill>
                <a:uFillTx/>
                <a:latin typeface="Arial"/>
              </a:rPr>
              <a:t>2- Parasympathetic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…..</a:t>
            </a:r>
            <a:r>
              <a:rPr b="1" i="1" lang="en-US" sz="3200" spc="-1" strike="noStrike">
                <a:solidFill>
                  <a:srgbClr val="009900"/>
                </a:solidFill>
                <a:latin typeface="Arial"/>
              </a:rPr>
              <a:t>Vagus</a:t>
            </a: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 nerv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on: Broncho-constr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retomo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ronchial glands /and vasodila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43600" y="244080"/>
            <a:ext cx="2743200" cy="5936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Bronc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715000" y="990360"/>
            <a:ext cx="3276720" cy="563868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trachea divides into 2 main bronc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Right main bronchus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which                          divides  before entering the  hi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gives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uperi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obar (secondary) bronchu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 entering hilum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divides in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idd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amp;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erio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obar bron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Left main bronchus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 entering hi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divides int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uperio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erio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obar bron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0" descr="EB275CB7"/>
          <p:cNvPicPr/>
          <p:nvPr/>
        </p:nvPicPr>
        <p:blipFill>
          <a:blip r:embed="rId1"/>
          <a:srcRect l="26710" t="45634" r="5444" b="27275"/>
          <a:stretch/>
        </p:blipFill>
        <p:spPr>
          <a:xfrm>
            <a:off x="228600" y="457200"/>
            <a:ext cx="533412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onchopulmonary seg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409720" y="990360"/>
            <a:ext cx="3581640" cy="563868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the anatomical, functional, and surgical units of the lu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Each lobar (secondary) bronch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segmental (tertiary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bron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Each segmental bronch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vides repeatedly into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bronch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Bronchio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into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terminal bronchiole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show delicate outpouchings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‘the respiratory bronchioles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1B6F5EDD"/>
          <p:cNvPicPr/>
          <p:nvPr/>
        </p:nvPicPr>
        <p:blipFill>
          <a:blip r:embed="rId1"/>
          <a:srcRect l="23529" t="23632" r="1959" b="1968"/>
          <a:stretch/>
        </p:blipFill>
        <p:spPr>
          <a:xfrm>
            <a:off x="304920" y="914400"/>
            <a:ext cx="502920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8" name="Picture 5" descr="Lungs"/>
          <p:cNvPicPr/>
          <p:nvPr/>
        </p:nvPicPr>
        <p:blipFill>
          <a:blip r:embed="rId2"/>
          <a:srcRect l="25928" t="0" r="0" b="0"/>
          <a:stretch/>
        </p:blipFill>
        <p:spPr>
          <a:xfrm>
            <a:off x="2666880" y="2971800"/>
            <a:ext cx="251460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924680" cy="68580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ronchopulmonary seg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400440" y="990720"/>
            <a:ext cx="2590920" cy="548640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The respiratory bronchio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 by branching into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alveolar 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lead into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alveolar sa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The alveolar sa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ist of several alveoli,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each alveolus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rrounded by a network of blood capillaries for gas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48BC38F4"/>
          <p:cNvPicPr/>
          <p:nvPr/>
        </p:nvPicPr>
        <p:blipFill>
          <a:blip r:embed="rId1"/>
          <a:srcRect l="30685" t="17097" r="0" b="31720"/>
          <a:stretch/>
        </p:blipFill>
        <p:spPr>
          <a:xfrm>
            <a:off x="228600" y="838080"/>
            <a:ext cx="601992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2" name="Rectangle 4"/>
          <p:cNvSpPr/>
          <p:nvPr/>
        </p:nvSpPr>
        <p:spPr>
          <a:xfrm>
            <a:off x="685800" y="3657600"/>
            <a:ext cx="83808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3048120" cy="5936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at is Pleu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3200400" cy="5715000"/>
          </a:xfrm>
          <a:prstGeom prst="rect">
            <a:avLst/>
          </a:prstGeom>
          <a:solidFill>
            <a:srgbClr val="9ed3d7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-layered serous membranous sac enclosing the l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wo la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ietal lay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lines the thoracic w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ceral lay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overs the surfaces of the lu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layers continue with each other around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it forms a loose cuff hanging down called the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ulmonary liga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ace betwee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s, is the pleural cavit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ontains a very thin film of pleural fluid ( 5-10 ml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ClipArt Placeholder 4" descr="C3FF4"/>
          <p:cNvPicPr/>
          <p:nvPr/>
        </p:nvPicPr>
        <p:blipFill>
          <a:blip r:embed="rId1"/>
          <a:srcRect l="5307" t="64175" r="-175" b="0"/>
          <a:stretch/>
        </p:blipFill>
        <p:spPr>
          <a:xfrm>
            <a:off x="5500800" y="304920"/>
            <a:ext cx="3503520" cy="2314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6" name="Line 8"/>
          <p:cNvSpPr/>
          <p:nvPr/>
        </p:nvSpPr>
        <p:spPr>
          <a:xfrm>
            <a:off x="7358040" y="6143760"/>
            <a:ext cx="2872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E:\dad\Student Gray\3. Thorax\F66122-003-f041a.jpg"/>
          <p:cNvPicPr/>
          <p:nvPr/>
        </p:nvPicPr>
        <p:blipFill>
          <a:blip r:embed="rId2"/>
          <a:srcRect l="10435" t="0" r="0" b="6152"/>
          <a:stretch/>
        </p:blipFill>
        <p:spPr>
          <a:xfrm>
            <a:off x="3429000" y="228600"/>
            <a:ext cx="5572080" cy="624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cxnSp>
        <p:nvCxnSpPr>
          <p:cNvPr id="188" name="Straight Arrow Connector 3"/>
          <p:cNvCxnSpPr/>
          <p:nvPr/>
        </p:nvCxnSpPr>
        <p:spPr>
          <a:xfrm flipV="1">
            <a:off x="2895120" y="4342680"/>
            <a:ext cx="403956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391520" cy="68580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ronchopulmonary seg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52520" y="1143000"/>
            <a:ext cx="4038840" cy="51055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main characteristics of a bronchopulmonary segment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 subdivision of a lung lob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yramidal shaped, its apex toward the lung ro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surrounded by connective tissue sep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gmental bronchu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gmental art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ymph vess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nom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r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segmental v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es in the inter- segmenta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.T. sep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tween the seg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seased segment can be removed surgically, because it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tructural un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Picture of the Human Lungs"/>
          <p:cNvPicPr/>
          <p:nvPr/>
        </p:nvPicPr>
        <p:blipFill>
          <a:blip r:embed="rId1"/>
          <a:stretch/>
        </p:blipFill>
        <p:spPr>
          <a:xfrm>
            <a:off x="228600" y="1066680"/>
            <a:ext cx="464832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oc26$004"/>
          <p:cNvPicPr/>
          <p:nvPr/>
        </p:nvPicPr>
        <p:blipFill>
          <a:blip r:embed="rId1"/>
          <a:stretch/>
        </p:blipFill>
        <p:spPr>
          <a:xfrm>
            <a:off x="468360" y="285840"/>
            <a:ext cx="82468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oc26$003"/>
          <p:cNvPicPr/>
          <p:nvPr/>
        </p:nvPicPr>
        <p:blipFill>
          <a:blip r:embed="rId1"/>
          <a:stretch/>
        </p:blipFill>
        <p:spPr>
          <a:xfrm>
            <a:off x="785880" y="357120"/>
            <a:ext cx="75722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4"/>
          <p:cNvSpPr txBox="1"/>
          <p:nvPr/>
        </p:nvSpPr>
        <p:spPr>
          <a:xfrm>
            <a:off x="395280" y="1557360"/>
            <a:ext cx="756144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2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71480" y="244080"/>
            <a:ext cx="3429000" cy="755640"/>
          </a:xfrm>
          <a:prstGeom prst="rect">
            <a:avLst/>
          </a:prstGeom>
          <a:solidFill>
            <a:srgbClr val="e6e6e6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ietal Ple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13840" y="1428480"/>
            <a:ext cx="8643960" cy="31431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 is divided according to the region in which it lies and the surfaces it covers,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Cerv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Cos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 Mediast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 Diaphragma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ClipArt Placeholder 4" descr="C3FF4"/>
          <p:cNvPicPr/>
          <p:nvPr/>
        </p:nvPicPr>
        <p:blipFill>
          <a:blip r:embed="rId1"/>
          <a:srcRect l="6696" t="64175" r="169" b="0"/>
          <a:stretch/>
        </p:blipFill>
        <p:spPr>
          <a:xfrm>
            <a:off x="3733920" y="2590920"/>
            <a:ext cx="5105160" cy="3809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429000" cy="990720"/>
          </a:xfrm>
          <a:prstGeom prst="rect">
            <a:avLst/>
          </a:prstGeom>
          <a:solidFill>
            <a:srgbClr val="e6e6e6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ietal Ple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13840" y="1294920"/>
            <a:ext cx="3443400" cy="5334120"/>
          </a:xfrm>
          <a:prstGeom prst="rect">
            <a:avLst/>
          </a:prstGeom>
          <a:solidFill>
            <a:srgbClr val="9ed3d7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rvical Pleur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up into the root of the neck,  about one inch above the medial1/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clav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lines the under surface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suprapleural membran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stal pleu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ines,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 back of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nu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al cartilag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stal spac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es of vertebral bo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E:\dad\Student Gray\3. Thorax\F66122-003-f036.jpg"/>
          <p:cNvPicPr/>
          <p:nvPr/>
        </p:nvPicPr>
        <p:blipFill>
          <a:blip r:embed="rId1"/>
          <a:srcRect l="0" t="0" r="0" b="4063"/>
          <a:stretch/>
        </p:blipFill>
        <p:spPr>
          <a:xfrm>
            <a:off x="3733920" y="285840"/>
            <a:ext cx="5195880" cy="596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5" name="AutoShape 8"/>
          <p:cNvSpPr/>
          <p:nvPr/>
        </p:nvSpPr>
        <p:spPr>
          <a:xfrm>
            <a:off x="4343400" y="5335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3962520" y="297180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44440"/>
            <a:ext cx="3276720" cy="82224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ietal Ple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353040" cy="4952880"/>
          </a:xfrm>
          <a:prstGeom prst="rect">
            <a:avLst/>
          </a:prstGeom>
          <a:solidFill>
            <a:srgbClr val="9ed3d7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diastinal pleu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s the mediastin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hilum, it is reflected on to the vessels and bronchi, that enter the hilum of the 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continuous with the visceral ple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aphragmatic pleu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s the upper (thoracic) surface of the diaphrag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E:\dad\Student Gray\3. Thorax\F66122-003-f035.jpg"/>
          <p:cNvPicPr/>
          <p:nvPr/>
        </p:nvPicPr>
        <p:blipFill>
          <a:blip r:embed="rId1"/>
          <a:srcRect l="17910" t="17232" r="15565" b="4355"/>
          <a:stretch/>
        </p:blipFill>
        <p:spPr>
          <a:xfrm>
            <a:off x="3581280" y="1219320"/>
            <a:ext cx="5257800" cy="5105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44440"/>
            <a:ext cx="2743200" cy="54144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ural Re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13840" y="1066680"/>
            <a:ext cx="2909880" cy="5562720"/>
          </a:xfrm>
          <a:prstGeom prst="rect">
            <a:avLst/>
          </a:prstGeom>
          <a:solidFill>
            <a:srgbClr val="9ed3d7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odiaphragmat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t like space between costal and diaphragmatic pleurae, along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ferior bor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lung  which enters through it in deep in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Costomediastin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t like space between costal and mediastinal pleurae, along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nterio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or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lung which enters into it in deep  in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ClipArt Placeholder 8" descr="C4FF13"/>
          <p:cNvPicPr/>
          <p:nvPr/>
        </p:nvPicPr>
        <p:blipFill>
          <a:blip r:embed="rId1"/>
          <a:srcRect l="30055" t="3655" r="3180" b="55733"/>
          <a:stretch/>
        </p:blipFill>
        <p:spPr>
          <a:xfrm>
            <a:off x="3276720" y="533520"/>
            <a:ext cx="5653080" cy="60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3" name="AutoShape 8"/>
          <p:cNvSpPr/>
          <p:nvPr/>
        </p:nvSpPr>
        <p:spPr>
          <a:xfrm>
            <a:off x="4495680" y="5562720"/>
            <a:ext cx="1752840" cy="68580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7391520" y="2590920"/>
            <a:ext cx="1447560" cy="53316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3619800" cy="54144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eura: Nerve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114800" cy="5581440"/>
          </a:xfrm>
          <a:prstGeom prst="rect">
            <a:avLst/>
          </a:prstGeom>
          <a:solidFill>
            <a:srgbClr val="9ed3d7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060"/>
                </a:solidFill>
                <a:uFillTx/>
                <a:latin typeface="Arial"/>
              </a:rPr>
              <a:t>Parietal ple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t is sensitive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abic Transparent"/>
              </a:rPr>
              <a:t>to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p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ain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abic Transparent"/>
              </a:rPr>
              <a:t>,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p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ressure,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t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emperature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,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t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o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t is supplied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as follows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Costal pleura is segmentally supplied by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intercostal ner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Mediastinal pleura is supplied by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phrenic ner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Diaphragmatic pleura is supplied </a:t>
            </a:r>
            <a:r>
              <a:rPr b="0" lang="en-US" sz="18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as follow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: over the domes by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phrenic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nerves, around the periphery by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lowe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r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6 intercostal nerves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Visceral pleura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sensitive only to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stretch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 only and is supplied by the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 autonomic fibers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from the pulmonary plex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C3FF8"/>
          <p:cNvPicPr/>
          <p:nvPr/>
        </p:nvPicPr>
        <p:blipFill>
          <a:blip r:embed="rId1"/>
          <a:stretch/>
        </p:blipFill>
        <p:spPr>
          <a:xfrm>
            <a:off x="4643280" y="1000080"/>
            <a:ext cx="4308480" cy="5000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E:\dad\Student Gray\3. Thorax\F66122-003-f015.jpg"/>
          <p:cNvPicPr/>
          <p:nvPr/>
        </p:nvPicPr>
        <p:blipFill>
          <a:blip r:embed="rId2"/>
          <a:srcRect l="0" t="0" r="0" b="10917"/>
          <a:stretch/>
        </p:blipFill>
        <p:spPr>
          <a:xfrm>
            <a:off x="4343400" y="914400"/>
            <a:ext cx="464832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FACE ANATOMY OF PLE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86200" y="837720"/>
            <a:ext cx="5105520" cy="57913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p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es one inch above the medial 1/3 of the clavi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Right ple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anterior marg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s vertically from sternoclavicular joint t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6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ostal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Left pleura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anterior marg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s from sternoclavicular joint to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ostal cartilag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deviates for about 1 inch to left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ost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rtil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orm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rdiac notc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Inferior margi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 around the chest wall, 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rib in midclavicular line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rib i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d-axillary li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inally reaching 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last thoracic s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osterior margi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ong the vertebral column from the  apex to the inferior mar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E:\dad\Student Gray\3. Thorax\F66122-003-f104a.jpg"/>
          <p:cNvPicPr/>
          <p:nvPr/>
        </p:nvPicPr>
        <p:blipFill>
          <a:blip r:embed="rId1"/>
          <a:srcRect l="4266" t="7762" r="0" b="9876"/>
          <a:stretch/>
        </p:blipFill>
        <p:spPr>
          <a:xfrm>
            <a:off x="228600" y="2438280"/>
            <a:ext cx="365760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8:00:14Z</dcterms:created>
  <dc:creator>Amilo</dc:creator>
  <dc:description/>
  <dc:language>en-US</dc:language>
  <cp:lastModifiedBy>Dr.Saeed abuel Makarem</cp:lastModifiedBy>
  <dcterms:modified xsi:type="dcterms:W3CDTF">2016-01-19T06:34:29Z</dcterms:modified>
  <cp:revision>852</cp:revision>
  <dc:subject/>
  <dc:title>Slide 1</dc:title>
</cp:coreProperties>
</file>