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FD1-D228-4F50-AF0D-1A65E83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C43-4F51-448C-AD9A-0620A3E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5FC-F268-4C0E-B876-3D64319F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5D5-7173-45C3-B033-7FD32AB2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82C4-D0CA-4AF0-9FBE-9DFFF2AD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E957-55C2-4CDF-9E57-2C3CE7E4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450-A282-46B9-9889-0336D242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2ED1-C6BF-48F7-8DBF-63CDC0E9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D51B-F720-4841-956D-2E5259C7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D42E-F110-4058-B3FD-7E418208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A294-9680-43C9-B9F8-557B5F4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7A0-E3A7-4FDD-9F4F-4D77DA16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836A-2DAE-42EC-9F8B-70A2C19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1404-B820-460D-A3AE-244E850E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CFE-905B-40DF-887F-959775E3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E2DA-25FE-42F3-9713-57A83BD5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CFA8-BAC5-4377-ACC7-5D7EEB27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A79-DB94-4010-A51E-15855190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8595B4-3C3F-4A26-A1DC-E2032D91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EAAD1-DAC4-4BFD-82B5-3917348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605AA-6F76-496C-910F-BF749B8A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283-9B6A-40E0-AF58-5D028CE2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87118-AEDF-4B8B-915F-FF332C22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1A610-C73B-465F-8661-A543E28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DA942-12DA-462B-AACD-667EB10F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42C47-E2E5-4B3D-941B-9798C161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EA6DF-08CD-4A7B-9978-2CE723E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2A226-8323-4C3D-BEC4-0DC4506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250E7-2916-4BA9-B7E8-2CCED056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C215E-7943-473D-8326-3A89F3C0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466CD-0F5C-4817-BBC2-2BD43806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11CBE8-B7FE-4D43-815E-C46F92B1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EE1-4CFE-4D70-9D2D-CDED4D8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43504C-6108-44A4-85FD-C1B1406B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4667E8-B737-47B0-BDAA-14BD9291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8251A2-1557-4218-86E8-B4459E2A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51C66-30D9-4316-8B67-78606937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3C739-B4DE-48ED-A342-591F76D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075481-D7BA-4129-832D-7EA4D5A0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884AE6-BCE4-44AF-AD13-3EC9D53A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A968C-8CFB-49D4-9590-3E8E712B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A1DD1-A67B-45BC-B272-1A2D590A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BC19FC-1B37-4096-AE22-5264AA26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2ED-515E-44CE-AA90-D78269D7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27FAA9-3E99-48BD-9AA0-1CCEF640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CAD-4FBE-43A8-846E-75216720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1F4-97F6-4E34-A734-CD3D08D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0D2-E430-48A4-B75F-B1EE2AB7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F3FC-CB88-4E3F-8B49-8FC6DBF2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9A40-60FD-4A96-AD65-254733CC3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A984-2DB0-4DA8-86DF-90B0E1D4B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F558-C541-49DC-BA86-6F09BACFFB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434952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 Block  |  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  <a:ea typeface="ＭＳ Ｐゴシック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o describe the globular proteins using common examples like hemoglobin and my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study the structure and functions of globular proteins like-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Myoglobin, an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o know the different types of hemoglobin and difference between normal and abnormal hem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understand the diseases associated with globular protei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ibrous proteins are mainly insoluble, while globular proteins are soluble structural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, Myoglobin, globulines and enzymes are examples of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unctionally, Hb is for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and C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trans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, HbA2 and HbF are examples of normal Hb, in which the tetrameric structure is composed of 2α constant subunits with 2 changeable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ubunits according to Hb typ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1C is a HbA which undergoes non-enzymatic glycosylation, depending on plasma glucose leve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Carboxy-Hb, Met-Hb and Sulf-Hb are examples of abnormal Hb, in which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molecules are not transported due to abnormal Hb struc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Hb caused by synthesis of structurally abnormal Hb and/or insufficient quantities of normal H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Sickle cell (HbS) and HbC diseases are caused by a single mutation in β-globin ge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lu6 in HbS is replaced by Val, while it is replaced by Lys in Hb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Methemoglobinemia is caused by oxidation of Hb, inhibiting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binding leading to chocolate cyanosi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lassemia is caused by a defect in synthesis of either α- or β-globulin chain, as a result of gene mut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α-Thalassemia causes less sever anemia than β-Thalassem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 is a globular hemeprotein, which stores and supplies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the heart and muscle on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Hb is composed of 4 chains (subunits), while Myoglobin is composed of a single chai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uria is a specific marker for muscle injury and may cause acute renal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Immunoglobulins are defensive proteins produced by the B-cel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munoglobulins consist of 5 types: IgA, IgD, IgE, IgG and Ig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ustrations in Biochemistry by Lippincott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di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PKU</cp:lastModifiedBy>
  <dcterms:modified xsi:type="dcterms:W3CDTF">2016-01-18T04:16:57Z</dcterms:modified>
  <cp:revision>165</cp:revision>
  <dc:subject/>
  <dc:title>Globular Proteins</dc:title>
</cp:coreProperties>
</file>