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5C76-8B70-4B8E-B5FD-7385B918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A78D-CC28-4607-A17A-817214FF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E9B-0F9C-42EF-B527-396259DA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671-EF95-4A71-9CF8-69BC76A0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A040-A1F9-4A5B-9BBE-7232AE5E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CC01-15AB-4353-9226-105026F5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D0B9-5EBC-42BC-AD63-D3717E62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41EC-7F08-4698-941B-DE30B1C6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2939-97F6-467F-9E21-7A6AA6B3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1E89-530A-4272-B105-D613C8BD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9283-8B85-4DAF-B954-978E8616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F15-079B-431F-B1B2-F1838671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DE93-26D1-4654-8A6B-DCAE39B5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F836-A0AB-4E36-AD42-28FEEEE1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EB87-B045-4A20-977F-510CAE45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EEB5-D67D-427C-BC2B-FABAD7C7F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5BE43-3B02-42EC-B0D0-9F23F5B2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5212-CE10-4DA3-B360-FB8A00D8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B66055-7003-400A-A976-AC68CCA4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D6C750-2B94-4400-90A6-BD88571C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38BF7D-B621-4BDD-919D-5EC11068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1924-DEDE-4AD5-AD00-62B23138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C9CD51-933E-4C6F-BA82-9A1D4BE4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F597D4-0781-47ED-AEC8-19D6BB78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30FD30-E040-4EC0-A7B5-08E682E6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17B713-480B-4BEA-ADC4-9F94352E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459206-64F8-40C2-BE1B-F93B0006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71C0D0-A907-4232-BCA3-87A18D0E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061718-986D-4FBB-B533-39A12C5F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4111A9-12AE-45C0-91D6-CFAFF369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69294C-7955-4F64-A870-3991FDCB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430C47-A456-4899-9B19-DB9635CB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9CD-7BF4-4126-BAC6-B11E3B21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D56E85-B9CB-4C72-9C6C-4425C21D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288CA6-17AB-4F3E-85CF-8BED34A4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4094AE-5447-4EBB-B98E-6B7A5D3E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3A2FDA-9914-4A31-A180-E930921B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626535-1657-4FBB-8790-65CE836B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65C3A8-5878-4D27-9A84-4CC7D700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06A94C-598F-424D-ADBE-FE9B3777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AA1E20-55F7-40BC-98B9-AE70201D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AADB28-2E58-4D39-9761-61233D32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C993F8-71F6-4F9F-A904-EECC0FF5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58BC-C3ED-457F-81D6-28A9A4E0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6CCD5F-E07C-415C-850F-F8E4CC64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659-F5D0-4EBA-AD28-1293F745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0D1-9AF5-40BE-AD8E-96E60D6C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1FBA-4748-4455-ACA6-86FD947A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2FB5-E0C9-42BF-AAE6-D4FB53D65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D954-0F5E-4A05-A9AF-8CEC4273E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1904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 rot="16200000">
            <a:off x="-1028520" y="499104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e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ochemist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John Wiley &amp; Sons, Inc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C33F-0B6A-4E58-A942-CD17C4FB2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D1A8-7ABB-43B6-BF5F-9C4BBD629B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66320" y="4349520"/>
            <a:ext cx="71629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iratory  Block  |  1 Lec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193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etal hemoglobin (HbF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jor hemoglobin found in the fetus and newbor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etramer with two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and two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er affinity for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han Hb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ransfers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from maternal to fetal circulation across placen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ppears ~12 weeks after bir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onstitutes ~2% of tot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osed of tw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tw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globin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  <a:ea typeface="ＭＳ Ｐゴシック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1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 undergoes non-enzymatic glycosyl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Glycosylation depends on plasma glucose lev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1c levels are high in patients with diabetes mellit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Picture 2" descr="C:\Documents and Settings\Fatma\Desktop\chapter03\jpg\0315_Formation_HbA1C.jpg"/>
          <p:cNvPicPr/>
          <p:nvPr/>
        </p:nvPicPr>
        <p:blipFill>
          <a:blip r:embed="rId1"/>
          <a:stretch/>
        </p:blipFill>
        <p:spPr>
          <a:xfrm>
            <a:off x="5857920" y="1371600"/>
            <a:ext cx="290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Abnormal Hb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able to transport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due to abnormal structur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arboxy-Hb: CO replaces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and binds 200X tighter than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(in smoker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-Hb: Contains oxidized 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~2%) that cannot carry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Sulf-HB: Forms due to high sulfur levels in blood (irreversible reac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Disorders of hemoglobin caused b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structurally abnorm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insufficient quantities of norm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ombination of bo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Sickle cell (HbS)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d by a single mutation i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globin ge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lutamic acid at position 6 in HbA is replaced by val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e mutant HbS contain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  <a:ea typeface="ＭＳ Ｐゴシック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ch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The shape of RBCs become sickl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s sickle cell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0" name="Picture 4" descr="tumblr_lbwj8cQJ7M1qaqphpo1_400"/>
          <p:cNvPicPr/>
          <p:nvPr/>
        </p:nvPicPr>
        <p:blipFill>
          <a:blip r:embed="rId1"/>
          <a:stretch/>
        </p:blipFill>
        <p:spPr>
          <a:xfrm>
            <a:off x="6705720" y="39625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Hemoglobin C diseas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d by a single mutation i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globin ge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lutamic acid at position 6 in HbA is replaced by lys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auses a mild form of hemolytic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Methemoglobin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d by oxidation of Hb to ferric (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st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hemoglobin cannot bind oxy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d by certain drugs, reactive oxygen species and NADH-cytochrome b5 reductase deficie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ocolate cyanosis: brownish-blue color of the skin and blo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ctive synthesis of ei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globin chain due to gene mu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-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-globin chain is decreased or ab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Causes mild to moderate hemolytic anem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-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-globin chain is decreased or ab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Causes severe anem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Patients need regular blood transfu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8377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o describe the globular proteins using common examples like hemoglobin and myoglobi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o study the structure and functions of globular proteins like-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Hemoglobin (a major globular protein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Myoglobin, and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-globulins (immunoglobulins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o know the different types of hemoglobin and difference between normal and abnormal hemoglobi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o understand the diseases associated with globular protei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 globular hemeprotein in heart and musc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Stores and supplies oxygen to the heart and muscle on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tains a single polypeptide chain forming a single subunit with eigh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-helix struct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The interior of the subunit is composed of nonpolar amino aci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971800" y="579096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ructure of myoglob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2009880" y="419040"/>
            <a:ext cx="5122800" cy="51055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 rot="16200000">
            <a:off x="-145440" y="4760280"/>
            <a:ext cx="83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arged amino acids are located on the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he heme group is present at the center of the molecu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oglobin gives red color to skeletal musc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Supplies oxygen during aerobic exerc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 in diseas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oglobinuria: Myoglobin is excreted in urine due to muscle damage (rhabdomyolys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May cause acute renal fail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cific marker for muscle inju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Less specific marker for heart attac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Immunoglobul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219320"/>
            <a:ext cx="4495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nsive proteins produced by the B-cells of the immune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Y-shaped structure with 2 heavy and 2 light polypeptide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utralize bacteria and viru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ypes: IgA, IgD, IgE, IgG, Ig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5278320" y="1511280"/>
            <a:ext cx="35737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mino acid chains fold into shapes that resemble spheres are called globular protein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Fibrous proteins are mainly insoluble, while globular proteins are soluble structural protein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b, Myoglobin, globulines and enzymes are examples of globular protein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Functionally, Hb is for 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and C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transpor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bA, HbA2 and HbF are examples of normal Hb, in which the tetrameric structure is composed of 2α constant subunits with 2 changeable </a:t>
            </a:r>
            <a:r>
              <a:rPr b="0" lang="el-GR" sz="2800" spc="-1" strike="noStrike">
                <a:solidFill>
                  <a:srgbClr val="ffffff"/>
                </a:solidFill>
                <a:latin typeface="Calibri"/>
              </a:rPr>
              <a:t>β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ubunits according to Hb typ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bA1C is a HbA which undergoes non-enzymatic glycosylation, depending on plasma glucose level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Carboxy-Hb, Met-Hb and Sulf-Hb are examples of abnormal Hb, in which 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molecules are not transported due to abnormal Hb structu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orders of Hb caused by synthesis of structurally abnormal Hb and/or insufficient quantities of normal Hb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Sickle cell (HbS) and HbC diseases are caused by a single mutation in β-globin gen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lu6 in HbS is replaced by Val, while it is replaced by Lys in HbC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Methemoglobinemia is caused by oxidation of Hb, inhibiting O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 binding leading to chocolate cyanosi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alassemia is caused by a defect in synthesis of either α- or β-globulin chain, as a result of gene mutatio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α-Thalassemia causes less sever anemia than β-Thalassemi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oglobin is a globular hemeprotein, which stores and supplies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o the heart and muscle only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ake Home Messag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Hb is composed of 4 chains (subunits), while Myoglobin is composed of a single chain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oglobinuria is a specific marker for muscle injury and may cause acute renal failu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Calibri"/>
              </a:rPr>
              <a:t>Immunoglobulins are defensive proteins produced by the B-cells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mmunoglobulins consist of 5 types: IgA, IgD, IgE, IgG and Ig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Referenc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llustrations in Biochemistry by Lippincott 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edit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mino acid chains fold into shapes that resemble spheres are called globular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his type of folding increases solubility of proteins in wa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Polar groups on the protein</a:t>
            </a:r>
            <a:r>
              <a:rPr b="0" lang="ja-JP" sz="2600" spc="-1" strike="noStrike">
                <a:solidFill>
                  <a:srgbClr val="ffcc00"/>
                </a:solidFill>
                <a:latin typeface="Arial"/>
                <a:ea typeface="MS PGothic"/>
              </a:rPr>
              <a:t>’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  <a:ea typeface="MS PGothic"/>
              </a:rPr>
              <a:t>s surfac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Hydrophobic groups in the interio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brous proteins are mainly insoluble structural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emoglobin: oxygen transport func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Myoglobin: oxygen storage/supply function in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   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heart and muscl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-globulins: various functio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-globulins (immunoglobulins): immune func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zymes: catalysis of biochemical reactio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A major globular protein in huma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Composed of four polypeptide chains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Two </a:t>
            </a: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 and two </a:t>
            </a: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 chai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Contains two dimers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subun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Held together by non-covalent interac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Each chain is a subunit with a heme group in the center that carries oxy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ＭＳ Ｐゴシック"/>
              </a:rPr>
              <a:t>A Hb molecule contains 4 heme groups and carries 4 molecules of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  <a:ea typeface="ＭＳ Ｐゴシック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Figure3-8.jpg"/>
          <p:cNvPicPr/>
          <p:nvPr/>
        </p:nvPicPr>
        <p:blipFill>
          <a:blip r:embed="rId1"/>
          <a:stretch/>
        </p:blipFill>
        <p:spPr>
          <a:xfrm>
            <a:off x="1295280" y="228600"/>
            <a:ext cx="6324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b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00200" y="1541520"/>
          <a:ext cx="6095880" cy="4479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Normal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bA (97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HbA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2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 (2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F (1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HbA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1c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Abnormal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xy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f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bA structur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262800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Calibri"/>
              </a:rPr>
              <a:t>Oxygen binding to hemoglob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 functio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ries oxygen from the lungs to tiss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arries carbon dioxide from tissues back to the lu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level (g/dL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les: 14-1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males: 13-1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1:27:42Z</dcterms:created>
  <dc:creator>Usman Ghani</dc:creator>
  <dc:description/>
  <dc:language>en-US</dc:language>
  <cp:lastModifiedBy>PKU</cp:lastModifiedBy>
  <dcterms:modified xsi:type="dcterms:W3CDTF">2016-01-18T04:16:57Z</dcterms:modified>
  <cp:revision>165</cp:revision>
  <dc:subject/>
  <dc:title>Globular Proteins</dc:title>
</cp:coreProperties>
</file>