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3860-76B1-4775-95A0-8FDAA65C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FBA-45C1-42C4-A240-FEE00AE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CCA-9904-4C19-9F5A-AC8A3247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22D-3BCE-4293-BF78-5A66CF03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AB4-2058-4102-8C55-984DAF2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DD48A-D610-49C6-9E71-992EA952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81D267-7A31-434C-959D-4EDD8CE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8A556-91F8-46B2-ABD8-DF0ED55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F91EAB-755A-40C8-B516-9E6C89DB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B7EB9-E226-4E00-A25A-1AFFF9E8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1E0-F6DD-441B-8459-E0AAD193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8B130-2524-4EA7-BD67-0F812693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7C5E2-FAAB-486A-9378-B67F6688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4A2F4-9A73-41FE-96F7-822913EE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3DD276-3180-4000-A066-0BC81E3A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A1B67-20B8-473B-8B7E-04D6BBDA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056A74-327F-460A-8327-DC8E2442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A5036-0E3E-471F-9748-DF9D7236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F89-1A68-434C-B0D5-EDC2297D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ACFE-D23E-4ECF-A06B-156DB55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FEC7-D935-4E61-A2B4-7866C3E5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606-48E0-4E27-AB2A-13AC4EE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B01-BEA1-486C-BE52-C2C9233B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69B0-7471-4CF8-BFBB-D10EE613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1BEC-6B37-4898-9B10-EF1BE25994B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5535-6274-44E8-8CEF-08045F480CF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Krebs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ic) 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: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UG</cp:lastModifiedBy>
  <dcterms:modified xsi:type="dcterms:W3CDTF">2015-02-09T07:56:16Z</dcterms:modified>
  <cp:revision>26</cp:revision>
  <dc:subject/>
  <dc:title>Slide 1</dc:title>
</cp:coreProperties>
</file>