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787F-F34C-4C54-AC51-CE7E8B24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5CED-D227-4C12-9EE0-F2FEBED8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5340-A5C3-46CB-BEE5-542767ADF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8070-0A57-480C-B816-5D20217DB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15D4-54BD-4012-BE6A-CB34E0A9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D00F9F-1663-465B-9E52-78E7561F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C0BF32-3694-4CE1-906E-EF99FC2C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214D3B-8898-4CE4-ADAF-D1E792CA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6CFBA2-CC44-4BAC-9C27-7AE3D36B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FE6E56-2D3B-4904-BA94-AF15E6EA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43E7-A6E9-4BF3-8304-B30872ED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C52EF5-6459-4DD1-8F60-6CCF84A3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BF2263-D752-45AB-9C5B-65AD490E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DC5A08-44F1-4803-AE76-F23990F7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E22884-83D0-4001-85BA-C8138A75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9DF40E-2E07-473C-97F2-C347BE45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D1AC7F-EE1F-4DC6-950E-EE7AB44AC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5D9CC8-7410-4877-BDD8-F4222F832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A83F-6FE8-46D4-9AB4-AF9BC327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F294-65D9-470F-8ADF-ADC1503F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765A-246E-4B68-9FA6-BCE2E74E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2913-1EB5-4CFE-9EB7-1E74D728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2F8E-38F5-4AE7-8F70-64C35159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5AB9-72F4-4F15-B4B0-46901B8B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26CA-D5FF-40BD-84DA-576E23B09AF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41904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 rot="16200000">
            <a:off x="-1028520" y="499104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et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ochemistr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3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2004 John Wiley &amp; Sons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5A30-C280-4F02-83F5-39B86289A03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lectron Transport Chai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(Respiratory Chai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. Usman Gha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 Le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spiratory 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omplex I – NADH Dehydrogen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complex collects the pair of electrons from NADH and passes them to CoQ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87480" y="1828800"/>
            <a:ext cx="887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Complex II – Succinate dehydrogen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is also a part of the Krebs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ansfers electrons to CoQ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87480" y="1828800"/>
            <a:ext cx="887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oenzyme Q (CoQ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so called ubiquinone (ubiquitous in biological syste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non-protein member of the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pid soluble and mob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ytochr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ach cytochrome is a protein that conta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me group (porphyrin ring + iron in 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3+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cytochromes accept elect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3+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ferric) is converted to 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2+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ferrou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2+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s reoxidized to 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3+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when it donates electrons to the next carr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omplex III and I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plex III: Cytochrome bc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plex IV: Cytochrome a + 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ctrons flow fro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Q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Complex III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Cyt. c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Complex I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87480" y="1828800"/>
            <a:ext cx="887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e-specific inhibitors of ET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152280" y="2819520"/>
            <a:ext cx="8834400" cy="16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ETC is coupled to proton transport for ATP synthe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energy of electron transfer is used to drive the protons out of the matr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is done by complexes I, III and IV (proton pump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creates a proton gradient across the IMM to synthesize A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Electron Transport Chain (ET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system of electron transport that uses respiratory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to finally produce ATP (energ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cated in the inner mitochondrial membra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nal common pathway of metabo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ctrons from food metabolism are transported to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es maximum amount of body’s oxyg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pling of electron transport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green arrow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ATP synth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685800" y="1824120"/>
            <a:ext cx="7772400" cy="22953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"/>
          <p:cNvSpPr/>
          <p:nvPr/>
        </p:nvSpPr>
        <p:spPr>
          <a:xfrm rot="16200000">
            <a:off x="-145440" y="4730760"/>
            <a:ext cx="83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8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ATP synthas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TP synthase (Complex V) synthesizes A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ists of two domai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– membrane spanning dom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– extramembranous doma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port of prot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1143000" y="1925640"/>
            <a:ext cx="685800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Energetics of ATP syn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energy required for phosphorylation of ADP to ATP = 7.3kcal/m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ergy produced from the transport of a pair of electrons from NADH to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= 52.58 k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. of ATP molecules produced is 3 (NADH to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cess energy is used for other reactions or released as h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P:O rat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TP made per O atom reduc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For NADH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:O = 3: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For FADH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:O = 2: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Inhibitors of ATP syn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ligomyc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inds to 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domain of ATP synthase and closes the 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hanne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coupling proteins (UCPs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reate proton leaks (allow protons to reenter the matrix without ATP synthesi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nergy is released as heat (nonshivering thermogenesi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2711520" y="1036800"/>
            <a:ext cx="3720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Metabolic breakdown of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energy-yielding molecu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3335400" y="1600200"/>
            <a:ext cx="2473200" cy="4525920"/>
          </a:xfrm>
          <a:prstGeom prst="rect">
            <a:avLst/>
          </a:prstGeom>
          <a:ln w="0">
            <a:noFill/>
          </a:ln>
        </p:spPr>
      </p:pic>
      <p:sp>
        <p:nvSpPr>
          <p:cNvPr id="128" name="Oval Callout 7"/>
          <p:cNvSpPr/>
          <p:nvPr/>
        </p:nvSpPr>
        <p:spPr>
          <a:xfrm>
            <a:off x="5791320" y="2133720"/>
            <a:ext cx="2666880" cy="990360"/>
          </a:xfrm>
          <a:prstGeom prst="wedgeEllipseCallout">
            <a:avLst>
              <a:gd name="adj1" fmla="val -55615"/>
              <a:gd name="adj2" fmla="val 64675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nergy-rich re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enzy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own Arrow 12"/>
          <p:cNvSpPr/>
          <p:nvPr/>
        </p:nvSpPr>
        <p:spPr>
          <a:xfrm>
            <a:off x="2743200" y="1981080"/>
            <a:ext cx="228600" cy="358164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380880" y="335268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(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alibri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) lose their fre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5"/>
          <p:cNvSpPr/>
          <p:nvPr/>
        </p:nvSpPr>
        <p:spPr>
          <a:xfrm>
            <a:off x="6400800" y="53341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cess energy generates 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12-Point Star 17"/>
          <p:cNvSpPr/>
          <p:nvPr/>
        </p:nvSpPr>
        <p:spPr>
          <a:xfrm>
            <a:off x="5867280" y="4876920"/>
            <a:ext cx="3276720" cy="1676160"/>
          </a:xfrm>
          <a:custGeom>
            <a:avLst/>
            <a:gdLst>
              <a:gd name="textAreaLeft" fmla="*/ 769320 w 3276720"/>
              <a:gd name="textAreaRight" fmla="*/ 2507400 w 3276720"/>
              <a:gd name="textAreaTop" fmla="*/ 393480 h 1676160"/>
              <a:gd name="textAreaBottom" fmla="*/ 1282680 h 1676160"/>
            </a:gdLst>
            <a:ahLst/>
            <a:rect l="textAreaLeft" t="textAreaTop" r="textAreaRight" b="textAreaBottom"/>
            <a:pathLst>
              <a:path w="3276600" h="1676400">
                <a:moveTo>
                  <a:pt x="0" y="838200"/>
                </a:moveTo>
                <a:lnTo>
                  <a:pt x="451443" y="675493"/>
                </a:lnTo>
                <a:lnTo>
                  <a:pt x="219491" y="419100"/>
                </a:lnTo>
                <a:lnTo>
                  <a:pt x="769460" y="393677"/>
                </a:lnTo>
                <a:lnTo>
                  <a:pt x="819150" y="112297"/>
                </a:lnTo>
                <a:lnTo>
                  <a:pt x="1320283" y="230971"/>
                </a:lnTo>
                <a:lnTo>
                  <a:pt x="1638300" y="0"/>
                </a:lnTo>
                <a:lnTo>
                  <a:pt x="1956317" y="230971"/>
                </a:lnTo>
                <a:lnTo>
                  <a:pt x="2457450" y="112297"/>
                </a:lnTo>
                <a:lnTo>
                  <a:pt x="2507140" y="393677"/>
                </a:lnTo>
                <a:lnTo>
                  <a:pt x="3057109" y="419100"/>
                </a:lnTo>
                <a:lnTo>
                  <a:pt x="2825157" y="675493"/>
                </a:lnTo>
                <a:lnTo>
                  <a:pt x="3276600" y="838200"/>
                </a:lnTo>
                <a:lnTo>
                  <a:pt x="2825157" y="1000907"/>
                </a:lnTo>
                <a:lnTo>
                  <a:pt x="3057109" y="1257300"/>
                </a:lnTo>
                <a:lnTo>
                  <a:pt x="2507140" y="1282723"/>
                </a:lnTo>
                <a:lnTo>
                  <a:pt x="2457450" y="1564103"/>
                </a:lnTo>
                <a:lnTo>
                  <a:pt x="1956317" y="1445429"/>
                </a:lnTo>
                <a:lnTo>
                  <a:pt x="1638300" y="1676400"/>
                </a:lnTo>
                <a:lnTo>
                  <a:pt x="1320283" y="1445429"/>
                </a:lnTo>
                <a:lnTo>
                  <a:pt x="819150" y="1564103"/>
                </a:lnTo>
                <a:lnTo>
                  <a:pt x="769460" y="1282723"/>
                </a:lnTo>
                <a:lnTo>
                  <a:pt x="219491" y="1257300"/>
                </a:lnTo>
                <a:lnTo>
                  <a:pt x="451443" y="1000907"/>
                </a:lnTo>
                <a:lnTo>
                  <a:pt x="0" y="838200"/>
                </a:lnTo>
                <a:close/>
              </a:path>
            </a:pathLst>
          </a:custGeom>
          <a:solidFill>
            <a:srgbClr val="ffff00">
              <a:alpha val="37000"/>
            </a:srgbClr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lectron micrograph of an animal mitochondr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878120" y="419040"/>
            <a:ext cx="5387760" cy="51055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 rot="16200000">
            <a:off x="-145440" y="4728960"/>
            <a:ext cx="83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7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taway diagram of a mitochondr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941400" y="419040"/>
            <a:ext cx="7259760" cy="51055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 rot="16200000">
            <a:off x="-145440" y="4728960"/>
            <a:ext cx="83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7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Mitochondr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rcRect l="0" t="3038" r="0" b="4311"/>
          <a:stretch/>
        </p:blipFill>
        <p:spPr>
          <a:xfrm>
            <a:off x="5638680" y="23760"/>
            <a:ext cx="2514600" cy="6757920"/>
          </a:xfrm>
          <a:prstGeom prst="rect">
            <a:avLst/>
          </a:prstGeom>
          <a:ln w="0">
            <a:noFill/>
          </a:ln>
        </p:spPr>
      </p:pic>
      <p:sp>
        <p:nvSpPr>
          <p:cNvPr id="141" name="Rectangular Callout 6"/>
          <p:cNvSpPr/>
          <p:nvPr/>
        </p:nvSpPr>
        <p:spPr>
          <a:xfrm>
            <a:off x="1981080" y="4419720"/>
            <a:ext cx="2667240" cy="1676160"/>
          </a:xfrm>
          <a:prstGeom prst="wedgeRectCallout">
            <a:avLst>
              <a:gd name="adj1" fmla="val 105875"/>
              <a:gd name="adj2" fmla="val -106671"/>
            </a:avLst>
          </a:prstGeom>
          <a:solidFill>
            <a:srgbClr val="ffff00">
              <a:alpha val="4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ristae increase the surfac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omponents of ET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l members/components are located in the inner mitochondrial membrane (IM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M contains 5 complex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lex I, II, III, IV (part of ET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lex V (ATP synthase: catalyzes ATP synthesi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bile electron carr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Q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ytochrome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Organization of ET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ach complex accepts or donates electrons to mobile carr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rriers accept electrons from donors and then donate to the next carrier in ch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ctrons finally combine with oxygen and protons to form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xygen is required as a final acceptor (respiratory cha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87480" y="1828800"/>
            <a:ext cx="887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Dr. Usman Ghani</dc:creator>
  <dc:description/>
  <dc:language>en-US</dc:language>
  <cp:lastModifiedBy>UG</cp:lastModifiedBy>
  <dcterms:modified xsi:type="dcterms:W3CDTF">2015-02-09T07:56:16Z</dcterms:modified>
  <cp:revision>26</cp:revision>
  <dc:subject/>
  <dc:title>Slide 1</dc:title>
</cp:coreProperties>
</file>