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2CA-9402-4001-847E-78F8EDF0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2DC-E58F-4510-8F76-2E6CA180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B392-55E8-4B27-AD69-6EFAD4CC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81F-ADA9-40A5-993B-CA50FCA5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38A-EA2D-4FF7-A0C8-7E2B4A7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B00F-49BC-4602-86AA-B53B5FD0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9CB-4CF5-4A3B-9BA2-DC4F3CE4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608-D732-4CCF-A547-45C97EA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CB3-4B41-49C4-987C-4EE60F9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0B1-1799-40A6-ABD3-49E39F7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6EB-ED43-4616-8CB6-179048D5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F7D-F626-45BE-8F6D-2DE6E190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DEA1-C169-4BB4-A0FB-6A46D30F6C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NES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seroton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4952880" y="4114800"/>
            <a:ext cx="381024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533520" y="43434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67057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029200" y="1143000"/>
            <a:ext cx="3657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562720" y="228600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05320" y="3276720"/>
            <a:ext cx="5202000" cy="32986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4876920" y="122544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800600" y="2976480"/>
            <a:ext cx="34290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rmohammad</cp:lastModifiedBy>
  <dcterms:modified xsi:type="dcterms:W3CDTF">2016-01-17T07:32:17Z</dcterms:modified>
  <cp:revision>288</cp:revision>
  <dc:subject/>
  <dc:title>RESPIRATORY SYSTEM</dc:title>
</cp:coreProperties>
</file>