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8A5-5920-47A7-98AE-7F35142D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660-E206-4A8A-A2C0-826500A9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58C-80F8-42E7-81F1-C30F69B8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4F6-1CC7-4A45-B88E-66CC9698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BBB-32D6-4893-BA18-5FED519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6DD-F195-4909-85A1-E65FE1C6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CA9-DA65-4A06-8905-9EEB06D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E6E-1E07-41D6-9667-63E10AA7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20B-0930-47FE-AD7A-C73B4D7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AAF-5036-47B1-A016-739BBF8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72D-BB92-4FF6-8C73-7F14A57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13F-9DB5-45A6-AF76-A41703F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AF4C-2196-4D31-B153-ABB9918779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NES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seroto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4952880" y="4114800"/>
            <a:ext cx="381024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533520" y="43434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67057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029200" y="114300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562720" y="228600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05320" y="3276720"/>
            <a:ext cx="5202000" cy="32986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4876920" y="122544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4800600" y="2976480"/>
            <a:ext cx="3429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rmohammad</cp:lastModifiedBy>
  <dcterms:modified xsi:type="dcterms:W3CDTF">2016-01-17T07:32:17Z</dcterms:modified>
  <cp:revision>288</cp:revision>
  <dc:subject/>
  <dc:title>RESPIRATORY SYSTEM</dc:title>
</cp:coreProperties>
</file>