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6D9D6-A59C-4791-A3BB-7D561E2D5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2B162-7CF4-4CDF-B33F-3F84CD9FA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EA1DF-30E7-4A3A-91B5-E5F8A4DE1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85FB7-505A-4983-A4E1-25E686DD1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2948D-4814-4979-A75C-CEA1070A9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9C12A-FFEF-470E-8AB7-14457E152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CCC61-2407-48FF-80E2-547AFD1F3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29131-9527-475D-9B7D-44000EC3B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D0DBB-51C6-44AC-A33A-FF8FB0C5D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65D5B-4C8B-40D7-A1DF-8AA76B635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7496D-E8C1-445E-B281-5098C3471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467B3-C894-4743-BD28-BCE6706A6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87096-5F41-4F94-9F70-21D0D585F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059C5-FB78-4BC4-B8DD-4E6C6A387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78364-7DEE-4A48-BD3D-ABA4A7908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BB797-A57A-42D4-99CE-B337CBB4D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58AB0-3259-42D5-8F0E-7C717F056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8712E-BFFA-4D91-8EBA-25EC6137A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7A135-935D-437F-9AF3-68E680079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E96E8-01CE-47E7-9776-C63CEC451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53C1C-8524-4608-B7EB-4A7F8AD1E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19FA2-021A-4DF7-BAD4-540FC5C16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DE103-82C9-4D93-B46E-C03753338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EF533-E5F1-4C22-A90C-67969AF57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Freeform 3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Group 25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Freeform 26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507D0-5FD5-49D1-BBFC-4ECA63375C82}" type="slidenum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Freeform 3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Freeform 4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Freeform 5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Freeform 6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Freeform 7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Freeform 8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Freeform 9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Freeform 10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Freeform 11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Freeform 12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Freeform 13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Freeform 14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Freeform 15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Freeform 16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Freeform 17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Freeform 18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Freeform 19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Freeform 20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Freeform 21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Freeform 22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Freeform 23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Freeform 24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Group 25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Freeform 26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Freeform 27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Freeform 28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CF2B8-A646-4D48-919A-C03D86C27654}" type="slidenum">
              <a:rPr b="0" lang="zh-TW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www.viasyshealthcare.com/bird/products/images/TBird_VS1.jpg&amp;imgrefurl=http://www.viasyshealthcare.com/bird/products/TBird_VS.htm&amp;usg=__-LYHLP9O9cO-fnTcxSlRLrHDINI=&amp;h=254&amp;w=261&amp;sz=17&amp;hl=en&amp;start=7&amp;zoom=1&amp;tbnid=_oUZ0ejTJUArxM:&amp;tbnh=109&amp;tbnw=112&amp;ei=GGI1Tc6ZEsmbhQeo-YipCw&amp;prev=/images%3Fq%3Dventilators%26hl%3Den%26safe%3Dactive%26sa%3DG%26gbv%3D2%26tbs%3Disch:1&amp;itbs=1" TargetMode="External"/><Relationship Id="rId2" Type="http://schemas.openxmlformats.org/officeDocument/2006/relationships/image" Target="../media/image16.jpeg"/><Relationship Id="rId3" Type="http://schemas.openxmlformats.org/officeDocument/2006/relationships/hyperlink" Target="http://www.google.com/imgres?imgurl=http://2.bp.blogspot.com/_FGHdkrEsceI/TDel9yp52vI/AAAAAAAAAAU/b6TBL23ysNY/s1600/ventilator.jpg&amp;imgrefurl=http://lisanance-pedspulm.blogspot.com/2010_07_01_archive.html&amp;usg=__W3mCj-5doucQAnyjeqt5g3rimdI=&amp;h=540&amp;w=459&amp;sz=42&amp;hl=en&amp;start=2&amp;zoom=1&amp;tbnid=vr8g_dM1jerBnM:&amp;tbnh=132&amp;tbnw=112&amp;ei=HJl0TZaRPJmAhAfnj_hA&amp;prev=/images%3Fq%3Dventilator%26hl%3Den%26safe%3Dactive%26sa%3DN%26gbv%3D2%26tbs%3Disch:1&amp;itbs=1" TargetMode="External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google.com/imgres?imgurl=http://www.firehow.com/images/stories/users/80/pneumonia.jpg&amp;imgrefurl=http://www.firehow.com/20090318668/how-to-cure-pneumonia-naturally.html&amp;usg=__0Sh-K7phAhEnqbunv50TDFmjDqE=&amp;h=450&amp;w=422&amp;sz=21&amp;hl=en&amp;start=4&amp;zoom=1&amp;tbnid=EhygMP9aVZYZ4M:&amp;tbnh=127&amp;tbnw=119&amp;ei=WWo1TbOGIZKGhQf2-4GpCw&amp;prev=/images%3Fq%3DPNEUMONIA%26hl%3Den%26safe%3Dactive%26gbv%3D2%26tbs%3Disch:1&amp;itbs=1" TargetMode="External"/><Relationship Id="rId3" Type="http://schemas.openxmlformats.org/officeDocument/2006/relationships/image" Target="../media/image7.jpeg"/><Relationship Id="rId4" Type="http://schemas.openxmlformats.org/officeDocument/2006/relationships/hyperlink" Target="http://www.google.com/imgres?imgurl=http://www.corposaun.com/wp-content/uploads/2009/12/pneumonia.jpg&amp;imgrefurl=http://sandsofgold.com/catalog/yhf.php%3Fq%3Dpneumonia-symptoms&amp;usg=__nOWquPuSUwynJ6N7i-DZ0xTw-Fw=&amp;h=450&amp;w=500&amp;sz=21&amp;hl=en&amp;start=6&amp;zoom=1&amp;tbnid=fnou4RqwQSQKDM:&amp;tbnh=117&amp;tbnw=130&amp;ei=WWo1TbOGIZKGhQf2-4GpCw&amp;prev=/images%3Fq%3DPNEUMONIA%26hl%3Den%26safe%3Dactive%26gbv%3D2%26tbs%3Disch:1&amp;itbs=1" TargetMode="External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.png"/><Relationship Id="rId3" Type="http://schemas.openxmlformats.org/officeDocument/2006/relationships/image" Target="../media/image9.png"/><Relationship Id="rId4" Type="http://schemas.openxmlformats.org/officeDocument/2006/relationships/image" Target="../media/image2.png"/><Relationship Id="rId5" Type="http://schemas.openxmlformats.org/officeDocument/2006/relationships/image" Target="../media/image9.png"/><Relationship Id="rId6" Type="http://schemas.openxmlformats.org/officeDocument/2006/relationships/image" Target="../media/image2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.png"/><Relationship Id="rId3" Type="http://schemas.openxmlformats.org/officeDocument/2006/relationships/image" Target="../media/image9.png"/><Relationship Id="rId4" Type="http://schemas.openxmlformats.org/officeDocument/2006/relationships/image" Target="../media/image2.png"/><Relationship Id="rId5" Type="http://schemas.openxmlformats.org/officeDocument/2006/relationships/image" Target="../media/image9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mahabirhospital.in/images/icu_bed_space.gif&amp;imgrefurl=http://mahabirhospital.in/facilities.php&amp;usg=__LMupEcGXNhhScr3A-OPJsoUuUKM=&amp;h=354&amp;w=472&amp;sz=131&amp;hl=en&amp;start=11&amp;zoom=1&amp;tbnid=XWlKjuvliHh1eM:&amp;tbnh=97&amp;tbnw=129&amp;ei=G5h0TcCvLIuYhQemwtgx&amp;prev=/images%3Fq%3Dintensive%2Bcare%2Bunit%26hl%3Den%26safe%3Dactive%26gbv%3D2%26tbs%3Disch:1&amp;itbs=1" TargetMode="External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eso-cdn.bestpractice.bmj.com/best-practice/images/bp/720-1-hlight_default.jpg&amp;imgrefurl=http://bestpractice.bmj.com/best-practice/monograph/720/resources/image/bp/1.html&amp;usg=__y6zzuBb9fiUqU4O3qEN-tn_t6A0=&amp;h=306&amp;w=450&amp;sz=39&amp;hl=en&amp;start=14&amp;zoom=1&amp;tbnid=B2AxVa52l1MOEM:&amp;tbnh=86&amp;tbnw=127&amp;ei=l2I1TczfE9KZhQfIvMmkCw&amp;prev=/images%3Fq%3Dhospital%2Bacquired%2Bpneumonia%26hl%3Den%26safe%3Dactive%26gbv%3D2%26tbs%3Disch:1&amp;itbs=1" TargetMode="External"/><Relationship Id="rId2" Type="http://schemas.openxmlformats.org/officeDocument/2006/relationships/image" Target="../media/image12.jpeg"/><Relationship Id="rId3" Type="http://schemas.openxmlformats.org/officeDocument/2006/relationships/hyperlink" Target="http://www.google.com/imgres?imgurl=http://www.nlm.nih.gov/medlineplus/ency/images/ency/fullsize/17276.jpg&amp;imgrefurl=http://www.nlm.nih.gov/medlineplus/ency/imagepages/17276.htm&amp;usg=__7-iMrx4X7xz4VRSxig2Gn9Iao6U=&amp;h=320&amp;w=400&amp;sz=14&amp;hl=en&amp;start=3&amp;zoom=1&amp;tbnid=9UXX-DdECD4cxM:&amp;tbnh=99&amp;tbnw=124&amp;ei=l2I1TczfE9KZhQfIvMmkCw&amp;prev=/images%3Fq%3Dhospital%2Bacquired%2Bpneumonia%26hl%3Den%26safe%3Dactive%26gbv%3D2%26tbs%3Disch:1&amp;itbs=1" TargetMode="External"/><Relationship Id="rId4" Type="http://schemas.openxmlformats.org/officeDocument/2006/relationships/image" Target="../media/image13.jpeg"/><Relationship Id="rId5" Type="http://schemas.openxmlformats.org/officeDocument/2006/relationships/hyperlink" Target="http://www.google.com/imgres?imgurl=http://scienceline.org/wp-content/uploads/2006/10/pneumonia.JPG&amp;imgrefurl=http://www.scienceline.org/2006/10/bio-zielinska-hospitals/&amp;usg=__OxhLbwv7MeCkz5lgD59V9LTdV4k=&amp;h=396&amp;w=440&amp;sz=52&amp;hl=en&amp;start=13&amp;zoom=1&amp;tbnid=og8ljJjgKB02fM:&amp;tbnh=114&amp;tbnw=127&amp;ei=l2I1TczfE9KZhQfIvMmkCw&amp;prev=/images%3Fq%3Dhospital%2Bacquired%2Bpneumonia%26hl%3Den%26safe%3Dactive%26gbv%3D2%26tbs%3Disch:1&amp;itbs=1" TargetMode="External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9797b7"/>
            </a:outerShdw>
          </a:effectLst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Health Care Associated  </a:t>
            </a:r>
            <a:r>
              <a:rPr b="1" lang="en-US" sz="4800" spc="-1" strike="noStrike">
                <a:solidFill>
                  <a:srgbClr val="4d004d"/>
                </a:solidFill>
                <a:latin typeface="Tahoma"/>
              </a:rPr>
              <a:t>Pneumonia</a:t>
            </a:r>
            <a:br>
              <a:rPr sz="4800"/>
            </a:br>
            <a:r>
              <a:rPr b="1" lang="en-US" sz="2800" spc="-1" strike="noStrike">
                <a:solidFill>
                  <a:srgbClr val="4d4d86"/>
                </a:solidFill>
                <a:latin typeface="Tahoma"/>
              </a:rPr>
              <a:t>Respiratory Block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273320" y="372888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45472"/>
                </a:solidFill>
                <a:latin typeface="Tahoma"/>
              </a:rPr>
              <a:t>BY PROF .</a:t>
            </a:r>
            <a:r>
              <a:rPr b="1" i="1" lang="en-US" sz="2000" spc="-1" strike="noStrike">
                <a:solidFill>
                  <a:srgbClr val="545472"/>
                </a:solidFill>
                <a:latin typeface="Tahoma"/>
              </a:rPr>
              <a:t>A.M.KAMBA</a:t>
            </a:r>
            <a:r>
              <a:rPr b="1" lang="en-US" sz="2000" spc="-1" strike="noStrike">
                <a:solidFill>
                  <a:srgbClr val="545472"/>
                </a:solidFill>
                <a:latin typeface="Tahoma"/>
              </a:rPr>
              <a:t>L and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45472"/>
                </a:solidFill>
                <a:latin typeface="Tahoma"/>
              </a:rPr>
              <a:t>PROF .</a:t>
            </a:r>
            <a:r>
              <a:rPr b="1" i="1" lang="en-US" sz="2000" spc="-1" strike="noStrike">
                <a:solidFill>
                  <a:srgbClr val="545472"/>
                </a:solidFill>
                <a:latin typeface="Tahoma"/>
              </a:rPr>
              <a:t>HANAN HABIB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70c0"/>
                </a:solidFill>
                <a:latin typeface="Tahoma"/>
              </a:rPr>
              <a:t>Department of Pathology, KSU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Pathogenesi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For pneumonia to occur, at least one of the following </a:t>
            </a: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three conditions 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must occur: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    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. Significant impairment of host defenses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    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2. Introduction of a sufficient-size inoculum to overwhelm   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 the host's lower respiratory tract defenses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    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3. The introduction of highly virulent organisms into the 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 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 lower respiratory tract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Most common is microaspiration of </a:t>
            </a:r>
            <a:r>
              <a:rPr b="0" lang="en-US" sz="2800" spc="-1" strike="noStrike">
                <a:solidFill>
                  <a:srgbClr val="c00000"/>
                </a:solidFill>
                <a:latin typeface="Tahoma"/>
              </a:rPr>
              <a:t>oropharyngeal secretions 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colonized with pathogenic bacteria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Pathogenesi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64" name="Picture 4" descr="C:\Documents and Settings\k\桌面\HAP--1.jpg"/>
          <p:cNvPicPr/>
          <p:nvPr/>
        </p:nvPicPr>
        <p:blipFill>
          <a:blip r:embed="rId1"/>
          <a:stretch/>
        </p:blipFill>
        <p:spPr>
          <a:xfrm>
            <a:off x="1066680" y="1676520"/>
            <a:ext cx="6782040" cy="4419360"/>
          </a:xfrm>
          <a:prstGeom prst="rect">
            <a:avLst/>
          </a:prstGeom>
          <a:ln w="38160">
            <a:solidFill>
              <a:srgbClr val="545472"/>
            </a:solidFill>
            <a:miter/>
          </a:ln>
        </p:spPr>
      </p:pic>
      <p:sp>
        <p:nvSpPr>
          <p:cNvPr id="165" name="Text Box 5"/>
          <p:cNvSpPr/>
          <p:nvPr/>
        </p:nvSpPr>
        <p:spPr>
          <a:xfrm>
            <a:off x="1600200" y="6248520"/>
            <a:ext cx="7543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ahoma"/>
              </a:rPr>
              <a:t>            </a:t>
            </a:r>
            <a:r>
              <a:rPr b="0" lang="en-US" sz="1400" spc="-1" strike="noStrike">
                <a:solidFill>
                  <a:srgbClr val="545472"/>
                </a:solidFill>
                <a:latin typeface="Tahoma"/>
              </a:rPr>
              <a:t>--- The Prevention of Ventilator-Associated Pneumonia  Vol.340  Feb 25, 1999  NEJM</a:t>
            </a:r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Classificatio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Tahoma"/>
              </a:rPr>
              <a:t>Early-onset nosocomial pneumonia: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     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Occurs during the </a:t>
            </a:r>
            <a:r>
              <a:rPr b="1" lang="en-US" sz="2400" spc="-1" strike="noStrike">
                <a:solidFill>
                  <a:srgbClr val="545472"/>
                </a:solidFill>
                <a:latin typeface="Tahoma"/>
              </a:rPr>
              <a:t>first 4 days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 of admission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      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Usually is due to </a:t>
            </a:r>
            <a:r>
              <a:rPr b="0" i="1" lang="en-US" sz="2400" spc="-1" strike="noStrike">
                <a:solidFill>
                  <a:srgbClr val="545472"/>
                </a:solidFill>
                <a:latin typeface="Tahoma"/>
              </a:rPr>
              <a:t>S. pneumoniae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, MSSA (</a:t>
            </a:r>
            <a:r>
              <a:rPr b="0" lang="en-US" sz="1800" spc="-1" strike="noStrike">
                <a:solidFill>
                  <a:srgbClr val="545472"/>
                </a:solidFill>
                <a:latin typeface="Tahoma"/>
              </a:rPr>
              <a:t>Methicillin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545472"/>
                </a:solidFill>
                <a:latin typeface="Tahoma"/>
              </a:rPr>
              <a:t>sensitive </a:t>
            </a:r>
            <a:r>
              <a:rPr b="0" i="1" lang="en-US" sz="1600" spc="-1" strike="noStrike">
                <a:solidFill>
                  <a:srgbClr val="545472"/>
                </a:solidFill>
                <a:latin typeface="Tahoma"/>
              </a:rPr>
              <a:t>S.aureus</a:t>
            </a:r>
            <a:r>
              <a:rPr b="0" lang="en-US" sz="16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), </a:t>
            </a:r>
            <a:r>
              <a:rPr b="0" i="1" lang="en-US" sz="2400" spc="-1" strike="noStrike">
                <a:solidFill>
                  <a:srgbClr val="545472"/>
                </a:solidFill>
                <a:latin typeface="Tahoma"/>
              </a:rPr>
              <a:t>H. Influenza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, or anaerobes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Tahoma"/>
              </a:rPr>
              <a:t>Late-onset nosocomial pneumonia: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     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occurs </a:t>
            </a: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m</a:t>
            </a:r>
            <a:r>
              <a:rPr b="1" lang="en-US" sz="2400" spc="-1" strike="noStrike">
                <a:solidFill>
                  <a:srgbClr val="545472"/>
                </a:solidFill>
                <a:latin typeface="Tahoma"/>
              </a:rPr>
              <a:t>ore than 4 days 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of admission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      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More commonly by Gram negative organisms, especially: </a:t>
            </a:r>
            <a:r>
              <a:rPr b="0" i="1" lang="en-US" sz="2400" spc="-1" strike="noStrike">
                <a:solidFill>
                  <a:srgbClr val="545472"/>
                </a:solidFill>
                <a:latin typeface="Tahoma"/>
              </a:rPr>
              <a:t>P. aeruginosa, Acinetobacter, Enterobacteriaceae  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(</a:t>
            </a:r>
            <a:r>
              <a:rPr b="0" i="1" lang="en-US" sz="1600" spc="-1" strike="noStrike">
                <a:solidFill>
                  <a:srgbClr val="545472"/>
                </a:solidFill>
                <a:latin typeface="Tahoma"/>
              </a:rPr>
              <a:t>Klebsiella</a:t>
            </a:r>
            <a:r>
              <a:rPr b="0" lang="en-US" sz="1600" spc="-1" strike="noStrike">
                <a:solidFill>
                  <a:srgbClr val="545472"/>
                </a:solidFill>
                <a:latin typeface="Tahoma"/>
              </a:rPr>
              <a:t>, </a:t>
            </a:r>
            <a:r>
              <a:rPr b="0" i="1" lang="en-US" sz="1600" spc="-1" strike="noStrike">
                <a:solidFill>
                  <a:srgbClr val="545472"/>
                </a:solidFill>
                <a:latin typeface="Tahoma"/>
              </a:rPr>
              <a:t>Enterobacter, Serratia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) or MRSA.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Causative Agen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ahoma"/>
              </a:rPr>
              <a:t>Enteric Gram negative bacilli</a:t>
            </a:r>
            <a:r>
              <a:rPr b="0" lang="en-US" sz="2800" spc="-1" strike="noStrike">
                <a:solidFill>
                  <a:srgbClr val="c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are isolated most frequently particularly in patients with late-onset disease and in patients with serious underlying disease often already on broad-spectrum antibiotics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Prior use of broad-spectrum antibiotics and an immunocompromised state make resistant Gram-negative organisms more likely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Causative Agent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545472"/>
                </a:solidFill>
                <a:latin typeface="Tahoma"/>
              </a:rPr>
              <a:t>P. aeruginosa</a:t>
            </a:r>
            <a:r>
              <a:rPr b="0" i="1" lang="en-US" sz="28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and </a:t>
            </a:r>
            <a:r>
              <a:rPr b="1" i="1" lang="en-US" sz="2800" spc="-1" strike="noStrike">
                <a:solidFill>
                  <a:srgbClr val="545472"/>
                </a:solidFill>
                <a:latin typeface="Tahoma"/>
              </a:rPr>
              <a:t>Acinetobacter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  are common causes of late-onset pneumonia, particularly in the </a:t>
            </a:r>
            <a:r>
              <a:rPr b="0" lang="en-US" sz="2800" spc="-1" strike="noStrike">
                <a:solidFill>
                  <a:srgbClr val="c00000"/>
                </a:solidFill>
                <a:latin typeface="Tahoma"/>
              </a:rPr>
              <a:t>ventilated patients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Causative Agent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01480" indent="-5014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00000"/>
                </a:solidFill>
                <a:latin typeface="Tahoma"/>
              </a:rPr>
              <a:t>S. aureus</a:t>
            </a:r>
            <a:r>
              <a:rPr b="0" i="1" lang="en-US" sz="2800" spc="-1" strike="noStrike">
                <a:solidFill>
                  <a:srgbClr val="c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is isolated in about 20~40% of cases and is particularly common in :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859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1. Ventilated patients after head trauma, neurosurgery, and wound infection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1" marL="859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2. In patients who had received prior antibiotics or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1" marL="859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Prolonged care in ICU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501480" indent="-5014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ahoma"/>
              </a:rPr>
              <a:t>MRSA(</a:t>
            </a:r>
            <a:r>
              <a:rPr b="1" lang="en-US" sz="1800" spc="-1" strike="noStrike">
                <a:solidFill>
                  <a:srgbClr val="c00000"/>
                </a:solidFill>
                <a:latin typeface="Tahoma"/>
              </a:rPr>
              <a:t>methicillin resistant </a:t>
            </a:r>
            <a:r>
              <a:rPr b="1" i="1" lang="en-US" sz="1800" spc="-1" strike="noStrike">
                <a:solidFill>
                  <a:srgbClr val="c00000"/>
                </a:solidFill>
                <a:latin typeface="Tahoma"/>
              </a:rPr>
              <a:t>S.aureus</a:t>
            </a:r>
            <a:r>
              <a:rPr b="1" lang="en-US" sz="2800" spc="-1" strike="noStrike">
                <a:solidFill>
                  <a:srgbClr val="c00000"/>
                </a:solidFill>
                <a:latin typeface="Tahoma"/>
              </a:rPr>
              <a:t>)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 is seen more commonly in patients who: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501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888ae"/>
                </a:solidFill>
                <a:latin typeface="Tahoma"/>
              </a:rPr>
              <a:t>        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Received corticosteroids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501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         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Undergone mechanical ventilation &gt;5 days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501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         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Presented with chronic lung disease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501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         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Had prior antibiotics therapy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907920"/>
            <a:ext cx="7772400" cy="99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Causative Agent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ahoma"/>
              </a:rPr>
              <a:t>Anaerobes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 are common in patients predisposed to aspiration 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a7286"/>
                </a:solidFill>
                <a:latin typeface="Tahoma"/>
              </a:rPr>
              <a:t>Ventilator associated pneumonia (VAP ) 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with anaerobes occurred more often with oropharyngeal intubation than nasopharyngeal intubation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600200"/>
          </a:xfrm>
          <a:prstGeom prst="rect">
            <a:avLst/>
          </a:prstGeom>
          <a:noFill/>
          <a:ln w="0">
            <a:noFill/>
          </a:ln>
          <a:effectLst>
            <a:outerShdw dist="63504" dir="2216091" blurRad="0" rotWithShape="0">
              <a:srgbClr val="9797b7"/>
            </a:outerShdw>
          </a:effectLst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Ventilator-associated Pneumonia (VAP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77" name="Picture 6" descr="http://t2.gstatic.com/images?q=tbn:_oUZ0ejTJUArxM:http://www.viasyshealthcare.com/bird/products/images/TBird_VS1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43280" y="3860640"/>
            <a:ext cx="3168720" cy="216072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6" descr="http://t2.gstatic.com/images?q=tbn:ANd9GcRC1Ee0iSqxl88UKAt6rvm2T3-fLzo07_HPnrTXw-bz26ntRtioyaZuUaM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258920" y="3860640"/>
            <a:ext cx="2521080" cy="20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Ventilator-associated Pneumonia (VAP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Definition: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Nosocomial pneumonia that has developed in patient who are receiving mechanical ventilation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Classification: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     </a:t>
            </a:r>
            <a:r>
              <a:rPr b="1" lang="en-US" sz="2400" spc="-1" strike="noStrike">
                <a:solidFill>
                  <a:srgbClr val="c00000"/>
                </a:solidFill>
                <a:latin typeface="Tahoma"/>
              </a:rPr>
              <a:t>Early-onset</a:t>
            </a:r>
            <a:r>
              <a:rPr b="0" lang="en-US" sz="2400" spc="-1" strike="noStrike">
                <a:solidFill>
                  <a:srgbClr val="c00000"/>
                </a:solidFill>
                <a:latin typeface="Tahoma"/>
              </a:rPr>
              <a:t>: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 within 48-72 hours after tracheal  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     intubation, 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which complicates the  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    intubation process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      </a:t>
            </a:r>
            <a:r>
              <a:rPr b="1" lang="en-US" sz="2400" spc="-1" strike="noStrike">
                <a:solidFill>
                  <a:srgbClr val="c00000"/>
                </a:solidFill>
                <a:latin typeface="Tahoma"/>
              </a:rPr>
              <a:t>Late-onset</a:t>
            </a:r>
            <a:r>
              <a:rPr b="0" lang="en-US" sz="2400" spc="-1" strike="noStrike">
                <a:solidFill>
                  <a:srgbClr val="c00000"/>
                </a:solidFill>
                <a:latin typeface="Tahoma"/>
              </a:rPr>
              <a:t>: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 after 72 hours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Pathogenesi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Requires 2 important processes: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     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1. Bacterial colonization of the aerodigestive tract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      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2. Aspiration of contaminated secretion into the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          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Lower airway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Prevents mechanical clearance by cough and the mucociliary escalator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476280"/>
            <a:ext cx="7772400" cy="1434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Health Care Associated Pneumoni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64660"/>
                </a:solidFill>
                <a:latin typeface="Tahoma"/>
              </a:rPr>
              <a:t>Definition of Pneumonia: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64660"/>
                </a:solidFill>
                <a:latin typeface="Tahoma"/>
              </a:rPr>
              <a:t>Infection of the pulmonary Parenchyma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140" name="Picture 7" descr="http://t2.gstatic.com/images?q=tbn:EhygMP9aVZYZ4M:http://www.firehow.com/images/stories/users/80/pneumonia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003640" y="3860640"/>
            <a:ext cx="2448000" cy="22323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1" descr="http://t2.gstatic.com/images?q=tbn:fnou4RqwQSQKDM:http://www.corposaun.com/wp-content/uploads/2009/12/pneumonia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979640" y="3789360"/>
            <a:ext cx="252108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Prevention</a:t>
            </a: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 for </a:t>
            </a: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VAP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The oral regimen </a:t>
            </a:r>
            <a:r>
              <a:rPr b="0" lang="en-US" sz="2800" spc="-1" strike="noStrike">
                <a:solidFill>
                  <a:srgbClr val="c00000"/>
                </a:solidFill>
                <a:latin typeface="Tahoma"/>
              </a:rPr>
              <a:t>(</a:t>
            </a:r>
            <a:r>
              <a:rPr b="0" i="1" lang="en-US" sz="2800" spc="-1" strike="noStrike">
                <a:solidFill>
                  <a:srgbClr val="c00000"/>
                </a:solidFill>
                <a:latin typeface="Tahoma"/>
              </a:rPr>
              <a:t>topical Gentamicin, Colistin</a:t>
            </a:r>
            <a:r>
              <a:rPr b="0" lang="en-US" sz="2800" spc="-1" strike="noStrike">
                <a:solidFill>
                  <a:srgbClr val="8888ae"/>
                </a:solidFill>
                <a:latin typeface="Tahoma"/>
              </a:rPr>
              <a:t>, </a:t>
            </a:r>
            <a:r>
              <a:rPr b="0" i="1" lang="en-US" sz="2800" spc="-1" strike="noStrike">
                <a:solidFill>
                  <a:srgbClr val="c00000"/>
                </a:solidFill>
                <a:latin typeface="Tahoma"/>
              </a:rPr>
              <a:t>Vancomycin cream  given every 6hours for 3 weeks</a:t>
            </a:r>
            <a:r>
              <a:rPr b="0" lang="en-US" sz="2800" spc="-1" strike="noStrike">
                <a:solidFill>
                  <a:srgbClr val="c00000"/>
                </a:solidFill>
                <a:latin typeface="Tahoma"/>
              </a:rPr>
              <a:t>) 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treating oropharyngeal colonization could prevent VAP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                                                     </a:t>
            </a:r>
            <a:r>
              <a:rPr b="0" lang="en-US" sz="1400" spc="-1" strike="noStrike">
                <a:solidFill>
                  <a:srgbClr val="545472"/>
                </a:solidFill>
                <a:latin typeface="Tahoma"/>
              </a:rPr>
              <a:t>--- </a:t>
            </a:r>
            <a:r>
              <a:rPr b="1" lang="en-US" sz="1400" spc="-1" strike="noStrike">
                <a:solidFill>
                  <a:srgbClr val="545472"/>
                </a:solidFill>
                <a:latin typeface="Tahoma"/>
              </a:rPr>
              <a:t>Prevention of VAP by oral decontamination</a:t>
            </a:r>
            <a:r>
              <a:rPr b="0" lang="en-US" sz="1400" spc="-1" strike="noStrike">
                <a:solidFill>
                  <a:srgbClr val="545472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ahoma"/>
              </a:rPr>
              <a:t>                                          </a:t>
            </a:r>
            <a:r>
              <a:rPr b="0" lang="en-US" sz="1400" spc="-1" strike="noStrike">
                <a:solidFill>
                  <a:srgbClr val="545472"/>
                </a:solidFill>
                <a:latin typeface="Tahoma"/>
              </a:rPr>
              <a:t>American journal of respiratory critical care medicine2001 164:382-8</a:t>
            </a:r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Preventions for VAP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Non-pharmacologic strategies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Effective hand washing and use of protective gowns and gloves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888ae"/>
                </a:solidFill>
                <a:latin typeface="Tahoma"/>
              </a:rPr>
              <a:t>Semirecumbent positioning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Avoidance of large gastric volume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888ae"/>
                </a:solidFill>
                <a:latin typeface="Tahoma"/>
              </a:rPr>
              <a:t>Oral (non-nasal) intubation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Continuous subglottic suctioning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888ae"/>
                </a:solidFill>
                <a:latin typeface="Tahoma"/>
              </a:rPr>
              <a:t>Humidification with heat and moisture exchanger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Posture change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1975680" y="6248520"/>
            <a:ext cx="7139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545472"/>
                </a:solidFill>
                <a:latin typeface="Tahoma"/>
              </a:rPr>
              <a:t>--- The Prevention of Ventilator-Associated Pneumonia  Vol.340  Feb 25, 1999  NEJM</a:t>
            </a:r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Preventions for VAP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Pharmacologic strategies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326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545472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tress-ulcer prophylaxis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Tahoma"/>
              </a:rPr>
              <a:t>Combination antibiotic therapy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Prophylactic antibiotic therapy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Tahoma"/>
              </a:rPr>
              <a:t>Chlorhexidine oral rinse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Prophylactic treatment of neutropenic patients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Tahoma"/>
              </a:rPr>
              <a:t>Vaccines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90" name="Text Box 4"/>
          <p:cNvSpPr/>
          <p:nvPr/>
        </p:nvSpPr>
        <p:spPr>
          <a:xfrm>
            <a:off x="1899360" y="6248520"/>
            <a:ext cx="7139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545472"/>
                </a:solidFill>
                <a:latin typeface="Tahoma"/>
              </a:rPr>
              <a:t>--- The Prevention of Ventilator-Associated Pneumonia  Vol.340  Feb 25, 1999  NEJM</a:t>
            </a:r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Treatmen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Arial"/>
              </a:rPr>
              <a:t>Most initial therapy is empiric because no pathogen is identified or results are not available when antimicrobial decisions are made in most patients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Treatmen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Initially be treated with a broad-spectrum antibiotic regimen aimed at covering all likely bacterial pathogen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ahoma"/>
              </a:rPr>
              <a:t>This regimen should subsequently be narrowed, according to the result of culture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831600"/>
            <a:ext cx="7772400" cy="99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Treatmen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The pathogen may be influenced by coexisting illnesses, prior treatment, and length of hospitalization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The frequency of ICU-acquired </a:t>
            </a:r>
            <a:r>
              <a:rPr b="0" i="1" lang="en-US" sz="2800" spc="-1" strike="noStrike">
                <a:solidFill>
                  <a:srgbClr val="545472"/>
                </a:solidFill>
                <a:latin typeface="Tahoma"/>
              </a:rPr>
              <a:t>P. aeruginosa 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carriage or colonization/infection was 23.4% at 7 days and 57.8% at 14 days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2792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  <a:p>
            <a:pPr lvl="1" marL="72792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ahoma"/>
              </a:rPr>
              <a:t>---- Current opinion in infectious disease 2002, 15:387-94, copyright LWW</a:t>
            </a:r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Treatmen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The mortality can be reduced with early appropriate empiric therapy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(Form 30 % with appropriate therapy to more than 90 % with inappropriate therapy) 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545472"/>
                </a:solidFill>
                <a:latin typeface="Tahoma"/>
              </a:rPr>
              <a:t>---- </a:t>
            </a:r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Treatmen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Guidelines  by American Thoracic Society has divided patients into </a:t>
            </a:r>
            <a:r>
              <a:rPr b="0" lang="en-US" sz="2800" spc="-1" strike="noStrike">
                <a:solidFill>
                  <a:srgbClr val="c00000"/>
                </a:solidFill>
                <a:latin typeface="Tahoma"/>
              </a:rPr>
              <a:t>three groups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, each with a set of probable pathogens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     </a:t>
            </a:r>
            <a:r>
              <a:rPr b="0" lang="en-US" sz="2000" spc="-1" strike="noStrike">
                <a:solidFill>
                  <a:srgbClr val="c00000"/>
                </a:solidFill>
                <a:latin typeface="Tahoma"/>
              </a:rPr>
              <a:t>Group 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: mild to moderate HAP with no risk factor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      </a:t>
            </a:r>
            <a:r>
              <a:rPr b="0" lang="en-US" sz="2000" spc="-1" strike="noStrike">
                <a:solidFill>
                  <a:srgbClr val="c00000"/>
                </a:solidFill>
                <a:latin typeface="Tahoma"/>
              </a:rPr>
              <a:t>Group 2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: mild to moderate HAP with risk factor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      </a:t>
            </a:r>
            <a:r>
              <a:rPr b="0" lang="en-US" sz="2000" spc="-1" strike="noStrike">
                <a:solidFill>
                  <a:srgbClr val="c00000"/>
                </a:solidFill>
                <a:latin typeface="Tahoma"/>
              </a:rPr>
              <a:t>Group 3</a:t>
            </a:r>
            <a:r>
              <a:rPr b="0" lang="en-US" sz="2000" spc="-1" strike="noStrike">
                <a:solidFill>
                  <a:srgbClr val="660066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: severe HAP, early-onset with no risk factor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      </a:t>
            </a:r>
            <a:r>
              <a:rPr b="0" lang="en-US" sz="2000" spc="-1" strike="noStrike">
                <a:solidFill>
                  <a:srgbClr val="c00000"/>
                </a:solidFill>
                <a:latin typeface="Tahoma"/>
              </a:rPr>
              <a:t>Group 3</a:t>
            </a:r>
            <a:r>
              <a:rPr b="0" lang="en-US" sz="2000" spc="-1" strike="noStrike">
                <a:solidFill>
                  <a:srgbClr val="660066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: severe HAP, late-onset or with risk factor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Treatmen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For </a:t>
            </a: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mild-to-moderate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 HAP, 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monotherapy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 has been shown to be effective.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For </a:t>
            </a: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evere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 HAP in which infection with resistant organisms is likely, 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combination 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therapy probably should be instituted until culture result are available.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Treatmen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Patients with </a:t>
            </a:r>
            <a:r>
              <a:rPr b="0" i="1" lang="en-US" sz="2800" spc="-1" strike="noStrike">
                <a:solidFill>
                  <a:srgbClr val="545472"/>
                </a:solidFill>
                <a:latin typeface="Tahoma"/>
              </a:rPr>
              <a:t>S. aureus  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infection, agents against this organism are necessary, including </a:t>
            </a:r>
            <a:r>
              <a:rPr b="1" lang="en-US" sz="2800" spc="-1" strike="noStrike">
                <a:solidFill>
                  <a:srgbClr val="660066"/>
                </a:solidFill>
                <a:latin typeface="Tahoma"/>
              </a:rPr>
              <a:t>Vancomycin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 if MRSA is suspected.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ahoma"/>
              </a:rPr>
              <a:t>Linezolid</a:t>
            </a:r>
            <a:r>
              <a:rPr b="0" lang="en-US" sz="2800" spc="-1" strike="noStrike">
                <a:solidFill>
                  <a:srgbClr val="8888ae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is comparable with Vancomycin.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The advantage of Linezolid is less possible nephrotoxicity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ahoma"/>
              </a:rPr>
              <a:t>   </a:t>
            </a:r>
            <a:r>
              <a:rPr b="0" lang="en-US" sz="14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ahoma"/>
              </a:rPr>
              <a:t>                                   </a:t>
            </a:r>
            <a:r>
              <a:rPr b="0" lang="en-US" sz="1400" spc="-1" strike="noStrike">
                <a:solidFill>
                  <a:srgbClr val="545472"/>
                </a:solidFill>
                <a:latin typeface="Tahoma"/>
              </a:rPr>
              <a:t>---- current opinion in infectious disease 2002, 15:387-94, copyright LWW</a:t>
            </a:r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341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PNEUMONIA can be :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119664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660066"/>
                </a:solidFill>
                <a:latin typeface="Tahoma"/>
              </a:rPr>
              <a:t>A-Community acquired Pneumonia </a:t>
            </a:r>
            <a:r>
              <a:rPr b="0" lang="en-GB" sz="2800" spc="-1" strike="noStrike">
                <a:solidFill>
                  <a:srgbClr val="545472"/>
                </a:solidFill>
                <a:latin typeface="Tahoma"/>
              </a:rPr>
              <a:t>acquired in the community, by community acquired organism, eg. </a:t>
            </a:r>
            <a:r>
              <a:rPr b="0" i="1" lang="en-GB" sz="2800" spc="-1" strike="noStrike">
                <a:solidFill>
                  <a:srgbClr val="545472"/>
                </a:solidFill>
                <a:latin typeface="Tahoma"/>
              </a:rPr>
              <a:t>Streptococcus pneumoniae </a:t>
            </a:r>
            <a:r>
              <a:rPr b="0" lang="en-GB" sz="2800" spc="-1" strike="noStrike">
                <a:solidFill>
                  <a:srgbClr val="545472"/>
                </a:solidFill>
                <a:latin typeface="Tahoma"/>
              </a:rPr>
              <a:t>usually susceptible to antibiotic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35880" indent="-335880" algn="just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660066"/>
                </a:solidFill>
                <a:latin typeface="Tahoma"/>
              </a:rPr>
              <a:t>B-Health care associated pneumonia </a:t>
            </a:r>
            <a:r>
              <a:rPr b="0" lang="en-GB" sz="2800" spc="-1" strike="noStrike">
                <a:solidFill>
                  <a:srgbClr val="545472"/>
                </a:solidFill>
                <a:latin typeface="Tahoma"/>
              </a:rPr>
              <a:t>acquired </a:t>
            </a:r>
            <a:r>
              <a:rPr b="1" lang="en-GB" sz="2800" spc="-1" strike="noStrike">
                <a:solidFill>
                  <a:srgbClr val="ff0000"/>
                </a:solidFill>
                <a:latin typeface="Tahoma"/>
              </a:rPr>
              <a:t>48-72 hours </a:t>
            </a:r>
            <a:r>
              <a:rPr b="0" lang="en-GB" sz="2800" spc="-1" strike="noStrike">
                <a:solidFill>
                  <a:srgbClr val="545472"/>
                </a:solidFill>
                <a:latin typeface="Tahoma"/>
              </a:rPr>
              <a:t>after  admission to health care institutions eg. pneumonia caused by organisms in hospital which are usually resistant to antibiotics-eg. </a:t>
            </a:r>
            <a:r>
              <a:rPr b="0" i="1" lang="en-GB" sz="2800" spc="-1" strike="noStrike">
                <a:solidFill>
                  <a:srgbClr val="545472"/>
                </a:solidFill>
                <a:latin typeface="Tahoma"/>
              </a:rPr>
              <a:t>Pseudomonas aeruginosa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Treatmen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Combination of antipseudomonal drugs is controversial: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0070c0"/>
              </a:buClr>
              <a:buSzPct val="80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Tahoma"/>
              </a:rPr>
              <a:t>Traditional:</a:t>
            </a:r>
            <a:r>
              <a:rPr b="0" lang="en-US" sz="2400" spc="-1" strike="noStrike">
                <a:solidFill>
                  <a:srgbClr val="0070c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1" marL="9144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888ae"/>
                </a:solidFill>
                <a:latin typeface="Tahoma"/>
              </a:rPr>
              <a:t>     </a:t>
            </a:r>
            <a:r>
              <a:rPr b="1" lang="en-US" sz="2000" spc="-1" strike="noStrike">
                <a:solidFill>
                  <a:srgbClr val="8888ae"/>
                </a:solidFill>
                <a:latin typeface="Tahoma"/>
              </a:rPr>
              <a:t>antipseudomonal Beta-lactam</a:t>
            </a:r>
            <a:r>
              <a:rPr b="0" lang="en-US" sz="2000" spc="-1" strike="noStrike">
                <a:solidFill>
                  <a:srgbClr val="8888ae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8888ae"/>
                </a:solidFill>
                <a:latin typeface="Tahoma"/>
              </a:rPr>
              <a:t>with an Aminoglycoside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. Synergy but potential nephrotoxicity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2. </a:t>
            </a:r>
            <a:r>
              <a:rPr b="1" lang="en-US" sz="2400" spc="-1" strike="noStrike">
                <a:solidFill>
                  <a:srgbClr val="0070c0"/>
                </a:solidFill>
                <a:latin typeface="Tahoma"/>
              </a:rPr>
              <a:t>Another approach</a:t>
            </a:r>
            <a:r>
              <a:rPr b="0" lang="en-US" sz="2400" spc="-1" strike="noStrike">
                <a:solidFill>
                  <a:srgbClr val="0070c0"/>
                </a:solidFill>
                <a:latin typeface="Tahoma"/>
              </a:rPr>
              <a:t>: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1" marL="9144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     </a:t>
            </a:r>
            <a:r>
              <a:rPr b="1" lang="en-US" sz="2000" spc="-1" strike="noStrike">
                <a:solidFill>
                  <a:srgbClr val="8888ae"/>
                </a:solidFill>
                <a:latin typeface="Tahoma"/>
              </a:rPr>
              <a:t>antipseudomonal Beta-lactam with a Fluoroquinolone</a:t>
            </a:r>
            <a:r>
              <a:rPr b="1" lang="en-US" sz="2400" spc="-1" strike="noStrike">
                <a:solidFill>
                  <a:srgbClr val="545472"/>
                </a:solidFill>
                <a:latin typeface="Tahoma"/>
              </a:rPr>
              <a:t>.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No benefit of synergy but reduce  concern of nephrotoxicity, and quinolone gets into the lungs at higher concentrations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207" name="Picture 5" descr="http://t2.gstatic.com/images?q=tbn:XHlfonKhvKbM3M:http://img.tradeprince.com/100/20090713/2869321f-29c5-452b-9881-a4bd0a3831a5.jpg"/>
          <p:cNvPicPr/>
          <p:nvPr/>
        </p:nvPicPr>
        <p:blipFill>
          <a:blip r:embed="rId2"/>
          <a:stretch/>
        </p:blipFill>
        <p:spPr>
          <a:xfrm>
            <a:off x="7308720" y="836640"/>
            <a:ext cx="1114560" cy="12286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7" descr="http://t2.gstatic.com/images?q=tbn:vy8HRq-GS9NdPM:http://www.connexions-rochdale.org.uk/images/Injection-Syringe-Medicine.gif"/>
          <p:cNvPicPr/>
          <p:nvPr/>
        </p:nvPicPr>
        <p:blipFill>
          <a:blip r:embed="rId3"/>
          <a:stretch/>
        </p:blipFill>
        <p:spPr>
          <a:xfrm>
            <a:off x="7308720" y="2637000"/>
            <a:ext cx="990720" cy="72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907560"/>
            <a:ext cx="7772400" cy="768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Response to Therapy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If no clinical response is noted or deterioration occurs, we need to consider: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1. </a:t>
            </a:r>
            <a:r>
              <a:rPr b="1" lang="en-US" sz="2400" spc="-1" strike="noStrike">
                <a:solidFill>
                  <a:srgbClr val="545472"/>
                </a:solidFill>
                <a:latin typeface="Tahoma"/>
              </a:rPr>
              <a:t>Infectious causes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: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           </a:t>
            </a:r>
            <a:r>
              <a:rPr b="0" lang="en-US" sz="1800" spc="-1" strike="noStrike">
                <a:solidFill>
                  <a:srgbClr val="545472"/>
                </a:solidFill>
                <a:latin typeface="Tahoma"/>
              </a:rPr>
              <a:t>Resistant pathogen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Tahoma"/>
              </a:rPr>
              <a:t>               </a:t>
            </a:r>
            <a:r>
              <a:rPr b="0" lang="en-US" sz="1800" spc="-1" strike="noStrike">
                <a:solidFill>
                  <a:srgbClr val="545472"/>
                </a:solidFill>
                <a:latin typeface="Tahoma"/>
              </a:rPr>
              <a:t>Superinfection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Tahoma"/>
              </a:rPr>
              <a:t>               </a:t>
            </a:r>
            <a:r>
              <a:rPr b="0" lang="en-US" sz="1800" spc="-1" strike="noStrike">
                <a:solidFill>
                  <a:srgbClr val="545472"/>
                </a:solidFill>
                <a:latin typeface="Tahoma"/>
              </a:rPr>
              <a:t>Unusual pathogens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Tahoma"/>
              </a:rPr>
              <a:t>               </a:t>
            </a:r>
            <a:r>
              <a:rPr b="0" lang="en-US" sz="1800" spc="-1" strike="noStrike">
                <a:solidFill>
                  <a:srgbClr val="545472"/>
                </a:solidFill>
                <a:latin typeface="Tahoma"/>
              </a:rPr>
              <a:t>Lung abscess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Tahoma"/>
              </a:rPr>
              <a:t>               </a:t>
            </a:r>
            <a:r>
              <a:rPr b="0" lang="en-US" sz="1800" spc="-1" strike="noStrike">
                <a:solidFill>
                  <a:srgbClr val="545472"/>
                </a:solidFill>
                <a:latin typeface="Tahoma"/>
              </a:rPr>
              <a:t>Extrapulmonary infection 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2. </a:t>
            </a:r>
            <a:r>
              <a:rPr b="1" lang="en-US" sz="2400" spc="-1" strike="noStrike">
                <a:solidFill>
                  <a:srgbClr val="545472"/>
                </a:solidFill>
                <a:latin typeface="Tahoma"/>
              </a:rPr>
              <a:t>Noninfectious events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: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           </a:t>
            </a:r>
            <a:r>
              <a:rPr b="0" lang="en-US" sz="1800" spc="-1" strike="noStrike">
                <a:solidFill>
                  <a:srgbClr val="545472"/>
                </a:solidFill>
                <a:latin typeface="Tahoma"/>
              </a:rPr>
              <a:t>Heart: congestive heart failure (CHF)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Tahoma"/>
              </a:rPr>
              <a:t>               </a:t>
            </a:r>
            <a:r>
              <a:rPr b="0" lang="en-US" sz="1800" spc="-1" strike="noStrike">
                <a:solidFill>
                  <a:srgbClr val="545472"/>
                </a:solidFill>
                <a:latin typeface="Tahoma"/>
              </a:rPr>
              <a:t>Lung: fibroproliferative acute respiratory distress syndrome (ARDS), pulmonary emboli, Atelectesis.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Definitio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545472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Nosocomial pneumonia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: is defined as hospital associated pneumonia (HAP) or health care associated pneumonia (HCAP)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545472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Occurring at least </a:t>
            </a:r>
            <a:r>
              <a:rPr b="1" lang="en-US" sz="2800" spc="-1" strike="noStrike">
                <a:solidFill>
                  <a:srgbClr val="c00000"/>
                </a:solidFill>
                <a:latin typeface="Tahoma"/>
              </a:rPr>
              <a:t>48 -72 hours 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after admission and not incubating at the time of hospitalization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476280"/>
            <a:ext cx="7772400" cy="1434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Health care associated Pneumonia 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545472"/>
                </a:solidFill>
                <a:latin typeface="Tahoma"/>
              </a:rPr>
              <a:t>A</a:t>
            </a:r>
            <a:r>
              <a:rPr b="0" lang="en-GB" sz="3200" spc="-1" strike="noStrike">
                <a:solidFill>
                  <a:srgbClr val="545472"/>
                </a:solidFill>
                <a:latin typeface="Tahoma"/>
              </a:rPr>
              <a:t>- Hospital Acquired Pneumonia(</a:t>
            </a:r>
            <a:r>
              <a:rPr b="1" lang="en-GB" sz="3200" spc="-1" strike="noStrike">
                <a:solidFill>
                  <a:srgbClr val="545472"/>
                </a:solidFill>
                <a:latin typeface="Tahoma"/>
              </a:rPr>
              <a:t>HAP</a:t>
            </a:r>
            <a:r>
              <a:rPr b="0" lang="en-GB" sz="3200" spc="-1" strike="noStrike">
                <a:solidFill>
                  <a:srgbClr val="545472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545472"/>
                </a:solidFill>
                <a:latin typeface="Tahoma"/>
              </a:rPr>
              <a:t>B-</a:t>
            </a:r>
            <a:r>
              <a:rPr b="0" lang="en-GB" sz="3200" spc="-1" strike="noStrike">
                <a:solidFill>
                  <a:srgbClr val="545472"/>
                </a:solidFill>
                <a:latin typeface="Tahoma"/>
              </a:rPr>
              <a:t> Ventilator Associated Pneumonia (</a:t>
            </a:r>
            <a:r>
              <a:rPr b="1" lang="en-GB" sz="3200" spc="-1" strike="noStrike">
                <a:solidFill>
                  <a:srgbClr val="545472"/>
                </a:solidFill>
                <a:latin typeface="Tahoma"/>
              </a:rPr>
              <a:t>VAP</a:t>
            </a:r>
            <a:r>
              <a:rPr b="0" lang="en-GB" sz="3200" spc="-1" strike="noStrike">
                <a:solidFill>
                  <a:srgbClr val="545472"/>
                </a:solidFill>
                <a:latin typeface="Tahoma"/>
              </a:rPr>
              <a:t>) in patients with assisted respiration for a period of 48 hours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213372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Nosocomial pneumonia is the </a:t>
            </a:r>
            <a:r>
              <a:rPr b="0" lang="en-US" sz="2800" spc="-1" strike="noStrike">
                <a:solidFill>
                  <a:srgbClr val="ff0aff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ff0aff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ff0aff"/>
                </a:solidFill>
                <a:latin typeface="Tahoma"/>
              </a:rPr>
              <a:t> most common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 hospital-acquired infections after urinary tract infection. 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Accounting for 31 % of all nosocomial infections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Nosocomial pneumonia is the </a:t>
            </a:r>
            <a:r>
              <a:rPr b="0" lang="en-US" sz="2800" spc="-1" strike="noStrike">
                <a:solidFill>
                  <a:srgbClr val="ff0aff"/>
                </a:solidFill>
                <a:latin typeface="Tahoma"/>
              </a:rPr>
              <a:t>leading cause of death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 from hospital-acquired infections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The incidence of nosocomial pneumonia is highest in </a:t>
            </a: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ICU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 (intensive care unit) patients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ICU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1" name="Picture 2" descr="http://t3.gstatic.com/images?q=tbn:ANd9GcQJgQ01y3lGpssbyxlNUmQAUjl-a-bB5vPQAcjkFpIZ22n_oqUBP8afgL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4000" y="2060640"/>
            <a:ext cx="4319280" cy="38163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6" descr="http://blogs.jwatch.org/PaulSax/wp-content/uploads/2008/12/icu1.jpg"/>
          <p:cNvPicPr/>
          <p:nvPr/>
        </p:nvPicPr>
        <p:blipFill>
          <a:blip r:embed="rId3"/>
          <a:stretch/>
        </p:blipFill>
        <p:spPr>
          <a:xfrm>
            <a:off x="5076720" y="1916280"/>
            <a:ext cx="388800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The incidence of nosocomial pneumonia in </a:t>
            </a:r>
            <a:r>
              <a:rPr b="0" lang="en-US" sz="2800" spc="-1" strike="noStrike">
                <a:solidFill>
                  <a:srgbClr val="ff0aff"/>
                </a:solidFill>
                <a:latin typeface="Tahoma"/>
              </a:rPr>
              <a:t>ventilated patients 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was </a:t>
            </a: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10-fold higher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 than non-ventilated patients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The reported crude </a:t>
            </a: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mortality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 for HAP is 30% to greater than 70%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5" name="Text Box 4"/>
          <p:cNvSpPr/>
          <p:nvPr/>
        </p:nvSpPr>
        <p:spPr>
          <a:xfrm>
            <a:off x="2727360" y="4952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6" name="Text Box 5"/>
          <p:cNvSpPr/>
          <p:nvPr/>
        </p:nvSpPr>
        <p:spPr>
          <a:xfrm>
            <a:off x="4178160" y="5486400"/>
            <a:ext cx="4461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Tahoma"/>
              </a:rPr>
              <a:t>--- Medical Clinics of North America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45472"/>
                </a:solidFill>
                <a:latin typeface="Tahoma"/>
              </a:rPr>
              <a:t>    </a:t>
            </a:r>
            <a:r>
              <a:rPr b="1" lang="en-US" sz="1200" spc="-1" strike="noStrike">
                <a:solidFill>
                  <a:srgbClr val="545472"/>
                </a:solidFill>
                <a:latin typeface="Tahoma"/>
              </a:rPr>
              <a:t>Therapy of Nosocomial pneumonia</a:t>
            </a:r>
            <a:r>
              <a:rPr b="0" lang="en-US" sz="1200" spc="-1" strike="noStrike">
                <a:solidFill>
                  <a:srgbClr val="545472"/>
                </a:solidFill>
                <a:latin typeface="Tahoma"/>
              </a:rPr>
              <a:t> 2001 vol.85 1583-94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  <a:effectLst>
            <a:outerShdw dist="63504" dir="2216091" blurRad="0" rotWithShape="0">
              <a:srgbClr val="9797b7"/>
            </a:outerShdw>
          </a:effectLst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Pathogenesi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Picture 4" descr="http://t2.gstatic.com/images?q=tbn:B2AxVa52l1MOEM:http://eso-cdn.bestpractice.bmj.com/best-practice/images/bp/720-1-hlight_default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5280" y="4005360"/>
            <a:ext cx="2664000" cy="20160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6" descr="http://t2.gstatic.com/images?q=tbn:9UXX-DdECD4cxM:http://www.nlm.nih.gov/medlineplus/ency/images/ency/fullsize/17276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564000" y="3933720"/>
            <a:ext cx="3024000" cy="208764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8" descr="http://t2.gstatic.com/images?q=tbn:og8ljJjgKB02fM:http://scienceline.org/wp-content/uploads/2006/10/pneumonia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948360" y="4005360"/>
            <a:ext cx="201636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ERICA</dc:creator>
  <dc:description/>
  <dc:language>en-US</dc:language>
  <cp:lastModifiedBy>JERICA</cp:lastModifiedBy>
  <dcterms:modified xsi:type="dcterms:W3CDTF">2014-08-04T08:53:53Z</dcterms:modified>
  <cp:revision>94</cp:revision>
  <dc:subject/>
  <dc:title>PowerPoint Presentation</dc:title>
</cp:coreProperties>
</file>