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116-ECCD-4C7F-8A4C-CCFEB2C221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F0D-4BBB-4288-AC9A-E728B66A2C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5320-4A03-4769-941A-898DBCA3A6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6B5-BE28-4880-8EEB-51368FAB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10D-0611-4A7C-BAC7-1E81828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89A7-B090-4ED6-8A4D-C19BEFF87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501-E766-4910-9EC0-F9FAC63B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BDD8-C95D-4E33-A7ED-CFC8A55A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8700-1361-42A9-8C70-65B2AD70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902-CE76-4495-BFA6-559D9F8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53B2-9DFE-4111-9964-3C27C672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612-C85E-4555-A7D3-EB2992D7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9AC-580C-4240-97B0-BBCF85E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354-23EF-447E-81F7-DF617E8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D58-8A9B-4E39-B57D-215CB6D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0FF7-5BB6-4E39-A59C-3B695960D863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; 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3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10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10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10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10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 to be discussed in (COP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 (for acute asthma atta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0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o avoid exacerbation of asthmatic attack and adrenal insufficency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 (not commonly us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8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PD N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drug targe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dy Hagar Hanan</dc:creator>
  <dc:description/>
  <dc:language>en-US</dc:language>
  <cp:lastModifiedBy>User</cp:lastModifiedBy>
  <dcterms:modified xsi:type="dcterms:W3CDTF">2016-01-26T07:47:09Z</dcterms:modified>
  <cp:revision>240</cp:revision>
  <dc:subject/>
  <dc:title>PowerPoint Presentation</dc:title>
</cp:coreProperties>
</file>