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39E-BDCC-4496-B152-7A86E7E8F0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FF27-D64B-4AAF-8CF4-08307F0FA0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8D6A-B8AC-4E67-8958-433203F44B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AF5-56E3-4D7A-BB0A-4974B942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180-548D-473B-843A-2D7643B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4DB-A71B-44C0-940C-AFB5E83C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895-AB51-44DA-893C-EA48C7ED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FB0-2CC4-4071-8A38-1FE17443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038-D884-42F5-B784-9E5815E5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3A9-94BE-4CAA-B73C-759F502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F0A-BAC2-4941-82B0-0E4159DA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DB7-B583-4B19-9483-F67CE2C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4B4-A24A-421E-B592-1374B2F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FA7-9E0B-40DD-BD91-FD925E7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160-38E1-435B-AA29-3C4239D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A0ED-9117-4C36-A9CE-21D7F792316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; 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3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 to be discussed in (COP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 (for acute asthma att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avoid exacerbation of asthmatic attack and adrenal insufficenc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 (not commonly us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PD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drug targe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dy Hagar Hanan</dc:creator>
  <dc:description/>
  <dc:language>en-US</dc:language>
  <cp:lastModifiedBy>User</cp:lastModifiedBy>
  <dcterms:modified xsi:type="dcterms:W3CDTF">2016-02-01T05:04:10Z</dcterms:modified>
  <cp:revision>241</cp:revision>
  <dc:subject/>
  <dc:title>PowerPoint Presentation</dc:title>
</cp:coreProperties>
</file>