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B9FA-BB79-49E1-9E3A-6660FE10B7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A258-E025-48D0-B4EA-EDEA49756E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1C00-0D33-4ED1-A80F-974B4484B4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F931-FD63-4C9D-B2A6-9EAA0382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48B0-A1D3-4170-88ED-6982FB4C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096B-7B00-4105-92EE-205D7B7E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DE6F-07BD-4F43-BCD5-6C76E6FEC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FA5A-E5EF-4286-824B-15E9E8D1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DB33-AE52-407B-806A-BBC33A16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D926-9E14-4106-B334-79753E08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F9B-395D-48D0-8E23-F0182C7B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076E-14F4-44C8-94AB-FC748BD5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AC37-5CD1-4680-A6BB-ABFF5F29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5240-E49D-4EC7-B207-FD84CDD3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580E-DCF7-487F-A799-B1964BCD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E9ED-90DE-47F7-8424-3250DB83352C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4000" y="382320"/>
            <a:ext cx="8193240" cy="17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logy of drugs used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asthma &amp; COP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2100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Hanan Hag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 Ishfaq Bukha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5600" y="3967200"/>
            <a:ext cx="27115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82520" y="276120"/>
            <a:ext cx="8818560" cy="636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 asthmatic drugs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) Quick relief medications: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 used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lieve acute episodic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ks of asthma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) Control therapy (prophylactic drugs):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corticoids; anti-inflammatory drugs used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duce th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of attacks, and nocturnal awakenings.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65320" y="255600"/>
            <a:ext cx="46195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 asthmatic dru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4480" y="866880"/>
            <a:ext cx="4438440" cy="575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ronchodilato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uick relief medic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 acute attack of asth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acting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nthine prepa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629240" y="885960"/>
            <a:ext cx="4371840" cy="575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-inflammatory Agents</a:t>
            </a:r>
            <a:r>
              <a:rPr b="1" lang="en-US" sz="28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phylactic therap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the frequency of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icostero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 cell stabiliz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acting ß2-agonis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77560" y="299520"/>
            <a:ext cx="8607240" cy="62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onchodil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rugs can produce rapid relief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ronchodila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adrenoreceptor agonis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nthine prepa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82160" y="166320"/>
            <a:ext cx="8783640" cy="63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ympathomimetic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adrenoceptor 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imulate adenyl cyclas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M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ronchodi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mucus clearance by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ncreasing ciliary activit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zation of mast cell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79360" y="286920"/>
            <a:ext cx="860904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lassification of </a:t>
            </a:r>
            <a:r>
              <a:rPr b="1" lang="en-US" sz="34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 selective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gonis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nephrine - isoprenal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– agonists (Preferab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lbutamo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lbutero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buta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me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e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68200" y="66600"/>
            <a:ext cx="8685360" cy="66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n selective </a:t>
            </a:r>
            <a:r>
              <a:rPr b="1" lang="en-US" sz="36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agonis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pineph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 bronchodi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ubcutaneously, S.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action (maximum effect within 15 mi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short duration of action (60-90 m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ug of choi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cute anaphylax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ypersensitivity reac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90080" y="114120"/>
            <a:ext cx="8775720" cy="65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advantag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effective or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letal muscle trem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S side effec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hycardia, arrhythmia, hyperten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uitable for asthmatic patients with    hypertension or heart fail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traindications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S patients, diabetic patien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86840" y="123480"/>
            <a:ext cx="8783640" cy="63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–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mainly given by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halatio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(metered dose inhaler or nebulizer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given orally, parenterall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hort acting ß2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albutamol, terbutalin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ng acting ß2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almeterol, formotero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90440" y="114120"/>
            <a:ext cx="8640720" cy="63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ulizer                           Inha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http://t2.gstatic.com/images?q=tbn:HMXOaS3Khjl4XM:http://drwaqipedia.files.wordpress.com/2009/08/steroid-inhaler.jpg"/>
          <p:cNvPicPr/>
          <p:nvPr/>
        </p:nvPicPr>
        <p:blipFill>
          <a:blip r:embed="rId1"/>
          <a:stretch/>
        </p:blipFill>
        <p:spPr>
          <a:xfrm>
            <a:off x="5111640" y="831960"/>
            <a:ext cx="2691000" cy="2401920"/>
          </a:xfrm>
          <a:prstGeom prst="rect">
            <a:avLst/>
          </a:prstGeom>
          <a:ln w="9360">
            <a:solidFill>
              <a:srgbClr val="696969">
                <a:alpha val="0"/>
              </a:srgbClr>
            </a:solidFill>
            <a:miter/>
          </a:ln>
        </p:spPr>
      </p:pic>
      <p:pic>
        <p:nvPicPr>
          <p:cNvPr id="73" name="Picture 5" descr="http://t3.gstatic.com/images?q=tbn:IxlfQqK05w844M:http://aiscracker.com/wp-content/uploads/2009/09/nebulizer.jpg"/>
          <p:cNvPicPr/>
          <p:nvPr/>
        </p:nvPicPr>
        <p:blipFill>
          <a:blip r:embed="rId2"/>
          <a:stretch/>
        </p:blipFill>
        <p:spPr>
          <a:xfrm>
            <a:off x="595440" y="841320"/>
            <a:ext cx="2900160" cy="2033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220px-Jet_nebulizer"/>
          <p:cNvPicPr/>
          <p:nvPr/>
        </p:nvPicPr>
        <p:blipFill>
          <a:blip r:embed="rId3"/>
          <a:stretch/>
        </p:blipFill>
        <p:spPr>
          <a:xfrm>
            <a:off x="577800" y="2976480"/>
            <a:ext cx="3008520" cy="244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4"/>
          <a:stretch/>
        </p:blipFill>
        <p:spPr>
          <a:xfrm>
            <a:off x="4911840" y="3257640"/>
            <a:ext cx="3036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45880" y="209160"/>
            <a:ext cx="8783640" cy="64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hort acting ß</a:t>
            </a:r>
            <a:r>
              <a:rPr b="1" lang="en-US" sz="36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butamol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halation, orally, i.v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rbutaline,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tion, orally, s.c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rapid onset of action (15-30 min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duration of action (4-6 hr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cute attack of asthma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rugs of choice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87200" y="258840"/>
            <a:ext cx="869472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Os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ents should be able 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types of drugs used for treatment of asth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iate between treatment and prophylactic therapy for asth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the different types of bronchodilators regarding pharmacokinetics, pharmacodynamics, uses and side eff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different anti-inflammatory drugs for asthma in respect to kinetics, dynamics, uses and side eff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71360" y="199800"/>
            <a:ext cx="8801280" cy="64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ng acting selective ß</a:t>
            </a:r>
            <a:r>
              <a:rPr b="1" lang="en-US" sz="36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gonis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meterol &amp; formo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given by inha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acting bronchodilators (12 hours) due to  high lipid solubility (creates depot effec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re not used to relieve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episodes of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nocturnal asthm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 with inhaled corticosteroids to control asthm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decreases the number and severity of asthma attacks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6600" y="182520"/>
            <a:ext cx="8988480" cy="648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antages of ß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CVS side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table for asthmatic patients with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disorders as hypertension or heart fail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advantages of ß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gonist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letal muscle trem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ous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e 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ceptors down regula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dose may produce tachycardia due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08080" y="227160"/>
            <a:ext cx="8735760" cy="63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uscarinic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pr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trop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um – Tio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rop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blocking muscarinic receptor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aerosol inha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elayed onset of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ternary derivatives of atropine (pola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diffuse into the bloo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enter C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minimal systemic side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pratrop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short duration of action 3-5 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otropiu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longer duration of action (24 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82160" y="175680"/>
            <a:ext cx="8828280" cy="634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dynam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 bronchoconstriction and mucus secre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effective than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gon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nti-inflammatory action only bronchodi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choice in chronic obstructive pulmonary diseases (COPD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cute severe asthma combined with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 &amp; corticostero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23480" y="123840"/>
            <a:ext cx="883908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thylxanthi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phylline - aminophylline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 phosphodiestrase inhibitor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P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ronchodilation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nosine receptors antagonists (A1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diaphragmatic contrac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zation of mast cell membran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163440" y="1994040"/>
            <a:ext cx="2446560" cy="87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onchod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5259240" y="977760"/>
            <a:ext cx="2490840" cy="411480"/>
          </a:xfrm>
          <a:prstGeom prst="rect">
            <a:avLst/>
          </a:prstGeom>
          <a:solidFill>
            <a:srgbClr val="ffb8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enyl cycl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5194440" y="3230640"/>
            <a:ext cx="3112920" cy="506160"/>
          </a:xfrm>
          <a:prstGeom prst="rect">
            <a:avLst/>
          </a:prstGeom>
          <a:solidFill>
            <a:srgbClr val="ffb8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osphodiester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4495680" y="210960"/>
            <a:ext cx="954360" cy="4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20"/>
          <p:cNvSpPr/>
          <p:nvPr/>
        </p:nvSpPr>
        <p:spPr>
          <a:xfrm>
            <a:off x="4578480" y="2178000"/>
            <a:ext cx="102240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21"/>
          <p:cNvSpPr/>
          <p:nvPr/>
        </p:nvSpPr>
        <p:spPr>
          <a:xfrm>
            <a:off x="4727520" y="5526000"/>
            <a:ext cx="1881360" cy="58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,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Line 23"/>
          <p:cNvSpPr/>
          <p:nvPr/>
        </p:nvSpPr>
        <p:spPr>
          <a:xfrm flipH="1">
            <a:off x="2619000" y="2454120"/>
            <a:ext cx="192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5508720" y="1504800"/>
            <a:ext cx="2571480" cy="49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mplified Arabic Fixed"/>
                <a:ea typeface="Simplified Arabic Fixed"/>
              </a:rPr>
              <a:t>+  </a:t>
            </a:r>
            <a:r>
              <a:rPr b="1" lang="en-US" sz="2400" spc="-1" strike="noStrike">
                <a:solidFill>
                  <a:srgbClr val="000000"/>
                </a:solidFill>
                <a:latin typeface="Simplified Arabic Fixed"/>
                <a:ea typeface="Simplified Arabic Fixed"/>
              </a:rPr>
              <a:t>B-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Line 27"/>
          <p:cNvSpPr/>
          <p:nvPr/>
        </p:nvSpPr>
        <p:spPr>
          <a:xfrm>
            <a:off x="5008680" y="2652840"/>
            <a:ext cx="0" cy="26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Line 28"/>
          <p:cNvSpPr/>
          <p:nvPr/>
        </p:nvSpPr>
        <p:spPr>
          <a:xfrm>
            <a:off x="4989600" y="689040"/>
            <a:ext cx="12600" cy="147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5910120" y="4362480"/>
            <a:ext cx="226404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mplified Arabic Fixed"/>
                <a:ea typeface="Simplified Arabic Fixed"/>
              </a:rPr>
              <a:t>Theophyl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Straight Connector 21"/>
          <p:cNvSpPr/>
          <p:nvPr/>
        </p:nvSpPr>
        <p:spPr>
          <a:xfrm>
            <a:off x="5821200" y="2898720"/>
            <a:ext cx="1438560" cy="1338480"/>
          </a:xfrm>
          <a:prstGeom prst="line">
            <a:avLst/>
          </a:prstGeom>
          <a:ln w="50760">
            <a:solidFill>
              <a:srgbClr val="2c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Straight Connector 23"/>
          <p:cNvSpPr/>
          <p:nvPr/>
        </p:nvSpPr>
        <p:spPr>
          <a:xfrm flipH="1">
            <a:off x="5877000" y="2754360"/>
            <a:ext cx="1170000" cy="1460520"/>
          </a:xfrm>
          <a:prstGeom prst="line">
            <a:avLst/>
          </a:prstGeom>
          <a:ln w="50760">
            <a:solidFill>
              <a:srgbClr val="2c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33200" y="123840"/>
            <a:ext cx="8877600" cy="64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harmacological effects 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muscle relax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ction of diaphrag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mprove venti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V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heart rate, ↑ force of con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IT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gastric acid secr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idney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renal blood flow, weak diuretic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NS st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stimulant effect on respiratory cen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decrease fatigue &amp; elevate moo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overdose (tremors, nervousness, insomnia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uls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1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10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42560" y="190080"/>
            <a:ext cx="8739000" cy="651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kinet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phyll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given or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phyll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is given a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inf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by Cyt P450 enzymes in liv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½= 8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many drug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ducer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phenobarbitone &amp; rifampic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↑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theophylline → ↓ T 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hibi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rythromyc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theophylline → ↑ T 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90440" y="189000"/>
            <a:ext cx="8677440" cy="63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r>
              <a:rPr b="1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line drug in asthma (theophyllin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tatus asthmatics (aminophylline,  is given a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infus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ow therapeutic index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rrow safety margin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of theophylline blood level is necessary.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VS effects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ension, arrhythm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IT effects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sea &amp;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NS  side effects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mors, nervousness, insomnia, convul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1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10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8600" y="279360"/>
            <a:ext cx="852516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phylactic therap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ti - inflammatory drug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corticoids to be discussed in (COP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 cell stabilize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omalizum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77920" y="258840"/>
            <a:ext cx="860400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ronchial Asth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hma is a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chronic inflammatory disord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airways that result in airwa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truction in response to external stimu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 pollen grains, cold air and tobacco smok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10960" y="338040"/>
            <a:ext cx="87379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nti - inflammatory drug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control medications / prophylactic therap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hyper-reacti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inflammation of air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the spasm of air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00160" y="182520"/>
            <a:ext cx="880272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lucocortico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nflammatory action due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ospholipase A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aglandin and leukotrie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inflammatory cells in air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st cell stabilization →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stamine rel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llary permeability and mucosal ed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antigen-antibody re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pregulate </a:t>
            </a:r>
            <a:r>
              <a:rPr b="1" lang="el-GR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β</a:t>
            </a:r>
            <a:r>
              <a:rPr b="1" lang="en-US" sz="30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receptor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ave additive effect to 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54160" y="258840"/>
            <a:ext cx="8710560" cy="63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outes of administr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tion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Budesonide &amp; Fluticasone, beclometas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halation (metered-dose inhaler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first pass metabolis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choice in asthma, less side effe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ly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nisone, methyl prednisolone (for acute asthma attac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cortisone, dexamethas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6680" y="166680"/>
            <a:ext cx="873432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lucocorticoids in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inflam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hyper-reactivity to stimu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elayed onset of actio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effect usually attained after 2-4 week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action at 9-12 mon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s prophylactic medications, used alone or combined with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in allergic, exercise, antigen and irritant-induced asthm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2120" y="239760"/>
            <a:ext cx="8739360" cy="64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stemic corticosteroids are reserved for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asthmaticus (i.v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8240" y="299880"/>
            <a:ext cx="86612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halation has very less side effec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opharyngeal candidiasis (thrus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honia (voice hoarsenes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thdraw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upt stop of corticosteroids should be avoided and dose should be taper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 avoid exacerbation of asthmatic attack and adrenal insufficency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3040" y="291960"/>
            <a:ext cx="8678880" cy="62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st cell stabiliz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romoglycate </a:t>
            </a:r>
            <a:r>
              <a:rPr b="1" i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– 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edocromil (not commonly use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stabilization of mast cell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halation (aerosol, nebulize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poor oral absorption (10%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40840" y="245880"/>
            <a:ext cx="86886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dynam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ffective in acute attack of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phylac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i-inflammatory dr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hyper-reactivity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in exercise, antigen and irritant-indu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respond better than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58760" y="250560"/>
            <a:ext cx="8794800" cy="63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hylactic therapy in asthma especially in child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rgic rhinit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nctivit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ter t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r upper respiratory tract irritation  (burning sensation, nasal conges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9680" y="471600"/>
            <a:ext cx="81471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82520" y="194760"/>
            <a:ext cx="8817120" cy="64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sized by inflammatory cells found in the airways (eosinophils, macrophages, mast cells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d by the action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-lipoxygena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rachidonic aci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 B4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otaxis of neutroph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ysteinyl leukotrienes C4, D4 &amp; E4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bronchial hyper-reactiv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sal edema, ↑ mucus secretio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39760" y="237960"/>
            <a:ext cx="8724960" cy="54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haracters of airways in asthmatic patient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irway hyper-reactivity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normal sensitivity of the airways to any external stimuli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flam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ema, swe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ck mucus produ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onchospas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striction of the bronchial smooth muscle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rcRect l="0" t="8272" r="0" b="11029"/>
          <a:stretch/>
        </p:blipFill>
        <p:spPr>
          <a:xfrm>
            <a:off x="233280" y="236520"/>
            <a:ext cx="8472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2760" y="186840"/>
            <a:ext cx="8726400" cy="640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90400" indent="-590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 receptor antagonists</a:t>
            </a:r>
            <a:r>
              <a:rPr b="1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zafir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uk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st, monte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uk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st, pran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uk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elective, reversible antagonists of cysteinyl leukotriene receptor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ysL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n or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bronchodi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anti-inflammatory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effective than inhaled corticoster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glucocorticoid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paring effec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tentiate corticosteroid ac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10600" y="132840"/>
            <a:ext cx="8690040" cy="636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 of leukotriene receptor ant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ffective in acute attack of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hylax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mild to moderate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irin-induced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gen and exercise-induced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combined with glucocorticoid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dditive effects, low dose of glucocorticoids can be used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ation of liver enzymes, headache, dyspep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05920" y="239760"/>
            <a:ext cx="8774280" cy="64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Omalizuma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monoclonal antibody directed against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uman Ig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given by injection (s.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s IgE binding with its receptors on mast cells &amp; basophi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ase of allergic medi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ive-not first line thera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reatment of moderate to severe allergic asthma which does not respond to high doses of corticostero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>
            <a:lum bright="-16000"/>
          </a:blip>
          <a:srcRect l="28847" t="20432" r="18030" b="21634"/>
          <a:stretch/>
        </p:blipFill>
        <p:spPr>
          <a:xfrm>
            <a:off x="1838160" y="176040"/>
            <a:ext cx="5072400" cy="649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http://callisto.ggsrv.com/imgsrv/FastFetch/UBER1/ZI-5RLS-2012-JUN12-IDSI-2-1"/>
          <p:cNvPicPr/>
          <p:nvPr/>
        </p:nvPicPr>
        <p:blipFill>
          <a:blip r:embed="rId1"/>
          <a:stretch/>
        </p:blipFill>
        <p:spPr>
          <a:xfrm>
            <a:off x="141120" y="374760"/>
            <a:ext cx="89442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PD N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9720" y="25992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rugs used in chronic obstructive pulmonary disease (COP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5120" y="1436400"/>
            <a:ext cx="875376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P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chronic irreversibl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flow obstruction, lung damage and inflammation of the air sacs (alveoli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ing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high risk factor but air pollution and genetic factors can contribut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3560" y="390600"/>
            <a:ext cx="874548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Treatmen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bronchodi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glucocortic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gen 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iotic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ally macrolides such as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zithromyc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the number of exacerbations.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8280" y="195120"/>
            <a:ext cx="8963280" cy="62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haled bronchodilators in COP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antimuscarinic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ratropium &amp; tiotrop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uperior to β2 agonists in COP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rugs can be used either alone or comb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butamol + ipratrop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meterol + Tiotropium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long acting-less dose frequenc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210960" y="6367680"/>
            <a:ext cx="875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link.brightcove.com/services/player/bcpid236059233?bctid=34780680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صورة 1" descr="Figure A shows the location of the lungs and airways in the body. Figure B shows a cross-section of a normal airway. Figure C shows a cross-section of an airway during asthma symptoms."/>
          <p:cNvPicPr/>
          <p:nvPr/>
        </p:nvPicPr>
        <p:blipFill>
          <a:blip r:embed="rId1"/>
          <a:stretch/>
        </p:blipFill>
        <p:spPr>
          <a:xfrm>
            <a:off x="85680" y="155520"/>
            <a:ext cx="885528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>
            <a:lum bright="-18000"/>
          </a:blip>
          <a:srcRect l="21484" t="4934" r="15625" b="0"/>
          <a:stretch/>
        </p:blipFill>
        <p:spPr>
          <a:xfrm>
            <a:off x="114480" y="25560"/>
            <a:ext cx="8894520" cy="68040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210960" y="274680"/>
            <a:ext cx="2930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31640" y="800280"/>
            <a:ext cx="82807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4960" y="635040"/>
          <a:ext cx="8672760" cy="5883120"/>
        </p:xfrm>
        <a:graphic>
          <a:graphicData uri="http://schemas.openxmlformats.org/drawingml/2006/table">
            <a:tbl>
              <a:tblPr/>
              <a:tblGrid>
                <a:gridCol w="3533760"/>
                <a:gridCol w="3578400"/>
                <a:gridCol w="156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99"/>
                          </a:solidFill>
                          <a:latin typeface="Times New Roman"/>
                          <a:ea typeface="Times New Roman"/>
                        </a:rPr>
                        <a:t>Dru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B2 agonists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butamol, terbutali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 ac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ain choic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 acute attack of asth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enyl cycl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meterol, formote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 acting, Prophylax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cturnal asth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ntimuscarin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pratropium (Shor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otropium (lo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ain drugs For COP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cks M recepr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anthine deriva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ophyl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inophyl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orall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arenterall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ibits phosphodiester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 Box 57"/>
          <p:cNvSpPr/>
          <p:nvPr/>
        </p:nvSpPr>
        <p:spPr>
          <a:xfrm>
            <a:off x="450720" y="68400"/>
            <a:ext cx="840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 (relievers for bronchospas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31640" y="800280"/>
            <a:ext cx="82807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92240" y="635040"/>
          <a:ext cx="8745480" cy="5979960"/>
        </p:xfrm>
        <a:graphic>
          <a:graphicData uri="http://schemas.openxmlformats.org/drawingml/2006/table">
            <a:tbl>
              <a:tblPr/>
              <a:tblGrid>
                <a:gridCol w="5913360"/>
                <a:gridCol w="283212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rticosteroid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nhibits phospholipase A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xamethasone, Fluticasone, budesoni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dnisol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drocortis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nter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ast stabiliz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omoglycate (Cromolyn), Nedocrom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, prophylaxis in child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ysteinyl antagonist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yLT1 antagois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firlukast, monteluk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malizumab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 IgE antibod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jection, S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36"/>
          <p:cNvSpPr/>
          <p:nvPr/>
        </p:nvSpPr>
        <p:spPr>
          <a:xfrm>
            <a:off x="573120" y="0"/>
            <a:ext cx="74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nflammatory drugs (prophylacti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>
            <a:lum bright="-16000"/>
          </a:blip>
          <a:srcRect l="28847" t="20432" r="18030" b="21634"/>
          <a:stretch/>
        </p:blipFill>
        <p:spPr>
          <a:xfrm>
            <a:off x="4502160" y="187200"/>
            <a:ext cx="4506840" cy="651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Rectangle 2"/>
          <p:cNvSpPr/>
          <p:nvPr/>
        </p:nvSpPr>
        <p:spPr>
          <a:xfrm>
            <a:off x="0" y="222120"/>
            <a:ext cx="46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irway  hyper-re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77920" y="258840"/>
            <a:ext cx="863280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ymptoms of asth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thma produces recurrent episodic attack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bronchoconst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ness of br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st tight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ez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re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mptoms can happen each time the airway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e irritated by inhaled irritants or allerge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77560" y="299520"/>
            <a:ext cx="8607240" cy="62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au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 (cold ai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sonal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otional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rugs as aspirin,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ock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2800" y="205920"/>
            <a:ext cx="8767800" cy="645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thma drug targe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rasympathetic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3 receptors in smooth muscles and gl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mucus secr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sympathetic suppl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s in smooth muscles and gl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mucus secr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mdy Hagar Hanan</dc:creator>
  <dc:description/>
  <dc:language>en-US</dc:language>
  <cp:lastModifiedBy>User</cp:lastModifiedBy>
  <dcterms:modified xsi:type="dcterms:W3CDTF">2016-02-01T05:04:10Z</dcterms:modified>
  <cp:revision>241</cp:revision>
  <dc:subject/>
  <dc:title>PowerPoint Presentation</dc:title>
</cp:coreProperties>
</file>