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4A5B-83CA-4C1B-A46F-7CBF727E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D32-E07D-45C3-B43D-8951FC905D62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71F-BF37-432D-93C4-CD61D83F44D6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785-E8E5-4D89-BFBF-56F1D486D2B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E96-0C6A-479B-B314-7F0677FA3C9E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327-D870-4A8F-9098-C8BF4EA20B03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D7A-B0A8-4098-A2A3-D322A37F33C8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1EDB-5EE1-4545-BC69-9DC3A2D02DC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C204-1C8E-4096-BAFC-56B4500E18F9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3F0E-94D1-44B3-8205-80D33B2DEA92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02D-93F7-4549-8115-B23F23CE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AF3-E56F-48FE-8FE9-C22B9BC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7C0-35F4-4ECF-92A2-3096DA85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7D3-EEAD-41CF-A2B6-393460E6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6A2-31FA-4BEE-A09D-1325B717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8D4-F594-4D47-BB41-7502271D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DC7-2FBB-4459-924D-F5222332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C6A9-02FE-46F0-BD2A-B7C0574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AF13-338A-4E03-8D72-30537AD4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5BFA-2A2B-49F6-987D-CF08CBC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8B52-1C26-4606-B367-751CA47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C7D-97A1-4B69-95BD-4156E12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4FD8-9DEE-46D1-9447-F7177C0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220C-27D6-403B-8613-7BCFB06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CBE2-4EDF-4BE7-846A-D8C20F7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EDD8-5D1F-4BCA-A9F7-398D9AF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34D2-CC0C-4D47-8804-768D10A8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D4CA-576B-4BEA-AD7B-FD9DAE9C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E3FF-AFD1-4EFC-ABF5-2E08566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DD12-CA3D-464B-B7ED-A0CB8ECF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B840-43CA-4C94-980A-17EA7280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D2A0-BAD6-49A5-BB4C-3EFE1C6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BBE-60B2-4B32-A8B3-3F40227D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0E64-146F-4F21-ABC3-5BF06A9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95EA-8CDB-4AA6-85E5-9F5C797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1D54-D6B2-4A6B-B51B-CF13531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C974-287C-44A3-A611-1428EE3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BB80-DEF5-4688-941E-FDFAF72D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C689-7F6C-4934-9D00-132C975B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C13E-979B-4A60-8A30-EA9B3676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AAC-D4EC-47B8-8E74-33D8E810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233-7B2B-4984-BFA2-9DCDDCA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BFA-A83A-4FA0-800E-52D93975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E29-B838-4374-841D-811CA70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B2F-2708-43AB-ACCD-11FAA1E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E42-EB49-4EBB-865F-82EF92B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E40-CC3B-4125-B805-FF180DAB1A4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46A1-1F14-42B0-BD2F-437C322040B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031-BFF5-4999-AB8A-DBF701BBB57A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716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ug therapy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6418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 (should not be the first line choi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ight Brace 3"/>
          <p:cNvSpPr/>
          <p:nvPr/>
        </p:nvSpPr>
        <p:spPr>
          <a:xfrm>
            <a:off x="3657600" y="274320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438280"/>
              <a:gd name="textAreaBottom" fmla="*/ 24285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4419720" y="2819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for first 8 weeks, followed by INH/RIF for 18 wee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/ethambutol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360" y="76212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yridoxine should be given in both cases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 (toxic metabolite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patitis with INH, is age dependent; it is rare in persons younger than 20 years , risk increases with age and alcohol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 and fast acetylat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Ishfaq Bukh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ociate Professor of Pharmac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llege of Medicine, KS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, tears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Tell the patient about this effect.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n permanently stain contact lense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 less common compared to IN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duc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lincally significsnt drug interactios such as warfarin, methadone will be metabolized fas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rupts the assembly of mycobacterial cell wall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 (comm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 are more toxic than 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rratogenic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(INH, Ethmabutol and rifampicin)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not us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cobacterium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low growing, an acid fast bacil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28600" y="5943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than one third of the world's population has 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oster_babykiss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User</cp:lastModifiedBy>
  <dcterms:modified xsi:type="dcterms:W3CDTF">2016-02-04T04:59:16Z</dcterms:modified>
  <cp:revision>330</cp:revision>
  <dc:subject/>
  <dc:title>Antimycobacterial drugs</dc:title>
</cp:coreProperties>
</file>