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4601-EF78-48F9-B9EF-5047F73BA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4268-DA8F-41BD-97D8-499025C4497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39C4-3078-4B01-AD1E-39EED53C6B6E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FB9-E63E-4045-ACEF-6234639BDB1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E945-7E00-4405-95C0-565845D776E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322-E924-45AF-A7A4-E43454215236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19D-4AF2-409E-B5C3-CE33B4BA38AB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820F-3B9E-48D6-9790-EAAF8ABC7C1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2D5A-70A2-4BBC-8365-A0F142E4465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550-3671-467B-96C7-43BCD1788F7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B1BB-7A9C-47E5-BC20-671A7BE1FB9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829A-FF3E-48A9-96B1-137C6D43DC5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42BC-13AE-4339-9E7B-145F0DD5B82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6134-A322-4C4B-8687-7A136B1CF6C7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F86A-8B8F-4135-AED3-F29939C48E4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7763-C815-4603-AA9E-4692A9DC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CC0-6EB1-468C-A2A5-D66C893E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B5A-F145-461F-8A90-D15EE277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06E3-69AA-4BD8-8F2F-8A2FDF93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EE03-1CCB-4091-B612-61D2409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7288-CE5B-40A0-B73E-DF864D1A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F83-E342-4CDA-98AE-27AA9A89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5346-A7F4-408A-A01C-5B4E02A6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1D39-38F7-4D7E-A680-643871D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6A0D-3E12-4B86-B3ED-E3522EF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B165-73C6-4461-B417-2AE612A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00B-FD5C-4877-BBA6-013D2BF3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4B7-5232-4BCE-9BDB-58D881FE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F175-1FEB-470D-83E8-3A049D3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35BE-54BC-47DA-A568-F63CF9A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C83A-9115-4DA5-9492-006A3352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F44B-33F5-489D-AAC6-BF740142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90C-B5C3-4CD1-821A-05A79770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1E0-1FCA-401E-96DB-B6B27195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39D9-943F-4605-90EF-FF38E436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8D8-C015-448E-93AB-DCFFB438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650-37B2-4245-9560-7E2006B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614-E0E8-4C62-A833-3B0AA099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08CD-0BCF-4ACB-BF57-4A0A087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B8BF-FBD6-4ECD-8C01-6DA0E75584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4AC8-695B-4281-82DE-89EF5E95132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rof. Mohammad Alhumayyd</a:t>
            </a:r>
            <a:br>
              <a:rPr sz="3600"/>
            </a:br>
            <a:r>
              <a:rPr b="1" lang="en-US" sz="3600" spc="-1" strike="noStrike">
                <a:solidFill>
                  <a:srgbClr val="47ffff"/>
                </a:solidFill>
                <a:latin typeface="Times New Roman"/>
              </a:rPr>
              <a:t>Pharmacology Depart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Drug Alle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Potential Side Effect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Drug safety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loramphenicol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a plastic anaem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oroquinolones in children&amp;Preg.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tendon damag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Times New Roman"/>
              </a:rPr>
              <a:t>Emperic therap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 ( wrong diagnosi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Presence of  pus or necrotic tissues 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38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Bacterial  Resistanc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result of the widespread use of antibiotics has been the emergence of resistant pathogens that have been sensitive in the pa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Defini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Conc of antibiotic required to inhibit or kill the bacteria is greater than the conc that can safely be achieved in the plas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Acquired Antibiotic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960" y="1600200"/>
            <a:ext cx="84582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 Inactivation by enzyme produced by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l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ase inactivates penicillins &amp; cephalosporins by cleaving the 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lactam ring of the dru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68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acteria develops an altered receptor for the drug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 Bacteria develops an altered metabolic path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 Reduced bacterial permeability to antibio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 Actively transporting the drug out of the c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Prevention of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only when absolutely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Use antibiotics in adequate dosage for sufficient             period of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brief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too prolonged 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xceptions,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*Combination of antibiotics may be required to        delay resistance ( e.g. T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8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8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b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 , continue antibiotic for  about 3 days further to avoid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 &amp; increase the incidence  of bacterial resi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neral Principles of Chemotherapy(cont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cc"/>
                </a:solidFill>
                <a:latin typeface="Times New Roman"/>
              </a:rPr>
              <a:t>Two or more antimicrobials should not be used without good  reason, e.g.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ed bacterial (polymicrobial) inf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perately 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g.piperacillin+gentamicin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isadvantages of multiple antibio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sensitivity or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creased risk of colonization with a resista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y of antago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igher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8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eneral principles ( Cont. 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irable ( e.g. TB, UTI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eded, except. streptomycin in renal TB; I.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tami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5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6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urgical prophylax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owel surgery, joint replacement, and some gynecological 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prevent postoperative infection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mmunosuppressed  Pati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ery old, very young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abetics, Anaemics, AIDS pts ,Cancer pt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Dental extr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total joint replac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ts with cardiac abnorma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efinition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(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cteria, fungi, actinomycetes)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at have the capacity to inhibit or destroy other microorganis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Now a day they are chemically synthesiz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either kill bacteria(bactericidal) or keep more bacteria from growing(bacteriostatic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Antibiotics will not cure infections caused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20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CELL WALL SYNTHES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Penicillins, Cephalospor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PROTEIN SYNTHESIS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crolides, Tetracyc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DNA SYNTHESIS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Quinol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FOLATE METABOLIS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Sulphonamides, Trimethop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HIBITION OF RNA synthesis by binding to RNA polymeras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.g. Rifampic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arrow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nicillin G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oad spectrum 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hoice of Antibioti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A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4568"/>
                </a:solidFill>
                <a:latin typeface="Times New Roman"/>
              </a:rPr>
              <a:t>(e.g.,syphyli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Microbiological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Pharmacological </a:t>
            </a:r>
            <a:br>
              <a:rPr sz="3600"/>
            </a:br>
            <a:r>
              <a:rPr b="1" lang="en-US" sz="3600" spc="-1" strike="noStrike">
                <a:solidFill>
                  <a:srgbClr val="ff4568"/>
                </a:solidFill>
                <a:latin typeface="Times New Roman"/>
              </a:rPr>
              <a:t>    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B)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acteriological inform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and reject the one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bacteria isolated may not be the prime cause    of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 not take in consideration site of inf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me bacteria cannot be cultivated or take time     to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e.g. M. Leprae, M. Tuberculosi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      hospital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oice of Antibiotics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harmacological consid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Site o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infection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ost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) Immune system e.g. Alcoholism, diabetes, HIV, malnutrition, advanced age-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85e0"/>
                </a:solidFill>
                <a:latin typeface="Times New Roman"/>
              </a:rPr>
              <a:t>higher than usual doses or longer courses are required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) Genetic fac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Patients with G-6-PD deficiency treated with sulfonamides and chloramphenicol  </a:t>
            </a:r>
            <a:r>
              <a:rPr b="1" lang="en-US" sz="2800" spc="-1" strike="noStrike">
                <a:solidFill>
                  <a:srgbClr val="f181d5"/>
                </a:solidFill>
                <a:latin typeface="Times New Roman"/>
              </a:rPr>
              <a:t>(Hemolysis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hoice of Antibiotics ( 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) Pregnancy and Lac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hearing loss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racyclines     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bone deformi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) Age of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Grey baby Syndrome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chloramphenic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) Renal fun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Aminoglycosides 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renal fail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)Liver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Erythromycin</a:t>
            </a:r>
            <a:r>
              <a:rPr b="1" lang="en-US" sz="2400" spc="-1" strike="noStrike">
                <a:solidFill>
                  <a:srgbClr val="ff85e0"/>
                </a:solidFill>
                <a:latin typeface="Times New Roman"/>
              </a:rPr>
              <a:t>(hepatic failure</a:t>
            </a:r>
            <a:r>
              <a:rPr b="1" lang="en-US" sz="2400" spc="-1" strike="noStrike">
                <a:solidFill>
                  <a:srgbClr val="f181d5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10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kk105041</cp:lastModifiedBy>
  <cp:lastPrinted>2015-02-10T10:44:32Z</cp:lastPrinted>
  <dcterms:modified xsi:type="dcterms:W3CDTF">2016-02-04T05:05:50Z</dcterms:modified>
  <cp:revision>221</cp:revision>
  <dc:subject/>
  <dc:title>CHEMOTHERAPY</dc:title>
</cp:coreProperties>
</file>