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CD28-A2A3-49C1-9B39-D1EB2A8B7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BFBA-CDF4-4BB7-B41C-A60326C335DB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09B7-C672-4BC2-AC93-3886EB66EB0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2E10-8884-4412-BA6A-72438CAC4F4D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7C2A-F2CA-4E32-9854-9D3E27952666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593B-ED66-4137-9A90-A4C6012C2492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CE1E-BF30-42F7-B63D-81A01C19CC4E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FCF4-8923-48DD-A380-97552C071BE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750-EE5C-4310-9F90-8087EDA1514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165F-82DE-4FC6-AD36-6FA7254FC52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23D9-BB18-4DF3-B5EC-43D7598D894E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06B8-8D85-4887-B8F2-591DA61EC3C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B810-6917-49DB-B8C8-406AA0EA944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278B-8BA7-4920-82E3-A9141986142B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6660-22A5-4C63-AB3F-03B5EAF1C227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BEB-8E2D-47C9-A5E2-09E051CF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256-C104-46B9-B884-EB74CFA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32A-2638-4621-BF1D-D3321DD5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5D3-9F3B-42F8-B9CB-C7870E0B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5389-5965-4FC9-B26D-0009542D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723D-CF4E-4935-8DC6-417F08A9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FAF2-B91F-4C54-AF10-E49106CF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E3AA-8FAE-492F-9FF0-5CD9F954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28F2-1DF9-4986-B2B3-B091B611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D7C5-0DE2-4ECC-B9D8-AA41FC3B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9D47-CC02-4499-8CE7-90B98BE1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8BF-1864-4308-A690-8A4951C6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7E65-A856-44A2-85B6-02063A90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50E8-F748-43EE-A723-57F6B54C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6621-356A-4072-9309-4CB6708B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D585-3675-456A-9E9A-D7D932A8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D4DF-7201-4515-A339-A98FBD3B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2DD-3D01-4E7E-881B-72BA108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E96-5C60-45F3-8D70-0BFDD560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D08-C64B-42DD-B376-B176B843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0CE-96A1-489B-9F47-1C6CEC66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B8B-561A-44A3-888F-C378536A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6FD-8072-4FE8-BE04-084F637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ECD-6F31-4AF1-B654-EEA811F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4678-39E4-4F17-85D1-BD0A8403870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CF70-3F4B-461B-95C5-228DFEC77A5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 to Antibiotic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rof. Mohammad Alhumayyd</a:t>
            </a:r>
            <a:br>
              <a:rPr sz="36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harmacology Depart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Drug All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Potential Side Effect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Drug safety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loramphenicol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a plastic ana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oroquinolones in children&amp;Preg.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tendon damag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t of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Emperic thera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SUSES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eatment of untreatable infections ( wrong diagnos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Improper do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herapy of fever of unknown orig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Presence of  pus or necrotic tissues , or blood at the surgical si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xcessive use of prophylactic antibiotic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avel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Lack of adequate bacteriological                          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3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acterial  Resist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result of the widespread use of antibiotics has been the emergence of resistant pathogens that have been sensitive in the pa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onc of antibiotic required to inhibit or kill the bacteria is greater than the conc that can safely be achieved in the plas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Acquired Antibiotic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960" y="1600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Inactivation by enzyme produc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l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lactamase inactivates penicillins &amp; cephalosporins by cleaving the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lactam ring of the dru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568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teria develops an altered receptor for the drug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Bacteria develops an altered metabolic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 Reduced bacterial permeability to antibio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 Actively transporting the drug out of the c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evention of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only when absolutely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in adequate dosage for sufficient             perio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brief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prolonged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xceptions,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Combination of antibiotics may be required to        delay resistance (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General Principles of Chemotherapy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er drug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ull do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per inter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by the  b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s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apparent cure achieved , continue antibiotic for  about 3 days further to avoid  relap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ipping doses may decrease effectiveness of antibiotic &amp; increase the incidence  of bacterial res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Principles of Chemotherapy(co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Times New Roman"/>
              </a:rPr>
              <a:t>Two or more antimicrobials should not be used without good  reason, e.g.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xed bacterial (polymicrobial)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perately ill patient of unknown et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prevent emergence of resistance (e.g. TB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synerg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g.piperacillin+gentamicin(p. aeruginosae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advantages of multiple antibio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sensitivity or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colonization with a res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ity of antago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gher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eneral principles ( Cont. 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some infections bacteriological proof of cure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rable ( e.g. TB, UTI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 of plasma conc. of antibiotics is sel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ed, except. streptomycin in renal TB; I.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tamic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ntibiotics prophyla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rgical pro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wel surgery, joint replacement, and some gynecological 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prevent postoperative infection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munosuppressed  Pat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y old, very youn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abetics, Anaemics, AIDS pts ,Cancer p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ntal extr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total joint replac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cardiac abnorm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efinition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3120" y="1988640"/>
            <a:ext cx="8229600" cy="4526280"/>
          </a:xfrm>
          <a:prstGeom prst="rect">
            <a:avLst/>
          </a:prstGeom>
          <a:noFill/>
          <a:ln cap="sq" w="1260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substances produced by various microorganisms (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, fungi, actinomycetes)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t have the capacity to inhibit or destroy other microorg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Now a day they are chemically synthesiz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either kill bacteria(bactericidal) or keep more bacteria from growing(bacteriostati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ntibiotics will not cure infections caus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vir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ANTIBIOTIC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CORDING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CELL WALL SYNTHES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Penicillins, Cephalospor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PROTEIN SYNTHESIS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crolides, Tetracyc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DNA SYNTHESIS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Quinol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FOLATE METABOLIS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Sulphonamides, Trimethop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RNA synthesis by binding to RNA polymera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Rifampic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ording to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rrow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icillin 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inoglyco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oad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picillin  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ox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oice of Antibio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959120" y="19000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Clinical 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(e.g.,syphy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1547280" y="292428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36360" y="4437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Microbiological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716360" y="2997360"/>
            <a:ext cx="1727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983120" y="4492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Pharmacological 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995640" y="4941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acteriological in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xact antibiotic to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st effective and reject the one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 little or no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ast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ea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cteria isolated may not be the prime cause    of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not take in consideration site of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 bacteria cannot be cultivated or take time     to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.g. M. Leprae, M. Tuberculosi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teriological services are not available at all      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oice of Antibiotics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rmacological consi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Site o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fectio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ost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) Immune system e.g. Alcoholism, diabetes, HIV, malnutrition, advanced age-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higher than usual doses or longer courses are required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) Genetic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Patients with G-6-PD deficiency treated with sulfonamides and chloramphenicol 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Hemolysis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egnancy and Lac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inoglycoside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hearing loss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racyclines     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bone deform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Age of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Grey baby Syndrome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chloramphenic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Renal fun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Aminoglycoside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renal fail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)Liver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Erythromycin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(hepatic failure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7:11:28Z</dcterms:created>
  <dc:creator>DTK</dc:creator>
  <dc:description/>
  <dc:language>en-US</dc:language>
  <cp:lastModifiedBy>kk105041</cp:lastModifiedBy>
  <cp:lastPrinted>2015-02-10T10:44:32Z</cp:lastPrinted>
  <dcterms:modified xsi:type="dcterms:W3CDTF">2016-02-04T05:05:50Z</dcterms:modified>
  <cp:revision>221</cp:revision>
  <dc:subject/>
  <dc:title>CHEMOTHERAPY</dc:title>
</cp:coreProperties>
</file>