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3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4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5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EBD2-900D-4BA0-8DEF-6A579546B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D2C8-C83E-44D9-BA7E-454468655C6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223A-70F7-4825-AAD9-BA917F4D24B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53AB-E58C-44CE-A9EB-E102DAEADB3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F76F-F6AD-432E-81DD-C1949B7EB6C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0BA9-EA67-48CF-8AEB-1771C83C931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9F78-19EB-4405-BC85-8566FC65C33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1A1B-C76B-456A-A68C-4277424EC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E7E7-1B4D-4101-864A-D19A46234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rynx has three parts: the nasopharynx, the oropharynx, and the laryngopharyn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nsils contain lymphocytes that protect against invasion of foreign antigens that are inha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7280-8FDD-4031-AD5C-8C7C6836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417-6797-4F9C-83C6-1372A9FA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61C2-CB3C-4A75-A77F-38B1F8C4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1833-75F1-4725-AA70-6CBB952E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DA53-7488-4E23-838A-0181CE40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1A11-AF3A-4671-9A03-8DE63E3B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3311-95D7-48C4-B3B4-572F47FE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2404-6EA5-4F7F-9018-805A6BAA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9386-E350-49CD-ADE0-FA5872E0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AB58-D862-44E1-8EB6-AC2924AA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9609-DC7C-42DB-98D7-D90714B6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CB31-5B85-4ED2-8174-AED7C460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A7BA-53C6-48BF-BD71-A6FE5AB4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1CBC-20B6-4719-AC00-1EACF16B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5E6F-9045-43A6-A518-5535F1DC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EFD0-5EBA-4FCD-9585-F149554A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6DC2-7004-420A-AFBF-C1A0FB8D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2CEF6-E98D-40F6-B361-65E67C32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D0DED-7DD7-4653-A709-4E72E7E8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3A612-5DD9-40FA-B836-7561B82D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7ECFF-C11A-4850-A812-7051E01E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9EE61-0A36-46C8-9E60-B22C1C1F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891E-7EF7-4E3C-B3F6-12BD64FC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D12AA-A492-472C-94BD-28E63301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333DE-A9F0-462D-A06B-6ABBC9F1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D65F2-3196-43DC-A3A4-AEDD5E81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C4804-CCC4-4156-A2C7-4811BBB8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8CCA9-EE61-4017-AB9A-EC02DD35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A3681-7BEF-4FD5-8440-DA2C63D9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0DCC7-6D2B-4EEE-A29A-B0CABF72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F22CF-F868-43E5-B565-4111B286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64D6A-4E8E-44A1-92F5-7BBEE186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58304-498A-43E5-914E-D30DB2D1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8454-CFD3-4D20-B638-1E40B1E6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5E965-F804-41D5-A2A5-5789D802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01C6A-0F22-476E-90D7-FC50321C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69EF3-8584-41F4-BCA7-CF4A5473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5A077-13FA-4606-9BD1-D8B02DAA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68AFF-C60D-4D8E-B40A-BEFE3BB5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46D49-1181-4055-BAE0-FBA2A317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361CB-36D4-4240-8284-B4E7C241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93295-A76C-4555-A7BF-E0A14683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EC523-8E15-431B-81CE-EA0C608E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9AC1-D834-44E1-B5A3-27CCA74F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CF2C-1227-4BCB-9F3F-66E05DB7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5F0-2142-4492-AA4F-02F3D84F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1DC6-87DE-473A-93D4-978C240B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B38E-1497-4CD3-85F0-F5519901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EBCE-B993-4EAD-BE51-2DAD0A7F752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4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DE35-9F2D-46BB-9497-28E41284EBE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1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C831-58E3-4C0A-AFD2-0550BE4F3ADE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7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8873-22EB-4AD7-8CD5-8EBC4964D73E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523880"/>
            <a:ext cx="64771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Book Antiqua"/>
              </a:rPr>
              <a:t>Treatment of Respiratory Tract Infec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066680" y="3429000"/>
            <a:ext cx="582624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rebuchet MS"/>
              </a:rPr>
              <a:t>Prof. Mohammad Alhumayyd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rebuchet MS"/>
              </a:rPr>
              <a:t>Department of Pharmacology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80460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hibits bacterial cell wall synthes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rough inhibition of peptidoglyca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ayer of the cell wal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actericid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1371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rebuchet MS"/>
              </a:rPr>
              <a:t>Pharmacokinetics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Given orally or parenterall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Not metabolized in human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Relatively lipid insolubl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Excreted mostly unchanged i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urin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Half-life 30-60 min ( increased i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renal failure)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Diagram 7" descr=""/>
          <p:cNvPicPr/>
          <p:nvPr/>
        </p:nvPicPr>
        <p:blipFill>
          <a:blip r:embed="rId1"/>
          <a:stretch/>
        </p:blipFill>
        <p:spPr>
          <a:xfrm>
            <a:off x="401760" y="304920"/>
            <a:ext cx="837720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42f1a"/>
                </a:solidFill>
                <a:latin typeface="Trebuchet MS"/>
              </a:rPr>
              <a:t>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62120" y="2286000"/>
            <a:ext cx="63482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pper respiratory tract infections, Acute otitis media especially those produced by Group A gram positive beta-hemolytic streptococci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ower respiratory tract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63482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rebuchet MS"/>
              </a:rPr>
              <a:t>Cephalosporin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7" name="Picture 2" descr="I:\2011-01-10\Fig. 45.3(1).JPG"/>
          <p:cNvPicPr/>
          <p:nvPr/>
        </p:nvPicPr>
        <p:blipFill>
          <a:blip r:embed="rId1"/>
          <a:stretch/>
        </p:blipFill>
        <p:spPr>
          <a:xfrm>
            <a:off x="565200" y="1371600"/>
            <a:ext cx="624852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hibit bacterial cell wall synthes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actericid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3152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rebuchet MS"/>
              </a:rPr>
              <a:t>1</a:t>
            </a:r>
            <a:r>
              <a:rPr b="1" lang="en-US" sz="4000" spc="-1" strike="noStrike" baseline="30000">
                <a:solidFill>
                  <a:srgbClr val="c00000"/>
                </a:solidFill>
                <a:latin typeface="Trebuchet MS"/>
              </a:rPr>
              <a:t>st</a:t>
            </a:r>
            <a:r>
              <a:rPr b="1" lang="en-US" sz="4000" spc="-1" strike="noStrike">
                <a:solidFill>
                  <a:srgbClr val="c00000"/>
                </a:solidFill>
                <a:latin typeface="Trebuchet MS"/>
              </a:rPr>
              <a:t> Generation Cephalospori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phalexin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Given orall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against gram positive bacteria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in URT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1629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2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nd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Generation Cephalospor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480" y="2160360"/>
            <a:ext cx="739152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Cefuroxime axetil , cefaclor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mainly against Gram-negative bacter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ell absorbed orall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ctive against </a:t>
            </a:r>
            <a:r>
              <a:rPr b="1" lang="el-GR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β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-lactamase –producing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rebuchet MS"/>
                <a:ea typeface="Tahoma"/>
              </a:rPr>
              <a:t>Uses: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pper and lower respiratory tract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inusitis, otitis med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9343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3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rd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 Generation Cephalospor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ftriaxone /  Cefotaxime / Cefixim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re effective against gram-negative bacilli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Given  by intravenous rou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treatment in pneumonia produced by </a:t>
            </a:r>
            <a:r>
              <a:rPr b="1" lang="el-GR" sz="2400" spc="-1" strike="noStrike">
                <a:solidFill>
                  <a:srgbClr val="000000"/>
                </a:solidFill>
                <a:latin typeface="Trebuchet MS"/>
              </a:rPr>
              <a:t>β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-lactamase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Pharmacokinetics 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Given  mainly parenterally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ral preparation 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: Cefixim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enetration into CS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xcreted  Mostly unchanged in the urine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ong Half-life(4-7h) 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(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ftriaxone 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gradFill rotWithShape="0">
            <a:gsLst>
              <a:gs pos="0">
                <a:srgbClr val="efea2b"/>
              </a:gs>
              <a:gs pos="50000">
                <a:srgbClr val="ffffff"/>
              </a:gs>
              <a:gs pos="100000">
                <a:srgbClr val="efea2b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rebuchet MS"/>
              </a:rPr>
              <a:t>Objectives of the lecture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90680" y="2163240"/>
            <a:ext cx="75103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 the end of lecture , the students should be able to understand the following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types of respiratory tract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antibiotics that are commonly use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treat respiratory tract infections and thei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de effect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derstand the mechanism of action, pharmacokinetics of individual drug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470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dverse effects of 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          cephalospor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9" name="Content Placeholder 3" descr=""/>
          <p:cNvPicPr/>
          <p:nvPr/>
        </p:nvPicPr>
        <p:blipFill>
          <a:blip r:embed="rId1"/>
          <a:stretch/>
        </p:blipFill>
        <p:spPr>
          <a:xfrm>
            <a:off x="450720" y="2004840"/>
            <a:ext cx="8248680" cy="47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hibit protein synthesis by binding to  50 S subunit of the bacterial ribosomes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cteriostatic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ctericidal at high concentration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larithromyci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480" y="2160360"/>
            <a:ext cx="7848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re effective on G+ve bacter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table at gastric acid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hibits cytochrome P450 syste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etabolized to active metaboli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xcreted in urine 20-40%unchanged or metabolite &amp; 60% in bile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alf-life 6-8 hou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zithromyci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re effective on Gram negative  bacteria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table at  gastric acid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ndergo some hepatic metabolism ( inactive metabolite 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iliary route is the major route of elimin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nly 10-15% excreted unchanged in the ur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alf- life ( 3 days)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nce daily dos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No effect on  cytochrome  P- 45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5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5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5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8039"/>
                            </p:stCondLst>
                            <p:childTnLst>
                              <p:par>
                                <p:cTn id="5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8720"/>
                            </p:stCondLst>
                            <p:childTnLst>
                              <p:par>
                                <p:cTn id="6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8760"/>
                            </p:stCondLst>
                            <p:childTnLst>
                              <p:par>
                                <p:cTn id="6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6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linical uses of Macrolid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09120" y="2976480"/>
            <a:ext cx="6348600" cy="25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hlamydial pneumon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egionella pneumon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63482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dvers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0" name="Picture 2" descr="G:\2011-01-12\Fig.32-15(1).JPG"/>
          <p:cNvPicPr/>
          <p:nvPr/>
        </p:nvPicPr>
        <p:blipFill>
          <a:blip r:embed="rId1"/>
          <a:stretch/>
        </p:blipFill>
        <p:spPr>
          <a:xfrm>
            <a:off x="533520" y="1295280"/>
            <a:ext cx="7391160" cy="4191120"/>
          </a:xfrm>
          <a:prstGeom prst="rect">
            <a:avLst/>
          </a:prstGeom>
          <a:ln w="0">
            <a:noFill/>
          </a:ln>
        </p:spPr>
      </p:pic>
      <p:sp>
        <p:nvSpPr>
          <p:cNvPr id="281" name="Title 1"/>
          <p:cNvSpPr/>
          <p:nvPr/>
        </p:nvSpPr>
        <p:spPr>
          <a:xfrm>
            <a:off x="533520" y="5722920"/>
            <a:ext cx="6086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ypersensitivity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0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Content Placeholder 3" descr=""/>
          <p:cNvPicPr/>
          <p:nvPr/>
        </p:nvPicPr>
        <p:blipFill>
          <a:blip r:embed="rId1"/>
          <a:stretch/>
        </p:blipFill>
        <p:spPr>
          <a:xfrm>
            <a:off x="-6480" y="0"/>
            <a:ext cx="916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76618"/>
                </a:solidFill>
                <a:latin typeface="Trebuchet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hibit DNA Gyrase enzyme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( an enzyme involved in DNA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upercoiling)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6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22824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ntibacterial spectrum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iprofloxacin mainly effective against G –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xifloxacin &amp; Gatifloxacin G – &amp; G + &amp; given once daily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( highly active against Pseudomonas species 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lassification of respiratory tract infec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600" y="19807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Upper respiratory tract infections 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(URTI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ower respiratory tract infections 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(LRTI)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9ca3c"/>
                </a:solidFill>
                <a:latin typeface="Trebuchet MS"/>
              </a:rPr>
              <a:t>     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Pharmacokinetic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304920" y="685800"/>
            <a:ext cx="883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n orally or parenter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ntrates in many tissues ( kidney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tate, lung &amp; bones/ joint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reted mainly through the ki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ir relatively long Half-life allows once daily (moxifloxacin &amp; Gatifloxacin) &amp; twice-daily (ciprofloxacin) do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Trebuchet MS"/>
              </a:rPr>
              <a:t>Clinical Uses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0" name="Content Placeholder 4" descr=""/>
          <p:cNvPicPr/>
          <p:nvPr/>
        </p:nvPicPr>
        <p:blipFill>
          <a:blip r:embed="rId1"/>
          <a:stretch/>
        </p:blipFill>
        <p:spPr>
          <a:xfrm>
            <a:off x="701640" y="1494000"/>
            <a:ext cx="82296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0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dverse  effect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0948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Nausea , vomiting , diarrhe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NS effects ( confusion, insomnia, headache, anxiety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amage of growing cartilage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(arthropathy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hototoxicity(avoid excessive sunlight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8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rebuchet MS"/>
              </a:rPr>
              <a:t>Contraindication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Not recommended for patients younger than 18 yea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egnanc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reast feeding wo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0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743200" y="609120"/>
            <a:ext cx="4214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THANK YOU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6" name="Picture 10" descr="camel"/>
          <p:cNvPicPr/>
          <p:nvPr/>
        </p:nvPicPr>
        <p:blipFill>
          <a:blip r:embed="rId1"/>
          <a:stretch/>
        </p:blipFill>
        <p:spPr>
          <a:xfrm>
            <a:off x="533520" y="1557360"/>
            <a:ext cx="8153280" cy="45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SCAN002"/>
          <p:cNvPicPr/>
          <p:nvPr/>
        </p:nvPicPr>
        <p:blipFill>
          <a:blip r:embed="rId1"/>
          <a:stretch/>
        </p:blipFill>
        <p:spPr>
          <a:xfrm>
            <a:off x="10439280" y="0"/>
            <a:ext cx="381240" cy="910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Object 2"/>
          <p:cNvGraphicFramePr/>
          <p:nvPr/>
        </p:nvGraphicFramePr>
        <p:xfrm>
          <a:off x="457200" y="990720"/>
          <a:ext cx="7848720" cy="5410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90720"/>
                    <a:ext cx="78487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auses of URTI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,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Viruses</a:t>
            </a:r>
            <a:r>
              <a:rPr b="0" lang="en-US" sz="34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    </a:t>
            </a:r>
            <a:r>
              <a:rPr b="1" lang="en-US" sz="2400" spc="-1" strike="noStrike">
                <a:solidFill>
                  <a:srgbClr val="7030a0"/>
                </a:solidFill>
                <a:latin typeface="Trebuchet MS"/>
              </a:rPr>
              <a:t>(Should not be treated with antibiotic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reatment: rest and plenty of fluids, OTC cold, pain reliever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Bacteria</a:t>
            </a:r>
            <a:r>
              <a:rPr b="0" lang="en-US" sz="3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ainly Group A streptococcus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H. influenza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reatment: Antibiotics. The type depends  o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                  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ype of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                  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Sensitivity tes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LRTI’s</a:t>
            </a:r>
            <a:r>
              <a:rPr b="1" lang="en-US" sz="2400" spc="-1" strike="noStrike">
                <a:solidFill>
                  <a:srgbClr val="7030a0"/>
                </a:solidFill>
                <a:latin typeface="Trebuchet MS"/>
              </a:rPr>
              <a:t>(costly &amp; more difficult to treat)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28240" y="6094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Bronchitis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(inflammation of major bronchi&amp; trachea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cut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hronic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cute exacerbation of chronic bronchiti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2800" spc="-1" strike="noStrike">
                <a:solidFill>
                  <a:srgbClr val="00b0f0"/>
                </a:solidFill>
                <a:latin typeface="Trebuchet MS"/>
              </a:rPr>
              <a:t>Causes: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viruses or bacteria(H. influenza, S. pneumonia&amp; M. catarralis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Pneumonia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(Serious infection of bronchioles &amp; alveoli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mmunity –acquired(CAP)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ospital-acquire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rebuchet MS"/>
              </a:rPr>
              <a:t>Causes:</a:t>
            </a:r>
            <a:r>
              <a:rPr b="1" lang="en-US" sz="2400" spc="-1" strike="noStrike">
                <a:solidFill>
                  <a:srgbClr val="00b0f0"/>
                </a:solidFill>
                <a:latin typeface="Trebuchet MS"/>
              </a:rPr>
              <a:t>Bacteria 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.pneumonia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**(66%)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H.influenza(20%),M.catarrhalis (20%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Antibiotics used in the treatment of RTI’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eta lactam antibiotics  (Penicillins / Cephalosporins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crolide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luoroquinolone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inoglycoside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oxycycline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Penicill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6" name="Picture 2" descr="I:\2011-01-10\Fig. 45.3(2).JPG"/>
          <p:cNvPicPr/>
          <p:nvPr/>
        </p:nvPicPr>
        <p:blipFill>
          <a:blip r:embed="rId1"/>
          <a:stretch/>
        </p:blipFill>
        <p:spPr>
          <a:xfrm>
            <a:off x="1295280" y="1752480"/>
            <a:ext cx="6897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Broad- spectrum penicill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Amoxicillin- Clavulanic aci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Ampicillin- Sulbactam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Piperacillin- tazobactam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cts on both gram+ve &amp; gram-v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icroorganisms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05:49:35Z</dcterms:created>
  <dc:creator>Dr. Philip L. Pokorski</dc:creator>
  <dc:description/>
  <dc:language>en-US</dc:language>
  <cp:lastModifiedBy>kk105041</cp:lastModifiedBy>
  <cp:lastPrinted>2015-02-02T09:39:57Z</cp:lastPrinted>
  <dcterms:modified xsi:type="dcterms:W3CDTF">2016-02-09T04:30:02Z</dcterms:modified>
  <cp:revision>247</cp:revision>
  <dc:subject/>
  <dc:title>Respiratory System</dc:title>
</cp:coreProperties>
</file>