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695483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69552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dt" idx="13"/>
          </p:nvPr>
        </p:nvSpPr>
        <p:spPr>
          <a:xfrm>
            <a:off x="394020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Img"/>
          </p:nvPr>
        </p:nvSpPr>
        <p:spPr>
          <a:xfrm>
            <a:off x="1150560" y="698040"/>
            <a:ext cx="4653000" cy="34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ftr" idx="14"/>
          </p:nvPr>
        </p:nvSpPr>
        <p:spPr>
          <a:xfrm>
            <a:off x="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 type="sldNum" idx="15"/>
          </p:nvPr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376D-2C13-4EBB-92B7-12E796EC9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A2FD-B31D-4EB3-A33B-34AF6241C56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3640-3FB6-4277-897A-EF08B856B2F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D956-2CE5-4ABE-9CB8-283330106D03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A9CF-4052-4624-947B-162C41BB502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2AC9-2FD7-4EA2-8168-4C5064ED4410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2C44-DD42-4E4D-B562-5BB3C5B536A6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285D-BCA6-45F6-8E90-FA6FB7AA5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30EE-4440-4DAF-9811-496C11D53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arynx has three parts: the nasopharynx, the oropharynx, and the laryngopharyn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nsils contain lymphocytes that protect against invasion of foreign antigens that are inha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4C71-2973-43C0-A8DD-5E8A4B1D6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46FF-B2C5-4A7D-A207-DA75C07D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27BB-11C7-4D2E-A64B-9CA247C42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4D50-10F4-4E5D-A0FE-9A00FEC31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CC80-7E65-4587-A6AB-CA2C1904C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494B-2261-4D73-B86D-D4AB6D81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E344-64BB-4DF6-9D30-4F40D86B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7EA5-BAAC-4DC6-8794-749E8DD7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52B5-AF1F-4D9F-876A-12663FA9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6842-3E9D-4D1F-838E-770AAB27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EA5C3-6DA8-4C9D-BFB6-899D515E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C653-7F7B-471D-97D5-82CAECDA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BB99-4E94-4D4B-9741-3A1BA580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B1D9-CA9E-47A5-8D5D-00275FF8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F2D5-A772-4942-B73B-5585D227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3559-1BEC-4ED2-B4D4-2FE146A61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D5A6A-A4D7-458B-9CA7-F285B8E91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75766-BE66-4080-8B3C-C14AAAAD4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2C442-ADA2-4430-8DE7-02C7E94C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C1F37-E45B-4311-B159-A18CF8E4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FEC80-6030-44BE-B51C-7ED111C4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43A15-0ECB-44C7-AFB7-D6DF5EA6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376A-766D-44CE-9E96-29FA5C52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0F35A-7C3E-4F41-AFB1-CDB2CA85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A96E8-B498-4833-B6BA-1B81599D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64416-F8C1-4809-AF42-CC39651D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4E45E-447F-4D9C-9781-D262080B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4BE04-4558-4847-AF07-BC2845B5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223F5-D4F3-4404-80F3-C56628BB4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16815-4359-4D96-9616-1AB6E5FFE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E704D-4FF6-47B9-8017-D0AA50FD2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59593-8F49-4E6A-ADB8-6C84DA7E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865F6-CCEE-4B09-A6C7-7F870674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251A-14B4-401D-A71A-2DD753B1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BF7C3-91FD-4E5E-9755-C0382A716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C8B0E-BEF0-4CFF-A5BA-D9C9AD03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C56C5-60A5-40F6-AFB4-99FB2429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BC003-20A6-48DA-8361-DCC5FA6E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A3419-0D21-426B-A8B6-C556C7DC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B566D-1072-4A88-83D2-6A28507C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158D8-3733-4D4D-A8A2-AB5E4076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5D95A-1C00-4512-9A77-F989F084E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359AD-A714-46B2-900C-A698D0C2D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10FC-EB46-48D3-A595-DC342F4A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88FD-9430-4B87-9C5B-4E1061A9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8ED0-1E26-41CB-A87E-81309785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6608-D557-4AFE-8B4D-C0DC0D3B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5DB7-E53C-4EEF-8B8A-F16B9215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6E7C-20D7-40C3-8E21-0B520B07EE95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7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64" name="Straight Connector 18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Straight Connector 19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0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1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2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3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4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5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6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D9DC-2879-479E-A751-7849C9BE6072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1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F18A-E006-4064-A52A-9DA6026ADA66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7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50AE-E49B-45CD-87A9-58E3E835147B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1523880"/>
            <a:ext cx="647712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Book Antiqua"/>
              </a:rPr>
              <a:t>Treatment of Respiratory Tract Infec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066680" y="3429000"/>
            <a:ext cx="582624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rebuchet MS"/>
              </a:rPr>
              <a:t>Prof. Mohammad Alhumayyd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rebuchet MS"/>
              </a:rPr>
              <a:t>Department of Pharmacology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80460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nhibits bacterial cell wall synthesi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through inhibition of peptidoglyca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layer of the cell wall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Bactericida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2120" y="13716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rebuchet MS"/>
              </a:rPr>
              <a:t>Pharmacokinetics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Given orally or parenterally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Not metabolized in human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Relatively lipid insoluble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Excreted mostly unchanged i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urine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Half-life 30-60 min ( increased i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renal failure)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Diagram 7" descr=""/>
          <p:cNvPicPr/>
          <p:nvPr/>
        </p:nvPicPr>
        <p:blipFill>
          <a:blip r:embed="rId1"/>
          <a:stretch/>
        </p:blipFill>
        <p:spPr>
          <a:xfrm>
            <a:off x="401760" y="304920"/>
            <a:ext cx="8377200" cy="62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9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42f1a"/>
                </a:solidFill>
                <a:latin typeface="Trebuchet MS"/>
              </a:rPr>
              <a:t>Therapeutic us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762120" y="2286000"/>
            <a:ext cx="634824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Upper respiratory tract infections, Acute otitis media especially those produced by Group A gram positive beta-hemolytic streptococci</a:t>
            </a: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Lower respiratory tract infecti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63482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Trebuchet MS"/>
              </a:rPr>
              <a:t>Cephalosporin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7" name="Picture 2" descr="I:\2011-01-10\Fig. 45.3(1).JPG"/>
          <p:cNvPicPr/>
          <p:nvPr/>
        </p:nvPicPr>
        <p:blipFill>
          <a:blip r:embed="rId1"/>
          <a:stretch/>
        </p:blipFill>
        <p:spPr>
          <a:xfrm>
            <a:off x="565200" y="1371600"/>
            <a:ext cx="624852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3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nhibit bacterial cell wall synthesi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Bactericida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3152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rebuchet MS"/>
              </a:rPr>
              <a:t>1</a:t>
            </a:r>
            <a:r>
              <a:rPr b="1" lang="en-US" sz="4000" spc="-1" strike="noStrike" baseline="30000">
                <a:solidFill>
                  <a:srgbClr val="c00000"/>
                </a:solidFill>
                <a:latin typeface="Trebuchet MS"/>
              </a:rPr>
              <a:t>st</a:t>
            </a:r>
            <a:r>
              <a:rPr b="1" lang="en-US" sz="4000" spc="-1" strike="noStrike">
                <a:solidFill>
                  <a:srgbClr val="c00000"/>
                </a:solidFill>
                <a:latin typeface="Trebuchet MS"/>
              </a:rPr>
              <a:t> Generation Cephalosporin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Cephalexin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Given orall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ffective against gram positive bacteria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ffective in URTI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1629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2</a:t>
            </a:r>
            <a:r>
              <a:rPr b="1" lang="en-US" sz="3600" spc="-1" strike="noStrike" baseline="30000">
                <a:solidFill>
                  <a:srgbClr val="c00000"/>
                </a:solidFill>
                <a:latin typeface="Trebuchet MS"/>
              </a:rPr>
              <a:t>nd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 Generation Cephalospori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09480" y="2160360"/>
            <a:ext cx="739152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rebuchet MS"/>
              </a:rPr>
              <a:t>Cefuroxime axetil , cefaclor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ffective mainly against Gram-negative bacteria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ell absorbed orall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Active against </a:t>
            </a:r>
            <a:r>
              <a:rPr b="1" lang="el-GR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β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-lactamase –producing bacter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rebuchet MS"/>
                <a:ea typeface="Tahoma"/>
              </a:rPr>
              <a:t>Uses: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Upper and lower respiratory tract infecti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inusitis, otitis med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9343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3</a:t>
            </a:r>
            <a:r>
              <a:rPr b="1" lang="en-US" sz="3600" spc="-1" strike="noStrike" baseline="30000">
                <a:solidFill>
                  <a:srgbClr val="c00000"/>
                </a:solidFill>
                <a:latin typeface="Trebuchet MS"/>
              </a:rPr>
              <a:t>rd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  Generation Cephalospori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Ceftriaxone /  Cefotaxime / Cefixim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ore effective against gram-negative bacilli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Given  by intravenous rout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ffective treatment in pneumonia produced by </a:t>
            </a:r>
            <a:r>
              <a:rPr b="1" lang="el-GR" sz="2400" spc="-1" strike="noStrike">
                <a:solidFill>
                  <a:srgbClr val="000000"/>
                </a:solidFill>
                <a:latin typeface="Trebuchet MS"/>
              </a:rPr>
              <a:t>β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-lactamase bacter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Pharmacokinetics 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Given  mainly parenterally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Oral preparation  </a:t>
            </a: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: Cefixim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enetration into CSF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xcreted  Mostly unchanged in the urine</a:t>
            </a: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  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Long Half-life(4-7h)  </a:t>
            </a: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(</a:t>
            </a: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ceftriaxone 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2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1" dur="1000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7" dur="1000"/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gradFill rotWithShape="0">
            <a:gsLst>
              <a:gs pos="0">
                <a:srgbClr val="efea2b"/>
              </a:gs>
              <a:gs pos="50000">
                <a:srgbClr val="ffffff"/>
              </a:gs>
              <a:gs pos="100000">
                <a:srgbClr val="efea2b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rebuchet MS"/>
              </a:rPr>
              <a:t>Objectives of the lecture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90680" y="2163240"/>
            <a:ext cx="751032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t the end of lecture , the students should be able to understand the following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types of respiratory tract infecti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antibiotics that are commonly used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o treat respiratory tract infections and thei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de effect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nderstand the mechanism of action, pharmacokinetics of individual drug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4707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Adverse effects of 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           cephalospori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69" name="Content Placeholder 3" descr=""/>
          <p:cNvPicPr/>
          <p:nvPr/>
        </p:nvPicPr>
        <p:blipFill>
          <a:blip r:embed="rId1"/>
          <a:stretch/>
        </p:blipFill>
        <p:spPr>
          <a:xfrm>
            <a:off x="450720" y="2004840"/>
            <a:ext cx="8248680" cy="47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Content Placeholder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rebuchet MS"/>
              </a:rPr>
              <a:t>Mechanism of action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nhibit protein synthesis by binding to  50 S subunit of the bacterial ribosomes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Bacteriostatic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Bactericidal at high concentration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720"/>
                            </p:stCondLst>
                            <p:childTnLst>
                              <p:par>
                                <p:cTn id="4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8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4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8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4040"/>
                            </p:stCondLst>
                            <p:childTnLst>
                              <p:par>
                                <p:cTn id="4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8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4080"/>
                            </p:stCondLst>
                            <p:childTnLst>
                              <p:par>
                                <p:cTn id="4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8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10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10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10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Clarithromyci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09480" y="2160360"/>
            <a:ext cx="78487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ore effective on G+ve bacteria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table at gastric acidit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nhibits cytochrome P450 syste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etabolized to active metabolit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xcreted in urine 20-40%unchanged or metabolite &amp; 60% in bile 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Half-life 6-8 hour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0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3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8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Azithromyci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ore effective on Gram negative  bacteria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table at  gastric acidit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Undergo some hepatic metabolism ( inactive metabolite 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Biliary route is the major route of elimina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Only 10-15% excreted unchanged in the ur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Half- life ( 3 days)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  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Once daily dosin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No effect on  cytochrome  P- 45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0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520"/>
                            </p:stCondLst>
                            <p:childTnLst>
                              <p:par>
                                <p:cTn id="5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8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8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2920"/>
                            </p:stCondLst>
                            <p:childTnLst>
                              <p:par>
                                <p:cTn id="5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3" dur="8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4" dur="8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5" dur="8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4880"/>
                            </p:stCondLst>
                            <p:childTnLst>
                              <p:par>
                                <p:cTn id="5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9" dur="8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0" dur="8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8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6520"/>
                            </p:stCondLst>
                            <p:childTnLst>
                              <p:par>
                                <p:cTn id="5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6" dur="8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7" dur="8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8039"/>
                            </p:stCondLst>
                            <p:childTnLst>
                              <p:par>
                                <p:cTn id="5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3" dur="8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8720"/>
                            </p:stCondLst>
                            <p:childTnLst>
                              <p:par>
                                <p:cTn id="6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8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8760"/>
                            </p:stCondLst>
                            <p:childTnLst>
                              <p:par>
                                <p:cTn id="6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80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6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9" dur="80"/>
                                        <p:tgtEl>
                                          <p:spTgt spid="2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0" dur="80"/>
                                        <p:tgtEl>
                                          <p:spTgt spid="2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80"/>
                                        <p:tgtEl>
                                          <p:spTgt spid="2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Clinical uses of Macrolid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09120" y="2976480"/>
            <a:ext cx="6348600" cy="25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hlamydial pneumon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Legionella pneumon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634824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Adverse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0" name="Picture 2" descr="G:\2011-01-12\Fig.32-15(1).JPG"/>
          <p:cNvPicPr/>
          <p:nvPr/>
        </p:nvPicPr>
        <p:blipFill>
          <a:blip r:embed="rId1"/>
          <a:stretch/>
        </p:blipFill>
        <p:spPr>
          <a:xfrm>
            <a:off x="533520" y="1295280"/>
            <a:ext cx="7391160" cy="4191120"/>
          </a:xfrm>
          <a:prstGeom prst="rect">
            <a:avLst/>
          </a:prstGeom>
          <a:ln w="0">
            <a:noFill/>
          </a:ln>
        </p:spPr>
      </p:pic>
      <p:sp>
        <p:nvSpPr>
          <p:cNvPr id="281" name="Title 1"/>
          <p:cNvSpPr/>
          <p:nvPr/>
        </p:nvSpPr>
        <p:spPr>
          <a:xfrm>
            <a:off x="533520" y="5722920"/>
            <a:ext cx="60865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Hypersensitivity Re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0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1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6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Content Placeholder 3" descr=""/>
          <p:cNvPicPr/>
          <p:nvPr/>
        </p:nvPicPr>
        <p:blipFill>
          <a:blip r:embed="rId1"/>
          <a:stretch/>
        </p:blipFill>
        <p:spPr>
          <a:xfrm>
            <a:off x="-6480" y="0"/>
            <a:ext cx="916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0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rebuchet MS"/>
              </a:rPr>
              <a:t>Mechanism of action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0" y="13712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e76618"/>
                </a:solidFill>
                <a:latin typeface="Trebuchet MS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nhibit DNA Gyrase enzyme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( an enzyme involved in DNA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upercoiling) 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8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5" dur="8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6" dur="8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7" dur="8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1440"/>
                            </p:stCondLst>
                            <p:childTnLst>
                              <p:par>
                                <p:cTn id="6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1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68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22824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Antibacterial spectrum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iprofloxacin mainly effective against G – bacter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oxifloxacin &amp; Gatifloxacin G – &amp; G + &amp; given once daily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( highly active against Pseudomonas species )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Classification of respiratory tract infec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28600" y="19807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Upper respiratory tract infections 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(URTI)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Lower respiratory tract infections 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(LRTI)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9ca3c"/>
                </a:solidFill>
                <a:latin typeface="Trebuchet MS"/>
              </a:rPr>
              <a:t>     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Pharmacokinetic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304920" y="685800"/>
            <a:ext cx="8839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iven orally or parenter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entrates in many tissues ( kidney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state, lung &amp; bones/ joints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reted mainly through the kid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ir relatively long Half-life allows once daily (moxifloxacin &amp; Gatifloxacin) &amp; twice-daily (ciprofloxacin) do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Trebuchet MS"/>
              </a:rPr>
              <a:t>Clinical Uses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90" name="Content Placeholder 4" descr=""/>
          <p:cNvPicPr/>
          <p:nvPr/>
        </p:nvPicPr>
        <p:blipFill>
          <a:blip r:embed="rId1"/>
          <a:stretch/>
        </p:blipFill>
        <p:spPr>
          <a:xfrm>
            <a:off x="701640" y="1494000"/>
            <a:ext cx="82296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0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7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Adverse  effects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0948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Nausea , vomiting , diarrhe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NS effects ( confusion, insomnia, headache, anxiety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amage of growing cartilage</a:t>
            </a: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(arthropathy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hototoxicity(avoid excessive sunlight)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1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2" dur="8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8" dur="8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9" dur="8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4" dur="8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5" dur="8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8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0" dur="8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1" dur="8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4" dur="80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5" dur="80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6" dur="80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Trebuchet MS"/>
              </a:rPr>
              <a:t>Contraindications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Not recommended for patients younger than 18 year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egnanc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Breast feeding wom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0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3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743200" y="609120"/>
            <a:ext cx="42148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rebuchet MS"/>
              </a:rPr>
              <a:t>THANK YOU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96" name="Picture 10" descr="camel"/>
          <p:cNvPicPr/>
          <p:nvPr/>
        </p:nvPicPr>
        <p:blipFill>
          <a:blip r:embed="rId1"/>
          <a:stretch/>
        </p:blipFill>
        <p:spPr>
          <a:xfrm>
            <a:off x="533520" y="1557360"/>
            <a:ext cx="8153280" cy="459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SCAN002"/>
          <p:cNvPicPr/>
          <p:nvPr/>
        </p:nvPicPr>
        <p:blipFill>
          <a:blip r:embed="rId1"/>
          <a:stretch/>
        </p:blipFill>
        <p:spPr>
          <a:xfrm>
            <a:off x="10439280" y="0"/>
            <a:ext cx="381240" cy="910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Object 2"/>
          <p:cNvGraphicFramePr/>
          <p:nvPr/>
        </p:nvGraphicFramePr>
        <p:xfrm>
          <a:off x="457200" y="990720"/>
          <a:ext cx="7848720" cy="5410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990720"/>
                    <a:ext cx="784872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Causes of URTI</a:t>
            </a:r>
            <a:r>
              <a:rPr b="1" lang="en-US" sz="3600" spc="-1" strike="noStrike" baseline="30000">
                <a:solidFill>
                  <a:srgbClr val="c00000"/>
                </a:solidFill>
                <a:latin typeface="Trebuchet MS"/>
              </a:rPr>
              <a:t>,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143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rebuchet MS"/>
              </a:rPr>
              <a:t>Viruses</a:t>
            </a:r>
            <a:r>
              <a:rPr b="0" lang="en-US" sz="3400" spc="-1" strike="noStrike">
                <a:solidFill>
                  <a:srgbClr val="c00000"/>
                </a:solidFill>
                <a:latin typeface="Trebuchet MS"/>
              </a:rPr>
              <a:t> 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       </a:t>
            </a:r>
            <a:r>
              <a:rPr b="1" lang="en-US" sz="2400" spc="-1" strike="noStrike">
                <a:solidFill>
                  <a:srgbClr val="7030a0"/>
                </a:solidFill>
                <a:latin typeface="Trebuchet MS"/>
              </a:rPr>
              <a:t>(Should not be treated with antibiotics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Treatment: rest and plenty of fluids, OTC cold, pain reliever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rebuchet MS"/>
              </a:rPr>
              <a:t>Bacteria</a:t>
            </a:r>
            <a:r>
              <a:rPr b="0" lang="en-US" sz="3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(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ainly Group A streptococcus  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H. influenza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Treatment: Antibiotics. The type depends  on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                  </a:t>
            </a: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Type of bacter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                  </a:t>
            </a: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Sensitivity tes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LRTI’s</a:t>
            </a:r>
            <a:r>
              <a:rPr b="1" lang="en-US" sz="2400" spc="-1" strike="noStrike">
                <a:solidFill>
                  <a:srgbClr val="7030a0"/>
                </a:solidFill>
                <a:latin typeface="Trebuchet MS"/>
              </a:rPr>
              <a:t>(costly &amp; more difficult to treat)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28240" y="609480"/>
            <a:ext cx="8915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rebuchet MS"/>
              </a:rPr>
              <a:t>Bronchitis</a:t>
            </a: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(inflammation of major bronchi&amp; trachea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404040"/>
                </a:solidFill>
                <a:latin typeface="Trebuchet MS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cut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hronic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cute exacerbation of chronic bronchiti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en-US" sz="2800" spc="-1" strike="noStrike">
                <a:solidFill>
                  <a:srgbClr val="00b0f0"/>
                </a:solidFill>
                <a:latin typeface="Trebuchet MS"/>
              </a:rPr>
              <a:t>Causes: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viruses or bacteria(H. influenza, S. pneumonia&amp; M. catarralis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rebuchet MS"/>
              </a:rPr>
              <a:t>Pneumonia</a:t>
            </a: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(Serious infection of bronchioles &amp; alveoli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Community –acquired(CAP)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Hospital-acquired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Trebuchet MS"/>
              </a:rPr>
              <a:t>Causes:</a:t>
            </a:r>
            <a:r>
              <a:rPr b="1" lang="en-US" sz="2400" spc="-1" strike="noStrike">
                <a:solidFill>
                  <a:srgbClr val="00b0f0"/>
                </a:solidFill>
                <a:latin typeface="Trebuchet MS"/>
              </a:rPr>
              <a:t>Bacteria </a:t>
            </a: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S.pneumonia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**(66%)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H.influenza(20%),M.catarrhalis (20%)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Antibiotics used in the treatment of RTI’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eta lactam antibiotics  (Penicillins / Cephalosporins)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acrolides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luoroquinolones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minoglycosides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oxycycline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Penicilli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6" name="Picture 2" descr="I:\2011-01-10\Fig. 45.3(2).JPG"/>
          <p:cNvPicPr/>
          <p:nvPr/>
        </p:nvPicPr>
        <p:blipFill>
          <a:blip r:embed="rId1"/>
          <a:stretch/>
        </p:blipFill>
        <p:spPr>
          <a:xfrm>
            <a:off x="1295280" y="1752480"/>
            <a:ext cx="6897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Broad- spectrum penicilli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Amoxicillin- Clavulanic acid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Ampicillin- Sulbactam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rebuchet MS"/>
              </a:rPr>
              <a:t>Piperacillin- tazobactam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cts on both gram+ve &amp; gram-ve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microorganisms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05:49:35Z</dcterms:created>
  <dc:creator>Dr. Philip L. Pokorski</dc:creator>
  <dc:description/>
  <dc:language>en-US</dc:language>
  <cp:lastModifiedBy>kk105041</cp:lastModifiedBy>
  <cp:lastPrinted>2015-02-02T09:39:57Z</cp:lastPrinted>
  <dcterms:modified xsi:type="dcterms:W3CDTF">2016-02-09T04:30:02Z</dcterms:modified>
  <cp:revision>247</cp:revision>
  <dc:subject/>
  <dc:title>Respiratory System</dc:title>
</cp:coreProperties>
</file>