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10C4-F4D5-49EA-A810-DD15CE7F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E59-2DE5-4810-A5F7-6A292D00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679-BC26-4296-8D48-B90A13C3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F16-A09C-462C-8FBC-0E1A8666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10E9-DF66-494A-B002-56A36B44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B5D4-E4F5-4D8A-A1C7-2089BBF8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FA4B-A0F4-43C3-B37C-3B10377B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EAEF-E341-4DD4-A018-08A07D74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D26E-EF1B-438A-B559-7396B255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0761-B11F-4A56-A6CD-8B580969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06F1-1C07-45DE-B7FF-CF1EA0E8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7E0C-7C5A-443B-8030-E4C7139C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8370-ADCF-402F-BCC3-9162E45E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575A-E18A-4632-A781-2A6476A4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F289-06CA-4EAA-9D26-CA0EF6C8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6667-367D-4C88-AC15-7C6AE8B4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25C0-C64E-43D5-AD03-C5BB86D6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0B75-3C51-4927-8626-56577CCB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F18F-8AE3-47A8-A899-A1B3AC6E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8F7-1292-4857-A415-407671B3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7533-46A1-4480-86DA-B718B8D0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3136-6399-4E27-B541-E4875EEA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CD9-6A90-4D1D-9231-DEF62905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7EF-8271-47F1-94C9-D7696756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4F35-806D-4259-A166-13286C19C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A315-E189-4B85-8503-D9C13588C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Sumbul Fat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diovascular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Picture1"/>
          <p:cNvPicPr/>
          <p:nvPr/>
        </p:nvPicPr>
        <p:blipFill>
          <a:blip r:embed="rId1"/>
          <a:srcRect l="0" t="932" r="0" b="50716"/>
          <a:stretch/>
        </p:blipFill>
        <p:spPr>
          <a:xfrm>
            <a:off x="533520" y="1371600"/>
            <a:ext cx="8115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 in bicarbonate conc. in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 in gastric fluid due to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sodium bicarbo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tassium deficiency as a result of diuretic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ventilation (depressed breath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s P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o compensate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piratory ar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fusion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Picture1"/>
          <p:cNvPicPr/>
          <p:nvPr/>
        </p:nvPicPr>
        <p:blipFill>
          <a:blip r:embed="rId1"/>
          <a:srcRect l="0" t="48113" r="0" b="5899"/>
          <a:stretch/>
        </p:blipFill>
        <p:spPr>
          <a:xfrm>
            <a:off x="571680" y="1752480"/>
            <a:ext cx="8115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vated conc. of plasma lactate is called 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s eithe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ilure of circulatory system (hypox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orders of carbohydrate meta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ody tissues produce ~ 1500 mmoles of lactate each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lactate enters blood stream and metabolized mainly by the liver (Cori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tissues can produce lactate under anaerobic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yruvate is converted to lactate by lactate dehydrogenase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65120" y="1020600"/>
            <a:ext cx="44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</a:rPr>
              <a:t>Pyruvate + NADH + H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267080" y="2286000"/>
            <a:ext cx="0" cy="990720"/>
          </a:xfrm>
          <a:prstGeom prst="line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925360" y="3916440"/>
            <a:ext cx="30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</a:rPr>
              <a:t>Lactate + NAD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4575240" y="251460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Lactate dehydrogen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glycogen_Cori_cycle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62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3278160" y="54100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The Cori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keletal muscles produce high amounts of lactate during vigorous exerc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ate is metabolized in liver (60%) and kidney (30%) to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lactate is metabolized to CO2 and water (Krebs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Mechanisms involved in lactic acid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 can occu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essive tissue lactate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hepatic metabolism of lac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roduction to metabolic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 and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ctate metabolism in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chanisms involved in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ypes and causes of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agnosis and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hypoxia in tissues (most comm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xia causes impaired oxidative phosphorylation and decreased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survive, the cells switch to anaerobic glycolysis for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produces lactate as a final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mount of oxygen required to recover from oxygen deficiency is called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xygen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 is due to inadequate supply of oxygen to tissue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cardial infar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lmonary em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controlled hemorrh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ssue hypoperfusion (shock, cardiac arrest, acute heart failure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aerobic muscular exerc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disorders in carbohydrate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genital lactic acidosis is due to deficiency of pyruvate dehydrogenase enzy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hepatic disease accompanied by shock or 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ver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ug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iagnosis and 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gnosis done by measuring blood lactate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yperlactemia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–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re lactic acidosis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gt;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eat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rrecting the underlying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oring adequate tissue oxy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voiding sodium bicarbon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-base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s in bicarbonate conc. in the extracellular fluid (ECF) cause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 due to high conc. or 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lead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rcRect l="12617" t="3170" r="0" b="3458"/>
          <a:stretch/>
        </p:blipFill>
        <p:spPr>
          <a:xfrm>
            <a:off x="1981080" y="228600"/>
            <a:ext cx="4453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Picture3"/>
          <p:cNvPicPr/>
          <p:nvPr/>
        </p:nvPicPr>
        <p:blipFill>
          <a:blip r:embed="rId1"/>
          <a:srcRect l="6326" t="7132" r="6130" b="5573"/>
          <a:stretch/>
        </p:blipFill>
        <p:spPr>
          <a:xfrm>
            <a:off x="685800" y="1077840"/>
            <a:ext cx="74674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uction in bicarbonate conc. of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produc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drugs metabolized t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excre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nion g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the difference between the sum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cations)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um of Cl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an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lps in assessing acid-base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anion gap: 3-11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: &gt;11 mEq/L (acid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 anion gap: &lt;3 mEq/L (alkal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 occur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betic keto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diarrh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tubular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Hyperventil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compensatory physiological response to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nc. stimulates respiratory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erventilation: deep, rapid, and gasping respiratory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rhythmia, cardiac ar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consciousness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Sumbul Fatma</dc:creator>
  <dc:description/>
  <dc:language>en-US</dc:language>
  <cp:lastModifiedBy>Sumbul Fatma</cp:lastModifiedBy>
  <dcterms:modified xsi:type="dcterms:W3CDTF">2015-03-08T08:11:04Z</dcterms:modified>
  <cp:revision>44</cp:revision>
  <dc:subject/>
  <dc:title>Slide 1</dc:title>
</cp:coreProperties>
</file>