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0675-D068-4046-A06E-4A63FA2D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559E-90CE-4539-BBB5-19713AEB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38D1-DE96-47A2-B85F-57A858FC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BA12-78AD-423E-8C75-04A2127F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2075-BDAA-45DE-87D3-426F5A58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C04D-68F0-4441-8642-AE7DB4E8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016F-936C-463A-A21C-8C7CFFDB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B538-B921-4C10-B548-5A0ABB4A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9BD2-36A6-4100-A611-67051AB4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DA6E-347F-48E7-8263-5477651D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0C49-DB50-4AD3-969C-AE6E6F3D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187F-4392-4427-A679-3F7B1C53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1C04-C6D5-4315-B466-C01234FF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7024-03F3-4C3A-A3C3-1A79C56B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65EC-3F4E-45C5-8DEE-8BA247FD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3C1F-30BF-48CB-AEDE-053A918C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086E-AF69-40D3-9A1D-C3ED76FC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04B9-4338-4197-808B-CE985A85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5FAE-62FD-471D-B9B4-6034726A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2A1F-9C68-40B9-8990-F7B401FF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C584-AF1C-48D5-9C1E-6A7DEC73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A8C1-4D05-4F9F-A0A2-286769F1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DA1C-8C3A-41B7-9D1E-CEDBC160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569D-5F35-4F85-8B50-609D60CA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BEA1-C3D5-4915-98D0-4CBF050BA4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3F4B-F464-46CC-B02B-C115DF99C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Lactic Acidos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Sumbul Fat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 L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diovascular 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Picture1"/>
          <p:cNvPicPr/>
          <p:nvPr/>
        </p:nvPicPr>
        <p:blipFill>
          <a:blip r:embed="rId1"/>
          <a:srcRect l="0" t="932" r="0" b="50716"/>
          <a:stretch/>
        </p:blipFill>
        <p:spPr>
          <a:xfrm>
            <a:off x="533520" y="1371600"/>
            <a:ext cx="8115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lkal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3413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 in bicarbonate conc. in E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ss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ons in gastric fluid due to vo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gestion of sodium bicarbon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tassium deficiency as a result of diuretic 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nical effects of alkal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3413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oventilation (depressed breath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reases P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o compensate alka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piratory ar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fusion, coma, d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Picture1"/>
          <p:cNvPicPr/>
          <p:nvPr/>
        </p:nvPicPr>
        <p:blipFill>
          <a:blip r:embed="rId1"/>
          <a:srcRect l="0" t="48113" r="0" b="5899"/>
          <a:stretch/>
        </p:blipFill>
        <p:spPr>
          <a:xfrm>
            <a:off x="571680" y="1752480"/>
            <a:ext cx="8115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vated conc. of plasma lactate is called lactic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curs either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ailure of circulatory system (hypox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orders of carbohydrate metabo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actate metabolism in tiss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body tissues produce ~ 1500 mmoles of lactate each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lactate enters blood stream and metabolized mainly by the liver (Cori cyc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tissues can produce lactate under anaerobic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yruvate is converted to lactate by lactate dehydrogenase enzy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2265120" y="1020600"/>
            <a:ext cx="443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Arial"/>
              </a:rPr>
              <a:t>Pyruvate + NADH + H</a:t>
            </a:r>
            <a:r>
              <a:rPr b="1" lang="en-US" sz="3200" spc="-1" strike="noStrike" baseline="30000">
                <a:solidFill>
                  <a:srgbClr val="4f81bd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4267080" y="2286000"/>
            <a:ext cx="0" cy="990720"/>
          </a:xfrm>
          <a:prstGeom prst="line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2925360" y="3916440"/>
            <a:ext cx="30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Arial"/>
              </a:rPr>
              <a:t>Lactate + NAD</a:t>
            </a:r>
            <a:r>
              <a:rPr b="1" lang="en-US" sz="3200" spc="-1" strike="noStrike" baseline="30000">
                <a:solidFill>
                  <a:srgbClr val="4f81bd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4575240" y="251460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504d"/>
                </a:solidFill>
                <a:latin typeface="Arial"/>
              </a:rPr>
              <a:t>Lactate dehydrogen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glycogen_Cori_cycle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62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3278160" y="541008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The Cori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actate metabolism in tiss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keletal muscles produce high amounts of lactate during vigorous exerc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ate is metabolized in liver (60%) and kidney (30%) to gluc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 lactate is metabolized to CO2 and water (Krebs cyc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Mechanisms involved in lactic acido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ic acidosis can occur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cessive tissue lactate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aired hepatic metabolism of lac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roduction to metabolic acid-base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bolic acidosis and alka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ic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ctate metabolism in t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chanisms involved in lactic aci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ypes and causes of lactic aci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agnosis and trea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ypes and causes of 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ue to hypoxia in tissues (most comm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oxia causes impaired oxidative phosphorylation and decreased ATP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survive, the cells switch to anaerobic glycolysis for ATP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produces lactate as a final pro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amount of oxygen required to recover from oxygen deficiency is called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xygen deb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ypes and causes of 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A is due to inadequate supply of oxygen to tissues 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yocardial infar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ulmonary embo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controlled hemorrh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issue hypoperfusion (shock, cardiac arrest, acute heart failure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aerobic muscular exerc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ypes and causes of 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ue to disorders in carbohydrate met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genital lactic acidosis is due to deficiency of pyruvate dehydrogenase enzy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ronic hepatic disease accompanied by shock or ble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ver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ug intox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iagnosis and 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agnosis done by measuring blood lactate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yperlactemia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 – 5 mmols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re lactic acidosis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&gt; 5 mmols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eat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rrecting the underlying cond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toring adequate tissue oxy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voiding sodium bicarbon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cid-base dis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s in bicarbonate conc. in the extracellular fluid (ECF) cause acid-base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cur due to high conc. or loss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n lead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bolic aci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bolic alka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rcRect l="12617" t="3170" r="0" b="3458"/>
          <a:stretch/>
        </p:blipFill>
        <p:spPr>
          <a:xfrm>
            <a:off x="1981080" y="228600"/>
            <a:ext cx="4453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Picture3"/>
          <p:cNvPicPr/>
          <p:nvPr/>
        </p:nvPicPr>
        <p:blipFill>
          <a:blip r:embed="rId1"/>
          <a:srcRect l="6326" t="7132" r="6130" b="5573"/>
          <a:stretch/>
        </p:blipFill>
        <p:spPr>
          <a:xfrm>
            <a:off x="685800" y="1077840"/>
            <a:ext cx="746748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duction in bicarbonate conc. of E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production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gestion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r drugs metabolized to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aired excretion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Anion g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the difference between the sum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nd 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(cations)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um of Cl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nd H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(an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lps in assessing acid-base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rmal anion gap: 3-11 mEq/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anion gap: &gt;11 mEq/L (acidos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 anion gap: &lt;3 mEq/L (alkalos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anion gap occurs 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nal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abetic keto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ic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ronic diarrh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iso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nal tubular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nical effects of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3413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Hyperventila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compensatory physiological response to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onc. stimulates respiratory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erventilation: deep, rapid, and gasping respiratory patt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rrhythmia, cardiac ar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ss of consciousness, coma, d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r. Sumbul Fatma</dc:creator>
  <dc:description/>
  <dc:language>en-US</dc:language>
  <cp:lastModifiedBy>Sumbul Fatma</cp:lastModifiedBy>
  <dcterms:modified xsi:type="dcterms:W3CDTF">2015-03-08T08:11:04Z</dcterms:modified>
  <cp:revision>44</cp:revision>
  <dc:subject/>
  <dc:title>Slide 1</dc:title>
</cp:coreProperties>
</file>