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F413-B42E-4A80-8BAE-DAA238CF8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BFE2-6D98-4A86-952E-2199764A1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9810-F4E9-4C59-9468-17810AFC1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CC8C-70C0-4C68-845B-729AD14F4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8E68-7EC9-4EA2-88CE-786DF2F7E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0949-910B-4A72-B70C-88EBE74DF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F5B8-1BA1-4C6B-93D3-EF2A1DFFC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7D7C-E50F-4F2E-AE3D-1462D7EB6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FBA8-8A03-4479-8570-07AE83866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9CA9-41BC-44FE-B1B8-1BBBDC8EA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935A-FF56-4B56-9207-F36EAA323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ACA4-E7F2-4B50-9BFA-BA8DF10FD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4036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63AD-E69A-4718-918C-8DBE62119F0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836640" y="3240"/>
            <a:ext cx="7850160" cy="6781680"/>
            <a:chOff x="836640" y="3240"/>
            <a:chExt cx="7850160" cy="6781680"/>
          </a:xfrm>
        </p:grpSpPr>
        <p:pic>
          <p:nvPicPr>
            <p:cNvPr id="60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6640" y="3240"/>
              <a:ext cx="775224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3"/>
            <p:cNvSpPr/>
            <p:nvPr/>
          </p:nvSpPr>
          <p:spPr>
            <a:xfrm>
              <a:off x="7020720" y="597960"/>
              <a:ext cx="1666080" cy="67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1140480" y="2526120"/>
              <a:ext cx="2057760" cy="8676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846720" y="501840"/>
              <a:ext cx="1567800" cy="771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9446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7"/>
            <p:cNvSpPr/>
            <p:nvPr/>
          </p:nvSpPr>
          <p:spPr>
            <a:xfrm>
              <a:off x="4276800" y="628596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8"/>
            <p:cNvSpPr/>
            <p:nvPr/>
          </p:nvSpPr>
          <p:spPr>
            <a:xfrm>
              <a:off x="66290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  <a:ea typeface="Calibri"/>
              </a:rPr>
              <a:t>Regulation of Cholesterol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the rate-limiting enzyme of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1295280" y="1522440"/>
            <a:ext cx="6688080" cy="4255920"/>
            <a:chOff x="1295280" y="1522440"/>
            <a:chExt cx="6688080" cy="4255920"/>
          </a:xfrm>
        </p:grpSpPr>
        <p:sp>
          <p:nvSpPr>
            <p:cNvPr id="71" name="AutoShape 3"/>
            <p:cNvSpPr/>
            <p:nvPr/>
          </p:nvSpPr>
          <p:spPr>
            <a:xfrm>
              <a:off x="3733200" y="1522440"/>
              <a:ext cx="6552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>
              <a:off x="3378600" y="2436840"/>
              <a:ext cx="15051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3468600" y="3311280"/>
              <a:ext cx="12783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>
              <a:off x="3015720" y="4314600"/>
              <a:ext cx="22208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AutoShape 7"/>
            <p:cNvSpPr/>
            <p:nvPr/>
          </p:nvSpPr>
          <p:spPr>
            <a:xfrm>
              <a:off x="3276360" y="5420160"/>
              <a:ext cx="125892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Mevalon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4113360" y="1892880"/>
              <a:ext cx="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4114080" y="2806920"/>
              <a:ext cx="6120" cy="620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4114080" y="372132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4114080" y="478836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2920320" y="2158920"/>
              <a:ext cx="10663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2742840" y="5028120"/>
              <a:ext cx="12949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772880" y="5610960"/>
              <a:ext cx="1294920" cy="14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H="1">
              <a:off x="5637960" y="4520160"/>
              <a:ext cx="10663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6"/>
            <p:cNvSpPr/>
            <p:nvPr/>
          </p:nvSpPr>
          <p:spPr>
            <a:xfrm>
              <a:off x="1420920" y="196740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7"/>
            <p:cNvSpPr/>
            <p:nvPr/>
          </p:nvSpPr>
          <p:spPr>
            <a:xfrm>
              <a:off x="6050160" y="539856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1295280" y="4494600"/>
              <a:ext cx="129096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>
              <a:off x="6856920" y="4175640"/>
              <a:ext cx="112644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 of gene expression of HMG Co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When sufficient cholesterol is present, transcription is suppressed and vice vers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terol Regulatory Element (SRE) is a recognition sequence in the D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SREBP (SRE binding protein) binding to SRE is essential for transcription of this g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REBP cleavage-activating protein (SCAP) is an intracellular cholesterol sens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7200" y="2174760"/>
            <a:ext cx="4040280" cy="272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insig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645080" y="1727280"/>
            <a:ext cx="40417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45080" y="2174760"/>
            <a:ext cx="4041720" cy="279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Golgi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ol-accelarated enzyme degra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084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cholesterol is high, HMG CoA reductase itself binds to ins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to degradation of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2880"/>
            <a:ext cx="8534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Enzyme phosphorylation and dephosphoryl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Phosphorylated form of enzyme is in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Dephosphorylated form i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holesteryl 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Regulation of 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Excretion of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ypercholesterolemia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in  and thyroxine increase upregulation of enzym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Glucagon and cortisol have opposit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By conversion into bile acids and bile salts- excreted in the f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ecretion of cholesterol in 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 the intestine, some cholesterol is converted by bacteria into coprostanol and cholestanol before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Leads to atheroscl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 drugs are used to decrease plasma cholestero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atins are structural analogs of HMG CoA reduc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s inhibit enzyme activity by competitive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Times New Roman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lant sterols and are poorly absorbed by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ippincott’s Illustrated Reviews- Bio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ating effect on nerve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0" y="1960560"/>
            <a:ext cx="4724280" cy="1409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3C18FF2"/>
          <p:cNvPicPr/>
          <p:nvPr/>
        </p:nvPicPr>
        <p:blipFill>
          <a:blip r:embed="rId1"/>
          <a:stretch/>
        </p:blipFill>
        <p:spPr>
          <a:xfrm>
            <a:off x="2133720" y="1523880"/>
            <a:ext cx="4643280" cy="514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Es are not present in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synthase is present in both cytosol and mitochondria of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mal</dc:creator>
  <dc:description/>
  <dc:language>en-US</dc:language>
  <cp:lastModifiedBy>amal</cp:lastModifiedBy>
  <dcterms:modified xsi:type="dcterms:W3CDTF">2016-03-09T13:21:33Z</dcterms:modified>
  <cp:revision>7</cp:revision>
  <dc:subject/>
  <dc:title>Cholesterol Metabolism</dc:title>
</cp:coreProperties>
</file>