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BFD51-A554-43F2-A3BD-2C61A5AE8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CF6A-B6C2-4D38-A785-9F135A71C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6C61-8BBB-48A3-B627-65A4FF859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5024-D32F-4C28-BAFD-199D5792FC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4E719-2A03-4A56-8FDE-41647C8687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E836-20CC-46DC-AA9A-D5C90663D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62BB-BE44-4BF3-993E-94973F999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99D7-C002-4BC2-AE05-475298B57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733CA-1FF5-43C0-B439-33D70480D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5DB6-EC44-4B65-BFBC-EDBBF66BF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23E7-C922-478F-90AB-71266D697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D78F-1E0A-4599-95AA-38559D968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40368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4F11-A24F-42E7-84C8-87FC0CE8E01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Cholesterol Metabo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Further steps 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roduction of a 5-carbon u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Isopentinyl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pyrophosphate (I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ondensation to a 30C compound: squa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yclization of squalene to 30C lano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27-Carbon cholesterol (defect in this leads to Smith-Lemli-Opitz Syndr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836640" y="3240"/>
            <a:ext cx="7850160" cy="6781680"/>
            <a:chOff x="836640" y="3240"/>
            <a:chExt cx="7850160" cy="6781680"/>
          </a:xfrm>
        </p:grpSpPr>
        <p:pic>
          <p:nvPicPr>
            <p:cNvPr id="60" name="Picture 2" descr="C:\Documents and Settings\aa\Desktop\141-repeaters\New Folder\chapter18\chapter18\jpg\1805_Synthesis_cholesterol.jpg"/>
            <p:cNvPicPr/>
            <p:nvPr/>
          </p:nvPicPr>
          <p:blipFill>
            <a:blip r:embed="rId1"/>
            <a:srcRect l="0" t="2467" r="0" b="2529"/>
            <a:stretch/>
          </p:blipFill>
          <p:spPr>
            <a:xfrm>
              <a:off x="836640" y="3240"/>
              <a:ext cx="7752240" cy="67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3"/>
            <p:cNvSpPr/>
            <p:nvPr/>
          </p:nvSpPr>
          <p:spPr>
            <a:xfrm>
              <a:off x="7020720" y="597960"/>
              <a:ext cx="1666080" cy="67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1140480" y="2526120"/>
              <a:ext cx="2057760" cy="8676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AutoShape 5"/>
            <p:cNvSpPr/>
            <p:nvPr/>
          </p:nvSpPr>
          <p:spPr>
            <a:xfrm>
              <a:off x="846720" y="501840"/>
              <a:ext cx="1567800" cy="7711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944640" y="618948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AutoShape 7"/>
            <p:cNvSpPr/>
            <p:nvPr/>
          </p:nvSpPr>
          <p:spPr>
            <a:xfrm>
              <a:off x="4276800" y="628596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8"/>
            <p:cNvSpPr/>
            <p:nvPr/>
          </p:nvSpPr>
          <p:spPr>
            <a:xfrm>
              <a:off x="6629040" y="618948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  <a:ea typeface="Calibri"/>
              </a:rPr>
              <a:t>Regulation of Cholesterol 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reductase is the rate-limiting enzyme of cholesterol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"/>
          <p:cNvGrpSpPr/>
          <p:nvPr/>
        </p:nvGrpSpPr>
        <p:grpSpPr>
          <a:xfrm>
            <a:off x="1295280" y="1522440"/>
            <a:ext cx="6688080" cy="4255920"/>
            <a:chOff x="1295280" y="1522440"/>
            <a:chExt cx="6688080" cy="4255920"/>
          </a:xfrm>
        </p:grpSpPr>
        <p:sp>
          <p:nvSpPr>
            <p:cNvPr id="71" name="AutoShape 3"/>
            <p:cNvSpPr/>
            <p:nvPr/>
          </p:nvSpPr>
          <p:spPr>
            <a:xfrm>
              <a:off x="3733200" y="1522440"/>
              <a:ext cx="6552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Ge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AutoShape 4"/>
            <p:cNvSpPr/>
            <p:nvPr/>
          </p:nvSpPr>
          <p:spPr>
            <a:xfrm>
              <a:off x="3378600" y="2436840"/>
              <a:ext cx="150516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>
              <a:off x="3468600" y="3311280"/>
              <a:ext cx="127836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AutoShape 6"/>
            <p:cNvSpPr/>
            <p:nvPr/>
          </p:nvSpPr>
          <p:spPr>
            <a:xfrm>
              <a:off x="3015720" y="4314600"/>
              <a:ext cx="22208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HMG CoA Reduct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AutoShape 7"/>
            <p:cNvSpPr/>
            <p:nvPr/>
          </p:nvSpPr>
          <p:spPr>
            <a:xfrm>
              <a:off x="3276360" y="5420160"/>
              <a:ext cx="125892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Mevalonat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4113360" y="1892880"/>
              <a:ext cx="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4114080" y="2806920"/>
              <a:ext cx="6120" cy="620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4114080" y="3721320"/>
              <a:ext cx="612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4114080" y="4788360"/>
              <a:ext cx="612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2920320" y="2158920"/>
              <a:ext cx="106632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2742840" y="5028120"/>
              <a:ext cx="129492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772880" y="5610960"/>
              <a:ext cx="1294920" cy="14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 flipH="1">
              <a:off x="5637960" y="4520160"/>
              <a:ext cx="106632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16"/>
            <p:cNvSpPr/>
            <p:nvPr/>
          </p:nvSpPr>
          <p:spPr>
            <a:xfrm>
              <a:off x="1420920" y="1967400"/>
              <a:ext cx="13222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17"/>
            <p:cNvSpPr/>
            <p:nvPr/>
          </p:nvSpPr>
          <p:spPr>
            <a:xfrm>
              <a:off x="6050160" y="5398560"/>
              <a:ext cx="13222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18"/>
            <p:cNvSpPr/>
            <p:nvPr/>
          </p:nvSpPr>
          <p:spPr>
            <a:xfrm>
              <a:off x="1295280" y="4494600"/>
              <a:ext cx="1290960" cy="89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Glucag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ortis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Stati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19"/>
            <p:cNvSpPr/>
            <p:nvPr/>
          </p:nvSpPr>
          <p:spPr>
            <a:xfrm>
              <a:off x="6856920" y="4175640"/>
              <a:ext cx="1126440" cy="89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Insul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hyrox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erol-dependent regulation of gen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terol-accelerated enzyme degra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erol-independent phosphorylation/de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Hormonal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500" spc="-1" strike="noStrike">
                <a:solidFill>
                  <a:srgbClr val="eeece1"/>
                </a:solidFill>
                <a:latin typeface="Calibri"/>
                <a:ea typeface="Calibri"/>
              </a:rPr>
              <a:t>Sterol-dependent regulation of gene expression of HMG Co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Calibri"/>
                <a:ea typeface="Calibri"/>
              </a:rPr>
              <a:t>When sufficient cholesterol is present, transcription is suppressed and vice vers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eeece1"/>
                </a:solidFill>
                <a:latin typeface="Calibri"/>
                <a:ea typeface="Calibri"/>
              </a:rPr>
              <a:t>Sterol Regulatory Element (SRE) is a recognition sequence in the DN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Calibri"/>
                <a:ea typeface="Calibri"/>
              </a:rPr>
              <a:t>SREBP (SRE binding protein) binding to SRE is essential for transcription of this ge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eeece1"/>
                </a:solidFill>
                <a:latin typeface="Calibri"/>
                <a:ea typeface="Calibri"/>
              </a:rPr>
              <a:t>SREBP cleavage-activating protein (SCAP) is an intracellular cholesterol sens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image.jpg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terol-dependent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 High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57200" y="2174760"/>
            <a:ext cx="4040280" cy="272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binds to insig protein (insulin-induced protein) in ER membra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is retained in the 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Down regulation of cholesterol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4645080" y="1727280"/>
            <a:ext cx="40417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645080" y="2174760"/>
            <a:ext cx="4041720" cy="279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moves to Golgi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is removed from SRE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REBP binds to SRE in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HMG CoA gene is activ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rol-accelarated enzyme degra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4084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en cholesterol is high, HMG CoA reductase itself binds to ins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to degradation of enz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2880"/>
            <a:ext cx="8534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500" spc="-1" strike="noStrike">
                <a:solidFill>
                  <a:srgbClr val="eeece1"/>
                </a:solidFill>
                <a:latin typeface="Calibri"/>
                <a:ea typeface="Calibri"/>
              </a:rPr>
              <a:t>Enzyme phosphorylation and dephosphoryl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AMP- activated protein kinase (AMPK) for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Phosphorylated form of enzyme is in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Dephosphorylated form is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Low ATP or High AMP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ynthesis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  <a:ea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holesteryl 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Regulation of cholesterol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Excretion of ch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ypercholesterolemia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image.jpg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ormonal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sulin  and thyroxine increase upregulation of enzym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Glucagon and cortisol have opposit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Excretion of cholest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By conversion into bile acids and bile salts- excreted in the f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Secretion of cholesterol in 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Transported to intestine for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 the intestine, some cholesterol is converted by bacteria into coprostanol and cholestanol before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ypercholester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igh conc. of cholesterol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Leads to atheroscl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atin drugs are used to decrease plasma cholestero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tatins are structural analogs of HMG CoA reduct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atins inhibit enzyme activity by competitive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eece1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Times New Roman"/>
              </a:rPr>
              <a:t>-Sitosterols/ Phytoste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lant sterols and are poorly absorbed by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Block the absorption of dietary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linically useful in the 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Lippincott’s Illustrated Reviews- Bio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Most important animal ster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aintains membrane flu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sulating effect on nerve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is the parent molecul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Bile acids and bile s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Vitamin D</a:t>
            </a:r>
            <a:r>
              <a:rPr b="0" lang="en-US" sz="2800" spc="-1" strike="noStrike" baseline="-25000">
                <a:solidFill>
                  <a:srgbClr val="eeece1"/>
                </a:solidFill>
                <a:latin typeface="Calibri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3C18FF1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0" y="1960560"/>
            <a:ext cx="4724280" cy="1409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Liver plays a central role in the regulation of cholesterol 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3C18FF2"/>
          <p:cNvPicPr/>
          <p:nvPr/>
        </p:nvPicPr>
        <p:blipFill>
          <a:blip r:embed="rId1"/>
          <a:stretch/>
        </p:blipFill>
        <p:spPr>
          <a:xfrm>
            <a:off x="2133720" y="1523880"/>
            <a:ext cx="4643280" cy="5140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yl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Most plasma cholesterol is esterified with a 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Es are not present in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resent in small amounts in mos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ore hydrophobic than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ynthesized in all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ajor sites for synthesis: liver, adrenal cortex, testes, ovaries and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All carbon atoms are derived from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Enzymes involved in biosynthesis are partly located in ER and partly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A3C18FF3"/>
          <p:cNvPicPr/>
          <p:nvPr/>
        </p:nvPicPr>
        <p:blipFill>
          <a:blip r:embed="rId1"/>
          <a:stretch/>
        </p:blipFill>
        <p:spPr>
          <a:xfrm>
            <a:off x="838080" y="1600200"/>
            <a:ext cx="347184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HMG 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synthase is present in both cytosol and mitochondria of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itochondrial- ket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ytosolic – cholesterol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A3C18FF4"/>
          <p:cNvPicPr/>
          <p:nvPr/>
        </p:nvPicPr>
        <p:blipFill>
          <a:blip r:embed="rId1"/>
          <a:stretch/>
        </p:blipFill>
        <p:spPr>
          <a:xfrm>
            <a:off x="4836960" y="1523880"/>
            <a:ext cx="40021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meval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Rate limiting and ke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reductase is an ER membrane enzyme with catalytic unit hanging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mal</dc:creator>
  <dc:description/>
  <dc:language>en-US</dc:language>
  <cp:lastModifiedBy>amal</cp:lastModifiedBy>
  <dcterms:modified xsi:type="dcterms:W3CDTF">2016-03-09T13:21:33Z</dcterms:modified>
  <cp:revision>7</cp:revision>
  <dc:subject/>
  <dc:title>Cholesterol Metabolism</dc:title>
</cp:coreProperties>
</file>